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D21B-5575-490D-8112-E693D3538EC5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CAAD-AFBC-4909-8366-4D3C10807E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3847-891F-494E-8E94-FF3D9A543F49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0B3E-1CD7-4512-A611-67796FDB72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7760-49B1-41F2-85A5-11A165E0BCB9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B4D-50FE-47A3-A5DA-C892881922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2014-3CCC-444D-A34E-32F5EB9BF7C3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7485-79B3-4809-B520-DBF235C715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CCCE-BA0F-48EB-BEF1-30DAF4EC471D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378E-6AED-4BA7-B73B-5E4F532373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A63-8CAD-4710-94DF-8148FA0B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AEC-7E5D-4333-A0F8-44C90DF0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72D-A9CD-4263-BDD4-3F4539A4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B39-ECA2-434B-99C4-9191061E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304-1886-4CAA-9BBF-B09B2962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2DE-B17F-49CD-AAAA-41532738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36B-1261-4CFC-9B2C-4005EF15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248-E35C-45DF-98F8-62D1920E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A9C-377F-46D7-95DE-A9F2FA21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3EB-6A9B-448F-A514-3762A0C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FF2-7031-4297-9D0C-E1C7193B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F4F-BEA1-4463-AFE8-C28F013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86E0-28EE-4D31-B217-A8168D33E8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ienque@ing.uchile.c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seño de Bio-reactores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br>
              <a:rPr sz="4400"/>
            </a:b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.Elena Lienqueo</a:t>
            </a:r>
            <a:br>
              <a:rPr sz="2400"/>
            </a:b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lienque@ing.uchile.c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rmentación e Ingeniería Meta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reaktori"/>
          <p:cNvPicPr/>
          <p:nvPr/>
        </p:nvPicPr>
        <p:blipFill>
          <a:blip r:embed="rId2"/>
          <a:stretch/>
        </p:blipFill>
        <p:spPr>
          <a:xfrm>
            <a:off x="152280" y="0"/>
            <a:ext cx="22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026"/>
          <p:cNvGrpSpPr/>
          <p:nvPr/>
        </p:nvGrpSpPr>
        <p:grpSpPr>
          <a:xfrm>
            <a:off x="817560" y="-5025960"/>
            <a:ext cx="2626920" cy="2057760"/>
            <a:chOff x="817560" y="-5025960"/>
            <a:chExt cx="2626920" cy="2057760"/>
          </a:xfrm>
        </p:grpSpPr>
        <p:sp>
          <p:nvSpPr>
            <p:cNvPr id="96" name="AutoShape 1027"/>
            <p:cNvSpPr/>
            <p:nvPr/>
          </p:nvSpPr>
          <p:spPr>
            <a:xfrm>
              <a:off x="1272600" y="-4454280"/>
              <a:ext cx="1371600" cy="1486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1028"/>
            <p:cNvSpPr/>
            <p:nvPr/>
          </p:nvSpPr>
          <p:spPr>
            <a:xfrm>
              <a:off x="817560" y="-4911480"/>
              <a:ext cx="1143000" cy="800280"/>
            </a:xfrm>
            <a:custGeom>
              <a:avLst/>
              <a:gdLst>
                <a:gd name="textAreaLeft" fmla="*/ 0 w 1143000"/>
                <a:gd name="textAreaRight" fmla="*/ 323280 w 1143000"/>
                <a:gd name="textAreaTop" fmla="*/ 30816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1029"/>
            <p:cNvSpPr/>
            <p:nvPr/>
          </p:nvSpPr>
          <p:spPr>
            <a:xfrm>
              <a:off x="2301480" y="-5025960"/>
              <a:ext cx="1143000" cy="799920"/>
            </a:xfrm>
            <a:custGeom>
              <a:avLst/>
              <a:gdLst>
                <a:gd name="textAreaLeft" fmla="*/ 0 w 1143000"/>
                <a:gd name="textAreaRight" fmla="*/ 323280 w 1143000"/>
                <a:gd name="textAreaTop" fmla="*/ 30780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30"/>
            <p:cNvSpPr/>
            <p:nvPr/>
          </p:nvSpPr>
          <p:spPr>
            <a:xfrm>
              <a:off x="1958760" y="-5025960"/>
              <a:ext cx="0" cy="1714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031"/>
            <p:cNvSpPr/>
            <p:nvPr/>
          </p:nvSpPr>
          <p:spPr>
            <a:xfrm>
              <a:off x="1615680" y="-3425400"/>
              <a:ext cx="3427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032"/>
            <p:cNvSpPr/>
            <p:nvPr/>
          </p:nvSpPr>
          <p:spPr>
            <a:xfrm>
              <a:off x="1958760" y="-3425400"/>
              <a:ext cx="3427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1033"/>
          <p:cNvSpPr/>
          <p:nvPr/>
        </p:nvSpPr>
        <p:spPr>
          <a:xfrm>
            <a:off x="588960" y="-5162400"/>
            <a:ext cx="457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4"/>
          <p:cNvSpPr/>
          <p:nvPr/>
        </p:nvSpPr>
        <p:spPr>
          <a:xfrm>
            <a:off x="2989440" y="-5102280"/>
            <a:ext cx="4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035"/>
          <p:cNvGrpSpPr/>
          <p:nvPr/>
        </p:nvGrpSpPr>
        <p:grpSpPr>
          <a:xfrm>
            <a:off x="1389240" y="-5048280"/>
            <a:ext cx="1143000" cy="571680"/>
            <a:chOff x="1389240" y="-5048280"/>
            <a:chExt cx="1143000" cy="571680"/>
          </a:xfrm>
        </p:grpSpPr>
        <p:sp>
          <p:nvSpPr>
            <p:cNvPr id="105" name="Text Box 1036"/>
            <p:cNvSpPr/>
            <p:nvPr/>
          </p:nvSpPr>
          <p:spPr>
            <a:xfrm>
              <a:off x="2075040" y="-5048280"/>
              <a:ext cx="457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037"/>
            <p:cNvSpPr/>
            <p:nvPr/>
          </p:nvSpPr>
          <p:spPr>
            <a:xfrm>
              <a:off x="1389240" y="-48193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1038"/>
          <p:cNvSpPr/>
          <p:nvPr/>
        </p:nvSpPr>
        <p:spPr>
          <a:xfrm>
            <a:off x="4475160" y="-5025960"/>
            <a:ext cx="217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y Fs: Flujos Volumétricos de entrada y 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xo y po: Concentración de sustrato, biomasa y producto a la entr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x y p: Concentración de sustrato, biomasa y producto a la salida y al interior del fermentador o biore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39"/>
          <p:cNvSpPr/>
          <p:nvPr/>
        </p:nvSpPr>
        <p:spPr>
          <a:xfrm>
            <a:off x="0" y="-51768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ensionamiento del bior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mensionamiento  de un biorreactor no sólo implica el volumen del bioreactor, sino que  la potencia que  se le debe entregar a los agitadores y sopl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volumen del bioreactor es necesario plantear los balances de mas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40"/>
          <p:cNvSpPr/>
          <p:nvPr/>
        </p:nvSpPr>
        <p:spPr>
          <a:xfrm>
            <a:off x="0" y="-3624120"/>
            <a:ext cx="9144000" cy="35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5400" rIns="90000" tIns="46800" bIns="0" anchor="t">
            <a:spAutoFit/>
          </a:bodyPr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masa total o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iomasa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sustrato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producto de interés, p (PROPUES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estos balance solo 3 son independi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41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42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43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44"/>
          <p:cNvSpPr/>
          <p:nvPr/>
        </p:nvSpPr>
        <p:spPr>
          <a:xfrm>
            <a:off x="0" y="0"/>
            <a:ext cx="6095880" cy="208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masa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a de Entrada – Masa de Salida = Acumulación de M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045"/>
              <p:cNvSpPr txBox="1"/>
              <p:nvPr/>
            </p:nvSpPr>
            <p:spPr>
              <a:xfrm>
                <a:off x="1262160" y="1433520"/>
                <a:ext cx="3233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46"/>
              <p:cNvSpPr txBox="1"/>
              <p:nvPr/>
            </p:nvSpPr>
            <p:spPr>
              <a:xfrm>
                <a:off x="609480" y="4648320"/>
                <a:ext cx="4524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sSub>
                          <m:e>
                            <m:r>
                              <m:t xml:space="preserve">d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1047"/>
          <p:cNvSpPr/>
          <p:nvPr/>
        </p:nvSpPr>
        <p:spPr>
          <a:xfrm>
            <a:off x="6095880" y="3657600"/>
            <a:ext cx="26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49"/>
          <p:cNvSpPr/>
          <p:nvPr/>
        </p:nvSpPr>
        <p:spPr>
          <a:xfrm>
            <a:off x="6019920" y="1295280"/>
            <a:ext cx="533160" cy="19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50"/>
          <p:cNvSpPr/>
          <p:nvPr/>
        </p:nvSpPr>
        <p:spPr>
          <a:xfrm>
            <a:off x="8305920" y="1219320"/>
            <a:ext cx="533160" cy="19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51"/>
          <p:cNvSpPr/>
          <p:nvPr/>
        </p:nvSpPr>
        <p:spPr>
          <a:xfrm>
            <a:off x="228600" y="2362320"/>
            <a:ext cx="52578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nsidad de entrada y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ensidades se mantienen constantes:      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opera sin flujos de entrada ni salida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052"/>
          <p:cNvGraphicFramePr/>
          <p:nvPr/>
        </p:nvGraphicFramePr>
        <p:xfrm>
          <a:off x="6477120" y="838080"/>
          <a:ext cx="181908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838080"/>
                    <a:ext cx="181908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053"/>
          <p:cNvSpPr/>
          <p:nvPr/>
        </p:nvSpPr>
        <p:spPr>
          <a:xfrm>
            <a:off x="22860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hay variación de volumen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V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57200" y="0"/>
            <a:ext cx="868680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lulas entran – Células salen + Crecimiento celular – Muerte celular  = Acumulació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1066680" y="1295280"/>
                <a:ext cx="49341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2209680" y="441972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) S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situación ocurre principalmente en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581280" y="3809880"/>
                <a:ext cx="1635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Text Box 5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2895480" y="1547640"/>
                <a:ext cx="24368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3429000" y="5105520"/>
                <a:ext cx="16923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Text Box 11"/>
          <p:cNvSpPr/>
          <p:nvPr/>
        </p:nvSpPr>
        <p:spPr>
          <a:xfrm>
            <a:off x="609480" y="4343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tiempo del batch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80880" y="228600"/>
            <a:ext cx="853452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vertir la glucosa en etanol en un fermentador batch  en condiciones anaerobias. El rendimiento de biomasa a partir de sustrato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g/g;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/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de  7.7 g/g. El coeficiente de mantenimiento es 2.2g/g h y la velocidad específica de formación de producto debido a mantenimiento es 1.1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velocidad específica máxima de crecimiento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aproximadamente 0.3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e inoculan 5 g de bacterias en 50 L de cultivo que contienen 12 g/L de glucosa. Determine los tiempos de cultivo pa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oducir 10 g y 30 g de bioma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Considere que la síntesis de etanol está directamente asociada al metabolismos energético de la célu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228600" y="228600"/>
            <a:ext cx="86868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Nutriente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024"/>
              <p:cNvSpPr txBox="1"/>
              <p:nvPr/>
            </p:nvSpPr>
            <p:spPr>
              <a:xfrm>
                <a:off x="914400" y="2438280"/>
                <a:ext cx="73026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6"/>
          <p:cNvSpPr/>
          <p:nvPr/>
        </p:nvSpPr>
        <p:spPr>
          <a:xfrm>
            <a:off x="457200" y="3886200"/>
            <a:ext cx="80010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r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Velocidad específica o Coeficiente de consumo de sustrato por mantención, relaciona los moles de sustrato consumidos para mantener la bio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célula/gr sustrato] : Rendimiento o Conversión  (yield) de células referidas a nutriente consumid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 /gr sustrato] : Rendimiento o Conversión de producto producido referidos a nutriente consumid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380880" y="1190520"/>
                <a:ext cx="79250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strato entra – Sustrato sale -  sustrato consumido por crecimiento–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strato utilizado  mantención–   Formación de producto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cumulación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26"/>
          <p:cNvSpPr/>
          <p:nvPr/>
        </p:nvSpPr>
        <p:spPr>
          <a:xfrm>
            <a:off x="533520" y="533520"/>
            <a:ext cx="80010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/gr célula hora] : Velocidad específica de formación de produ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r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: Velocidad específica o Coeficiente de formación de producto debido a la  manten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/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 /gr biomasa] : Rendimiento o Conversión de producto producido referidos a biomasa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24"/>
              <p:cNvSpPr txBox="1"/>
              <p:nvPr/>
            </p:nvSpPr>
            <p:spPr>
              <a:xfrm>
                <a:off x="3276720" y="1447920"/>
                <a:ext cx="2341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1024"/>
              <p:cNvSpPr txBox="1"/>
              <p:nvPr/>
            </p:nvSpPr>
            <p:spPr>
              <a:xfrm>
                <a:off x="609480" y="2590920"/>
                <a:ext cx="74977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Rectangle 4"/>
          <p:cNvSpPr/>
          <p:nvPr/>
        </p:nvSpPr>
        <p:spPr>
          <a:xfrm>
            <a:off x="990720" y="1219320"/>
            <a:ext cx="457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o hay entrada ni salida de sustrato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451160" y="22860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Nutriente limitante 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5"/>
              <p:cNvSpPr txBox="1"/>
              <p:nvPr/>
            </p:nvSpPr>
            <p:spPr>
              <a:xfrm>
                <a:off x="2541600" y="4648320"/>
                <a:ext cx="3817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8"/>
          <p:cNvSpPr/>
          <p:nvPr/>
        </p:nvSpPr>
        <p:spPr>
          <a:xfrm>
            <a:off x="6094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 dV/dt =0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Object 1024"/>
              <p:cNvSpPr txBox="1"/>
              <p:nvPr/>
            </p:nvSpPr>
            <p:spPr>
              <a:xfrm>
                <a:off x="3181320" y="3048120"/>
                <a:ext cx="180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Text Box 4"/>
          <p:cNvSpPr/>
          <p:nvPr/>
        </p:nvSpPr>
        <p:spPr>
          <a:xfrm>
            <a:off x="609480" y="23623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se opera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5"/>
              <p:cNvSpPr txBox="1"/>
              <p:nvPr/>
            </p:nvSpPr>
            <p:spPr>
              <a:xfrm>
                <a:off x="2409840" y="685800"/>
                <a:ext cx="3817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26"/>
              <p:cNvSpPr txBox="1"/>
              <p:nvPr/>
            </p:nvSpPr>
            <p:spPr>
              <a:xfrm>
                <a:off x="4419720" y="2286000"/>
                <a:ext cx="1204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27"/>
              <p:cNvSpPr txBox="1"/>
              <p:nvPr/>
            </p:nvSpPr>
            <p:spPr>
              <a:xfrm>
                <a:off x="1897200" y="4419720"/>
                <a:ext cx="49053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sub>
                                </m:sSub>
                              </m:den>
                            </m:f>
                          </m:e>
                          <m:sub/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1024"/>
              <p:cNvSpPr txBox="1"/>
              <p:nvPr/>
            </p:nvSpPr>
            <p:spPr>
              <a:xfrm>
                <a:off x="1143000" y="2438280"/>
                <a:ext cx="624852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Text Box 4"/>
          <p:cNvSpPr/>
          <p:nvPr/>
        </p:nvSpPr>
        <p:spPr>
          <a:xfrm>
            <a:off x="762120" y="762120"/>
            <a:ext cx="769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ndo, suponiendo que todos los términos dentro del paréntesis son constante e Integrando entre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0  s=s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 t=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=s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tiene que la siguiente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62120" y="5257800"/>
            <a:ext cx="76960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tiempo del cultivo 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uando s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= 0, es el tiempo máximo que puede durar un batch, dado que en ese instante se agota el sustr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1024"/>
              <p:cNvSpPr txBox="1"/>
              <p:nvPr/>
            </p:nvSpPr>
            <p:spPr>
              <a:xfrm>
                <a:off x="2209680" y="2971800"/>
                <a:ext cx="466416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Text Box 3"/>
          <p:cNvSpPr/>
          <p:nvPr/>
        </p:nvSpPr>
        <p:spPr>
          <a:xfrm>
            <a:off x="762120" y="1523880"/>
            <a:ext cx="76960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no se forman productos (q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)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producción está directamente asociada al metabolismo energé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sos particular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es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rtes y Jueves 10:15-12:00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iernes: 14:30-16:00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reaktori"/>
          <p:cNvPicPr/>
          <p:nvPr/>
        </p:nvPicPr>
        <p:blipFill>
          <a:blip r:embed="rId1"/>
          <a:stretch/>
        </p:blipFill>
        <p:spPr>
          <a:xfrm>
            <a:off x="152280" y="0"/>
            <a:ext cx="22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Object 1024"/>
              <p:cNvSpPr txBox="1"/>
              <p:nvPr/>
            </p:nvSpPr>
            <p:spPr>
              <a:xfrm>
                <a:off x="2286000" y="3276720"/>
                <a:ext cx="4108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Text Box 1027"/>
          <p:cNvSpPr/>
          <p:nvPr/>
        </p:nvSpPr>
        <p:spPr>
          <a:xfrm>
            <a:off x="762120" y="1523880"/>
            <a:ext cx="769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Si no se forman productos (q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) o si la producción está directamente asociada al metabolismo energético y se pueden despreciar los requerimientos de mantención (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28"/>
          <p:cNvSpPr/>
          <p:nvPr/>
        </p:nvSpPr>
        <p:spPr>
          <a:xfrm>
            <a:off x="68580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sos particular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29"/>
          <p:cNvSpPr/>
          <p:nvPr/>
        </p:nvSpPr>
        <p:spPr>
          <a:xfrm>
            <a:off x="762120" y="44956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er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1025"/>
          <p:cNvGraphicFramePr/>
          <p:nvPr/>
        </p:nvGraphicFramePr>
        <p:xfrm>
          <a:off x="2320920" y="5181480"/>
          <a:ext cx="3886200" cy="8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5181480"/>
                    <a:ext cx="388620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80880" y="228600"/>
            <a:ext cx="853452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vertir la glucosa en etanol en un fermentador batch  en condiciones anaerobias. El rendimiento de biomasa a partir de sustrato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g/g;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/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de  7.7 g/g. El coeficiente de mantenimiento es 2.2g/g h y la velocidad específica de formación de producto debido a mantenimiento es 1.1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velocidad específica máxima de crecimiento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aproximadamente 0.3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e inoculan 5 g de bacterias en 50 L de cultivo que contienen 12 g/L de glucosa. Determine los tiempos de cultivo pa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oducir 10 g y 30 g de bioma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lcanzar una conversión de sustrato del 90% y 10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Considere que la síntesis de etanol está directamente asociada al metabolismos energético de la célu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28600" y="228600"/>
            <a:ext cx="86868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o entran – Producto salen +  Formación de producto =  Acumulación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0"/>
              <p:cNvSpPr txBox="1"/>
              <p:nvPr/>
            </p:nvSpPr>
            <p:spPr>
              <a:xfrm>
                <a:off x="2041560" y="2362320"/>
                <a:ext cx="4738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Rectangle 6"/>
          <p:cNvSpPr/>
          <p:nvPr/>
        </p:nvSpPr>
        <p:spPr>
          <a:xfrm>
            <a:off x="685800" y="3657600"/>
            <a:ext cx="7086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entrada ni salida de producto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consumo de 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1729080" y="228600"/>
            <a:ext cx="55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0"/>
              <p:cNvSpPr txBox="1"/>
              <p:nvPr/>
            </p:nvSpPr>
            <p:spPr>
              <a:xfrm>
                <a:off x="3733920" y="3124080"/>
                <a:ext cx="1504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Text Box 6"/>
          <p:cNvSpPr/>
          <p:nvPr/>
        </p:nvSpPr>
        <p:spPr>
          <a:xfrm>
            <a:off x="6094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 dV/dt =0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"/>
              <p:cNvSpPr txBox="1"/>
              <p:nvPr/>
            </p:nvSpPr>
            <p:spPr>
              <a:xfrm>
                <a:off x="2082960" y="1447920"/>
                <a:ext cx="4654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Text Box 8"/>
          <p:cNvSpPr/>
          <p:nvPr/>
        </p:nvSpPr>
        <p:spPr>
          <a:xfrm>
            <a:off x="762120" y="4419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muerte es despreciable y se está crecien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on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7162920" y="4343400"/>
                <a:ext cx="1204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3581280" y="5410080"/>
                <a:ext cx="1806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671840" y="228600"/>
            <a:ext cx="56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 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3079800" y="1752480"/>
                <a:ext cx="25081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Text Box 4"/>
          <p:cNvSpPr/>
          <p:nvPr/>
        </p:nvSpPr>
        <p:spPr>
          <a:xfrm>
            <a:off x="609480" y="114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9480" y="2743200"/>
            <a:ext cx="7772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q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constante, se puede integrar entre t=0   p=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y  t=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, con es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989000" y="4092480"/>
                <a:ext cx="4552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debe poner atención que el tiempo requerido para alcanzar un nivel deseado de producto o biomasa no exceda el tiempo en el cual se agota el sustrato, sino se pueden comenzar a consumir algunos productos de inter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228600"/>
            <a:ext cx="853452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vertir la glucosa en etanol en un fermentador batch  en condiciones anaerobias. El rendimiento de biomasa a partir de sustrato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g/g;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/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de  7.7 g/g. El coeficiente de mantenimiento es 2.2g/g h y la velocidad específica de formación de producto debido a mantenimiento es 1.1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velocidad específica máxima de crecimiento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aproximadamente 0.3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e inoculan 5 g de bacterias en 50 L de cultivo que contienen 12 g/L de glucosa. Determine los tiempos de cultivo pa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oducir 10 g y 30 g de bioma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lcanzar una conversión de sustrato del 90% y 10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Producir 100 g de etan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Considere que la síntesis de etanol está directamente asociada al metabolismos energético de la célu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estionario 1</a:t>
            </a:r>
            <a:br>
              <a:rPr sz="36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e grupos y responda las siguientes preguntas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Tiempo 10 minuto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Indique en la producción de que tipo de productos se utilizan los bio-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¿Cuáles pueden ser las formas de operar un bio-rea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¿Qué elementos se deben considerar en el diseño de un bio-rea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¿Qué diferencias hay entre un reactor químico y un bio-rea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5. En un cultivo BATCH, ¿cuanta glucosa pueden soportar los m.o? 2, 20, 200g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6. En un cultivo BATCH ¿A cuanto puede llegar la concentración de biomasa? 10, 50, 100 g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7. ¿Puede existir un fermentador de 50.000 m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, cuales serían sus dimens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álisis y Diseño de Reactores Bi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Diseño de fermentadores operando en forma 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Diseño de fermentadores operando en forma Continua (Quimost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Modificaciones del Quimio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lación entre batch y contí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Diseño de fermentadores operando en forma Fed-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Diseño de Aireación  y  agi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scal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stru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Uso de computadores en control de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strategias de contr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tercambio de Energía en Fermen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querimientos energé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ster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2"/>
          <p:cNvGrpSpPr/>
          <p:nvPr/>
        </p:nvGrpSpPr>
        <p:grpSpPr>
          <a:xfrm>
            <a:off x="228600" y="0"/>
            <a:ext cx="8686800" cy="6819840"/>
            <a:chOff x="228600" y="0"/>
            <a:chExt cx="8686800" cy="6819840"/>
          </a:xfrm>
        </p:grpSpPr>
        <p:pic>
          <p:nvPicPr>
            <p:cNvPr id="58" name="Picture 2" descr="bioreactor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4572000" cy="29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Pila_Bioreactor"/>
            <p:cNvPicPr/>
            <p:nvPr/>
          </p:nvPicPr>
          <p:blipFill>
            <a:blip r:embed="rId2"/>
            <a:stretch/>
          </p:blipFill>
          <p:spPr>
            <a:xfrm>
              <a:off x="4800600" y="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biological2"/>
            <p:cNvPicPr/>
            <p:nvPr/>
          </p:nvPicPr>
          <p:blipFill>
            <a:blip r:embed="rId3"/>
            <a:stretch/>
          </p:blipFill>
          <p:spPr>
            <a:xfrm>
              <a:off x="228600" y="3429000"/>
              <a:ext cx="4038480" cy="339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13"/>
          <p:cNvGrpSpPr/>
          <p:nvPr/>
        </p:nvGrpSpPr>
        <p:grpSpPr>
          <a:xfrm>
            <a:off x="3352680" y="1752480"/>
            <a:ext cx="5457960" cy="5105520"/>
            <a:chOff x="3352680" y="1752480"/>
            <a:chExt cx="5457960" cy="5105520"/>
          </a:xfrm>
        </p:grpSpPr>
        <p:grpSp>
          <p:nvGrpSpPr>
            <p:cNvPr id="62" name="Group 11"/>
            <p:cNvGrpSpPr/>
            <p:nvPr/>
          </p:nvGrpSpPr>
          <p:grpSpPr>
            <a:xfrm>
              <a:off x="3352680" y="2971800"/>
              <a:ext cx="5457960" cy="3886200"/>
              <a:chOff x="3352680" y="2971800"/>
              <a:chExt cx="5457960" cy="3886200"/>
            </a:xfrm>
          </p:grpSpPr>
          <p:pic>
            <p:nvPicPr>
              <p:cNvPr id="63" name="Picture 7" descr="reaktori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2971800"/>
                <a:ext cx="3781440" cy="38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AutoShape 8"/>
              <p:cNvSpPr/>
              <p:nvPr/>
            </p:nvSpPr>
            <p:spPr>
              <a:xfrm>
                <a:off x="3352680" y="5029200"/>
                <a:ext cx="1524240" cy="533520"/>
              </a:xfrm>
              <a:prstGeom prst="rightArrow">
                <a:avLst>
                  <a:gd name="adj1" fmla="val 50000"/>
                  <a:gd name="adj2" fmla="val 714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AutoShape 10"/>
            <p:cNvSpPr/>
            <p:nvPr/>
          </p:nvSpPr>
          <p:spPr>
            <a:xfrm>
              <a:off x="6858000" y="1752480"/>
              <a:ext cx="304920" cy="1295640"/>
            </a:xfrm>
            <a:prstGeom prst="downArrow">
              <a:avLst>
                <a:gd name="adj1" fmla="val 50000"/>
                <a:gd name="adj2" fmla="val 10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14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2133720" y="61722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334120" y="304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la lixiv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952880" y="6400800"/>
            <a:ext cx="381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2"/>
          <p:cNvGrpSpPr/>
          <p:nvPr/>
        </p:nvGrpSpPr>
        <p:grpSpPr>
          <a:xfrm>
            <a:off x="1143000" y="609480"/>
            <a:ext cx="7515360" cy="5638680"/>
            <a:chOff x="1143000" y="609480"/>
            <a:chExt cx="7515360" cy="5638680"/>
          </a:xfrm>
        </p:grpSpPr>
        <p:grpSp>
          <p:nvGrpSpPr>
            <p:cNvPr id="71" name="Group 11"/>
            <p:cNvGrpSpPr/>
            <p:nvPr/>
          </p:nvGrpSpPr>
          <p:grpSpPr>
            <a:xfrm>
              <a:off x="3200400" y="1142640"/>
              <a:ext cx="5457960" cy="5105520"/>
              <a:chOff x="3200400" y="1142640"/>
              <a:chExt cx="5457960" cy="510552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3200400" y="2361960"/>
                <a:ext cx="5457960" cy="3886200"/>
                <a:chOff x="3200400" y="2361960"/>
                <a:chExt cx="5457960" cy="3886200"/>
              </a:xfrm>
            </p:grpSpPr>
            <p:pic>
              <p:nvPicPr>
                <p:cNvPr id="73" name="Picture 7" descr="reaktori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76920" y="2361960"/>
                  <a:ext cx="3781440" cy="38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AutoShape 8"/>
                <p:cNvSpPr/>
                <p:nvPr/>
              </p:nvSpPr>
              <p:spPr>
                <a:xfrm>
                  <a:off x="3200400" y="4419360"/>
                  <a:ext cx="1524240" cy="533520"/>
                </a:xfrm>
                <a:prstGeom prst="rightArrow">
                  <a:avLst>
                    <a:gd name="adj1" fmla="val 50000"/>
                    <a:gd name="adj2" fmla="val 71424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AutoShape 9"/>
              <p:cNvSpPr/>
              <p:nvPr/>
            </p:nvSpPr>
            <p:spPr>
              <a:xfrm>
                <a:off x="6705720" y="1142640"/>
                <a:ext cx="304920" cy="1295640"/>
              </a:xfrm>
              <a:prstGeom prst="downArrow">
                <a:avLst>
                  <a:gd name="adj1" fmla="val 50000"/>
                  <a:gd name="adj2" fmla="val 10622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Text Box 10"/>
            <p:cNvSpPr/>
            <p:nvPr/>
          </p:nvSpPr>
          <p:spPr>
            <a:xfrm>
              <a:off x="1143000" y="6094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Esqu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AutoShape 13"/>
          <p:cNvSpPr/>
          <p:nvPr/>
        </p:nvSpPr>
        <p:spPr>
          <a:xfrm>
            <a:off x="1219320" y="1676520"/>
            <a:ext cx="1828800" cy="3504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1143000" y="5562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5720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37160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6094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62120" y="6324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H =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1219320" y="3429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(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4)*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Cultivo BATCH</a:t>
            </a:r>
            <a:br>
              <a:rPr sz="4400"/>
            </a:b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Ecuaciones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414600" cy="4556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3809880" y="3124080"/>
            <a:ext cx="50659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ultivo B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bio-reactores operan en forma discontinua (carga, fermentación, descarg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6"/>
          <p:cNvGrpSpPr/>
          <p:nvPr/>
        </p:nvGrpSpPr>
        <p:grpSpPr>
          <a:xfrm>
            <a:off x="533520" y="2743200"/>
            <a:ext cx="5486400" cy="3881520"/>
            <a:chOff x="533520" y="2743200"/>
            <a:chExt cx="5486400" cy="3881520"/>
          </a:xfrm>
        </p:grpSpPr>
        <p:pic>
          <p:nvPicPr>
            <p:cNvPr id="90" name="Picture 4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33376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5"/>
            <p:cNvSpPr/>
            <p:nvPr/>
          </p:nvSpPr>
          <p:spPr>
            <a:xfrm>
              <a:off x="914400" y="274320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urva de Crecimiento en forma b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" name=""/>
          <p:cNvGraphicFramePr/>
          <p:nvPr/>
        </p:nvGraphicFramePr>
        <p:xfrm>
          <a:off x="6095880" y="2743200"/>
          <a:ext cx="2667240" cy="393228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cuaciones de Diseño de un Bioreactor se obtienen a partir de los Balance de Mas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a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s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Ing Quimica</cp:lastModifiedBy>
  <dcterms:modified xsi:type="dcterms:W3CDTF">2010-04-28T16:30:26Z</dcterms:modified>
  <cp:revision>81</cp:revision>
  <dc:subject/>
  <dc:title>Cultivo Continuo</dc:title>
</cp:coreProperties>
</file>