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11A-B9D3-49BB-BF5F-85C4A215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41D-8165-407D-BBA9-699F6759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48B-27C2-4A19-86B8-3BA6F97B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D91-64B0-4AF8-B28F-7AE2B686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339-4C88-4471-AF82-B623DE5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781-51A7-446D-8C88-BDC4CE5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CE8-EC61-454F-B5AA-8D6C6F5C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96D-6F2B-433A-9B98-0FB5817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E76-FFDD-46BB-A998-0721B16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E2C-F8ED-4A56-8CA4-7D7A092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AAF-36CE-46E0-9E10-4E888F7A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EBC-6323-4E33-8FFE-0626A3B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016-A732-4C03-9D52-3AEDE49C38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Formas de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34100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ultivo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Quimos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258920" y="2924280"/>
          <a:ext cx="5904000" cy="35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24280"/>
                    <a:ext cx="5904000" cy="35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Tipo de Bioreac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066680"/>
          <a:ext cx="8229600" cy="312732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o Fi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o Fluid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por 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uimos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ores de Fibra Hu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5715000" y="609480"/>
            <a:ext cx="3429000" cy="4343400"/>
            <a:chOff x="5715000" y="609480"/>
            <a:chExt cx="3429000" cy="4343400"/>
          </a:xfrm>
        </p:grpSpPr>
        <p:sp>
          <p:nvSpPr>
            <p:cNvPr id="69" name="Text Box 4"/>
            <p:cNvSpPr/>
            <p:nvPr/>
          </p:nvSpPr>
          <p:spPr>
            <a:xfrm>
              <a:off x="5715000" y="4284720"/>
              <a:ext cx="34290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Object 1024"/>
            <p:cNvGraphicFramePr/>
            <p:nvPr/>
          </p:nvGraphicFramePr>
          <p:xfrm>
            <a:off x="5715000" y="609480"/>
            <a:ext cx="3000240" cy="35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609480"/>
                      <a:ext cx="3000240" cy="35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" name="Text Box 7"/>
          <p:cNvSpPr/>
          <p:nvPr/>
        </p:nvSpPr>
        <p:spPr>
          <a:xfrm>
            <a:off x="152280" y="1447920"/>
            <a:ext cx="5562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r células inmovilizan que no salen del re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ulas susp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ulas inmovi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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28600" y="3429000"/>
            <a:ext cx="56386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élulas inmovilizadas la velocidad de crecimiento será igual que las células suspendida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s-ES" sz="3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im</a:t>
            </a:r>
            <a:r>
              <a:rPr b="0" lang="es-E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 </a:t>
            </a: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228600"/>
            <a:ext cx="89154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ecto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que las células se encuentran inmovilizadas se presentan resistencia a la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a resistencia se puede evaluar en base a un “Factor de efectividad”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lim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limitación, las células adheridas no aportan dado que cuesta mucho que  los nutrientes y/o productos difun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149400" y="2792520"/>
                <a:ext cx="8542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de reacción incluyendo efecto de la resistencia a la transferencia de ma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reacción sin incluir el efecto de la resistencia a la transferencia de mas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célul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9640" y="10526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élulas entran – Células que salen + Crecimiento celular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738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0"/>
              <p:cNvSpPr txBox="1"/>
              <p:nvPr/>
            </p:nvSpPr>
            <p:spPr>
              <a:xfrm>
                <a:off x="304920" y="4149720"/>
                <a:ext cx="883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Rectangle 7"/>
          <p:cNvSpPr/>
          <p:nvPr/>
        </p:nvSpPr>
        <p:spPr>
          <a:xfrm>
            <a:off x="152280" y="4876920"/>
            <a:ext cx="54104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rada es estéril, 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 y volumen constant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"/>
              <p:cNvSpPr txBox="1"/>
              <p:nvPr/>
            </p:nvSpPr>
            <p:spPr>
              <a:xfrm>
                <a:off x="5292720" y="6040440"/>
                <a:ext cx="2438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9"/>
          <p:cNvSpPr/>
          <p:nvPr/>
        </p:nvSpPr>
        <p:spPr>
          <a:xfrm>
            <a:off x="395280" y="2276640"/>
            <a:ext cx="792468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Supues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Las células en solución dan células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Las células inmovilizadas dan células en suspensión que se extraen del medio, de manera que x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im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se mantiene constan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30492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el balance de masa queda de la siguiente for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quí, despej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990720" y="1143000"/>
                <a:ext cx="6705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3124080" y="2819520"/>
                <a:ext cx="281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 Box 6"/>
          <p:cNvSpPr/>
          <p:nvPr/>
        </p:nvSpPr>
        <p:spPr>
          <a:xfrm>
            <a:off x="1042920" y="4221000"/>
            <a:ext cx="61722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≠ </a:t>
            </a:r>
            <a:r>
              <a:rPr b="0" lang="es-MX" sz="3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íf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gt; </a:t>
            </a:r>
            <a:r>
              <a:rPr b="0" lang="es-MX" sz="3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" action="ppaction://hlinkshowjump?jump=lastslide"/>
          </p:cNvPr>
          <p:cNvSpPr/>
          <p:nvPr/>
        </p:nvSpPr>
        <p:spPr>
          <a:xfrm>
            <a:off x="8153280" y="6324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39465" y="10800"/>
                </a:moveTo>
                <a:lnTo>
                  <a:pt x="28960" y="17806"/>
                </a:lnTo>
                <a:lnTo>
                  <a:pt x="28960" y="3794"/>
                </a:lnTo>
                <a:close/>
              </a:path>
              <a:path fill="darken" w="71932" h="21600">
                <a:moveTo>
                  <a:pt x="41310" y="3794"/>
                </a:moveTo>
                <a:lnTo>
                  <a:pt x="41310" y="17806"/>
                </a:lnTo>
                <a:lnTo>
                  <a:pt x="42973" y="17806"/>
                </a:lnTo>
                <a:lnTo>
                  <a:pt x="42973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2916360" y="5300640"/>
                <a:ext cx="18968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50920" y="1125360"/>
            <a:ext cx="853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strato entran – Sustrato salen -  Sustrato consumido crecimiento – Sustrato utilizado  mantención – Formación de producto =  Acumulación de Sus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324000" y="2421000"/>
                <a:ext cx="8397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3657600" y="4419720"/>
                <a:ext cx="105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1382760" y="5345280"/>
                <a:ext cx="55404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11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57200" y="3657600"/>
            <a:ext cx="8001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533520" y="457200"/>
            <a:ext cx="86104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idiendo por V y reagrup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idiendo por x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ecuación [2.7]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4786200" y="428760"/>
                <a:ext cx="31132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2556000" y="5157720"/>
                <a:ext cx="2849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9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>
            <a:hlinkClick r:id="" action="ppaction://hlinkshowjump?jump=lastslide"/>
          </p:cNvPr>
          <p:cNvSpPr/>
          <p:nvPr/>
        </p:nvSpPr>
        <p:spPr>
          <a:xfrm>
            <a:off x="7380360" y="5013360"/>
            <a:ext cx="304560" cy="76320"/>
          </a:xfrm>
          <a:custGeom>
            <a:avLst/>
            <a:gdLst>
              <a:gd name="textAreaLeft" fmla="*/ 4680 w 304560"/>
              <a:gd name="textAreaRight" fmla="*/ 299880 w 3045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893" h="21600">
                <a:moveTo>
                  <a:pt x="0" y="0"/>
                </a:moveTo>
                <a:lnTo>
                  <a:pt x="85893" y="0"/>
                </a:lnTo>
                <a:lnTo>
                  <a:pt x="85893" y="21600"/>
                </a:lnTo>
                <a:lnTo>
                  <a:pt x="0" y="21600"/>
                </a:lnTo>
                <a:close/>
              </a:path>
              <a:path fill="lightenLess" w="85893" h="21600">
                <a:moveTo>
                  <a:pt x="0" y="0"/>
                </a:moveTo>
                <a:lnTo>
                  <a:pt x="85893" y="0"/>
                </a:lnTo>
                <a:lnTo>
                  <a:pt x="84493" y="1400"/>
                </a:lnTo>
                <a:lnTo>
                  <a:pt x="1400" y="1400"/>
                </a:lnTo>
                <a:close/>
              </a:path>
              <a:path fill="darken" w="85893" h="21600">
                <a:moveTo>
                  <a:pt x="85893" y="0"/>
                </a:moveTo>
                <a:lnTo>
                  <a:pt x="85893" y="21600"/>
                </a:lnTo>
                <a:lnTo>
                  <a:pt x="84493" y="20200"/>
                </a:lnTo>
                <a:lnTo>
                  <a:pt x="84493" y="1400"/>
                </a:lnTo>
                <a:close/>
              </a:path>
              <a:path fill="darkenLess" w="85893" h="21600">
                <a:moveTo>
                  <a:pt x="8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93" y="20200"/>
                </a:lnTo>
                <a:close/>
              </a:path>
              <a:path fill="lighten" w="8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93" h="21600">
                <a:moveTo>
                  <a:pt x="35940" y="3794"/>
                </a:moveTo>
                <a:lnTo>
                  <a:pt x="49953" y="10800"/>
                </a:lnTo>
                <a:lnTo>
                  <a:pt x="3594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4">
            <a:hlinkClick r:id="" action="ppaction://hlinkshowjump?jump=lastslide"/>
          </p:cNvPr>
          <p:cNvSpPr/>
          <p:nvPr/>
        </p:nvSpPr>
        <p:spPr>
          <a:xfrm>
            <a:off x="7524720" y="278136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5"/>
              <p:cNvSpPr txBox="1"/>
              <p:nvPr/>
            </p:nvSpPr>
            <p:spPr>
              <a:xfrm>
                <a:off x="1500120" y="2214720"/>
                <a:ext cx="4897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Text Box 17"/>
          <p:cNvSpPr/>
          <p:nvPr/>
        </p:nvSpPr>
        <p:spPr>
          <a:xfrm>
            <a:off x="611280" y="4653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7956720" y="5300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2.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533520" y="45720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modelo de crecimiento tipo Monod y la ecuación [2.8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484360" y="1844640"/>
                <a:ext cx="3886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 Box 11"/>
          <p:cNvSpPr/>
          <p:nvPr/>
        </p:nvSpPr>
        <p:spPr>
          <a:xfrm>
            <a:off x="7524720" y="2133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2.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3"/>
          <p:cNvGraphicFramePr/>
          <p:nvPr/>
        </p:nvGraphicFramePr>
        <p:xfrm>
          <a:off x="304920" y="533520"/>
          <a:ext cx="693396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93396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600200" y="22860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in células Inmovi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743200" y="38088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n células Inmovi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705720" y="914400"/>
            <a:ext cx="2438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in limitacione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581280" y="2590920"/>
            <a:ext cx="2971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n limitacione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057400" y="579132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elocidad de Dilución, D, hr</a:t>
            </a:r>
            <a:r>
              <a:rPr b="0" lang="es-E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514600" y="3962520"/>
            <a:ext cx="2362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 flipH="1" flipV="1">
            <a:off x="6227640" y="1267920"/>
            <a:ext cx="6494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00120" y="1356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s de Perfus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500200" y="2928960"/>
            <a:ext cx="4434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Como podríamos trabajar a una tasa de dilución mayor que D</a:t>
            </a:r>
            <a:r>
              <a:rPr b="0" lang="es-ES" sz="4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066680"/>
            <a:ext cx="4648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centración de células siempre puede aumentarse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irculando al reactor parte de la biomasa existente en la corriente de produ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reciclo de células incrementa la productividad y también la estabilidad en algunos sistemas, dado que minimiza las perturbaciones (ej.: en tratamiento de efluentes, muy sujeto generalmente a las variaciones en la alimenta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mantener un inóculo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concent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r estabilidad y menor efecto de las perturb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ástico incremento en la productivida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5292720" y="530064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0&lt;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s-ES" sz="1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429160" y="1071720"/>
            <a:ext cx="3714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64000" y="1557360"/>
            <a:ext cx="37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de la concentr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élulas en la corriente de reciclo sobre la que sale del reactor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de re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sada en cau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olumétric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&lt;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s-ES" sz="1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5153040" cy="3933720"/>
          </a:xfrm>
          <a:prstGeom prst="rect">
            <a:avLst/>
          </a:prstGeom>
          <a:ln w="0">
            <a:noFill/>
          </a:ln>
        </p:spPr>
      </p:pic>
      <p:sp>
        <p:nvSpPr>
          <p:cNvPr id="128" name="10 CuadroTexto"/>
          <p:cNvSpPr/>
          <p:nvPr/>
        </p:nvSpPr>
        <p:spPr>
          <a:xfrm>
            <a:off x="3929040" y="4429080"/>
            <a:ext cx="47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dor de </a:t>
            </a:r>
            <a:r>
              <a:rPr b="1" lang="es-CL" sz="2000" spc="-1" strike="noStrike">
                <a:solidFill>
                  <a:srgbClr val="ff0000"/>
                </a:solidFill>
                <a:latin typeface="Times New Roman"/>
              </a:rPr>
              <a:t>célul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puede ser por filtración, centrifugación o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11 Rectángulo"/>
          <p:cNvSpPr/>
          <p:nvPr/>
        </p:nvSpPr>
        <p:spPr>
          <a:xfrm>
            <a:off x="785880" y="2214720"/>
            <a:ext cx="3071880" cy="2928960"/>
          </a:xfrm>
          <a:prstGeom prst="rect">
            <a:avLst/>
          </a:prstGeom>
          <a:noFill/>
          <a:ln w="507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12 Rectángulo"/>
          <p:cNvSpPr/>
          <p:nvPr/>
        </p:nvSpPr>
        <p:spPr>
          <a:xfrm>
            <a:off x="1357200" y="2643120"/>
            <a:ext cx="1857600" cy="200016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27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l Balanc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34"/>
          <p:cNvSpPr/>
          <p:nvPr/>
        </p:nvSpPr>
        <p:spPr>
          <a:xfrm>
            <a:off x="3352680" y="22860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35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37"/>
          <p:cNvSpPr/>
          <p:nvPr/>
        </p:nvSpPr>
        <p:spPr>
          <a:xfrm>
            <a:off x="609480" y="5638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,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s-ES" sz="1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40"/>
          <p:cNvSpPr/>
          <p:nvPr/>
        </p:nvSpPr>
        <p:spPr>
          <a:xfrm>
            <a:off x="5638680" y="167652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ótese que la corriente de reciclo contiene sustrato, en igual concentración que la que sale del reactor, debido a que el separador tiene efecto sobre sust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46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célul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1280" y="836640"/>
            <a:ext cx="79246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rada es estéril, 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 y volumen constant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.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500120" y="1571760"/>
                <a:ext cx="66945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3071880" y="4071960"/>
                <a:ext cx="15112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285920" y="5072040"/>
                <a:ext cx="6019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2340000" y="3789360"/>
                <a:ext cx="3733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8"/>
          <p:cNvSpPr/>
          <p:nvPr/>
        </p:nvSpPr>
        <p:spPr>
          <a:xfrm>
            <a:off x="971640" y="522936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c&gt;1 y 0&lt;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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+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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D &gt;</a:t>
            </a:r>
            <a:r>
              <a:rPr b="1" lang="es-MX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9">
            <a:hlinkClick r:id="" action="ppaction://hlinkshowjump?jump=lastslide"/>
          </p:cNvPr>
          <p:cNvSpPr/>
          <p:nvPr/>
        </p:nvSpPr>
        <p:spPr>
          <a:xfrm>
            <a:off x="7885080" y="400536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1476360" y="620640"/>
                <a:ext cx="6039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6"/>
              <p:cNvSpPr txBox="1"/>
              <p:nvPr/>
            </p:nvSpPr>
            <p:spPr>
              <a:xfrm>
                <a:off x="1690560" y="1989000"/>
                <a:ext cx="5689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20"/>
          <p:cNvSpPr/>
          <p:nvPr/>
        </p:nvSpPr>
        <p:spPr>
          <a:xfrm>
            <a:off x="1187280" y="14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vidiendo por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187280" y="26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1187280" y="306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732720" y="3860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3.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57200" y="1143000"/>
            <a:ext cx="8381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strato entran – Sustrato salen -  Sustrato consumido crecimiento – Sustrato utilizado  mantención – Formación de producto =  Acumulación de Sus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609480" y="3016080"/>
                <a:ext cx="792504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3564000" y="5516640"/>
                <a:ext cx="14428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10"/>
          <p:cNvSpPr/>
          <p:nvPr/>
        </p:nvSpPr>
        <p:spPr>
          <a:xfrm>
            <a:off x="611280" y="4292640"/>
            <a:ext cx="7848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 (cont..)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95280" y="588960"/>
            <a:ext cx="8381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on esto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.3] en [3.6] se tiene (Prob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1619280" y="1484280"/>
                <a:ext cx="5327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203640" y="2565360"/>
                <a:ext cx="2092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3780000" y="4221000"/>
                <a:ext cx="21762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9"/>
          <p:cNvSpPr/>
          <p:nvPr/>
        </p:nvSpPr>
        <p:spPr>
          <a:xfrm>
            <a:off x="7093080" y="27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3.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766764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3.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29"/>
          <p:cNvSpPr/>
          <p:nvPr/>
        </p:nvSpPr>
        <p:spPr>
          <a:xfrm>
            <a:off x="380880" y="7621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un modelo de crecimiento tipo Monod  (Pro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024"/>
              <p:cNvSpPr txBox="1"/>
              <p:nvPr/>
            </p:nvSpPr>
            <p:spPr>
              <a:xfrm>
                <a:off x="2265480" y="1676520"/>
                <a:ext cx="33163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25"/>
              <p:cNvSpPr txBox="1"/>
              <p:nvPr/>
            </p:nvSpPr>
            <p:spPr>
              <a:xfrm>
                <a:off x="1128600" y="3733920"/>
                <a:ext cx="67327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AutoShape 1030">
            <a:hlinkClick r:id="" action="ppaction://hlinkshowjump?jump=lastslide"/>
          </p:cNvPr>
          <p:cNvSpPr/>
          <p:nvPr/>
        </p:nvSpPr>
        <p:spPr>
          <a:xfrm>
            <a:off x="7543800" y="205740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31">
            <a:hlinkClick r:id="" action="ppaction://hlinkshowjump?jump=lastslide"/>
          </p:cNvPr>
          <p:cNvSpPr/>
          <p:nvPr/>
        </p:nvSpPr>
        <p:spPr>
          <a:xfrm>
            <a:off x="8381880" y="41911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1547640" y="2060640"/>
          <a:ext cx="619308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6193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5"/>
          <p:cNvSpPr/>
          <p:nvPr/>
        </p:nvSpPr>
        <p:spPr>
          <a:xfrm>
            <a:off x="2484360" y="83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files de los cultivos de per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2201400" y="617220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puede trabajar a D mayores que el Dc.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657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D*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419720" y="2666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705720" y="53352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u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, B y C Con re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 y E: sin Re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943600" cy="4884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2"/>
          <a:stretch/>
        </p:blipFill>
        <p:spPr>
          <a:xfrm>
            <a:off x="6504120" y="2286000"/>
            <a:ext cx="2639880" cy="30862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9"/>
          <p:cNvSpPr/>
          <p:nvPr/>
        </p:nvSpPr>
        <p:spPr>
          <a:xfrm>
            <a:off x="755640" y="2637000"/>
            <a:ext cx="2087640" cy="1871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95280" y="5373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in re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1"/>
          <p:cNvSpPr/>
          <p:nvPr/>
        </p:nvSpPr>
        <p:spPr>
          <a:xfrm flipV="1">
            <a:off x="1332000" y="4508640"/>
            <a:ext cx="712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Modificaciones del Quimosta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ultivos de Perfusión-Recirculación de Cél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act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epa de levadura es cultivada en un fermentador de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l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de separación ha sido diseñado de tal manera que se recircula el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%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flujo de alimentación al reactor y la concentración de biomasa que se recircula es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4 vec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que entra al separadaor, la concentración de sustrato se mantiene igual en todas las cor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crecimiento de esta levadura se puede representar por una expresión tipo Monod, cuyos parámetros s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s = 0.05 g/l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x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3 hr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s-C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x/s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la concentración de biomasa y sustrato a la salida del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parado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sidere que la alimentación fresca al fermentador tiene una concentración de sustrato de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0 g/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 flujo de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0 l/h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los valores obtenidos con un sistema sin recicl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2133720" y="2286000"/>
            <a:ext cx="4800600" cy="3809520"/>
            <a:chOff x="2133720" y="2286000"/>
            <a:chExt cx="4800600" cy="3809520"/>
          </a:xfrm>
        </p:grpSpPr>
        <p:sp>
          <p:nvSpPr>
            <p:cNvPr id="184" name="Text Box 4"/>
            <p:cNvSpPr/>
            <p:nvPr/>
          </p:nvSpPr>
          <p:spPr>
            <a:xfrm>
              <a:off x="2312640" y="5531400"/>
              <a:ext cx="4472640" cy="56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Object 5"/>
            <p:cNvGraphicFramePr/>
            <p:nvPr/>
          </p:nvGraphicFramePr>
          <p:xfrm>
            <a:off x="2133720" y="2286000"/>
            <a:ext cx="4800600" cy="32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2286000"/>
                      <a:ext cx="4800600" cy="32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Rectangle 6"/>
          <p:cNvSpPr/>
          <p:nvPr/>
        </p:nvSpPr>
        <p:spPr>
          <a:xfrm>
            <a:off x="4267080" y="3429000"/>
            <a:ext cx="1295640" cy="16002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3244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 flipH="1">
            <a:off x="5638320" y="297180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jemplo (Propuest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88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Una cepa de levadura es cultivada en un fermentador de 30 lt. El sistema de separación ha sido diseñado de tal manera que la concentración de biomasa a la salida del separador es un 30% de la biomasa que entra en éste, la concentración de sustrato se mantiene igual en todas las cor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La velocidad de crecimiento de esta levadura se puede representar por una expresión tipo Monod, cuyos parámetr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05 g/l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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3 hr</a:t>
            </a:r>
            <a:r>
              <a:rPr b="0" lang="es-CL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x/s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Calcule la concentración de biomasa y sustrato a la salida del fermentador,. Considere que la alimentación fresca al fermentador tiene una concentración de sustrato de 10 g/l y un flujo de 20 l/hr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d.  Planteé un balance general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2743200" y="1295280"/>
            <a:ext cx="2800440" cy="3657600"/>
            <a:chOff x="2743200" y="1295280"/>
            <a:chExt cx="2800440" cy="3657600"/>
          </a:xfrm>
        </p:grpSpPr>
        <p:sp>
          <p:nvSpPr>
            <p:cNvPr id="193" name="Text Box 3"/>
            <p:cNvSpPr/>
            <p:nvPr/>
          </p:nvSpPr>
          <p:spPr>
            <a:xfrm>
              <a:off x="2847600" y="4411080"/>
              <a:ext cx="2609280" cy="54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Object 4"/>
            <p:cNvGraphicFramePr/>
            <p:nvPr/>
          </p:nvGraphicFramePr>
          <p:xfrm>
            <a:off x="2743200" y="1295280"/>
            <a:ext cx="2800440" cy="310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295280"/>
                      <a:ext cx="2800440" cy="31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Rectangle 5"/>
          <p:cNvSpPr/>
          <p:nvPr/>
        </p:nvSpPr>
        <p:spPr>
          <a:xfrm>
            <a:off x="2438280" y="1752480"/>
            <a:ext cx="2133720" cy="289584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3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 en Ser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857240" y="2357280"/>
            <a:ext cx="54198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852480"/>
            <a:ext cx="8458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dea en colocar dos o más fermentadores en serie. De esta manera se pu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 productos formados después del crecimiento (Sólo hay crecimiento en el primer fermenta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problemas fisiológicos interesantes (se agrega algún tipo de ag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 en Ser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071720" y="3557520"/>
            <a:ext cx="69818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380880"/>
            <a:ext cx="9144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alimentación al seg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 F =  F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80880" y="34290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alimentación al segundo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`: es el mismo sustrato o podría ser un inhibidor o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4381560" y="3809880"/>
            <a:ext cx="4762440" cy="202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10"/>
          <p:cNvGraphicFramePr/>
          <p:nvPr/>
        </p:nvGraphicFramePr>
        <p:xfrm>
          <a:off x="4229280" y="533520"/>
          <a:ext cx="491472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533520"/>
                    <a:ext cx="4914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030"/>
          <p:cNvSpPr/>
          <p:nvPr/>
        </p:nvSpPr>
        <p:spPr>
          <a:xfrm>
            <a:off x="685800" y="914400"/>
            <a:ext cx="75438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 el prime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 los balances son análogos a un solo fermentador, considerando todos los supuestos antes mencion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nc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32"/>
          <p:cNvSpPr/>
          <p:nvPr/>
        </p:nvSpPr>
        <p:spPr>
          <a:xfrm>
            <a:off x="392904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031"/>
              <p:cNvSpPr txBox="1"/>
              <p:nvPr/>
            </p:nvSpPr>
            <p:spPr>
              <a:xfrm>
                <a:off x="3200400" y="4641840"/>
                <a:ext cx="3505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80880" y="228600"/>
            <a:ext cx="838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so 1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Segundo 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3686040" y="6019920"/>
                <a:ext cx="1343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685800" y="3733920"/>
            <a:ext cx="77724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F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595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0" y="2514600"/>
                <a:ext cx="8947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Object 8"/>
          <p:cNvGraphicFramePr/>
          <p:nvPr/>
        </p:nvGraphicFramePr>
        <p:xfrm>
          <a:off x="5334120" y="0"/>
          <a:ext cx="35431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0"/>
                    <a:ext cx="35431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960" y="178596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457200" y="685800"/>
            <a:ext cx="84582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j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≠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67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676520" y="1789200"/>
                <a:ext cx="5486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6"/>
          <p:cNvSpPr/>
          <p:nvPr/>
        </p:nvSpPr>
        <p:spPr>
          <a:xfrm>
            <a:off x="39290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3068640" y="2744640"/>
                <a:ext cx="2798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AutoShape 7">
            <a:hlinkClick r:id="" action="ppaction://hlinkshowjump?jump=lastslide"/>
          </p:cNvPr>
          <p:cNvSpPr/>
          <p:nvPr/>
        </p:nvSpPr>
        <p:spPr>
          <a:xfrm>
            <a:off x="7848720" y="3352680"/>
            <a:ext cx="304560" cy="76320"/>
          </a:xfrm>
          <a:custGeom>
            <a:avLst/>
            <a:gdLst>
              <a:gd name="textAreaLeft" fmla="*/ 4680 w 304560"/>
              <a:gd name="textAreaRight" fmla="*/ 299880 w 3045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893" h="21600">
                <a:moveTo>
                  <a:pt x="0" y="0"/>
                </a:moveTo>
                <a:lnTo>
                  <a:pt x="85893" y="0"/>
                </a:lnTo>
                <a:lnTo>
                  <a:pt x="85893" y="21600"/>
                </a:lnTo>
                <a:lnTo>
                  <a:pt x="0" y="21600"/>
                </a:lnTo>
                <a:close/>
              </a:path>
              <a:path fill="lightenLess" w="85893" h="21600">
                <a:moveTo>
                  <a:pt x="0" y="0"/>
                </a:moveTo>
                <a:lnTo>
                  <a:pt x="85893" y="0"/>
                </a:lnTo>
                <a:lnTo>
                  <a:pt x="84493" y="1400"/>
                </a:lnTo>
                <a:lnTo>
                  <a:pt x="1400" y="1400"/>
                </a:lnTo>
                <a:close/>
              </a:path>
              <a:path fill="darken" w="85893" h="21600">
                <a:moveTo>
                  <a:pt x="85893" y="0"/>
                </a:moveTo>
                <a:lnTo>
                  <a:pt x="85893" y="21600"/>
                </a:lnTo>
                <a:lnTo>
                  <a:pt x="84493" y="20200"/>
                </a:lnTo>
                <a:lnTo>
                  <a:pt x="84493" y="1400"/>
                </a:lnTo>
                <a:close/>
              </a:path>
              <a:path fill="darkenLess" w="85893" h="21600">
                <a:moveTo>
                  <a:pt x="8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93" y="20200"/>
                </a:lnTo>
                <a:close/>
              </a:path>
              <a:path fill="lighten" w="8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93" h="21600">
                <a:moveTo>
                  <a:pt x="35940" y="3794"/>
                </a:moveTo>
                <a:lnTo>
                  <a:pt x="49953" y="10800"/>
                </a:lnTo>
                <a:lnTo>
                  <a:pt x="3594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47640" y="4572000"/>
            <a:ext cx="784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umpl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hay ingreso de biomasa, generalment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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28600" y="228600"/>
            <a:ext cx="85345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Sustrat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Formación de producto =  Acumul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362320" y="4343400"/>
                <a:ext cx="4195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2590920" y="5486400"/>
                <a:ext cx="37335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6"/>
          <p:cNvSpPr/>
          <p:nvPr/>
        </p:nvSpPr>
        <p:spPr>
          <a:xfrm>
            <a:off x="3808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pej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09480" y="228600"/>
            <a:ext cx="723924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so 2: Alimentación adicional en el 2 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´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sustrato, no biomasa (x’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umple la condición que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lance de Masa Glob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s-E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F + F`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">
            <a:hlinkClick r:id="" action="ppaction://hlinkshowjump?jump=lastslide"/>
          </p:cNvPr>
          <p:cNvSpPr/>
          <p:nvPr/>
        </p:nvSpPr>
        <p:spPr>
          <a:xfrm>
            <a:off x="7772400" y="55627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962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4572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iente adicional no contien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4191120" y="4267080"/>
                <a:ext cx="13572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ectangle 6"/>
          <p:cNvSpPr/>
          <p:nvPr/>
        </p:nvSpPr>
        <p:spPr>
          <a:xfrm>
            <a:off x="329580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1600200" y="5562720"/>
                <a:ext cx="594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457200"/>
            <a:ext cx="78487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F’)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j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≠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919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297240" y="2046240"/>
                <a:ext cx="2243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AutoShape 5">
            <a:hlinkClick r:id="" action="ppaction://hlinkshowjump?jump=lastslide"/>
          </p:cNvPr>
          <p:cNvSpPr/>
          <p:nvPr/>
        </p:nvSpPr>
        <p:spPr>
          <a:xfrm>
            <a:off x="7924680" y="23623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5800" y="3962520"/>
            <a:ext cx="746748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umpl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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trabajar a alta velocidad de crecimiento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8600" y="228600"/>
            <a:ext cx="82296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Sustrat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Formación de producto =  Acumul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20976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751040" y="4584600"/>
                <a:ext cx="60991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228600" y="45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2325600" y="1521000"/>
                <a:ext cx="3681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AutoShape 4">
            <a:hlinkClick r:id="" action="ppaction://hlinkshowjump?jump=lastslide"/>
          </p:cNvPr>
          <p:cNvSpPr/>
          <p:nvPr/>
        </p:nvSpPr>
        <p:spPr>
          <a:xfrm>
            <a:off x="7924680" y="198108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53352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m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5867280" y="2286000"/>
                <a:ext cx="2133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3429000" y="3429000"/>
                <a:ext cx="1895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5715000" y="3419640"/>
                <a:ext cx="22096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3352680" y="4648320"/>
                <a:ext cx="1905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3"/>
              <p:cNvSpPr txBox="1"/>
              <p:nvPr/>
            </p:nvSpPr>
            <p:spPr>
              <a:xfrm>
                <a:off x="5562720" y="4419720"/>
                <a:ext cx="2438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Group 46"/>
          <p:cNvGrpSpPr/>
          <p:nvPr/>
        </p:nvGrpSpPr>
        <p:grpSpPr>
          <a:xfrm>
            <a:off x="609480" y="1143000"/>
            <a:ext cx="7408800" cy="4495320"/>
            <a:chOff x="609480" y="1143000"/>
            <a:chExt cx="7408800" cy="4495320"/>
          </a:xfrm>
        </p:grpSpPr>
        <p:grpSp>
          <p:nvGrpSpPr>
            <p:cNvPr id="259" name="Group 44"/>
            <p:cNvGrpSpPr/>
            <p:nvPr/>
          </p:nvGrpSpPr>
          <p:grpSpPr>
            <a:xfrm>
              <a:off x="615240" y="1149840"/>
              <a:ext cx="7396200" cy="4480200"/>
              <a:chOff x="615240" y="1149840"/>
              <a:chExt cx="7396200" cy="4480200"/>
            </a:xfrm>
          </p:grpSpPr>
          <p:grpSp>
            <p:nvGrpSpPr>
              <p:cNvPr id="260" name="Group 21"/>
              <p:cNvGrpSpPr/>
              <p:nvPr/>
            </p:nvGrpSpPr>
            <p:grpSpPr>
              <a:xfrm>
                <a:off x="615240" y="1149840"/>
                <a:ext cx="2464920" cy="979560"/>
                <a:chOff x="615240" y="1149840"/>
                <a:chExt cx="2464920" cy="979560"/>
              </a:xfrm>
            </p:grpSpPr>
            <p:sp>
              <p:nvSpPr>
                <p:cNvPr id="261" name="Rectangle 8"/>
                <p:cNvSpPr/>
                <p:nvPr/>
              </p:nvSpPr>
              <p:spPr>
                <a:xfrm>
                  <a:off x="66996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20"/>
                <p:cNvSpPr/>
                <p:nvPr/>
              </p:nvSpPr>
              <p:spPr>
                <a:xfrm>
                  <a:off x="615240" y="114984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23"/>
              <p:cNvGrpSpPr/>
              <p:nvPr/>
            </p:nvGrpSpPr>
            <p:grpSpPr>
              <a:xfrm>
                <a:off x="3080520" y="1149840"/>
                <a:ext cx="2465640" cy="979560"/>
                <a:chOff x="3080520" y="1149840"/>
                <a:chExt cx="2465640" cy="979560"/>
              </a:xfrm>
            </p:grpSpPr>
            <p:sp>
              <p:nvSpPr>
                <p:cNvPr id="264" name="Rectangle 9"/>
                <p:cNvSpPr/>
                <p:nvPr/>
              </p:nvSpPr>
              <p:spPr>
                <a:xfrm>
                  <a:off x="313560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lance Biomasa*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080520" y="1149840"/>
                  <a:ext cx="246564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25"/>
              <p:cNvGrpSpPr/>
              <p:nvPr/>
            </p:nvGrpSpPr>
            <p:grpSpPr>
              <a:xfrm>
                <a:off x="5546520" y="1149840"/>
                <a:ext cx="2464920" cy="979560"/>
                <a:chOff x="5546520" y="1149840"/>
                <a:chExt cx="2464920" cy="979560"/>
              </a:xfrm>
            </p:grpSpPr>
            <p:sp>
              <p:nvSpPr>
                <p:cNvPr id="267" name="Rectangle 10"/>
                <p:cNvSpPr/>
                <p:nvPr/>
              </p:nvSpPr>
              <p:spPr>
                <a:xfrm>
                  <a:off x="560124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lance Sustrato</a:t>
                  </a:r>
                  <a:r>
                    <a:rPr b="1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24"/>
                <p:cNvSpPr/>
                <p:nvPr/>
              </p:nvSpPr>
              <p:spPr>
                <a:xfrm>
                  <a:off x="5546520" y="114984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27"/>
              <p:cNvGrpSpPr/>
              <p:nvPr/>
            </p:nvGrpSpPr>
            <p:grpSpPr>
              <a:xfrm>
                <a:off x="615240" y="2129760"/>
                <a:ext cx="2464920" cy="979560"/>
                <a:chOff x="615240" y="2129760"/>
                <a:chExt cx="2464920" cy="979560"/>
              </a:xfrm>
            </p:grpSpPr>
            <p:sp>
              <p:nvSpPr>
                <p:cNvPr id="270" name="Rectangle 11"/>
                <p:cNvSpPr/>
                <p:nvPr/>
              </p:nvSpPr>
              <p:spPr>
                <a:xfrm>
                  <a:off x="66996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26"/>
                <p:cNvSpPr/>
                <p:nvPr/>
              </p:nvSpPr>
              <p:spPr>
                <a:xfrm>
                  <a:off x="615240" y="212976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29"/>
              <p:cNvGrpSpPr/>
              <p:nvPr/>
            </p:nvGrpSpPr>
            <p:grpSpPr>
              <a:xfrm>
                <a:off x="3080520" y="2129760"/>
                <a:ext cx="2465640" cy="979560"/>
                <a:chOff x="3080520" y="2129760"/>
                <a:chExt cx="2465640" cy="979560"/>
              </a:xfrm>
            </p:grpSpPr>
            <p:sp>
              <p:nvSpPr>
                <p:cNvPr id="273" name="Rectangle 12"/>
                <p:cNvSpPr/>
                <p:nvPr/>
              </p:nvSpPr>
              <p:spPr>
                <a:xfrm>
                  <a:off x="313560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= F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V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 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28"/>
                <p:cNvSpPr/>
                <p:nvPr/>
              </p:nvSpPr>
              <p:spPr>
                <a:xfrm>
                  <a:off x="3080520" y="2129760"/>
                  <a:ext cx="246564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1"/>
              <p:cNvGrpSpPr/>
              <p:nvPr/>
            </p:nvGrpSpPr>
            <p:grpSpPr>
              <a:xfrm>
                <a:off x="5546520" y="2129760"/>
                <a:ext cx="2464920" cy="979560"/>
                <a:chOff x="5546520" y="2129760"/>
                <a:chExt cx="2464920" cy="979560"/>
              </a:xfrm>
            </p:grpSpPr>
            <p:sp>
              <p:nvSpPr>
                <p:cNvPr id="276" name="Rectangle 13"/>
                <p:cNvSpPr/>
                <p:nvPr/>
              </p:nvSpPr>
              <p:spPr>
                <a:xfrm>
                  <a:off x="560124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30"/>
                <p:cNvSpPr/>
                <p:nvPr/>
              </p:nvSpPr>
              <p:spPr>
                <a:xfrm>
                  <a:off x="5546520" y="212976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33"/>
              <p:cNvGrpSpPr/>
              <p:nvPr/>
            </p:nvGrpSpPr>
            <p:grpSpPr>
              <a:xfrm>
                <a:off x="615240" y="3110040"/>
                <a:ext cx="2464920" cy="1259280"/>
                <a:chOff x="615240" y="3110040"/>
                <a:chExt cx="2464920" cy="1259280"/>
              </a:xfrm>
            </p:grpSpPr>
            <p:sp>
              <p:nvSpPr>
                <p:cNvPr id="279" name="Rectangle 14"/>
                <p:cNvSpPr/>
                <p:nvPr/>
              </p:nvSpPr>
              <p:spPr>
                <a:xfrm>
                  <a:off x="66996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 </a:t>
                  </a:r>
                  <a:r>
                    <a:rPr b="1" lang="es-MX" sz="18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</a:rPr>
                    <a:t>sin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alimentación adi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32"/>
                <p:cNvSpPr/>
                <p:nvPr/>
              </p:nvSpPr>
              <p:spPr>
                <a:xfrm>
                  <a:off x="615240" y="3110040"/>
                  <a:ext cx="246492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35"/>
              <p:cNvGrpSpPr/>
              <p:nvPr/>
            </p:nvGrpSpPr>
            <p:grpSpPr>
              <a:xfrm>
                <a:off x="3080520" y="3110040"/>
                <a:ext cx="2465640" cy="1259280"/>
                <a:chOff x="3080520" y="3110040"/>
                <a:chExt cx="2465640" cy="1259280"/>
              </a:xfrm>
            </p:grpSpPr>
            <p:sp>
              <p:nvSpPr>
                <p:cNvPr id="282" name="Rectangle 15"/>
                <p:cNvSpPr/>
                <p:nvPr/>
              </p:nvSpPr>
              <p:spPr>
                <a:xfrm>
                  <a:off x="313560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34"/>
                <p:cNvSpPr/>
                <p:nvPr/>
              </p:nvSpPr>
              <p:spPr>
                <a:xfrm>
                  <a:off x="3080520" y="3110040"/>
                  <a:ext cx="246564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37"/>
              <p:cNvGrpSpPr/>
              <p:nvPr/>
            </p:nvGrpSpPr>
            <p:grpSpPr>
              <a:xfrm>
                <a:off x="5546520" y="3110040"/>
                <a:ext cx="2464920" cy="1259280"/>
                <a:chOff x="5546520" y="3110040"/>
                <a:chExt cx="2464920" cy="1259280"/>
              </a:xfrm>
            </p:grpSpPr>
            <p:sp>
              <p:nvSpPr>
                <p:cNvPr id="285" name="Rectangle 16"/>
                <p:cNvSpPr/>
                <p:nvPr/>
              </p:nvSpPr>
              <p:spPr>
                <a:xfrm>
                  <a:off x="560124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36"/>
                <p:cNvSpPr/>
                <p:nvPr/>
              </p:nvSpPr>
              <p:spPr>
                <a:xfrm>
                  <a:off x="5546520" y="3110040"/>
                  <a:ext cx="246492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39"/>
              <p:cNvGrpSpPr/>
              <p:nvPr/>
            </p:nvGrpSpPr>
            <p:grpSpPr>
              <a:xfrm>
                <a:off x="615240" y="4370040"/>
                <a:ext cx="2464920" cy="1260000"/>
                <a:chOff x="615240" y="4370040"/>
                <a:chExt cx="2464920" cy="1260000"/>
              </a:xfrm>
            </p:grpSpPr>
            <p:sp>
              <p:nvSpPr>
                <p:cNvPr id="288" name="Rectangle 17"/>
                <p:cNvSpPr/>
                <p:nvPr/>
              </p:nvSpPr>
              <p:spPr>
                <a:xfrm>
                  <a:off x="66996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 </a:t>
                  </a:r>
                  <a:r>
                    <a:rPr b="1" lang="es-MX" sz="18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</a:rPr>
                    <a:t>con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adi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38"/>
                <p:cNvSpPr/>
                <p:nvPr/>
              </p:nvSpPr>
              <p:spPr>
                <a:xfrm>
                  <a:off x="615240" y="4370040"/>
                  <a:ext cx="246492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41"/>
              <p:cNvGrpSpPr/>
              <p:nvPr/>
            </p:nvGrpSpPr>
            <p:grpSpPr>
              <a:xfrm>
                <a:off x="3080520" y="4370040"/>
                <a:ext cx="2465640" cy="1260000"/>
                <a:chOff x="3080520" y="4370040"/>
                <a:chExt cx="2465640" cy="1260000"/>
              </a:xfrm>
            </p:grpSpPr>
            <p:sp>
              <p:nvSpPr>
                <p:cNvPr id="291" name="Rectangle 18"/>
                <p:cNvSpPr/>
                <p:nvPr/>
              </p:nvSpPr>
              <p:spPr>
                <a:xfrm>
                  <a:off x="313560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40"/>
                <p:cNvSpPr/>
                <p:nvPr/>
              </p:nvSpPr>
              <p:spPr>
                <a:xfrm>
                  <a:off x="3080520" y="4370040"/>
                  <a:ext cx="246564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43"/>
              <p:cNvGrpSpPr/>
              <p:nvPr/>
            </p:nvGrpSpPr>
            <p:grpSpPr>
              <a:xfrm>
                <a:off x="5546520" y="4370040"/>
                <a:ext cx="2464920" cy="1260000"/>
                <a:chOff x="5546520" y="4370040"/>
                <a:chExt cx="2464920" cy="1260000"/>
              </a:xfrm>
            </p:grpSpPr>
            <p:sp>
              <p:nvSpPr>
                <p:cNvPr id="294" name="Rectangle 19"/>
                <p:cNvSpPr/>
                <p:nvPr/>
              </p:nvSpPr>
              <p:spPr>
                <a:xfrm>
                  <a:off x="560124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42"/>
                <p:cNvSpPr/>
                <p:nvPr/>
              </p:nvSpPr>
              <p:spPr>
                <a:xfrm>
                  <a:off x="5546520" y="4370040"/>
                  <a:ext cx="246492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Rectangle 45"/>
            <p:cNvSpPr/>
            <p:nvPr/>
          </p:nvSpPr>
          <p:spPr>
            <a:xfrm>
              <a:off x="609480" y="1143000"/>
              <a:ext cx="7408800" cy="4495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47"/>
          <p:cNvSpPr/>
          <p:nvPr/>
        </p:nvSpPr>
        <p:spPr>
          <a:xfrm>
            <a:off x="304920" y="6019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erde los supuestos considerado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85800" y="457200"/>
            <a:ext cx="7086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O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binación que requiere el menor volum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r el 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rmentador bajo sus condiciones óptimas, 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2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rmentador hasta alcanzar los niveles de conversión desead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590920" y="2666880"/>
                <a:ext cx="3348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óptim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tiene un microorganismo que sigue una cinética del tipo Monod, con los siguiente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7 hr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g/l    Y 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flujo de alimentación es de 500 l/hr con 85 g/l de sustrato, la concentración de sustrato y biomasa a la salida debe ser de 5 g/l y 52 g/l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utilizan 2 fermentadores continuos perfectamente agitados en serie,¿Qué tamaño debe tener cada uno de los fermentadores, si se utiliza la configuración ópti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19"/>
          <p:cNvGrpSpPr/>
          <p:nvPr/>
        </p:nvGrpSpPr>
        <p:grpSpPr>
          <a:xfrm>
            <a:off x="914400" y="4394160"/>
            <a:ext cx="7421040" cy="2463840"/>
            <a:chOff x="914400" y="4394160"/>
            <a:chExt cx="7421040" cy="2463840"/>
          </a:xfrm>
        </p:grpSpPr>
        <p:grpSp>
          <p:nvGrpSpPr>
            <p:cNvPr id="303" name="Group 4"/>
            <p:cNvGrpSpPr/>
            <p:nvPr/>
          </p:nvGrpSpPr>
          <p:grpSpPr>
            <a:xfrm>
              <a:off x="3124080" y="4394160"/>
              <a:ext cx="5211360" cy="2463840"/>
              <a:chOff x="3124080" y="4394160"/>
              <a:chExt cx="5211360" cy="2463840"/>
            </a:xfrm>
          </p:grpSpPr>
          <p:sp>
            <p:nvSpPr>
              <p:cNvPr id="304" name="Line 5"/>
              <p:cNvSpPr/>
              <p:nvPr/>
            </p:nvSpPr>
            <p:spPr>
              <a:xfrm>
                <a:off x="4312440" y="4846320"/>
                <a:ext cx="191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6"/>
              <p:cNvSpPr/>
              <p:nvPr/>
            </p:nvSpPr>
            <p:spPr>
              <a:xfrm>
                <a:off x="6781320" y="640080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7"/>
              <p:cNvSpPr/>
              <p:nvPr/>
            </p:nvSpPr>
            <p:spPr>
              <a:xfrm>
                <a:off x="6964200" y="6583680"/>
                <a:ext cx="13712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X2 = 52 g/l, s2=5 g/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8"/>
              <p:cNvSpPr/>
              <p:nvPr/>
            </p:nvSpPr>
            <p:spPr>
              <a:xfrm>
                <a:off x="3306600" y="5212080"/>
                <a:ext cx="118836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Group 9"/>
              <p:cNvGrpSpPr/>
              <p:nvPr/>
            </p:nvGrpSpPr>
            <p:grpSpPr>
              <a:xfrm>
                <a:off x="3124080" y="4394160"/>
                <a:ext cx="1828440" cy="1640880"/>
                <a:chOff x="3124080" y="4394160"/>
                <a:chExt cx="1828440" cy="1640880"/>
              </a:xfrm>
            </p:grpSpPr>
            <p:sp>
              <p:nvSpPr>
                <p:cNvPr id="309" name="Line 10"/>
                <p:cNvSpPr/>
                <p:nvPr/>
              </p:nvSpPr>
              <p:spPr>
                <a:xfrm flipV="1">
                  <a:off x="4312440" y="4846320"/>
                  <a:ext cx="0" cy="3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Text Box 11"/>
                <p:cNvSpPr/>
                <p:nvPr/>
              </p:nvSpPr>
              <p:spPr>
                <a:xfrm>
                  <a:off x="3124080" y="4485600"/>
                  <a:ext cx="1828440" cy="27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F = 500l/h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s-E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= 85 g/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12"/>
                <p:cNvSpPr/>
                <p:nvPr/>
              </p:nvSpPr>
              <p:spPr>
                <a:xfrm>
                  <a:off x="3946680" y="4394160"/>
                  <a:ext cx="0" cy="82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Text Box 13"/>
                <p:cNvSpPr/>
                <p:nvPr/>
              </p:nvSpPr>
              <p:spPr>
                <a:xfrm>
                  <a:off x="3489480" y="5486400"/>
                  <a:ext cx="914040" cy="54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s-E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= ??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Rectangle 14"/>
              <p:cNvSpPr/>
              <p:nvPr/>
            </p:nvSpPr>
            <p:spPr>
              <a:xfrm>
                <a:off x="5592600" y="5664240"/>
                <a:ext cx="118836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6232680" y="484632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Text Box 16"/>
              <p:cNvSpPr/>
              <p:nvPr/>
            </p:nvSpPr>
            <p:spPr>
              <a:xfrm>
                <a:off x="5775480" y="5852160"/>
                <a:ext cx="914040" cy="54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= ?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 Box 17"/>
              <p:cNvSpPr/>
              <p:nvPr/>
            </p:nvSpPr>
            <p:spPr>
              <a:xfrm>
                <a:off x="5592600" y="4480560"/>
                <a:ext cx="13712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, x1, s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7" name="Object 18"/>
                <p:cNvSpPr txBox="1"/>
                <p:nvPr/>
              </p:nvSpPr>
              <p:spPr>
                <a:xfrm>
                  <a:off x="914400" y="5181480"/>
                  <a:ext cx="22096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óptim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élulas inmovilizadas: son las células físicamente confinadas o localizadas en una región definida del espacio con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retención de su actividad catalític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y, si es posible o necesario de su viabilidad, pudiéndose usar en forma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repetitiva o continu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so: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Producción de vinagre por el proceso Shutzenbach (18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ratamiento de efluente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(biofiltros y lodos activ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ultivo de células mamí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de 2 fermentadores FPA es utilizado para la producción de un metabolito secundario. El volumen del primer reactor es de 0.5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está siendo operado de tal modo que en el prime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dor sólo se produce el crecimiento de biomasa y  el segundo  es utilizado para la síntesis del producto. La concentración de sustrato en la alimentación es de 1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s parámetros cinéticos y de recupera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 kg/k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2 h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025 kg/kg 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6 kg/kg h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85 kg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umiendo que la síntesis de producto es despreciable en el primer fermentador y que el crecimiento bacteriano es despreciable en el segundo reactor.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85800" y="304920"/>
            <a:ext cx="76201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olumen del segundo fermentador si se desea una conversión global de sustrato superior al 9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ción de producto a la salida del segundo fermen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se supone que en el 1 fermentador se consume el 40% del sustrato se cumpl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.78 g/l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6 g/l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= 0.051 m</a:t>
            </a:r>
            <a:r>
              <a:rPr b="0" lang="es-C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2209680" y="3124080"/>
            <a:ext cx="5211360" cy="2463840"/>
            <a:chOff x="2209680" y="3124080"/>
            <a:chExt cx="5211360" cy="2463840"/>
          </a:xfrm>
        </p:grpSpPr>
        <p:sp>
          <p:nvSpPr>
            <p:cNvPr id="322" name="Line 4"/>
            <p:cNvSpPr/>
            <p:nvPr/>
          </p:nvSpPr>
          <p:spPr>
            <a:xfrm>
              <a:off x="3398040" y="3576240"/>
              <a:ext cx="191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5"/>
            <p:cNvSpPr/>
            <p:nvPr/>
          </p:nvSpPr>
          <p:spPr>
            <a:xfrm>
              <a:off x="5866920" y="513072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6049800" y="531360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alida F, x2, 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2392200" y="394200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2209680" y="3124080"/>
              <a:ext cx="1828440" cy="1640880"/>
              <a:chOff x="2209680" y="3124080"/>
              <a:chExt cx="1828440" cy="1640880"/>
            </a:xfrm>
          </p:grpSpPr>
          <p:sp>
            <p:nvSpPr>
              <p:cNvPr id="327" name="Line 9"/>
              <p:cNvSpPr/>
              <p:nvPr/>
            </p:nvSpPr>
            <p:spPr>
              <a:xfrm flipV="1">
                <a:off x="3398040" y="357624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10"/>
              <p:cNvSpPr/>
              <p:nvPr/>
            </p:nvSpPr>
            <p:spPr>
              <a:xfrm>
                <a:off x="2209680" y="3215520"/>
                <a:ext cx="18284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limentación Fresca, F, s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1"/>
              <p:cNvSpPr/>
              <p:nvPr/>
            </p:nvSpPr>
            <p:spPr>
              <a:xfrm>
                <a:off x="3032280" y="312408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2"/>
              <p:cNvSpPr/>
              <p:nvPr/>
            </p:nvSpPr>
            <p:spPr>
              <a:xfrm>
                <a:off x="2575080" y="4216320"/>
                <a:ext cx="914040" cy="54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Sólo crecimiento  de Bioma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Rectangle 13"/>
            <p:cNvSpPr/>
            <p:nvPr/>
          </p:nvSpPr>
          <p:spPr>
            <a:xfrm>
              <a:off x="4678200" y="439416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4"/>
            <p:cNvSpPr/>
            <p:nvPr/>
          </p:nvSpPr>
          <p:spPr>
            <a:xfrm>
              <a:off x="5318280" y="357624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861080" y="4582080"/>
              <a:ext cx="914040" cy="54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ólo Formación de Produ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4678200" y="321048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F, x1, 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omparación entre comportamiento teórico v/s comportamiento real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Comic Sans MS"/>
              </a:rPr>
              <a:t>Dependiendo de cual es el nutriente limitante se pueden producir diferentes desvia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mic Sans MS"/>
              </a:rPr>
              <a:t>Carbon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mic Sans MS"/>
              </a:rPr>
              <a:t>Nitrógeno y sulfat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mic Sans MS"/>
              </a:rPr>
              <a:t>Potasio, magnesio y fosfat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mic Sans MS"/>
              </a:rPr>
              <a:t>Medios complejos o indefi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bono limitant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57200" y="114300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 tasa de di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tasa de dilución inferiores al 25% de la tasa de dilución crítica (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lt; 0.25 * Dc = D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odo el carbono se utiliza en crecimiento, hay una parte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-10%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utiliza en mantención. Esto implica que el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rmino de mantención n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be depreci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5638680" y="1143000"/>
          <a:ext cx="32767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5"/>
          <p:cNvSpPr/>
          <p:nvPr/>
        </p:nvSpPr>
        <p:spPr>
          <a:xfrm>
            <a:off x="5791320" y="472428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63244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57200" y="4570560"/>
            <a:ext cx="49528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a tasa de di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otros metabolitos intermedios (acetato, piruvato, etanol, etc.)  debido a la gran cantidad de carbono disponible, esto hace que se produzca una acumulación de ellos, pero no todo es crecimiento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6019920" y="1371600"/>
            <a:ext cx="76176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7772400" y="1523880"/>
            <a:ext cx="7621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trógeno y sulfato limitant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533520" y="1916280"/>
            <a:ext cx="464796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tasa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una acumulación de carbohidratos y lípidos que no se utilizan por carencia de N y S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provoca un aumento en el tamaño de las células y se genera un incremento aparente del yie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hay un aumento del número de células o de las proteínas en la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5410080" y="1600200"/>
          <a:ext cx="37339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00200"/>
                    <a:ext cx="3733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Text Box 5"/>
          <p:cNvSpPr/>
          <p:nvPr/>
        </p:nvSpPr>
        <p:spPr>
          <a:xfrm>
            <a:off x="5562720" y="525312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5791320" y="2209680"/>
            <a:ext cx="76176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otasio, magnesio y fosfato limitan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80880" y="1825560"/>
            <a:ext cx="510552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tasa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rtamiento análogo al caso anterior, las células bajo condiciones de limitación de nutrientes utilizan sólo la cantidad estrictamente necesaria para su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n directamente asociados al contenido de ácidos nucleicos. Las células que crecen a una baja velocidad necesitan menos RNA que las que crecen a una alta velocidad de crecimient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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 lo cual se tienen má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638680" y="1676520"/>
          <a:ext cx="32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32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0" y="260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6248520" y="50292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6019920" y="2438280"/>
            <a:ext cx="76176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dios complejos o indefin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4724280" y="2133720"/>
          <a:ext cx="422928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422928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4"/>
          <p:cNvSpPr/>
          <p:nvPr/>
        </p:nvSpPr>
        <p:spPr>
          <a:xfrm>
            <a:off x="304920" y="22096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tiene claro cual es el nutriente limitante, según el crecimiento de los micoorganismos se producen cambios en sus neces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5181480" y="541008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blemas en cultivo continu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aminación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0880" y="114300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de los principales falencias asociadas al cultivo continuo es la contaminación que aumenta su probabilidad con el tiem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posible diseñar procesos que minimicen la contaminación al máximo posible,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Trabajando a temperaturas extr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pH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entes de alimentación inusuales (hidrocarburos, etan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Medios mínimos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7200" y="4724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producir tre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 el contaminante crezca más lento que el m.o. d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Que el contaminante crezca más rápido que el m.o.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Sistema mi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(cont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e pueden alcanzar elevadas concentraciones celulares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Altas productividades por unidad de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e pueden eliminar las etapas de separación desde el medio líquido después de la fermentación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Reducción de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ermite trabajar a velocidad de dilución mayores que la velocidad critica (Dc). ¿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4572000" y="2133720"/>
          <a:ext cx="430524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43052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3"/>
          <p:cNvSpPr/>
          <p:nvPr/>
        </p:nvSpPr>
        <p:spPr>
          <a:xfrm>
            <a:off x="914400" y="22860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trabajar a una cualquier concentración de sustrato, inferior a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contaminante crece más lento que el m.o. de interés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7315200" y="320040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7086600" y="4724280"/>
            <a:ext cx="73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7"/>
          <p:cNvSpPr/>
          <p:nvPr/>
        </p:nvSpPr>
        <p:spPr>
          <a:xfrm flipV="1">
            <a:off x="7315200" y="449532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029200" y="54100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Y: conta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5638680" y="2666880"/>
            <a:ext cx="1676520" cy="1981440"/>
          </a:xfrm>
          <a:prstGeom prst="ellipse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914400" y="228600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eliminar el conta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se puede traba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taminante crece más rápido que el m.o.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7315200" y="274320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334120" y="5638680"/>
            <a:ext cx="3124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: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7"/>
          <p:cNvGraphicFramePr/>
          <p:nvPr/>
        </p:nvGraphicFramePr>
        <p:xfrm>
          <a:off x="4648320" y="1981080"/>
          <a:ext cx="375264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7526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Sistema mi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228600" y="1752480"/>
            <a:ext cx="44956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 de la velocidad de dilución a la que se este trabaj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ultivo batch cualquier m.o que tenga los nutrientes necesarios será capaz de crecer y acumularse, pero en continuo 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es dependiendo de la tasa de di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Object 4"/>
          <p:cNvGraphicFramePr/>
          <p:nvPr/>
        </p:nvGraphicFramePr>
        <p:xfrm>
          <a:off x="4800600" y="1523880"/>
          <a:ext cx="4086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4086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 Box 5"/>
          <p:cNvSpPr/>
          <p:nvPr/>
        </p:nvSpPr>
        <p:spPr>
          <a:xfrm>
            <a:off x="6019920" y="50292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W: conta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6"/>
          <p:cNvGrpSpPr/>
          <p:nvPr/>
        </p:nvGrpSpPr>
        <p:grpSpPr>
          <a:xfrm>
            <a:off x="2209680" y="2666880"/>
            <a:ext cx="4343400" cy="2730600"/>
            <a:chOff x="2209680" y="2666880"/>
            <a:chExt cx="4343400" cy="2730600"/>
          </a:xfrm>
        </p:grpSpPr>
        <p:sp>
          <p:nvSpPr>
            <p:cNvPr id="392" name="Oval 7"/>
            <p:cNvSpPr/>
            <p:nvPr/>
          </p:nvSpPr>
          <p:spPr>
            <a:xfrm>
              <a:off x="5105520" y="2666880"/>
              <a:ext cx="1447560" cy="1524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8"/>
            <p:cNvSpPr/>
            <p:nvPr/>
          </p:nvSpPr>
          <p:spPr>
            <a:xfrm>
              <a:off x="2209680" y="5029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Times New Roman"/>
                </a:rPr>
                <a:t>Zona en que conviene trabaj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4648320" y="4038480"/>
              <a:ext cx="6858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utaciones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84360" y="105264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lica de DNA es un proceso complejo y de alta preci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error en 10</a:t>
            </a:r>
            <a:r>
              <a:rPr b="1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licaciones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i en un cultivo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élulas/ 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cultivos continuos son larg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llegar a tener un número significativo de células mutadas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estas mutaciones no son dañinas, dado que puede no alterar el crecimiento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 el mutante aprovecha mejor el sustrato que el m.o original, puede producirse la eliminación del m.o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s mutaciones más complejas son cuando se producen pérdidas de plasmidios.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oportes utilizados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la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moviliz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ión de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él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066680"/>
          <a:ext cx="8305560" cy="4867560"/>
        </p:xfrm>
        <a:graphic>
          <a:graphicData uri="http://schemas.openxmlformats.org/drawingml/2006/table">
            <a:tbl>
              <a:tblPr/>
              <a:tblGrid>
                <a:gridCol w="2209680"/>
                <a:gridCol w="2666880"/>
                <a:gridCol w="34290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organ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p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.ac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obacter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ta de Mad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n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 cereviasi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o de cal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óg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baena cilind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rio Poro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uerpos monoclo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id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o polilis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tam aguas residu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ivo mix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rac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Métodos de Inmovilización de Célu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1295280"/>
          <a:ext cx="8229600" cy="504216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sorción superfi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rio, virutas de madera, resinas de intercambio, celulosas, sílica activ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herencia de las células a la </a:t>
                      </a: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perficie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l soporte inert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permanente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vas y activas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herencia débi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que está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imitad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r el área del sopor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ser natural o induc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greg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 unen entre si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in la participación de un soporte sólido, formando agregados celula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ser natural o induc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Métodos de Inmovilización de Célu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066680"/>
          <a:ext cx="8229600" cy="581508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namiento mediante barr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ción de las células por medio de una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rrera semipermeable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que permite el paso selectivo de los nutrientes y productos de metabolismos celula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encapsulación, emulsificación, membranas de microfiltración, ultrafiltración y diali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rapamiento en matriz poro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ámicas, carbón activado,  vidrio poroso, agar, alginato de cal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son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rapadas en una matriz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rosa, polimérica que las retiene. En dichas matrices tanto los nutrientes como los productos pueden atravesarl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10-06-03T00:17:51Z</dcterms:modified>
  <cp:revision>66</cp:revision>
  <dc:subject/>
  <dc:title>Cultivo Continuo</dc:title>
</cp:coreProperties>
</file>