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056-40B9-4FB6-9D98-502660B4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A14-3630-4780-8A35-2D0D8797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D8A-6EEF-4EFE-A73A-C593F8E8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589-26C7-49B6-B4DF-D682E9BB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210-0E89-472F-9608-2D9C77F4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0A3-EBEC-4159-8C0A-A1A0861E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260-729D-4CFE-BA9A-29A0A6E2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D32-657F-498A-B30F-DCAA7F0F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26D-2547-407D-9A9B-C2BE9058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EBF-48B7-4B67-99DD-DBDE869D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0C3-96A3-4A4F-AC95-26D3BFB8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53B-DA51-421E-B623-D0F6DBB8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D726-D3B5-46EB-8B86-768E9E7DF9B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La Mecánica del Proyecto de Ingenier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ller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geniería Civil en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Q-FCFM U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ristián Araya Lob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toño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¿ Cómo se vigila que el proyecto va O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2800" y="196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Cliente tiene su propio staff de disciplinas (CONTRAPAR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uniones de Coordinación y/o de avance (semanales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misión de Informes de Avance y Asignación de Avance según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trol de avance según Curva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robación de Avance y Estado de P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¿ Cuál es el proceso de Emisión de los Document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visión A: Docto circula por diversas disciplinas quienes hacen observ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visión B: Se acogen-descartan obs, y se emite para comentarios del Cliente (o Control de Calidad, en cuyo caso se emite en C para el Clie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visión 0: Emitido para Construcción o para Informe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visión 1: Cuando surgen camb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Construcción y Puesta en March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idar que la construcción va de acuerdo con lo solici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ibir equipos-materiales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stalar equipos con apoyo de provee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uebas en vac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uebas con inerte, agua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érmino Mecá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uesta en Marcha – RAMP UP hasta Régi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ega al Cliente (Premios-Mult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¿ Cómo se Termina el Proyec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ega y Aceptación de Documentos Pactados del Proyecto (Deliverables: planos, criterios, especificaciones, evalu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probación de Estados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misión y Aprobación de Informe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epción final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llave en mano- Turn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probación de Pruebas de Rendimiento Devolución de boletas de garant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mios a los No Participant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Tipos de Proyecto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1360" y="1530360"/>
            <a:ext cx="752796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nejo Administ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P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gineering/Procurement/Construction/Manag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gineering/Procurement/Constru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nejo de los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ma Al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astos Reembols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gún se requi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lave en mano (Planta andando y operando al 10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sta donde se defina en acuerdo con el Cli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Calidades de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geniería de Prefactibilidad (25-30% preci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geniería de Factibilidad (15-20% preci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Times New Roman"/>
              </a:rPr>
              <a:t>Su objetivo es EVALUAR SI CONVIENE O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geniería Básica (10% preci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geniería de Detalles (5% apro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Times New Roman"/>
              </a:rPr>
              <a:t>Su objetivo es CONCRETA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Etapa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3200" y="153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icitación e Invitación a Empresas de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paración y Presentación de Propue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signación a Mejor Oferta Técnico Econó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icio (Kick-Off) / Boletas de Garant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zación (física-administrativa-téc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es de Avance de Ingeniería-Estados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udios HAZ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e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strucción-Comisionamiento-Puesta en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uebas de Ren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Organización del Proyec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erencia de Proyecto (Administrativo/técnico/económ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erencia de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ciplinas de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rol de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structibilidad/Seguridad/Riesgos/Normas/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poyo CAD (3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porte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545000" y="2570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Disciplinas de Ingenier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c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ñer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éc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stru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str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Estructura de la Discipl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efe de Disciplina (+15): Define proceso, materiales, calidades, control administr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geniero A (10): hace balances de masa, genera planos, revisa doc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geniero B (5-10): detalles, interferencias, control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geniero C (-5): a veces es Proyect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bujante o Proyect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Documen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riterios de 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iagramas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iagramas de Instrumentación y Cañerías P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lanos (mecánicos, civiles, arquitectu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iagramas Unilineale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pecificaciones Téc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quis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tiz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rdenes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imes New Roman"/>
              </a:rPr>
              <a:t>¿ Cómo se maneja el tiempo?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imación de HH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signación de Tareas en el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gra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rol de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ojas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obran HH, es gan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faltan HH, es pér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r qué faltan hor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2T23:48:26Z</dcterms:created>
  <dc:creator>Ignacio Badilla</dc:creator>
  <dc:description/>
  <dc:language>en-US</dc:language>
  <cp:lastModifiedBy>marilen</cp:lastModifiedBy>
  <dcterms:modified xsi:type="dcterms:W3CDTF">2010-05-06T20:43:29Z</dcterms:modified>
  <cp:revision>31</cp:revision>
  <dc:subject/>
  <dc:title>Administración y Gestión de Proyectos</dc:title>
</cp:coreProperties>
</file>