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2.wmf" ContentType="image/x-wmf"/>
  <Override PartName="/ppt/media/image20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39D-B9F9-4EF0-BCD9-33D42D7F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74C-FE09-4FE5-8DCB-13B228F6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EF6-1138-454F-AF2B-40C45F84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3C5-6413-4FB3-8FAA-A71E0E73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7F04-79EA-4806-982F-351AB0A2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B438-242B-4FFE-9795-84557113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565-B640-42C4-939F-E2A1BE64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5C04-6C8E-42CF-BC8C-EC6C7CFD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C468-D3E9-4861-90C8-01B70D62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F3C7-44D8-46C5-9B1F-0DD32D1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5FA-BB72-40AD-9237-645DE98F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9E1-5A73-4856-9AC9-8A650095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C359-F662-4C1D-A799-B44FF9E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F8AA-C49D-41FC-B4E4-0F08027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694-0A54-48CB-9DA7-4E05854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0A8C-4AE7-4AA5-85E7-967C2880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DBD8-09AD-4E69-9473-E315AB2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41C-45F4-4D60-937E-C47672A2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798-E84B-4088-B8EA-96ED35EA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647-31BB-47BD-8337-8D5FAC3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05F-5CDF-403C-B662-F8339CA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DE7-3B64-48A7-A531-AAC1324B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ABB-DE8C-495D-99D9-F34C485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2217-F2FF-4B5D-AD6B-AB42711B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BDB0-6E8A-4BEE-A4CE-8675FEB5FEF8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A5D-12DC-4832-A8D2-3E61C48B31CB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8.jpe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5249"/>
                </a:solidFill>
                <a:latin typeface="Times New Roman"/>
              </a:rPr>
              <a:t>Manejo de Residuos en la Industria Minera – MI71D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Jacques Wiertz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1640" y="5791320"/>
            <a:ext cx="47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epartamento de Ingeniería de Min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5734080"/>
          <a:ext cx="67788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734080"/>
                    <a:ext cx="677880" cy="89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cec8ba"/>
                    </a:outerShdw>
                  </a:effectLst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5589720"/>
            <a:ext cx="28195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ntregar herramientas que permitan desarrollar habilidades par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dentific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tipos de residuos asociados a los procesos mineros y metalúrgicos;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uantificar y caracteriz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residuos en función de las características de los procesos generadores y del tipo de mineral tratad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Evaluar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posibles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impactos ambiental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asociados a los distintos tipos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5b5249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Entender el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marco regulatori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vigente en el manejo de residuo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plicar </a:t>
            </a:r>
            <a:r>
              <a:rPr b="0" lang="es-ES" sz="2800" spc="-1" strike="noStrike">
                <a:solidFill>
                  <a:srgbClr val="f53829"/>
                </a:solidFill>
                <a:latin typeface="Times New Roman"/>
              </a:rPr>
              <a:t>herramientas de gest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de residuo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sentaciones de los distintos temas con apoyo audiovisu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unto clave: todos  participan; todos aprenden de tod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s individuales, búsqueda de información y ejercicios de aplic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930400"/>
            <a:ext cx="2438280" cy="19814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1240" y="1406520"/>
            <a:ext cx="1406160" cy="520560"/>
          </a:xfrm>
          <a:prstGeom prst="rect">
            <a:avLst/>
          </a:prstGeom>
          <a:solidFill>
            <a:srgbClr val="c9ddf1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idu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V="1">
            <a:off x="4647960" y="1939320"/>
            <a:ext cx="1080" cy="991080"/>
          </a:xfrm>
          <a:prstGeom prst="bentConnector2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</p:cxnSp>
      <p:grpSp>
        <p:nvGrpSpPr>
          <p:cNvPr id="125" name=""/>
          <p:cNvGrpSpPr/>
          <p:nvPr/>
        </p:nvGrpSpPr>
        <p:grpSpPr>
          <a:xfrm>
            <a:off x="3429000" y="4911480"/>
            <a:ext cx="2498760" cy="1557000"/>
            <a:chOff x="3429000" y="4911480"/>
            <a:chExt cx="2498760" cy="1557000"/>
          </a:xfrm>
        </p:grpSpPr>
        <p:sp>
          <p:nvSpPr>
            <p:cNvPr id="126" name=""/>
            <p:cNvSpPr/>
            <p:nvPr/>
          </p:nvSpPr>
          <p:spPr>
            <a:xfrm>
              <a:off x="3429000" y="5521320"/>
              <a:ext cx="2498760" cy="947160"/>
            </a:xfrm>
            <a:prstGeom prst="rect">
              <a:avLst/>
            </a:prstGeom>
            <a:solidFill>
              <a:srgbClr val="c9ddf1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Desarrollo sustentabl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/>
            <p:nvPr/>
          </p:nvCxnSpPr>
          <p:spPr>
            <a:xfrm rot="5400000">
              <a:off x="4343760" y="5215680"/>
              <a:ext cx="61020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921600" y="2320920"/>
            <a:ext cx="7770960" cy="1599840"/>
            <a:chOff x="921600" y="2320920"/>
            <a:chExt cx="7770960" cy="1599840"/>
          </a:xfrm>
        </p:grpSpPr>
        <p:sp>
          <p:nvSpPr>
            <p:cNvPr id="129" name=""/>
            <p:cNvSpPr/>
            <p:nvPr/>
          </p:nvSpPr>
          <p:spPr>
            <a:xfrm>
              <a:off x="921600" y="2320920"/>
              <a:ext cx="23554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nte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8680" y="2320920"/>
              <a:ext cx="2513880" cy="5205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Contaminación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2" idx="6"/>
              <a:endCxn id="130" idx="2"/>
            </p:cNvCxnSpPr>
            <p:nvPr/>
          </p:nvCxnSpPr>
          <p:spPr>
            <a:xfrm flipV="1">
              <a:off x="5866920" y="2848680"/>
              <a:ext cx="156924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2"/>
              <a:endCxn id="129" idx="2"/>
            </p:cNvCxnSpPr>
            <p:nvPr/>
          </p:nvCxnSpPr>
          <p:spPr>
            <a:xfrm rot="10800000">
              <a:off x="2099520" y="2848680"/>
              <a:ext cx="1329480" cy="1072440"/>
            </a:xfrm>
            <a:prstGeom prst="curvedConnector2">
              <a:avLst/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808200" y="3997440"/>
            <a:ext cx="7799040" cy="1336680"/>
            <a:chOff x="808200" y="3997440"/>
            <a:chExt cx="7799040" cy="1336680"/>
          </a:xfrm>
        </p:grpSpPr>
        <p:sp>
          <p:nvSpPr>
            <p:cNvPr id="134" name=""/>
            <p:cNvSpPr/>
            <p:nvPr/>
          </p:nvSpPr>
          <p:spPr>
            <a:xfrm>
              <a:off x="808200" y="414972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Aspe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4080" y="3997440"/>
              <a:ext cx="1703160" cy="94716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Impacto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s-ES" sz="2800" spc="-1" strike="noStrike">
                  <a:solidFill>
                    <a:srgbClr val="5b5249"/>
                  </a:solidFill>
                  <a:latin typeface="Times New Roman"/>
                </a:rPr>
                <a:t>mbiental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2" idx="5"/>
              <a:endCxn id="135" idx="1"/>
            </p:cNvCxnSpPr>
            <p:nvPr/>
          </p:nvCxnSpPr>
          <p:spPr>
            <a:xfrm flipH="1" flipV="1" rot="5400000">
              <a:off x="6130440" y="3854160"/>
              <a:ext cx="146880" cy="1388160"/>
            </a:xfrm>
            <a:prstGeom prst="curvedConnector5">
              <a:avLst>
                <a:gd name="adj1" fmla="val -355282"/>
                <a:gd name="adj2" fmla="val 31439"/>
                <a:gd name="adj3" fmla="val -355282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2" idx="3"/>
              <a:endCxn id="134" idx="2"/>
            </p:cNvCxnSpPr>
            <p:nvPr/>
          </p:nvCxnSpPr>
          <p:spPr>
            <a:xfrm rot="5400000">
              <a:off x="2480760" y="3800520"/>
              <a:ext cx="484920" cy="2126160"/>
            </a:xfrm>
            <a:prstGeom prst="curvedConnector5">
              <a:avLst>
                <a:gd name="adj1" fmla="val 147176"/>
                <a:gd name="adj2" fmla="val 49991"/>
                <a:gd name="adj3" fmla="val 147176"/>
              </a:avLst>
            </a:prstGeom>
            <a:ln w="28440">
              <a:solidFill>
                <a:srgbClr val="5b5249"/>
              </a:solidFill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3687840" y="3449520"/>
            <a:ext cx="189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¿Qué es un residuo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l latín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iduus: que queda, que res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Parte o porción que queda de un todo después de quitar otra par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Materia inservible que resulta de la descomposición o destrucción de un cosa: </a:t>
            </a:r>
            <a:r>
              <a:rPr b="0" i="1" lang="es-ES" sz="2400" spc="-1" strike="noStrike">
                <a:solidFill>
                  <a:srgbClr val="5b5249"/>
                </a:solidFill>
                <a:latin typeface="Times New Roman"/>
              </a:rPr>
              <a:t>residuos nucleares, residuos radioactiv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Sinónim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Resto, remanente, sobra, detri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598760" indent="-457200">
              <a:spcBef>
                <a:spcPts val="601"/>
              </a:spcBef>
              <a:buClr>
                <a:srgbClr val="6666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Basura, desperdicios, desechos, despoj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sidu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48392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El residuo se define también desde un punto de vista económico como algo que </a:t>
            </a:r>
            <a:r>
              <a:rPr b="1" i="1" lang="es-ES" sz="3200" spc="-1" strike="noStrike">
                <a:solidFill>
                  <a:srgbClr val="f53829"/>
                </a:solidFill>
                <a:latin typeface="Times New Roman"/>
              </a:rPr>
              <a:t>no tiene un valor económic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; es algo que no puede ser capitalizad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uede incluso tener un valor negativo (costo de disposi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Sin embargo, podría tener un valor para otros actores o en otros momen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tamin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nte: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todo elemento, compuesto, sustancia, derivado químico o biológico, energía, radiación, vibración, ruido, o una combinación de ellos, cuya presencia en el ambiente, en ciertos niveles, concentraciones o períodos de tiempo, pueda constituir u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riesgo a la salud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s personas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calidad de vid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de la población,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a la preservación de la naturaleza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a la conservación del patrimonio ambiental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ntaminación: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presencia en el ambiente de sustancias, elementos, energía o combinación de ellos, en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concentracion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concentraciones y permanenci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superiores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o inferiores, según corresponda, a las establecidas en la </a:t>
            </a:r>
            <a:r>
              <a:rPr b="1" lang="es-ES" sz="2400" spc="-1" strike="noStrike">
                <a:solidFill>
                  <a:srgbClr val="f53829"/>
                </a:solidFill>
                <a:latin typeface="Times New Roman"/>
              </a:rPr>
              <a:t>legislación vige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1360" y="938160"/>
            <a:ext cx="47242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/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 Ambiental:</a:t>
            </a: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emento de las actividades, productos o servicios de una organización que puede interactuar con el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Impacto Ambiental: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cualquier cambio en el ambiente, sea adverso o beneficioso, que es resultado total o parcial de las actividades, productos o servicios de una organiz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specto ambiental – Impacto ambiental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752480"/>
            <a:ext cx="8305920" cy="4886280"/>
            <a:chOff x="457200" y="1752480"/>
            <a:chExt cx="8305920" cy="4886280"/>
          </a:xfrm>
        </p:grpSpPr>
        <p:grpSp>
          <p:nvGrpSpPr>
            <p:cNvPr id="151" name=""/>
            <p:cNvGrpSpPr/>
            <p:nvPr/>
          </p:nvGrpSpPr>
          <p:grpSpPr>
            <a:xfrm>
              <a:off x="884160" y="3611520"/>
              <a:ext cx="1030320" cy="772920"/>
              <a:chOff x="884160" y="3611520"/>
              <a:chExt cx="1030320" cy="772920"/>
            </a:xfrm>
          </p:grpSpPr>
          <p:sp>
            <p:nvSpPr>
              <p:cNvPr id="152" name=""/>
              <p:cNvSpPr/>
              <p:nvPr/>
            </p:nvSpPr>
            <p:spPr>
              <a:xfrm>
                <a:off x="884160" y="3920760"/>
                <a:ext cx="1030320" cy="46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67240" y="3765960"/>
                <a:ext cx="146880" cy="15444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20000" y="3765960"/>
                <a:ext cx="146880" cy="154440"/>
              </a:xfrm>
              <a:prstGeom prst="rtTriangl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2760" y="3765960"/>
                <a:ext cx="146880" cy="154440"/>
              </a:xfrm>
              <a:prstGeom prst="rtTriangl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25520" y="3765960"/>
                <a:ext cx="146880" cy="154440"/>
              </a:xfrm>
              <a:prstGeom prst="rtTriangl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78280" y="3765960"/>
                <a:ext cx="146880" cy="154440"/>
              </a:xfrm>
              <a:prstGeom prst="rtTriangl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4160" y="3611520"/>
                <a:ext cx="146880" cy="3092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57200" y="4137120"/>
              <a:ext cx="398520" cy="50760"/>
            </a:xfrm>
            <a:custGeom>
              <a:avLst/>
              <a:gdLst/>
              <a:ahLst/>
              <a:rect l="l" t="t" r="r" b="b"/>
              <a:pathLst>
                <a:path w="390" h="48">
                  <a:moveTo>
                    <a:pt x="0" y="48"/>
                  </a:moveTo>
                  <a:cubicBezTo>
                    <a:pt x="145" y="0"/>
                    <a:pt x="236" y="33"/>
                    <a:pt x="390" y="33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4480" y="4075200"/>
              <a:ext cx="5996160" cy="112680"/>
            </a:xfrm>
            <a:custGeom>
              <a:avLst/>
              <a:gdLst/>
              <a:ahLst/>
              <a:rect l="l" t="t" r="r" b="b"/>
              <a:pathLst>
                <a:path w="5865" h="104">
                  <a:moveTo>
                    <a:pt x="0" y="60"/>
                  </a:moveTo>
                  <a:cubicBezTo>
                    <a:pt x="40" y="65"/>
                    <a:pt x="80" y="75"/>
                    <a:pt x="120" y="75"/>
                  </a:cubicBezTo>
                  <a:cubicBezTo>
                    <a:pt x="136" y="75"/>
                    <a:pt x="149" y="60"/>
                    <a:pt x="165" y="60"/>
                  </a:cubicBezTo>
                  <a:cubicBezTo>
                    <a:pt x="221" y="60"/>
                    <a:pt x="275" y="81"/>
                    <a:pt x="330" y="90"/>
                  </a:cubicBezTo>
                  <a:cubicBezTo>
                    <a:pt x="550" y="80"/>
                    <a:pt x="788" y="36"/>
                    <a:pt x="1005" y="90"/>
                  </a:cubicBezTo>
                  <a:cubicBezTo>
                    <a:pt x="1079" y="71"/>
                    <a:pt x="1155" y="60"/>
                    <a:pt x="1230" y="45"/>
                  </a:cubicBezTo>
                  <a:cubicBezTo>
                    <a:pt x="1250" y="35"/>
                    <a:pt x="1268" y="15"/>
                    <a:pt x="1290" y="15"/>
                  </a:cubicBezTo>
                  <a:cubicBezTo>
                    <a:pt x="1309" y="15"/>
                    <a:pt x="1405" y="65"/>
                    <a:pt x="1425" y="75"/>
                  </a:cubicBezTo>
                  <a:cubicBezTo>
                    <a:pt x="1555" y="70"/>
                    <a:pt x="1686" y="79"/>
                    <a:pt x="1815" y="60"/>
                  </a:cubicBezTo>
                  <a:cubicBezTo>
                    <a:pt x="1859" y="53"/>
                    <a:pt x="1935" y="0"/>
                    <a:pt x="1935" y="0"/>
                  </a:cubicBezTo>
                  <a:cubicBezTo>
                    <a:pt x="2065" y="13"/>
                    <a:pt x="2143" y="54"/>
                    <a:pt x="2265" y="60"/>
                  </a:cubicBezTo>
                  <a:cubicBezTo>
                    <a:pt x="2435" y="68"/>
                    <a:pt x="2605" y="70"/>
                    <a:pt x="2775" y="75"/>
                  </a:cubicBezTo>
                  <a:cubicBezTo>
                    <a:pt x="2958" y="88"/>
                    <a:pt x="3088" y="104"/>
                    <a:pt x="3270" y="90"/>
                  </a:cubicBezTo>
                  <a:cubicBezTo>
                    <a:pt x="3383" y="52"/>
                    <a:pt x="3222" y="99"/>
                    <a:pt x="3420" y="90"/>
                  </a:cubicBezTo>
                  <a:cubicBezTo>
                    <a:pt x="3501" y="86"/>
                    <a:pt x="3660" y="60"/>
                    <a:pt x="3660" y="60"/>
                  </a:cubicBezTo>
                  <a:cubicBezTo>
                    <a:pt x="3999" y="74"/>
                    <a:pt x="4345" y="33"/>
                    <a:pt x="4680" y="75"/>
                  </a:cubicBezTo>
                  <a:cubicBezTo>
                    <a:pt x="5325" y="49"/>
                    <a:pt x="4930" y="60"/>
                    <a:pt x="5865" y="6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325520" y="3456000"/>
              <a:ext cx="1030320" cy="774360"/>
              <a:chOff x="1325520" y="3456000"/>
              <a:chExt cx="1030320" cy="774360"/>
            </a:xfrm>
          </p:grpSpPr>
          <p:sp>
            <p:nvSpPr>
              <p:cNvPr id="162" name=""/>
              <p:cNvSpPr/>
              <p:nvPr/>
            </p:nvSpPr>
            <p:spPr>
              <a:xfrm>
                <a:off x="1325520" y="3765600"/>
                <a:ext cx="1030320" cy="464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8600" y="3610800"/>
                <a:ext cx="146880" cy="154800"/>
              </a:xfrm>
              <a:prstGeom prst="rtTriangl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1360" y="3610800"/>
                <a:ext cx="146880" cy="154800"/>
              </a:xfrm>
              <a:prstGeom prst="rtTriangl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14120" y="3610800"/>
                <a:ext cx="146880" cy="154800"/>
              </a:xfrm>
              <a:prstGeom prst="rtTriangl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66880" y="3610800"/>
                <a:ext cx="146880" cy="154800"/>
              </a:xfrm>
              <a:prstGeom prst="rtTriangl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19640" y="3610800"/>
                <a:ext cx="146880" cy="154800"/>
              </a:xfrm>
              <a:prstGeom prst="rtTriangl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25520" y="3456000"/>
                <a:ext cx="146880" cy="3096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770120" y="4424400"/>
              <a:ext cx="4172040" cy="966600"/>
            </a:xfrm>
            <a:custGeom>
              <a:avLst/>
              <a:gdLst/>
              <a:ahLst/>
              <a:rect l="l" t="t" r="r" b="b"/>
              <a:pathLst>
                <a:path w="4080" h="900">
                  <a:moveTo>
                    <a:pt x="0" y="0"/>
                  </a:moveTo>
                  <a:cubicBezTo>
                    <a:pt x="20" y="20"/>
                    <a:pt x="35" y="47"/>
                    <a:pt x="60" y="60"/>
                  </a:cubicBezTo>
                  <a:cubicBezTo>
                    <a:pt x="87" y="74"/>
                    <a:pt x="121" y="67"/>
                    <a:pt x="150" y="75"/>
                  </a:cubicBezTo>
                  <a:cubicBezTo>
                    <a:pt x="191" y="87"/>
                    <a:pt x="230" y="106"/>
                    <a:pt x="270" y="120"/>
                  </a:cubicBezTo>
                  <a:cubicBezTo>
                    <a:pt x="300" y="131"/>
                    <a:pt x="332" y="136"/>
                    <a:pt x="360" y="150"/>
                  </a:cubicBezTo>
                  <a:cubicBezTo>
                    <a:pt x="392" y="166"/>
                    <a:pt x="450" y="210"/>
                    <a:pt x="450" y="210"/>
                  </a:cubicBezTo>
                  <a:cubicBezTo>
                    <a:pt x="455" y="225"/>
                    <a:pt x="452" y="246"/>
                    <a:pt x="465" y="255"/>
                  </a:cubicBezTo>
                  <a:cubicBezTo>
                    <a:pt x="553" y="314"/>
                    <a:pt x="731" y="329"/>
                    <a:pt x="825" y="345"/>
                  </a:cubicBezTo>
                  <a:cubicBezTo>
                    <a:pt x="855" y="350"/>
                    <a:pt x="915" y="360"/>
                    <a:pt x="915" y="360"/>
                  </a:cubicBezTo>
                  <a:cubicBezTo>
                    <a:pt x="1154" y="450"/>
                    <a:pt x="1396" y="477"/>
                    <a:pt x="1650" y="495"/>
                  </a:cubicBezTo>
                  <a:cubicBezTo>
                    <a:pt x="1680" y="500"/>
                    <a:pt x="1711" y="500"/>
                    <a:pt x="1740" y="510"/>
                  </a:cubicBezTo>
                  <a:cubicBezTo>
                    <a:pt x="1797" y="529"/>
                    <a:pt x="1819" y="595"/>
                    <a:pt x="1875" y="615"/>
                  </a:cubicBezTo>
                  <a:cubicBezTo>
                    <a:pt x="1914" y="629"/>
                    <a:pt x="1955" y="637"/>
                    <a:pt x="1995" y="645"/>
                  </a:cubicBezTo>
                  <a:cubicBezTo>
                    <a:pt x="2345" y="715"/>
                    <a:pt x="2707" y="726"/>
                    <a:pt x="3060" y="780"/>
                  </a:cubicBezTo>
                  <a:cubicBezTo>
                    <a:pt x="3390" y="890"/>
                    <a:pt x="3734" y="900"/>
                    <a:pt x="4080" y="9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4040" y="4408560"/>
              <a:ext cx="4140360" cy="1192320"/>
            </a:xfrm>
            <a:custGeom>
              <a:avLst/>
              <a:gdLst/>
              <a:ahLst/>
              <a:rect l="l" t="t" r="r" b="b"/>
              <a:pathLst>
                <a:path w="4050" h="1110">
                  <a:moveTo>
                    <a:pt x="0" y="0"/>
                  </a:moveTo>
                  <a:cubicBezTo>
                    <a:pt x="20" y="30"/>
                    <a:pt x="26" y="79"/>
                    <a:pt x="60" y="90"/>
                  </a:cubicBezTo>
                  <a:cubicBezTo>
                    <a:pt x="239" y="150"/>
                    <a:pt x="149" y="125"/>
                    <a:pt x="330" y="165"/>
                  </a:cubicBezTo>
                  <a:cubicBezTo>
                    <a:pt x="375" y="299"/>
                    <a:pt x="483" y="353"/>
                    <a:pt x="615" y="375"/>
                  </a:cubicBezTo>
                  <a:cubicBezTo>
                    <a:pt x="703" y="507"/>
                    <a:pt x="903" y="426"/>
                    <a:pt x="1050" y="450"/>
                  </a:cubicBezTo>
                  <a:cubicBezTo>
                    <a:pt x="1065" y="480"/>
                    <a:pt x="1073" y="515"/>
                    <a:pt x="1095" y="540"/>
                  </a:cubicBezTo>
                  <a:cubicBezTo>
                    <a:pt x="1115" y="563"/>
                    <a:pt x="1187" y="579"/>
                    <a:pt x="1215" y="585"/>
                  </a:cubicBezTo>
                  <a:cubicBezTo>
                    <a:pt x="1349" y="612"/>
                    <a:pt x="1485" y="623"/>
                    <a:pt x="1620" y="645"/>
                  </a:cubicBezTo>
                  <a:cubicBezTo>
                    <a:pt x="1630" y="675"/>
                    <a:pt x="1622" y="721"/>
                    <a:pt x="1650" y="735"/>
                  </a:cubicBezTo>
                  <a:cubicBezTo>
                    <a:pt x="1704" y="762"/>
                    <a:pt x="1770" y="743"/>
                    <a:pt x="1830" y="750"/>
                  </a:cubicBezTo>
                  <a:cubicBezTo>
                    <a:pt x="1860" y="753"/>
                    <a:pt x="1890" y="761"/>
                    <a:pt x="1920" y="765"/>
                  </a:cubicBezTo>
                  <a:cubicBezTo>
                    <a:pt x="2160" y="795"/>
                    <a:pt x="2401" y="821"/>
                    <a:pt x="2640" y="855"/>
                  </a:cubicBezTo>
                  <a:cubicBezTo>
                    <a:pt x="2680" y="870"/>
                    <a:pt x="2721" y="882"/>
                    <a:pt x="2760" y="900"/>
                  </a:cubicBezTo>
                  <a:cubicBezTo>
                    <a:pt x="2776" y="907"/>
                    <a:pt x="2788" y="924"/>
                    <a:pt x="2805" y="930"/>
                  </a:cubicBezTo>
                  <a:cubicBezTo>
                    <a:pt x="2910" y="965"/>
                    <a:pt x="3025" y="953"/>
                    <a:pt x="3135" y="960"/>
                  </a:cubicBezTo>
                  <a:cubicBezTo>
                    <a:pt x="3275" y="1007"/>
                    <a:pt x="3068" y="930"/>
                    <a:pt x="3225" y="1020"/>
                  </a:cubicBezTo>
                  <a:cubicBezTo>
                    <a:pt x="3253" y="1036"/>
                    <a:pt x="3404" y="1050"/>
                    <a:pt x="3405" y="1050"/>
                  </a:cubicBezTo>
                  <a:cubicBezTo>
                    <a:pt x="3609" y="1073"/>
                    <a:pt x="3595" y="1067"/>
                    <a:pt x="3855" y="1080"/>
                  </a:cubicBezTo>
                  <a:cubicBezTo>
                    <a:pt x="3885" y="1085"/>
                    <a:pt x="3915" y="1088"/>
                    <a:pt x="3945" y="1095"/>
                  </a:cubicBezTo>
                  <a:cubicBezTo>
                    <a:pt x="3960" y="1098"/>
                    <a:pt x="3974" y="1110"/>
                    <a:pt x="3990" y="1110"/>
                  </a:cubicBezTo>
                  <a:cubicBezTo>
                    <a:pt x="4011" y="1110"/>
                    <a:pt x="4050" y="1095"/>
                    <a:pt x="4050" y="10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3800" y="4408560"/>
              <a:ext cx="4124520" cy="1352520"/>
            </a:xfrm>
            <a:custGeom>
              <a:avLst/>
              <a:gdLst/>
              <a:ahLst/>
              <a:rect l="l" t="t" r="r" b="b"/>
              <a:pathLst>
                <a:path w="4035" h="1259">
                  <a:moveTo>
                    <a:pt x="0" y="0"/>
                  </a:moveTo>
                  <a:cubicBezTo>
                    <a:pt x="35" y="105"/>
                    <a:pt x="64" y="189"/>
                    <a:pt x="180" y="225"/>
                  </a:cubicBezTo>
                  <a:cubicBezTo>
                    <a:pt x="214" y="235"/>
                    <a:pt x="250" y="235"/>
                    <a:pt x="285" y="240"/>
                  </a:cubicBezTo>
                  <a:cubicBezTo>
                    <a:pt x="344" y="329"/>
                    <a:pt x="414" y="410"/>
                    <a:pt x="510" y="465"/>
                  </a:cubicBezTo>
                  <a:cubicBezTo>
                    <a:pt x="536" y="480"/>
                    <a:pt x="570" y="475"/>
                    <a:pt x="600" y="480"/>
                  </a:cubicBezTo>
                  <a:cubicBezTo>
                    <a:pt x="649" y="513"/>
                    <a:pt x="699" y="526"/>
                    <a:pt x="750" y="555"/>
                  </a:cubicBezTo>
                  <a:cubicBezTo>
                    <a:pt x="831" y="602"/>
                    <a:pt x="757" y="572"/>
                    <a:pt x="840" y="600"/>
                  </a:cubicBezTo>
                  <a:cubicBezTo>
                    <a:pt x="959" y="689"/>
                    <a:pt x="1116" y="657"/>
                    <a:pt x="1260" y="675"/>
                  </a:cubicBezTo>
                  <a:cubicBezTo>
                    <a:pt x="1318" y="714"/>
                    <a:pt x="1379" y="705"/>
                    <a:pt x="1440" y="735"/>
                  </a:cubicBezTo>
                  <a:cubicBezTo>
                    <a:pt x="1489" y="759"/>
                    <a:pt x="1542" y="783"/>
                    <a:pt x="1590" y="810"/>
                  </a:cubicBezTo>
                  <a:cubicBezTo>
                    <a:pt x="1627" y="831"/>
                    <a:pt x="1654" y="871"/>
                    <a:pt x="1695" y="885"/>
                  </a:cubicBezTo>
                  <a:cubicBezTo>
                    <a:pt x="1800" y="920"/>
                    <a:pt x="1915" y="907"/>
                    <a:pt x="2025" y="915"/>
                  </a:cubicBezTo>
                  <a:cubicBezTo>
                    <a:pt x="2256" y="992"/>
                    <a:pt x="1982" y="906"/>
                    <a:pt x="2640" y="945"/>
                  </a:cubicBezTo>
                  <a:cubicBezTo>
                    <a:pt x="2766" y="953"/>
                    <a:pt x="2903" y="989"/>
                    <a:pt x="3030" y="1005"/>
                  </a:cubicBezTo>
                  <a:cubicBezTo>
                    <a:pt x="3035" y="1030"/>
                    <a:pt x="3039" y="1055"/>
                    <a:pt x="3045" y="1080"/>
                  </a:cubicBezTo>
                  <a:cubicBezTo>
                    <a:pt x="3049" y="1100"/>
                    <a:pt x="3042" y="1130"/>
                    <a:pt x="3060" y="1140"/>
                  </a:cubicBezTo>
                  <a:cubicBezTo>
                    <a:pt x="3095" y="1160"/>
                    <a:pt x="3140" y="1151"/>
                    <a:pt x="3180" y="1155"/>
                  </a:cubicBezTo>
                  <a:cubicBezTo>
                    <a:pt x="3250" y="1161"/>
                    <a:pt x="3320" y="1165"/>
                    <a:pt x="3390" y="1170"/>
                  </a:cubicBezTo>
                  <a:cubicBezTo>
                    <a:pt x="3569" y="1259"/>
                    <a:pt x="3693" y="1222"/>
                    <a:pt x="3930" y="1230"/>
                  </a:cubicBezTo>
                  <a:cubicBezTo>
                    <a:pt x="3994" y="1251"/>
                    <a:pt x="3959" y="1245"/>
                    <a:pt x="4035" y="124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6760" y="4205160"/>
              <a:ext cx="4892760" cy="193680"/>
            </a:xfrm>
            <a:custGeom>
              <a:avLst/>
              <a:gdLst/>
              <a:ahLst/>
              <a:rect l="l" t="t" r="r" b="b"/>
              <a:pathLst>
                <a:path w="4785" h="181">
                  <a:moveTo>
                    <a:pt x="0" y="9"/>
                  </a:moveTo>
                  <a:cubicBezTo>
                    <a:pt x="375" y="16"/>
                    <a:pt x="777" y="0"/>
                    <a:pt x="1155" y="54"/>
                  </a:cubicBezTo>
                  <a:cubicBezTo>
                    <a:pt x="1324" y="181"/>
                    <a:pt x="1561" y="121"/>
                    <a:pt x="1755" y="114"/>
                  </a:cubicBezTo>
                  <a:cubicBezTo>
                    <a:pt x="2030" y="68"/>
                    <a:pt x="1719" y="116"/>
                    <a:pt x="2355" y="84"/>
                  </a:cubicBezTo>
                  <a:cubicBezTo>
                    <a:pt x="2436" y="80"/>
                    <a:pt x="2515" y="62"/>
                    <a:pt x="2595" y="54"/>
                  </a:cubicBezTo>
                  <a:cubicBezTo>
                    <a:pt x="2805" y="1"/>
                    <a:pt x="3027" y="42"/>
                    <a:pt x="3240" y="69"/>
                  </a:cubicBezTo>
                  <a:cubicBezTo>
                    <a:pt x="3435" y="64"/>
                    <a:pt x="3630" y="54"/>
                    <a:pt x="3825" y="54"/>
                  </a:cubicBezTo>
                  <a:cubicBezTo>
                    <a:pt x="3880" y="54"/>
                    <a:pt x="3937" y="54"/>
                    <a:pt x="3990" y="69"/>
                  </a:cubicBezTo>
                  <a:cubicBezTo>
                    <a:pt x="4010" y="75"/>
                    <a:pt x="4016" y="105"/>
                    <a:pt x="4035" y="114"/>
                  </a:cubicBezTo>
                  <a:cubicBezTo>
                    <a:pt x="4063" y="126"/>
                    <a:pt x="4095" y="124"/>
                    <a:pt x="4125" y="129"/>
                  </a:cubicBezTo>
                  <a:cubicBezTo>
                    <a:pt x="4302" y="120"/>
                    <a:pt x="4475" y="134"/>
                    <a:pt x="4635" y="54"/>
                  </a:cubicBezTo>
                  <a:cubicBezTo>
                    <a:pt x="4760" y="85"/>
                    <a:pt x="4636" y="47"/>
                    <a:pt x="4740" y="99"/>
                  </a:cubicBezTo>
                  <a:cubicBezTo>
                    <a:pt x="4754" y="106"/>
                    <a:pt x="4785" y="114"/>
                    <a:pt x="4785" y="114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36760" y="4214880"/>
              <a:ext cx="4832280" cy="209520"/>
            </a:xfrm>
            <a:custGeom>
              <a:avLst/>
              <a:gdLst/>
              <a:ahLst/>
              <a:rect l="l" t="t" r="r" b="b"/>
              <a:pathLst>
                <a:path w="4725" h="195">
                  <a:moveTo>
                    <a:pt x="0" y="0"/>
                  </a:moveTo>
                  <a:cubicBezTo>
                    <a:pt x="236" y="34"/>
                    <a:pt x="440" y="37"/>
                    <a:pt x="690" y="45"/>
                  </a:cubicBezTo>
                  <a:cubicBezTo>
                    <a:pt x="751" y="136"/>
                    <a:pt x="788" y="136"/>
                    <a:pt x="900" y="150"/>
                  </a:cubicBezTo>
                  <a:cubicBezTo>
                    <a:pt x="1176" y="127"/>
                    <a:pt x="1449" y="150"/>
                    <a:pt x="1725" y="165"/>
                  </a:cubicBezTo>
                  <a:cubicBezTo>
                    <a:pt x="2125" y="125"/>
                    <a:pt x="1625" y="165"/>
                    <a:pt x="2025" y="165"/>
                  </a:cubicBezTo>
                  <a:cubicBezTo>
                    <a:pt x="2265" y="165"/>
                    <a:pt x="2815" y="144"/>
                    <a:pt x="3090" y="135"/>
                  </a:cubicBezTo>
                  <a:cubicBezTo>
                    <a:pt x="3355" y="140"/>
                    <a:pt x="3620" y="142"/>
                    <a:pt x="3885" y="150"/>
                  </a:cubicBezTo>
                  <a:cubicBezTo>
                    <a:pt x="4173" y="159"/>
                    <a:pt x="4421" y="195"/>
                    <a:pt x="4725" y="195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2080" y="2830680"/>
              <a:ext cx="5736960" cy="981000"/>
            </a:xfrm>
            <a:custGeom>
              <a:avLst/>
              <a:gdLst/>
              <a:ahLst/>
              <a:rect l="l" t="t" r="r" b="b"/>
              <a:pathLst>
                <a:path w="5610" h="912">
                  <a:moveTo>
                    <a:pt x="0" y="552"/>
                  </a:moveTo>
                  <a:cubicBezTo>
                    <a:pt x="20" y="493"/>
                    <a:pt x="38" y="467"/>
                    <a:pt x="90" y="432"/>
                  </a:cubicBezTo>
                  <a:cubicBezTo>
                    <a:pt x="95" y="407"/>
                    <a:pt x="98" y="382"/>
                    <a:pt x="105" y="357"/>
                  </a:cubicBezTo>
                  <a:cubicBezTo>
                    <a:pt x="137" y="239"/>
                    <a:pt x="111" y="271"/>
                    <a:pt x="225" y="252"/>
                  </a:cubicBezTo>
                  <a:cubicBezTo>
                    <a:pt x="255" y="232"/>
                    <a:pt x="280" y="201"/>
                    <a:pt x="315" y="192"/>
                  </a:cubicBezTo>
                  <a:cubicBezTo>
                    <a:pt x="386" y="174"/>
                    <a:pt x="454" y="150"/>
                    <a:pt x="525" y="132"/>
                  </a:cubicBezTo>
                  <a:cubicBezTo>
                    <a:pt x="700" y="0"/>
                    <a:pt x="785" y="67"/>
                    <a:pt x="1080" y="57"/>
                  </a:cubicBezTo>
                  <a:cubicBezTo>
                    <a:pt x="1284" y="28"/>
                    <a:pt x="1470" y="53"/>
                    <a:pt x="1665" y="102"/>
                  </a:cubicBezTo>
                  <a:cubicBezTo>
                    <a:pt x="2102" y="211"/>
                    <a:pt x="2565" y="112"/>
                    <a:pt x="3015" y="117"/>
                  </a:cubicBezTo>
                  <a:cubicBezTo>
                    <a:pt x="3080" y="128"/>
                    <a:pt x="3146" y="130"/>
                    <a:pt x="3210" y="147"/>
                  </a:cubicBezTo>
                  <a:cubicBezTo>
                    <a:pt x="3488" y="221"/>
                    <a:pt x="3174" y="172"/>
                    <a:pt x="3450" y="207"/>
                  </a:cubicBezTo>
                  <a:cubicBezTo>
                    <a:pt x="3605" y="259"/>
                    <a:pt x="3753" y="281"/>
                    <a:pt x="3915" y="297"/>
                  </a:cubicBezTo>
                  <a:cubicBezTo>
                    <a:pt x="4124" y="367"/>
                    <a:pt x="4033" y="347"/>
                    <a:pt x="4185" y="372"/>
                  </a:cubicBezTo>
                  <a:cubicBezTo>
                    <a:pt x="4286" y="473"/>
                    <a:pt x="4157" y="359"/>
                    <a:pt x="4350" y="447"/>
                  </a:cubicBezTo>
                  <a:cubicBezTo>
                    <a:pt x="4369" y="456"/>
                    <a:pt x="4376" y="483"/>
                    <a:pt x="4395" y="492"/>
                  </a:cubicBezTo>
                  <a:cubicBezTo>
                    <a:pt x="4478" y="529"/>
                    <a:pt x="4575" y="514"/>
                    <a:pt x="4665" y="522"/>
                  </a:cubicBezTo>
                  <a:cubicBezTo>
                    <a:pt x="4680" y="537"/>
                    <a:pt x="4698" y="549"/>
                    <a:pt x="4710" y="567"/>
                  </a:cubicBezTo>
                  <a:cubicBezTo>
                    <a:pt x="4719" y="580"/>
                    <a:pt x="4712" y="603"/>
                    <a:pt x="4725" y="612"/>
                  </a:cubicBezTo>
                  <a:cubicBezTo>
                    <a:pt x="4773" y="648"/>
                    <a:pt x="4865" y="663"/>
                    <a:pt x="4920" y="687"/>
                  </a:cubicBezTo>
                  <a:cubicBezTo>
                    <a:pt x="5053" y="746"/>
                    <a:pt x="4866" y="692"/>
                    <a:pt x="5025" y="732"/>
                  </a:cubicBezTo>
                  <a:cubicBezTo>
                    <a:pt x="5040" y="747"/>
                    <a:pt x="5050" y="770"/>
                    <a:pt x="5070" y="777"/>
                  </a:cubicBezTo>
                  <a:cubicBezTo>
                    <a:pt x="5108" y="791"/>
                    <a:pt x="5150" y="786"/>
                    <a:pt x="5190" y="792"/>
                  </a:cubicBezTo>
                  <a:cubicBezTo>
                    <a:pt x="5241" y="800"/>
                    <a:pt x="5345" y="826"/>
                    <a:pt x="5385" y="837"/>
                  </a:cubicBezTo>
                  <a:cubicBezTo>
                    <a:pt x="5415" y="846"/>
                    <a:pt x="5446" y="854"/>
                    <a:pt x="5475" y="867"/>
                  </a:cubicBezTo>
                  <a:cubicBezTo>
                    <a:pt x="5491" y="874"/>
                    <a:pt x="5503" y="891"/>
                    <a:pt x="5520" y="897"/>
                  </a:cubicBezTo>
                  <a:cubicBezTo>
                    <a:pt x="5549" y="907"/>
                    <a:pt x="5610" y="912"/>
                    <a:pt x="5610" y="9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22280" y="1855800"/>
              <a:ext cx="5969160" cy="1584360"/>
            </a:xfrm>
            <a:custGeom>
              <a:avLst/>
              <a:gdLst/>
              <a:ahLst/>
              <a:rect l="l" t="t" r="r" b="b"/>
              <a:pathLst>
                <a:path w="5838" h="1473">
                  <a:moveTo>
                    <a:pt x="48" y="1473"/>
                  </a:moveTo>
                  <a:cubicBezTo>
                    <a:pt x="38" y="1392"/>
                    <a:pt x="0" y="1285"/>
                    <a:pt x="33" y="1203"/>
                  </a:cubicBezTo>
                  <a:cubicBezTo>
                    <a:pt x="41" y="1183"/>
                    <a:pt x="63" y="1173"/>
                    <a:pt x="78" y="1158"/>
                  </a:cubicBezTo>
                  <a:cubicBezTo>
                    <a:pt x="123" y="1024"/>
                    <a:pt x="183" y="861"/>
                    <a:pt x="348" y="843"/>
                  </a:cubicBezTo>
                  <a:cubicBezTo>
                    <a:pt x="438" y="833"/>
                    <a:pt x="618" y="813"/>
                    <a:pt x="618" y="813"/>
                  </a:cubicBezTo>
                  <a:cubicBezTo>
                    <a:pt x="698" y="786"/>
                    <a:pt x="782" y="761"/>
                    <a:pt x="858" y="723"/>
                  </a:cubicBezTo>
                  <a:cubicBezTo>
                    <a:pt x="874" y="715"/>
                    <a:pt x="886" y="699"/>
                    <a:pt x="903" y="693"/>
                  </a:cubicBezTo>
                  <a:cubicBezTo>
                    <a:pt x="1020" y="649"/>
                    <a:pt x="1153" y="669"/>
                    <a:pt x="1278" y="663"/>
                  </a:cubicBezTo>
                  <a:cubicBezTo>
                    <a:pt x="1430" y="612"/>
                    <a:pt x="1336" y="635"/>
                    <a:pt x="1563" y="618"/>
                  </a:cubicBezTo>
                  <a:cubicBezTo>
                    <a:pt x="1667" y="592"/>
                    <a:pt x="1770" y="549"/>
                    <a:pt x="1878" y="543"/>
                  </a:cubicBezTo>
                  <a:cubicBezTo>
                    <a:pt x="2018" y="535"/>
                    <a:pt x="2158" y="533"/>
                    <a:pt x="2298" y="528"/>
                  </a:cubicBezTo>
                  <a:cubicBezTo>
                    <a:pt x="2421" y="487"/>
                    <a:pt x="2543" y="482"/>
                    <a:pt x="2673" y="468"/>
                  </a:cubicBezTo>
                  <a:cubicBezTo>
                    <a:pt x="2721" y="452"/>
                    <a:pt x="2758" y="418"/>
                    <a:pt x="2808" y="408"/>
                  </a:cubicBezTo>
                  <a:cubicBezTo>
                    <a:pt x="3025" y="365"/>
                    <a:pt x="3266" y="372"/>
                    <a:pt x="3483" y="363"/>
                  </a:cubicBezTo>
                  <a:cubicBezTo>
                    <a:pt x="3533" y="358"/>
                    <a:pt x="3583" y="356"/>
                    <a:pt x="3633" y="348"/>
                  </a:cubicBezTo>
                  <a:cubicBezTo>
                    <a:pt x="3719" y="335"/>
                    <a:pt x="3796" y="278"/>
                    <a:pt x="3888" y="273"/>
                  </a:cubicBezTo>
                  <a:cubicBezTo>
                    <a:pt x="4068" y="264"/>
                    <a:pt x="4248" y="263"/>
                    <a:pt x="4428" y="258"/>
                  </a:cubicBezTo>
                  <a:cubicBezTo>
                    <a:pt x="4488" y="248"/>
                    <a:pt x="4557" y="262"/>
                    <a:pt x="4608" y="228"/>
                  </a:cubicBezTo>
                  <a:cubicBezTo>
                    <a:pt x="4682" y="179"/>
                    <a:pt x="4743" y="179"/>
                    <a:pt x="4833" y="168"/>
                  </a:cubicBezTo>
                  <a:cubicBezTo>
                    <a:pt x="4989" y="116"/>
                    <a:pt x="5150" y="112"/>
                    <a:pt x="5313" y="93"/>
                  </a:cubicBezTo>
                  <a:cubicBezTo>
                    <a:pt x="5359" y="88"/>
                    <a:pt x="5402" y="68"/>
                    <a:pt x="5448" y="63"/>
                  </a:cubicBezTo>
                  <a:cubicBezTo>
                    <a:pt x="5528" y="55"/>
                    <a:pt x="5608" y="53"/>
                    <a:pt x="5688" y="48"/>
                  </a:cubicBezTo>
                  <a:cubicBezTo>
                    <a:pt x="5703" y="43"/>
                    <a:pt x="5719" y="40"/>
                    <a:pt x="5733" y="33"/>
                  </a:cubicBezTo>
                  <a:cubicBezTo>
                    <a:pt x="5749" y="25"/>
                    <a:pt x="5760" y="6"/>
                    <a:pt x="5778" y="3"/>
                  </a:cubicBezTo>
                  <a:cubicBezTo>
                    <a:pt x="5798" y="0"/>
                    <a:pt x="5817" y="18"/>
                    <a:pt x="5838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1400" y="3294000"/>
              <a:ext cx="398520" cy="306360"/>
            </a:xfrm>
            <a:custGeom>
              <a:avLst/>
              <a:gdLst/>
              <a:ahLst/>
              <a:rect l="l" t="t" r="r" b="b"/>
              <a:pathLst>
                <a:path w="390" h="285">
                  <a:moveTo>
                    <a:pt x="0" y="285"/>
                  </a:moveTo>
                  <a:cubicBezTo>
                    <a:pt x="15" y="270"/>
                    <a:pt x="33" y="258"/>
                    <a:pt x="45" y="240"/>
                  </a:cubicBezTo>
                  <a:cubicBezTo>
                    <a:pt x="84" y="181"/>
                    <a:pt x="25" y="198"/>
                    <a:pt x="105" y="150"/>
                  </a:cubicBezTo>
                  <a:cubicBezTo>
                    <a:pt x="138" y="130"/>
                    <a:pt x="174" y="119"/>
                    <a:pt x="210" y="105"/>
                  </a:cubicBezTo>
                  <a:cubicBezTo>
                    <a:pt x="240" y="94"/>
                    <a:pt x="300" y="75"/>
                    <a:pt x="300" y="75"/>
                  </a:cubicBezTo>
                  <a:cubicBezTo>
                    <a:pt x="315" y="60"/>
                    <a:pt x="329" y="44"/>
                    <a:pt x="345" y="30"/>
                  </a:cubicBezTo>
                  <a:cubicBezTo>
                    <a:pt x="359" y="18"/>
                    <a:pt x="390" y="0"/>
                    <a:pt x="3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1400" y="3032280"/>
              <a:ext cx="476280" cy="552240"/>
            </a:xfrm>
            <a:custGeom>
              <a:avLst/>
              <a:gdLst/>
              <a:ahLst/>
              <a:rect l="l" t="t" r="r" b="b"/>
              <a:pathLst>
                <a:path w="466" h="514">
                  <a:moveTo>
                    <a:pt x="31" y="514"/>
                  </a:moveTo>
                  <a:cubicBezTo>
                    <a:pt x="0" y="422"/>
                    <a:pt x="37" y="400"/>
                    <a:pt x="91" y="319"/>
                  </a:cubicBezTo>
                  <a:cubicBezTo>
                    <a:pt x="91" y="318"/>
                    <a:pt x="135" y="231"/>
                    <a:pt x="136" y="229"/>
                  </a:cubicBezTo>
                  <a:cubicBezTo>
                    <a:pt x="171" y="176"/>
                    <a:pt x="219" y="165"/>
                    <a:pt x="271" y="139"/>
                  </a:cubicBezTo>
                  <a:cubicBezTo>
                    <a:pt x="325" y="112"/>
                    <a:pt x="348" y="68"/>
                    <a:pt x="406" y="49"/>
                  </a:cubicBezTo>
                  <a:cubicBezTo>
                    <a:pt x="455" y="0"/>
                    <a:pt x="430" y="4"/>
                    <a:pt x="466" y="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745400" y="2819520"/>
              <a:ext cx="788760" cy="1410840"/>
              <a:chOff x="7745400" y="2819520"/>
              <a:chExt cx="788760" cy="141084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8013240" y="3873960"/>
                <a:ext cx="192960" cy="356400"/>
              </a:xfrm>
              <a:custGeom>
                <a:avLst/>
                <a:gdLst>
                  <a:gd name="textAreaLeft" fmla="*/ 42480 w 192960"/>
                  <a:gd name="textAreaRight" fmla="*/ 150480 w 192960"/>
                  <a:gd name="textAreaTop" fmla="*/ 78120 h 356400"/>
                  <a:gd name="textAreaBottom" fmla="*/ 278280 h 35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45400" y="2819520"/>
                <a:ext cx="788760" cy="1114920"/>
              </a:xfrm>
              <a:custGeom>
                <a:avLst/>
                <a:gdLst/>
                <a:ahLst/>
                <a:rect l="l" t="t" r="r" b="b"/>
                <a:pathLst>
                  <a:path w="591" h="901">
                    <a:moveTo>
                      <a:pt x="246" y="855"/>
                    </a:moveTo>
                    <a:cubicBezTo>
                      <a:pt x="216" y="850"/>
                      <a:pt x="178" y="862"/>
                      <a:pt x="156" y="840"/>
                    </a:cubicBezTo>
                    <a:cubicBezTo>
                      <a:pt x="141" y="825"/>
                      <a:pt x="184" y="796"/>
                      <a:pt x="171" y="780"/>
                    </a:cubicBezTo>
                    <a:cubicBezTo>
                      <a:pt x="151" y="756"/>
                      <a:pt x="81" y="750"/>
                      <a:pt x="81" y="750"/>
                    </a:cubicBezTo>
                    <a:cubicBezTo>
                      <a:pt x="76" y="735"/>
                      <a:pt x="59" y="719"/>
                      <a:pt x="66" y="705"/>
                    </a:cubicBezTo>
                    <a:cubicBezTo>
                      <a:pt x="73" y="691"/>
                      <a:pt x="111" y="706"/>
                      <a:pt x="111" y="690"/>
                    </a:cubicBezTo>
                    <a:cubicBezTo>
                      <a:pt x="111" y="672"/>
                      <a:pt x="79" y="673"/>
                      <a:pt x="66" y="660"/>
                    </a:cubicBezTo>
                    <a:cubicBezTo>
                      <a:pt x="48" y="642"/>
                      <a:pt x="36" y="620"/>
                      <a:pt x="21" y="600"/>
                    </a:cubicBezTo>
                    <a:cubicBezTo>
                      <a:pt x="16" y="585"/>
                      <a:pt x="0" y="570"/>
                      <a:pt x="6" y="555"/>
                    </a:cubicBezTo>
                    <a:cubicBezTo>
                      <a:pt x="13" y="538"/>
                      <a:pt x="38" y="538"/>
                      <a:pt x="51" y="525"/>
                    </a:cubicBezTo>
                    <a:cubicBezTo>
                      <a:pt x="64" y="512"/>
                      <a:pt x="71" y="495"/>
                      <a:pt x="81" y="480"/>
                    </a:cubicBezTo>
                    <a:cubicBezTo>
                      <a:pt x="91" y="445"/>
                      <a:pt x="93" y="407"/>
                      <a:pt x="111" y="375"/>
                    </a:cubicBezTo>
                    <a:cubicBezTo>
                      <a:pt x="153" y="299"/>
                      <a:pt x="200" y="403"/>
                      <a:pt x="111" y="285"/>
                    </a:cubicBezTo>
                    <a:cubicBezTo>
                      <a:pt x="128" y="235"/>
                      <a:pt x="119" y="172"/>
                      <a:pt x="156" y="135"/>
                    </a:cubicBezTo>
                    <a:cubicBezTo>
                      <a:pt x="178" y="113"/>
                      <a:pt x="216" y="125"/>
                      <a:pt x="246" y="120"/>
                    </a:cubicBezTo>
                    <a:cubicBezTo>
                      <a:pt x="265" y="44"/>
                      <a:pt x="246" y="25"/>
                      <a:pt x="321" y="0"/>
                    </a:cubicBezTo>
                    <a:cubicBezTo>
                      <a:pt x="368" y="16"/>
                      <a:pt x="379" y="12"/>
                      <a:pt x="411" y="60"/>
                    </a:cubicBezTo>
                    <a:cubicBezTo>
                      <a:pt x="420" y="73"/>
                      <a:pt x="412" y="98"/>
                      <a:pt x="426" y="105"/>
                    </a:cubicBezTo>
                    <a:cubicBezTo>
                      <a:pt x="458" y="121"/>
                      <a:pt x="496" y="115"/>
                      <a:pt x="531" y="120"/>
                    </a:cubicBezTo>
                    <a:cubicBezTo>
                      <a:pt x="567" y="227"/>
                      <a:pt x="543" y="184"/>
                      <a:pt x="591" y="255"/>
                    </a:cubicBezTo>
                    <a:cubicBezTo>
                      <a:pt x="573" y="363"/>
                      <a:pt x="558" y="371"/>
                      <a:pt x="576" y="480"/>
                    </a:cubicBezTo>
                    <a:cubicBezTo>
                      <a:pt x="507" y="583"/>
                      <a:pt x="505" y="536"/>
                      <a:pt x="531" y="615"/>
                    </a:cubicBezTo>
                    <a:cubicBezTo>
                      <a:pt x="479" y="825"/>
                      <a:pt x="569" y="540"/>
                      <a:pt x="456" y="690"/>
                    </a:cubicBezTo>
                    <a:cubicBezTo>
                      <a:pt x="434" y="719"/>
                      <a:pt x="437" y="760"/>
                      <a:pt x="426" y="795"/>
                    </a:cubicBezTo>
                    <a:cubicBezTo>
                      <a:pt x="417" y="825"/>
                      <a:pt x="426" y="875"/>
                      <a:pt x="396" y="885"/>
                    </a:cubicBezTo>
                    <a:cubicBezTo>
                      <a:pt x="348" y="901"/>
                      <a:pt x="296" y="865"/>
                      <a:pt x="246" y="855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81" name=""/>
            <p:cNvGraphicFramePr/>
            <p:nvPr/>
          </p:nvGraphicFramePr>
          <p:xfrm>
            <a:off x="7215120" y="3429000"/>
            <a:ext cx="706680" cy="911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15120" y="3429000"/>
                      <a:ext cx="70668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457200" y="4343400"/>
              <a:ext cx="146844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misiones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7520" y="252720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IRE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3760" y="45403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AGUA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48240" y="4849920"/>
              <a:ext cx="117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5b5249"/>
                  </a:solidFill>
                  <a:latin typeface="Times New Roman"/>
                </a:rPr>
                <a:t>SUEL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416480" y="4540320"/>
              <a:ext cx="442800" cy="154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975120" y="4849920"/>
              <a:ext cx="147600" cy="309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10280" y="4419720"/>
              <a:ext cx="175284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RECEPTORE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exposi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44800" y="1752480"/>
              <a:ext cx="3827520" cy="449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8120" y="6019920"/>
              <a:ext cx="34671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MEDIOS DE TRANSPORT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5b5249"/>
                  </a:solidFill>
                  <a:latin typeface="Times New Roman"/>
                </a:rPr>
                <a:t>(dispers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8245440" y="3857760"/>
            <a:ext cx="517680" cy="433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245440" y="3857760"/>
                      <a:ext cx="517680" cy="43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25748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ri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ntrod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Clas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Marco regulatorio: normas y regla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Identificación , caracterización y cuantificación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peligro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Residuos mineros mas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Efluentes líqui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misiones atmosféric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ración de aguas ácid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"/>
              </a:rPr>
              <a:t>Gestión integral de los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Desarrollo sustentabl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l concepto de desarrollo sustentable surgió con fuerza en los años 70, producto del informe del Club de Roma y de las reuniones de Naciones Unidas sobre el medio ambiente: responsabilidad intergeneracion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finición de la Comisión de las Naciones Unidas en Ambiente y Desarrollo (Comisión Brundtland, 1987): 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“</a:t>
            </a:r>
            <a:r>
              <a:rPr b="1" i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proceso económico que da cuente de las necesidades del presente sin comprometer las capacidades de las generaciones futuras para satisfacer sus propias necesidades</a:t>
            </a:r>
            <a:r>
              <a:rPr b="1" lang="es-ES" sz="2800" spc="-1" strike="noStrike">
                <a:solidFill>
                  <a:srgbClr val="f61041"/>
                </a:solidFill>
                <a:latin typeface="Times New Roman"/>
                <a:ea typeface="Times New Roman"/>
              </a:rPr>
              <a:t>”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recursos minerales son por definición recursos no renovab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n embargo, es necesario hacer la distinción entre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metálicos recicla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no metál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Recursos energéticos de uso únic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Definicione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curso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la extracción económica de un producto es actualmente o potencialmente factible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5b5249"/>
                </a:solidFill>
                <a:latin typeface="Times New Roman"/>
              </a:rPr>
              <a:t>reservas minerales</a:t>
            </a:r>
            <a:r>
              <a:rPr b="1" lang="es-ES" sz="32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 es la parte actualmente recuperable económicamen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2960" y="1960560"/>
          <a:ext cx="846144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960560"/>
                    <a:ext cx="846144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l límite entre recursos y reservas varía en el tiempo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La exploración geológica permite identificar nuev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económicos, tecnológicos y políticos pueden modificar las condiciones de explotación de los yac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Recursos y reservas</a:t>
            </a: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lgunos factores que pueden afectar el límite recursos/reservas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uctuaciones en los valores de mercad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nuevas tecnologí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xigencias ambientales más estric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esarrollo de infra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sto y disponibilidad de insumos (energía, agua, etc.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istema de impos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5b5249"/>
              </a:buClr>
              <a:buSzPct val="75000"/>
              <a:buFont typeface="Symbol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Subven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Recursos miner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2438280"/>
            <a:ext cx="327672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438280"/>
            <a:ext cx="1676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Reserv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438280"/>
            <a:ext cx="3276720" cy="762120"/>
          </a:xfrm>
          <a:prstGeom prst="rect">
            <a:avLst/>
          </a:prstGeom>
          <a:solidFill>
            <a:srgbClr val="c9ddf1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us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2971800"/>
            <a:ext cx="457200" cy="0"/>
          </a:xfrm>
          <a:prstGeom prst="line">
            <a:avLst/>
          </a:prstGeom>
          <a:ln w="507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447920"/>
            <a:ext cx="3429000" cy="73332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3886200"/>
            <a:ext cx="32767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etales en desech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1240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124080"/>
            <a:ext cx="486000" cy="762120"/>
          </a:xfrm>
          <a:prstGeom prst="downArrow">
            <a:avLst>
              <a:gd name="adj1" fmla="val 50000"/>
              <a:gd name="adj2" fmla="val 3920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952880"/>
            <a:ext cx="3276720" cy="1219320"/>
          </a:xfrm>
          <a:prstGeom prst="rect">
            <a:avLst/>
          </a:prstGeom>
          <a:solidFill>
            <a:srgbClr val="c9ddf1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miner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124080"/>
            <a:ext cx="733680" cy="2667240"/>
          </a:xfrm>
          <a:custGeom>
            <a:avLst/>
            <a:gdLst>
              <a:gd name="textAreaLeft" fmla="*/ 98280 w 733680"/>
              <a:gd name="textAreaRight" fmla="*/ 635400 w 733680"/>
              <a:gd name="textAreaTop" fmla="*/ 466560 h 2667240"/>
              <a:gd name="textAreaBottom" fmla="*/ 193392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8769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Desech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791320"/>
            <a:ext cx="3276720" cy="825480"/>
          </a:xfrm>
          <a:prstGeom prst="rect">
            <a:avLst/>
          </a:prstGeom>
          <a:solidFill>
            <a:srgbClr val="ff6600"/>
          </a:solidFill>
          <a:ln w="316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5b5249"/>
                </a:solidFill>
                <a:latin typeface="Arial"/>
              </a:rPr>
              <a:t>Residuos no reciclab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876920" y="1905120"/>
            <a:ext cx="0" cy="304560"/>
          </a:xfrm>
          <a:prstGeom prst="line">
            <a:avLst/>
          </a:prstGeom>
          <a:ln w="255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2680" y="1295280"/>
            <a:ext cx="21513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Extracción Min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(subterránea o rajo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209680"/>
            <a:ext cx="190476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Chancado 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Molien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2057400"/>
            <a:ext cx="822960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648320"/>
            <a:ext cx="8381880" cy="0"/>
          </a:xfrm>
          <a:prstGeom prst="line">
            <a:avLst/>
          </a:prstGeom>
          <a:ln cap="rnd" w="9360">
            <a:solidFill>
              <a:srgbClr val="5b524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7640" y="1324080"/>
            <a:ext cx="1483920" cy="3988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plotació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1520" y="2085840"/>
            <a:ext cx="177948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Procesamient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de Mineral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360" y="4676760"/>
            <a:ext cx="139824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etalurgi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Extractiv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400840" y="1924200"/>
            <a:ext cx="1618920" cy="1304280"/>
            <a:chOff x="2400840" y="1924200"/>
            <a:chExt cx="1618920" cy="1304280"/>
          </a:xfrm>
        </p:grpSpPr>
        <p:sp>
          <p:nvSpPr>
            <p:cNvPr id="241" name=""/>
            <p:cNvSpPr/>
            <p:nvPr/>
          </p:nvSpPr>
          <p:spPr>
            <a:xfrm flipH="1">
              <a:off x="3039840" y="2477160"/>
              <a:ext cx="898200" cy="5382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9702200">
              <a:off x="2438640" y="2285280"/>
              <a:ext cx="154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3300"/>
                  </a:solidFill>
                  <a:latin typeface="Times New Roman"/>
                </a:rPr>
                <a:t>Pi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(sulfuros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925240" y="1894680"/>
            <a:ext cx="2171520" cy="1363680"/>
            <a:chOff x="5925240" y="1894680"/>
            <a:chExt cx="2171520" cy="1363680"/>
          </a:xfrm>
        </p:grpSpPr>
        <p:sp>
          <p:nvSpPr>
            <p:cNvPr id="244" name=""/>
            <p:cNvSpPr/>
            <p:nvPr/>
          </p:nvSpPr>
          <p:spPr>
            <a:xfrm>
              <a:off x="5925240" y="2455920"/>
              <a:ext cx="1405080" cy="5857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434000">
              <a:off x="6013080" y="2285640"/>
              <a:ext cx="205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2a3d7a"/>
                  </a:solidFill>
                  <a:latin typeface="Times New Roman"/>
                </a:rPr>
                <a:t>Hidrometalurgia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2a3d7a"/>
                  </a:solidFill>
                  <a:latin typeface="Times New Roman"/>
                </a:rPr>
                <a:t>(óxidos, sulfuros baja ley)</a:t>
              </a:r>
              <a:endParaRPr b="0" lang="en-US" sz="1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27160" y="3124080"/>
            <a:ext cx="1553760" cy="3581640"/>
            <a:chOff x="6527160" y="3124080"/>
            <a:chExt cx="1553760" cy="3581640"/>
          </a:xfrm>
        </p:grpSpPr>
        <p:sp>
          <p:nvSpPr>
            <p:cNvPr id="247" name=""/>
            <p:cNvSpPr/>
            <p:nvPr/>
          </p:nvSpPr>
          <p:spPr>
            <a:xfrm>
              <a:off x="7391520" y="57150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105520"/>
              <a:ext cx="0" cy="30456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3733920"/>
              <a:ext cx="0" cy="10666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27160" y="3124080"/>
              <a:ext cx="1553760" cy="642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urado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Aglome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68000" y="4800600"/>
              <a:ext cx="127512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Lixivi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0" y="541008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X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0" y="6019920"/>
              <a:ext cx="1143000" cy="368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W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1520" y="6400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392960" y="6521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átodo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04840" y="3048120"/>
            <a:ext cx="3447360" cy="3385080"/>
            <a:chOff x="2004840" y="3048120"/>
            <a:chExt cx="3447360" cy="3385080"/>
          </a:xfrm>
        </p:grpSpPr>
        <p:sp>
          <p:nvSpPr>
            <p:cNvPr id="257" name=""/>
            <p:cNvSpPr/>
            <p:nvPr/>
          </p:nvSpPr>
          <p:spPr>
            <a:xfrm>
              <a:off x="2895480" y="51814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95480" y="4495680"/>
              <a:ext cx="0" cy="38124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95480" y="3581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5040" y="3048120"/>
              <a:ext cx="161640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Concentr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(flotación)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6760" y="4876920"/>
              <a:ext cx="11714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undi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04840" y="5486400"/>
              <a:ext cx="188604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Electrorefinació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6440" y="4876920"/>
              <a:ext cx="1445760" cy="3682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Planta Aci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52160" y="3886200"/>
              <a:ext cx="1378440" cy="642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Filtración y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b5249"/>
                  </a:solidFill>
                  <a:latin typeface="Times New Roman"/>
                </a:rPr>
                <a:t>Secado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05320" y="5105520"/>
              <a:ext cx="53316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95480" y="586728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257800"/>
              <a:ext cx="0" cy="30492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720" y="609588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átodo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22600" y="5486400"/>
              <a:ext cx="73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O</a:t>
              </a: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772400" y="1066680"/>
            <a:ext cx="609480" cy="5486400"/>
          </a:xfrm>
          <a:custGeom>
            <a:avLst/>
            <a:gdLst>
              <a:gd name="textAreaLeft" fmla="*/ 0 w 609480"/>
              <a:gd name="textAreaRight" fmla="*/ 219960 w 60948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06"/>
                </a:lnTo>
                <a:cubicBezTo>
                  <a:pt x="10800" y="10006"/>
                  <a:pt x="16200" y="10906"/>
                  <a:pt x="21600" y="10906"/>
                </a:cubicBezTo>
                <a:cubicBezTo>
                  <a:pt x="16200" y="10906"/>
                  <a:pt x="10800" y="11806"/>
                  <a:pt x="10800" y="127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75040" y="2514600"/>
            <a:ext cx="4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Ley de conservación de la mate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eneral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Acumulación = entradas - salidas + generación - consum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alance global, balance por especies o balance elem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estacionarios y no estacionar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Procesos con o sin reacción químic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apítulo 1: 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bjetivos y alc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eptos Bá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cursos y Reserva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cesos y Operaciones Unitar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Balance simplificado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umulación = entradas - salid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plicable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sin reacción: cualquier ba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5b5249"/>
                </a:solidFill>
                <a:latin typeface="Times New Roman"/>
              </a:rPr>
              <a:t>Procesos con reac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to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moles de iner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masa o átomos de los ele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estacionario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s una idealización; en la práctica no hay procesos realmente estacionario; si se considera una base de tiempo suficientemente grande, los procesos se pueden asimilar a procesos estacionari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acumul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 acumulación es positiva cuando las entradas superan a las salidas y negativa en el caso inverso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cesos con reacción químic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os procesos metalúrgicos son procesos con reacción química; por lo tanto el balance simplificado solo se aplica a balances por elementos (Cu, Fe, As, …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balance de masa considera el proceso como “caja negra”; solo se interesa a lo que entra y sale del proceso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l balance de masa se aplica 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operación unitar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secuencia de operaciones unitar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 proceso comple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una planta industri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s fundamental definir claramente los límites del sistema, en particular en los procesos con reciclo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 Black"/>
              </a:rPr>
              <a:t>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-609480" y="1589040"/>
          <a:ext cx="108964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589040"/>
                    <a:ext cx="10896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05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plicaciones de balances de mas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si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chancado y molien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lanta de flotación de concentrados de cob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lance de masa con reacción química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lixivi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s de combust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ceso de fundi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normes cantidades de residuos generados por la industria minera: fuerte impacto visual; ocupan importantes extensiones de terre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Características particulares: residuos generalmente “inertes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 manejo ambiental de estos residuos requiere una visión de largo plaz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b5249"/>
                </a:solidFill>
                <a:latin typeface="Times New Roman"/>
              </a:rPr>
              <a:t>Elemento fundamental de la sustentabilidad ambiental de la industria miner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Motiv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Dónde se genera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los residuos mineros y metalúrgicos, en qué cantidades y con qué característica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Cuáles son los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impactos ambientales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que pueden tener estos residuos en el medio ambiente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spcAft>
                <a:spcPts val="1049"/>
              </a:spcAft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¿Que se puede hacer para asegurar una </a:t>
            </a:r>
            <a:r>
              <a:rPr b="0" lang="en-US" sz="2800" spc="-1" strike="noStrike">
                <a:solidFill>
                  <a:srgbClr val="f53829"/>
                </a:solidFill>
                <a:latin typeface="Times New Roman"/>
              </a:rPr>
              <a:t>gestión ambiental eficient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de estos residuo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899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07800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3687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59280" y="364176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0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3368520"/>
            <a:ext cx="5003640" cy="348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000680" y="0"/>
            <a:ext cx="5143320" cy="3333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3941640"/>
            <a:ext cx="45007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b5249"/>
                </a:solidFill>
                <a:latin typeface="Times New Roman"/>
              </a:rPr>
              <a:t>Entregar una visión multidisciplinaria y práctica sobre distintos aspectos relacionados con los residuos sólidos,  líquidos y gaseosos producidos en la industria minera y metalúrgica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8:44:44Z</dcterms:created>
  <dc:creator>Ingrid  Rozas</dc:creator>
  <dc:description/>
  <dc:language>en-US</dc:language>
  <cp:lastModifiedBy>Ingrid</cp:lastModifiedBy>
  <cp:lastPrinted>2001-10-18T19:14:41Z</cp:lastPrinted>
  <dcterms:modified xsi:type="dcterms:W3CDTF">2009-08-04T22:12:18Z</dcterms:modified>
  <cp:revision>43</cp:revision>
  <dc:subject/>
  <dc:title>Gestión de Residuos en Procesos Mineros y Metalúrgicos</dc:title>
</cp:coreProperties>
</file>