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BFA-83A1-42F6-A8AE-45222136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3F2-F067-4F46-A448-711B2D9E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3C4-45FF-4B43-80D9-EDC1EA25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512-1C7F-42A8-B078-D3275832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A90-A64E-440B-81FF-CEB0AE79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CE1-F136-4983-B368-BD61825F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54C-8D5C-4A7C-85C1-17F36BF0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20A-63E8-4A3A-9A93-2B3AE4E9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93D-AD96-476D-8EF7-8C077C7E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D57-1676-4451-A50D-EEE3891B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07B-F20C-4EF6-AFC2-41A8CA34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BBA-0ED5-4782-86A3-03B0ED7F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29E6-777A-467E-8F21-9A84BC335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 2D v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ones del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terial Elástico con propiedades constante sobre el 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aliza una excavación a 688 m bajo la top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modela un gradiente constante de esfuerzo con una constante teutónica de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densidad media del macizo rocoso es 3 t/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24446"/>
          <a:stretch/>
        </p:blipFill>
        <p:spPr>
          <a:xfrm>
            <a:off x="6095880" y="1371600"/>
            <a:ext cx="25718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4010040"/>
            <a:ext cx="1762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de Esfuerz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analizar la distribución de esfuerzos en el pilar entre las dos galerias que se han construidas en forma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niveles de esfuerso pre minería entre las galerias 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2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=20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5.6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09880" cy="257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358128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galerias Parale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76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20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8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200400" cy="216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8124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9528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3276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ias Ortog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68.4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17.7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6.3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504960" cy="237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81480" y="4572000"/>
            <a:ext cx="3353040" cy="2265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3352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4240" y="121932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claro que la distribución de esfuerzos ca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esfuerzos de corte máximo disminuyen en un 8% al realizar una intersección perpendic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onclusiones anteriores se pueden sacar a partir de un modelo 3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6:26:05Z</dcterms:created>
  <dc:creator>Enrique Rubio</dc:creator>
  <dc:description/>
  <dc:language>en-US</dc:language>
  <cp:lastModifiedBy>Enrique Rubio</cp:lastModifiedBy>
  <dcterms:modified xsi:type="dcterms:W3CDTF">2007-04-05T19:37:14Z</dcterms:modified>
  <cp:revision>5</cp:revision>
  <dc:subject/>
  <dc:title>Modelación 2D vs 3D</dc:title>
</cp:coreProperties>
</file>