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061-C253-4B35-A9FC-E4C6AEB7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8CF-D015-4694-A0A0-E56DFBB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0E1-E416-4EEA-A5E9-FE4D5222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AD6-9761-451E-83AC-AA756049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54A-372D-45DC-83F0-D87AA04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720-3CCB-4984-A00B-0CCEF449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8D6-D667-4701-A01C-455D654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907-CF31-410A-874A-5974F7F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183-1C3A-49E0-AB37-B020BF81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AB8-E56C-4750-9792-144A1B1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187-FD2C-442C-9754-11EC006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1DC-E74D-4B5E-96B4-37D6D56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2EB5-CE1F-4346-AD99-FFC7860A3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 2D v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one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 Elástico con propiedades constante sobre 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aliza una excavación a 688 m bajo la top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modela un gradiente constante de esfuerzo con una constante teutónica de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ensidad media del macizo rocoso es 3 t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6095880" y="1371600"/>
            <a:ext cx="25718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4010040"/>
            <a:ext cx="17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e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analizar la distribución de esfuerzos en el pilar entre las dos galerias que se han construidas en form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niveles de esfuerso pre minería entre las galerias 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2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=20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5.6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257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5812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galerias Parale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76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20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8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8124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9528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ias Ortog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68.4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17.7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6.3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26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352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240" y="12193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ro que la distribución de esfuerzos c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esfuerzos de corte máximo disminuyen en un 8% al realizar una intersección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onclusiones anteriores se pueden sacar a partir de un modelo 3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6:05Z</dcterms:created>
  <dc:creator>Enrique Rubio</dc:creator>
  <dc:description/>
  <dc:language>en-US</dc:language>
  <cp:lastModifiedBy>Enrique Rubio</cp:lastModifiedBy>
  <dcterms:modified xsi:type="dcterms:W3CDTF">2007-04-05T19:37:14Z</dcterms:modified>
  <cp:revision>5</cp:revision>
  <dc:subject/>
  <dc:title>Modelación 2D vs 3D</dc:title>
</cp:coreProperties>
</file>