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7.png" ContentType="image/png"/>
  <Override PartName="/ppt/media/image11.png" ContentType="image/png"/>
  <Override PartName="/ppt/media/image5.wmf" ContentType="image/x-wmf"/>
  <Override PartName="/ppt/media/image30.wmf" ContentType="image/x-wmf"/>
  <Override PartName="/ppt/media/image1.jpeg" ContentType="image/jpeg"/>
  <Override PartName="/ppt/media/image10.png" ContentType="image/png"/>
  <Override PartName="/ppt/media/image6.png" ContentType="image/png"/>
  <Override PartName="/ppt/media/image29.wmf" ContentType="image/x-wmf"/>
  <Override PartName="/ppt/media/image31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4.png" ContentType="image/png"/>
  <Override PartName="/ppt/media/image28.wmf" ContentType="image/x-wmf"/>
  <Override PartName="/ppt/media/image3.jpeg" ContentType="image/jpeg"/>
  <Override PartName="/ppt/media/image15.png" ContentType="image/png"/>
  <Override PartName="/ppt/media/image2.jpeg" ContentType="image/jpeg"/>
  <Override PartName="/ppt/media/image25.wmf" ContentType="image/x-wmf"/>
  <Override PartName="/ppt/media/image14.png" ContentType="image/png"/>
  <Override PartName="/ppt/media/image16.png" ContentType="image/png"/>
  <Override PartName="/ppt/media/image18.png" ContentType="image/png"/>
  <Override PartName="/ppt/media/image19.png" ContentType="image/png"/>
  <Override PartName="/ppt/media/image17.png" ContentType="image/png"/>
  <Override PartName="/ppt/media/image20.wmf" ContentType="image/x-wmf"/>
  <Override PartName="/ppt/media/image21.jpeg" ContentType="image/jpeg"/>
  <Override PartName="/ppt/media/image23.wmf" ContentType="image/x-wmf"/>
  <Override PartName="/ppt/media/image2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827320" y="6570720"/>
            <a:ext cx="106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253B-C47A-4D28-8D41-EF73E6ECC824}" type="slidenum">
              <a:rPr b="1" lang="es-E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s-ES" sz="900" spc="-1" strike="noStrike">
                <a:solidFill>
                  <a:srgbClr val="ffffff"/>
                </a:solidFill>
                <a:latin typeface="Arial"/>
              </a:rPr>
              <a:t> de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206280"/>
            <a:ext cx="914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Arial"/>
              </a:rPr>
              <a:t>PROYECTO EXPLOTACION PILAR NORT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240" y="6532560"/>
            <a:ext cx="9144000" cy="324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23040" y="6621480"/>
            <a:ext cx="143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ffffff"/>
                </a:solidFill>
                <a:latin typeface="Arial"/>
              </a:rPr>
              <a:t>UNIDAD PILAR NO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2600" y="65628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96840" y="661500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C567-F317-468C-80A8-53E1733CF6A2}" type="slidenum">
              <a:rPr b="0" lang="es-ES_tradnl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9218"/>
          <a:stretch/>
        </p:blipFill>
        <p:spPr>
          <a:xfrm>
            <a:off x="8116920" y="66600"/>
            <a:ext cx="931680" cy="6685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827320" y="6570720"/>
            <a:ext cx="106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641A-94D3-43F4-B388-FB667B2C4C81}" type="slidenum">
              <a:rPr b="1" lang="es-E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s-ES" sz="900" spc="-1" strike="noStrike">
                <a:solidFill>
                  <a:srgbClr val="ffffff"/>
                </a:solidFill>
                <a:latin typeface="Arial"/>
              </a:rPr>
              <a:t> de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586720" y="6480"/>
            <a:ext cx="554040" cy="698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-7920"/>
            <a:ext cx="914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Arial"/>
              </a:rPr>
              <a:t>ESTUDIO DE FACTIBILIDAD </a:t>
            </a:r>
            <a:br>
              <a:rPr sz="2000"/>
            </a:br>
            <a:r>
              <a:rPr b="1" lang="es-ES" sz="2000" spc="-1" strike="noStrike">
                <a:solidFill>
                  <a:srgbClr val="800000"/>
                </a:solidFill>
                <a:latin typeface="Arial"/>
              </a:rPr>
              <a:t>PROYECTO PILAR N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" y="6532560"/>
            <a:ext cx="9144000" cy="324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21960" y="6621480"/>
            <a:ext cx="461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ffffff"/>
                </a:solidFill>
                <a:latin typeface="Arial"/>
              </a:rPr>
              <a:t>VICEPRESIDENCIA CORPORATIVA DE PROYECTOS – PROYECTO PILAR NO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02600" y="65628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39640" y="661500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7094-7EEE-4C8B-BD3C-B37461804ACC}" type="slidenum">
              <a:rPr b="0" lang="es-ES_tradnl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../../../HVega003/Pilar%20Norte/Presentaci&#243;n/CCP%20API%20T06M400.ppt" TargetMode="External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44000" cy="6867360"/>
            <a:chOff x="0" y="0"/>
            <a:chExt cx="9144000" cy="6867360"/>
          </a:xfrm>
        </p:grpSpPr>
        <p:sp>
          <p:nvSpPr>
            <p:cNvPr id="89" name=""/>
            <p:cNvSpPr/>
            <p:nvPr/>
          </p:nvSpPr>
          <p:spPr>
            <a:xfrm>
              <a:off x="0" y="0"/>
              <a:ext cx="9144000" cy="6867360"/>
            </a:xfrm>
            <a:prstGeom prst="rect">
              <a:avLst/>
            </a:prstGeom>
            <a:solidFill>
              <a:srgbClr val="3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1"/>
            <a:srcRect l="0" t="13520" r="0" b="30254"/>
            <a:stretch/>
          </p:blipFill>
          <p:spPr>
            <a:xfrm>
              <a:off x="0" y="0"/>
              <a:ext cx="9144000" cy="34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/>
          <p:cNvSpPr/>
          <p:nvPr/>
        </p:nvSpPr>
        <p:spPr>
          <a:xfrm>
            <a:off x="393840" y="4443480"/>
            <a:ext cx="83865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22478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OYECTO EXPLOTACIÓN PILAR NO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478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9840" y="6126120"/>
            <a:ext cx="8381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9880" indent="-3809880">
              <a:lnSpc>
                <a:spcPct val="80000"/>
              </a:lnSpc>
              <a:tabLst>
                <a:tab algn="l" pos="0"/>
                <a:tab algn="l" pos="233676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CTUBR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734080" y="1244520"/>
            <a:ext cx="3276720" cy="240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ta UCL : 2120 ms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undimiento Avanzado por calle y 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ción galería 3,60 x 3,6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paciamiento 2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ura socavación 3,6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izo rocoso preacondicion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Área a socavar 67.400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23672" r="3151" b="9396"/>
          <a:stretch/>
        </p:blipFill>
        <p:spPr>
          <a:xfrm>
            <a:off x="5697360" y="4141800"/>
            <a:ext cx="3446640" cy="1816200"/>
          </a:xfrm>
          <a:prstGeom prst="rect">
            <a:avLst/>
          </a:prstGeom>
          <a:ln w="1908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52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NIVEL DE HUND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rcRect l="14392" t="0" r="18462" b="0"/>
          <a:stretch/>
        </p:blipFill>
        <p:spPr>
          <a:xfrm>
            <a:off x="190440" y="1222200"/>
            <a:ext cx="5268960" cy="509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5999040" y="1300320"/>
            <a:ext cx="3144960" cy="30636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ta NP: 2102 ms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ción galería 4,0x3,8 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lla: 20x15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quipos LHD 7yd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 PV con martil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 conectarán con GTI (L= 28 m; d=3,5 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Área polígono 51.897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 hunde Socavón Principal (Zanja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NIVEL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rcRect l="18038" t="10378" r="24554" b="0"/>
          <a:stretch/>
        </p:blipFill>
        <p:spPr>
          <a:xfrm>
            <a:off x="264960" y="1281240"/>
            <a:ext cx="5129280" cy="516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7" name="" descr=""/>
          <p:cNvPicPr/>
          <p:nvPr/>
        </p:nvPicPr>
        <p:blipFill>
          <a:blip r:embed="rId2"/>
          <a:srcRect l="33465" t="27589" r="44471" b="38061"/>
          <a:stretch/>
        </p:blipFill>
        <p:spPr>
          <a:xfrm>
            <a:off x="6056280" y="4546440"/>
            <a:ext cx="2684520" cy="184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515280" y="1770120"/>
            <a:ext cx="2590560" cy="32169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ta GTI: 2070 ms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ción galería 5,0 x 4,5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ción EV 5,5x4,5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 utilizarán LHD de 13 yd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emi-automát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da GTI será una zona confinada independ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OP hacia TTE8 (L = 84 m; Ø = 3,3 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GALERÍA TRANSPORTE INTERMEDIO (G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14511" t="4975" r="9993" b="5930"/>
          <a:stretch/>
        </p:blipFill>
        <p:spPr>
          <a:xfrm>
            <a:off x="100080" y="1204920"/>
            <a:ext cx="6256440" cy="470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>
            <a:hlinkClick r:id="rId1"/>
          </p:cNvPr>
          <p:cNvPicPr/>
          <p:nvPr/>
        </p:nvPicPr>
        <p:blipFill>
          <a:blip r:embed="rId2"/>
          <a:srcRect l="14673" t="12739" r="0" b="6038"/>
          <a:stretch/>
        </p:blipFill>
        <p:spPr>
          <a:xfrm>
            <a:off x="4713120" y="3359160"/>
            <a:ext cx="4430880" cy="3117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62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METODOLOGÍA DE EXPLO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rcRect l="7754" t="7387" r="2565" b="0"/>
          <a:stretch/>
        </p:blipFill>
        <p:spPr>
          <a:xfrm>
            <a:off x="304920" y="1287360"/>
            <a:ext cx="5248080" cy="3641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64" name=""/>
          <p:cNvSpPr/>
          <p:nvPr/>
        </p:nvSpPr>
        <p:spPr>
          <a:xfrm>
            <a:off x="5683320" y="1638360"/>
            <a:ext cx="3276360" cy="12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odología por bloqu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da bloque por HA por calles y P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e estar preacondicionado antes de hundi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EQUIPOS PRINCIPALES DE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20840" y="1738440"/>
            <a:ext cx="845964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DO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52320" y="1346040"/>
            <a:ext cx="7877160" cy="49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587520" y="307188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cc3300"/>
                </a:solidFill>
                <a:latin typeface="Arial"/>
                <a:ea typeface="Times New Roman"/>
              </a:rPr>
              <a:t>GRA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155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23985" t="29945" r="25275" b="29104"/>
          <a:stretch/>
        </p:blipFill>
        <p:spPr>
          <a:xfrm>
            <a:off x="709560" y="2438280"/>
            <a:ext cx="775332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8760" y="3068640"/>
            <a:ext cx="184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6640" y="2449440"/>
            <a:ext cx="7956360" cy="2168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52360" y="174600"/>
            <a:ext cx="6288120" cy="63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33360" y="24084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flección de Segur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cidentabilidad en Codelco a Septiembr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cidentes en la División El Teniente a Septiembr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095480" y="5354640"/>
            <a:ext cx="7842240" cy="888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487280" y="6222960"/>
            <a:ext cx="1656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*Incorpora accidente Fa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5344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5c00"/>
                </a:solidFill>
                <a:latin typeface="Arial"/>
              </a:rPr>
              <a:t>RIESGOS CRITICOS ASOCIADOS A NUESTRAS ACTIVIDAD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57040" y="1384200"/>
            <a:ext cx="8597880" cy="4897440"/>
            <a:chOff x="257040" y="1384200"/>
            <a:chExt cx="8597880" cy="4897440"/>
          </a:xfrm>
        </p:grpSpPr>
        <p:sp>
          <p:nvSpPr>
            <p:cNvPr id="103" name=""/>
            <p:cNvSpPr/>
            <p:nvPr/>
          </p:nvSpPr>
          <p:spPr>
            <a:xfrm>
              <a:off x="257040" y="1384200"/>
              <a:ext cx="8561520" cy="489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1436760" y="1460520"/>
              <a:ext cx="200808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5713560" y="1460520"/>
              <a:ext cx="200808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3"/>
            <a:stretch/>
          </p:blipFill>
          <p:spPr>
            <a:xfrm>
              <a:off x="317520" y="3073320"/>
              <a:ext cx="2006640" cy="155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4"/>
            <a:stretch/>
          </p:blipFill>
          <p:spPr>
            <a:xfrm>
              <a:off x="4611600" y="3073320"/>
              <a:ext cx="2006640" cy="155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5"/>
            <a:stretch/>
          </p:blipFill>
          <p:spPr>
            <a:xfrm>
              <a:off x="2482920" y="3073320"/>
              <a:ext cx="2006640" cy="156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6"/>
            <a:stretch/>
          </p:blipFill>
          <p:spPr>
            <a:xfrm>
              <a:off x="6783480" y="3073320"/>
              <a:ext cx="2006640" cy="155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7"/>
            <a:stretch/>
          </p:blipFill>
          <p:spPr>
            <a:xfrm>
              <a:off x="317520" y="4692600"/>
              <a:ext cx="2006640" cy="15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8"/>
            <a:stretch/>
          </p:blipFill>
          <p:spPr>
            <a:xfrm>
              <a:off x="3554280" y="1460520"/>
              <a:ext cx="20084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9"/>
            <a:stretch/>
          </p:blipFill>
          <p:spPr>
            <a:xfrm>
              <a:off x="2481120" y="4691160"/>
              <a:ext cx="2008440" cy="15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10"/>
            <a:stretch/>
          </p:blipFill>
          <p:spPr>
            <a:xfrm>
              <a:off x="6783480" y="4692600"/>
              <a:ext cx="2006640" cy="1550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" name=""/>
            <p:cNvGrpSpPr/>
            <p:nvPr/>
          </p:nvGrpSpPr>
          <p:grpSpPr>
            <a:xfrm>
              <a:off x="6140520" y="4692600"/>
              <a:ext cx="2714400" cy="1550880"/>
              <a:chOff x="6140520" y="4692600"/>
              <a:chExt cx="2714400" cy="1550880"/>
            </a:xfrm>
          </p:grpSpPr>
          <p:pic>
            <p:nvPicPr>
              <p:cNvPr id="11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783480" y="4692600"/>
                <a:ext cx="2006640" cy="15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6878520" y="5167440"/>
                <a:ext cx="1698840" cy="666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6539040" y="5288040"/>
                <a:ext cx="1106640" cy="486360"/>
                <a:chOff x="6539040" y="5288040"/>
                <a:chExt cx="1106640" cy="4863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6687000" y="5524920"/>
                  <a:ext cx="29160" cy="65520"/>
                </a:xfrm>
                <a:custGeom>
                  <a:avLst/>
                  <a:gdLst/>
                  <a:ahLst/>
                  <a:rect l="l" t="t" r="r" b="b"/>
                  <a:pathLst>
                    <a:path w="144" h="309">
                      <a:moveTo>
                        <a:pt x="39" y="0"/>
                      </a:moveTo>
                      <a:lnTo>
                        <a:pt x="111" y="0"/>
                      </a:lnTo>
                      <a:lnTo>
                        <a:pt x="132" y="10"/>
                      </a:lnTo>
                      <a:lnTo>
                        <a:pt x="144" y="30"/>
                      </a:lnTo>
                      <a:lnTo>
                        <a:pt x="143" y="277"/>
                      </a:lnTo>
                      <a:lnTo>
                        <a:pt x="134" y="297"/>
                      </a:lnTo>
                      <a:lnTo>
                        <a:pt x="110" y="309"/>
                      </a:lnTo>
                      <a:lnTo>
                        <a:pt x="35" y="309"/>
                      </a:lnTo>
                      <a:lnTo>
                        <a:pt x="12" y="300"/>
                      </a:lnTo>
                      <a:lnTo>
                        <a:pt x="0" y="274"/>
                      </a:lnTo>
                      <a:lnTo>
                        <a:pt x="0" y="36"/>
                      </a:lnTo>
                      <a:lnTo>
                        <a:pt x="15" y="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557400" y="5524920"/>
                  <a:ext cx="27360" cy="65520"/>
                </a:xfrm>
                <a:custGeom>
                  <a:avLst/>
                  <a:gdLst/>
                  <a:ahLst/>
                  <a:rect l="l" t="t" r="r" b="b"/>
                  <a:pathLst>
                    <a:path w="144" h="309">
                      <a:moveTo>
                        <a:pt x="39" y="0"/>
                      </a:moveTo>
                      <a:lnTo>
                        <a:pt x="111" y="0"/>
                      </a:lnTo>
                      <a:lnTo>
                        <a:pt x="132" y="10"/>
                      </a:lnTo>
                      <a:lnTo>
                        <a:pt x="144" y="30"/>
                      </a:lnTo>
                      <a:lnTo>
                        <a:pt x="143" y="277"/>
                      </a:lnTo>
                      <a:lnTo>
                        <a:pt x="134" y="297"/>
                      </a:lnTo>
                      <a:lnTo>
                        <a:pt x="110" y="309"/>
                      </a:lnTo>
                      <a:lnTo>
                        <a:pt x="35" y="309"/>
                      </a:lnTo>
                      <a:lnTo>
                        <a:pt x="12" y="300"/>
                      </a:lnTo>
                      <a:lnTo>
                        <a:pt x="0" y="274"/>
                      </a:lnTo>
                      <a:lnTo>
                        <a:pt x="0" y="36"/>
                      </a:lnTo>
                      <a:lnTo>
                        <a:pt x="15" y="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539040" y="5578920"/>
                  <a:ext cx="27360" cy="65160"/>
                </a:xfrm>
                <a:custGeom>
                  <a:avLst/>
                  <a:gdLst/>
                  <a:ahLst/>
                  <a:rect l="l" t="t" r="r" b="b"/>
                  <a:pathLst>
                    <a:path w="144" h="309">
                      <a:moveTo>
                        <a:pt x="39" y="0"/>
                      </a:moveTo>
                      <a:lnTo>
                        <a:pt x="111" y="0"/>
                      </a:lnTo>
                      <a:lnTo>
                        <a:pt x="132" y="10"/>
                      </a:lnTo>
                      <a:lnTo>
                        <a:pt x="144" y="30"/>
                      </a:lnTo>
                      <a:lnTo>
                        <a:pt x="143" y="277"/>
                      </a:lnTo>
                      <a:lnTo>
                        <a:pt x="134" y="297"/>
                      </a:lnTo>
                      <a:lnTo>
                        <a:pt x="110" y="309"/>
                      </a:lnTo>
                      <a:lnTo>
                        <a:pt x="35" y="309"/>
                      </a:lnTo>
                      <a:lnTo>
                        <a:pt x="12" y="300"/>
                      </a:lnTo>
                      <a:lnTo>
                        <a:pt x="0" y="274"/>
                      </a:lnTo>
                      <a:lnTo>
                        <a:pt x="0" y="36"/>
                      </a:lnTo>
                      <a:lnTo>
                        <a:pt x="15" y="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635160" y="5288040"/>
                  <a:ext cx="1007280" cy="405000"/>
                </a:xfrm>
                <a:custGeom>
                  <a:avLst/>
                  <a:gdLst/>
                  <a:ahLst/>
                  <a:rect l="l" t="t" r="r" b="b"/>
                  <a:pathLst>
                    <a:path w="5391" h="2133">
                      <a:moveTo>
                        <a:pt x="1" y="2131"/>
                      </a:moveTo>
                      <a:lnTo>
                        <a:pt x="0" y="1249"/>
                      </a:lnTo>
                      <a:lnTo>
                        <a:pt x="150" y="1230"/>
                      </a:lnTo>
                      <a:lnTo>
                        <a:pt x="150" y="967"/>
                      </a:lnTo>
                      <a:lnTo>
                        <a:pt x="243" y="966"/>
                      </a:lnTo>
                      <a:lnTo>
                        <a:pt x="1611" y="597"/>
                      </a:lnTo>
                      <a:lnTo>
                        <a:pt x="1618" y="618"/>
                      </a:lnTo>
                      <a:lnTo>
                        <a:pt x="1680" y="603"/>
                      </a:lnTo>
                      <a:lnTo>
                        <a:pt x="1687" y="589"/>
                      </a:lnTo>
                      <a:lnTo>
                        <a:pt x="1711" y="583"/>
                      </a:lnTo>
                      <a:lnTo>
                        <a:pt x="1735" y="588"/>
                      </a:lnTo>
                      <a:lnTo>
                        <a:pt x="1746" y="616"/>
                      </a:lnTo>
                      <a:lnTo>
                        <a:pt x="1738" y="642"/>
                      </a:lnTo>
                      <a:lnTo>
                        <a:pt x="1713" y="651"/>
                      </a:lnTo>
                      <a:lnTo>
                        <a:pt x="1687" y="643"/>
                      </a:lnTo>
                      <a:lnTo>
                        <a:pt x="1632" y="660"/>
                      </a:lnTo>
                      <a:lnTo>
                        <a:pt x="1632" y="681"/>
                      </a:lnTo>
                      <a:lnTo>
                        <a:pt x="396" y="1015"/>
                      </a:lnTo>
                      <a:lnTo>
                        <a:pt x="396" y="1194"/>
                      </a:lnTo>
                      <a:lnTo>
                        <a:pt x="1812" y="987"/>
                      </a:lnTo>
                      <a:lnTo>
                        <a:pt x="1813" y="474"/>
                      </a:lnTo>
                      <a:lnTo>
                        <a:pt x="1696" y="475"/>
                      </a:lnTo>
                      <a:lnTo>
                        <a:pt x="1695" y="408"/>
                      </a:lnTo>
                      <a:lnTo>
                        <a:pt x="3705" y="409"/>
                      </a:lnTo>
                      <a:lnTo>
                        <a:pt x="3703" y="474"/>
                      </a:lnTo>
                      <a:lnTo>
                        <a:pt x="3582" y="475"/>
                      </a:lnTo>
                      <a:lnTo>
                        <a:pt x="3580" y="987"/>
                      </a:lnTo>
                      <a:lnTo>
                        <a:pt x="4995" y="1192"/>
                      </a:lnTo>
                      <a:lnTo>
                        <a:pt x="4995" y="969"/>
                      </a:lnTo>
                      <a:lnTo>
                        <a:pt x="5041" y="967"/>
                      </a:lnTo>
                      <a:lnTo>
                        <a:pt x="3960" y="126"/>
                      </a:lnTo>
                      <a:lnTo>
                        <a:pt x="3973" y="105"/>
                      </a:lnTo>
                      <a:lnTo>
                        <a:pt x="3922" y="67"/>
                      </a:lnTo>
                      <a:lnTo>
                        <a:pt x="3915" y="70"/>
                      </a:lnTo>
                      <a:lnTo>
                        <a:pt x="3889" y="58"/>
                      </a:lnTo>
                      <a:lnTo>
                        <a:pt x="3882" y="33"/>
                      </a:lnTo>
                      <a:lnTo>
                        <a:pt x="3891" y="10"/>
                      </a:lnTo>
                      <a:lnTo>
                        <a:pt x="3918" y="0"/>
                      </a:lnTo>
                      <a:lnTo>
                        <a:pt x="3943" y="10"/>
                      </a:lnTo>
                      <a:lnTo>
                        <a:pt x="3951" y="33"/>
                      </a:lnTo>
                      <a:lnTo>
                        <a:pt x="3999" y="73"/>
                      </a:lnTo>
                      <a:lnTo>
                        <a:pt x="4011" y="55"/>
                      </a:lnTo>
                      <a:lnTo>
                        <a:pt x="5179" y="966"/>
                      </a:lnTo>
                      <a:lnTo>
                        <a:pt x="5241" y="970"/>
                      </a:lnTo>
                      <a:lnTo>
                        <a:pt x="5241" y="1227"/>
                      </a:lnTo>
                      <a:lnTo>
                        <a:pt x="5391" y="1252"/>
                      </a:lnTo>
                      <a:lnTo>
                        <a:pt x="5391" y="2131"/>
                      </a:lnTo>
                      <a:lnTo>
                        <a:pt x="5292" y="2130"/>
                      </a:lnTo>
                      <a:lnTo>
                        <a:pt x="5274" y="2037"/>
                      </a:lnTo>
                      <a:lnTo>
                        <a:pt x="5235" y="1947"/>
                      </a:lnTo>
                      <a:lnTo>
                        <a:pt x="5175" y="1857"/>
                      </a:lnTo>
                      <a:lnTo>
                        <a:pt x="5089" y="1780"/>
                      </a:lnTo>
                      <a:lnTo>
                        <a:pt x="5007" y="1732"/>
                      </a:lnTo>
                      <a:lnTo>
                        <a:pt x="4908" y="1699"/>
                      </a:lnTo>
                      <a:lnTo>
                        <a:pt x="4804" y="1689"/>
                      </a:lnTo>
                      <a:lnTo>
                        <a:pt x="3847" y="1689"/>
                      </a:lnTo>
                      <a:lnTo>
                        <a:pt x="3753" y="1699"/>
                      </a:lnTo>
                      <a:lnTo>
                        <a:pt x="3667" y="1726"/>
                      </a:lnTo>
                      <a:lnTo>
                        <a:pt x="3568" y="1777"/>
                      </a:lnTo>
                      <a:lnTo>
                        <a:pt x="3486" y="1848"/>
                      </a:lnTo>
                      <a:lnTo>
                        <a:pt x="3420" y="1939"/>
                      </a:lnTo>
                      <a:lnTo>
                        <a:pt x="3382" y="2034"/>
                      </a:lnTo>
                      <a:lnTo>
                        <a:pt x="3360" y="2131"/>
                      </a:lnTo>
                      <a:lnTo>
                        <a:pt x="2034" y="2130"/>
                      </a:lnTo>
                      <a:lnTo>
                        <a:pt x="2011" y="2031"/>
                      </a:lnTo>
                      <a:lnTo>
                        <a:pt x="1969" y="1938"/>
                      </a:lnTo>
                      <a:lnTo>
                        <a:pt x="1908" y="1852"/>
                      </a:lnTo>
                      <a:lnTo>
                        <a:pt x="1833" y="1783"/>
                      </a:lnTo>
                      <a:lnTo>
                        <a:pt x="1740" y="1732"/>
                      </a:lnTo>
                      <a:lnTo>
                        <a:pt x="1642" y="1699"/>
                      </a:lnTo>
                      <a:lnTo>
                        <a:pt x="1543" y="1689"/>
                      </a:lnTo>
                      <a:lnTo>
                        <a:pt x="585" y="1689"/>
                      </a:lnTo>
                      <a:lnTo>
                        <a:pt x="492" y="1699"/>
                      </a:lnTo>
                      <a:lnTo>
                        <a:pt x="390" y="1731"/>
                      </a:lnTo>
                      <a:lnTo>
                        <a:pt x="301" y="1782"/>
                      </a:lnTo>
                      <a:lnTo>
                        <a:pt x="228" y="1846"/>
                      </a:lnTo>
                      <a:lnTo>
                        <a:pt x="162" y="1936"/>
                      </a:lnTo>
                      <a:lnTo>
                        <a:pt x="124" y="2025"/>
                      </a:lnTo>
                      <a:lnTo>
                        <a:pt x="97" y="2133"/>
                      </a:lnTo>
                      <a:lnTo>
                        <a:pt x="1" y="2131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6675840" y="5634360"/>
                  <a:ext cx="137160" cy="1386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855480" y="5634360"/>
                  <a:ext cx="135000" cy="1386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286760" y="5634360"/>
                  <a:ext cx="135000" cy="1386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464600" y="5634360"/>
                  <a:ext cx="136800" cy="1386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6" name=""/>
                <p:cNvGrpSpPr/>
                <p:nvPr/>
              </p:nvGrpSpPr>
              <p:grpSpPr>
                <a:xfrm>
                  <a:off x="6632640" y="5290920"/>
                  <a:ext cx="1013040" cy="483480"/>
                  <a:chOff x="6632640" y="5290920"/>
                  <a:chExt cx="1013040" cy="48348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>
                    <a:off x="7532640" y="5611320"/>
                    <a:ext cx="9216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51"/>
                        </a:moveTo>
                        <a:lnTo>
                          <a:pt x="47" y="39"/>
                        </a:lnTo>
                        <a:lnTo>
                          <a:pt x="43" y="28"/>
                        </a:lnTo>
                        <a:lnTo>
                          <a:pt x="37" y="19"/>
                        </a:lnTo>
                        <a:lnTo>
                          <a:pt x="29" y="11"/>
                        </a:lnTo>
                        <a:lnTo>
                          <a:pt x="20" y="5"/>
                        </a:lnTo>
                        <a:lnTo>
                          <a:pt x="10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 flipH="1" flipV="1">
                    <a:off x="7302960" y="5477400"/>
                    <a:ext cx="340920" cy="50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flipV="1">
                    <a:off x="6633000" y="5527800"/>
                    <a:ext cx="1440" cy="1663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6853320" y="5635800"/>
                    <a:ext cx="1368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1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1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6922080" y="5611320"/>
                    <a:ext cx="9216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51"/>
                        </a:moveTo>
                        <a:lnTo>
                          <a:pt x="47" y="39"/>
                        </a:lnTo>
                        <a:lnTo>
                          <a:pt x="43" y="28"/>
                        </a:lnTo>
                        <a:lnTo>
                          <a:pt x="37" y="19"/>
                        </a:lnTo>
                        <a:lnTo>
                          <a:pt x="29" y="11"/>
                        </a:lnTo>
                        <a:lnTo>
                          <a:pt x="20" y="5"/>
                        </a:lnTo>
                        <a:lnTo>
                          <a:pt x="10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6651360" y="5611320"/>
                    <a:ext cx="9216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0"/>
                        </a:moveTo>
                        <a:lnTo>
                          <a:pt x="39" y="1"/>
                        </a:lnTo>
                        <a:lnTo>
                          <a:pt x="29" y="5"/>
                        </a:lnTo>
                        <a:lnTo>
                          <a:pt x="20" y="11"/>
                        </a:lnTo>
                        <a:lnTo>
                          <a:pt x="13" y="19"/>
                        </a:lnTo>
                        <a:lnTo>
                          <a:pt x="6" y="28"/>
                        </a:lnTo>
                        <a:lnTo>
                          <a:pt x="2" y="39"/>
                        </a:lnTo>
                        <a:lnTo>
                          <a:pt x="0" y="5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6675480" y="5635800"/>
                    <a:ext cx="13716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1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1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464240" y="5635800"/>
                    <a:ext cx="1368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1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1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7286400" y="5635800"/>
                    <a:ext cx="13716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0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0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7262280" y="5611320"/>
                    <a:ext cx="9252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0"/>
                        </a:moveTo>
                        <a:lnTo>
                          <a:pt x="39" y="1"/>
                        </a:lnTo>
                        <a:lnTo>
                          <a:pt x="29" y="5"/>
                        </a:lnTo>
                        <a:lnTo>
                          <a:pt x="20" y="11"/>
                        </a:lnTo>
                        <a:lnTo>
                          <a:pt x="13" y="19"/>
                        </a:lnTo>
                        <a:lnTo>
                          <a:pt x="6" y="28"/>
                        </a:lnTo>
                        <a:lnTo>
                          <a:pt x="2" y="39"/>
                        </a:lnTo>
                        <a:lnTo>
                          <a:pt x="0" y="5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flipH="1">
                    <a:off x="7013880" y="5694480"/>
                    <a:ext cx="24804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>
                    <a:off x="6632640" y="5694480"/>
                    <a:ext cx="183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flipH="1">
                    <a:off x="6950880" y="5367960"/>
                    <a:ext cx="37404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6971760" y="5477400"/>
                    <a:ext cx="331200" cy="14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9" h="86">
                        <a:moveTo>
                          <a:pt x="0" y="0"/>
                        </a:moveTo>
                        <a:lnTo>
                          <a:pt x="1" y="86"/>
                        </a:lnTo>
                        <a:lnTo>
                          <a:pt x="179" y="8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6951240" y="5367960"/>
                    <a:ext cx="3754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8">
                        <a:moveTo>
                          <a:pt x="0" y="0"/>
                        </a:moveTo>
                        <a:lnTo>
                          <a:pt x="0" y="8"/>
                        </a:lnTo>
                        <a:lnTo>
                          <a:pt x="203" y="8"/>
                        </a:lnTo>
                        <a:lnTo>
                          <a:pt x="20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7023600" y="5596560"/>
                    <a:ext cx="2203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flipV="1">
                    <a:off x="6633000" y="5477400"/>
                    <a:ext cx="338760" cy="50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V="1">
                    <a:off x="6677640" y="5403960"/>
                    <a:ext cx="257040" cy="69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flipV="1">
                    <a:off x="6706800" y="5420160"/>
                    <a:ext cx="231120" cy="633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6660720" y="5473800"/>
                    <a:ext cx="4608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6706800" y="5473800"/>
                    <a:ext cx="1800" cy="424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flipV="1">
                    <a:off x="6660720" y="5473800"/>
                    <a:ext cx="1440" cy="50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flipH="1">
                    <a:off x="6743880" y="5611320"/>
                    <a:ext cx="17784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V="1">
                    <a:off x="6971760" y="5380560"/>
                    <a:ext cx="1440" cy="961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6947640" y="5400720"/>
                    <a:ext cx="129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9">
                        <a:moveTo>
                          <a:pt x="7" y="5"/>
                        </a:moveTo>
                        <a:lnTo>
                          <a:pt x="6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1" y="7"/>
                        </a:lnTo>
                        <a:lnTo>
                          <a:pt x="3" y="9"/>
                        </a:lnTo>
                        <a:lnTo>
                          <a:pt x="6" y="7"/>
                        </a:lnTo>
                        <a:lnTo>
                          <a:pt x="7" y="5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flipH="1" flipV="1">
                    <a:off x="6934680" y="5403600"/>
                    <a:ext cx="3240" cy="162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flipV="1">
                    <a:off x="6938280" y="5413320"/>
                    <a:ext cx="11160" cy="3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flipV="1">
                    <a:off x="6936480" y="5405040"/>
                    <a:ext cx="10800" cy="3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7023600" y="5380920"/>
                    <a:ext cx="1800" cy="215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flipV="1">
                    <a:off x="7303320" y="5380560"/>
                    <a:ext cx="1800" cy="961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7303320" y="5477400"/>
                    <a:ext cx="1800" cy="1400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7243920" y="5380920"/>
                    <a:ext cx="1440" cy="215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7136640" y="5380920"/>
                    <a:ext cx="1800" cy="215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7143840" y="5380920"/>
                    <a:ext cx="1440" cy="215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flipH="1" flipV="1">
                    <a:off x="7384320" y="5302440"/>
                    <a:ext cx="218520" cy="1713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flipH="1">
                    <a:off x="7569360" y="5473800"/>
                    <a:ext cx="4428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flipH="1">
                    <a:off x="7354800" y="5611320"/>
                    <a:ext cx="17748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flipH="1" flipV="1">
                    <a:off x="7375320" y="5315400"/>
                    <a:ext cx="201600" cy="158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7569720" y="5473800"/>
                    <a:ext cx="1800" cy="424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H="1">
                    <a:off x="7374960" y="5302440"/>
                    <a:ext cx="9000" cy="126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flipH="1" flipV="1">
                    <a:off x="7373160" y="5297760"/>
                    <a:ext cx="6840" cy="64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H="1" flipV="1">
                    <a:off x="7367760" y="5303880"/>
                    <a:ext cx="9000" cy="61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7360560" y="5290920"/>
                    <a:ext cx="129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8">
                        <a:moveTo>
                          <a:pt x="7" y="4"/>
                        </a:move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3" y="8"/>
                        </a:lnTo>
                        <a:lnTo>
                          <a:pt x="6" y="7"/>
                        </a:lnTo>
                        <a:lnTo>
                          <a:pt x="7" y="4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V="1">
                    <a:off x="7614360" y="5473800"/>
                    <a:ext cx="1440" cy="50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flipV="1">
                    <a:off x="7644240" y="5527800"/>
                    <a:ext cx="1440" cy="1663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7625160" y="5694480"/>
                    <a:ext cx="187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3" name=""/>
              <p:cNvGrpSpPr/>
              <p:nvPr/>
            </p:nvGrpSpPr>
            <p:grpSpPr>
              <a:xfrm>
                <a:off x="7811640" y="5302440"/>
                <a:ext cx="1043280" cy="473040"/>
                <a:chOff x="7811640" y="5302440"/>
                <a:chExt cx="1043280" cy="473040"/>
              </a:xfrm>
            </p:grpSpPr>
            <p:sp>
              <p:nvSpPr>
                <p:cNvPr id="174" name=""/>
                <p:cNvSpPr/>
                <p:nvPr/>
              </p:nvSpPr>
              <p:spPr>
                <a:xfrm flipH="1">
                  <a:off x="8687880" y="5532480"/>
                  <a:ext cx="27360" cy="63720"/>
                </a:xfrm>
                <a:custGeom>
                  <a:avLst/>
                  <a:gdLst/>
                  <a:ahLst/>
                  <a:rect l="l" t="t" r="r" b="b"/>
                  <a:pathLst>
                    <a:path w="144" h="309">
                      <a:moveTo>
                        <a:pt x="39" y="0"/>
                      </a:moveTo>
                      <a:lnTo>
                        <a:pt x="111" y="0"/>
                      </a:lnTo>
                      <a:lnTo>
                        <a:pt x="132" y="10"/>
                      </a:lnTo>
                      <a:lnTo>
                        <a:pt x="144" y="30"/>
                      </a:lnTo>
                      <a:lnTo>
                        <a:pt x="143" y="277"/>
                      </a:lnTo>
                      <a:lnTo>
                        <a:pt x="134" y="297"/>
                      </a:lnTo>
                      <a:lnTo>
                        <a:pt x="110" y="309"/>
                      </a:lnTo>
                      <a:lnTo>
                        <a:pt x="35" y="309"/>
                      </a:lnTo>
                      <a:lnTo>
                        <a:pt x="12" y="300"/>
                      </a:lnTo>
                      <a:lnTo>
                        <a:pt x="0" y="274"/>
                      </a:lnTo>
                      <a:lnTo>
                        <a:pt x="0" y="36"/>
                      </a:lnTo>
                      <a:lnTo>
                        <a:pt x="15" y="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H="1">
                  <a:off x="8811720" y="5532480"/>
                  <a:ext cx="25920" cy="63720"/>
                </a:xfrm>
                <a:custGeom>
                  <a:avLst/>
                  <a:gdLst/>
                  <a:ahLst/>
                  <a:rect l="l" t="t" r="r" b="b"/>
                  <a:pathLst>
                    <a:path w="144" h="309">
                      <a:moveTo>
                        <a:pt x="39" y="0"/>
                      </a:moveTo>
                      <a:lnTo>
                        <a:pt x="111" y="0"/>
                      </a:lnTo>
                      <a:lnTo>
                        <a:pt x="132" y="10"/>
                      </a:lnTo>
                      <a:lnTo>
                        <a:pt x="144" y="30"/>
                      </a:lnTo>
                      <a:lnTo>
                        <a:pt x="143" y="277"/>
                      </a:lnTo>
                      <a:lnTo>
                        <a:pt x="134" y="297"/>
                      </a:lnTo>
                      <a:lnTo>
                        <a:pt x="110" y="309"/>
                      </a:lnTo>
                      <a:lnTo>
                        <a:pt x="35" y="309"/>
                      </a:lnTo>
                      <a:lnTo>
                        <a:pt x="12" y="300"/>
                      </a:lnTo>
                      <a:lnTo>
                        <a:pt x="0" y="274"/>
                      </a:lnTo>
                      <a:lnTo>
                        <a:pt x="0" y="36"/>
                      </a:lnTo>
                      <a:lnTo>
                        <a:pt x="15" y="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>
                  <a:off x="8829000" y="5585040"/>
                  <a:ext cx="25920" cy="63360"/>
                </a:xfrm>
                <a:custGeom>
                  <a:avLst/>
                  <a:gdLst/>
                  <a:ahLst/>
                  <a:rect l="l" t="t" r="r" b="b"/>
                  <a:pathLst>
                    <a:path w="144" h="309">
                      <a:moveTo>
                        <a:pt x="39" y="0"/>
                      </a:moveTo>
                      <a:lnTo>
                        <a:pt x="111" y="0"/>
                      </a:lnTo>
                      <a:lnTo>
                        <a:pt x="132" y="10"/>
                      </a:lnTo>
                      <a:lnTo>
                        <a:pt x="144" y="30"/>
                      </a:lnTo>
                      <a:lnTo>
                        <a:pt x="143" y="277"/>
                      </a:lnTo>
                      <a:lnTo>
                        <a:pt x="134" y="297"/>
                      </a:lnTo>
                      <a:lnTo>
                        <a:pt x="110" y="309"/>
                      </a:lnTo>
                      <a:lnTo>
                        <a:pt x="35" y="309"/>
                      </a:lnTo>
                      <a:lnTo>
                        <a:pt x="12" y="300"/>
                      </a:lnTo>
                      <a:lnTo>
                        <a:pt x="0" y="274"/>
                      </a:lnTo>
                      <a:lnTo>
                        <a:pt x="0" y="36"/>
                      </a:lnTo>
                      <a:lnTo>
                        <a:pt x="15" y="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H="1">
                  <a:off x="7814880" y="5302440"/>
                  <a:ext cx="949320" cy="393840"/>
                </a:xfrm>
                <a:custGeom>
                  <a:avLst/>
                  <a:gdLst/>
                  <a:ahLst/>
                  <a:rect l="l" t="t" r="r" b="b"/>
                  <a:pathLst>
                    <a:path w="5391" h="2133">
                      <a:moveTo>
                        <a:pt x="1" y="2131"/>
                      </a:moveTo>
                      <a:lnTo>
                        <a:pt x="0" y="1249"/>
                      </a:lnTo>
                      <a:lnTo>
                        <a:pt x="150" y="1230"/>
                      </a:lnTo>
                      <a:lnTo>
                        <a:pt x="150" y="967"/>
                      </a:lnTo>
                      <a:lnTo>
                        <a:pt x="243" y="966"/>
                      </a:lnTo>
                      <a:lnTo>
                        <a:pt x="1611" y="597"/>
                      </a:lnTo>
                      <a:lnTo>
                        <a:pt x="1618" y="618"/>
                      </a:lnTo>
                      <a:lnTo>
                        <a:pt x="1680" y="603"/>
                      </a:lnTo>
                      <a:lnTo>
                        <a:pt x="1687" y="589"/>
                      </a:lnTo>
                      <a:lnTo>
                        <a:pt x="1711" y="583"/>
                      </a:lnTo>
                      <a:lnTo>
                        <a:pt x="1735" y="588"/>
                      </a:lnTo>
                      <a:lnTo>
                        <a:pt x="1746" y="616"/>
                      </a:lnTo>
                      <a:lnTo>
                        <a:pt x="1738" y="642"/>
                      </a:lnTo>
                      <a:lnTo>
                        <a:pt x="1713" y="651"/>
                      </a:lnTo>
                      <a:lnTo>
                        <a:pt x="1687" y="643"/>
                      </a:lnTo>
                      <a:lnTo>
                        <a:pt x="1632" y="660"/>
                      </a:lnTo>
                      <a:lnTo>
                        <a:pt x="1632" y="681"/>
                      </a:lnTo>
                      <a:lnTo>
                        <a:pt x="396" y="1015"/>
                      </a:lnTo>
                      <a:lnTo>
                        <a:pt x="396" y="1194"/>
                      </a:lnTo>
                      <a:lnTo>
                        <a:pt x="1812" y="987"/>
                      </a:lnTo>
                      <a:lnTo>
                        <a:pt x="1813" y="474"/>
                      </a:lnTo>
                      <a:lnTo>
                        <a:pt x="1696" y="475"/>
                      </a:lnTo>
                      <a:lnTo>
                        <a:pt x="1695" y="408"/>
                      </a:lnTo>
                      <a:lnTo>
                        <a:pt x="3705" y="409"/>
                      </a:lnTo>
                      <a:lnTo>
                        <a:pt x="3703" y="474"/>
                      </a:lnTo>
                      <a:lnTo>
                        <a:pt x="3582" y="475"/>
                      </a:lnTo>
                      <a:lnTo>
                        <a:pt x="3580" y="987"/>
                      </a:lnTo>
                      <a:lnTo>
                        <a:pt x="4995" y="1192"/>
                      </a:lnTo>
                      <a:lnTo>
                        <a:pt x="4995" y="969"/>
                      </a:lnTo>
                      <a:lnTo>
                        <a:pt x="5041" y="967"/>
                      </a:lnTo>
                      <a:lnTo>
                        <a:pt x="3960" y="126"/>
                      </a:lnTo>
                      <a:lnTo>
                        <a:pt x="3973" y="105"/>
                      </a:lnTo>
                      <a:lnTo>
                        <a:pt x="3922" y="67"/>
                      </a:lnTo>
                      <a:lnTo>
                        <a:pt x="3915" y="70"/>
                      </a:lnTo>
                      <a:lnTo>
                        <a:pt x="3889" y="58"/>
                      </a:lnTo>
                      <a:lnTo>
                        <a:pt x="3882" y="33"/>
                      </a:lnTo>
                      <a:lnTo>
                        <a:pt x="3891" y="10"/>
                      </a:lnTo>
                      <a:lnTo>
                        <a:pt x="3918" y="0"/>
                      </a:lnTo>
                      <a:lnTo>
                        <a:pt x="3943" y="10"/>
                      </a:lnTo>
                      <a:lnTo>
                        <a:pt x="3951" y="33"/>
                      </a:lnTo>
                      <a:lnTo>
                        <a:pt x="3999" y="73"/>
                      </a:lnTo>
                      <a:lnTo>
                        <a:pt x="4011" y="55"/>
                      </a:lnTo>
                      <a:lnTo>
                        <a:pt x="5179" y="966"/>
                      </a:lnTo>
                      <a:lnTo>
                        <a:pt x="5241" y="970"/>
                      </a:lnTo>
                      <a:lnTo>
                        <a:pt x="5241" y="1227"/>
                      </a:lnTo>
                      <a:lnTo>
                        <a:pt x="5391" y="1252"/>
                      </a:lnTo>
                      <a:lnTo>
                        <a:pt x="5391" y="2131"/>
                      </a:lnTo>
                      <a:lnTo>
                        <a:pt x="5292" y="2130"/>
                      </a:lnTo>
                      <a:lnTo>
                        <a:pt x="5274" y="2037"/>
                      </a:lnTo>
                      <a:lnTo>
                        <a:pt x="5235" y="1947"/>
                      </a:lnTo>
                      <a:lnTo>
                        <a:pt x="5175" y="1857"/>
                      </a:lnTo>
                      <a:lnTo>
                        <a:pt x="5089" y="1780"/>
                      </a:lnTo>
                      <a:lnTo>
                        <a:pt x="5007" y="1732"/>
                      </a:lnTo>
                      <a:lnTo>
                        <a:pt x="4908" y="1699"/>
                      </a:lnTo>
                      <a:lnTo>
                        <a:pt x="4804" y="1689"/>
                      </a:lnTo>
                      <a:lnTo>
                        <a:pt x="3847" y="1689"/>
                      </a:lnTo>
                      <a:lnTo>
                        <a:pt x="3753" y="1699"/>
                      </a:lnTo>
                      <a:lnTo>
                        <a:pt x="3667" y="1726"/>
                      </a:lnTo>
                      <a:lnTo>
                        <a:pt x="3568" y="1777"/>
                      </a:lnTo>
                      <a:lnTo>
                        <a:pt x="3486" y="1848"/>
                      </a:lnTo>
                      <a:lnTo>
                        <a:pt x="3420" y="1939"/>
                      </a:lnTo>
                      <a:lnTo>
                        <a:pt x="3382" y="2034"/>
                      </a:lnTo>
                      <a:lnTo>
                        <a:pt x="3360" y="2131"/>
                      </a:lnTo>
                      <a:lnTo>
                        <a:pt x="2034" y="2130"/>
                      </a:lnTo>
                      <a:lnTo>
                        <a:pt x="2011" y="2031"/>
                      </a:lnTo>
                      <a:lnTo>
                        <a:pt x="1969" y="1938"/>
                      </a:lnTo>
                      <a:lnTo>
                        <a:pt x="1908" y="1852"/>
                      </a:lnTo>
                      <a:lnTo>
                        <a:pt x="1833" y="1783"/>
                      </a:lnTo>
                      <a:lnTo>
                        <a:pt x="1740" y="1732"/>
                      </a:lnTo>
                      <a:lnTo>
                        <a:pt x="1642" y="1699"/>
                      </a:lnTo>
                      <a:lnTo>
                        <a:pt x="1543" y="1689"/>
                      </a:lnTo>
                      <a:lnTo>
                        <a:pt x="585" y="1689"/>
                      </a:lnTo>
                      <a:lnTo>
                        <a:pt x="492" y="1699"/>
                      </a:lnTo>
                      <a:lnTo>
                        <a:pt x="390" y="1731"/>
                      </a:lnTo>
                      <a:lnTo>
                        <a:pt x="301" y="1782"/>
                      </a:lnTo>
                      <a:lnTo>
                        <a:pt x="228" y="1846"/>
                      </a:lnTo>
                      <a:lnTo>
                        <a:pt x="162" y="1936"/>
                      </a:lnTo>
                      <a:lnTo>
                        <a:pt x="124" y="2025"/>
                      </a:lnTo>
                      <a:lnTo>
                        <a:pt x="97" y="2133"/>
                      </a:lnTo>
                      <a:lnTo>
                        <a:pt x="1" y="2131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>
                  <a:off x="8596440" y="5639040"/>
                  <a:ext cx="129240" cy="1350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>
                  <a:off x="8429040" y="5639040"/>
                  <a:ext cx="127440" cy="1350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>
                  <a:off x="8022600" y="5639040"/>
                  <a:ext cx="127440" cy="1350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>
                  <a:off x="7853400" y="5639040"/>
                  <a:ext cx="128880" cy="1350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2" name=""/>
                <p:cNvGrpSpPr/>
                <p:nvPr/>
              </p:nvGrpSpPr>
              <p:grpSpPr>
                <a:xfrm>
                  <a:off x="7811640" y="5305320"/>
                  <a:ext cx="954360" cy="470160"/>
                  <a:chOff x="7811640" y="5305320"/>
                  <a:chExt cx="954360" cy="47016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>
                    <a:off x="7831080" y="5616720"/>
                    <a:ext cx="8676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51"/>
                        </a:moveTo>
                        <a:lnTo>
                          <a:pt x="47" y="39"/>
                        </a:lnTo>
                        <a:lnTo>
                          <a:pt x="43" y="28"/>
                        </a:lnTo>
                        <a:lnTo>
                          <a:pt x="37" y="19"/>
                        </a:lnTo>
                        <a:lnTo>
                          <a:pt x="29" y="11"/>
                        </a:lnTo>
                        <a:lnTo>
                          <a:pt x="20" y="5"/>
                        </a:lnTo>
                        <a:lnTo>
                          <a:pt x="10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V="1">
                    <a:off x="7813440" y="5486040"/>
                    <a:ext cx="321120" cy="493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 flipV="1">
                    <a:off x="8764560" y="5535720"/>
                    <a:ext cx="1440" cy="162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flipH="1">
                    <a:off x="8429400" y="5640480"/>
                    <a:ext cx="128880" cy="1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1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1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>
                    <a:off x="8406720" y="5616720"/>
                    <a:ext cx="8676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51"/>
                        </a:moveTo>
                        <a:lnTo>
                          <a:pt x="47" y="39"/>
                        </a:lnTo>
                        <a:lnTo>
                          <a:pt x="43" y="28"/>
                        </a:lnTo>
                        <a:lnTo>
                          <a:pt x="37" y="19"/>
                        </a:lnTo>
                        <a:lnTo>
                          <a:pt x="29" y="11"/>
                        </a:lnTo>
                        <a:lnTo>
                          <a:pt x="20" y="5"/>
                        </a:lnTo>
                        <a:lnTo>
                          <a:pt x="10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>
                    <a:off x="8661600" y="5616720"/>
                    <a:ext cx="8676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0"/>
                        </a:moveTo>
                        <a:lnTo>
                          <a:pt x="39" y="1"/>
                        </a:lnTo>
                        <a:lnTo>
                          <a:pt x="29" y="5"/>
                        </a:lnTo>
                        <a:lnTo>
                          <a:pt x="20" y="11"/>
                        </a:lnTo>
                        <a:lnTo>
                          <a:pt x="13" y="19"/>
                        </a:lnTo>
                        <a:lnTo>
                          <a:pt x="6" y="28"/>
                        </a:lnTo>
                        <a:lnTo>
                          <a:pt x="2" y="39"/>
                        </a:lnTo>
                        <a:lnTo>
                          <a:pt x="0" y="5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flipH="1">
                    <a:off x="8596440" y="5640480"/>
                    <a:ext cx="129240" cy="1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1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1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>
                    <a:off x="7853760" y="5640480"/>
                    <a:ext cx="128880" cy="1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1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1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>
                    <a:off x="8020800" y="5640480"/>
                    <a:ext cx="129240" cy="1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0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0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flipH="1">
                    <a:off x="8085960" y="5616720"/>
                    <a:ext cx="871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0"/>
                        </a:moveTo>
                        <a:lnTo>
                          <a:pt x="39" y="1"/>
                        </a:lnTo>
                        <a:lnTo>
                          <a:pt x="29" y="5"/>
                        </a:lnTo>
                        <a:lnTo>
                          <a:pt x="20" y="11"/>
                        </a:lnTo>
                        <a:lnTo>
                          <a:pt x="13" y="19"/>
                        </a:lnTo>
                        <a:lnTo>
                          <a:pt x="6" y="28"/>
                        </a:lnTo>
                        <a:lnTo>
                          <a:pt x="2" y="39"/>
                        </a:lnTo>
                        <a:lnTo>
                          <a:pt x="0" y="5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8173440" y="5697720"/>
                    <a:ext cx="23364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8748720" y="5697720"/>
                    <a:ext cx="1728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8114040" y="5380200"/>
                    <a:ext cx="35244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>
                    <a:off x="8134200" y="5486400"/>
                    <a:ext cx="31212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9" h="86">
                        <a:moveTo>
                          <a:pt x="0" y="0"/>
                        </a:moveTo>
                        <a:lnTo>
                          <a:pt x="1" y="86"/>
                        </a:lnTo>
                        <a:lnTo>
                          <a:pt x="179" y="8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>
                    <a:off x="8111880" y="5380200"/>
                    <a:ext cx="3538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8">
                        <a:moveTo>
                          <a:pt x="0" y="0"/>
                        </a:moveTo>
                        <a:lnTo>
                          <a:pt x="0" y="8"/>
                        </a:lnTo>
                        <a:lnTo>
                          <a:pt x="203" y="8"/>
                        </a:lnTo>
                        <a:lnTo>
                          <a:pt x="20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flipH="1">
                    <a:off x="8190360" y="5602320"/>
                    <a:ext cx="2077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flipV="1">
                    <a:off x="8446680" y="5486040"/>
                    <a:ext cx="319320" cy="493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H="1" flipV="1">
                    <a:off x="8481960" y="5414760"/>
                    <a:ext cx="242280" cy="680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flipH="1" flipV="1">
                    <a:off x="8478720" y="5430960"/>
                    <a:ext cx="217800" cy="61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>
                    <a:off x="8696880" y="5483160"/>
                    <a:ext cx="4320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>
                    <a:off x="8694720" y="5483160"/>
                    <a:ext cx="1800" cy="41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H="1" flipV="1">
                    <a:off x="8738640" y="5482800"/>
                    <a:ext cx="1440" cy="493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8493840" y="5616720"/>
                    <a:ext cx="1677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 flipV="1">
                    <a:off x="8445240" y="5392800"/>
                    <a:ext cx="1440" cy="936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H="1">
                    <a:off x="8457480" y="5411880"/>
                    <a:ext cx="12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9">
                        <a:moveTo>
                          <a:pt x="7" y="5"/>
                        </a:moveTo>
                        <a:lnTo>
                          <a:pt x="6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1" y="7"/>
                        </a:lnTo>
                        <a:lnTo>
                          <a:pt x="3" y="9"/>
                        </a:lnTo>
                        <a:lnTo>
                          <a:pt x="6" y="7"/>
                        </a:lnTo>
                        <a:lnTo>
                          <a:pt x="7" y="5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V="1">
                    <a:off x="8478720" y="5415120"/>
                    <a:ext cx="2880" cy="15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H="1" flipV="1">
                    <a:off x="8467920" y="5424120"/>
                    <a:ext cx="10440" cy="3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flipH="1" flipV="1">
                    <a:off x="8470080" y="5416200"/>
                    <a:ext cx="10080" cy="3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>
                    <a:off x="8396280" y="5392800"/>
                    <a:ext cx="1800" cy="209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flipH="1" flipV="1">
                    <a:off x="8132760" y="5392800"/>
                    <a:ext cx="1800" cy="936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flipH="1">
                    <a:off x="8132760" y="5486400"/>
                    <a:ext cx="1800" cy="136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flipH="1">
                    <a:off x="8188920" y="5392800"/>
                    <a:ext cx="1440" cy="209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H="1">
                    <a:off x="8289720" y="5392800"/>
                    <a:ext cx="1800" cy="209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H="1">
                    <a:off x="8283240" y="5392800"/>
                    <a:ext cx="1440" cy="209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V="1">
                    <a:off x="7851960" y="5316120"/>
                    <a:ext cx="205920" cy="1666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7841520" y="5483160"/>
                    <a:ext cx="4176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7918560" y="5616720"/>
                    <a:ext cx="16704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flipV="1">
                    <a:off x="7876440" y="5329080"/>
                    <a:ext cx="190080" cy="1540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flipH="1">
                    <a:off x="7881480" y="5483160"/>
                    <a:ext cx="1800" cy="41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8057880" y="5316480"/>
                    <a:ext cx="8640" cy="126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V="1">
                    <a:off x="8061480" y="5311800"/>
                    <a:ext cx="6480" cy="64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flipV="1">
                    <a:off x="8064720" y="5317920"/>
                    <a:ext cx="8640" cy="61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flipH="1">
                    <a:off x="8067960" y="5305320"/>
                    <a:ext cx="1224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8">
                        <a:moveTo>
                          <a:pt x="7" y="4"/>
                        </a:move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3" y="8"/>
                        </a:lnTo>
                        <a:lnTo>
                          <a:pt x="6" y="7"/>
                        </a:lnTo>
                        <a:lnTo>
                          <a:pt x="7" y="4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flipH="1" flipV="1">
                    <a:off x="7839720" y="5482800"/>
                    <a:ext cx="1440" cy="493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flipH="1" flipV="1">
                    <a:off x="7811640" y="5535720"/>
                    <a:ext cx="1440" cy="162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flipH="1">
                    <a:off x="7813440" y="5697720"/>
                    <a:ext cx="1764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9" name=""/>
              <p:cNvSpPr/>
              <p:nvPr/>
            </p:nvSpPr>
            <p:spPr>
              <a:xfrm>
                <a:off x="7473960" y="5194440"/>
                <a:ext cx="550800" cy="682560"/>
              </a:xfrm>
              <a:prstGeom prst="irregularSeal2">
                <a:avLst/>
              </a:prstGeom>
              <a:solidFill>
                <a:srgbClr val="ff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140520" y="4919760"/>
                <a:ext cx="639720" cy="1147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604360" y="5237280"/>
                <a:ext cx="163440" cy="70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6788160" y="5232240"/>
                <a:ext cx="6480" cy="77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985080" y="5911920"/>
                <a:ext cx="14158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Showcard Gothic"/>
                  </a:rPr>
                  <a:t>PELIGRO de CHOQUE DE TRENE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4" name="" descr=""/>
            <p:cNvPicPr/>
            <p:nvPr/>
          </p:nvPicPr>
          <p:blipFill>
            <a:blip r:embed="rId12"/>
            <a:stretch/>
          </p:blipFill>
          <p:spPr>
            <a:xfrm>
              <a:off x="4611600" y="4692600"/>
              <a:ext cx="2006640" cy="1550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539640" y="1555920"/>
            <a:ext cx="8172720" cy="35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ervas extraí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4 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33 % CuT ;  0,032%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cio producció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brero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o miner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 % prim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ción régim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.000 tp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rea a socavar             :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7.400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Primera piedra 20.600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izonte de vid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 años (20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maño miner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 40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INFORMACIÓ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UB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1040" y="1509840"/>
            <a:ext cx="8007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263760" y="1241280"/>
            <a:ext cx="5715000" cy="427356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479520" y="1547640"/>
            <a:ext cx="2493720" cy="3552840"/>
            <a:chOff x="479520" y="1547640"/>
            <a:chExt cx="2493720" cy="3552840"/>
          </a:xfrm>
        </p:grpSpPr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479520" y="1547640"/>
              <a:ext cx="2493720" cy="355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"/>
          <p:cNvSpPr/>
          <p:nvPr/>
        </p:nvSpPr>
        <p:spPr>
          <a:xfrm>
            <a:off x="1614600" y="2620800"/>
            <a:ext cx="865080" cy="7923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8716400">
            <a:off x="2313000" y="2302920"/>
            <a:ext cx="800280" cy="326880"/>
          </a:xfrm>
          <a:prstGeom prst="leftArrow">
            <a:avLst>
              <a:gd name="adj1" fmla="val 50000"/>
              <a:gd name="adj2" fmla="val 6120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rcRect l="0" t="0" r="0" b="9848"/>
          <a:stretch/>
        </p:blipFill>
        <p:spPr>
          <a:xfrm>
            <a:off x="831960" y="1351080"/>
            <a:ext cx="7454880" cy="4765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LEYES DE CO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rcRect l="0" t="8041" r="0" b="0"/>
          <a:stretch/>
        </p:blipFill>
        <p:spPr>
          <a:xfrm>
            <a:off x="1608120" y="1276200"/>
            <a:ext cx="5919840" cy="5229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MANEJO DE MI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098720" y="1274760"/>
            <a:ext cx="6964200" cy="5070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49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PREACONDICIO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2T22:55:11Z</dcterms:created>
  <dc:creator>Administrador</dc:creator>
  <dc:description/>
  <dc:language>en-US</dc:language>
  <cp:lastModifiedBy>LZenteno</cp:lastModifiedBy>
  <dcterms:modified xsi:type="dcterms:W3CDTF">2009-10-07T12:06:18Z</dcterms:modified>
  <cp:revision>470</cp:revision>
  <dc:subject/>
  <dc:title>PROYECTO .........</dc:title>
</cp:coreProperties>
</file>