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7.png" ContentType="image/png"/>
  <Override PartName="/ppt/media/image11.png" ContentType="image/png"/>
  <Override PartName="/ppt/media/image5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21.jpeg" ContentType="image/jpeg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9B2D-B5FC-4E66-88A5-F6610F6FF0AF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0628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EXPLOTACION PILAR NORT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3040" y="6621480"/>
            <a:ext cx="14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UNIDAD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968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17B5-6B5C-41F6-ABAD-FEC3502EE141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9218"/>
          <a:stretch/>
        </p:blipFill>
        <p:spPr>
          <a:xfrm>
            <a:off x="8116920" y="66600"/>
            <a:ext cx="931680" cy="668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3237-FDA0-4274-9E0F-D35F231704A5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586720" y="6480"/>
            <a:ext cx="554040" cy="698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-792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ESTUDIO DE FACTIBILIDAD </a:t>
            </a:r>
            <a:br>
              <a:rPr sz="2000"/>
            </a:b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PILAR N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1960" y="6621480"/>
            <a:ext cx="461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VICEPRESIDENCIA CORPORATIVA DE PROYECTOS – PROYECTO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96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3B34-5517-41F4-9C91-ECAAC035FC60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../HVega003/Pilar%20Norte/Presentaci&#243;n/CCP%20API%20T06M400.ppt" TargetMode="External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9144000" cy="6867360"/>
            </a:xfrm>
            <a:prstGeom prst="rect">
              <a:avLst/>
            </a:prstGeom>
            <a:solidFill>
              <a:srgbClr val="3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rcRect l="0" t="13520" r="0" b="30254"/>
            <a:stretch/>
          </p:blipFill>
          <p:spPr>
            <a:xfrm>
              <a:off x="0" y="0"/>
              <a:ext cx="9144000" cy="34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393840" y="4443480"/>
            <a:ext cx="838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YECTO EXPLOTACIÓN PILAR N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840" y="6126120"/>
            <a:ext cx="8381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9880" indent="-3809880">
              <a:lnSpc>
                <a:spcPct val="80000"/>
              </a:lnSpc>
              <a:tabLst>
                <a:tab algn="l" pos="0"/>
                <a:tab algn="l" pos="233676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34080" y="1244520"/>
            <a:ext cx="3276720" cy="240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UCL : 212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ndimiento Avanzado por calle y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3,60 x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aciamiento 2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ra socavación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izo rocoso preacondicion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a socavar 67.4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23672" r="3151" b="9396"/>
          <a:stretch/>
        </p:blipFill>
        <p:spPr>
          <a:xfrm>
            <a:off x="5697360" y="4141800"/>
            <a:ext cx="3446640" cy="181620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HU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14392" t="0" r="18462" b="0"/>
          <a:stretch/>
        </p:blipFill>
        <p:spPr>
          <a:xfrm>
            <a:off x="190440" y="1222200"/>
            <a:ext cx="5268960" cy="509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999040" y="1300320"/>
            <a:ext cx="3144960" cy="30636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NP: 2102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4,0x3,8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la: 20x1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os LHD 7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 PV con martil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 conectarán con GTI (L= 28 m; d=3,5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polígono 51.897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hunde Socavón Principal (Zanj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18038" t="10378" r="24554" b="0"/>
          <a:stretch/>
        </p:blipFill>
        <p:spPr>
          <a:xfrm>
            <a:off x="264960" y="1281240"/>
            <a:ext cx="5129280" cy="51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2"/>
          <a:srcRect l="33465" t="27589" r="44471" b="38061"/>
          <a:stretch/>
        </p:blipFill>
        <p:spPr>
          <a:xfrm>
            <a:off x="6056280" y="4546440"/>
            <a:ext cx="2684520" cy="18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15280" y="1770120"/>
            <a:ext cx="2590560" cy="3216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GTI: 207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5,0 x 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EV 5,5x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utilizarán LHD de 13 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mi-automá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GTI será una zona confinada independ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P hacia TTE8 (L = 84 m; Ø = 3,3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GALERÍA TRANSPORTE INTERMEDIO (G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4511" t="4975" r="9993" b="5930"/>
          <a:stretch/>
        </p:blipFill>
        <p:spPr>
          <a:xfrm>
            <a:off x="100080" y="1204920"/>
            <a:ext cx="6256440" cy="47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>
            <a:hlinkClick r:id="rId1"/>
          </p:cNvPr>
          <p:cNvPicPr/>
          <p:nvPr/>
        </p:nvPicPr>
        <p:blipFill>
          <a:blip r:embed="rId2"/>
          <a:srcRect l="14673" t="12739" r="0" b="6038"/>
          <a:stretch/>
        </p:blipFill>
        <p:spPr>
          <a:xfrm>
            <a:off x="4713120" y="3359160"/>
            <a:ext cx="443088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ETODOLOGÍA DE EXPL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rcRect l="7754" t="7387" r="2565" b="0"/>
          <a:stretch/>
        </p:blipFill>
        <p:spPr>
          <a:xfrm>
            <a:off x="304920" y="1287360"/>
            <a:ext cx="5248080" cy="364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5683320" y="1638360"/>
            <a:ext cx="3276360" cy="12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odología por bloqu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bloque por HA por calles y 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e estar preacondicionado antes de hund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EQUIPOS PRINCIPAL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20840" y="1738440"/>
            <a:ext cx="84596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D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52320" y="1346040"/>
            <a:ext cx="78771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87520" y="307188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155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3985" t="29945" r="25275" b="29104"/>
          <a:stretch/>
        </p:blipFill>
        <p:spPr>
          <a:xfrm>
            <a:off x="709560" y="2438280"/>
            <a:ext cx="77533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760" y="3068640"/>
            <a:ext cx="18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6640" y="2449440"/>
            <a:ext cx="7956360" cy="216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52360" y="174600"/>
            <a:ext cx="62881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33360" y="2408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flección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abilidad en Codelco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es en la División El Teniente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95480" y="5354640"/>
            <a:ext cx="7842240" cy="88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87280" y="6222960"/>
            <a:ext cx="165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Incorpora accidente Fa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534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5c00"/>
                </a:solidFill>
                <a:latin typeface="Arial"/>
              </a:rPr>
              <a:t>RIESGOS CRITICOS ASOCIADOS A NUESTRAS ACTIVIDAD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040" y="1384200"/>
            <a:ext cx="8597880" cy="4897440"/>
            <a:chOff x="257040" y="1384200"/>
            <a:chExt cx="8597880" cy="4897440"/>
          </a:xfrm>
        </p:grpSpPr>
        <p:sp>
          <p:nvSpPr>
            <p:cNvPr id="103" name=""/>
            <p:cNvSpPr/>
            <p:nvPr/>
          </p:nvSpPr>
          <p:spPr>
            <a:xfrm>
              <a:off x="257040" y="1384200"/>
              <a:ext cx="8561520" cy="48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367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57135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1752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461160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2482920" y="3073320"/>
              <a:ext cx="2006640" cy="15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678348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31752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3554280" y="1460520"/>
              <a:ext cx="20084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2481120" y="4691160"/>
              <a:ext cx="200844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0"/>
            <a:stretch/>
          </p:blipFill>
          <p:spPr>
            <a:xfrm>
              <a:off x="678348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6140520" y="4692600"/>
              <a:ext cx="2714400" cy="1550880"/>
              <a:chOff x="6140520" y="4692600"/>
              <a:chExt cx="2714400" cy="15508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83480" y="4692600"/>
                <a:ext cx="2006640" cy="15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878520" y="5167440"/>
                <a:ext cx="1698840" cy="66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539040" y="5288040"/>
                <a:ext cx="1106640" cy="486360"/>
                <a:chOff x="6539040" y="5288040"/>
                <a:chExt cx="1106640" cy="486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687000" y="5524920"/>
                  <a:ext cx="291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557400" y="5524920"/>
                  <a:ext cx="273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39040" y="5578920"/>
                  <a:ext cx="27360" cy="651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635160" y="5288040"/>
                  <a:ext cx="1007280" cy="40500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75840" y="5634360"/>
                  <a:ext cx="13716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85548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28676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64600" y="5634360"/>
                  <a:ext cx="1368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6632640" y="5290920"/>
                  <a:ext cx="1013040" cy="483480"/>
                  <a:chOff x="6632640" y="5290920"/>
                  <a:chExt cx="1013040" cy="4834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53264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flipV="1">
                    <a:off x="7302960" y="5477400"/>
                    <a:ext cx="34092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663300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85332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92208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65136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7548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46424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8640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62280" y="5611320"/>
                    <a:ext cx="925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7013880" y="5694480"/>
                    <a:ext cx="248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>
                    <a:off x="6632640" y="5694480"/>
                    <a:ext cx="183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6950880" y="5367960"/>
                    <a:ext cx="374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971760" y="5477400"/>
                    <a:ext cx="3312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951240" y="5367960"/>
                    <a:ext cx="375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023600" y="5596560"/>
                    <a:ext cx="2203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6633000" y="5477400"/>
                    <a:ext cx="33876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6677640" y="5403960"/>
                    <a:ext cx="2570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6706800" y="5420160"/>
                    <a:ext cx="231120" cy="63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660720" y="5473800"/>
                    <a:ext cx="460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70680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666072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6743880" y="5611320"/>
                    <a:ext cx="1778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971760" y="5380560"/>
                    <a:ext cx="144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947640" y="540072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flipV="1">
                    <a:off x="6934680" y="5403600"/>
                    <a:ext cx="3240" cy="16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6938280" y="5413320"/>
                    <a:ext cx="11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6936480" y="5405040"/>
                    <a:ext cx="1080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2360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7303320" y="5380560"/>
                    <a:ext cx="180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303320" y="5477400"/>
                    <a:ext cx="1800" cy="140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4392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3664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4384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flipV="1">
                    <a:off x="7384320" y="5302440"/>
                    <a:ext cx="218520" cy="171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7569360" y="5473800"/>
                    <a:ext cx="44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7354800" y="5611320"/>
                    <a:ext cx="1774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flipV="1">
                    <a:off x="7375320" y="5315400"/>
                    <a:ext cx="201600" cy="158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56972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7374960" y="5302440"/>
                    <a:ext cx="900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flipV="1">
                    <a:off x="7373160" y="5297760"/>
                    <a:ext cx="684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flipV="1">
                    <a:off x="7367760" y="5303880"/>
                    <a:ext cx="900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360560" y="5290920"/>
                    <a:ext cx="129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761436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>
                    <a:off x="764424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625160" y="5694480"/>
                    <a:ext cx="18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7811640" y="5302440"/>
                <a:ext cx="1043280" cy="473040"/>
                <a:chOff x="7811640" y="5302440"/>
                <a:chExt cx="1043280" cy="47304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8687880" y="5532480"/>
                  <a:ext cx="2736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8811720" y="5532480"/>
                  <a:ext cx="2592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8829000" y="5585040"/>
                  <a:ext cx="25920" cy="633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4880" y="5302440"/>
                  <a:ext cx="949320" cy="39384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8596440" y="5639040"/>
                  <a:ext cx="1292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842904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02260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7853400" y="5639040"/>
                  <a:ext cx="12888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7811640" y="5305320"/>
                  <a:ext cx="954360" cy="470160"/>
                  <a:chOff x="7811640" y="5305320"/>
                  <a:chExt cx="954360" cy="4701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783108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7813440" y="5486040"/>
                    <a:ext cx="3211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flipV="1">
                    <a:off x="876456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842940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840672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>
                    <a:off x="866160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859644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785376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802080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8085960" y="5616720"/>
                    <a:ext cx="87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173440" y="5697720"/>
                    <a:ext cx="233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748720" y="5697720"/>
                    <a:ext cx="172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8114040" y="5380200"/>
                    <a:ext cx="3524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8134200" y="5486400"/>
                    <a:ext cx="3121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8111880" y="5380200"/>
                    <a:ext cx="353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8190360" y="5602320"/>
                    <a:ext cx="207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>
                    <a:off x="8446680" y="5486040"/>
                    <a:ext cx="3193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>
                    <a:off x="8481960" y="5414760"/>
                    <a:ext cx="242280" cy="68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flipV="1">
                    <a:off x="8478720" y="5430960"/>
                    <a:ext cx="21780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8696880" y="5483160"/>
                    <a:ext cx="4320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869472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873864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493840" y="5616720"/>
                    <a:ext cx="1677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flipV="1">
                    <a:off x="8445240" y="5392800"/>
                    <a:ext cx="144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8457480" y="541188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V="1">
                    <a:off x="8478720" y="5415120"/>
                    <a:ext cx="2880" cy="15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flipV="1">
                    <a:off x="8467920" y="5424120"/>
                    <a:ext cx="1044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flipV="1">
                    <a:off x="8470080" y="5416200"/>
                    <a:ext cx="1008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839628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flipV="1">
                    <a:off x="8132760" y="5392800"/>
                    <a:ext cx="180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>
                    <a:off x="8132760" y="5486400"/>
                    <a:ext cx="1800" cy="136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18892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28972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828324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7851960" y="5316120"/>
                    <a:ext cx="205920" cy="166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841520" y="5483160"/>
                    <a:ext cx="417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918560" y="5616720"/>
                    <a:ext cx="167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>
                    <a:off x="7876440" y="5329080"/>
                    <a:ext cx="190080" cy="154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788148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57880" y="5316480"/>
                    <a:ext cx="864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8061480" y="5311800"/>
                    <a:ext cx="648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V="1">
                    <a:off x="8064720" y="5317920"/>
                    <a:ext cx="864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>
                    <a:off x="8067960" y="53053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flipV="1">
                    <a:off x="783972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>
                    <a:off x="781164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7813440" y="5697720"/>
                    <a:ext cx="17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9" name=""/>
              <p:cNvSpPr/>
              <p:nvPr/>
            </p:nvSpPr>
            <p:spPr>
              <a:xfrm>
                <a:off x="7473960" y="5194440"/>
                <a:ext cx="550800" cy="682560"/>
              </a:xfrm>
              <a:prstGeom prst="irregularSeal2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40520" y="4919760"/>
                <a:ext cx="639720" cy="11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604360" y="5237280"/>
                <a:ext cx="163440" cy="70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788160" y="5232240"/>
                <a:ext cx="648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85080" y="5911920"/>
                <a:ext cx="1415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howcard Gothic"/>
                  </a:rPr>
                  <a:t>PELIGRO de CHOQUE DE TREN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461160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555920"/>
            <a:ext cx="81727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rvas extraí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3 % CuT ;  0,032%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cio produc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er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%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 régim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000 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a socavar             :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.4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ra piedra 20.6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e de vi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años (20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añ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4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IN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UB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1040" y="1509840"/>
            <a:ext cx="800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63760" y="1241280"/>
            <a:ext cx="5715000" cy="42735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479520" y="1547640"/>
            <a:ext cx="2493720" cy="3552840"/>
            <a:chOff x="479520" y="1547640"/>
            <a:chExt cx="2493720" cy="355284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479520" y="1547640"/>
              <a:ext cx="2493720" cy="35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614600" y="2620800"/>
            <a:ext cx="865080" cy="792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8716400">
            <a:off x="2313000" y="2302920"/>
            <a:ext cx="800280" cy="326880"/>
          </a:xfrm>
          <a:prstGeom prst="leftArrow">
            <a:avLst>
              <a:gd name="adj1" fmla="val 50000"/>
              <a:gd name="adj2" fmla="val 6120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0" t="0" r="0" b="9848"/>
          <a:stretch/>
        </p:blipFill>
        <p:spPr>
          <a:xfrm>
            <a:off x="831960" y="1351080"/>
            <a:ext cx="7454880" cy="4765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LEYES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8041" r="0" b="0"/>
          <a:stretch/>
        </p:blipFill>
        <p:spPr>
          <a:xfrm>
            <a:off x="1608120" y="1276200"/>
            <a:ext cx="5919840" cy="5229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ANEJO DE MI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98720" y="1274760"/>
            <a:ext cx="6964200" cy="5070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PREACOND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22:55:11Z</dcterms:created>
  <dc:creator>Administrador</dc:creator>
  <dc:description/>
  <dc:language>en-US</dc:language>
  <cp:lastModifiedBy>LZenteno</cp:lastModifiedBy>
  <dcterms:modified xsi:type="dcterms:W3CDTF">2009-10-07T12:06:18Z</dcterms:modified>
  <cp:revision>470</cp:revision>
  <dc:subject/>
  <dc:title>PROYECTO .........</dc:title>
</cp:coreProperties>
</file>