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7.wmf" ContentType="image/x-wmf"/>
  <Override PartName="/ppt/media/image26.wmf" ContentType="image/x-wmf"/>
  <Override PartName="/ppt/media/image7.png" ContentType="image/png"/>
  <Override PartName="/ppt/media/image11.png" ContentType="image/png"/>
  <Override PartName="/ppt/media/image5.wmf" ContentType="image/x-wmf"/>
  <Override PartName="/ppt/media/image30.wmf" ContentType="image/x-wmf"/>
  <Override PartName="/ppt/media/image1.jpeg" ContentType="image/jpeg"/>
  <Override PartName="/ppt/media/image10.png" ContentType="image/png"/>
  <Override PartName="/ppt/media/image6.png" ContentType="image/png"/>
  <Override PartName="/ppt/media/image29.wmf" ContentType="image/x-wmf"/>
  <Override PartName="/ppt/media/image31.png" ContentType="image/png"/>
  <Override PartName="/ppt/media/image22.jpeg" ContentType="image/jpeg"/>
  <Override PartName="/ppt/media/image9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4.png" ContentType="image/png"/>
  <Override PartName="/ppt/media/image28.wmf" ContentType="image/x-wmf"/>
  <Override PartName="/ppt/media/image3.jpeg" ContentType="image/jpeg"/>
  <Override PartName="/ppt/media/image15.png" ContentType="image/png"/>
  <Override PartName="/ppt/media/image2.jpeg" ContentType="image/jpeg"/>
  <Override PartName="/ppt/media/image25.wmf" ContentType="image/x-wmf"/>
  <Override PartName="/ppt/media/image14.png" ContentType="image/png"/>
  <Override PartName="/ppt/media/image16.png" ContentType="image/png"/>
  <Override PartName="/ppt/media/image18.png" ContentType="image/png"/>
  <Override PartName="/ppt/media/image19.png" ContentType="image/png"/>
  <Override PartName="/ppt/media/image17.png" ContentType="image/png"/>
  <Override PartName="/ppt/media/image20.wmf" ContentType="image/x-wmf"/>
  <Override PartName="/ppt/media/image21.jpeg" ContentType="image/jpeg"/>
  <Override PartName="/ppt/media/image23.wmf" ContentType="image/x-wmf"/>
  <Override PartName="/ppt/media/image2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827320" y="6570720"/>
            <a:ext cx="1061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058C4-4F9D-4BE4-935E-D96A0BDC50F0}" type="slidenum">
              <a:rPr b="1" lang="es-ES" sz="9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s-ES" sz="900" spc="-1" strike="noStrike">
                <a:solidFill>
                  <a:srgbClr val="ffffff"/>
                </a:solidFill>
                <a:latin typeface="Arial"/>
              </a:rPr>
              <a:t> de 3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206280"/>
            <a:ext cx="914400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800000"/>
                </a:solidFill>
                <a:latin typeface="Arial"/>
              </a:rPr>
              <a:t>PROYECTO EXPLOTACION PILAR NORTE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240" y="6532560"/>
            <a:ext cx="9144000" cy="324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-23040" y="6621480"/>
            <a:ext cx="1430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ffffff"/>
                </a:solidFill>
                <a:latin typeface="Arial"/>
              </a:rPr>
              <a:t>UNIDAD PILAR NOR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7302600" y="656280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596840" y="6615000"/>
            <a:ext cx="70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A8564-AB36-43A6-A0BB-948806097740}" type="slidenum">
              <a:rPr b="0" lang="es-ES_tradnl" sz="9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rcRect l="0" t="0" r="0" b="9218"/>
          <a:stretch/>
        </p:blipFill>
        <p:spPr>
          <a:xfrm>
            <a:off x="8116920" y="66600"/>
            <a:ext cx="931680" cy="66852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827320" y="6570720"/>
            <a:ext cx="1061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31ACC-557F-40EC-B97A-414DD1EE76D1}" type="slidenum">
              <a:rPr b="1" lang="es-ES" sz="9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s-ES" sz="900" spc="-1" strike="noStrike">
                <a:solidFill>
                  <a:srgbClr val="ffffff"/>
                </a:solidFill>
                <a:latin typeface="Arial"/>
              </a:rPr>
              <a:t> de 3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8586720" y="6480"/>
            <a:ext cx="554040" cy="6984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-7920"/>
            <a:ext cx="914400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800000"/>
                </a:solidFill>
                <a:latin typeface="Arial"/>
              </a:rPr>
              <a:t>ESTUDIO DE FACTIBILIDAD </a:t>
            </a:r>
            <a:br>
              <a:rPr sz="2000"/>
            </a:br>
            <a:r>
              <a:rPr b="1" lang="es-ES" sz="2000" spc="-1" strike="noStrike">
                <a:solidFill>
                  <a:srgbClr val="800000"/>
                </a:solidFill>
                <a:latin typeface="Arial"/>
              </a:rPr>
              <a:t>PROYECTO PILAR NOR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" y="6532560"/>
            <a:ext cx="9144000" cy="324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-21960" y="6621480"/>
            <a:ext cx="4615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ffffff"/>
                </a:solidFill>
                <a:latin typeface="Arial"/>
              </a:rPr>
              <a:t>VICEPRESIDENCIA CORPORATIVA DE PROYECTOS – PROYECTO PILAR NOR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302600" y="656280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039640" y="6615000"/>
            <a:ext cx="70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3D31F-7AFF-40ED-BCAB-41D3FEE71BF9}" type="slidenum">
              <a:rPr b="0" lang="es-ES_tradnl" sz="9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file:///../../../../HVega003/Pilar%20Norte/Presentaci&#243;n/CCP%20API%20T06M400.ppt" TargetMode="External"/><Relationship Id="rId2" Type="http://schemas.openxmlformats.org/officeDocument/2006/relationships/image" Target="../media/image28.wmf"/><Relationship Id="rId3" Type="http://schemas.openxmlformats.org/officeDocument/2006/relationships/image" Target="../media/image29.wmf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image" Target="../media/image16.png"/><Relationship Id="rId11" Type="http://schemas.openxmlformats.org/officeDocument/2006/relationships/image" Target="../media/image16.png"/><Relationship Id="rId12" Type="http://schemas.openxmlformats.org/officeDocument/2006/relationships/image" Target="../media/image17.png"/><Relationship Id="rId1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"/>
          <p:cNvGrpSpPr/>
          <p:nvPr/>
        </p:nvGrpSpPr>
        <p:grpSpPr>
          <a:xfrm>
            <a:off x="0" y="0"/>
            <a:ext cx="9144000" cy="6867360"/>
            <a:chOff x="0" y="0"/>
            <a:chExt cx="9144000" cy="6867360"/>
          </a:xfrm>
        </p:grpSpPr>
        <p:sp>
          <p:nvSpPr>
            <p:cNvPr id="89" name=""/>
            <p:cNvSpPr/>
            <p:nvPr/>
          </p:nvSpPr>
          <p:spPr>
            <a:xfrm>
              <a:off x="0" y="0"/>
              <a:ext cx="9144000" cy="6867360"/>
            </a:xfrm>
            <a:prstGeom prst="rect">
              <a:avLst/>
            </a:prstGeom>
            <a:solidFill>
              <a:srgbClr val="3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0" name="" descr=""/>
            <p:cNvPicPr/>
            <p:nvPr/>
          </p:nvPicPr>
          <p:blipFill>
            <a:blip r:embed="rId1"/>
            <a:srcRect l="0" t="13520" r="0" b="30254"/>
            <a:stretch/>
          </p:blipFill>
          <p:spPr>
            <a:xfrm>
              <a:off x="0" y="0"/>
              <a:ext cx="9144000" cy="3414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1" name=""/>
          <p:cNvSpPr/>
          <p:nvPr/>
        </p:nvSpPr>
        <p:spPr>
          <a:xfrm>
            <a:off x="393840" y="4443480"/>
            <a:ext cx="838656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22478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PROYECTO EXPLOTACIÓN PILAR NOR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22478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39840" y="6126120"/>
            <a:ext cx="83818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9880" indent="-3809880">
              <a:lnSpc>
                <a:spcPct val="80000"/>
              </a:lnSpc>
              <a:tabLst>
                <a:tab algn="l" pos="0"/>
                <a:tab algn="l" pos="233676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OCTUBRE 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5734080" y="1244520"/>
            <a:ext cx="3276720" cy="2404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2520" indent="-182520">
              <a:lnSpc>
                <a:spcPct val="12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3235320"/>
                <a:tab algn="l" pos="3587760"/>
                <a:tab algn="l" pos="4502160"/>
                <a:tab algn="l" pos="5627520"/>
                <a:tab algn="l" pos="6753240"/>
                <a:tab algn="l" pos="7878600"/>
                <a:tab algn="l" pos="9004320"/>
                <a:tab algn="l" pos="101296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ta UCL : 2120 msn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2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3235320"/>
                <a:tab algn="l" pos="3587760"/>
                <a:tab algn="l" pos="4502160"/>
                <a:tab algn="l" pos="5627520"/>
                <a:tab algn="l" pos="6753240"/>
                <a:tab algn="l" pos="7878600"/>
                <a:tab algn="l" pos="9004320"/>
                <a:tab algn="l" pos="101296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undimiento Avanzado por calle y 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2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3235320"/>
                <a:tab algn="l" pos="3587760"/>
                <a:tab algn="l" pos="4502160"/>
                <a:tab algn="l" pos="5627520"/>
                <a:tab algn="l" pos="6753240"/>
                <a:tab algn="l" pos="7878600"/>
                <a:tab algn="l" pos="9004320"/>
                <a:tab algn="l" pos="101296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ción galería 3,60 x 3,60 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2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3235320"/>
                <a:tab algn="l" pos="3587760"/>
                <a:tab algn="l" pos="4502160"/>
                <a:tab algn="l" pos="5627520"/>
                <a:tab algn="l" pos="6753240"/>
                <a:tab algn="l" pos="7878600"/>
                <a:tab algn="l" pos="9004320"/>
                <a:tab algn="l" pos="101296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spaciamiento 20 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2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3235320"/>
                <a:tab algn="l" pos="3587760"/>
                <a:tab algn="l" pos="4502160"/>
                <a:tab algn="l" pos="5627520"/>
                <a:tab algn="l" pos="6753240"/>
                <a:tab algn="l" pos="7878600"/>
                <a:tab algn="l" pos="9004320"/>
                <a:tab algn="l" pos="101296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ura socavación 3,60 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2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3235320"/>
                <a:tab algn="l" pos="3587760"/>
                <a:tab algn="l" pos="4502160"/>
                <a:tab algn="l" pos="5627520"/>
                <a:tab algn="l" pos="6753240"/>
                <a:tab algn="l" pos="7878600"/>
                <a:tab algn="l" pos="9004320"/>
                <a:tab algn="l" pos="101296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cizo rocoso preacondicionad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2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3235320"/>
                <a:tab algn="l" pos="3587760"/>
                <a:tab algn="l" pos="4502160"/>
                <a:tab algn="l" pos="5627520"/>
                <a:tab algn="l" pos="6753240"/>
                <a:tab algn="l" pos="7878600"/>
                <a:tab algn="l" pos="9004320"/>
                <a:tab algn="l" pos="101296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Área a socavar 67.400 m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rcRect l="0" t="23672" r="3151" b="9396"/>
          <a:stretch/>
        </p:blipFill>
        <p:spPr>
          <a:xfrm>
            <a:off x="5697360" y="4141800"/>
            <a:ext cx="3446640" cy="1816200"/>
          </a:xfrm>
          <a:prstGeom prst="rect">
            <a:avLst/>
          </a:prstGeom>
          <a:ln w="19080">
            <a:solidFill>
              <a:srgbClr val="333399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252" name=""/>
          <p:cNvSpPr/>
          <p:nvPr/>
        </p:nvSpPr>
        <p:spPr>
          <a:xfrm>
            <a:off x="863640" y="779400"/>
            <a:ext cx="828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cc3300"/>
                </a:solidFill>
                <a:latin typeface="Arial"/>
                <a:ea typeface="Times New Roman"/>
              </a:rPr>
              <a:t>NIVEL DE HUNDIMI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2"/>
          <a:srcRect l="14392" t="0" r="18462" b="0"/>
          <a:stretch/>
        </p:blipFill>
        <p:spPr>
          <a:xfrm>
            <a:off x="190440" y="1222200"/>
            <a:ext cx="5268960" cy="5099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5999040" y="1300320"/>
            <a:ext cx="3144960" cy="3063600"/>
          </a:xfrm>
          <a:prstGeom prst="rect">
            <a:avLst/>
          </a:pr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82520" indent="-182520">
              <a:lnSpc>
                <a:spcPct val="12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3235320"/>
                <a:tab algn="l" pos="3587760"/>
                <a:tab algn="l" pos="4502160"/>
                <a:tab algn="l" pos="5627520"/>
                <a:tab algn="l" pos="6753240"/>
                <a:tab algn="l" pos="7878600"/>
                <a:tab algn="l" pos="9004320"/>
                <a:tab algn="l" pos="101296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ta NP: 2102 msn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2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3235320"/>
                <a:tab algn="l" pos="3587760"/>
                <a:tab algn="l" pos="4502160"/>
                <a:tab algn="l" pos="5627520"/>
                <a:tab algn="l" pos="6753240"/>
                <a:tab algn="l" pos="7878600"/>
                <a:tab algn="l" pos="9004320"/>
                <a:tab algn="l" pos="101296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ción galería 4,0x3,8 m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2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3235320"/>
                <a:tab algn="l" pos="3587760"/>
                <a:tab algn="l" pos="4502160"/>
                <a:tab algn="l" pos="5627520"/>
                <a:tab algn="l" pos="6753240"/>
                <a:tab algn="l" pos="7878600"/>
                <a:tab algn="l" pos="9004320"/>
                <a:tab algn="l" pos="101296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lla: 20x15 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2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3235320"/>
                <a:tab algn="l" pos="3587760"/>
                <a:tab algn="l" pos="4502160"/>
                <a:tab algn="l" pos="5627520"/>
                <a:tab algn="l" pos="6753240"/>
                <a:tab algn="l" pos="7878600"/>
                <a:tab algn="l" pos="9004320"/>
                <a:tab algn="l" pos="101296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quipos LHD 7yd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2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3235320"/>
                <a:tab algn="l" pos="3587760"/>
                <a:tab algn="l" pos="4502160"/>
                <a:tab algn="l" pos="5627520"/>
                <a:tab algn="l" pos="6753240"/>
                <a:tab algn="l" pos="7878600"/>
                <a:tab algn="l" pos="9004320"/>
                <a:tab algn="l" pos="101296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2 PV con martill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2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3235320"/>
                <a:tab algn="l" pos="3587760"/>
                <a:tab algn="l" pos="4502160"/>
                <a:tab algn="l" pos="5627520"/>
                <a:tab algn="l" pos="6753240"/>
                <a:tab algn="l" pos="7878600"/>
                <a:tab algn="l" pos="9004320"/>
                <a:tab algn="l" pos="101296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 conectarán con GTI (L= 28 m; d=3,5 m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2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3235320"/>
                <a:tab algn="l" pos="3587760"/>
                <a:tab algn="l" pos="4502160"/>
                <a:tab algn="l" pos="5627520"/>
                <a:tab algn="l" pos="6753240"/>
                <a:tab algn="l" pos="7878600"/>
                <a:tab algn="l" pos="9004320"/>
                <a:tab algn="l" pos="101296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Área polígono 51.897 m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2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3235320"/>
                <a:tab algn="l" pos="3587760"/>
                <a:tab algn="l" pos="4502160"/>
                <a:tab algn="l" pos="5627520"/>
                <a:tab algn="l" pos="6753240"/>
                <a:tab algn="l" pos="7878600"/>
                <a:tab algn="l" pos="9004320"/>
                <a:tab algn="l" pos="101296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 hunde Socavón Principal (Zanja 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863640" y="779400"/>
            <a:ext cx="828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cc3300"/>
                </a:solidFill>
                <a:latin typeface="Arial"/>
                <a:ea typeface="Times New Roman"/>
              </a:rPr>
              <a:t>NIVEL DE PRODUC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"/>
          <a:srcRect l="18038" t="10378" r="24554" b="0"/>
          <a:stretch/>
        </p:blipFill>
        <p:spPr>
          <a:xfrm>
            <a:off x="264960" y="1281240"/>
            <a:ext cx="5129280" cy="5167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57" name="" descr=""/>
          <p:cNvPicPr/>
          <p:nvPr/>
        </p:nvPicPr>
        <p:blipFill>
          <a:blip r:embed="rId2"/>
          <a:srcRect l="33465" t="27589" r="44471" b="38061"/>
          <a:stretch/>
        </p:blipFill>
        <p:spPr>
          <a:xfrm>
            <a:off x="6056280" y="4546440"/>
            <a:ext cx="2684520" cy="1841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6515280" y="1770120"/>
            <a:ext cx="2590560" cy="321696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5400" indent="-954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5400" indent="-95400">
              <a:spcBef>
                <a:spcPts val="87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ta GTI: 2070 msn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5400" indent="-95400">
              <a:spcBef>
                <a:spcPts val="87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ción galería 5,0 x 4,5 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5400" indent="-95400">
              <a:spcBef>
                <a:spcPts val="87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ción EV 5,5x4,5 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5400" indent="-95400">
              <a:spcBef>
                <a:spcPts val="87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 utilizarán LHD de 13 yd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semi-automátic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5400" indent="-95400">
              <a:spcBef>
                <a:spcPts val="87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da GTI será una zona confinada independien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5400" indent="-95400">
              <a:spcBef>
                <a:spcPts val="87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 OP hacia TTE8 (L = 84 m; Ø = 3,3 m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5400" indent="-954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863640" y="779400"/>
            <a:ext cx="828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cc3300"/>
                </a:solidFill>
                <a:latin typeface="Arial"/>
                <a:ea typeface="Times New Roman"/>
              </a:rPr>
              <a:t>GALERÍA TRANSPORTE INTERMEDIO (GT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14511" t="4975" r="9993" b="5930"/>
          <a:stretch/>
        </p:blipFill>
        <p:spPr>
          <a:xfrm>
            <a:off x="100080" y="1204920"/>
            <a:ext cx="6256440" cy="4705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" descr="">
            <a:hlinkClick r:id="rId1"/>
          </p:cNvPr>
          <p:cNvPicPr/>
          <p:nvPr/>
        </p:nvPicPr>
        <p:blipFill>
          <a:blip r:embed="rId2"/>
          <a:srcRect l="14673" t="12739" r="0" b="6038"/>
          <a:stretch/>
        </p:blipFill>
        <p:spPr>
          <a:xfrm>
            <a:off x="4713120" y="3359160"/>
            <a:ext cx="4430880" cy="31179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262" name=""/>
          <p:cNvSpPr/>
          <p:nvPr/>
        </p:nvSpPr>
        <p:spPr>
          <a:xfrm>
            <a:off x="863640" y="779400"/>
            <a:ext cx="828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3300"/>
                </a:solidFill>
                <a:latin typeface="Arial"/>
                <a:ea typeface="Times New Roman"/>
              </a:rPr>
              <a:t>METODOLOGÍA DE EXPLOT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3"/>
          <a:srcRect l="7754" t="7387" r="2565" b="0"/>
          <a:stretch/>
        </p:blipFill>
        <p:spPr>
          <a:xfrm>
            <a:off x="304920" y="1287360"/>
            <a:ext cx="5248080" cy="36417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264" name=""/>
          <p:cNvSpPr/>
          <p:nvPr/>
        </p:nvSpPr>
        <p:spPr>
          <a:xfrm>
            <a:off x="5683320" y="1638360"/>
            <a:ext cx="3276360" cy="12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2520" indent="-182520">
              <a:lnSpc>
                <a:spcPct val="12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3235320"/>
                <a:tab algn="l" pos="3587760"/>
                <a:tab algn="l" pos="4502160"/>
                <a:tab algn="l" pos="5627520"/>
                <a:tab algn="l" pos="6753240"/>
                <a:tab algn="l" pos="7878600"/>
                <a:tab algn="l" pos="9004320"/>
                <a:tab algn="l" pos="101296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todología por bloque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2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3235320"/>
                <a:tab algn="l" pos="3587760"/>
                <a:tab algn="l" pos="4502160"/>
                <a:tab algn="l" pos="5627520"/>
                <a:tab algn="l" pos="6753240"/>
                <a:tab algn="l" pos="7878600"/>
                <a:tab algn="l" pos="9004320"/>
                <a:tab algn="l" pos="101296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da bloque por HA por calles y P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2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3235320"/>
                <a:tab algn="l" pos="3587760"/>
                <a:tab algn="l" pos="4502160"/>
                <a:tab algn="l" pos="5627520"/>
                <a:tab algn="l" pos="6753240"/>
                <a:tab algn="l" pos="7878600"/>
                <a:tab algn="l" pos="9004320"/>
                <a:tab algn="l" pos="101296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e estar preacondicionado antes de hundi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863640" y="779400"/>
            <a:ext cx="828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cc3300"/>
                </a:solidFill>
                <a:latin typeface="Arial"/>
                <a:ea typeface="Times New Roman"/>
              </a:rPr>
              <a:t>EQUIPOS PRINCIPALES DE OPER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420840" y="1738440"/>
            <a:ext cx="8459640" cy="188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863640" y="779400"/>
            <a:ext cx="828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cc3300"/>
                </a:solidFill>
                <a:latin typeface="Arial"/>
                <a:ea typeface="Times New Roman"/>
              </a:rPr>
              <a:t>DOT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652320" y="1346040"/>
            <a:ext cx="7877160" cy="494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587520" y="3071880"/>
            <a:ext cx="828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cc3300"/>
                </a:solidFill>
                <a:latin typeface="Arial"/>
                <a:ea typeface="Times New Roman"/>
              </a:rPr>
              <a:t>GRACI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457200" y="1155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rogra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rcRect l="23985" t="29945" r="25275" b="29104"/>
          <a:stretch/>
        </p:blipFill>
        <p:spPr>
          <a:xfrm>
            <a:off x="709560" y="2438280"/>
            <a:ext cx="7753320" cy="375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58760" y="3068640"/>
            <a:ext cx="184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836640" y="2449440"/>
            <a:ext cx="7956360" cy="216864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1152360" y="174600"/>
            <a:ext cx="6288120" cy="63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333360" y="240840"/>
            <a:ext cx="8229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Reflección de Segur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ccidentabilidad en Codelco a Septiembre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ccidentes en la División El Teniente a Septiembre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095480" y="5354640"/>
            <a:ext cx="7842240" cy="88884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7487280" y="6222960"/>
            <a:ext cx="16560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*Incorpora accidente Fat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53440" cy="8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5c00"/>
                </a:solidFill>
                <a:latin typeface="Arial"/>
              </a:rPr>
              <a:t>RIESGOS CRITICOS ASOCIADOS A NUESTRAS ACTIVIDADES</a:t>
            </a: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257040" y="1384200"/>
            <a:ext cx="8597880" cy="4897440"/>
            <a:chOff x="257040" y="1384200"/>
            <a:chExt cx="8597880" cy="4897440"/>
          </a:xfrm>
        </p:grpSpPr>
        <p:sp>
          <p:nvSpPr>
            <p:cNvPr id="103" name=""/>
            <p:cNvSpPr/>
            <p:nvPr/>
          </p:nvSpPr>
          <p:spPr>
            <a:xfrm>
              <a:off x="257040" y="1384200"/>
              <a:ext cx="8561520" cy="4897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4" name="" descr=""/>
            <p:cNvPicPr/>
            <p:nvPr/>
          </p:nvPicPr>
          <p:blipFill>
            <a:blip r:embed="rId1"/>
            <a:stretch/>
          </p:blipFill>
          <p:spPr>
            <a:xfrm>
              <a:off x="1436760" y="1460520"/>
              <a:ext cx="2008080" cy="1552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" name="" descr=""/>
            <p:cNvPicPr/>
            <p:nvPr/>
          </p:nvPicPr>
          <p:blipFill>
            <a:blip r:embed="rId2"/>
            <a:stretch/>
          </p:blipFill>
          <p:spPr>
            <a:xfrm>
              <a:off x="5713560" y="1460520"/>
              <a:ext cx="2008080" cy="1552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" name="" descr=""/>
            <p:cNvPicPr/>
            <p:nvPr/>
          </p:nvPicPr>
          <p:blipFill>
            <a:blip r:embed="rId3"/>
            <a:stretch/>
          </p:blipFill>
          <p:spPr>
            <a:xfrm>
              <a:off x="317520" y="3073320"/>
              <a:ext cx="2006640" cy="1551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" name="" descr=""/>
            <p:cNvPicPr/>
            <p:nvPr/>
          </p:nvPicPr>
          <p:blipFill>
            <a:blip r:embed="rId4"/>
            <a:stretch/>
          </p:blipFill>
          <p:spPr>
            <a:xfrm>
              <a:off x="4611600" y="3073320"/>
              <a:ext cx="2006640" cy="1551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" name="" descr=""/>
            <p:cNvPicPr/>
            <p:nvPr/>
          </p:nvPicPr>
          <p:blipFill>
            <a:blip r:embed="rId5"/>
            <a:stretch/>
          </p:blipFill>
          <p:spPr>
            <a:xfrm>
              <a:off x="2482920" y="3073320"/>
              <a:ext cx="2006640" cy="156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" descr=""/>
            <p:cNvPicPr/>
            <p:nvPr/>
          </p:nvPicPr>
          <p:blipFill>
            <a:blip r:embed="rId6"/>
            <a:stretch/>
          </p:blipFill>
          <p:spPr>
            <a:xfrm>
              <a:off x="6783480" y="3073320"/>
              <a:ext cx="2006640" cy="1551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" descr=""/>
            <p:cNvPicPr/>
            <p:nvPr/>
          </p:nvPicPr>
          <p:blipFill>
            <a:blip r:embed="rId7"/>
            <a:stretch/>
          </p:blipFill>
          <p:spPr>
            <a:xfrm>
              <a:off x="317520" y="4692600"/>
              <a:ext cx="2006640" cy="1550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" name="" descr=""/>
            <p:cNvPicPr/>
            <p:nvPr/>
          </p:nvPicPr>
          <p:blipFill>
            <a:blip r:embed="rId8"/>
            <a:stretch/>
          </p:blipFill>
          <p:spPr>
            <a:xfrm>
              <a:off x="3554280" y="1460520"/>
              <a:ext cx="2008440" cy="1552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" name="" descr=""/>
            <p:cNvPicPr/>
            <p:nvPr/>
          </p:nvPicPr>
          <p:blipFill>
            <a:blip r:embed="rId9"/>
            <a:stretch/>
          </p:blipFill>
          <p:spPr>
            <a:xfrm>
              <a:off x="2481120" y="4691160"/>
              <a:ext cx="2008440" cy="1552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" name="" descr=""/>
            <p:cNvPicPr/>
            <p:nvPr/>
          </p:nvPicPr>
          <p:blipFill>
            <a:blip r:embed="rId10"/>
            <a:stretch/>
          </p:blipFill>
          <p:spPr>
            <a:xfrm>
              <a:off x="6783480" y="4692600"/>
              <a:ext cx="2006640" cy="1550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4" name=""/>
            <p:cNvGrpSpPr/>
            <p:nvPr/>
          </p:nvGrpSpPr>
          <p:grpSpPr>
            <a:xfrm>
              <a:off x="6140520" y="4692600"/>
              <a:ext cx="2714400" cy="1550880"/>
              <a:chOff x="6140520" y="4692600"/>
              <a:chExt cx="2714400" cy="1550880"/>
            </a:xfrm>
          </p:grpSpPr>
          <p:pic>
            <p:nvPicPr>
              <p:cNvPr id="115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6783480" y="4692600"/>
                <a:ext cx="2006640" cy="1550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6" name=""/>
              <p:cNvSpPr/>
              <p:nvPr/>
            </p:nvSpPr>
            <p:spPr>
              <a:xfrm>
                <a:off x="6878520" y="5167440"/>
                <a:ext cx="1698840" cy="666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7" name=""/>
              <p:cNvGrpSpPr/>
              <p:nvPr/>
            </p:nvGrpSpPr>
            <p:grpSpPr>
              <a:xfrm>
                <a:off x="6539040" y="5288040"/>
                <a:ext cx="1106640" cy="486360"/>
                <a:chOff x="6539040" y="5288040"/>
                <a:chExt cx="1106640" cy="486360"/>
              </a:xfrm>
            </p:grpSpPr>
            <p:sp>
              <p:nvSpPr>
                <p:cNvPr id="118" name=""/>
                <p:cNvSpPr/>
                <p:nvPr/>
              </p:nvSpPr>
              <p:spPr>
                <a:xfrm>
                  <a:off x="6687000" y="5524920"/>
                  <a:ext cx="29160" cy="65520"/>
                </a:xfrm>
                <a:custGeom>
                  <a:avLst/>
                  <a:gdLst/>
                  <a:ahLst/>
                  <a:rect l="l" t="t" r="r" b="b"/>
                  <a:pathLst>
                    <a:path w="144" h="309">
                      <a:moveTo>
                        <a:pt x="39" y="0"/>
                      </a:moveTo>
                      <a:lnTo>
                        <a:pt x="111" y="0"/>
                      </a:lnTo>
                      <a:lnTo>
                        <a:pt x="132" y="10"/>
                      </a:lnTo>
                      <a:lnTo>
                        <a:pt x="144" y="30"/>
                      </a:lnTo>
                      <a:lnTo>
                        <a:pt x="143" y="277"/>
                      </a:lnTo>
                      <a:lnTo>
                        <a:pt x="134" y="297"/>
                      </a:lnTo>
                      <a:lnTo>
                        <a:pt x="110" y="309"/>
                      </a:lnTo>
                      <a:lnTo>
                        <a:pt x="35" y="309"/>
                      </a:lnTo>
                      <a:lnTo>
                        <a:pt x="12" y="300"/>
                      </a:lnTo>
                      <a:lnTo>
                        <a:pt x="0" y="274"/>
                      </a:lnTo>
                      <a:lnTo>
                        <a:pt x="0" y="36"/>
                      </a:lnTo>
                      <a:lnTo>
                        <a:pt x="15" y="7"/>
                      </a:lnTo>
                      <a:lnTo>
                        <a:pt x="39" y="0"/>
                      </a:lnTo>
                      <a:close/>
                    </a:path>
                  </a:pathLst>
                </a:custGeom>
                <a:solidFill>
                  <a:srgbClr val="ff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6557400" y="5524920"/>
                  <a:ext cx="27360" cy="65520"/>
                </a:xfrm>
                <a:custGeom>
                  <a:avLst/>
                  <a:gdLst/>
                  <a:ahLst/>
                  <a:rect l="l" t="t" r="r" b="b"/>
                  <a:pathLst>
                    <a:path w="144" h="309">
                      <a:moveTo>
                        <a:pt x="39" y="0"/>
                      </a:moveTo>
                      <a:lnTo>
                        <a:pt x="111" y="0"/>
                      </a:lnTo>
                      <a:lnTo>
                        <a:pt x="132" y="10"/>
                      </a:lnTo>
                      <a:lnTo>
                        <a:pt x="144" y="30"/>
                      </a:lnTo>
                      <a:lnTo>
                        <a:pt x="143" y="277"/>
                      </a:lnTo>
                      <a:lnTo>
                        <a:pt x="134" y="297"/>
                      </a:lnTo>
                      <a:lnTo>
                        <a:pt x="110" y="309"/>
                      </a:lnTo>
                      <a:lnTo>
                        <a:pt x="35" y="309"/>
                      </a:lnTo>
                      <a:lnTo>
                        <a:pt x="12" y="300"/>
                      </a:lnTo>
                      <a:lnTo>
                        <a:pt x="0" y="274"/>
                      </a:lnTo>
                      <a:lnTo>
                        <a:pt x="0" y="36"/>
                      </a:lnTo>
                      <a:lnTo>
                        <a:pt x="15" y="7"/>
                      </a:lnTo>
                      <a:lnTo>
                        <a:pt x="39" y="0"/>
                      </a:lnTo>
                      <a:close/>
                    </a:path>
                  </a:pathLst>
                </a:custGeom>
                <a:solidFill>
                  <a:srgbClr val="ff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6539040" y="5578920"/>
                  <a:ext cx="27360" cy="65160"/>
                </a:xfrm>
                <a:custGeom>
                  <a:avLst/>
                  <a:gdLst/>
                  <a:ahLst/>
                  <a:rect l="l" t="t" r="r" b="b"/>
                  <a:pathLst>
                    <a:path w="144" h="309">
                      <a:moveTo>
                        <a:pt x="39" y="0"/>
                      </a:moveTo>
                      <a:lnTo>
                        <a:pt x="111" y="0"/>
                      </a:lnTo>
                      <a:lnTo>
                        <a:pt x="132" y="10"/>
                      </a:lnTo>
                      <a:lnTo>
                        <a:pt x="144" y="30"/>
                      </a:lnTo>
                      <a:lnTo>
                        <a:pt x="143" y="277"/>
                      </a:lnTo>
                      <a:lnTo>
                        <a:pt x="134" y="297"/>
                      </a:lnTo>
                      <a:lnTo>
                        <a:pt x="110" y="309"/>
                      </a:lnTo>
                      <a:lnTo>
                        <a:pt x="35" y="309"/>
                      </a:lnTo>
                      <a:lnTo>
                        <a:pt x="12" y="300"/>
                      </a:lnTo>
                      <a:lnTo>
                        <a:pt x="0" y="274"/>
                      </a:lnTo>
                      <a:lnTo>
                        <a:pt x="0" y="36"/>
                      </a:lnTo>
                      <a:lnTo>
                        <a:pt x="15" y="7"/>
                      </a:lnTo>
                      <a:lnTo>
                        <a:pt x="39" y="0"/>
                      </a:lnTo>
                      <a:close/>
                    </a:path>
                  </a:pathLst>
                </a:custGeom>
                <a:solidFill>
                  <a:srgbClr val="ff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6635160" y="5288040"/>
                  <a:ext cx="1007280" cy="405000"/>
                </a:xfrm>
                <a:custGeom>
                  <a:avLst/>
                  <a:gdLst/>
                  <a:ahLst/>
                  <a:rect l="l" t="t" r="r" b="b"/>
                  <a:pathLst>
                    <a:path w="5391" h="2133">
                      <a:moveTo>
                        <a:pt x="1" y="2131"/>
                      </a:moveTo>
                      <a:lnTo>
                        <a:pt x="0" y="1249"/>
                      </a:lnTo>
                      <a:lnTo>
                        <a:pt x="150" y="1230"/>
                      </a:lnTo>
                      <a:lnTo>
                        <a:pt x="150" y="967"/>
                      </a:lnTo>
                      <a:lnTo>
                        <a:pt x="243" y="966"/>
                      </a:lnTo>
                      <a:lnTo>
                        <a:pt x="1611" y="597"/>
                      </a:lnTo>
                      <a:lnTo>
                        <a:pt x="1618" y="618"/>
                      </a:lnTo>
                      <a:lnTo>
                        <a:pt x="1680" y="603"/>
                      </a:lnTo>
                      <a:lnTo>
                        <a:pt x="1687" y="589"/>
                      </a:lnTo>
                      <a:lnTo>
                        <a:pt x="1711" y="583"/>
                      </a:lnTo>
                      <a:lnTo>
                        <a:pt x="1735" y="588"/>
                      </a:lnTo>
                      <a:lnTo>
                        <a:pt x="1746" y="616"/>
                      </a:lnTo>
                      <a:lnTo>
                        <a:pt x="1738" y="642"/>
                      </a:lnTo>
                      <a:lnTo>
                        <a:pt x="1713" y="651"/>
                      </a:lnTo>
                      <a:lnTo>
                        <a:pt x="1687" y="643"/>
                      </a:lnTo>
                      <a:lnTo>
                        <a:pt x="1632" y="660"/>
                      </a:lnTo>
                      <a:lnTo>
                        <a:pt x="1632" y="681"/>
                      </a:lnTo>
                      <a:lnTo>
                        <a:pt x="396" y="1015"/>
                      </a:lnTo>
                      <a:lnTo>
                        <a:pt x="396" y="1194"/>
                      </a:lnTo>
                      <a:lnTo>
                        <a:pt x="1812" y="987"/>
                      </a:lnTo>
                      <a:lnTo>
                        <a:pt x="1813" y="474"/>
                      </a:lnTo>
                      <a:lnTo>
                        <a:pt x="1696" y="475"/>
                      </a:lnTo>
                      <a:lnTo>
                        <a:pt x="1695" y="408"/>
                      </a:lnTo>
                      <a:lnTo>
                        <a:pt x="3705" y="409"/>
                      </a:lnTo>
                      <a:lnTo>
                        <a:pt x="3703" y="474"/>
                      </a:lnTo>
                      <a:lnTo>
                        <a:pt x="3582" y="475"/>
                      </a:lnTo>
                      <a:lnTo>
                        <a:pt x="3580" y="987"/>
                      </a:lnTo>
                      <a:lnTo>
                        <a:pt x="4995" y="1192"/>
                      </a:lnTo>
                      <a:lnTo>
                        <a:pt x="4995" y="969"/>
                      </a:lnTo>
                      <a:lnTo>
                        <a:pt x="5041" y="967"/>
                      </a:lnTo>
                      <a:lnTo>
                        <a:pt x="3960" y="126"/>
                      </a:lnTo>
                      <a:lnTo>
                        <a:pt x="3973" y="105"/>
                      </a:lnTo>
                      <a:lnTo>
                        <a:pt x="3922" y="67"/>
                      </a:lnTo>
                      <a:lnTo>
                        <a:pt x="3915" y="70"/>
                      </a:lnTo>
                      <a:lnTo>
                        <a:pt x="3889" y="58"/>
                      </a:lnTo>
                      <a:lnTo>
                        <a:pt x="3882" y="33"/>
                      </a:lnTo>
                      <a:lnTo>
                        <a:pt x="3891" y="10"/>
                      </a:lnTo>
                      <a:lnTo>
                        <a:pt x="3918" y="0"/>
                      </a:lnTo>
                      <a:lnTo>
                        <a:pt x="3943" y="10"/>
                      </a:lnTo>
                      <a:lnTo>
                        <a:pt x="3951" y="33"/>
                      </a:lnTo>
                      <a:lnTo>
                        <a:pt x="3999" y="73"/>
                      </a:lnTo>
                      <a:lnTo>
                        <a:pt x="4011" y="55"/>
                      </a:lnTo>
                      <a:lnTo>
                        <a:pt x="5179" y="966"/>
                      </a:lnTo>
                      <a:lnTo>
                        <a:pt x="5241" y="970"/>
                      </a:lnTo>
                      <a:lnTo>
                        <a:pt x="5241" y="1227"/>
                      </a:lnTo>
                      <a:lnTo>
                        <a:pt x="5391" y="1252"/>
                      </a:lnTo>
                      <a:lnTo>
                        <a:pt x="5391" y="2131"/>
                      </a:lnTo>
                      <a:lnTo>
                        <a:pt x="5292" y="2130"/>
                      </a:lnTo>
                      <a:lnTo>
                        <a:pt x="5274" y="2037"/>
                      </a:lnTo>
                      <a:lnTo>
                        <a:pt x="5235" y="1947"/>
                      </a:lnTo>
                      <a:lnTo>
                        <a:pt x="5175" y="1857"/>
                      </a:lnTo>
                      <a:lnTo>
                        <a:pt x="5089" y="1780"/>
                      </a:lnTo>
                      <a:lnTo>
                        <a:pt x="5007" y="1732"/>
                      </a:lnTo>
                      <a:lnTo>
                        <a:pt x="4908" y="1699"/>
                      </a:lnTo>
                      <a:lnTo>
                        <a:pt x="4804" y="1689"/>
                      </a:lnTo>
                      <a:lnTo>
                        <a:pt x="3847" y="1689"/>
                      </a:lnTo>
                      <a:lnTo>
                        <a:pt x="3753" y="1699"/>
                      </a:lnTo>
                      <a:lnTo>
                        <a:pt x="3667" y="1726"/>
                      </a:lnTo>
                      <a:lnTo>
                        <a:pt x="3568" y="1777"/>
                      </a:lnTo>
                      <a:lnTo>
                        <a:pt x="3486" y="1848"/>
                      </a:lnTo>
                      <a:lnTo>
                        <a:pt x="3420" y="1939"/>
                      </a:lnTo>
                      <a:lnTo>
                        <a:pt x="3382" y="2034"/>
                      </a:lnTo>
                      <a:lnTo>
                        <a:pt x="3360" y="2131"/>
                      </a:lnTo>
                      <a:lnTo>
                        <a:pt x="2034" y="2130"/>
                      </a:lnTo>
                      <a:lnTo>
                        <a:pt x="2011" y="2031"/>
                      </a:lnTo>
                      <a:lnTo>
                        <a:pt x="1969" y="1938"/>
                      </a:lnTo>
                      <a:lnTo>
                        <a:pt x="1908" y="1852"/>
                      </a:lnTo>
                      <a:lnTo>
                        <a:pt x="1833" y="1783"/>
                      </a:lnTo>
                      <a:lnTo>
                        <a:pt x="1740" y="1732"/>
                      </a:lnTo>
                      <a:lnTo>
                        <a:pt x="1642" y="1699"/>
                      </a:lnTo>
                      <a:lnTo>
                        <a:pt x="1543" y="1689"/>
                      </a:lnTo>
                      <a:lnTo>
                        <a:pt x="585" y="1689"/>
                      </a:lnTo>
                      <a:lnTo>
                        <a:pt x="492" y="1699"/>
                      </a:lnTo>
                      <a:lnTo>
                        <a:pt x="390" y="1731"/>
                      </a:lnTo>
                      <a:lnTo>
                        <a:pt x="301" y="1782"/>
                      </a:lnTo>
                      <a:lnTo>
                        <a:pt x="228" y="1846"/>
                      </a:lnTo>
                      <a:lnTo>
                        <a:pt x="162" y="1936"/>
                      </a:lnTo>
                      <a:lnTo>
                        <a:pt x="124" y="2025"/>
                      </a:lnTo>
                      <a:lnTo>
                        <a:pt x="97" y="2133"/>
                      </a:lnTo>
                      <a:lnTo>
                        <a:pt x="1" y="2131"/>
                      </a:lnTo>
                      <a:close/>
                    </a:path>
                  </a:pathLst>
                </a:custGeom>
                <a:solidFill>
                  <a:srgbClr val="3333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6675840" y="5634360"/>
                  <a:ext cx="137160" cy="138600"/>
                </a:xfrm>
                <a:prstGeom prst="ellipse">
                  <a:avLst/>
                </a:prstGeom>
                <a:solidFill>
                  <a:srgbClr val="dddddd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6855480" y="5634360"/>
                  <a:ext cx="135000" cy="138600"/>
                </a:xfrm>
                <a:prstGeom prst="ellipse">
                  <a:avLst/>
                </a:prstGeom>
                <a:solidFill>
                  <a:srgbClr val="dddddd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7286760" y="5634360"/>
                  <a:ext cx="135000" cy="138600"/>
                </a:xfrm>
                <a:prstGeom prst="ellipse">
                  <a:avLst/>
                </a:prstGeom>
                <a:solidFill>
                  <a:srgbClr val="dddddd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7464600" y="5634360"/>
                  <a:ext cx="136800" cy="138600"/>
                </a:xfrm>
                <a:prstGeom prst="ellipse">
                  <a:avLst/>
                </a:prstGeom>
                <a:solidFill>
                  <a:srgbClr val="dddddd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6" name=""/>
                <p:cNvGrpSpPr/>
                <p:nvPr/>
              </p:nvGrpSpPr>
              <p:grpSpPr>
                <a:xfrm>
                  <a:off x="6632640" y="5290920"/>
                  <a:ext cx="1013040" cy="483480"/>
                  <a:chOff x="6632640" y="5290920"/>
                  <a:chExt cx="1013040" cy="483480"/>
                </a:xfrm>
              </p:grpSpPr>
              <p:sp>
                <p:nvSpPr>
                  <p:cNvPr id="127" name=""/>
                  <p:cNvSpPr/>
                  <p:nvPr/>
                </p:nvSpPr>
                <p:spPr>
                  <a:xfrm>
                    <a:off x="7532640" y="5611320"/>
                    <a:ext cx="92160" cy="83160"/>
                  </a:xfrm>
                  <a:custGeom>
                    <a:avLst/>
                    <a:gdLst/>
                    <a:ahLst/>
                    <a:rect l="l" t="t" r="r" b="b"/>
                    <a:pathLst>
                      <a:path w="50" h="51">
                        <a:moveTo>
                          <a:pt x="50" y="51"/>
                        </a:moveTo>
                        <a:lnTo>
                          <a:pt x="47" y="39"/>
                        </a:lnTo>
                        <a:lnTo>
                          <a:pt x="43" y="28"/>
                        </a:lnTo>
                        <a:lnTo>
                          <a:pt x="37" y="19"/>
                        </a:lnTo>
                        <a:lnTo>
                          <a:pt x="29" y="11"/>
                        </a:lnTo>
                        <a:lnTo>
                          <a:pt x="20" y="5"/>
                        </a:lnTo>
                        <a:lnTo>
                          <a:pt x="10" y="1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360" bIns="36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" name=""/>
                  <p:cNvSpPr/>
                  <p:nvPr/>
                </p:nvSpPr>
                <p:spPr>
                  <a:xfrm flipH="1" flipV="1">
                    <a:off x="7302960" y="5477400"/>
                    <a:ext cx="340920" cy="5040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0" bIns="3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" name=""/>
                  <p:cNvSpPr/>
                  <p:nvPr/>
                </p:nvSpPr>
                <p:spPr>
                  <a:xfrm flipV="1">
                    <a:off x="6633000" y="5527800"/>
                    <a:ext cx="1440" cy="16632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"/>
                  <p:cNvSpPr/>
                  <p:nvPr/>
                </p:nvSpPr>
                <p:spPr>
                  <a:xfrm>
                    <a:off x="6853320" y="5635800"/>
                    <a:ext cx="136800" cy="138600"/>
                  </a:xfrm>
                  <a:custGeom>
                    <a:avLst/>
                    <a:gdLst/>
                    <a:ahLst/>
                    <a:rect l="l" t="t" r="r" b="b"/>
                    <a:pathLst>
                      <a:path w="74" h="85">
                        <a:moveTo>
                          <a:pt x="74" y="42"/>
                        </a:moveTo>
                        <a:lnTo>
                          <a:pt x="73" y="31"/>
                        </a:lnTo>
                        <a:lnTo>
                          <a:pt x="69" y="21"/>
                        </a:lnTo>
                        <a:lnTo>
                          <a:pt x="63" y="12"/>
                        </a:lnTo>
                        <a:lnTo>
                          <a:pt x="55" y="5"/>
                        </a:lnTo>
                        <a:lnTo>
                          <a:pt x="46" y="1"/>
                        </a:lnTo>
                        <a:lnTo>
                          <a:pt x="37" y="0"/>
                        </a:lnTo>
                        <a:lnTo>
                          <a:pt x="27" y="1"/>
                        </a:lnTo>
                        <a:lnTo>
                          <a:pt x="18" y="5"/>
                        </a:lnTo>
                        <a:lnTo>
                          <a:pt x="11" y="12"/>
                        </a:lnTo>
                        <a:lnTo>
                          <a:pt x="5" y="21"/>
                        </a:lnTo>
                        <a:lnTo>
                          <a:pt x="1" y="31"/>
                        </a:lnTo>
                        <a:lnTo>
                          <a:pt x="0" y="42"/>
                        </a:lnTo>
                        <a:lnTo>
                          <a:pt x="1" y="53"/>
                        </a:lnTo>
                        <a:lnTo>
                          <a:pt x="5" y="64"/>
                        </a:lnTo>
                        <a:lnTo>
                          <a:pt x="11" y="72"/>
                        </a:lnTo>
                        <a:lnTo>
                          <a:pt x="18" y="79"/>
                        </a:lnTo>
                        <a:lnTo>
                          <a:pt x="27" y="83"/>
                        </a:lnTo>
                        <a:lnTo>
                          <a:pt x="37" y="85"/>
                        </a:lnTo>
                        <a:lnTo>
                          <a:pt x="46" y="83"/>
                        </a:lnTo>
                        <a:lnTo>
                          <a:pt x="55" y="79"/>
                        </a:lnTo>
                        <a:lnTo>
                          <a:pt x="63" y="72"/>
                        </a:lnTo>
                        <a:lnTo>
                          <a:pt x="69" y="64"/>
                        </a:lnTo>
                        <a:lnTo>
                          <a:pt x="73" y="53"/>
                        </a:lnTo>
                        <a:lnTo>
                          <a:pt x="74" y="42"/>
                        </a:lnTo>
                        <a:close/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6922080" y="5611320"/>
                    <a:ext cx="92160" cy="83160"/>
                  </a:xfrm>
                  <a:custGeom>
                    <a:avLst/>
                    <a:gdLst/>
                    <a:ahLst/>
                    <a:rect l="l" t="t" r="r" b="b"/>
                    <a:pathLst>
                      <a:path w="50" h="51">
                        <a:moveTo>
                          <a:pt x="50" y="51"/>
                        </a:moveTo>
                        <a:lnTo>
                          <a:pt x="47" y="39"/>
                        </a:lnTo>
                        <a:lnTo>
                          <a:pt x="43" y="28"/>
                        </a:lnTo>
                        <a:lnTo>
                          <a:pt x="37" y="19"/>
                        </a:lnTo>
                        <a:lnTo>
                          <a:pt x="29" y="11"/>
                        </a:lnTo>
                        <a:lnTo>
                          <a:pt x="20" y="5"/>
                        </a:lnTo>
                        <a:lnTo>
                          <a:pt x="10" y="1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360" bIns="36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"/>
                  <p:cNvSpPr/>
                  <p:nvPr/>
                </p:nvSpPr>
                <p:spPr>
                  <a:xfrm>
                    <a:off x="6651360" y="5611320"/>
                    <a:ext cx="92160" cy="83160"/>
                  </a:xfrm>
                  <a:custGeom>
                    <a:avLst/>
                    <a:gdLst/>
                    <a:ahLst/>
                    <a:rect l="l" t="t" r="r" b="b"/>
                    <a:pathLst>
                      <a:path w="50" h="51">
                        <a:moveTo>
                          <a:pt x="50" y="0"/>
                        </a:moveTo>
                        <a:lnTo>
                          <a:pt x="39" y="1"/>
                        </a:lnTo>
                        <a:lnTo>
                          <a:pt x="29" y="5"/>
                        </a:lnTo>
                        <a:lnTo>
                          <a:pt x="20" y="11"/>
                        </a:lnTo>
                        <a:lnTo>
                          <a:pt x="13" y="19"/>
                        </a:lnTo>
                        <a:lnTo>
                          <a:pt x="6" y="28"/>
                        </a:lnTo>
                        <a:lnTo>
                          <a:pt x="2" y="39"/>
                        </a:lnTo>
                        <a:lnTo>
                          <a:pt x="0" y="51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360" bIns="36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"/>
                  <p:cNvSpPr/>
                  <p:nvPr/>
                </p:nvSpPr>
                <p:spPr>
                  <a:xfrm>
                    <a:off x="6675480" y="5635800"/>
                    <a:ext cx="137160" cy="138600"/>
                  </a:xfrm>
                  <a:custGeom>
                    <a:avLst/>
                    <a:gdLst/>
                    <a:ahLst/>
                    <a:rect l="l" t="t" r="r" b="b"/>
                    <a:pathLst>
                      <a:path w="74" h="85">
                        <a:moveTo>
                          <a:pt x="74" y="42"/>
                        </a:moveTo>
                        <a:lnTo>
                          <a:pt x="73" y="31"/>
                        </a:lnTo>
                        <a:lnTo>
                          <a:pt x="69" y="21"/>
                        </a:lnTo>
                        <a:lnTo>
                          <a:pt x="63" y="12"/>
                        </a:lnTo>
                        <a:lnTo>
                          <a:pt x="55" y="5"/>
                        </a:lnTo>
                        <a:lnTo>
                          <a:pt x="46" y="1"/>
                        </a:lnTo>
                        <a:lnTo>
                          <a:pt x="37" y="0"/>
                        </a:lnTo>
                        <a:lnTo>
                          <a:pt x="27" y="1"/>
                        </a:lnTo>
                        <a:lnTo>
                          <a:pt x="18" y="5"/>
                        </a:lnTo>
                        <a:lnTo>
                          <a:pt x="11" y="12"/>
                        </a:lnTo>
                        <a:lnTo>
                          <a:pt x="5" y="21"/>
                        </a:lnTo>
                        <a:lnTo>
                          <a:pt x="1" y="31"/>
                        </a:lnTo>
                        <a:lnTo>
                          <a:pt x="0" y="42"/>
                        </a:lnTo>
                        <a:lnTo>
                          <a:pt x="1" y="53"/>
                        </a:lnTo>
                        <a:lnTo>
                          <a:pt x="5" y="64"/>
                        </a:lnTo>
                        <a:lnTo>
                          <a:pt x="11" y="72"/>
                        </a:lnTo>
                        <a:lnTo>
                          <a:pt x="18" y="79"/>
                        </a:lnTo>
                        <a:lnTo>
                          <a:pt x="27" y="83"/>
                        </a:lnTo>
                        <a:lnTo>
                          <a:pt x="37" y="85"/>
                        </a:lnTo>
                        <a:lnTo>
                          <a:pt x="46" y="83"/>
                        </a:lnTo>
                        <a:lnTo>
                          <a:pt x="55" y="79"/>
                        </a:lnTo>
                        <a:lnTo>
                          <a:pt x="63" y="72"/>
                        </a:lnTo>
                        <a:lnTo>
                          <a:pt x="69" y="64"/>
                        </a:lnTo>
                        <a:lnTo>
                          <a:pt x="73" y="53"/>
                        </a:lnTo>
                        <a:lnTo>
                          <a:pt x="74" y="42"/>
                        </a:lnTo>
                        <a:close/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"/>
                  <p:cNvSpPr/>
                  <p:nvPr/>
                </p:nvSpPr>
                <p:spPr>
                  <a:xfrm>
                    <a:off x="7464240" y="5635800"/>
                    <a:ext cx="136800" cy="138600"/>
                  </a:xfrm>
                  <a:custGeom>
                    <a:avLst/>
                    <a:gdLst/>
                    <a:ahLst/>
                    <a:rect l="l" t="t" r="r" b="b"/>
                    <a:pathLst>
                      <a:path w="74" h="85">
                        <a:moveTo>
                          <a:pt x="74" y="42"/>
                        </a:moveTo>
                        <a:lnTo>
                          <a:pt x="73" y="31"/>
                        </a:lnTo>
                        <a:lnTo>
                          <a:pt x="69" y="21"/>
                        </a:lnTo>
                        <a:lnTo>
                          <a:pt x="63" y="12"/>
                        </a:lnTo>
                        <a:lnTo>
                          <a:pt x="55" y="5"/>
                        </a:lnTo>
                        <a:lnTo>
                          <a:pt x="46" y="1"/>
                        </a:lnTo>
                        <a:lnTo>
                          <a:pt x="37" y="0"/>
                        </a:lnTo>
                        <a:lnTo>
                          <a:pt x="27" y="1"/>
                        </a:lnTo>
                        <a:lnTo>
                          <a:pt x="18" y="5"/>
                        </a:lnTo>
                        <a:lnTo>
                          <a:pt x="11" y="12"/>
                        </a:lnTo>
                        <a:lnTo>
                          <a:pt x="5" y="21"/>
                        </a:lnTo>
                        <a:lnTo>
                          <a:pt x="1" y="31"/>
                        </a:lnTo>
                        <a:lnTo>
                          <a:pt x="0" y="42"/>
                        </a:lnTo>
                        <a:lnTo>
                          <a:pt x="1" y="53"/>
                        </a:lnTo>
                        <a:lnTo>
                          <a:pt x="5" y="64"/>
                        </a:lnTo>
                        <a:lnTo>
                          <a:pt x="11" y="72"/>
                        </a:lnTo>
                        <a:lnTo>
                          <a:pt x="18" y="79"/>
                        </a:lnTo>
                        <a:lnTo>
                          <a:pt x="27" y="83"/>
                        </a:lnTo>
                        <a:lnTo>
                          <a:pt x="37" y="85"/>
                        </a:lnTo>
                        <a:lnTo>
                          <a:pt x="46" y="83"/>
                        </a:lnTo>
                        <a:lnTo>
                          <a:pt x="55" y="79"/>
                        </a:lnTo>
                        <a:lnTo>
                          <a:pt x="63" y="72"/>
                        </a:lnTo>
                        <a:lnTo>
                          <a:pt x="69" y="64"/>
                        </a:lnTo>
                        <a:lnTo>
                          <a:pt x="73" y="53"/>
                        </a:lnTo>
                        <a:lnTo>
                          <a:pt x="74" y="42"/>
                        </a:lnTo>
                        <a:close/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"/>
                  <p:cNvSpPr/>
                  <p:nvPr/>
                </p:nvSpPr>
                <p:spPr>
                  <a:xfrm>
                    <a:off x="7286400" y="5635800"/>
                    <a:ext cx="137160" cy="138600"/>
                  </a:xfrm>
                  <a:custGeom>
                    <a:avLst/>
                    <a:gdLst/>
                    <a:ahLst/>
                    <a:rect l="l" t="t" r="r" b="b"/>
                    <a:pathLst>
                      <a:path w="74" h="85">
                        <a:moveTo>
                          <a:pt x="74" y="42"/>
                        </a:moveTo>
                        <a:lnTo>
                          <a:pt x="73" y="31"/>
                        </a:lnTo>
                        <a:lnTo>
                          <a:pt x="69" y="21"/>
                        </a:lnTo>
                        <a:lnTo>
                          <a:pt x="63" y="12"/>
                        </a:lnTo>
                        <a:lnTo>
                          <a:pt x="55" y="5"/>
                        </a:lnTo>
                        <a:lnTo>
                          <a:pt x="46" y="1"/>
                        </a:lnTo>
                        <a:lnTo>
                          <a:pt x="37" y="0"/>
                        </a:lnTo>
                        <a:lnTo>
                          <a:pt x="27" y="1"/>
                        </a:lnTo>
                        <a:lnTo>
                          <a:pt x="18" y="5"/>
                        </a:lnTo>
                        <a:lnTo>
                          <a:pt x="10" y="12"/>
                        </a:lnTo>
                        <a:lnTo>
                          <a:pt x="5" y="21"/>
                        </a:lnTo>
                        <a:lnTo>
                          <a:pt x="1" y="31"/>
                        </a:lnTo>
                        <a:lnTo>
                          <a:pt x="0" y="42"/>
                        </a:lnTo>
                        <a:lnTo>
                          <a:pt x="1" y="53"/>
                        </a:lnTo>
                        <a:lnTo>
                          <a:pt x="5" y="64"/>
                        </a:lnTo>
                        <a:lnTo>
                          <a:pt x="10" y="72"/>
                        </a:lnTo>
                        <a:lnTo>
                          <a:pt x="18" y="79"/>
                        </a:lnTo>
                        <a:lnTo>
                          <a:pt x="27" y="83"/>
                        </a:lnTo>
                        <a:lnTo>
                          <a:pt x="37" y="85"/>
                        </a:lnTo>
                        <a:lnTo>
                          <a:pt x="46" y="83"/>
                        </a:lnTo>
                        <a:lnTo>
                          <a:pt x="55" y="79"/>
                        </a:lnTo>
                        <a:lnTo>
                          <a:pt x="63" y="72"/>
                        </a:lnTo>
                        <a:lnTo>
                          <a:pt x="69" y="64"/>
                        </a:lnTo>
                        <a:lnTo>
                          <a:pt x="73" y="53"/>
                        </a:lnTo>
                        <a:lnTo>
                          <a:pt x="74" y="42"/>
                        </a:lnTo>
                        <a:close/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"/>
                  <p:cNvSpPr/>
                  <p:nvPr/>
                </p:nvSpPr>
                <p:spPr>
                  <a:xfrm>
                    <a:off x="7262280" y="5611320"/>
                    <a:ext cx="92520" cy="83160"/>
                  </a:xfrm>
                  <a:custGeom>
                    <a:avLst/>
                    <a:gdLst/>
                    <a:ahLst/>
                    <a:rect l="l" t="t" r="r" b="b"/>
                    <a:pathLst>
                      <a:path w="50" h="51">
                        <a:moveTo>
                          <a:pt x="50" y="0"/>
                        </a:moveTo>
                        <a:lnTo>
                          <a:pt x="39" y="1"/>
                        </a:lnTo>
                        <a:lnTo>
                          <a:pt x="29" y="5"/>
                        </a:lnTo>
                        <a:lnTo>
                          <a:pt x="20" y="11"/>
                        </a:lnTo>
                        <a:lnTo>
                          <a:pt x="13" y="19"/>
                        </a:lnTo>
                        <a:lnTo>
                          <a:pt x="6" y="28"/>
                        </a:lnTo>
                        <a:lnTo>
                          <a:pt x="2" y="39"/>
                        </a:lnTo>
                        <a:lnTo>
                          <a:pt x="0" y="51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360" bIns="36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"/>
                  <p:cNvSpPr/>
                  <p:nvPr/>
                </p:nvSpPr>
                <p:spPr>
                  <a:xfrm flipH="1">
                    <a:off x="7013880" y="5694480"/>
                    <a:ext cx="248040" cy="144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"/>
                  <p:cNvSpPr/>
                  <p:nvPr/>
                </p:nvSpPr>
                <p:spPr>
                  <a:xfrm flipH="1">
                    <a:off x="6632640" y="5694480"/>
                    <a:ext cx="18360" cy="144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" name=""/>
                  <p:cNvSpPr/>
                  <p:nvPr/>
                </p:nvSpPr>
                <p:spPr>
                  <a:xfrm flipH="1">
                    <a:off x="6950880" y="5367960"/>
                    <a:ext cx="374040" cy="144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"/>
                  <p:cNvSpPr/>
                  <p:nvPr/>
                </p:nvSpPr>
                <p:spPr>
                  <a:xfrm>
                    <a:off x="6971760" y="5477400"/>
                    <a:ext cx="331200" cy="140040"/>
                  </a:xfrm>
                  <a:custGeom>
                    <a:avLst/>
                    <a:gdLst/>
                    <a:ahLst/>
                    <a:rect l="l" t="t" r="r" b="b"/>
                    <a:pathLst>
                      <a:path w="179" h="86">
                        <a:moveTo>
                          <a:pt x="0" y="0"/>
                        </a:moveTo>
                        <a:lnTo>
                          <a:pt x="1" y="86"/>
                        </a:lnTo>
                        <a:lnTo>
                          <a:pt x="179" y="86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"/>
                  <p:cNvSpPr/>
                  <p:nvPr/>
                </p:nvSpPr>
                <p:spPr>
                  <a:xfrm>
                    <a:off x="6951240" y="5367960"/>
                    <a:ext cx="37548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03" h="8">
                        <a:moveTo>
                          <a:pt x="0" y="0"/>
                        </a:moveTo>
                        <a:lnTo>
                          <a:pt x="0" y="8"/>
                        </a:lnTo>
                        <a:lnTo>
                          <a:pt x="203" y="8"/>
                        </a:lnTo>
                        <a:lnTo>
                          <a:pt x="203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"/>
                  <p:cNvSpPr/>
                  <p:nvPr/>
                </p:nvSpPr>
                <p:spPr>
                  <a:xfrm>
                    <a:off x="7023600" y="5596560"/>
                    <a:ext cx="220320" cy="144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"/>
                  <p:cNvSpPr/>
                  <p:nvPr/>
                </p:nvSpPr>
                <p:spPr>
                  <a:xfrm flipV="1">
                    <a:off x="6633000" y="5477400"/>
                    <a:ext cx="338760" cy="5040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0" bIns="3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"/>
                  <p:cNvSpPr/>
                  <p:nvPr/>
                </p:nvSpPr>
                <p:spPr>
                  <a:xfrm flipV="1">
                    <a:off x="6677640" y="5403960"/>
                    <a:ext cx="257040" cy="6984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 flipV="1">
                    <a:off x="6706800" y="5420160"/>
                    <a:ext cx="231120" cy="6336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"/>
                  <p:cNvSpPr/>
                  <p:nvPr/>
                </p:nvSpPr>
                <p:spPr>
                  <a:xfrm>
                    <a:off x="6660720" y="5473800"/>
                    <a:ext cx="46080" cy="180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"/>
                  <p:cNvSpPr/>
                  <p:nvPr/>
                </p:nvSpPr>
                <p:spPr>
                  <a:xfrm>
                    <a:off x="6706800" y="5473800"/>
                    <a:ext cx="1800" cy="4248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" bIns="-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" name=""/>
                  <p:cNvSpPr/>
                  <p:nvPr/>
                </p:nvSpPr>
                <p:spPr>
                  <a:xfrm flipV="1">
                    <a:off x="6660720" y="5473800"/>
                    <a:ext cx="1440" cy="5040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0" bIns="3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" name=""/>
                  <p:cNvSpPr/>
                  <p:nvPr/>
                </p:nvSpPr>
                <p:spPr>
                  <a:xfrm flipH="1">
                    <a:off x="6743880" y="5611320"/>
                    <a:ext cx="177840" cy="144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" name=""/>
                  <p:cNvSpPr/>
                  <p:nvPr/>
                </p:nvSpPr>
                <p:spPr>
                  <a:xfrm flipV="1">
                    <a:off x="6971760" y="5380560"/>
                    <a:ext cx="1440" cy="9612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"/>
                  <p:cNvSpPr/>
                  <p:nvPr/>
                </p:nvSpPr>
                <p:spPr>
                  <a:xfrm>
                    <a:off x="6947640" y="5400720"/>
                    <a:ext cx="1296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9">
                        <a:moveTo>
                          <a:pt x="7" y="5"/>
                        </a:moveTo>
                        <a:lnTo>
                          <a:pt x="6" y="2"/>
                        </a:lnTo>
                        <a:lnTo>
                          <a:pt x="3" y="0"/>
                        </a:lnTo>
                        <a:lnTo>
                          <a:pt x="1" y="2"/>
                        </a:lnTo>
                        <a:lnTo>
                          <a:pt x="0" y="5"/>
                        </a:lnTo>
                        <a:lnTo>
                          <a:pt x="1" y="7"/>
                        </a:lnTo>
                        <a:lnTo>
                          <a:pt x="3" y="9"/>
                        </a:lnTo>
                        <a:lnTo>
                          <a:pt x="6" y="7"/>
                        </a:lnTo>
                        <a:lnTo>
                          <a:pt x="7" y="5"/>
                        </a:lnTo>
                        <a:close/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" name=""/>
                  <p:cNvSpPr/>
                  <p:nvPr/>
                </p:nvSpPr>
                <p:spPr>
                  <a:xfrm flipH="1" flipV="1">
                    <a:off x="6934680" y="5403600"/>
                    <a:ext cx="3240" cy="1620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"/>
                  <p:cNvSpPr/>
                  <p:nvPr/>
                </p:nvSpPr>
                <p:spPr>
                  <a:xfrm flipV="1">
                    <a:off x="6938280" y="5413320"/>
                    <a:ext cx="11160" cy="324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" name=""/>
                  <p:cNvSpPr/>
                  <p:nvPr/>
                </p:nvSpPr>
                <p:spPr>
                  <a:xfrm flipV="1">
                    <a:off x="6936480" y="5405040"/>
                    <a:ext cx="10800" cy="324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" name=""/>
                  <p:cNvSpPr/>
                  <p:nvPr/>
                </p:nvSpPr>
                <p:spPr>
                  <a:xfrm>
                    <a:off x="7023600" y="5380920"/>
                    <a:ext cx="1800" cy="21528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" name=""/>
                  <p:cNvSpPr/>
                  <p:nvPr/>
                </p:nvSpPr>
                <p:spPr>
                  <a:xfrm flipV="1">
                    <a:off x="7303320" y="5380560"/>
                    <a:ext cx="1800" cy="9612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" name=""/>
                  <p:cNvSpPr/>
                  <p:nvPr/>
                </p:nvSpPr>
                <p:spPr>
                  <a:xfrm>
                    <a:off x="7303320" y="5477400"/>
                    <a:ext cx="1800" cy="14004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" name=""/>
                  <p:cNvSpPr/>
                  <p:nvPr/>
                </p:nvSpPr>
                <p:spPr>
                  <a:xfrm>
                    <a:off x="7243920" y="5380920"/>
                    <a:ext cx="1440" cy="21528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" name=""/>
                  <p:cNvSpPr/>
                  <p:nvPr/>
                </p:nvSpPr>
                <p:spPr>
                  <a:xfrm>
                    <a:off x="7136640" y="5380920"/>
                    <a:ext cx="1800" cy="21528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"/>
                  <p:cNvSpPr/>
                  <p:nvPr/>
                </p:nvSpPr>
                <p:spPr>
                  <a:xfrm>
                    <a:off x="7143840" y="5380920"/>
                    <a:ext cx="1440" cy="21528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" name=""/>
                  <p:cNvSpPr/>
                  <p:nvPr/>
                </p:nvSpPr>
                <p:spPr>
                  <a:xfrm flipH="1" flipV="1">
                    <a:off x="7384320" y="5302440"/>
                    <a:ext cx="218520" cy="17136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" name=""/>
                  <p:cNvSpPr/>
                  <p:nvPr/>
                </p:nvSpPr>
                <p:spPr>
                  <a:xfrm flipH="1">
                    <a:off x="7569360" y="5473800"/>
                    <a:ext cx="44280" cy="180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" name=""/>
                  <p:cNvSpPr/>
                  <p:nvPr/>
                </p:nvSpPr>
                <p:spPr>
                  <a:xfrm flipH="1">
                    <a:off x="7354800" y="5611320"/>
                    <a:ext cx="177480" cy="144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 flipH="1" flipV="1">
                    <a:off x="7375320" y="5315400"/>
                    <a:ext cx="201600" cy="15840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" name=""/>
                  <p:cNvSpPr/>
                  <p:nvPr/>
                </p:nvSpPr>
                <p:spPr>
                  <a:xfrm>
                    <a:off x="7569720" y="5473800"/>
                    <a:ext cx="1800" cy="4248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" bIns="-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" name=""/>
                  <p:cNvSpPr/>
                  <p:nvPr/>
                </p:nvSpPr>
                <p:spPr>
                  <a:xfrm flipH="1">
                    <a:off x="7374960" y="5302440"/>
                    <a:ext cx="9000" cy="1260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7" name=""/>
                  <p:cNvSpPr/>
                  <p:nvPr/>
                </p:nvSpPr>
                <p:spPr>
                  <a:xfrm flipH="1" flipV="1">
                    <a:off x="7373160" y="5297760"/>
                    <a:ext cx="6840" cy="648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" name=""/>
                  <p:cNvSpPr/>
                  <p:nvPr/>
                </p:nvSpPr>
                <p:spPr>
                  <a:xfrm flipH="1" flipV="1">
                    <a:off x="7367760" y="5303880"/>
                    <a:ext cx="9000" cy="612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9" name=""/>
                  <p:cNvSpPr/>
                  <p:nvPr/>
                </p:nvSpPr>
                <p:spPr>
                  <a:xfrm>
                    <a:off x="7360560" y="5290920"/>
                    <a:ext cx="12960" cy="1332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8">
                        <a:moveTo>
                          <a:pt x="7" y="4"/>
                        </a:moveTo>
                        <a:lnTo>
                          <a:pt x="6" y="1"/>
                        </a:lnTo>
                        <a:lnTo>
                          <a:pt x="3" y="0"/>
                        </a:lnTo>
                        <a:lnTo>
                          <a:pt x="1" y="1"/>
                        </a:lnTo>
                        <a:lnTo>
                          <a:pt x="0" y="4"/>
                        </a:lnTo>
                        <a:lnTo>
                          <a:pt x="1" y="7"/>
                        </a:lnTo>
                        <a:lnTo>
                          <a:pt x="3" y="8"/>
                        </a:lnTo>
                        <a:lnTo>
                          <a:pt x="6" y="7"/>
                        </a:lnTo>
                        <a:lnTo>
                          <a:pt x="7" y="4"/>
                        </a:lnTo>
                        <a:close/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" name=""/>
                  <p:cNvSpPr/>
                  <p:nvPr/>
                </p:nvSpPr>
                <p:spPr>
                  <a:xfrm flipV="1">
                    <a:off x="7614360" y="5473800"/>
                    <a:ext cx="1440" cy="5040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0" bIns="3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 flipV="1">
                    <a:off x="7644240" y="5527800"/>
                    <a:ext cx="1440" cy="16632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7625160" y="5694480"/>
                    <a:ext cx="18720" cy="144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73" name=""/>
              <p:cNvGrpSpPr/>
              <p:nvPr/>
            </p:nvGrpSpPr>
            <p:grpSpPr>
              <a:xfrm>
                <a:off x="7811640" y="5302440"/>
                <a:ext cx="1043280" cy="473040"/>
                <a:chOff x="7811640" y="5302440"/>
                <a:chExt cx="1043280" cy="473040"/>
              </a:xfrm>
            </p:grpSpPr>
            <p:sp>
              <p:nvSpPr>
                <p:cNvPr id="174" name=""/>
                <p:cNvSpPr/>
                <p:nvPr/>
              </p:nvSpPr>
              <p:spPr>
                <a:xfrm flipH="1">
                  <a:off x="8687880" y="5532480"/>
                  <a:ext cx="27360" cy="63720"/>
                </a:xfrm>
                <a:custGeom>
                  <a:avLst/>
                  <a:gdLst/>
                  <a:ahLst/>
                  <a:rect l="l" t="t" r="r" b="b"/>
                  <a:pathLst>
                    <a:path w="144" h="309">
                      <a:moveTo>
                        <a:pt x="39" y="0"/>
                      </a:moveTo>
                      <a:lnTo>
                        <a:pt x="111" y="0"/>
                      </a:lnTo>
                      <a:lnTo>
                        <a:pt x="132" y="10"/>
                      </a:lnTo>
                      <a:lnTo>
                        <a:pt x="144" y="30"/>
                      </a:lnTo>
                      <a:lnTo>
                        <a:pt x="143" y="277"/>
                      </a:lnTo>
                      <a:lnTo>
                        <a:pt x="134" y="297"/>
                      </a:lnTo>
                      <a:lnTo>
                        <a:pt x="110" y="309"/>
                      </a:lnTo>
                      <a:lnTo>
                        <a:pt x="35" y="309"/>
                      </a:lnTo>
                      <a:lnTo>
                        <a:pt x="12" y="300"/>
                      </a:lnTo>
                      <a:lnTo>
                        <a:pt x="0" y="274"/>
                      </a:lnTo>
                      <a:lnTo>
                        <a:pt x="0" y="36"/>
                      </a:lnTo>
                      <a:lnTo>
                        <a:pt x="15" y="7"/>
                      </a:lnTo>
                      <a:lnTo>
                        <a:pt x="39" y="0"/>
                      </a:lnTo>
                      <a:close/>
                    </a:path>
                  </a:pathLst>
                </a:custGeom>
                <a:solidFill>
                  <a:srgbClr val="ff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 flipH="1">
                  <a:off x="8811720" y="5532480"/>
                  <a:ext cx="25920" cy="63720"/>
                </a:xfrm>
                <a:custGeom>
                  <a:avLst/>
                  <a:gdLst/>
                  <a:ahLst/>
                  <a:rect l="l" t="t" r="r" b="b"/>
                  <a:pathLst>
                    <a:path w="144" h="309">
                      <a:moveTo>
                        <a:pt x="39" y="0"/>
                      </a:moveTo>
                      <a:lnTo>
                        <a:pt x="111" y="0"/>
                      </a:lnTo>
                      <a:lnTo>
                        <a:pt x="132" y="10"/>
                      </a:lnTo>
                      <a:lnTo>
                        <a:pt x="144" y="30"/>
                      </a:lnTo>
                      <a:lnTo>
                        <a:pt x="143" y="277"/>
                      </a:lnTo>
                      <a:lnTo>
                        <a:pt x="134" y="297"/>
                      </a:lnTo>
                      <a:lnTo>
                        <a:pt x="110" y="309"/>
                      </a:lnTo>
                      <a:lnTo>
                        <a:pt x="35" y="309"/>
                      </a:lnTo>
                      <a:lnTo>
                        <a:pt x="12" y="300"/>
                      </a:lnTo>
                      <a:lnTo>
                        <a:pt x="0" y="274"/>
                      </a:lnTo>
                      <a:lnTo>
                        <a:pt x="0" y="36"/>
                      </a:lnTo>
                      <a:lnTo>
                        <a:pt x="15" y="7"/>
                      </a:lnTo>
                      <a:lnTo>
                        <a:pt x="39" y="0"/>
                      </a:lnTo>
                      <a:close/>
                    </a:path>
                  </a:pathLst>
                </a:custGeom>
                <a:solidFill>
                  <a:srgbClr val="ff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 flipH="1">
                  <a:off x="8829000" y="5585040"/>
                  <a:ext cx="25920" cy="63360"/>
                </a:xfrm>
                <a:custGeom>
                  <a:avLst/>
                  <a:gdLst/>
                  <a:ahLst/>
                  <a:rect l="l" t="t" r="r" b="b"/>
                  <a:pathLst>
                    <a:path w="144" h="309">
                      <a:moveTo>
                        <a:pt x="39" y="0"/>
                      </a:moveTo>
                      <a:lnTo>
                        <a:pt x="111" y="0"/>
                      </a:lnTo>
                      <a:lnTo>
                        <a:pt x="132" y="10"/>
                      </a:lnTo>
                      <a:lnTo>
                        <a:pt x="144" y="30"/>
                      </a:lnTo>
                      <a:lnTo>
                        <a:pt x="143" y="277"/>
                      </a:lnTo>
                      <a:lnTo>
                        <a:pt x="134" y="297"/>
                      </a:lnTo>
                      <a:lnTo>
                        <a:pt x="110" y="309"/>
                      </a:lnTo>
                      <a:lnTo>
                        <a:pt x="35" y="309"/>
                      </a:lnTo>
                      <a:lnTo>
                        <a:pt x="12" y="300"/>
                      </a:lnTo>
                      <a:lnTo>
                        <a:pt x="0" y="274"/>
                      </a:lnTo>
                      <a:lnTo>
                        <a:pt x="0" y="36"/>
                      </a:lnTo>
                      <a:lnTo>
                        <a:pt x="15" y="7"/>
                      </a:lnTo>
                      <a:lnTo>
                        <a:pt x="39" y="0"/>
                      </a:lnTo>
                      <a:close/>
                    </a:path>
                  </a:pathLst>
                </a:custGeom>
                <a:solidFill>
                  <a:srgbClr val="ff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flipH="1">
                  <a:off x="7814880" y="5302440"/>
                  <a:ext cx="949320" cy="393840"/>
                </a:xfrm>
                <a:custGeom>
                  <a:avLst/>
                  <a:gdLst/>
                  <a:ahLst/>
                  <a:rect l="l" t="t" r="r" b="b"/>
                  <a:pathLst>
                    <a:path w="5391" h="2133">
                      <a:moveTo>
                        <a:pt x="1" y="2131"/>
                      </a:moveTo>
                      <a:lnTo>
                        <a:pt x="0" y="1249"/>
                      </a:lnTo>
                      <a:lnTo>
                        <a:pt x="150" y="1230"/>
                      </a:lnTo>
                      <a:lnTo>
                        <a:pt x="150" y="967"/>
                      </a:lnTo>
                      <a:lnTo>
                        <a:pt x="243" y="966"/>
                      </a:lnTo>
                      <a:lnTo>
                        <a:pt x="1611" y="597"/>
                      </a:lnTo>
                      <a:lnTo>
                        <a:pt x="1618" y="618"/>
                      </a:lnTo>
                      <a:lnTo>
                        <a:pt x="1680" y="603"/>
                      </a:lnTo>
                      <a:lnTo>
                        <a:pt x="1687" y="589"/>
                      </a:lnTo>
                      <a:lnTo>
                        <a:pt x="1711" y="583"/>
                      </a:lnTo>
                      <a:lnTo>
                        <a:pt x="1735" y="588"/>
                      </a:lnTo>
                      <a:lnTo>
                        <a:pt x="1746" y="616"/>
                      </a:lnTo>
                      <a:lnTo>
                        <a:pt x="1738" y="642"/>
                      </a:lnTo>
                      <a:lnTo>
                        <a:pt x="1713" y="651"/>
                      </a:lnTo>
                      <a:lnTo>
                        <a:pt x="1687" y="643"/>
                      </a:lnTo>
                      <a:lnTo>
                        <a:pt x="1632" y="660"/>
                      </a:lnTo>
                      <a:lnTo>
                        <a:pt x="1632" y="681"/>
                      </a:lnTo>
                      <a:lnTo>
                        <a:pt x="396" y="1015"/>
                      </a:lnTo>
                      <a:lnTo>
                        <a:pt x="396" y="1194"/>
                      </a:lnTo>
                      <a:lnTo>
                        <a:pt x="1812" y="987"/>
                      </a:lnTo>
                      <a:lnTo>
                        <a:pt x="1813" y="474"/>
                      </a:lnTo>
                      <a:lnTo>
                        <a:pt x="1696" y="475"/>
                      </a:lnTo>
                      <a:lnTo>
                        <a:pt x="1695" y="408"/>
                      </a:lnTo>
                      <a:lnTo>
                        <a:pt x="3705" y="409"/>
                      </a:lnTo>
                      <a:lnTo>
                        <a:pt x="3703" y="474"/>
                      </a:lnTo>
                      <a:lnTo>
                        <a:pt x="3582" y="475"/>
                      </a:lnTo>
                      <a:lnTo>
                        <a:pt x="3580" y="987"/>
                      </a:lnTo>
                      <a:lnTo>
                        <a:pt x="4995" y="1192"/>
                      </a:lnTo>
                      <a:lnTo>
                        <a:pt x="4995" y="969"/>
                      </a:lnTo>
                      <a:lnTo>
                        <a:pt x="5041" y="967"/>
                      </a:lnTo>
                      <a:lnTo>
                        <a:pt x="3960" y="126"/>
                      </a:lnTo>
                      <a:lnTo>
                        <a:pt x="3973" y="105"/>
                      </a:lnTo>
                      <a:lnTo>
                        <a:pt x="3922" y="67"/>
                      </a:lnTo>
                      <a:lnTo>
                        <a:pt x="3915" y="70"/>
                      </a:lnTo>
                      <a:lnTo>
                        <a:pt x="3889" y="58"/>
                      </a:lnTo>
                      <a:lnTo>
                        <a:pt x="3882" y="33"/>
                      </a:lnTo>
                      <a:lnTo>
                        <a:pt x="3891" y="10"/>
                      </a:lnTo>
                      <a:lnTo>
                        <a:pt x="3918" y="0"/>
                      </a:lnTo>
                      <a:lnTo>
                        <a:pt x="3943" y="10"/>
                      </a:lnTo>
                      <a:lnTo>
                        <a:pt x="3951" y="33"/>
                      </a:lnTo>
                      <a:lnTo>
                        <a:pt x="3999" y="73"/>
                      </a:lnTo>
                      <a:lnTo>
                        <a:pt x="4011" y="55"/>
                      </a:lnTo>
                      <a:lnTo>
                        <a:pt x="5179" y="966"/>
                      </a:lnTo>
                      <a:lnTo>
                        <a:pt x="5241" y="970"/>
                      </a:lnTo>
                      <a:lnTo>
                        <a:pt x="5241" y="1227"/>
                      </a:lnTo>
                      <a:lnTo>
                        <a:pt x="5391" y="1252"/>
                      </a:lnTo>
                      <a:lnTo>
                        <a:pt x="5391" y="2131"/>
                      </a:lnTo>
                      <a:lnTo>
                        <a:pt x="5292" y="2130"/>
                      </a:lnTo>
                      <a:lnTo>
                        <a:pt x="5274" y="2037"/>
                      </a:lnTo>
                      <a:lnTo>
                        <a:pt x="5235" y="1947"/>
                      </a:lnTo>
                      <a:lnTo>
                        <a:pt x="5175" y="1857"/>
                      </a:lnTo>
                      <a:lnTo>
                        <a:pt x="5089" y="1780"/>
                      </a:lnTo>
                      <a:lnTo>
                        <a:pt x="5007" y="1732"/>
                      </a:lnTo>
                      <a:lnTo>
                        <a:pt x="4908" y="1699"/>
                      </a:lnTo>
                      <a:lnTo>
                        <a:pt x="4804" y="1689"/>
                      </a:lnTo>
                      <a:lnTo>
                        <a:pt x="3847" y="1689"/>
                      </a:lnTo>
                      <a:lnTo>
                        <a:pt x="3753" y="1699"/>
                      </a:lnTo>
                      <a:lnTo>
                        <a:pt x="3667" y="1726"/>
                      </a:lnTo>
                      <a:lnTo>
                        <a:pt x="3568" y="1777"/>
                      </a:lnTo>
                      <a:lnTo>
                        <a:pt x="3486" y="1848"/>
                      </a:lnTo>
                      <a:lnTo>
                        <a:pt x="3420" y="1939"/>
                      </a:lnTo>
                      <a:lnTo>
                        <a:pt x="3382" y="2034"/>
                      </a:lnTo>
                      <a:lnTo>
                        <a:pt x="3360" y="2131"/>
                      </a:lnTo>
                      <a:lnTo>
                        <a:pt x="2034" y="2130"/>
                      </a:lnTo>
                      <a:lnTo>
                        <a:pt x="2011" y="2031"/>
                      </a:lnTo>
                      <a:lnTo>
                        <a:pt x="1969" y="1938"/>
                      </a:lnTo>
                      <a:lnTo>
                        <a:pt x="1908" y="1852"/>
                      </a:lnTo>
                      <a:lnTo>
                        <a:pt x="1833" y="1783"/>
                      </a:lnTo>
                      <a:lnTo>
                        <a:pt x="1740" y="1732"/>
                      </a:lnTo>
                      <a:lnTo>
                        <a:pt x="1642" y="1699"/>
                      </a:lnTo>
                      <a:lnTo>
                        <a:pt x="1543" y="1689"/>
                      </a:lnTo>
                      <a:lnTo>
                        <a:pt x="585" y="1689"/>
                      </a:lnTo>
                      <a:lnTo>
                        <a:pt x="492" y="1699"/>
                      </a:lnTo>
                      <a:lnTo>
                        <a:pt x="390" y="1731"/>
                      </a:lnTo>
                      <a:lnTo>
                        <a:pt x="301" y="1782"/>
                      </a:lnTo>
                      <a:lnTo>
                        <a:pt x="228" y="1846"/>
                      </a:lnTo>
                      <a:lnTo>
                        <a:pt x="162" y="1936"/>
                      </a:lnTo>
                      <a:lnTo>
                        <a:pt x="124" y="2025"/>
                      </a:lnTo>
                      <a:lnTo>
                        <a:pt x="97" y="2133"/>
                      </a:lnTo>
                      <a:lnTo>
                        <a:pt x="1" y="2131"/>
                      </a:lnTo>
                      <a:close/>
                    </a:path>
                  </a:pathLst>
                </a:custGeom>
                <a:solidFill>
                  <a:srgbClr val="3333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 flipH="1">
                  <a:off x="8596440" y="5639040"/>
                  <a:ext cx="129240" cy="135000"/>
                </a:xfrm>
                <a:prstGeom prst="ellipse">
                  <a:avLst/>
                </a:prstGeom>
                <a:solidFill>
                  <a:srgbClr val="dddddd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 flipH="1">
                  <a:off x="8429040" y="5639040"/>
                  <a:ext cx="127440" cy="135000"/>
                </a:xfrm>
                <a:prstGeom prst="ellipse">
                  <a:avLst/>
                </a:prstGeom>
                <a:solidFill>
                  <a:srgbClr val="dddddd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 flipH="1">
                  <a:off x="8022600" y="5639040"/>
                  <a:ext cx="127440" cy="135000"/>
                </a:xfrm>
                <a:prstGeom prst="ellipse">
                  <a:avLst/>
                </a:prstGeom>
                <a:solidFill>
                  <a:srgbClr val="dddddd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 flipH="1">
                  <a:off x="7853400" y="5639040"/>
                  <a:ext cx="128880" cy="135000"/>
                </a:xfrm>
                <a:prstGeom prst="ellipse">
                  <a:avLst/>
                </a:prstGeom>
                <a:solidFill>
                  <a:srgbClr val="dddddd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82" name=""/>
                <p:cNvGrpSpPr/>
                <p:nvPr/>
              </p:nvGrpSpPr>
              <p:grpSpPr>
                <a:xfrm>
                  <a:off x="7811640" y="5305320"/>
                  <a:ext cx="954360" cy="470160"/>
                  <a:chOff x="7811640" y="5305320"/>
                  <a:chExt cx="954360" cy="47016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 flipH="1">
                    <a:off x="7831080" y="5616720"/>
                    <a:ext cx="86760" cy="81000"/>
                  </a:xfrm>
                  <a:custGeom>
                    <a:avLst/>
                    <a:gdLst/>
                    <a:ahLst/>
                    <a:rect l="l" t="t" r="r" b="b"/>
                    <a:pathLst>
                      <a:path w="50" h="51">
                        <a:moveTo>
                          <a:pt x="50" y="51"/>
                        </a:moveTo>
                        <a:lnTo>
                          <a:pt x="47" y="39"/>
                        </a:lnTo>
                        <a:lnTo>
                          <a:pt x="43" y="28"/>
                        </a:lnTo>
                        <a:lnTo>
                          <a:pt x="37" y="19"/>
                        </a:lnTo>
                        <a:lnTo>
                          <a:pt x="29" y="11"/>
                        </a:lnTo>
                        <a:lnTo>
                          <a:pt x="20" y="5"/>
                        </a:lnTo>
                        <a:lnTo>
                          <a:pt x="10" y="1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200" bIns="34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 flipV="1">
                    <a:off x="7813440" y="5486040"/>
                    <a:ext cx="321120" cy="4932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5" name=""/>
                  <p:cNvSpPr/>
                  <p:nvPr/>
                </p:nvSpPr>
                <p:spPr>
                  <a:xfrm flipH="1" flipV="1">
                    <a:off x="8764560" y="5535720"/>
                    <a:ext cx="1440" cy="16200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6" name=""/>
                  <p:cNvSpPr/>
                  <p:nvPr/>
                </p:nvSpPr>
                <p:spPr>
                  <a:xfrm flipH="1">
                    <a:off x="8429400" y="5640480"/>
                    <a:ext cx="128880" cy="135000"/>
                  </a:xfrm>
                  <a:custGeom>
                    <a:avLst/>
                    <a:gdLst/>
                    <a:ahLst/>
                    <a:rect l="l" t="t" r="r" b="b"/>
                    <a:pathLst>
                      <a:path w="74" h="85">
                        <a:moveTo>
                          <a:pt x="74" y="42"/>
                        </a:moveTo>
                        <a:lnTo>
                          <a:pt x="73" y="31"/>
                        </a:lnTo>
                        <a:lnTo>
                          <a:pt x="69" y="21"/>
                        </a:lnTo>
                        <a:lnTo>
                          <a:pt x="63" y="12"/>
                        </a:lnTo>
                        <a:lnTo>
                          <a:pt x="55" y="5"/>
                        </a:lnTo>
                        <a:lnTo>
                          <a:pt x="46" y="1"/>
                        </a:lnTo>
                        <a:lnTo>
                          <a:pt x="37" y="0"/>
                        </a:lnTo>
                        <a:lnTo>
                          <a:pt x="27" y="1"/>
                        </a:lnTo>
                        <a:lnTo>
                          <a:pt x="18" y="5"/>
                        </a:lnTo>
                        <a:lnTo>
                          <a:pt x="11" y="12"/>
                        </a:lnTo>
                        <a:lnTo>
                          <a:pt x="5" y="21"/>
                        </a:lnTo>
                        <a:lnTo>
                          <a:pt x="1" y="31"/>
                        </a:lnTo>
                        <a:lnTo>
                          <a:pt x="0" y="42"/>
                        </a:lnTo>
                        <a:lnTo>
                          <a:pt x="1" y="53"/>
                        </a:lnTo>
                        <a:lnTo>
                          <a:pt x="5" y="64"/>
                        </a:lnTo>
                        <a:lnTo>
                          <a:pt x="11" y="72"/>
                        </a:lnTo>
                        <a:lnTo>
                          <a:pt x="18" y="79"/>
                        </a:lnTo>
                        <a:lnTo>
                          <a:pt x="27" y="83"/>
                        </a:lnTo>
                        <a:lnTo>
                          <a:pt x="37" y="85"/>
                        </a:lnTo>
                        <a:lnTo>
                          <a:pt x="46" y="83"/>
                        </a:lnTo>
                        <a:lnTo>
                          <a:pt x="55" y="79"/>
                        </a:lnTo>
                        <a:lnTo>
                          <a:pt x="63" y="72"/>
                        </a:lnTo>
                        <a:lnTo>
                          <a:pt x="69" y="64"/>
                        </a:lnTo>
                        <a:lnTo>
                          <a:pt x="73" y="53"/>
                        </a:lnTo>
                        <a:lnTo>
                          <a:pt x="74" y="42"/>
                        </a:lnTo>
                        <a:close/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7" name=""/>
                  <p:cNvSpPr/>
                  <p:nvPr/>
                </p:nvSpPr>
                <p:spPr>
                  <a:xfrm flipH="1">
                    <a:off x="8406720" y="5616720"/>
                    <a:ext cx="86760" cy="81000"/>
                  </a:xfrm>
                  <a:custGeom>
                    <a:avLst/>
                    <a:gdLst/>
                    <a:ahLst/>
                    <a:rect l="l" t="t" r="r" b="b"/>
                    <a:pathLst>
                      <a:path w="50" h="51">
                        <a:moveTo>
                          <a:pt x="50" y="51"/>
                        </a:moveTo>
                        <a:lnTo>
                          <a:pt x="47" y="39"/>
                        </a:lnTo>
                        <a:lnTo>
                          <a:pt x="43" y="28"/>
                        </a:lnTo>
                        <a:lnTo>
                          <a:pt x="37" y="19"/>
                        </a:lnTo>
                        <a:lnTo>
                          <a:pt x="29" y="11"/>
                        </a:lnTo>
                        <a:lnTo>
                          <a:pt x="20" y="5"/>
                        </a:lnTo>
                        <a:lnTo>
                          <a:pt x="10" y="1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200" bIns="34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" name=""/>
                  <p:cNvSpPr/>
                  <p:nvPr/>
                </p:nvSpPr>
                <p:spPr>
                  <a:xfrm flipH="1">
                    <a:off x="8661600" y="5616720"/>
                    <a:ext cx="86760" cy="81000"/>
                  </a:xfrm>
                  <a:custGeom>
                    <a:avLst/>
                    <a:gdLst/>
                    <a:ahLst/>
                    <a:rect l="l" t="t" r="r" b="b"/>
                    <a:pathLst>
                      <a:path w="50" h="51">
                        <a:moveTo>
                          <a:pt x="50" y="0"/>
                        </a:moveTo>
                        <a:lnTo>
                          <a:pt x="39" y="1"/>
                        </a:lnTo>
                        <a:lnTo>
                          <a:pt x="29" y="5"/>
                        </a:lnTo>
                        <a:lnTo>
                          <a:pt x="20" y="11"/>
                        </a:lnTo>
                        <a:lnTo>
                          <a:pt x="13" y="19"/>
                        </a:lnTo>
                        <a:lnTo>
                          <a:pt x="6" y="28"/>
                        </a:lnTo>
                        <a:lnTo>
                          <a:pt x="2" y="39"/>
                        </a:lnTo>
                        <a:lnTo>
                          <a:pt x="0" y="51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200" bIns="34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" name=""/>
                  <p:cNvSpPr/>
                  <p:nvPr/>
                </p:nvSpPr>
                <p:spPr>
                  <a:xfrm flipH="1">
                    <a:off x="8596440" y="5640480"/>
                    <a:ext cx="129240" cy="135000"/>
                  </a:xfrm>
                  <a:custGeom>
                    <a:avLst/>
                    <a:gdLst/>
                    <a:ahLst/>
                    <a:rect l="l" t="t" r="r" b="b"/>
                    <a:pathLst>
                      <a:path w="74" h="85">
                        <a:moveTo>
                          <a:pt x="74" y="42"/>
                        </a:moveTo>
                        <a:lnTo>
                          <a:pt x="73" y="31"/>
                        </a:lnTo>
                        <a:lnTo>
                          <a:pt x="69" y="21"/>
                        </a:lnTo>
                        <a:lnTo>
                          <a:pt x="63" y="12"/>
                        </a:lnTo>
                        <a:lnTo>
                          <a:pt x="55" y="5"/>
                        </a:lnTo>
                        <a:lnTo>
                          <a:pt x="46" y="1"/>
                        </a:lnTo>
                        <a:lnTo>
                          <a:pt x="37" y="0"/>
                        </a:lnTo>
                        <a:lnTo>
                          <a:pt x="27" y="1"/>
                        </a:lnTo>
                        <a:lnTo>
                          <a:pt x="18" y="5"/>
                        </a:lnTo>
                        <a:lnTo>
                          <a:pt x="11" y="12"/>
                        </a:lnTo>
                        <a:lnTo>
                          <a:pt x="5" y="21"/>
                        </a:lnTo>
                        <a:lnTo>
                          <a:pt x="1" y="31"/>
                        </a:lnTo>
                        <a:lnTo>
                          <a:pt x="0" y="42"/>
                        </a:lnTo>
                        <a:lnTo>
                          <a:pt x="1" y="53"/>
                        </a:lnTo>
                        <a:lnTo>
                          <a:pt x="5" y="64"/>
                        </a:lnTo>
                        <a:lnTo>
                          <a:pt x="11" y="72"/>
                        </a:lnTo>
                        <a:lnTo>
                          <a:pt x="18" y="79"/>
                        </a:lnTo>
                        <a:lnTo>
                          <a:pt x="27" y="83"/>
                        </a:lnTo>
                        <a:lnTo>
                          <a:pt x="37" y="85"/>
                        </a:lnTo>
                        <a:lnTo>
                          <a:pt x="46" y="83"/>
                        </a:lnTo>
                        <a:lnTo>
                          <a:pt x="55" y="79"/>
                        </a:lnTo>
                        <a:lnTo>
                          <a:pt x="63" y="72"/>
                        </a:lnTo>
                        <a:lnTo>
                          <a:pt x="69" y="64"/>
                        </a:lnTo>
                        <a:lnTo>
                          <a:pt x="73" y="53"/>
                        </a:lnTo>
                        <a:lnTo>
                          <a:pt x="74" y="42"/>
                        </a:lnTo>
                        <a:close/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" name=""/>
                  <p:cNvSpPr/>
                  <p:nvPr/>
                </p:nvSpPr>
                <p:spPr>
                  <a:xfrm flipH="1">
                    <a:off x="7853760" y="5640480"/>
                    <a:ext cx="128880" cy="135000"/>
                  </a:xfrm>
                  <a:custGeom>
                    <a:avLst/>
                    <a:gdLst/>
                    <a:ahLst/>
                    <a:rect l="l" t="t" r="r" b="b"/>
                    <a:pathLst>
                      <a:path w="74" h="85">
                        <a:moveTo>
                          <a:pt x="74" y="42"/>
                        </a:moveTo>
                        <a:lnTo>
                          <a:pt x="73" y="31"/>
                        </a:lnTo>
                        <a:lnTo>
                          <a:pt x="69" y="21"/>
                        </a:lnTo>
                        <a:lnTo>
                          <a:pt x="63" y="12"/>
                        </a:lnTo>
                        <a:lnTo>
                          <a:pt x="55" y="5"/>
                        </a:lnTo>
                        <a:lnTo>
                          <a:pt x="46" y="1"/>
                        </a:lnTo>
                        <a:lnTo>
                          <a:pt x="37" y="0"/>
                        </a:lnTo>
                        <a:lnTo>
                          <a:pt x="27" y="1"/>
                        </a:lnTo>
                        <a:lnTo>
                          <a:pt x="18" y="5"/>
                        </a:lnTo>
                        <a:lnTo>
                          <a:pt x="11" y="12"/>
                        </a:lnTo>
                        <a:lnTo>
                          <a:pt x="5" y="21"/>
                        </a:lnTo>
                        <a:lnTo>
                          <a:pt x="1" y="31"/>
                        </a:lnTo>
                        <a:lnTo>
                          <a:pt x="0" y="42"/>
                        </a:lnTo>
                        <a:lnTo>
                          <a:pt x="1" y="53"/>
                        </a:lnTo>
                        <a:lnTo>
                          <a:pt x="5" y="64"/>
                        </a:lnTo>
                        <a:lnTo>
                          <a:pt x="11" y="72"/>
                        </a:lnTo>
                        <a:lnTo>
                          <a:pt x="18" y="79"/>
                        </a:lnTo>
                        <a:lnTo>
                          <a:pt x="27" y="83"/>
                        </a:lnTo>
                        <a:lnTo>
                          <a:pt x="37" y="85"/>
                        </a:lnTo>
                        <a:lnTo>
                          <a:pt x="46" y="83"/>
                        </a:lnTo>
                        <a:lnTo>
                          <a:pt x="55" y="79"/>
                        </a:lnTo>
                        <a:lnTo>
                          <a:pt x="63" y="72"/>
                        </a:lnTo>
                        <a:lnTo>
                          <a:pt x="69" y="64"/>
                        </a:lnTo>
                        <a:lnTo>
                          <a:pt x="73" y="53"/>
                        </a:lnTo>
                        <a:lnTo>
                          <a:pt x="74" y="42"/>
                        </a:lnTo>
                        <a:close/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" name=""/>
                  <p:cNvSpPr/>
                  <p:nvPr/>
                </p:nvSpPr>
                <p:spPr>
                  <a:xfrm flipH="1">
                    <a:off x="8020800" y="5640480"/>
                    <a:ext cx="129240" cy="135000"/>
                  </a:xfrm>
                  <a:custGeom>
                    <a:avLst/>
                    <a:gdLst/>
                    <a:ahLst/>
                    <a:rect l="l" t="t" r="r" b="b"/>
                    <a:pathLst>
                      <a:path w="74" h="85">
                        <a:moveTo>
                          <a:pt x="74" y="42"/>
                        </a:moveTo>
                        <a:lnTo>
                          <a:pt x="73" y="31"/>
                        </a:lnTo>
                        <a:lnTo>
                          <a:pt x="69" y="21"/>
                        </a:lnTo>
                        <a:lnTo>
                          <a:pt x="63" y="12"/>
                        </a:lnTo>
                        <a:lnTo>
                          <a:pt x="55" y="5"/>
                        </a:lnTo>
                        <a:lnTo>
                          <a:pt x="46" y="1"/>
                        </a:lnTo>
                        <a:lnTo>
                          <a:pt x="37" y="0"/>
                        </a:lnTo>
                        <a:lnTo>
                          <a:pt x="27" y="1"/>
                        </a:lnTo>
                        <a:lnTo>
                          <a:pt x="18" y="5"/>
                        </a:lnTo>
                        <a:lnTo>
                          <a:pt x="10" y="12"/>
                        </a:lnTo>
                        <a:lnTo>
                          <a:pt x="5" y="21"/>
                        </a:lnTo>
                        <a:lnTo>
                          <a:pt x="1" y="31"/>
                        </a:lnTo>
                        <a:lnTo>
                          <a:pt x="0" y="42"/>
                        </a:lnTo>
                        <a:lnTo>
                          <a:pt x="1" y="53"/>
                        </a:lnTo>
                        <a:lnTo>
                          <a:pt x="5" y="64"/>
                        </a:lnTo>
                        <a:lnTo>
                          <a:pt x="10" y="72"/>
                        </a:lnTo>
                        <a:lnTo>
                          <a:pt x="18" y="79"/>
                        </a:lnTo>
                        <a:lnTo>
                          <a:pt x="27" y="83"/>
                        </a:lnTo>
                        <a:lnTo>
                          <a:pt x="37" y="85"/>
                        </a:lnTo>
                        <a:lnTo>
                          <a:pt x="46" y="83"/>
                        </a:lnTo>
                        <a:lnTo>
                          <a:pt x="55" y="79"/>
                        </a:lnTo>
                        <a:lnTo>
                          <a:pt x="63" y="72"/>
                        </a:lnTo>
                        <a:lnTo>
                          <a:pt x="69" y="64"/>
                        </a:lnTo>
                        <a:lnTo>
                          <a:pt x="73" y="53"/>
                        </a:lnTo>
                        <a:lnTo>
                          <a:pt x="74" y="42"/>
                        </a:lnTo>
                        <a:close/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2" name=""/>
                  <p:cNvSpPr/>
                  <p:nvPr/>
                </p:nvSpPr>
                <p:spPr>
                  <a:xfrm flipH="1">
                    <a:off x="8085960" y="5616720"/>
                    <a:ext cx="87120" cy="81000"/>
                  </a:xfrm>
                  <a:custGeom>
                    <a:avLst/>
                    <a:gdLst/>
                    <a:ahLst/>
                    <a:rect l="l" t="t" r="r" b="b"/>
                    <a:pathLst>
                      <a:path w="50" h="51">
                        <a:moveTo>
                          <a:pt x="50" y="0"/>
                        </a:moveTo>
                        <a:lnTo>
                          <a:pt x="39" y="1"/>
                        </a:lnTo>
                        <a:lnTo>
                          <a:pt x="29" y="5"/>
                        </a:lnTo>
                        <a:lnTo>
                          <a:pt x="20" y="11"/>
                        </a:lnTo>
                        <a:lnTo>
                          <a:pt x="13" y="19"/>
                        </a:lnTo>
                        <a:lnTo>
                          <a:pt x="6" y="28"/>
                        </a:lnTo>
                        <a:lnTo>
                          <a:pt x="2" y="39"/>
                        </a:lnTo>
                        <a:lnTo>
                          <a:pt x="0" y="51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200" bIns="34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3" name=""/>
                  <p:cNvSpPr/>
                  <p:nvPr/>
                </p:nvSpPr>
                <p:spPr>
                  <a:xfrm>
                    <a:off x="8173440" y="5697720"/>
                    <a:ext cx="233640" cy="144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4" name=""/>
                  <p:cNvSpPr/>
                  <p:nvPr/>
                </p:nvSpPr>
                <p:spPr>
                  <a:xfrm>
                    <a:off x="8748720" y="5697720"/>
                    <a:ext cx="17280" cy="144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5" name=""/>
                  <p:cNvSpPr/>
                  <p:nvPr/>
                </p:nvSpPr>
                <p:spPr>
                  <a:xfrm>
                    <a:off x="8114040" y="5380200"/>
                    <a:ext cx="352440" cy="144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" name=""/>
                  <p:cNvSpPr/>
                  <p:nvPr/>
                </p:nvSpPr>
                <p:spPr>
                  <a:xfrm flipH="1">
                    <a:off x="8134200" y="5486400"/>
                    <a:ext cx="312120" cy="13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9" h="86">
                        <a:moveTo>
                          <a:pt x="0" y="0"/>
                        </a:moveTo>
                        <a:lnTo>
                          <a:pt x="1" y="86"/>
                        </a:lnTo>
                        <a:lnTo>
                          <a:pt x="179" y="86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" name=""/>
                  <p:cNvSpPr/>
                  <p:nvPr/>
                </p:nvSpPr>
                <p:spPr>
                  <a:xfrm flipH="1">
                    <a:off x="8111880" y="5380200"/>
                    <a:ext cx="35388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03" h="8">
                        <a:moveTo>
                          <a:pt x="0" y="0"/>
                        </a:moveTo>
                        <a:lnTo>
                          <a:pt x="0" y="8"/>
                        </a:lnTo>
                        <a:lnTo>
                          <a:pt x="203" y="8"/>
                        </a:lnTo>
                        <a:lnTo>
                          <a:pt x="203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8" name=""/>
                  <p:cNvSpPr/>
                  <p:nvPr/>
                </p:nvSpPr>
                <p:spPr>
                  <a:xfrm flipH="1">
                    <a:off x="8190360" y="5602320"/>
                    <a:ext cx="207720" cy="144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9" name=""/>
                  <p:cNvSpPr/>
                  <p:nvPr/>
                </p:nvSpPr>
                <p:spPr>
                  <a:xfrm flipH="1" flipV="1">
                    <a:off x="8446680" y="5486040"/>
                    <a:ext cx="319320" cy="4932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0" name=""/>
                  <p:cNvSpPr/>
                  <p:nvPr/>
                </p:nvSpPr>
                <p:spPr>
                  <a:xfrm flipH="1" flipV="1">
                    <a:off x="8481960" y="5414760"/>
                    <a:ext cx="242280" cy="6804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240" bIns="21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 flipH="1" flipV="1">
                    <a:off x="8478720" y="5430960"/>
                    <a:ext cx="217800" cy="6192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120" bIns="15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 flipH="1">
                    <a:off x="8696880" y="5483160"/>
                    <a:ext cx="43200" cy="180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3" name=""/>
                  <p:cNvSpPr/>
                  <p:nvPr/>
                </p:nvSpPr>
                <p:spPr>
                  <a:xfrm flipH="1">
                    <a:off x="8694720" y="5483160"/>
                    <a:ext cx="1800" cy="4140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400" bIns="-5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" name=""/>
                  <p:cNvSpPr/>
                  <p:nvPr/>
                </p:nvSpPr>
                <p:spPr>
                  <a:xfrm flipH="1" flipV="1">
                    <a:off x="8738640" y="5482800"/>
                    <a:ext cx="1440" cy="4932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" name=""/>
                  <p:cNvSpPr/>
                  <p:nvPr/>
                </p:nvSpPr>
                <p:spPr>
                  <a:xfrm>
                    <a:off x="8493840" y="5616720"/>
                    <a:ext cx="167760" cy="144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6" name=""/>
                  <p:cNvSpPr/>
                  <p:nvPr/>
                </p:nvSpPr>
                <p:spPr>
                  <a:xfrm flipH="1" flipV="1">
                    <a:off x="8445240" y="5392800"/>
                    <a:ext cx="1440" cy="9360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7" name=""/>
                  <p:cNvSpPr/>
                  <p:nvPr/>
                </p:nvSpPr>
                <p:spPr>
                  <a:xfrm flipH="1">
                    <a:off x="8457480" y="5411880"/>
                    <a:ext cx="12240" cy="1404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9">
                        <a:moveTo>
                          <a:pt x="7" y="5"/>
                        </a:moveTo>
                        <a:lnTo>
                          <a:pt x="6" y="2"/>
                        </a:lnTo>
                        <a:lnTo>
                          <a:pt x="3" y="0"/>
                        </a:lnTo>
                        <a:lnTo>
                          <a:pt x="1" y="2"/>
                        </a:lnTo>
                        <a:lnTo>
                          <a:pt x="0" y="5"/>
                        </a:lnTo>
                        <a:lnTo>
                          <a:pt x="1" y="7"/>
                        </a:lnTo>
                        <a:lnTo>
                          <a:pt x="3" y="9"/>
                        </a:lnTo>
                        <a:lnTo>
                          <a:pt x="6" y="7"/>
                        </a:lnTo>
                        <a:lnTo>
                          <a:pt x="7" y="5"/>
                        </a:lnTo>
                        <a:close/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" name=""/>
                  <p:cNvSpPr/>
                  <p:nvPr/>
                </p:nvSpPr>
                <p:spPr>
                  <a:xfrm flipV="1">
                    <a:off x="8478720" y="5415120"/>
                    <a:ext cx="2880" cy="1584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9" name=""/>
                  <p:cNvSpPr/>
                  <p:nvPr/>
                </p:nvSpPr>
                <p:spPr>
                  <a:xfrm flipH="1" flipV="1">
                    <a:off x="8467920" y="5424120"/>
                    <a:ext cx="10440" cy="324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" name=""/>
                  <p:cNvSpPr/>
                  <p:nvPr/>
                </p:nvSpPr>
                <p:spPr>
                  <a:xfrm flipH="1" flipV="1">
                    <a:off x="8470080" y="5416200"/>
                    <a:ext cx="10080" cy="324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1" name=""/>
                  <p:cNvSpPr/>
                  <p:nvPr/>
                </p:nvSpPr>
                <p:spPr>
                  <a:xfrm flipH="1">
                    <a:off x="8396280" y="5392800"/>
                    <a:ext cx="1800" cy="20952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 flipH="1" flipV="1">
                    <a:off x="8132760" y="5392800"/>
                    <a:ext cx="1800" cy="9360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 flipH="1">
                    <a:off x="8132760" y="5486400"/>
                    <a:ext cx="1800" cy="13644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"/>
                  <p:cNvSpPr/>
                  <p:nvPr/>
                </p:nvSpPr>
                <p:spPr>
                  <a:xfrm flipH="1">
                    <a:off x="8188920" y="5392800"/>
                    <a:ext cx="1440" cy="20952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 flipH="1">
                    <a:off x="8289720" y="5392800"/>
                    <a:ext cx="1800" cy="20952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"/>
                  <p:cNvSpPr/>
                  <p:nvPr/>
                </p:nvSpPr>
                <p:spPr>
                  <a:xfrm flipH="1">
                    <a:off x="8283240" y="5392800"/>
                    <a:ext cx="1440" cy="20952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7" name=""/>
                  <p:cNvSpPr/>
                  <p:nvPr/>
                </p:nvSpPr>
                <p:spPr>
                  <a:xfrm flipV="1">
                    <a:off x="7851960" y="5316120"/>
                    <a:ext cx="205920" cy="16668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8" name=""/>
                  <p:cNvSpPr/>
                  <p:nvPr/>
                </p:nvSpPr>
                <p:spPr>
                  <a:xfrm>
                    <a:off x="7841520" y="5483160"/>
                    <a:ext cx="41760" cy="180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9" name=""/>
                  <p:cNvSpPr/>
                  <p:nvPr/>
                </p:nvSpPr>
                <p:spPr>
                  <a:xfrm>
                    <a:off x="7918560" y="5616720"/>
                    <a:ext cx="167040" cy="144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0" name=""/>
                  <p:cNvSpPr/>
                  <p:nvPr/>
                </p:nvSpPr>
                <p:spPr>
                  <a:xfrm flipV="1">
                    <a:off x="7876440" y="5329080"/>
                    <a:ext cx="190080" cy="15408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"/>
                  <p:cNvSpPr/>
                  <p:nvPr/>
                </p:nvSpPr>
                <p:spPr>
                  <a:xfrm flipH="1">
                    <a:off x="7881480" y="5483160"/>
                    <a:ext cx="1800" cy="4140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400" bIns="-5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8057880" y="5316480"/>
                    <a:ext cx="8640" cy="1260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 flipV="1">
                    <a:off x="8061480" y="5311800"/>
                    <a:ext cx="6480" cy="648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 flipV="1">
                    <a:off x="8064720" y="5317920"/>
                    <a:ext cx="8640" cy="612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" name=""/>
                  <p:cNvSpPr/>
                  <p:nvPr/>
                </p:nvSpPr>
                <p:spPr>
                  <a:xfrm flipH="1">
                    <a:off x="8067960" y="5305320"/>
                    <a:ext cx="12240" cy="1296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8">
                        <a:moveTo>
                          <a:pt x="7" y="4"/>
                        </a:moveTo>
                        <a:lnTo>
                          <a:pt x="6" y="1"/>
                        </a:lnTo>
                        <a:lnTo>
                          <a:pt x="3" y="0"/>
                        </a:lnTo>
                        <a:lnTo>
                          <a:pt x="1" y="1"/>
                        </a:lnTo>
                        <a:lnTo>
                          <a:pt x="0" y="4"/>
                        </a:lnTo>
                        <a:lnTo>
                          <a:pt x="1" y="7"/>
                        </a:lnTo>
                        <a:lnTo>
                          <a:pt x="3" y="8"/>
                        </a:lnTo>
                        <a:lnTo>
                          <a:pt x="6" y="7"/>
                        </a:lnTo>
                        <a:lnTo>
                          <a:pt x="7" y="4"/>
                        </a:lnTo>
                        <a:close/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6" name=""/>
                  <p:cNvSpPr/>
                  <p:nvPr/>
                </p:nvSpPr>
                <p:spPr>
                  <a:xfrm flipH="1" flipV="1">
                    <a:off x="7839720" y="5482800"/>
                    <a:ext cx="1440" cy="4932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7" name=""/>
                  <p:cNvSpPr/>
                  <p:nvPr/>
                </p:nvSpPr>
                <p:spPr>
                  <a:xfrm flipH="1" flipV="1">
                    <a:off x="7811640" y="5535720"/>
                    <a:ext cx="1440" cy="16200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" name=""/>
                  <p:cNvSpPr/>
                  <p:nvPr/>
                </p:nvSpPr>
                <p:spPr>
                  <a:xfrm flipH="1">
                    <a:off x="7813440" y="5697720"/>
                    <a:ext cx="17640" cy="144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29" name=""/>
              <p:cNvSpPr/>
              <p:nvPr/>
            </p:nvSpPr>
            <p:spPr>
              <a:xfrm>
                <a:off x="7473960" y="5194440"/>
                <a:ext cx="550800" cy="682560"/>
              </a:xfrm>
              <a:prstGeom prst="irregularSeal2">
                <a:avLst/>
              </a:prstGeom>
              <a:solidFill>
                <a:srgbClr val="ff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6140520" y="4919760"/>
                <a:ext cx="639720" cy="1147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8604360" y="5237280"/>
                <a:ext cx="163440" cy="703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flipH="1">
                <a:off x="6788160" y="5232240"/>
                <a:ext cx="6480" cy="774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6985080" y="5911920"/>
                <a:ext cx="1415880" cy="307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Showcard Gothic"/>
                  </a:rPr>
                  <a:t>PELIGRO de CHOQUE DE TRENES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34" name="" descr=""/>
            <p:cNvPicPr/>
            <p:nvPr/>
          </p:nvPicPr>
          <p:blipFill>
            <a:blip r:embed="rId12"/>
            <a:stretch/>
          </p:blipFill>
          <p:spPr>
            <a:xfrm>
              <a:off x="4611600" y="4692600"/>
              <a:ext cx="2006640" cy="155088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539640" y="1555920"/>
            <a:ext cx="8172720" cy="35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443160" indent="-4431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235320"/>
                <a:tab algn="l" pos="3587760"/>
                <a:tab algn="l" pos="4502160"/>
                <a:tab algn="l" pos="5627520"/>
                <a:tab algn="l" pos="6753240"/>
                <a:tab algn="l" pos="7878600"/>
                <a:tab algn="l" pos="9004320"/>
                <a:tab algn="l" pos="1012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servas extraí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4 M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235320"/>
                <a:tab algn="l" pos="3587760"/>
                <a:tab algn="l" pos="4502160"/>
                <a:tab algn="l" pos="5627520"/>
                <a:tab algn="l" pos="6753240"/>
                <a:tab algn="l" pos="7878600"/>
                <a:tab algn="l" pos="9004320"/>
                <a:tab algn="l" pos="1012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e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,33 % CuT ;  0,032% M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235320"/>
                <a:tab algn="l" pos="3587760"/>
                <a:tab algn="l" pos="4502160"/>
                <a:tab algn="l" pos="5627520"/>
                <a:tab algn="l" pos="6753240"/>
                <a:tab algn="l" pos="7878600"/>
                <a:tab algn="l" pos="9004320"/>
                <a:tab algn="l" pos="1012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cio producció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brero 2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 algn="just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235320"/>
                <a:tab algn="l" pos="3587760"/>
                <a:tab algn="l" pos="4502160"/>
                <a:tab algn="l" pos="5627520"/>
                <a:tab algn="l" pos="6753240"/>
                <a:tab algn="l" pos="7878600"/>
                <a:tab algn="l" pos="9004320"/>
                <a:tab algn="l" pos="1012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ipo minera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0 % prima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 algn="just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235320"/>
                <a:tab algn="l" pos="3587760"/>
                <a:tab algn="l" pos="4502160"/>
                <a:tab algn="l" pos="5627520"/>
                <a:tab algn="l" pos="6753240"/>
                <a:tab algn="l" pos="7878600"/>
                <a:tab algn="l" pos="9004320"/>
                <a:tab algn="l" pos="1012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ducción régime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7.000 tp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 algn="just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235320"/>
                <a:tab algn="l" pos="3587760"/>
                <a:tab algn="l" pos="4502160"/>
                <a:tab algn="l" pos="5627520"/>
                <a:tab algn="l" pos="6753240"/>
                <a:tab algn="l" pos="7878600"/>
                <a:tab algn="l" pos="9004320"/>
                <a:tab algn="l" pos="1012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Área a socavar             :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7.400 m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Primera piedra 20.600 m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235320"/>
                <a:tab algn="l" pos="3587760"/>
                <a:tab algn="l" pos="4502160"/>
                <a:tab algn="l" pos="5627520"/>
                <a:tab algn="l" pos="6753240"/>
                <a:tab algn="l" pos="7878600"/>
                <a:tab algn="l" pos="9004320"/>
                <a:tab algn="l" pos="1012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rizonte de vid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 años (201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 algn="just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235320"/>
                <a:tab algn="l" pos="3587760"/>
                <a:tab algn="l" pos="4502160"/>
                <a:tab algn="l" pos="5627520"/>
                <a:tab algn="l" pos="6753240"/>
                <a:tab algn="l" pos="7878600"/>
                <a:tab algn="l" pos="9004320"/>
                <a:tab algn="l" pos="1012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maño minera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&lt; 40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863640" y="779400"/>
            <a:ext cx="828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cc3300"/>
                </a:solidFill>
                <a:latin typeface="Arial"/>
                <a:ea typeface="Times New Roman"/>
              </a:rPr>
              <a:t>INFORMACIÓN GENE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863640" y="779400"/>
            <a:ext cx="828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cc3300"/>
                </a:solidFill>
                <a:latin typeface="Arial"/>
                <a:ea typeface="Times New Roman"/>
              </a:rPr>
              <a:t>UBIC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81040" y="1509840"/>
            <a:ext cx="80074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3263760" y="1241280"/>
            <a:ext cx="5715000" cy="4273560"/>
          </a:xfrm>
          <a:prstGeom prst="rect">
            <a:avLst/>
          </a:prstGeom>
          <a:ln w="0">
            <a:noFill/>
          </a:ln>
        </p:spPr>
      </p:pic>
      <p:grpSp>
        <p:nvGrpSpPr>
          <p:cNvPr id="240" name=""/>
          <p:cNvGrpSpPr/>
          <p:nvPr/>
        </p:nvGrpSpPr>
        <p:grpSpPr>
          <a:xfrm>
            <a:off x="479520" y="1547640"/>
            <a:ext cx="2493720" cy="3552840"/>
            <a:chOff x="479520" y="1547640"/>
            <a:chExt cx="2493720" cy="3552840"/>
          </a:xfrm>
        </p:grpSpPr>
        <p:pic>
          <p:nvPicPr>
            <p:cNvPr id="241" name="" descr=""/>
            <p:cNvPicPr/>
            <p:nvPr/>
          </p:nvPicPr>
          <p:blipFill>
            <a:blip r:embed="rId2"/>
            <a:stretch/>
          </p:blipFill>
          <p:spPr>
            <a:xfrm>
              <a:off x="479520" y="1547640"/>
              <a:ext cx="2493720" cy="3552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2" name=""/>
          <p:cNvSpPr/>
          <p:nvPr/>
        </p:nvSpPr>
        <p:spPr>
          <a:xfrm>
            <a:off x="1614600" y="2620800"/>
            <a:ext cx="865080" cy="792360"/>
          </a:xfrm>
          <a:prstGeom prst="ellipse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rot="18716400">
            <a:off x="2313000" y="2302920"/>
            <a:ext cx="800280" cy="326880"/>
          </a:xfrm>
          <a:prstGeom prst="leftArrow">
            <a:avLst>
              <a:gd name="adj1" fmla="val 50000"/>
              <a:gd name="adj2" fmla="val 61206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" descr=""/>
          <p:cNvPicPr/>
          <p:nvPr/>
        </p:nvPicPr>
        <p:blipFill>
          <a:blip r:embed="rId1"/>
          <a:srcRect l="0" t="0" r="0" b="9848"/>
          <a:stretch/>
        </p:blipFill>
        <p:spPr>
          <a:xfrm>
            <a:off x="831960" y="1351080"/>
            <a:ext cx="7454880" cy="476568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863640" y="779400"/>
            <a:ext cx="828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cc3300"/>
                </a:solidFill>
                <a:latin typeface="Arial"/>
                <a:ea typeface="Times New Roman"/>
              </a:rPr>
              <a:t>LEYES DE COB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" descr=""/>
          <p:cNvPicPr/>
          <p:nvPr/>
        </p:nvPicPr>
        <p:blipFill>
          <a:blip r:embed="rId1"/>
          <a:srcRect l="0" t="8041" r="0" b="0"/>
          <a:stretch/>
        </p:blipFill>
        <p:spPr>
          <a:xfrm>
            <a:off x="1608120" y="1276200"/>
            <a:ext cx="5919840" cy="5229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863640" y="779400"/>
            <a:ext cx="828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cc3300"/>
                </a:solidFill>
                <a:latin typeface="Arial"/>
                <a:ea typeface="Times New Roman"/>
              </a:rPr>
              <a:t>MANEJO DE MINE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1098720" y="1274760"/>
            <a:ext cx="6964200" cy="507060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249" name=""/>
          <p:cNvSpPr/>
          <p:nvPr/>
        </p:nvSpPr>
        <p:spPr>
          <a:xfrm>
            <a:off x="863640" y="779400"/>
            <a:ext cx="828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cc3300"/>
                </a:solidFill>
                <a:latin typeface="Arial"/>
                <a:ea typeface="Times New Roman"/>
              </a:rPr>
              <a:t>PREACONDICIONAMI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2T22:55:11Z</dcterms:created>
  <dc:creator>Administrador</dc:creator>
  <dc:description/>
  <dc:language>en-US</dc:language>
  <cp:lastModifiedBy>LZenteno</cp:lastModifiedBy>
  <dcterms:modified xsi:type="dcterms:W3CDTF">2009-10-07T12:06:18Z</dcterms:modified>
  <cp:revision>470</cp:revision>
  <dc:subject/>
  <dc:title>PROYECTO .........</dc:title>
</cp:coreProperties>
</file>