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7.png" ContentType="image/png"/>
  <Override PartName="/ppt/media/image11.png" ContentType="image/png"/>
  <Override PartName="/ppt/media/image5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1.jpeg" ContentType="image/jpeg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12C-7A71-4F1E-AC3B-F2514632D56F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0628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EXPLOTACION PILAR NOR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3040" y="6621480"/>
            <a:ext cx="14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UNIDAD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968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3E68-98DC-47F5-8EFC-6C2C64C2B166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9218"/>
          <a:stretch/>
        </p:blipFill>
        <p:spPr>
          <a:xfrm>
            <a:off x="8116920" y="66600"/>
            <a:ext cx="931680" cy="6685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27320" y="657072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0A18-4F76-4CAC-8F4F-948DAEDC8BC9}" type="slidenum">
              <a:rPr b="1" lang="es-E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s-ES" sz="900" spc="-1" strike="noStrike">
                <a:solidFill>
                  <a:srgbClr val="ffffff"/>
                </a:solidFill>
                <a:latin typeface="Arial"/>
              </a:rPr>
              <a:t> de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86720" y="6480"/>
            <a:ext cx="554040" cy="69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792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ESTUDIO DE FACTIBILIDAD </a:t>
            </a:r>
            <a:br>
              <a:rPr sz="2000"/>
            </a:br>
            <a:r>
              <a:rPr b="1" lang="es-ES" sz="2000" spc="-1" strike="noStrike">
                <a:solidFill>
                  <a:srgbClr val="800000"/>
                </a:solidFill>
                <a:latin typeface="Arial"/>
              </a:rPr>
              <a:t>PROYECTO PILAR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6532560"/>
            <a:ext cx="9144000" cy="324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1960" y="6621480"/>
            <a:ext cx="461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Arial"/>
              </a:rPr>
              <a:t>VICEPRESIDENCIA CORPORATIVA DE PROYECTOS – PROYECTO PILAR NOR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2600" y="6562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9640" y="66150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C50A-503C-43D9-86BF-6E225ED3CE54}" type="slidenum">
              <a:rPr b="0" lang="es-ES_tradnl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../HVega003/Pilar%20Norte/Presentaci&#243;n/CCP%20API%20T06M400.ppt" TargetMode="External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67360"/>
            <a:chOff x="0" y="0"/>
            <a:chExt cx="9144000" cy="6867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9144000" cy="6867360"/>
            </a:xfrm>
            <a:prstGeom prst="rect">
              <a:avLst/>
            </a:prstGeom>
            <a:solidFill>
              <a:srgbClr val="3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rcRect l="0" t="13520" r="0" b="30254"/>
            <a:stretch/>
          </p:blipFill>
          <p:spPr>
            <a:xfrm>
              <a:off x="0" y="0"/>
              <a:ext cx="9144000" cy="34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393840" y="4443480"/>
            <a:ext cx="83865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YECTO EXPLOTACIÓN PILAR N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2478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6126120"/>
            <a:ext cx="8381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9880" indent="-3809880">
              <a:lnSpc>
                <a:spcPct val="80000"/>
              </a:lnSpc>
              <a:tabLst>
                <a:tab algn="l" pos="0"/>
                <a:tab algn="l" pos="233676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34080" y="1244520"/>
            <a:ext cx="3276720" cy="240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UCL : 212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ndimiento Avanzado por calle y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3,60 x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aciamiento 2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ra socavación 3,6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izo rocoso preacondicion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a socavar 67.40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23672" r="3151" b="9396"/>
          <a:stretch/>
        </p:blipFill>
        <p:spPr>
          <a:xfrm>
            <a:off x="5697360" y="4141800"/>
            <a:ext cx="3446640" cy="1816200"/>
          </a:xfrm>
          <a:prstGeom prst="rect">
            <a:avLst/>
          </a:prstGeom>
          <a:ln w="1908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HUN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14392" t="0" r="18462" b="0"/>
          <a:stretch/>
        </p:blipFill>
        <p:spPr>
          <a:xfrm>
            <a:off x="190440" y="1222200"/>
            <a:ext cx="5268960" cy="509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999040" y="1300320"/>
            <a:ext cx="3144960" cy="30636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NP: 2102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4,0x3,8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la: 20x1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pos LHD 7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 PV con martil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 conectarán con GTI (L= 28 m; d=3,5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polígono 51.897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hunde Socavón Principal (Zanj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NIVEL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18038" t="10378" r="24554" b="0"/>
          <a:stretch/>
        </p:blipFill>
        <p:spPr>
          <a:xfrm>
            <a:off x="264960" y="1281240"/>
            <a:ext cx="5129280" cy="51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2"/>
          <a:srcRect l="33465" t="27589" r="44471" b="38061"/>
          <a:stretch/>
        </p:blipFill>
        <p:spPr>
          <a:xfrm>
            <a:off x="6056280" y="4546440"/>
            <a:ext cx="2684520" cy="184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515280" y="1770120"/>
            <a:ext cx="2590560" cy="321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a GTI: 2070 ms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galería 5,0 x 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ción EV 5,5x4,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utilizarán LHD de 13 yd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mi-automá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GTI será una zona confinada independ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OP hacia TTE8 (L = 84 m; Ø = 3,3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GALERÍA TRANSPORTE INTERMEDIO (G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4511" t="4975" r="9993" b="5930"/>
          <a:stretch/>
        </p:blipFill>
        <p:spPr>
          <a:xfrm>
            <a:off x="100080" y="1204920"/>
            <a:ext cx="6256440" cy="47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rcRect l="14673" t="12739" r="0" b="6038"/>
          <a:stretch/>
        </p:blipFill>
        <p:spPr>
          <a:xfrm>
            <a:off x="4713120" y="3359160"/>
            <a:ext cx="443088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ETODOLOGÍA DE EXPL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rcRect l="7754" t="7387" r="2565" b="0"/>
          <a:stretch/>
        </p:blipFill>
        <p:spPr>
          <a:xfrm>
            <a:off x="304920" y="1287360"/>
            <a:ext cx="5248080" cy="364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5683320" y="1638360"/>
            <a:ext cx="3276360" cy="12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odología por bloqu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a bloque por HA por calles y 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e estar preacondicionado antes de hund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EQUIPOS PRINCIPAL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20840" y="1738440"/>
            <a:ext cx="845964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52320" y="1346040"/>
            <a:ext cx="78771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87520" y="30718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3300"/>
                </a:solidFill>
                <a:latin typeface="Arial"/>
                <a:ea typeface="Times New Roman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155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3985" t="29945" r="25275" b="29104"/>
          <a:stretch/>
        </p:blipFill>
        <p:spPr>
          <a:xfrm>
            <a:off x="709560" y="2438280"/>
            <a:ext cx="77533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" y="3068640"/>
            <a:ext cx="1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6640" y="2449440"/>
            <a:ext cx="7956360" cy="216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52360" y="174600"/>
            <a:ext cx="628812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360" y="2408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cción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abilidad en Codelco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dentes en la División El Teniente a Septiem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95480" y="5354640"/>
            <a:ext cx="7842240" cy="88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87280" y="6222960"/>
            <a:ext cx="165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Incorpora accidente Fa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534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5c00"/>
                </a:solidFill>
                <a:latin typeface="Arial"/>
              </a:rPr>
              <a:t>RIESGOS CRITICOS ASOCIADOS A NUESTRAS ACTIVIDAD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7040" y="1384200"/>
            <a:ext cx="8597880" cy="4897440"/>
            <a:chOff x="257040" y="1384200"/>
            <a:chExt cx="8597880" cy="4897440"/>
          </a:xfrm>
        </p:grpSpPr>
        <p:sp>
          <p:nvSpPr>
            <p:cNvPr id="103" name=""/>
            <p:cNvSpPr/>
            <p:nvPr/>
          </p:nvSpPr>
          <p:spPr>
            <a:xfrm>
              <a:off x="257040" y="1384200"/>
              <a:ext cx="8561520" cy="48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367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713560" y="1460520"/>
              <a:ext cx="200808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1752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461160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2482920" y="3073320"/>
              <a:ext cx="2006640" cy="156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783480" y="3073320"/>
              <a:ext cx="2006640" cy="15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31752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8"/>
            <a:stretch/>
          </p:blipFill>
          <p:spPr>
            <a:xfrm>
              <a:off x="3554280" y="1460520"/>
              <a:ext cx="20084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9"/>
            <a:stretch/>
          </p:blipFill>
          <p:spPr>
            <a:xfrm>
              <a:off x="2481120" y="4691160"/>
              <a:ext cx="200844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0"/>
            <a:stretch/>
          </p:blipFill>
          <p:spPr>
            <a:xfrm>
              <a:off x="678348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6140520" y="4692600"/>
              <a:ext cx="2714400" cy="1550880"/>
              <a:chOff x="6140520" y="4692600"/>
              <a:chExt cx="2714400" cy="15508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83480" y="4692600"/>
                <a:ext cx="2006640" cy="15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6878520" y="5167440"/>
                <a:ext cx="1698840" cy="66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539040" y="5288040"/>
                <a:ext cx="1106640" cy="486360"/>
                <a:chOff x="6539040" y="5288040"/>
                <a:chExt cx="1106640" cy="48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687000" y="5524920"/>
                  <a:ext cx="291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557400" y="5524920"/>
                  <a:ext cx="27360" cy="655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39040" y="5578920"/>
                  <a:ext cx="27360" cy="651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635160" y="5288040"/>
                  <a:ext cx="1007280" cy="40500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75840" y="5634360"/>
                  <a:ext cx="13716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85548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286760" y="5634360"/>
                  <a:ext cx="1350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4600" y="5634360"/>
                  <a:ext cx="136800" cy="138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6632640" y="5290920"/>
                  <a:ext cx="1013040" cy="483480"/>
                  <a:chOff x="6632640" y="5290920"/>
                  <a:chExt cx="1013040" cy="48348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53264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flipV="1">
                    <a:off x="7302960" y="5477400"/>
                    <a:ext cx="34092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63300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85332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92208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651360" y="5611320"/>
                    <a:ext cx="921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67548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64240" y="5635800"/>
                    <a:ext cx="13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86400" y="5635800"/>
                    <a:ext cx="137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62280" y="5611320"/>
                    <a:ext cx="9252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>
                    <a:off x="7013880" y="5694480"/>
                    <a:ext cx="248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>
                    <a:off x="6632640" y="5694480"/>
                    <a:ext cx="183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6950880" y="5367960"/>
                    <a:ext cx="374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971760" y="5477400"/>
                    <a:ext cx="3312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951240" y="5367960"/>
                    <a:ext cx="37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023600" y="5596560"/>
                    <a:ext cx="2203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V="1">
                    <a:off x="6633000" y="5477400"/>
                    <a:ext cx="33876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V="1">
                    <a:off x="6677640" y="5403960"/>
                    <a:ext cx="257040" cy="6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V="1">
                    <a:off x="6706800" y="5420160"/>
                    <a:ext cx="231120" cy="63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6660720" y="5473800"/>
                    <a:ext cx="460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70680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666072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>
                    <a:off x="6743880" y="5611320"/>
                    <a:ext cx="1778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971760" y="5380560"/>
                    <a:ext cx="144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947640" y="54007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flipV="1">
                    <a:off x="6934680" y="5403600"/>
                    <a:ext cx="3240" cy="16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6938280" y="5413320"/>
                    <a:ext cx="11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6936480" y="5405040"/>
                    <a:ext cx="108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02360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V="1">
                    <a:off x="7303320" y="5380560"/>
                    <a:ext cx="1800" cy="9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303320" y="5477400"/>
                    <a:ext cx="1800" cy="140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4392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6640" y="5380920"/>
                    <a:ext cx="180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43840" y="5380920"/>
                    <a:ext cx="1440" cy="215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7384320" y="5302440"/>
                    <a:ext cx="218520" cy="171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>
                    <a:off x="7569360" y="5473800"/>
                    <a:ext cx="44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>
                    <a:off x="7354800" y="5611320"/>
                    <a:ext cx="1774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flipV="1">
                    <a:off x="7375320" y="5315400"/>
                    <a:ext cx="201600" cy="158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569720" y="5473800"/>
                    <a:ext cx="1800" cy="42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7374960" y="5302440"/>
                    <a:ext cx="900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flipV="1">
                    <a:off x="7373160" y="5297760"/>
                    <a:ext cx="684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flipV="1">
                    <a:off x="7367760" y="5303880"/>
                    <a:ext cx="900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60560" y="5290920"/>
                    <a:ext cx="129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7614360" y="5473800"/>
                    <a:ext cx="1440" cy="50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V="1">
                    <a:off x="7644240" y="5527800"/>
                    <a:ext cx="1440" cy="166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625160" y="5694480"/>
                    <a:ext cx="18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7811640" y="5302440"/>
                <a:ext cx="1043280" cy="473040"/>
                <a:chOff x="7811640" y="5302440"/>
                <a:chExt cx="1043280" cy="473040"/>
              </a:xfrm>
            </p:grpSpPr>
            <p:sp>
              <p:nvSpPr>
                <p:cNvPr id="174" name=""/>
                <p:cNvSpPr/>
                <p:nvPr/>
              </p:nvSpPr>
              <p:spPr>
                <a:xfrm flipH="1">
                  <a:off x="8687880" y="5532480"/>
                  <a:ext cx="2736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8811720" y="5532480"/>
                  <a:ext cx="25920" cy="6372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8829000" y="5585040"/>
                  <a:ext cx="25920" cy="63360"/>
                </a:xfrm>
                <a:custGeom>
                  <a:avLst/>
                  <a:gdLst/>
                  <a:ahLst/>
                  <a:rect l="l" t="t" r="r" b="b"/>
                  <a:pathLst>
                    <a:path w="144" h="309">
                      <a:moveTo>
                        <a:pt x="39" y="0"/>
                      </a:moveTo>
                      <a:lnTo>
                        <a:pt x="111" y="0"/>
                      </a:lnTo>
                      <a:lnTo>
                        <a:pt x="132" y="10"/>
                      </a:lnTo>
                      <a:lnTo>
                        <a:pt x="144" y="30"/>
                      </a:lnTo>
                      <a:lnTo>
                        <a:pt x="143" y="277"/>
                      </a:lnTo>
                      <a:lnTo>
                        <a:pt x="134" y="297"/>
                      </a:lnTo>
                      <a:lnTo>
                        <a:pt x="110" y="309"/>
                      </a:lnTo>
                      <a:lnTo>
                        <a:pt x="35" y="309"/>
                      </a:lnTo>
                      <a:lnTo>
                        <a:pt x="12" y="300"/>
                      </a:lnTo>
                      <a:lnTo>
                        <a:pt x="0" y="274"/>
                      </a:lnTo>
                      <a:lnTo>
                        <a:pt x="0" y="36"/>
                      </a:lnTo>
                      <a:lnTo>
                        <a:pt x="15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4880" y="5302440"/>
                  <a:ext cx="949320" cy="393840"/>
                </a:xfrm>
                <a:custGeom>
                  <a:avLst/>
                  <a:gdLst/>
                  <a:ahLst/>
                  <a:rect l="l" t="t" r="r" b="b"/>
                  <a:pathLst>
                    <a:path w="5391" h="2133">
                      <a:moveTo>
                        <a:pt x="1" y="2131"/>
                      </a:moveTo>
                      <a:lnTo>
                        <a:pt x="0" y="1249"/>
                      </a:lnTo>
                      <a:lnTo>
                        <a:pt x="150" y="1230"/>
                      </a:lnTo>
                      <a:lnTo>
                        <a:pt x="150" y="967"/>
                      </a:lnTo>
                      <a:lnTo>
                        <a:pt x="243" y="966"/>
                      </a:lnTo>
                      <a:lnTo>
                        <a:pt x="1611" y="597"/>
                      </a:lnTo>
                      <a:lnTo>
                        <a:pt x="1618" y="618"/>
                      </a:lnTo>
                      <a:lnTo>
                        <a:pt x="1680" y="603"/>
                      </a:lnTo>
                      <a:lnTo>
                        <a:pt x="1687" y="589"/>
                      </a:lnTo>
                      <a:lnTo>
                        <a:pt x="1711" y="583"/>
                      </a:lnTo>
                      <a:lnTo>
                        <a:pt x="1735" y="588"/>
                      </a:lnTo>
                      <a:lnTo>
                        <a:pt x="1746" y="616"/>
                      </a:lnTo>
                      <a:lnTo>
                        <a:pt x="1738" y="642"/>
                      </a:lnTo>
                      <a:lnTo>
                        <a:pt x="1713" y="651"/>
                      </a:lnTo>
                      <a:lnTo>
                        <a:pt x="1687" y="643"/>
                      </a:lnTo>
                      <a:lnTo>
                        <a:pt x="1632" y="660"/>
                      </a:lnTo>
                      <a:lnTo>
                        <a:pt x="1632" y="681"/>
                      </a:lnTo>
                      <a:lnTo>
                        <a:pt x="396" y="1015"/>
                      </a:lnTo>
                      <a:lnTo>
                        <a:pt x="396" y="1194"/>
                      </a:lnTo>
                      <a:lnTo>
                        <a:pt x="1812" y="987"/>
                      </a:lnTo>
                      <a:lnTo>
                        <a:pt x="1813" y="474"/>
                      </a:lnTo>
                      <a:lnTo>
                        <a:pt x="1696" y="475"/>
                      </a:lnTo>
                      <a:lnTo>
                        <a:pt x="1695" y="408"/>
                      </a:lnTo>
                      <a:lnTo>
                        <a:pt x="3705" y="409"/>
                      </a:lnTo>
                      <a:lnTo>
                        <a:pt x="3703" y="474"/>
                      </a:lnTo>
                      <a:lnTo>
                        <a:pt x="3582" y="475"/>
                      </a:lnTo>
                      <a:lnTo>
                        <a:pt x="3580" y="987"/>
                      </a:lnTo>
                      <a:lnTo>
                        <a:pt x="4995" y="1192"/>
                      </a:lnTo>
                      <a:lnTo>
                        <a:pt x="4995" y="969"/>
                      </a:lnTo>
                      <a:lnTo>
                        <a:pt x="5041" y="967"/>
                      </a:lnTo>
                      <a:lnTo>
                        <a:pt x="3960" y="126"/>
                      </a:lnTo>
                      <a:lnTo>
                        <a:pt x="3973" y="105"/>
                      </a:lnTo>
                      <a:lnTo>
                        <a:pt x="3922" y="67"/>
                      </a:lnTo>
                      <a:lnTo>
                        <a:pt x="3915" y="70"/>
                      </a:lnTo>
                      <a:lnTo>
                        <a:pt x="3889" y="58"/>
                      </a:lnTo>
                      <a:lnTo>
                        <a:pt x="3882" y="33"/>
                      </a:lnTo>
                      <a:lnTo>
                        <a:pt x="3891" y="10"/>
                      </a:lnTo>
                      <a:lnTo>
                        <a:pt x="3918" y="0"/>
                      </a:lnTo>
                      <a:lnTo>
                        <a:pt x="3943" y="10"/>
                      </a:lnTo>
                      <a:lnTo>
                        <a:pt x="3951" y="33"/>
                      </a:lnTo>
                      <a:lnTo>
                        <a:pt x="3999" y="73"/>
                      </a:lnTo>
                      <a:lnTo>
                        <a:pt x="4011" y="55"/>
                      </a:lnTo>
                      <a:lnTo>
                        <a:pt x="5179" y="966"/>
                      </a:lnTo>
                      <a:lnTo>
                        <a:pt x="5241" y="970"/>
                      </a:lnTo>
                      <a:lnTo>
                        <a:pt x="5241" y="1227"/>
                      </a:lnTo>
                      <a:lnTo>
                        <a:pt x="5391" y="1252"/>
                      </a:lnTo>
                      <a:lnTo>
                        <a:pt x="5391" y="2131"/>
                      </a:lnTo>
                      <a:lnTo>
                        <a:pt x="5292" y="2130"/>
                      </a:lnTo>
                      <a:lnTo>
                        <a:pt x="5274" y="2037"/>
                      </a:lnTo>
                      <a:lnTo>
                        <a:pt x="5235" y="1947"/>
                      </a:lnTo>
                      <a:lnTo>
                        <a:pt x="5175" y="1857"/>
                      </a:lnTo>
                      <a:lnTo>
                        <a:pt x="5089" y="1780"/>
                      </a:lnTo>
                      <a:lnTo>
                        <a:pt x="5007" y="1732"/>
                      </a:lnTo>
                      <a:lnTo>
                        <a:pt x="4908" y="1699"/>
                      </a:lnTo>
                      <a:lnTo>
                        <a:pt x="4804" y="1689"/>
                      </a:lnTo>
                      <a:lnTo>
                        <a:pt x="3847" y="1689"/>
                      </a:lnTo>
                      <a:lnTo>
                        <a:pt x="3753" y="1699"/>
                      </a:lnTo>
                      <a:lnTo>
                        <a:pt x="3667" y="1726"/>
                      </a:lnTo>
                      <a:lnTo>
                        <a:pt x="3568" y="1777"/>
                      </a:lnTo>
                      <a:lnTo>
                        <a:pt x="3486" y="1848"/>
                      </a:lnTo>
                      <a:lnTo>
                        <a:pt x="3420" y="1939"/>
                      </a:lnTo>
                      <a:lnTo>
                        <a:pt x="3382" y="2034"/>
                      </a:lnTo>
                      <a:lnTo>
                        <a:pt x="3360" y="2131"/>
                      </a:lnTo>
                      <a:lnTo>
                        <a:pt x="2034" y="2130"/>
                      </a:lnTo>
                      <a:lnTo>
                        <a:pt x="2011" y="2031"/>
                      </a:lnTo>
                      <a:lnTo>
                        <a:pt x="1969" y="1938"/>
                      </a:lnTo>
                      <a:lnTo>
                        <a:pt x="1908" y="1852"/>
                      </a:lnTo>
                      <a:lnTo>
                        <a:pt x="1833" y="1783"/>
                      </a:lnTo>
                      <a:lnTo>
                        <a:pt x="1740" y="1732"/>
                      </a:lnTo>
                      <a:lnTo>
                        <a:pt x="1642" y="1699"/>
                      </a:lnTo>
                      <a:lnTo>
                        <a:pt x="1543" y="1689"/>
                      </a:lnTo>
                      <a:lnTo>
                        <a:pt x="585" y="1689"/>
                      </a:lnTo>
                      <a:lnTo>
                        <a:pt x="492" y="1699"/>
                      </a:lnTo>
                      <a:lnTo>
                        <a:pt x="390" y="1731"/>
                      </a:lnTo>
                      <a:lnTo>
                        <a:pt x="301" y="1782"/>
                      </a:lnTo>
                      <a:lnTo>
                        <a:pt x="228" y="1846"/>
                      </a:lnTo>
                      <a:lnTo>
                        <a:pt x="162" y="1936"/>
                      </a:lnTo>
                      <a:lnTo>
                        <a:pt x="124" y="2025"/>
                      </a:lnTo>
                      <a:lnTo>
                        <a:pt x="97" y="2133"/>
                      </a:lnTo>
                      <a:lnTo>
                        <a:pt x="1" y="2131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8596440" y="5639040"/>
                  <a:ext cx="1292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842904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022600" y="5639040"/>
                  <a:ext cx="12744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7853400" y="5639040"/>
                  <a:ext cx="128880" cy="1350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7811640" y="5305320"/>
                  <a:ext cx="954360" cy="470160"/>
                  <a:chOff x="7811640" y="5305320"/>
                  <a:chExt cx="954360" cy="4701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783108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7813440" y="5486040"/>
                    <a:ext cx="3211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876456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842940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840672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51"/>
                        </a:moveTo>
                        <a:lnTo>
                          <a:pt x="47" y="39"/>
                        </a:lnTo>
                        <a:lnTo>
                          <a:pt x="43" y="28"/>
                        </a:lnTo>
                        <a:lnTo>
                          <a:pt x="37" y="19"/>
                        </a:lnTo>
                        <a:lnTo>
                          <a:pt x="29" y="11"/>
                        </a:lnTo>
                        <a:lnTo>
                          <a:pt x="20" y="5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>
                    <a:off x="8661600" y="5616720"/>
                    <a:ext cx="86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859644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853760" y="5640480"/>
                    <a:ext cx="12888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1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1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8020800" y="5640480"/>
                    <a:ext cx="12924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74" y="42"/>
                        </a:moveTo>
                        <a:lnTo>
                          <a:pt x="73" y="31"/>
                        </a:lnTo>
                        <a:lnTo>
                          <a:pt x="69" y="21"/>
                        </a:lnTo>
                        <a:lnTo>
                          <a:pt x="63" y="12"/>
                        </a:lnTo>
                        <a:lnTo>
                          <a:pt x="55" y="5"/>
                        </a:lnTo>
                        <a:lnTo>
                          <a:pt x="46" y="1"/>
                        </a:lnTo>
                        <a:lnTo>
                          <a:pt x="37" y="0"/>
                        </a:lnTo>
                        <a:lnTo>
                          <a:pt x="27" y="1"/>
                        </a:lnTo>
                        <a:lnTo>
                          <a:pt x="18" y="5"/>
                        </a:lnTo>
                        <a:lnTo>
                          <a:pt x="10" y="12"/>
                        </a:lnTo>
                        <a:lnTo>
                          <a:pt x="5" y="21"/>
                        </a:lnTo>
                        <a:lnTo>
                          <a:pt x="1" y="31"/>
                        </a:lnTo>
                        <a:lnTo>
                          <a:pt x="0" y="42"/>
                        </a:lnTo>
                        <a:lnTo>
                          <a:pt x="1" y="53"/>
                        </a:lnTo>
                        <a:lnTo>
                          <a:pt x="5" y="64"/>
                        </a:lnTo>
                        <a:lnTo>
                          <a:pt x="10" y="72"/>
                        </a:lnTo>
                        <a:lnTo>
                          <a:pt x="18" y="79"/>
                        </a:lnTo>
                        <a:lnTo>
                          <a:pt x="27" y="83"/>
                        </a:lnTo>
                        <a:lnTo>
                          <a:pt x="37" y="85"/>
                        </a:lnTo>
                        <a:lnTo>
                          <a:pt x="46" y="83"/>
                        </a:lnTo>
                        <a:lnTo>
                          <a:pt x="55" y="79"/>
                        </a:lnTo>
                        <a:lnTo>
                          <a:pt x="63" y="72"/>
                        </a:lnTo>
                        <a:lnTo>
                          <a:pt x="69" y="64"/>
                        </a:lnTo>
                        <a:lnTo>
                          <a:pt x="73" y="53"/>
                        </a:lnTo>
                        <a:lnTo>
                          <a:pt x="74" y="42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085960" y="5616720"/>
                    <a:ext cx="87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1">
                        <a:moveTo>
                          <a:pt x="50" y="0"/>
                        </a:moveTo>
                        <a:lnTo>
                          <a:pt x="39" y="1"/>
                        </a:lnTo>
                        <a:lnTo>
                          <a:pt x="29" y="5"/>
                        </a:lnTo>
                        <a:lnTo>
                          <a:pt x="20" y="11"/>
                        </a:lnTo>
                        <a:lnTo>
                          <a:pt x="13" y="19"/>
                        </a:lnTo>
                        <a:lnTo>
                          <a:pt x="6" y="28"/>
                        </a:lnTo>
                        <a:lnTo>
                          <a:pt x="2" y="39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3440" y="5697720"/>
                    <a:ext cx="233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748720" y="5697720"/>
                    <a:ext cx="172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114040" y="5380200"/>
                    <a:ext cx="3524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8134200" y="5486400"/>
                    <a:ext cx="312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86">
                        <a:moveTo>
                          <a:pt x="0" y="0"/>
                        </a:moveTo>
                        <a:lnTo>
                          <a:pt x="1" y="86"/>
                        </a:lnTo>
                        <a:lnTo>
                          <a:pt x="179" y="8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111880" y="5380200"/>
                    <a:ext cx="353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8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203" y="8"/>
                        </a:lnTo>
                        <a:lnTo>
                          <a:pt x="20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8190360" y="5602320"/>
                    <a:ext cx="20772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8446680" y="5486040"/>
                    <a:ext cx="31932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8481960" y="5414760"/>
                    <a:ext cx="242280" cy="68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 flipV="1">
                    <a:off x="8478720" y="5430960"/>
                    <a:ext cx="217800" cy="61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8696880" y="5483160"/>
                    <a:ext cx="4320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869472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873864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493840" y="5616720"/>
                    <a:ext cx="16776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8445240" y="5392800"/>
                    <a:ext cx="144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8457480" y="541188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7" y="5"/>
                        </a:move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3" y="9"/>
                        </a:lnTo>
                        <a:lnTo>
                          <a:pt x="6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V="1">
                    <a:off x="8478720" y="5415120"/>
                    <a:ext cx="2880" cy="15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>
                    <a:off x="8467920" y="5424120"/>
                    <a:ext cx="1044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H="1" flipV="1">
                    <a:off x="8470080" y="5416200"/>
                    <a:ext cx="1008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839628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flipV="1">
                    <a:off x="8132760" y="5392800"/>
                    <a:ext cx="1800" cy="93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8132760" y="5486400"/>
                    <a:ext cx="1800" cy="136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818892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8289720" y="5392800"/>
                    <a:ext cx="180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8283240" y="5392800"/>
                    <a:ext cx="1440" cy="20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851960" y="5316120"/>
                    <a:ext cx="205920" cy="166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841520" y="5483160"/>
                    <a:ext cx="4176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918560" y="5616720"/>
                    <a:ext cx="1670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V="1">
                    <a:off x="7876440" y="5329080"/>
                    <a:ext cx="190080" cy="1540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7881480" y="5483160"/>
                    <a:ext cx="1800" cy="41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57880" y="5316480"/>
                    <a:ext cx="8640" cy="12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8061480" y="5311800"/>
                    <a:ext cx="6480" cy="64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V="1">
                    <a:off x="8064720" y="5317920"/>
                    <a:ext cx="8640" cy="61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flipH="1">
                    <a:off x="8067960" y="53053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8">
                        <a:moveTo>
                          <a:pt x="7" y="4"/>
                        </a:move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3" y="8"/>
                        </a:lnTo>
                        <a:lnTo>
                          <a:pt x="6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flipV="1">
                    <a:off x="7839720" y="5482800"/>
                    <a:ext cx="144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 flipV="1">
                    <a:off x="7811640" y="5535720"/>
                    <a:ext cx="1440" cy="162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3440" y="5697720"/>
                    <a:ext cx="1764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9" name=""/>
              <p:cNvSpPr/>
              <p:nvPr/>
            </p:nvSpPr>
            <p:spPr>
              <a:xfrm>
                <a:off x="7473960" y="5194440"/>
                <a:ext cx="550800" cy="682560"/>
              </a:xfrm>
              <a:prstGeom prst="irregularSeal2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140520" y="4919760"/>
                <a:ext cx="639720" cy="11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604360" y="5237280"/>
                <a:ext cx="163440" cy="70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788160" y="5232240"/>
                <a:ext cx="6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85080" y="5911920"/>
                <a:ext cx="14158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Showcard Gothic"/>
                  </a:rPr>
                  <a:t>PELIGRO de CHOQUE DE TREN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4611600" y="4692600"/>
              <a:ext cx="200664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555920"/>
            <a:ext cx="81727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as extraí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3 % CuT ;  0,032%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cio produc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er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%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 régi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000 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a socavar             :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4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mera piedra 20.60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izonte de v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años (20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235320"/>
                <a:tab algn="l" pos="3587760"/>
                <a:tab algn="l" pos="4502160"/>
                <a:tab algn="l" pos="5627520"/>
                <a:tab algn="l" pos="6753240"/>
                <a:tab algn="l" pos="7878600"/>
                <a:tab algn="l" pos="9004320"/>
                <a:tab algn="l" pos="1012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año mi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4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UB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1040" y="1509840"/>
            <a:ext cx="800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63760" y="1241280"/>
            <a:ext cx="5715000" cy="42735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479520" y="1547640"/>
            <a:ext cx="2493720" cy="3552840"/>
            <a:chOff x="479520" y="1547640"/>
            <a:chExt cx="2493720" cy="355284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79520" y="1547640"/>
              <a:ext cx="2493720" cy="35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614600" y="2620800"/>
            <a:ext cx="865080" cy="7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8716400">
            <a:off x="2313000" y="2302920"/>
            <a:ext cx="800280" cy="326880"/>
          </a:xfrm>
          <a:prstGeom prst="leftArrow">
            <a:avLst>
              <a:gd name="adj1" fmla="val 50000"/>
              <a:gd name="adj2" fmla="val 6120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0" r="0" b="9848"/>
          <a:stretch/>
        </p:blipFill>
        <p:spPr>
          <a:xfrm>
            <a:off x="831960" y="1351080"/>
            <a:ext cx="7454880" cy="4765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LEYES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8041" r="0" b="0"/>
          <a:stretch/>
        </p:blipFill>
        <p:spPr>
          <a:xfrm>
            <a:off x="1608120" y="1276200"/>
            <a:ext cx="5919840" cy="5229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MANEJO DE MI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98720" y="1274760"/>
            <a:ext cx="6964200" cy="507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863640" y="77940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PREACONDI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22:55:11Z</dcterms:created>
  <dc:creator>Administrador</dc:creator>
  <dc:description/>
  <dc:language>en-US</dc:language>
  <cp:lastModifiedBy>LZenteno</cp:lastModifiedBy>
  <dcterms:modified xsi:type="dcterms:W3CDTF">2009-10-07T12:06:18Z</dcterms:modified>
  <cp:revision>470</cp:revision>
  <dc:subject/>
  <dc:title>PROYECTO .........</dc:title>
</cp:coreProperties>
</file>