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0A7-E017-47B9-B495-EDD9A2B6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376-4322-49AD-AB08-97FD190F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213-E69B-4583-94CB-2964FD78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A89-3603-444A-8F47-62B422BC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EA3-68E4-4638-95C0-D440AE31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A8F2-E364-4F16-8D8B-B81577DF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AE64-D318-4B2B-9749-599E633F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258A-5FF9-42F7-8CF6-1AE7D166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0E39-97EB-47FD-A02E-F4ADCA28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1A8-911B-4AD6-BF9A-E60F6C79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4AE6-2E2C-43E2-810F-4FBF59E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9B0-7AEF-451D-B8BE-5388FCC3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6422-BF37-45C6-A267-32CCA57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8A7-B7A6-4E2E-9F25-02EDC73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4E1A-5974-47EC-8409-668A58C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6F9D-440F-4BDE-ADB8-7437CD76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0BF4-33B1-4BDF-9BE4-E62419CF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E419-FF87-4064-B2AD-56E49387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8691-077C-4E5A-A0F1-6A401960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895E-F667-4AC4-BFA6-602E6E6B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3214-4BBF-4F8F-8EB2-E709C20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BA2B-99BB-48B6-9AEE-76381C3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6C0-B240-4D3E-8C84-F611141D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1687-93C2-4DD2-B0CF-DF27E239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E391-D1B4-485B-83CA-441F3EE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3C4B-ADA1-4069-A92D-57A9580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D1A7-E31F-40F6-86BB-326366B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8E96-5852-4D74-8873-46E079CF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2CB9-7793-450D-89C7-FC7DC520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65E2-0943-48FB-9EF8-85B5F4A2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1D84-DD14-4FF6-9E46-AF938890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C9BB-EF04-42D8-8579-21BB2F41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5FC9-00CD-4278-9998-29C23F8A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D67-4E5E-49D1-AAAB-1C4C60E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F788-782A-4CEB-BC62-65E777D6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246B9-15B7-4057-9B4C-CC41ADD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75440-5D44-40E1-89C5-5049350F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964D2-B5D2-460A-BB9A-0C291CA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0F0C7-2672-47E8-A41E-FD3955F9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7664-E8F5-4A60-A3B1-D83F490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C22EC-295C-41B3-9FE8-29E6631A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550D-6FA3-4EFC-A07D-0CCC3CC8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054F-8048-441B-9A2A-55196154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BCB-BA77-4EB6-94FD-605E4B6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9A3-DBD1-4226-B722-D380FFA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4B6-D83C-41FF-B227-BBE38FF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922-B737-4247-BCB5-9D16672B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04B-4DF8-4A86-BE87-4DB9FD63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EF4C-5CA7-4863-AA90-AF05E9C912F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0B03-0A5B-4904-B945-9A969AF8B178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B509-1A39-4FCC-BEC5-A7891A8BDB2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AF96-E0D4-47A8-BF5E-91B4F870001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914480" y="1212840"/>
            <a:ext cx="736272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MI58A: Diseño de Minas a Cielo Abiert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mensionamiento de Flo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Gran importancia por su incidencia en los co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Decisión en base a información del fabricante y benchmark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 busca optimizar el manejo de recursos involucr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arámetros Cl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es Operacionales (Asarco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iempo Cro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Inhábiles (H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Hábiles (HH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de Perdida Operacional (HPE)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adores Mecán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sponibilidad Fís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F = (HOP+HRE)/H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ndice de Ut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T = HOP/(HOP+HR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Factor Opera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O = HEF/HO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ndimiento Efec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ef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eo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*UT*DF*F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04617b"/>
                </a:solidFill>
                <a:latin typeface="Calibri"/>
              </a:rPr>
              <a:t>Perforación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Carguío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Transporte (Camión)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onsideraciones Fin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quilibrio entre capacidad de carguío y capacidad de transpor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fecto Diseño Mi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erfiles de Transporte (Rendi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ases activas por período (Flexibilidad Operacional Requerid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tros métodos de dimensionamiento (modelación matemática-simulación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ASD</cp:lastModifiedBy>
  <dcterms:modified xsi:type="dcterms:W3CDTF">2008-04-08T01:25:57Z</dcterms:modified>
  <cp:revision>21</cp:revision>
  <dc:subject/>
  <dc:title>Dimensionamiento de Flota de Equipos</dc:title>
</cp:coreProperties>
</file>