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2CA-FFD2-4F92-858A-9F22F018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F10-7F89-470B-9C02-60C44766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535-42C8-49C8-BBC6-D2E419EB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1F0-3803-4986-B8C5-C98C5776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2762-C128-4C98-853B-351AF6AE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984-96D3-4B17-83E0-D75D1AA4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908-0634-41C1-9297-2927920C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6CBC-6923-4B1D-B6EB-A4C884AE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1501-AAC6-435E-AA59-2501BD07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7698-CE95-430E-9D78-DD11C270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B6B0-6FB4-4C12-9DF1-A2DBC0B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9E4-A841-410F-9E40-B5351A44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D4C-37FA-4FB4-AF59-9A7E6B7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268-4758-4911-941F-E5D3BE3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AAA3-D17F-41F7-AC6B-DFD2717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F3C-0BFB-485A-BD8E-F1E28DA3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4C54-F44A-4B08-911A-D7A7466C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B620-8FBC-4443-9598-BBD7B6F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DC2B-BA94-421B-9740-E16EEC6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6F43-3EA7-4068-AC07-623F417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D623-C642-425A-8570-55F9C39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8AFF-BBE6-489B-9104-9EE08BC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D42-DA2E-4CA5-A47D-01FF633F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1C12-4FE9-4689-89B2-03E9B559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2807-ECE6-46FB-82D9-ED352D1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2690-6EF7-4E36-B08A-4662095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E3CE-CF2A-4CB9-9969-DD6A639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7A06-FE8E-44BF-AEC4-E2FD8DC7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BCFF-882F-40C0-ADE5-8F78DEE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7C61-2927-4EB1-9845-254AED6F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0A05-C7B3-4C6D-AA2B-04A22191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1EC5-C96D-47D2-9CA4-D90A5FD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0F24-A677-4C2B-A91C-E313BC3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E74-18DC-4F1D-8627-E462308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CD4A-CF2B-4433-BCF6-7CF8576A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020F-683D-4EFB-BF7B-AB31C287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33F1-AD38-4B1B-AC58-A03D1EE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8917-AC39-4369-BF46-E7B481B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930F-5164-4949-903D-CDE67D2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EE62-AC0F-458A-B09E-A64DB23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1EF6-51E7-4A28-AB75-486F911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0311-3AC3-4DAB-8F94-2795C7FC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40B3-3D86-48F9-95FB-305A4095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110-FC43-46CE-96ED-7DB707E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E45-DD9E-42B7-99FC-1A665D0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49A-592A-4503-9029-9DC433CE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445-C54D-4016-B2F7-4A01513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277-E849-4331-98A7-F906E4A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8F8-284C-4E27-B6D1-43A5AB50594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3E10-AC77-4EA6-A8A3-C325AD57B37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C33-E4EE-432E-8B8B-183019EBE411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B58-2ECA-4681-85DA-CA998E9ADCF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914480" y="1212840"/>
            <a:ext cx="736272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MI58A: Diseño de Minas a Cielo Abier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mensionamiento de Flo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Gran importancia por su incidencia en los co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cisión en base a información del fabricante y benchmar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busca optimizar el manejo de recursos involucr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arámetros Cl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es Operacionales (Asarco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iempo Cro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Inhábiles (H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Hábiles (HH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de Perdida Operacional (HPE)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adores Mecán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ponibilidad Fí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F = (HOP+HRE)/H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dice de Ut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T = HOP/(HOP+HR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Factor Oper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O = HEF/HO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ndimiento Efec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ef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eo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*UT*DF*F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04617b"/>
                </a:solidFill>
                <a:latin typeface="Calibri"/>
              </a:rPr>
              <a:t>Perforación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Carguío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Transporte (Camión)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nsideraciones Fi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quilibrio entre capacidad de carguío y capacidad de transpo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fecto Diseño Mi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erfiles de Transporte (Rendi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ases activas por período (Flexibilidad Operacional Requerid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tros métodos de dimensionamiento (modelación matemática-simulación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ASD</cp:lastModifiedBy>
  <dcterms:modified xsi:type="dcterms:W3CDTF">2008-04-08T01:25:57Z</dcterms:modified>
  <cp:revision>21</cp:revision>
  <dc:subject/>
  <dc:title>Dimensionamiento de Flota de Equipos</dc:title>
</cp:coreProperties>
</file>