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0DD-99FA-4F5C-8551-CFA2092F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ED1E-02FF-4CFB-B726-A84362D3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906-289F-4ACA-931B-71A02138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772-3E93-4844-93D8-DD3412DD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5879-297D-4966-953D-0F7AF14F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738C-FAD3-4B9A-8C1B-19A57A66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8358-D45B-4C01-B7E8-028D3D24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8264-B5B7-4F27-AB82-9B30CD3A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F0B7-CFF3-4087-95E0-1FA34B39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DF1E-DADB-4482-9389-4A99953B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173D-5692-4CD8-80BD-BA3B8C7D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562-D42C-4DEB-B72D-D9226423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013A-3F89-4556-A9E6-0345AE2B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40BB-F19C-4706-9FBF-1928150D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AE66-1F71-400B-A178-236F5304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8659-F970-4958-A28F-7152B5BF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B6D8-0B3D-46DB-9821-9DE5393E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534A5-2FE3-450E-9F78-96D07101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F2027-1CB1-4E63-8819-BA701F24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35342-E4F6-4431-ADF5-8112F011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62D7D-6755-4AA1-BDDC-BCC3066E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9B43B-0FB4-48DC-B66F-407D4EDD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F33-55B9-4833-A9A8-5E362743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C6CB7-4B9C-4649-9877-A5670B8E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494BB-591D-4648-9D42-3F02670D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1A871-3B1B-49F7-AD89-57EEF390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EB1FC-F00C-4551-9880-C959A0AF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FD069-1E5E-48AC-8FB9-A6ECEBA4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EA042-C30D-4A72-9CF2-15F64476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12B30-7C75-4B54-82FB-DCA925A5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125BD-002E-4159-AF9E-52C068C6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77BD5-2AD9-4786-BCB0-83BEA7F7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15B55-7319-448B-90B9-911966A3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68B0-F49A-4FD3-AE92-B14DE274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F5DDE-F97A-44E7-857D-83366EA0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F4FC4-CE2D-40E7-A001-E398CE2B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ECB04-A70F-40C3-8F79-87788CAE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E7863-7B3F-431A-BC31-CEC60D23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33C46-F3CC-4B94-9C87-14ED20D1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9C684-4FE3-4E61-B1F9-B04FF27C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8AD79-E30F-4ABD-BD04-8B5CEDE6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1FEAF-A486-46CA-AB10-6BFA63C0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D98CC-AD95-4786-B250-5E6EF87D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EC0-5AE2-420A-AF2C-E2EFA1B9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992-8AC4-4642-BB72-9EAE0A33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42A7-1125-4CB1-8945-E0BA7059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E7C-CE00-41F8-B5A8-555C09D3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E42-FB73-4D20-8502-31D6E238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0E77-F918-4663-B7BB-45CC61416DA4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D08B-D388-49D6-9318-126A9E8FA37B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8726-6015-4690-8CF6-1577F674F5C3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E824-F0EE-4677-9F40-8E74BDA13A9D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1914480" y="1212840"/>
            <a:ext cx="7362720" cy="1951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nstantia"/>
              </a:rPr>
              <a:t>MI58A: Diseño de Minas a Cielo Abierto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Introduc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imensionamiento de Flo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Gran importancia por su incidencia en los cos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Decisión en base a información del fabricante y benchmark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Se busca optimizar el manejo de recursos involucrad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Parámetros Cla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nvergadura del Proyecto (vida útil, reserva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Programa de producción (plan miner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Parámetros de diseño (malla de perforación, perfiles de transporte, altura de bancos, anchos operacional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ecnología disponible (equipos y maquinaria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Factores operacionales (dias de trabajo, sistema de turnos, indices operacional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Costos estim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Indices Operacionales (Asarco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Tiempo Cronoló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Horas Inhábiles (HI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Horas Hábiles (HH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Horas Mantención (HM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Horas Reserva (HRE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Horas Operación (HOP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Horas Operacionales Efectivas (HEF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Horas de Perdida Operacional (HPE)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Indicadores Mecán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90360" y="16765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isponibilidad Fís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DF = (HOP+HRE)/HH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Indice de Utiliz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UT = HOP/(HOP+HRE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Factor Operacion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FO = HEF/HOP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Rendimiento Efect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ef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 = R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teo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*UT*DF*F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4617b"/>
                </a:solidFill>
                <a:latin typeface="Calibri"/>
              </a:rPr>
              <a:t>Dimensionamiento de Flota</a:t>
            </a:r>
            <a:br>
              <a:rPr sz="3800"/>
            </a:br>
            <a:r>
              <a:rPr b="0" lang="es-ES_tradnl" sz="3400" spc="-1" strike="noStrike">
                <a:solidFill>
                  <a:srgbClr val="04617b"/>
                </a:solidFill>
                <a:latin typeface="Calibri"/>
              </a:rPr>
              <a:t>Perforación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onelaje por Tiro (to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t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 = B*E*H*de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onelaje por Metro Barrenado (ton/mb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mb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=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t </a:t>
            </a: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/(H+P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Metros Barrenados Requeridos por día (mb/d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MBD = TPD /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Constantia"/>
              </a:rPr>
              <a:t>mb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Rendimiento Equipo de Perforación (mb/d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 = VPteo*DF*UT*FO*24*f(roca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Número de Equipos Necesar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N = MBD/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Dimensionamiento de Flota</a:t>
            </a:r>
            <a:br>
              <a:rPr sz="4500"/>
            </a:br>
            <a:r>
              <a:rPr b="0" lang="es-ES_tradnl" sz="3100" spc="-1" strike="noStrike">
                <a:solidFill>
                  <a:srgbClr val="04617b"/>
                </a:solidFill>
                <a:latin typeface="Calibri"/>
              </a:rPr>
              <a:t>Carguío</a:t>
            </a: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14400" y="1936800"/>
            <a:ext cx="7772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onelaje por Palada (ton/palad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Cp = Vbalde*Fllenado*dens /(1 + %esponjamiento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Rendimiento Equipo de Carguío (ton/d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 = Cp*DF*UT*FO*24*f(roca)/TCcarguí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Número de Equipos de Carguí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N = TPD/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04617b"/>
                </a:solidFill>
                <a:latin typeface="Calibri"/>
              </a:rPr>
              <a:t>Dimensionamiento de Flota</a:t>
            </a:r>
            <a:br>
              <a:rPr sz="4500"/>
            </a:br>
            <a:r>
              <a:rPr b="0" lang="es-ES_tradnl" sz="3100" spc="-1" strike="noStrike">
                <a:solidFill>
                  <a:srgbClr val="04617b"/>
                </a:solidFill>
                <a:latin typeface="Calibri"/>
              </a:rPr>
              <a:t>Transporte (Camión)</a:t>
            </a: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iempo de Ciclo de Transporte (hora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TCtrans = Tdesc + Tvv + Tmanc + TCcarguio + Tvc +Tman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Tiempo de Viaje (hora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Tviaje = (L/V)cargado&amp;pendiente + (L/V)cargado&amp;horizontal + (L/V)descargado&amp;horizontal +(L/V)descargado&amp;pendient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Rendimiento Equipo de Transporte (ton/d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R = Npaladas*Cp*FLL*DF*UT*FO*24 / TCtra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FLL = Npaladas*Cp / Ccamio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Número de Cam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N = TPD / 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Consideraciones Fina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Equilibrio entre capacidad de carguío y capacidad de transpor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Efecto Diseño Mine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Perfiles de Transporte (Rendimiento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Fases activas por período (Flexibilidad Operacional Requerida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Otros métodos de dimensionamiento (modelación matemática-simulación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1:44:46Z</dcterms:created>
  <dc:creator>karina</dc:creator>
  <dc:description/>
  <dc:language>en-US</dc:language>
  <cp:lastModifiedBy>ASD</cp:lastModifiedBy>
  <dcterms:modified xsi:type="dcterms:W3CDTF">2008-04-08T01:25:57Z</dcterms:modified>
  <cp:revision>21</cp:revision>
  <dc:subject/>
  <dc:title>Dimensionamiento de Flota de Equipos</dc:title>
</cp:coreProperties>
</file>