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1B3-EA6F-42D6-96FF-FD2966C2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CDA-53F6-4E02-9201-1E09DFD0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502-7F47-4FDB-894D-5AF43710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3C6-449E-4617-B808-C4A1C653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F89A-0CB2-41B6-AC6B-812D14AA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3922-D99A-4514-8511-F1AB90AC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4649-08D3-4EA8-ABD8-46C1AFBA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6EF2-D2E2-40F3-B60F-04F04EBA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00CA-4CB3-4A75-8CA3-CC2567DD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BA8B-9EC5-4BB4-9DA7-E7F07AB1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D1FA-DBA2-45F8-ADA3-31AEC205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EAB-EC73-4475-816F-70A7562F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2222-C288-4C0C-A7AE-1396B835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1605-50EC-4F6C-BF18-47DA3173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CADA-6A2C-4339-8062-90AB06ED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0C0F-85E5-4648-B459-2E1CFFFA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A258-687E-4C6F-B131-962468E4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EEC8A-8D5D-4898-B919-B1D8DB71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0748B-2070-4D74-9AE5-FEC6DC7B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9887C-2EC9-4DEE-A2D1-E1D44246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1B674-5506-4B72-B2D2-A0435BF7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133D7-7015-4202-87A2-9F6FCAEF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46F-D4E3-43E7-8898-95AA44F1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A30C6-E842-47E8-BF51-B4A4DA7C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99E35-9927-42E5-8697-30BC5D00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D17FA-8707-4C38-B407-FBF848FE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00612-07B7-4C5A-9B88-D8C3B4A6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B2CE2-7134-47FD-BC8D-C7672878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96086-AE23-44A0-A3BD-ECED93FE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AD489-08C8-4822-98C2-4A72BE0F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DB2AF-C82D-4B26-8968-E69894DC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239D4-2673-4516-8289-9DA4FF50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B7426-8205-44DF-9D36-7F456BC8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A022-12BA-4ABB-9AD5-452A946B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D9048-2703-4B9A-87B7-7666EB20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7423F-67A3-4ADF-89D8-731F95D9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B9ADC-CC63-4869-BEB8-AC453EAD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4A4EF-6107-4C7E-BAF4-45D8A282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4CD24-0627-4415-880D-2951AC71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B89B8-384E-441A-BF37-89229E4F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0C3FA-35CB-4E3B-99C0-C2ED46FD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218E7-4611-49F2-88E8-4407399A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4F9F6-40EB-4818-B2DC-9B09B016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56E4-8F80-4B65-87D8-27C98F3D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3F8-C3B3-42FA-A7ED-4AEE8AF8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165-29E5-465E-8DFD-F3D71439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96F-D650-4239-A9CF-9A8D623D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188-F5E5-44DF-9E23-C8760A1F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141F-3F90-40EE-8662-E75AFC43F43D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5FB9-3D4A-432B-8293-63400D8942F0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64FF-8F8C-491B-B598-A17F11969E56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4957-475F-4388-B053-ADFACBBF17D3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1914480" y="1212840"/>
            <a:ext cx="7362720" cy="1951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nstantia"/>
              </a:rPr>
              <a:t>MI58A: Diseño de Minas a Cielo Abierto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ntroduc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imensionamiento de Flo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Gran importancia por su incidencia en los cos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Decisión en base a información del fabricante y benchmark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Se busca optimizar el manejo de recursos involucrad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Parámetros Cla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nvergadura del Proyecto (vida útil, reserva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Programa de producción (plan miner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Parámetros de diseño (malla de perforación, perfiles de transporte, altura de bancos, anchos operacional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ecnología disponible (equipos y maquinaria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Factores operacionales (dias de trabajo, sistema de turnos, indices operacional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Costos estim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ndices Operacionales (Asarco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Tiempo Cro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Horas Inhábiles (HI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Horas Hábiles (HH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Mantención (HM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Reserva (HRE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Operación (HOP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Operacionales Efectivas (HEF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de Perdida Operacional (HPE)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ndicadores Mecán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90360" y="16765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isponibilidad Fís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DF = (HOP+HRE)/HH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Indice de Utiliz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UT = HOP/(HOP+HR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Factor Operacion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FO = HEF/HOP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Rendimiento Efect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ef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 = R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teo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*UT*DF*F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4617b"/>
                </a:solidFill>
                <a:latin typeface="Calibri"/>
              </a:rPr>
              <a:t>Dimensionamiento de Flota</a:t>
            </a:r>
            <a:br>
              <a:rPr sz="3800"/>
            </a:br>
            <a:r>
              <a:rPr b="0" lang="es-ES_tradnl" sz="3400" spc="-1" strike="noStrike">
                <a:solidFill>
                  <a:srgbClr val="04617b"/>
                </a:solidFill>
                <a:latin typeface="Calibri"/>
              </a:rPr>
              <a:t>Perforación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onelaje por Tiro (to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t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 = B*E*H*de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onelaje por Metro Barrenado (ton/mb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mb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=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t 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/(H+P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Metros Barrenados Requeridos por día (mb/d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MBD = TPD /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mb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Rendimiento Equipo de Perforación (mb/d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 = VPteo*DF*UT*FO*24*f(roca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Número de Equipos Necesar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N = MBD/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Dimensionamiento de Flota</a:t>
            </a:r>
            <a:br>
              <a:rPr sz="4500"/>
            </a:br>
            <a:r>
              <a:rPr b="0" lang="es-ES_tradnl" sz="3100" spc="-1" strike="noStrike">
                <a:solidFill>
                  <a:srgbClr val="04617b"/>
                </a:solidFill>
                <a:latin typeface="Calibri"/>
              </a:rPr>
              <a:t>Carguío</a:t>
            </a: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14400" y="1936800"/>
            <a:ext cx="7772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onelaje por Palada (ton/palad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Cp = Vbalde*Fllenado*dens /(1 + %esponjamiento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Rendimiento Equipo de Carguío (ton/d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 = Cp*DF*UT*FO*24*f(roca)/TCcarguí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Número de Equipos de Carguí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N = TPD/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Dimensionamiento de Flota</a:t>
            </a:r>
            <a:br>
              <a:rPr sz="4500"/>
            </a:br>
            <a:r>
              <a:rPr b="0" lang="es-ES_tradnl" sz="3100" spc="-1" strike="noStrike">
                <a:solidFill>
                  <a:srgbClr val="04617b"/>
                </a:solidFill>
                <a:latin typeface="Calibri"/>
              </a:rPr>
              <a:t>Transporte (Camión)</a:t>
            </a: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iempo de Ciclo de Transporte (hora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Ctrans = Tdesc + Tvv + Tmanc + TCcarguio + Tvc +Tman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iempo de Viaje (hora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viaje = (L/V)cargado&amp;pendiente + (L/V)cargado&amp;horizontal + (L/V)descargado&amp;horizontal +(L/V)descargado&amp;pendien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Rendimiento Equipo de Transporte (ton/d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 = Npaladas*Cp*FLL*DF*UT*FO*24 / TCtra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FLL = Npaladas*Cp / Ccam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Número de Cam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N = TPD / 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Consideraciones Fina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quilibrio entre capacidad de carguío y capacidad de transpor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fecto Diseño Mi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Perfiles de Transporte (Rendimiento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Fases activas por período (Flexibilidad Operacional Requerida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Otros métodos de dimensionamiento (modelación matemática-simulación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1:44:46Z</dcterms:created>
  <dc:creator>karina</dc:creator>
  <dc:description/>
  <dc:language>en-US</dc:language>
  <cp:lastModifiedBy>ASD</cp:lastModifiedBy>
  <dcterms:modified xsi:type="dcterms:W3CDTF">2008-04-08T01:25:57Z</dcterms:modified>
  <cp:revision>21</cp:revision>
  <dc:subject/>
  <dc:title>Dimensionamiento de Flota de Equipos</dc:title>
</cp:coreProperties>
</file>