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34.wmf" ContentType="image/x-wmf"/>
  <Override PartName="/ppt/media/image38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C012-36A3-4337-BBB5-0727A0BE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DBAB-87F3-4C3C-A6E1-C1ADFAD2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A984-D01E-43F7-B436-4B818C91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AA09-2978-43A1-A5BB-6A01E472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7F4D-3F82-4B2E-99C2-08E3E706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72F-FBF5-4F32-BBA4-955AEBE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25AE-DE4E-4608-AC27-208347BE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CB6-DE53-4ADB-B9E9-9EBDC6C1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FA3D-6835-40BE-AC56-9676A910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817C-5E80-41EF-985B-9AEDD62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396F-07DC-4DC8-8D3A-840D897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A468-C39D-4991-BD7E-6C1C1C67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59E8-5DAF-4D52-9052-7143838A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30E1-C22B-4CD5-B665-0DBE72D4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1B64-E079-4A36-9F53-7586549C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C715-3F56-4A67-B6D5-A0B4BBB8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D1E-83F0-4323-9BC7-618BA4F2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358F-DA21-4669-8B23-FA7D059A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8F7F-3D12-4C2F-BF87-62D702C4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710C-214B-45B2-9F37-79EAB0F7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1DB5-18AF-4400-8146-040E7E3D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994D-EF42-4934-A640-F9BAD3B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E769-8C58-4734-8DCE-BD0706E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F333-D15F-4837-974D-4083E399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D7BE-3119-41DE-9A8A-D700A5590C19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E92E-E5E4-4380-848A-481F4EEEEAF6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ircuitos de ventil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652640"/>
            <a:ext cx="60199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MI57G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rof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jemplo cal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1262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n 4 galerías de ventilación en paralelo con un total de 100,000 cfm (47.19 m3/s). Calcule la caída de presión y la cantidad de aire en cada una de las gal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665440" y="3960720"/>
          <a:ext cx="34401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960720"/>
                    <a:ext cx="34401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39640" y="6093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olver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ntidad de aire por galería sin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3484440"/>
          <a:ext cx="4192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84440"/>
                    <a:ext cx="4192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03320" y="4505400"/>
          <a:ext cx="48024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4505400"/>
                    <a:ext cx="4802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055960" y="2328840"/>
          <a:ext cx="44226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2328840"/>
                    <a:ext cx="4422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Diag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03640" y="1197000"/>
            <a:ext cx="37814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Igualdad de depresiones de las corrientes principales entre los puntos de bifur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) Sentido de flujo en 2 es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684360" y="2060640"/>
            <a:ext cx="4031640" cy="1612800"/>
            <a:chOff x="684360" y="2060640"/>
            <a:chExt cx="4031640" cy="1612800"/>
          </a:xfrm>
        </p:grpSpPr>
        <p:sp>
          <p:nvSpPr>
            <p:cNvPr id="165" name="Rectangle 4"/>
            <p:cNvSpPr/>
            <p:nvPr/>
          </p:nvSpPr>
          <p:spPr>
            <a:xfrm>
              <a:off x="1277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699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68436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12272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751040" y="2060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2405520" y="26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350520" y="330516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810800" y="33051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684360" y="244296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241880" y="249768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3172680" y="2065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7"/>
          <p:cNvSpPr/>
          <p:nvPr/>
        </p:nvSpPr>
        <p:spPr>
          <a:xfrm>
            <a:off x="755640" y="4365720"/>
            <a:ext cx="56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con diagonales se resuel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gualación de de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ta 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dy cross (circuitos complej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1. Método igualación de de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6"/>
          <p:cNvGraphicFramePr/>
          <p:nvPr/>
        </p:nvGraphicFramePr>
        <p:xfrm>
          <a:off x="5651640" y="2208240"/>
          <a:ext cx="236844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8240"/>
                    <a:ext cx="23684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4"/>
          <p:cNvGrpSpPr/>
          <p:nvPr/>
        </p:nvGrpSpPr>
        <p:grpSpPr>
          <a:xfrm>
            <a:off x="755640" y="1700280"/>
            <a:ext cx="4032000" cy="1612800"/>
            <a:chOff x="755640" y="1700280"/>
            <a:chExt cx="4032000" cy="1612800"/>
          </a:xfrm>
        </p:grpSpPr>
        <p:sp>
          <p:nvSpPr>
            <p:cNvPr id="181" name="Rectangle 5"/>
            <p:cNvSpPr/>
            <p:nvPr/>
          </p:nvSpPr>
          <p:spPr>
            <a:xfrm>
              <a:off x="1348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770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75564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19436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822320" y="17002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477160" y="229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422160" y="2944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882080" y="29448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755640" y="20826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313160" y="2137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44320" y="17049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29272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291636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19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3789360"/>
            <a:ext cx="453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dan valores iniciales a Q1, Q3 dado Q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estos valores no se cumplen las ecuaciones de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 H para la rama Q1,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n los caudales en iteración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verge cuando los caudales convergen (2do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2"/>
          <p:cNvGraphicFramePr/>
          <p:nvPr/>
        </p:nvGraphicFramePr>
        <p:xfrm>
          <a:off x="5724360" y="4508640"/>
          <a:ext cx="252108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25210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1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7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15"/>
          <p:cNvSpPr/>
          <p:nvPr/>
        </p:nvSpPr>
        <p:spPr>
          <a:xfrm>
            <a:off x="611280" y="1052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teración Método igualación de pr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16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1638360" cy="987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19"/>
          <p:cNvSpPr/>
          <p:nvPr/>
        </p:nvSpPr>
        <p:spPr>
          <a:xfrm>
            <a:off x="1116000" y="5300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2. Método Delta-est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1"/>
          <p:cNvGraphicFramePr/>
          <p:nvPr/>
        </p:nvGraphicFramePr>
        <p:xfrm>
          <a:off x="4524480" y="1628640"/>
          <a:ext cx="3027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4480" y="1628640"/>
                    <a:ext cx="3027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6"/>
          <p:cNvGrpSpPr/>
          <p:nvPr/>
        </p:nvGrpSpPr>
        <p:grpSpPr>
          <a:xfrm>
            <a:off x="1258920" y="2133720"/>
            <a:ext cx="2593800" cy="2455560"/>
            <a:chOff x="1258920" y="2133720"/>
            <a:chExt cx="2593800" cy="2455560"/>
          </a:xfrm>
        </p:grpSpPr>
        <p:sp>
          <p:nvSpPr>
            <p:cNvPr id="206" name="AutoShape 4"/>
            <p:cNvSpPr/>
            <p:nvPr/>
          </p:nvSpPr>
          <p:spPr>
            <a:xfrm>
              <a:off x="1476360" y="2133720"/>
              <a:ext cx="2160720" cy="18716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2556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1476000" y="3429000"/>
              <a:ext cx="1079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556000" y="342900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25892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276720" y="26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2411280" y="42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48436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183528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2771640" y="32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ardy Cross – sin vent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27640" y="2060640"/>
                <a:ext cx="142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3640" y="2997360"/>
                <a:ext cx="4321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  <m:r>
                          <m:t xml:space="preserve">δ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δQ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δ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1128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teraciones suces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Mét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050920" y="1916280"/>
                <a:ext cx="396108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Q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δ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Q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Control de flujo usando regu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flujos resultantes de circuitos sin regulación rara vez da lo que uno requiere entregar por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flujo controlado de aire se realiza por medio de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regulador es un orificio regulable que causa perdida por choque al provocar que el aire se contraiga y expanda cuando pasa a través d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étodo H-caminos para regular circ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989000"/>
            <a:ext cx="8064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 que la caida de presión de los caminos de aire tienen que ser ig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n los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alcula la caída de presión de cada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 el valor máximo de caída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gula el circuito hasta alcanzar para cada camino la caída de presión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de resistencia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 de Kirchh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sin flujo contro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con reguladores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n las caídas de presión reque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 el tamaño del orificio para causar la perdida por ch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tamaño de orificio en un regu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84360" y="3960720"/>
          <a:ext cx="249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60720"/>
                    <a:ext cx="249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876920" y="3211560"/>
          <a:ext cx="2752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1156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4952880" y="2125800"/>
          <a:ext cx="27338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125800"/>
                    <a:ext cx="273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826920" y="1916280"/>
          <a:ext cx="19447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916280"/>
                    <a:ext cx="19447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3"/>
          <p:cNvSpPr/>
          <p:nvPr/>
        </p:nvSpPr>
        <p:spPr>
          <a:xfrm>
            <a:off x="133200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68360" y="6093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mplos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900000" y="2781360"/>
            <a:ext cx="223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= área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= %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5076720" y="4437000"/>
          <a:ext cx="172872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437000"/>
                    <a:ext cx="172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de 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ircuito de ventilación consta de múltiples arreglos de galerías, ventiladores, reguladores, puer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lementos están interconectados para cumplir con los requerimientos de calidad y cantidad de aire requer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circ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60320" y="2192400"/>
          <a:ext cx="70167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2400"/>
                    <a:ext cx="70167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971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27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erminología en circuitos de ventilación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826920" y="1700280"/>
          <a:ext cx="26100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26100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7"/>
          <p:cNvSpPr/>
          <p:nvPr/>
        </p:nvSpPr>
        <p:spPr>
          <a:xfrm>
            <a:off x="4427640" y="2133720"/>
            <a:ext cx="4176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unto de intersección entre dos o ma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a linea que conecta dos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fo conectad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set de nodos con algunos nodos conectados por 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i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grafo con un tipo de fluj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rminología en circuitos de venti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nodo: el numero de ramas que tiene el 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: un grafo conectado en el que cada nodo tiene un grad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Árbol: un grafo conectado que tiene ramas que conectan todos los nodos pero que no crean ma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erda: una rama en el circuito pero no e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ásica: malla con solo una cuerda cuyo camino esta dado por la dirección del flujo que tiene la 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 Nm=Nb-Nn+1 mallas basicas en 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ase: conjunto que contiene todas la mallas básicas para u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circuito: numero de cu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circuit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826920" y="1484280"/>
          <a:ext cx="3529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3529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4500720" y="1773360"/>
          <a:ext cx="417492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73360"/>
                    <a:ext cx="417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8"/>
          <p:cNvSpPr/>
          <p:nvPr/>
        </p:nvSpPr>
        <p:spPr>
          <a:xfrm>
            <a:off x="684360" y="5734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 en clases: calcular Req y Q para cada 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Resolución de circuitos complejos de ventil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lgoritmo generalizado Hardy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940360" y="4149720"/>
                <a:ext cx="23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7"/>
          <p:cNvGraphicFramePr/>
          <p:nvPr/>
        </p:nvGraphicFramePr>
        <p:xfrm>
          <a:off x="3780000" y="1989000"/>
          <a:ext cx="4975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4975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10"/>
          <p:cNvSpPr/>
          <p:nvPr/>
        </p:nvSpPr>
        <p:spPr>
          <a:xfrm>
            <a:off x="684360" y="1844640"/>
            <a:ext cx="30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q ramas con caudal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f ramas co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b 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26920" y="3573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Se asignan valores iniciales a Qi para i=Nq+1…Nm (Nm=Nb-N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755640" y="407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Para j = Nm..Nb, se calculan valores de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3"/>
          <p:cNvGraphicFramePr/>
          <p:nvPr/>
        </p:nvGraphicFramePr>
        <p:xfrm>
          <a:off x="2268360" y="5025960"/>
          <a:ext cx="22323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25960"/>
                    <a:ext cx="223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900000" y="1700280"/>
                <a:ext cx="317052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/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Text Box 7"/>
          <p:cNvSpPr/>
          <p:nvPr/>
        </p:nvSpPr>
        <p:spPr>
          <a:xfrm>
            <a:off x="3059280" y="378936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&amp; dirección flujo = dirección flujo mall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60720" y="44370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no esta en malla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060720" y="491652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y dirección de flujo contrario a malla b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er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43000" y="2692440"/>
          <a:ext cx="26622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92440"/>
                    <a:ext cx="26622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486400" y="2192400"/>
          <a:ext cx="213192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192400"/>
                    <a:ext cx="2131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5106960" y="3484440"/>
          <a:ext cx="314640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3484440"/>
                    <a:ext cx="3146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68360" y="184464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Sea Nx el numero de ite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Para i=Nq+1,…,Nm se calculan fi, fi´, Xi y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3592440" y="2852640"/>
          <a:ext cx="3527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2852640"/>
                    <a:ext cx="3527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61128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ta e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en clases- Ejemplo Hardy 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57200" y="2394000"/>
          <a:ext cx="40384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8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4648320" y="230364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0364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572000" y="2276640"/>
          <a:ext cx="4038480" cy="28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76640"/>
                    <a:ext cx="403848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395280" y="213372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- caud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07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caídas de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360" y="2205000"/>
          <a:ext cx="4619520" cy="271296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155600"/>
                <a:gridCol w="11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u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-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97"/>
          <p:cNvSpPr/>
          <p:nvPr/>
        </p:nvSpPr>
        <p:spPr>
          <a:xfrm>
            <a:off x="971640" y="5445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99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= 46,9 m3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lgoritmo de H&amp;C puede ser utilizado en circuitos con cantidades fij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asignan las cantidades conocidas a las cuerdas del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árbol se elije con las ramas no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se elijen las mallas fundamentales , solo se ajustan aquellas que no contienen una rama fija, ya que no se pueden hacer cambios en una malla fundamental que contenga caudales f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úmero de ramas con caudal fijo esta limitado al numero de mallas fundamentales que existen en un circuito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no el sistema se resuelve con medios algebraicos, sin necesidad del algoritmo de H&amp;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 – Próximo L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ar el circuito anterior utilizando un ventilador principal extractor, cuya presión al circuito en función del caudal esta dada por la siguiente re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f= -0.22344Q2 – 10.545Q + 2986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audal en la rama (F-C) es igual a  10.000 cfm con la ayuda de un ventilador reforz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08240" y="1989000"/>
          <a:ext cx="27716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989000"/>
                    <a:ext cx="27716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7"/>
          <p:cNvGraphicFramePr/>
          <p:nvPr/>
        </p:nvGraphicFramePr>
        <p:xfrm>
          <a:off x="5638680" y="2463840"/>
          <a:ext cx="227340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63840"/>
                    <a:ext cx="22734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446120" y="4164120"/>
          <a:ext cx="628668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4164120"/>
                    <a:ext cx="6286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1476360" y="5445000"/>
          <a:ext cx="640872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45000"/>
                    <a:ext cx="64087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1989000"/>
          <a:ext cx="8209080" cy="32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692360" y="1628640"/>
          <a:ext cx="531504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31504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900000" y="4365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circuito en serie es aquel en que las galerías de ventilación  se pueden disponer una tras otra desde el principio a fin y el flujo Q es el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912960" y="1989000"/>
          <a:ext cx="594648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9000"/>
                    <a:ext cx="59464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2513160" y="3960720"/>
          <a:ext cx="30258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3960720"/>
                    <a:ext cx="3025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1979640" y="4505400"/>
          <a:ext cx="51861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505400"/>
                    <a:ext cx="518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0"/>
          <p:cNvSpPr/>
          <p:nvPr/>
        </p:nvSpPr>
        <p:spPr>
          <a:xfrm>
            <a:off x="111600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circuitos paralelos son los que bifurcan el flujo hacia otras gal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071720" y="4071960"/>
          <a:ext cx="728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071960"/>
                    <a:ext cx="728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1619280" y="1643040"/>
          <a:ext cx="3497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643040"/>
                    <a:ext cx="3497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1522440" y="2463840"/>
          <a:ext cx="1371600" cy="11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2463840"/>
                    <a:ext cx="1371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ircuitos en paralelo se usan en minas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ngresa aire fresco a los lugares de trabajo, es decir se evita re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sto de energía es menor para una cantidad de aire que un circuito en s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eso se trata de usar circuitos paralelos tan cerca del ventilador como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51:18Z</dcterms:created>
  <dc:creator>Gustavo Reyes B.</dc:creator>
  <dc:description/>
  <dc:language>en-US</dc:language>
  <cp:lastModifiedBy>Raúl</cp:lastModifiedBy>
  <dcterms:modified xsi:type="dcterms:W3CDTF">2009-11-06T19:06:51Z</dcterms:modified>
  <cp:revision>71</cp:revision>
  <dc:subject/>
  <dc:title>CIRCUITOS DE VENTILACION</dc:title>
</cp:coreProperties>
</file>