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1.png" ContentType="image/png"/>
  <Override PartName="/ppt/media/image34.wmf" ContentType="image/x-wmf"/>
  <Override PartName="/ppt/media/image38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27.png" ContentType="image/png"/>
  <Override PartName="/ppt/media/image33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B61C-700E-4086-BCD1-C12CF589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876B3-F853-4EFF-8C4A-B7602B11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F4A9-3C41-4A86-98BB-02B7B05A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0ADB-B5DC-462D-9431-EB5C87A2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692D-DFF1-42E6-AB6B-C647CC86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BFD3-25A3-45F5-9E36-E2D7E337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B29D-138A-4F0E-8E74-009A8B9B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F60D-D1F9-4847-9F2E-031451CC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CFE8-2D0E-484B-BFF8-624DD8CB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01F2-E05A-4653-9CF0-BAA97613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03D8-BF0A-40F0-B0A4-DD9718E6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1B47C-7D4E-4A5F-BA18-6B3FA48B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5209-C804-400F-B690-2B0CF80B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1F83-D855-48C9-9653-33E4C701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E6BD-C72F-4E80-AA69-B5DEE8C1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EF3D-4B15-4DC7-8870-29A2AB03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2B31-62A8-476E-B18A-AC6B814F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D2589-C2B7-4924-9D59-4B87BE5F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C73E8-59CD-4DE4-9890-CDCE1F5A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F3C4-DC31-41DD-AC70-D9915393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DAE4C-DA2B-4EE1-A1A5-15D37EBF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B98C8-FAA6-44CA-8EAE-A488A689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C2D3-80EA-4003-9457-3A6E9D68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42462-B9C4-4D75-99AA-BF49BE9D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FA40-EB58-4294-8059-5714DA29572E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8A5C-F0F5-4018-8C5E-C191161CBCC8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Circuitos de ventilació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652640"/>
            <a:ext cx="60199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MI57G Ventilación de m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Prof Raúl Cast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jemplo cal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1262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tienen 4 galerías de ventilación en paralelo con un total de 100,000 cfm (47.19 m3/s). Calcule la caída de presión y la cantidad de aire en cada una de las gale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2665440" y="3960720"/>
          <a:ext cx="3440160" cy="16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3960720"/>
                    <a:ext cx="344016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6"/>
          <p:cNvSpPr/>
          <p:nvPr/>
        </p:nvSpPr>
        <p:spPr>
          <a:xfrm>
            <a:off x="539640" y="6093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olver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Cantidad de aire por galería sin regul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2133720" y="3484440"/>
          <a:ext cx="419256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484440"/>
                    <a:ext cx="41925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6"/>
          <p:cNvGraphicFramePr/>
          <p:nvPr/>
        </p:nvGraphicFramePr>
        <p:xfrm>
          <a:off x="1903320" y="4505400"/>
          <a:ext cx="480240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3320" y="4505400"/>
                    <a:ext cx="48024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8"/>
          <p:cNvGraphicFramePr/>
          <p:nvPr/>
        </p:nvGraphicFramePr>
        <p:xfrm>
          <a:off x="2055960" y="2328840"/>
          <a:ext cx="4422600" cy="74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5960" y="2328840"/>
                    <a:ext cx="442260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Diag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003640" y="1197000"/>
            <a:ext cx="3781440" cy="24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Igualdad de depresiones de las corrientes principales entre los puntos de bifur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) Sentido de flujo en 2 es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6"/>
          <p:cNvGrpSpPr/>
          <p:nvPr/>
        </p:nvGrpSpPr>
        <p:grpSpPr>
          <a:xfrm>
            <a:off x="684360" y="2060640"/>
            <a:ext cx="4031640" cy="1612800"/>
            <a:chOff x="684360" y="2060640"/>
            <a:chExt cx="4031640" cy="1612800"/>
          </a:xfrm>
        </p:grpSpPr>
        <p:sp>
          <p:nvSpPr>
            <p:cNvPr id="165" name="Rectangle 4"/>
            <p:cNvSpPr/>
            <p:nvPr/>
          </p:nvSpPr>
          <p:spPr>
            <a:xfrm>
              <a:off x="1277640" y="238860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2699640" y="238860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684360" y="281916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7"/>
            <p:cNvSpPr/>
            <p:nvPr/>
          </p:nvSpPr>
          <p:spPr>
            <a:xfrm>
              <a:off x="4122720" y="281916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1751040" y="20606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2405520" y="265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0"/>
            <p:cNvSpPr/>
            <p:nvPr/>
          </p:nvSpPr>
          <p:spPr>
            <a:xfrm>
              <a:off x="3350520" y="330516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1810800" y="33051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684360" y="2442960"/>
              <a:ext cx="3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4241880" y="2497680"/>
              <a:ext cx="3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5"/>
            <p:cNvSpPr/>
            <p:nvPr/>
          </p:nvSpPr>
          <p:spPr>
            <a:xfrm>
              <a:off x="3172680" y="2065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17"/>
          <p:cNvSpPr/>
          <p:nvPr/>
        </p:nvSpPr>
        <p:spPr>
          <a:xfrm>
            <a:off x="755640" y="4365720"/>
            <a:ext cx="568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s con diagonales se resuelv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de igualación de depr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lta estr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rdy cross (circuitos complej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1. Método igualación de depre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16"/>
          <p:cNvGraphicFramePr/>
          <p:nvPr/>
        </p:nvGraphicFramePr>
        <p:xfrm>
          <a:off x="5651640" y="2208240"/>
          <a:ext cx="2368440" cy="20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208240"/>
                    <a:ext cx="236844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Group 4"/>
          <p:cNvGrpSpPr/>
          <p:nvPr/>
        </p:nvGrpSpPr>
        <p:grpSpPr>
          <a:xfrm>
            <a:off x="755640" y="1700280"/>
            <a:ext cx="4032000" cy="1612800"/>
            <a:chOff x="755640" y="1700280"/>
            <a:chExt cx="4032000" cy="1612800"/>
          </a:xfrm>
        </p:grpSpPr>
        <p:sp>
          <p:nvSpPr>
            <p:cNvPr id="181" name="Rectangle 5"/>
            <p:cNvSpPr/>
            <p:nvPr/>
          </p:nvSpPr>
          <p:spPr>
            <a:xfrm>
              <a:off x="1348920" y="202824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2770920" y="202824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755640" y="245880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194360" y="245880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1822320" y="17002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2477160" y="229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3422160" y="294480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1882080" y="294480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755640" y="20826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4313160" y="21373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244320" y="17049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8"/>
          <p:cNvSpPr/>
          <p:nvPr/>
        </p:nvSpPr>
        <p:spPr>
          <a:xfrm>
            <a:off x="529272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tiene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9"/>
          <p:cNvSpPr/>
          <p:nvPr/>
        </p:nvSpPr>
        <p:spPr>
          <a:xfrm flipV="1">
            <a:off x="2916360" y="227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1619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9640" y="3789360"/>
            <a:ext cx="4537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dan valores iniciales a Q1, Q3 dado Q en 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estos valores no se cumplen las ecuaciones de de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a H para la rama Q1, 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an los caudales en iteración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onverge cuando los caudales convergen (2do deci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22"/>
          <p:cNvGraphicFramePr/>
          <p:nvPr/>
        </p:nvGraphicFramePr>
        <p:xfrm>
          <a:off x="5724360" y="4508640"/>
          <a:ext cx="2521080" cy="17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508640"/>
                    <a:ext cx="252108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1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80360" cy="30272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15"/>
          <p:cNvSpPr/>
          <p:nvPr/>
        </p:nvSpPr>
        <p:spPr>
          <a:xfrm>
            <a:off x="611280" y="1052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teración Método igualación de pre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16" descr=""/>
          <p:cNvPicPr/>
          <p:nvPr/>
        </p:nvPicPr>
        <p:blipFill>
          <a:blip r:embed="rId2"/>
          <a:stretch/>
        </p:blipFill>
        <p:spPr>
          <a:xfrm>
            <a:off x="3564000" y="5229360"/>
            <a:ext cx="1638360" cy="9871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19"/>
          <p:cNvSpPr/>
          <p:nvPr/>
        </p:nvSpPr>
        <p:spPr>
          <a:xfrm>
            <a:off x="1116000" y="530064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ist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2. Método Delta-est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11"/>
          <p:cNvGraphicFramePr/>
          <p:nvPr/>
        </p:nvGraphicFramePr>
        <p:xfrm>
          <a:off x="4524480" y="1628640"/>
          <a:ext cx="30272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4480" y="1628640"/>
                    <a:ext cx="3027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" name="Group 16"/>
          <p:cNvGrpSpPr/>
          <p:nvPr/>
        </p:nvGrpSpPr>
        <p:grpSpPr>
          <a:xfrm>
            <a:off x="1258920" y="2133720"/>
            <a:ext cx="2593800" cy="2455560"/>
            <a:chOff x="1258920" y="2133720"/>
            <a:chExt cx="2593800" cy="2455560"/>
          </a:xfrm>
        </p:grpSpPr>
        <p:sp>
          <p:nvSpPr>
            <p:cNvPr id="206" name="AutoShape 4"/>
            <p:cNvSpPr/>
            <p:nvPr/>
          </p:nvSpPr>
          <p:spPr>
            <a:xfrm>
              <a:off x="1476360" y="2133720"/>
              <a:ext cx="2160720" cy="187164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"/>
            <p:cNvSpPr/>
            <p:nvPr/>
          </p:nvSpPr>
          <p:spPr>
            <a:xfrm>
              <a:off x="2556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 flipH="1">
              <a:off x="1476000" y="3429000"/>
              <a:ext cx="1079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2556000" y="3429000"/>
              <a:ext cx="1079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1258920" y="25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9"/>
            <p:cNvSpPr/>
            <p:nvPr/>
          </p:nvSpPr>
          <p:spPr>
            <a:xfrm>
              <a:off x="3276720" y="2637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0"/>
            <p:cNvSpPr/>
            <p:nvPr/>
          </p:nvSpPr>
          <p:spPr>
            <a:xfrm>
              <a:off x="2411280" y="42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3"/>
            <p:cNvSpPr/>
            <p:nvPr/>
          </p:nvSpPr>
          <p:spPr>
            <a:xfrm>
              <a:off x="2484360" y="27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4"/>
            <p:cNvSpPr/>
            <p:nvPr/>
          </p:nvSpPr>
          <p:spPr>
            <a:xfrm>
              <a:off x="1835280" y="328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2771640" y="321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2,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ardy Cross – sin ventil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4427640" y="2060640"/>
                <a:ext cx="1422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3203640" y="2997360"/>
                <a:ext cx="4321080" cy="23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δQ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δH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  <m:r>
                          <m:t xml:space="preserve">δ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δQ</m:t>
                        </m:r>
                      </m:e>
                      <m:e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δ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Text Box 8"/>
          <p:cNvSpPr/>
          <p:nvPr/>
        </p:nvSpPr>
        <p:spPr>
          <a:xfrm>
            <a:off x="611280" y="184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de iteraciones sucesiv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Método ite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2050920" y="1916280"/>
                <a:ext cx="396108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δH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H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H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Q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δQ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δ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H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Q</m:t>
                                    </m:r>
                                  </m:den>
                                </m:f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Q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Control de flujo usando regu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flujos resultantes de circuitos sin regulación rara vez da lo que uno requiere entregar por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flujo controlado de aire se realiza por medio de regul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 regulador es un orificio regulable que causa perdida por choque al provocar que el aire se contraiga y expanda cuando pasa a través de 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étodo H-caminos para regular circu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9640" y="1989000"/>
            <a:ext cx="8064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onsidera que la caida de presión de los caminos de aire tienen que ser igu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terminan los requer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alcula la caída de presión de cada ca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termina el valor máximo de caída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gula el circuito hasta alcanzar para cada camino la caída de presión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uación de resistencia en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yes de Kirchh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en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simples sin flujo contro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simples con reguladores de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compl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gul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alculan las caídas de presión requer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alcula el tamaño del orificio para causar la perdida por cho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lculo tamaño de orificio en un regul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684360" y="3960720"/>
          <a:ext cx="2490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960720"/>
                    <a:ext cx="2490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7"/>
          <p:cNvGraphicFramePr/>
          <p:nvPr/>
        </p:nvGraphicFramePr>
        <p:xfrm>
          <a:off x="4876920" y="3211560"/>
          <a:ext cx="275256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211560"/>
                    <a:ext cx="2752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9"/>
          <p:cNvGraphicFramePr/>
          <p:nvPr/>
        </p:nvGraphicFramePr>
        <p:xfrm>
          <a:off x="4952880" y="2125800"/>
          <a:ext cx="2733840" cy="83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2125800"/>
                    <a:ext cx="27338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1"/>
          <p:cNvGraphicFramePr/>
          <p:nvPr/>
        </p:nvGraphicFramePr>
        <p:xfrm>
          <a:off x="826920" y="1916280"/>
          <a:ext cx="1944720" cy="94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1916280"/>
                    <a:ext cx="194472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3"/>
          <p:cNvSpPr/>
          <p:nvPr/>
        </p:nvSpPr>
        <p:spPr>
          <a:xfrm>
            <a:off x="1332000" y="5445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Z =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468360" y="6093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mplos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900000" y="2781360"/>
            <a:ext cx="22320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= área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= % á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6"/>
          <p:cNvGraphicFramePr/>
          <p:nvPr/>
        </p:nvGraphicFramePr>
        <p:xfrm>
          <a:off x="5076720" y="4437000"/>
          <a:ext cx="1728720" cy="96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4437000"/>
                    <a:ext cx="1728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de venti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circuito de ventilación consta de múltiples arreglos de galerías, ventiladores, reguladores, puer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s elementos están interconectados para cumplir con los requerimientos de calidad y cantidad de aire requer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circu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760320" y="2192400"/>
          <a:ext cx="7016760" cy="27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2192400"/>
                    <a:ext cx="701676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Text Box 7"/>
          <p:cNvSpPr/>
          <p:nvPr/>
        </p:nvSpPr>
        <p:spPr>
          <a:xfrm>
            <a:off x="971640" y="5300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rcuito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427640" y="5300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rcuitos compl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Terminología en circuitos de ventilación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826920" y="1700280"/>
          <a:ext cx="261000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0280"/>
                    <a:ext cx="261000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 Box 7"/>
          <p:cNvSpPr/>
          <p:nvPr/>
        </p:nvSpPr>
        <p:spPr>
          <a:xfrm>
            <a:off x="4427640" y="2133720"/>
            <a:ext cx="4176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unto de intersección entre dos o mas se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a linea que conecta dos n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fo conectad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 set de nodos con algunos nodos conectados por 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rcui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 grafo con un tipo de flujo aso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rminología en circuitos de venti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ado de un nodo: el numero de ramas que tiene el n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: un grafo conectado en el que cada nodo tiene un grad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Árbol: un grafo conectado que tiene ramas que conectan todos los nodos pero que no crean mal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erda: una rama en el circuito pero no en ár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 básica: malla con solo una cuerda cuyo camino esta dado por la dirección del flujo que tiene la cue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xisten Nm=Nb-Nn+1 mallas basicas en circu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 base: conjunto que contiene todas la mallas básicas para un ár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ado de un circuito: numero de cuer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de circuito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826920" y="1484280"/>
          <a:ext cx="35290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84280"/>
                    <a:ext cx="35290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4500720" y="1773360"/>
          <a:ext cx="4174920" cy="34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773360"/>
                    <a:ext cx="417492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8"/>
          <p:cNvSpPr/>
          <p:nvPr/>
        </p:nvSpPr>
        <p:spPr>
          <a:xfrm>
            <a:off x="684360" y="5734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 en clases: calcular Req y Q para cada r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Resolución de circuitos complejos de ventilació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Algoritmo generalizado Hardy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940360" y="4149720"/>
                <a:ext cx="2374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265" name="Object 7"/>
          <p:cNvGraphicFramePr/>
          <p:nvPr/>
        </p:nvGraphicFramePr>
        <p:xfrm>
          <a:off x="3780000" y="1989000"/>
          <a:ext cx="497520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49752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10"/>
          <p:cNvSpPr/>
          <p:nvPr/>
        </p:nvSpPr>
        <p:spPr>
          <a:xfrm>
            <a:off x="684360" y="1844640"/>
            <a:ext cx="302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q ramas con caudal f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f ramas con vent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b r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826920" y="357336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Se asignan valores iniciales a Qi para i=Nq+1…Nm (Nm=Nb-Nn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755640" y="4076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) Para j = Nm..Nb, se calculan valores de Q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13"/>
          <p:cNvGraphicFramePr/>
          <p:nvPr/>
        </p:nvGraphicFramePr>
        <p:xfrm>
          <a:off x="2268360" y="5025960"/>
          <a:ext cx="223236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5025960"/>
                    <a:ext cx="22323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riz fundam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900000" y="1700280"/>
                <a:ext cx="317052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,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/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Text Box 7"/>
          <p:cNvSpPr/>
          <p:nvPr/>
        </p:nvSpPr>
        <p:spPr>
          <a:xfrm>
            <a:off x="3059280" y="3789360"/>
            <a:ext cx="43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esta en malla k &amp; dirección flujo = dirección flujo malla bás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60720" y="4437000"/>
            <a:ext cx="43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no esta en malla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3060720" y="4916520"/>
            <a:ext cx="43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esta en malla k y dirección de flujo contrario a malla bá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era Ley de Kirchh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1143000" y="2692440"/>
          <a:ext cx="266220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92440"/>
                    <a:ext cx="266220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5486400" y="2192400"/>
          <a:ext cx="213192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192400"/>
                    <a:ext cx="21319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8"/>
          <p:cNvGraphicFramePr/>
          <p:nvPr/>
        </p:nvGraphicFramePr>
        <p:xfrm>
          <a:off x="5106960" y="3484440"/>
          <a:ext cx="3146400" cy="59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6960" y="3484440"/>
                    <a:ext cx="314640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468360" y="1844640"/>
            <a:ext cx="770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) Sea Nx el numero de iter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) Para i=Nq+1,…,Nm se calculan fi, fi´, Xi y Q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3592440" y="2852640"/>
          <a:ext cx="352764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2440" y="2852640"/>
                    <a:ext cx="352764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8"/>
          <p:cNvSpPr/>
          <p:nvPr/>
        </p:nvSpPr>
        <p:spPr>
          <a:xfrm>
            <a:off x="611280" y="364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sta en vent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rcicio en clases- Ejemplo Hardy Cr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457200" y="2394000"/>
          <a:ext cx="403848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94000"/>
                    <a:ext cx="40384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6"/>
          <p:cNvGraphicFramePr/>
          <p:nvPr/>
        </p:nvGraphicFramePr>
        <p:xfrm>
          <a:off x="4648320" y="2303640"/>
          <a:ext cx="4038480" cy="32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303640"/>
                    <a:ext cx="403848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de ma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4"/>
          <p:cNvGraphicFramePr/>
          <p:nvPr/>
        </p:nvGraphicFramePr>
        <p:xfrm>
          <a:off x="4572000" y="2276640"/>
          <a:ext cx="4038480" cy="28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76640"/>
                    <a:ext cx="4038480" cy="28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6"/>
          <p:cNvGraphicFramePr/>
          <p:nvPr/>
        </p:nvGraphicFramePr>
        <p:xfrm>
          <a:off x="395280" y="2133720"/>
          <a:ext cx="4038480" cy="32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133720"/>
                    <a:ext cx="403848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- caud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10720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caídas de pr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360" y="2205000"/>
          <a:ext cx="4619520" cy="2712960"/>
        </p:xfrm>
        <a:graphic>
          <a:graphicData uri="http://schemas.openxmlformats.org/drawingml/2006/table">
            <a:tbl>
              <a:tblPr/>
              <a:tblGrid>
                <a:gridCol w="1155600"/>
                <a:gridCol w="1154160"/>
                <a:gridCol w="1155600"/>
                <a:gridCol w="11541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s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ud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-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9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-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-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-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-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Text Box 97"/>
          <p:cNvSpPr/>
          <p:nvPr/>
        </p:nvSpPr>
        <p:spPr>
          <a:xfrm>
            <a:off x="971640" y="544500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= 1990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= 46,9 m3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ser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lgoritmo de H&amp;C puede ser utilizado en circuitos con cantidades fija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asignan las cantidades conocidas a las cuerdas del circu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árbol se elije con las ramas no fi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se elijen las mallas fundamentales , solo se ajustan aquellas que no contienen una rama fija, ya que no se pueden hacer cambios en una malla fundamental que contenga caudales fi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úmero de ramas con caudal fijo esta limitado al numero de mallas fundamentales que existen en un circuito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i no el sistema se resuelve con medios algebraicos, sin necesidad del algoritmo de H&amp;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rcicio – Próximo Lu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lcular el circuito anterior utilizando un ventilador principal extractor, cuya presión al circuito en función del caudal esta dada por la siguiente rel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f= -0.22344Q2 – 10.545Q + 2986 (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audal en la rama (F-C) es igual a  10.000 cfm con la ayuda de un ventilador reforz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gunda ley de Kirchh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2208240" y="1989000"/>
          <a:ext cx="27716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989000"/>
                    <a:ext cx="27716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7"/>
          <p:cNvGraphicFramePr/>
          <p:nvPr/>
        </p:nvGraphicFramePr>
        <p:xfrm>
          <a:off x="5638680" y="2463840"/>
          <a:ext cx="227340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463840"/>
                    <a:ext cx="227340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0"/>
          <p:cNvGraphicFramePr/>
          <p:nvPr/>
        </p:nvGraphicFramePr>
        <p:xfrm>
          <a:off x="1446120" y="4164120"/>
          <a:ext cx="6286680" cy="9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6120" y="4164120"/>
                    <a:ext cx="628668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3"/>
          <p:cNvGraphicFramePr/>
          <p:nvPr/>
        </p:nvGraphicFramePr>
        <p:xfrm>
          <a:off x="1476360" y="5445000"/>
          <a:ext cx="6408720" cy="67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5445000"/>
                    <a:ext cx="64087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m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468360" y="1989000"/>
          <a:ext cx="8209080" cy="32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8209080" cy="32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692360" y="1628640"/>
          <a:ext cx="531504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531504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6"/>
          <p:cNvSpPr/>
          <p:nvPr/>
        </p:nvSpPr>
        <p:spPr>
          <a:xfrm>
            <a:off x="900000" y="436572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circuito en serie es aquel en que las galerías de ventilación  se pueden disponer una tras otra desde el principio a fin y el flujo Q es el m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912960" y="1989000"/>
          <a:ext cx="5946480" cy="14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989000"/>
                    <a:ext cx="594648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6"/>
          <p:cNvGraphicFramePr/>
          <p:nvPr/>
        </p:nvGraphicFramePr>
        <p:xfrm>
          <a:off x="2513160" y="3960720"/>
          <a:ext cx="302580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3960720"/>
                    <a:ext cx="302580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8"/>
          <p:cNvGraphicFramePr/>
          <p:nvPr/>
        </p:nvGraphicFramePr>
        <p:xfrm>
          <a:off x="1979640" y="4505400"/>
          <a:ext cx="518616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4505400"/>
                    <a:ext cx="51861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10"/>
          <p:cNvSpPr/>
          <p:nvPr/>
        </p:nvSpPr>
        <p:spPr>
          <a:xfrm>
            <a:off x="1116000" y="5516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circuitos paralelos son los que bifurcan el flujo hacia otras gal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7"/>
          <p:cNvGraphicFramePr/>
          <p:nvPr/>
        </p:nvGraphicFramePr>
        <p:xfrm>
          <a:off x="1071720" y="4071960"/>
          <a:ext cx="72864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4071960"/>
                    <a:ext cx="72864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"/>
          <p:cNvGraphicFramePr/>
          <p:nvPr/>
        </p:nvGraphicFramePr>
        <p:xfrm>
          <a:off x="1619280" y="1643040"/>
          <a:ext cx="349740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643040"/>
                    <a:ext cx="34974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3"/>
          <p:cNvGraphicFramePr/>
          <p:nvPr/>
        </p:nvGraphicFramePr>
        <p:xfrm>
          <a:off x="1522440" y="2463840"/>
          <a:ext cx="1371600" cy="114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440" y="2463840"/>
                    <a:ext cx="137160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parale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circuitos en paralelo se usan en minas p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ingresa aire fresco a los lugares de trabajo, es decir se evita recirc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osto de energía es menor para una cantidad de aire que un circuito en ser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r eso se trata de usar circuitos paralelos tan cerca del ventilador como sea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2:51:18Z</dcterms:created>
  <dc:creator>Gustavo Reyes B.</dc:creator>
  <dc:description/>
  <dc:language>en-US</dc:language>
  <cp:lastModifiedBy>Raúl</cp:lastModifiedBy>
  <dcterms:modified xsi:type="dcterms:W3CDTF">2009-11-06T19:06:51Z</dcterms:modified>
  <cp:revision>71</cp:revision>
  <dc:subject/>
  <dc:title>CIRCUITOS DE VENTILACION</dc:title>
</cp:coreProperties>
</file>