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drumroll.wav" ContentType="audio/x-wav"/>
  <Override PartName="/ppt/media/image1.png" ContentType="image/png"/>
  <Override PartName="/ppt/media/image2.png" ContentType="image/png"/>
  <Override PartName="/ppt/media/whoosh.wav" ContentType="audio/x-wav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85B4-B0C8-4095-A74F-87B66923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13E2-00EF-48BC-9AAF-1D03E124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EDC9-B8E0-4D16-88E9-94C92780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C54-9C48-46C4-8014-D2637FAB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6762-4363-4749-A582-2C6AC0A7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9F30-66B8-4D8D-B434-E2E8C7AE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8151-08CC-4F49-BDB1-30C5044F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5476-F893-4DFE-BB36-12707EAF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D43E-619F-4C79-91A9-EE06EA96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9892-0D7B-4D34-ACF7-43820390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234B-281B-4F97-A31F-47611E13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40D-A3B5-4891-AEB8-DA685286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A27E-E435-404F-B6F9-E9A28023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B154-F1E6-489A-9ECE-2C14861F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EFC7-D2E6-4513-8D13-7B63A945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ACD0-B137-45AB-818B-2A91E1FE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E695-09EF-437F-AE6E-76147ADD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55E35-AD4C-4D95-9B0F-E4014F6E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12EB8-D386-492C-8350-F807BC13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84DDA-D96D-477B-8589-853ADE45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4FE0A-BA25-4446-B73C-FF16C922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66213-287C-4BEE-9DE9-DD848691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CC7-F212-47F2-B53B-0553FD53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8D568-87FF-4F82-A7F2-C5696276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4F1522-E555-4F37-ADD6-B838F351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C1EFD-79CE-472E-8A7E-4751ACFF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F0D16-F7DD-455A-AF7A-ACDBCE5C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C618C-7CD4-409E-B443-EEF01600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CCACC-AE91-4CC5-ADA7-42CFEEDD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11A76-83C9-49C0-8902-5D18BE1C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12BC6-712D-4DCD-A2C6-96684BA9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50E3B-122F-4C29-8DAE-B9752CDF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3DBCB-0C7B-47D6-979E-03DB6909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326-D97F-44D9-90ED-D058ABD0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EE609-DCB8-4D4D-9AD7-437E987C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C1485-89E4-4CA8-9C62-7764C853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80065-53CC-448E-A4F8-C32B3E77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31C2A-B5FB-4F1E-9504-B7CD13E8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89E2E-2995-469D-B12E-D3A4126E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7A8B7-3CE2-4820-8FF4-CDAB38FF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24B4E-6765-4DC7-BDE2-7C50B826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453A2-E197-4A06-84CF-A394D973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25408-13B0-4A25-A730-ED8CD871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967084-7547-44B8-85CD-C2B1DB54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DD5-1617-4B9F-B50E-5338DB32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B57904-22BB-4994-8200-9FA4E5BA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63237-61B2-4D11-954B-4BA37B17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30EC86-CD30-41C3-AF3D-E2278805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6952DC-C19E-4383-AAD7-F40EDC31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96100-FAE8-488A-B0A7-C996CC96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E4729-2203-468D-80AA-831E8334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B50656-B58D-4DE4-B44F-9720F79C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F5FD5-82CA-4D32-81F4-D86452FF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125E98-9534-4FA9-9458-5A730958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E61A82-54F0-46BB-8502-DFBC4282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A680-CEBC-4EC7-ADBF-720A62C4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E5DD77-1D68-48C9-A4FE-6D88B411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29812B-F42F-48C4-9279-AF0741BC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F29FD3-4F1A-4AB1-A34B-FCC6D4A3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B7F3C-87E3-4AFF-AC14-1387FF33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A50941-09C6-48CB-9C4D-BDC26A20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953B72-B846-48E4-9025-B97E5961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BCDF44-A959-4C39-8EC1-95ADF30C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1EC3B6-265F-479E-93CE-44A12CC9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CB2ACB-6B58-4767-AE30-A71A04AD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0F0A88-3D79-471E-AFFA-4CA743F5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96AF-BA5D-4124-8E78-5340FE36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0BD756-4372-4EA5-882B-E94EC326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545003-861E-4717-A9B6-BFA10E43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568309-1900-4193-98C1-C8F7C8C6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3BD629-47AF-486E-B6D2-1C3D8810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E8BFCC-0893-4A8A-B83A-69B9C7DB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B68C22-2C5F-490E-BF4B-9AF8E784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BFA32E-0BA6-4F69-8136-F9F6810C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0C3AE2-9D99-41FD-990A-41BEF951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40F4B4-F285-46B2-989E-AA6F6C6C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E7B7FE-C41E-4980-A57A-7CF35FB3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85F-37D6-464E-B008-D79D1359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CDC6B3-65EB-4CF2-A11D-5621614E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128164-5E68-45A9-B274-3A9CCB2C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A675CA-CB12-45C7-9B3A-2C7F2DC5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EB372D-3A66-4A4F-9DC2-1F6521A3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9401A9-ACF5-483B-B737-2115CF72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CF96-B7A1-482D-BCB8-742FFDE1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F1BE-8B32-480E-BF34-07BFB516A8D3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552B-F0A3-4EC8-9405-947AE2CDACE6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187F-2F7B-4226-8238-7944AAD0CF0A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9F7B-AABD-473D-80B8-81426458C784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043E-F4D1-4BD6-9CF4-34C25C45B40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6139-0065-4062-B95A-F13F35036999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B4C9-69B1-4C16-9B77-AB68587F00E8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AUXILIAR 1: MANEJO DE MINERALES Y VENTILACIÓN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entury Schoolbook"/>
              </a:rPr>
              <a:t>Auxiliares: </a:t>
            </a:r>
            <a:r>
              <a:rPr b="1" lang="es-CL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1800" spc="-1" strike="noStrike">
                <a:solidFill>
                  <a:srgbClr val="575f6d"/>
                </a:solidFill>
                <a:latin typeface="Century Schoolbook"/>
              </a:rPr>
              <a:t>Miguel Angel Fuenzalid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1800" spc="-1" strike="noStrike">
                <a:solidFill>
                  <a:srgbClr val="575f6d"/>
                </a:solidFill>
                <a:latin typeface="Century Schoolbook"/>
              </a:rPr>
              <a:t>Eduardo Vier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l"/>
    <p:sndAc>
      <p:stSnd>
        <p:snd r:embed="rId1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CTIVIDADES A REALIZA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area 1: SL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area 2 : Block Cav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royecto de Simulación: Utilización de softwares Promodel y VnetP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troles de Lecturas de Pap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AREA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entury Schoolbook"/>
              </a:rPr>
              <a:t>Diseño Sublevel Stopi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AREA 1 MI57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empresa de exploración Gexp S.A ha dado información sobre dos cuerpos mineralizados, un cuerpo mineralizado subvertical y un pórfido cuprífer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gún la normativa de la región donde se encontró el cuerpo subvertical, no es posible generar subsidenci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el pórfido cuprífero existe un glaciar milenario que no se debe alter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AREA 1 MI57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57200" y="1739880"/>
            <a:ext cx="822960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AREA 1 MI57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457200" y="2093760"/>
            <a:ext cx="7467480" cy="3886200"/>
          </a:xfrm>
          <a:prstGeom prst="rect">
            <a:avLst/>
          </a:prstGeom>
          <a:ln w="0">
            <a:noFill/>
          </a:ln>
        </p:spPr>
      </p:pic>
      <p:sp>
        <p:nvSpPr>
          <p:cNvPr id="363" name="3 CuadroTexto"/>
          <p:cNvSpPr/>
          <p:nvPr/>
        </p:nvSpPr>
        <p:spPr>
          <a:xfrm>
            <a:off x="5786280" y="58579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Corrida: 150 m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AREA 1 MI57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ide determinar el método de explotación más adecuado para los dos casos expuest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especificar los accesos, el sistema manejo de minerales y de ventil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dicar el índice de preparación y la recuperación asociada al métod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ficar supuest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echa de Entrega: 17 de Agost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horz"/>
    <p:sndAc>
      <p:stSnd>
        <p:snd r:embed="rId1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3:50:50Z</dcterms:created>
  <dc:creator>Viera</dc:creator>
  <dc:description/>
  <dc:language>en-US</dc:language>
  <cp:lastModifiedBy>mifuenza</cp:lastModifiedBy>
  <dcterms:modified xsi:type="dcterms:W3CDTF">2009-08-07T17:37:26Z</dcterms:modified>
  <cp:revision>12</cp:revision>
  <dc:subject/>
  <dc:title>Tarea 1</dc:title>
</cp:coreProperties>
</file>