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drumroll.wav" ContentType="audio/x-wav"/>
  <Override PartName="/ppt/media/image1.png" ContentType="image/png"/>
  <Override PartName="/ppt/media/image2.png" ContentType="image/png"/>
  <Override PartName="/ppt/media/whoosh.wav" ContentType="audio/x-wav"/>
  <Override PartName="/ppt/media/explod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EF65-D90A-46FF-89CA-490432AFC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B44-3C41-44DC-9472-36003155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CFAF-C238-4984-B497-AF88B224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89F-6E9A-4E36-8AA9-178EA5E9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30A5-E225-4EC9-9619-E66EBAB8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365-0769-4D86-98C8-134C9CEE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3B72-58C8-4215-AD09-9B82BE2C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8742-34FE-4352-A0E0-D63CAFC4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B2FB-9FA0-4B60-AA43-15F41549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A4CC-6D4A-4919-A1B1-F4424627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05FA-A36C-4171-859D-942B1290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93D0-952D-48F7-98D4-B3025224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153B-C27B-449D-9183-1165012E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F222-DDF5-409C-91F1-0BFE03F6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6532-60C8-4B45-930A-8DCA6B2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8A12-8175-4077-9ADC-DF4C2AC2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CD1A-D473-44F6-A4C0-D5062261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37973E-B47E-4CB8-AA93-CD31C075A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12FD57-2702-48EB-98AD-6A23AAE9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2E31FC-7092-458E-B37E-AD80D808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C3F6A5-54AC-44DA-9D80-30BFCACE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4A9D5-6F34-4AC7-8493-BF0E6EC97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A3AB-CF56-4F4F-B34B-845EAA0C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B2D35-CE18-4C23-9D16-40F8D07A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2DA2E-96B9-4642-B1DF-84A1FF9C2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4C65A-17FC-4B3B-9E0D-24776A49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0B33B-E360-40D7-9C6A-67BB6739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2AF26-23FF-4434-90BA-3D57F3FFA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D9E3A-3868-4257-93D1-6B51CBA1C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B6835-8222-4B2B-B546-34CEAEE0E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E68ED-D619-4888-9DBD-8A8B1A609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1CF72-508F-41F9-8353-F04672B1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7B35-38F7-4A54-B8B3-D7F8631E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E56-75DF-4C0F-8FB7-CB2A32D2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7EEE8-14F4-4421-A66D-6F4580BD8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DED63-750D-4E58-A384-14DCAC98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38475-397D-4546-BF24-A4D5511D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8DF2A-96BA-4136-A6D1-282B7511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8621E-FB5B-4102-8BD4-4D9B9A65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8CBE8-F266-4328-A244-1592E83B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16FDC-B62B-4F8C-9555-307F596E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16B99-539F-41F0-AA50-76EE54B73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FBF70-023C-405B-9793-7630BFA6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7E6963-AA76-412C-8BE6-62889619A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A46F-1E86-42FE-A25D-AA2CE430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DEC75A-D711-4160-BBDA-BE36A78B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0D496-D580-46DD-88D3-C71BDBB9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6B8AA2-4EA2-4F0B-A824-EE185E41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E826E7-FF6A-4E4D-A2A6-26E95BD3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3797C-2DB4-4276-9641-CDA426D2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BEB038-CC75-4124-ADA6-15C781AD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BA56DF-AE2E-470D-B417-8D5115988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2596E-AC23-4AE0-830B-7BC03EE5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E92B88-69F9-4B2B-BD5E-9E45404B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0FFD1-CF7C-4E15-A45D-165EB7AF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0E2E-82C3-4AE6-961F-44627097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D18A1-D743-4477-AB10-3C00B25E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CFA83-4AEA-43F0-86CE-27A0CB08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9C8175-91C1-401B-8095-7D2C5450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CA73D-68F7-42C2-93CC-3E58709D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473844-FE5C-465C-B17E-03DC08A0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0D324-11C3-41EE-A9D7-C73D96D1B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6CB9CD-2056-474D-B849-6C6F1CBA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08E090-8141-49A8-A6E4-35C1B75F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EDB015-005D-4BBF-8815-6C5272E1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D1DCCC-6C9D-4399-82DA-18C1C9FA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059-847A-4968-8EEC-EDEA866F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ED85D-DE5D-4766-9C2E-D11139CC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9F1C5B-75E0-4EDF-B4D7-AC9C3D11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C89DE-3352-4368-8DED-716F7B624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328FF0-3775-4879-9D4A-087C1130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B9094-9CB6-412C-A13C-93004AC8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8BCF9-237A-402C-BDFD-F00FA055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07F24-A9D7-4FAF-8667-4C07888D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B366AF-248A-4AA8-8764-6618CC31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92BCAC-3095-4FAC-BB06-1CB5560B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DC3EC8-83B6-4D1A-94E8-D90F7280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6037-E78B-4527-898E-8DB775B1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17FAB7-5E17-4DBF-8886-FF4ED87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633298-AAE3-4E3F-884E-AC143249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6DC62E-95F3-405F-9367-E2425F74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8B9C2-9806-4D73-9AE8-1AE1CD9BB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5CFFF6-5CBA-4BDD-8486-5BD37A95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75FB-4412-48B5-B96A-119A39BE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753E-1347-4A9C-92E5-E9322B12F5C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26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27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28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29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30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31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32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E5E3-8F68-47B7-A861-7BE12C646948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E7DE-010C-4B8A-B080-BAF9AFAE459B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4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16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17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18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19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20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23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24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25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28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30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31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32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E3DA-0468-4893-B0FA-FF1376C822D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D4BF-5AED-4E37-AFE0-0B4141FB084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16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17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1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1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2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23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CEC7-EDBF-4572-8FF8-5E8AF3ED16A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4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16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20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23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C312-A1A9-42F3-B5F8-4BCC466B43F1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AUXILIAR 1: MANEJO DE MINERALES Y VENTILACIÓN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Auxiliares: 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Miguel Angel Fuenzalid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Eduardo Vier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ipe dir="l"/>
    <p:sndAc>
      <p:stSnd>
        <p:snd r:embed="rId1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CTIVIDADES A REALIZA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area 1: SL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area 2 : Block Cav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royecto de Simulación: Utilización de softwares Promodel y VnetPC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troles de Lecturas de Pap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AREA 1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entury Schoolbook"/>
              </a:rPr>
              <a:t>Diseño Sublevel Stopin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empresa de exploración Gexp S.A ha dado información sobre dos cuerpos mineralizados, un cuerpo mineralizado subvertical y un pórfido cuprífer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gún la normativa de la región donde se encontró el cuerpo subvertical, no es posible generar subsidenci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el pórfido cuprífero existe un glaciar milenario que no se debe alter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57200" y="1739880"/>
            <a:ext cx="822960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457200" y="2093760"/>
            <a:ext cx="7467480" cy="3886200"/>
          </a:xfrm>
          <a:prstGeom prst="rect">
            <a:avLst/>
          </a:prstGeom>
          <a:ln w="0">
            <a:noFill/>
          </a:ln>
        </p:spPr>
      </p:pic>
      <p:sp>
        <p:nvSpPr>
          <p:cNvPr id="363" name="3 CuadroTexto"/>
          <p:cNvSpPr/>
          <p:nvPr/>
        </p:nvSpPr>
        <p:spPr>
          <a:xfrm>
            <a:off x="5786280" y="5857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Schoolbook"/>
              </a:rPr>
              <a:t>Corrida: 150 m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AREA 1 MI57G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ide determinar el método de explotación más adecuado para los dos casos expuest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especificar los accesos, el sistema manejo de minerales y de ventil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dicar el índice de preparación y la recuperación asociada al métod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ficar supuesto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echa de Entrega: 17 de Agost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in" orient="horz"/>
    <p:sndAc>
      <p:stSnd>
        <p:snd r:embed="rId1" name="whoosh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03:50:50Z</dcterms:created>
  <dc:creator>Viera</dc:creator>
  <dc:description/>
  <dc:language>en-US</dc:language>
  <cp:lastModifiedBy>mifuenza</cp:lastModifiedBy>
  <dcterms:modified xsi:type="dcterms:W3CDTF">2009-08-07T17:37:26Z</dcterms:modified>
  <cp:revision>12</cp:revision>
  <dc:subject/>
  <dc:title>Tarea 1</dc:title>
</cp:coreProperties>
</file>