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drumroll.wav" ContentType="audio/x-wav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6FB-875A-48E3-AC27-B5D51C50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AC7-D32C-4101-BB46-FC7224D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90E-804D-4BB5-BD16-158D78BA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ABA-81FF-453C-80A3-D2FCEEC1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D678-98D6-4665-BA38-35546139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42C6-2536-41B5-AA79-94153DDA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0C8-629D-4E85-ABE8-44006B2C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B4F5-AC4C-48FE-BD30-1F4855F0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D9C0-F7A4-4D5E-85E1-F5669F47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3CF-0CBD-4F7F-864E-4FB2B4C9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2FD2-15FD-43BD-A84B-C70EF727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45D-AFEE-4E24-9911-BEDCCB21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DDDA-FEFA-4781-937B-A34C68D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2530-9D06-46D2-9CAF-C7F50A9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FBC-72A4-47B4-8876-5F349C34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CC5A-F735-4B21-BC04-3821534A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BDCF-B230-41EA-A410-850C093F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ADF86-19C4-4BE0-BA1A-31D5CDDF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20538-B625-4AA8-8BC0-0BCAE82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B88BC-2C5C-463C-973C-EB654904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7B50D-5217-4B88-AD76-8E2D4D73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93520-F224-4CC6-91EA-9896E3AB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1E8-3C89-4966-9001-880FCEE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7DC88-96DC-4E11-A220-2A418787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0715F-AF13-4148-9A6A-44B6FC0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77EE3-AC75-43C1-B8DD-2963A76C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E47E3-0C8D-45E2-B4D4-10B31C0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B3D35-CBF1-4AE8-B9F3-416B0142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B202B-4B16-4236-B043-AB61ABB2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A71DB-3688-4F78-9A36-F2120A3A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4A64-BCF3-4631-BDDA-6D9A54C1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D474-0883-4D33-A322-8EA7701F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084E-2D3A-40EB-B1D9-475C1A3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E67-3314-497A-B431-8C56D5C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E8D5-8641-4076-BE4B-3BB91D0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28C9-C223-48B3-A6E7-9F767E4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FA5D-01E2-4F1F-AD18-EEADFD2A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C3DE-43A9-4C26-AF7D-79F6DA7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A800-0B03-49D1-810B-3F9A843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128B-05D2-482B-B591-58AC6A0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F3FB-4F33-4DBF-B0E4-70EC3838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779F2-E49E-4393-A65D-F0734FF2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1F6E-215D-4B75-B49F-5BF1F4A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9EEA4-F44B-4470-95BF-9831DAAF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AA5-B218-412F-AF2E-8625333B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29C87-48C7-4071-91C3-297D74C6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35AA0-C628-4AEF-8CC6-57841D5A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9102B-7706-4567-AF98-B47712F8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7D7A3-E77E-499D-922D-86FC3FF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D2E66-275A-43A0-8CFB-34BE453C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29C0C-5A14-4A68-B8D0-1358E26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23B93-0AC4-4223-A2CC-11CDB8A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4CFD4-A1D4-4D79-8712-5A20C6D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2A9C8-9E11-4317-9507-A827E32A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96E2C-8511-40C0-9CED-B4A32F0D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FF5-49E7-4552-A465-979C9CD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56F5D-68CC-4E05-8D59-94BDE3F0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BE9F3-EB0B-4A62-98D5-2CBE2422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432C8-4B9D-4C07-83FE-707E827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15BA9-5802-4372-B770-0EB6B25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05FBC-4A16-4470-97BE-71ECBDCE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EE5EF-DF9E-45C4-B6EB-CB39751C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37969-D5B9-4600-92CB-AAB0339A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417A7-AA23-4D11-98C4-943A55E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0B8A6-FFBB-4663-AD0E-10E7A70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0F319-BE3C-4D62-9C1D-1E8E3BB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26D-7221-43BC-8702-25B5EFB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4ACA0-4641-489B-9211-D42EB24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2C8D2-30A7-4E6F-868A-CCA29AA4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3B60D-6938-4744-A39F-14F99229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A8F7F-D1DB-4039-AD70-07DA41E1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88738-190F-4A07-9B0A-31D65664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7D23B-A381-4BD3-B85F-C883C3F0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695A0-65C4-47E8-9514-193A57A1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6D520-2EC3-4041-97A1-0BABD4AB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9FC73-75EF-47C5-B20A-EF3AE1EA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004EC-A1F9-407C-AD3B-08AE9DBF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A10-F64A-4AF5-857F-52E042E4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E8E30-381B-415F-B128-74284CB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1F325-1934-49CC-9399-D1537E3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21AC7-2C8A-4333-8354-BFB8BA5F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0F4C6-0E8A-4F2F-9DCA-94567D04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CF8ED-3B6A-4E38-ADEB-8025C0EC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BE-9869-4F99-B6F6-9CAF049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FB7D-40B7-410C-9A29-276EEF2894B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4FC5-7C22-4F51-8249-8548127430B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6764-ACAA-463C-962A-A98408B429B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51C-071C-4176-8760-29E66BBB679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E3D-EF2D-41DD-A51C-60B0DC5E7F9D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3790-D997-44B1-94B4-D9E27629846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50F6-93D9-4C02-93A3-036749E19B5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AUXILIAR 1: MANEJO DE MINERALES Y VENTILACIÓN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Miguel Angel Fuenzali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Eduardo Vie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CTIVIDADES A REALIZ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area 1: SL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area 2 : Block Ca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yecto de Simulación: Utilización de softwares Promodel y VnetP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troles de Lecturas de Pap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AREA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Diseño Sublevel Stop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empresa de exploración Gexp S.A ha dado información sobre dos cuerpos mineralizados, un cuerpo mineralizado subvertical y un pórfido cupríf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gún la normativa de la región donde se encontró el cuerpo subvertical, no es posible generar subsiden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el pórfido cuprífero existe un glaciar milenario que no se debe alter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57200" y="2093760"/>
            <a:ext cx="7467480" cy="3886200"/>
          </a:xfrm>
          <a:prstGeom prst="rect">
            <a:avLst/>
          </a:prstGeom>
          <a:ln w="0">
            <a:noFill/>
          </a:ln>
        </p:spPr>
      </p:pic>
      <p:sp>
        <p:nvSpPr>
          <p:cNvPr id="363" name="3 CuadroTexto"/>
          <p:cNvSpPr/>
          <p:nvPr/>
        </p:nvSpPr>
        <p:spPr>
          <a:xfrm>
            <a:off x="5786280" y="5857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rrida: 150 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ide determinar el método de explotación más adecuado para los dos casos expuest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especificar los accesos, el sistema manejo de minerales y de ventil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dicar el índice de preparación y la recuperación asociada al méto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ficar supuest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echa de Entrega: 17 de Agos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3:50:50Z</dcterms:created>
  <dc:creator>Viera</dc:creator>
  <dc:description/>
  <dc:language>en-US</dc:language>
  <cp:lastModifiedBy>mifuenza</cp:lastModifiedBy>
  <dcterms:modified xsi:type="dcterms:W3CDTF">2009-08-07T17:37:26Z</dcterms:modified>
  <cp:revision>12</cp:revision>
  <dc:subject/>
  <dc:title>Tarea 1</dc:title>
</cp:coreProperties>
</file>