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E8F0-B78E-4FC8-9988-9513FCDF37A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9C17-3017-4786-8B48-6E7D5C6BB69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057C-6940-4859-92AB-35288F78005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9899-A078-4470-97E0-12DCB70E8BD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335A-9BCB-472B-9DFD-1EAA921046C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6522-385A-40FF-A82A-4A55D4AB7A1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34D9-93EF-4B88-B2F7-11CCA3A3BEB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7639-1731-4695-874F-CC12AFA6B35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C079-652C-4B66-8B71-C2EA7E96D67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AFB2-8E76-4F23-B9F4-305A7AC3512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DD5E-23AB-4502-A48D-F538840D491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0657-01B6-4DEF-AEFA-1C27E94DA7F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1C31-AA24-43DF-9B7F-801A6A06D47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9250-F9C9-484A-A002-23A9BA11C95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5B2B-57CC-42F3-82B0-1D872C48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49AC-820B-4012-B72C-F0049ED9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ECE6-BE4A-4EDE-9AC3-B5ADDE5C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07C7-2FAE-454A-BE2D-465D56CD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C546-605F-4FEB-8FBF-9A23ACFF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604A-8237-4701-9743-7941B726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8862-2FE1-49DB-B357-46E6DFAA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EAEE-B1C3-4552-89F5-FC08910F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1B1C-F6DC-4CF6-B103-CE8BE49D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95F7-F09B-4A00-ACED-C8EB3EB9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CE22-F453-40F0-9693-80134E09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94AE-EEE0-43A5-96ED-AFCC3B53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CBB2-A94A-43BE-AD6E-05C94E5D6A85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uxiliar 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92392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ontroles Cinét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293640" y="580536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mestre Primavera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273760" y="4869000"/>
            <a:ext cx="461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51G  Procesos Hidro-Electrometalúr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eficientes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 + e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C   Paso limita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D + e 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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 E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 + 2e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3708360" y="2133720"/>
                <a:ext cx="208764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r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Rectangle 4"/>
          <p:cNvSpPr/>
          <p:nvPr/>
        </p:nvSpPr>
        <p:spPr>
          <a:xfrm>
            <a:off x="395280" y="4149720"/>
            <a:ext cx="849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Nº de electrones en la reacción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= Nº de electrones transferidos antes del paso limitante de la velocidad 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acció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= Nº de veces que debe ocurrir el paso limitante para que la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acción global ocurra un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= Factor de reacción;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 = 1 (reacción electroquím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 = 0 (reacción química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= Factor de simetría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 Special G2"/>
                <a:ea typeface="Times New Roman Special G2"/>
              </a:rPr>
              <a:t>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7"/>
          <p:cNvGraphicFramePr/>
          <p:nvPr/>
        </p:nvGraphicFramePr>
        <p:xfrm>
          <a:off x="6372360" y="2060640"/>
          <a:ext cx="1944720" cy="93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2060640"/>
                    <a:ext cx="19447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ferencia de Car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proximacio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 l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c. Butler y Volm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ampo Alt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álido para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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100 m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Campo baj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: Válido para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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&lt;  20 m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1187280" y="3068640"/>
                <a:ext cx="19447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exp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 T</m:t>
                            </m:r>
                          </m:den>
                        </m:f>
                        <m:r>
                          <m:t xml:space="preserve">η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4788000" y="3068640"/>
                <a:ext cx="21603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- 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 T</m:t>
                            </m:r>
                          </m:den>
                        </m:f>
                        <m:r>
                          <m:t xml:space="preserve">η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8" name="Object 10"/>
          <p:cNvGraphicFramePr/>
          <p:nvPr/>
        </p:nvGraphicFramePr>
        <p:xfrm>
          <a:off x="2484360" y="5084640"/>
          <a:ext cx="3168720" cy="102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5084640"/>
                    <a:ext cx="316872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ferencia de M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2771640" y="2133720"/>
                <a:ext cx="309564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FD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Rectangle 6"/>
          <p:cNvSpPr/>
          <p:nvPr/>
        </p:nvSpPr>
        <p:spPr>
          <a:xfrm>
            <a:off x="395280" y="4149720"/>
            <a:ext cx="8353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Densidad de corriente, A/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z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Nº de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Constante de Faraday, 9.65 10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/k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Coeficiente de difusión, 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Concentración del reactante en el seno de la solución, kmol/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Concentración  del reactante en el sitio de reacción, kmol/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Espesor de la capa de difusión  (m)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 Special G2"/>
                <a:ea typeface="Times New Roman Special G2"/>
              </a:rPr>
              <a:t>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0.1 mm (acuosa, 25º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ferencia de M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 lími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uando la concentración del reactante en el sitio de la reacción se hace cero (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0), es decir, la velocidad de transferencia de carga es mucho mayor a la de transferencia de masa, se habla de densidad de corriente lím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fecto de propiedades del flu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) Más agitación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men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l-G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ayor 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3203640" y="2625840"/>
                <a:ext cx="230508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FD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46" name="Object 6"/>
          <p:cNvGraphicFramePr/>
          <p:nvPr/>
        </p:nvGraphicFramePr>
        <p:xfrm>
          <a:off x="1979640" y="5305320"/>
          <a:ext cx="5832360" cy="116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5305320"/>
                    <a:ext cx="583236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trol Mix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bas velocidades (Transferencia de carga y masa) son igualmente lentas y no se puede despreciar ninguna. Es el medio armónico entre las velocidades bajo CTC y CT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tilizando aproximación campo alto e i lími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900000" y="5157720"/>
                <a:ext cx="29527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RT</m:t>
                            </m:r>
                          </m:den>
                        </m:f>
                        <m:r>
                          <m:t xml:space="preserve">η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6"/>
              <p:cNvSpPr txBox="1"/>
              <p:nvPr/>
            </p:nvSpPr>
            <p:spPr>
              <a:xfrm>
                <a:off x="4788000" y="5157720"/>
                <a:ext cx="2808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sub>
                            </m:sSub>
                          </m:e>
                        </m:d>
                      </m:num>
                      <m:den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η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8"/>
              <p:cNvSpPr txBox="1"/>
              <p:nvPr/>
            </p:nvSpPr>
            <p:spPr>
              <a:xfrm>
                <a:off x="2700360" y="2852640"/>
                <a:ext cx="309564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I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TM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T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DIAG FLUJO EO GRIS"/>
          <p:cNvPicPr/>
          <p:nvPr/>
        </p:nvPicPr>
        <p:blipFill>
          <a:blip r:embed="rId1"/>
          <a:stretch/>
        </p:blipFill>
        <p:spPr>
          <a:xfrm>
            <a:off x="1332000" y="392040"/>
            <a:ext cx="669600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nética Electro-Quí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+ ze     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+ ze          D                           D          A + 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cción Catódica                    Reacción Anó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se reduce a D                         D se oxida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4427640" y="2349360"/>
            <a:ext cx="790560" cy="287640"/>
          </a:xfrm>
          <a:prstGeom prst="leftRightArrow">
            <a:avLst>
              <a:gd name="adj1" fmla="val 50000"/>
              <a:gd name="adj2" fmla="val 547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3059280" y="2781360"/>
            <a:ext cx="12254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4572000" y="2781360"/>
            <a:ext cx="11523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2987640" y="4292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5651640" y="429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cuación de Fara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3203640" y="1844640"/>
                <a:ext cx="244944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·t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Rectangle 6"/>
          <p:cNvSpPr/>
          <p:nvPr/>
        </p:nvSpPr>
        <p:spPr>
          <a:xfrm>
            <a:off x="1042920" y="4365720"/>
            <a:ext cx="7632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 Masa que reacciona electro químicamente (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=    Peso Equivalente   (kg/kmol de carg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=    Intensidad de corriente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=    Tiempo 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=    Constante de Faraday (9.65 x 107 C/km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cuación de Fara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lcular masa de cobre depositada en un cátodo con: I=300[A], t=2 horas. Para las siguientes reac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u</a:t>
            </a:r>
            <a:r>
              <a:rPr b="0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+2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+ 2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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Cu</a:t>
            </a:r>
            <a:r>
              <a:rPr b="0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) 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u</a:t>
            </a:r>
            <a:r>
              <a:rPr b="0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+ 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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Cu</a:t>
            </a:r>
            <a:r>
              <a:rPr b="0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7"/>
              <p:cNvSpPr txBox="1"/>
              <p:nvPr/>
            </p:nvSpPr>
            <p:spPr>
              <a:xfrm>
                <a:off x="3851280" y="3213000"/>
                <a:ext cx="2449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,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Rectangle 9"/>
          <p:cNvSpPr/>
          <p:nvPr/>
        </p:nvSpPr>
        <p:spPr>
          <a:xfrm>
            <a:off x="0" y="36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0"/>
              <p:cNvSpPr txBox="1"/>
              <p:nvPr/>
            </p:nvSpPr>
            <p:spPr>
              <a:xfrm>
                <a:off x="3708360" y="4941720"/>
                <a:ext cx="230364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Rectangle 12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3"/>
              <p:cNvSpPr txBox="1"/>
              <p:nvPr/>
            </p:nvSpPr>
            <p:spPr>
              <a:xfrm>
                <a:off x="3492360" y="4005360"/>
                <a:ext cx="27352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,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7200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,7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Rectangle 15"/>
          <p:cNvSpPr/>
          <p:nvPr/>
        </p:nvSpPr>
        <p:spPr>
          <a:xfrm>
            <a:off x="0" y="4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16"/>
              <p:cNvSpPr txBox="1"/>
              <p:nvPr/>
            </p:nvSpPr>
            <p:spPr>
              <a:xfrm>
                <a:off x="3564000" y="5734080"/>
                <a:ext cx="27367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7200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,4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Rectangle 18"/>
          <p:cNvSpPr/>
          <p:nvPr/>
        </p:nvSpPr>
        <p:spPr>
          <a:xfrm>
            <a:off x="0" y="36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troles Ciné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 que ocurra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acción electr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ím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º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nsferencia de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s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 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 debe moverse hacia la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º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nsferencia de Carg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tre 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 y electr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4"/>
          <p:cNvGrpSpPr/>
          <p:nvPr/>
        </p:nvGrpSpPr>
        <p:grpSpPr>
          <a:xfrm>
            <a:off x="2700360" y="1844640"/>
            <a:ext cx="3352320" cy="2057400"/>
            <a:chOff x="2700360" y="1844640"/>
            <a:chExt cx="3352320" cy="2057400"/>
          </a:xfrm>
        </p:grpSpPr>
        <mc:AlternateContent>
          <mc:Choice xmlns:a14="http://schemas.microsoft.com/office/drawing/2010/main" Requires="a14">
            <p:sp>
              <p:nvSpPr>
                <p:cNvPr id="82" name="Object 5"/>
                <p:cNvSpPr txBox="1"/>
                <p:nvPr/>
              </p:nvSpPr>
              <p:spPr>
                <a:xfrm>
                  <a:off x="3156120" y="1844640"/>
                  <a:ext cx="371160" cy="54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83" name="Group 6"/>
            <p:cNvGrpSpPr/>
            <p:nvPr/>
          </p:nvGrpSpPr>
          <p:grpSpPr>
            <a:xfrm>
              <a:off x="2700360" y="1981080"/>
              <a:ext cx="3352320" cy="1920960"/>
              <a:chOff x="2700360" y="1981080"/>
              <a:chExt cx="3352320" cy="1920960"/>
            </a:xfrm>
          </p:grpSpPr>
          <p:grpSp>
            <p:nvGrpSpPr>
              <p:cNvPr id="84" name="Group 7"/>
              <p:cNvGrpSpPr/>
              <p:nvPr/>
            </p:nvGrpSpPr>
            <p:grpSpPr>
              <a:xfrm>
                <a:off x="2700360" y="1981080"/>
                <a:ext cx="3200760" cy="1920960"/>
                <a:chOff x="2700360" y="1981080"/>
                <a:chExt cx="3200760" cy="1920960"/>
              </a:xfrm>
            </p:grpSpPr>
            <p:sp>
              <p:nvSpPr>
                <p:cNvPr id="85" name="Line 8"/>
                <p:cNvSpPr/>
                <p:nvPr/>
              </p:nvSpPr>
              <p:spPr>
                <a:xfrm>
                  <a:off x="2978640" y="1981080"/>
                  <a:ext cx="0" cy="1920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9"/>
                <p:cNvSpPr/>
                <p:nvPr/>
              </p:nvSpPr>
              <p:spPr>
                <a:xfrm flipV="1">
                  <a:off x="2700360" y="211788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10"/>
                <p:cNvSpPr/>
                <p:nvPr/>
              </p:nvSpPr>
              <p:spPr>
                <a:xfrm flipV="1">
                  <a:off x="2700360" y="225504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Line 11"/>
                <p:cNvSpPr/>
                <p:nvPr/>
              </p:nvSpPr>
              <p:spPr>
                <a:xfrm flipV="1">
                  <a:off x="2700360" y="239220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Line 12"/>
                <p:cNvSpPr/>
                <p:nvPr/>
              </p:nvSpPr>
              <p:spPr>
                <a:xfrm flipV="1">
                  <a:off x="2700360" y="252936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13"/>
                <p:cNvSpPr/>
                <p:nvPr/>
              </p:nvSpPr>
              <p:spPr>
                <a:xfrm flipV="1">
                  <a:off x="2700360" y="266652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14"/>
                <p:cNvSpPr/>
                <p:nvPr/>
              </p:nvSpPr>
              <p:spPr>
                <a:xfrm flipV="1">
                  <a:off x="2700360" y="280404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15"/>
                <p:cNvSpPr/>
                <p:nvPr/>
              </p:nvSpPr>
              <p:spPr>
                <a:xfrm flipV="1">
                  <a:off x="2700360" y="294120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16"/>
                <p:cNvSpPr/>
                <p:nvPr/>
              </p:nvSpPr>
              <p:spPr>
                <a:xfrm flipV="1">
                  <a:off x="2700360" y="307836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17"/>
                <p:cNvSpPr/>
                <p:nvPr/>
              </p:nvSpPr>
              <p:spPr>
                <a:xfrm flipV="1">
                  <a:off x="2700360" y="321552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18"/>
                <p:cNvSpPr/>
                <p:nvPr/>
              </p:nvSpPr>
              <p:spPr>
                <a:xfrm flipV="1">
                  <a:off x="2700360" y="335268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19"/>
                <p:cNvSpPr/>
                <p:nvPr/>
              </p:nvSpPr>
              <p:spPr>
                <a:xfrm flipV="1">
                  <a:off x="2700360" y="348984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0"/>
                <p:cNvSpPr/>
                <p:nvPr/>
              </p:nvSpPr>
              <p:spPr>
                <a:xfrm flipV="1">
                  <a:off x="2700360" y="362736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21"/>
                <p:cNvSpPr/>
                <p:nvPr/>
              </p:nvSpPr>
              <p:spPr>
                <a:xfrm flipV="1">
                  <a:off x="2700360" y="376452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Oval 22"/>
                <p:cNvSpPr/>
                <p:nvPr/>
              </p:nvSpPr>
              <p:spPr>
                <a:xfrm>
                  <a:off x="2978640" y="2529720"/>
                  <a:ext cx="417240" cy="411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23"/>
                <p:cNvSpPr/>
                <p:nvPr/>
              </p:nvSpPr>
              <p:spPr>
                <a:xfrm>
                  <a:off x="2839320" y="2741400"/>
                  <a:ext cx="278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24"/>
                <p:cNvSpPr/>
                <p:nvPr/>
              </p:nvSpPr>
              <p:spPr>
                <a:xfrm flipH="1">
                  <a:off x="3381120" y="2738520"/>
                  <a:ext cx="20876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dashDot"/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25"/>
                <p:cNvSpPr/>
                <p:nvPr/>
              </p:nvSpPr>
              <p:spPr>
                <a:xfrm>
                  <a:off x="5483880" y="2529720"/>
                  <a:ext cx="417240" cy="411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Text Box 26"/>
              <p:cNvSpPr/>
              <p:nvPr/>
            </p:nvSpPr>
            <p:spPr>
              <a:xfrm>
                <a:off x="5496120" y="2551680"/>
                <a:ext cx="55656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27"/>
              <p:cNvSpPr/>
              <p:nvPr/>
            </p:nvSpPr>
            <p:spPr>
              <a:xfrm>
                <a:off x="2990880" y="2552760"/>
                <a:ext cx="55656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Rectangle 28"/>
            <p:cNvSpPr/>
            <p:nvPr/>
          </p:nvSpPr>
          <p:spPr>
            <a:xfrm>
              <a:off x="4562640" y="243504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300" spc="-1" strike="noStrike">
                  <a:solidFill>
                    <a:srgbClr val="000000"/>
                  </a:solidFill>
                  <a:latin typeface="Times New Roman"/>
                </a:rPr>
                <a:t>t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9"/>
            <p:cNvSpPr/>
            <p:nvPr/>
          </p:nvSpPr>
          <p:spPr>
            <a:xfrm>
              <a:off x="4456080" y="2165040"/>
              <a:ext cx="8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3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Object 30"/>
                <p:cNvSpPr txBox="1"/>
                <p:nvPr/>
              </p:nvSpPr>
              <p:spPr>
                <a:xfrm>
                  <a:off x="4307040" y="2977920"/>
                  <a:ext cx="104292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ransporte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" name="Text Box 31"/>
          <p:cNvSpPr/>
          <p:nvPr/>
        </p:nvSpPr>
        <p:spPr>
          <a:xfrm>
            <a:off x="1550520" y="23493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ectr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troles Ciné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velocidad de la reacción esta controlada por el PASO MÁS LENTO. Hay 3 casos posib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m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&gt; &gt; i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c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Control por transferencia de c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m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&lt; &lt; i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c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Control por transferencia de m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m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c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Control mi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ferencia de Car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1619280" y="1425600"/>
                <a:ext cx="14400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8"/>
              <p:cNvSpPr txBox="1"/>
              <p:nvPr/>
            </p:nvSpPr>
            <p:spPr>
              <a:xfrm>
                <a:off x="2916360" y="3860640"/>
                <a:ext cx="25923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FkC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α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4" name="Rectangle 6"/>
          <p:cNvSpPr/>
          <p:nvPr/>
        </p:nvSpPr>
        <p:spPr>
          <a:xfrm>
            <a:off x="4788000" y="1484280"/>
            <a:ext cx="3744720" cy="25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&gt; |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|          i &gt; 0 anó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&lt; |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|          i &lt; 0 cató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| 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|=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i = 0  equili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386720" y="337644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mpíricam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1547640" y="2349360"/>
                <a:ext cx="18003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m>
                      <m:mr>
                        <m:e>
                          <m:limUpp>
                            <m:e>
                              <m:r>
                                <m:t xml:space="preserve">→</m:t>
                              </m:r>
                            </m:e>
                            <m:lim>
                              <m:r>
                                <m:t xml:space="preserve">i</m:t>
                              </m:r>
                              <m:r>
                                <m:t xml:space="preserve">a</m:t>
                              </m:r>
                            </m:lim>
                          </m:limUpp>
                        </m:e>
                      </m:mr>
                      <m:mr>
                        <m:e>
                          <m:limLow>
                            <m:e>
                              <m:r>
                                <m:t xml:space="preserve">←</m:t>
                              </m:r>
                            </m:e>
                            <m:lim>
                              <m:r>
                                <m:t xml:space="preserve">i</m:t>
                              </m:r>
                              <m:r>
                                <m:t xml:space="preserve">c</m:t>
                              </m:r>
                            </m:lim>
                          </m:limLow>
                        </m:e>
                      </m:mr>
                    </m:m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Rectangle 1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2"/>
              <p:cNvSpPr txBox="1"/>
              <p:nvPr/>
            </p:nvSpPr>
            <p:spPr>
              <a:xfrm>
                <a:off x="1547640" y="5445000"/>
                <a:ext cx="2087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η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Rectangle 1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4"/>
              <p:cNvSpPr txBox="1"/>
              <p:nvPr/>
            </p:nvSpPr>
            <p:spPr>
              <a:xfrm>
                <a:off x="4788000" y="5445000"/>
                <a:ext cx="237636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η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Line 16"/>
          <p:cNvSpPr/>
          <p:nvPr/>
        </p:nvSpPr>
        <p:spPr>
          <a:xfrm flipH="1">
            <a:off x="2556000" y="4508640"/>
            <a:ext cx="1511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7"/>
          <p:cNvSpPr/>
          <p:nvPr/>
        </p:nvSpPr>
        <p:spPr>
          <a:xfrm>
            <a:off x="4284720" y="4508640"/>
            <a:ext cx="15825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5961600" y="4076640"/>
            <a:ext cx="22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E=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=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6162840" y="4508640"/>
            <a:ext cx="1023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 E-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ferencia de Car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. de Butler y Vol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Densidad de corriente (A/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Densidad de corriente de intercambio (A/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Coeficientes de transferencia de carga anódico y cató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Sobre potencial (V)  = E -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Constante de los gases (8.314 J/mol 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Temperatura (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4"/>
              <p:cNvSpPr txBox="1"/>
              <p:nvPr/>
            </p:nvSpPr>
            <p:spPr>
              <a:xfrm>
                <a:off x="1692360" y="2421000"/>
                <a:ext cx="51847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den>
                            </m:f>
                            <m:r>
                              <m:t xml:space="preserve">η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den>
                            </m:f>
                            <m:r>
                              <m:t xml:space="preserve">η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2:26:39Z</dcterms:created>
  <dc:creator>Carlos Francisco</dc:creator>
  <dc:description/>
  <dc:language>en-US</dc:language>
  <cp:lastModifiedBy>Carlos Francisco</cp:lastModifiedBy>
  <dcterms:modified xsi:type="dcterms:W3CDTF">2009-10-08T15:13:58Z</dcterms:modified>
  <cp:revision>36</cp:revision>
  <dc:subject/>
  <dc:title>Auxiliar 1</dc:title>
</cp:coreProperties>
</file>