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F19-A9F5-4194-9C8F-CCB15F92FA6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E10-C7B5-43A0-BCBD-2306FC6F005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3E3-5A69-4F63-BC27-FCF84B578A0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12A-68A1-411C-94A0-3B28F073456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2ED0-E83C-4153-8D32-70EF107AD85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C95B-B4E4-458A-87C7-C4CE05C07CE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3FE5-EB0D-4A61-8751-149CD07A3A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E57-BCC3-4DA9-B8E0-51AC0144529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64E2-4E46-49D0-9A50-16056B0AD53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9C3-C29B-4F03-9FEA-7993EA5F8A3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A8B6-6CED-4C8A-8BFE-1568232B346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EB7-682F-4697-BD9E-47F56C78F6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9A6-7B00-4B42-B410-D1A66FF7F23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3356-524D-4524-A088-5352F40E5EF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662-977E-4408-9C0A-BE7C5991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C10-5AE0-40BE-98C2-72D87B9A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ABB-11D3-44FE-8BF9-AB319C8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B14-271B-4FE7-A640-D987BD4B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452-2AB9-4B7A-A2B5-1327EB03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CEB-399B-4837-A516-A6B1F1D0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093-935B-49B3-8F39-1AD21D7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428-1508-4625-B03E-DF223FA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421-3FA4-49F3-8951-C5960C36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C18-1773-475F-B01A-468EC43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F17-DDAD-413B-A89E-1647F128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5D3-AAFE-4973-A3C6-ADC670A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F5E9-D542-4ED7-B298-BCAD8D68D93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xilia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93640" y="5805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73760" y="486900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51G  Procesos Hidro-Electrometalúr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s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+ 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   Paso limit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 + e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+ 2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708360" y="2133720"/>
                <a:ext cx="2087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r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4"/>
          <p:cNvSpPr/>
          <p:nvPr/>
        </p:nvSpPr>
        <p:spPr>
          <a:xfrm>
            <a:off x="395280" y="414972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electrones en la reacción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electrones transferidos antes del paso limitante de la velocidad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veces que debe ocurrir el paso limitante para que l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global ocurra un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reacción;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1 (reacción electroquím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0 (reacción químic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simetrí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372360" y="2060640"/>
          <a:ext cx="1944720" cy="93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060640"/>
                    <a:ext cx="1944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. Butler y Volm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mpo Al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0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mpo 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&lt;  2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1187280" y="3068640"/>
                <a:ext cx="194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exp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4788000" y="306864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Object 10"/>
          <p:cNvGraphicFramePr/>
          <p:nvPr/>
        </p:nvGraphicFramePr>
        <p:xfrm>
          <a:off x="2484360" y="5084640"/>
          <a:ext cx="3168720" cy="10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084640"/>
                    <a:ext cx="31687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771640" y="2133720"/>
                <a:ext cx="309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6"/>
          <p:cNvSpPr/>
          <p:nvPr/>
        </p:nvSpPr>
        <p:spPr>
          <a:xfrm>
            <a:off x="395280" y="4149720"/>
            <a:ext cx="8353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Densidad de corriente, 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stante de Faraday, 9.65 1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/k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eficiente de difusión,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del reactante en el seno de la solu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 del reactante en el sitio de reac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Espesor de la capa de difusión  (m)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1 mm (acuosa, 25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 lími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la concentración del reactante en el sitio de la reacción se hace cero 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), es decir, la velocidad de transferencia de carga es mucho mayor a la de transferencia de masa, se habla de densidad de corriente lí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fecto de propiedades del flu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Más agitac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203640" y="2625840"/>
                <a:ext cx="23050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6"/>
          <p:cNvGraphicFramePr/>
          <p:nvPr/>
        </p:nvGraphicFramePr>
        <p:xfrm>
          <a:off x="1979640" y="5305320"/>
          <a:ext cx="583236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05320"/>
                    <a:ext cx="58323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velocidades (Transferencia de carga y masa) son igualmente lentas y no se puede despreciar ninguna. Es el medio armónico entre las velocidades bajo CTC y C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zando aproximación campo alto e i lí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900000" y="5157720"/>
                <a:ext cx="2952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788000" y="5157720"/>
                <a:ext cx="280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2700360" y="2852640"/>
                <a:ext cx="3095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I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G FLUJO EO GRIS"/>
          <p:cNvPicPr/>
          <p:nvPr/>
        </p:nvPicPr>
        <p:blipFill>
          <a:blip r:embed="rId1"/>
          <a:stretch/>
        </p:blipFill>
        <p:spPr>
          <a:xfrm>
            <a:off x="1332000" y="392040"/>
            <a:ext cx="6696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ética Electro-Quí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+ ze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+ ze          D                           D          A + 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Catódica                    Reacción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se reduce a D                         D se oxida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27640" y="2349360"/>
            <a:ext cx="790560" cy="287640"/>
          </a:xfrm>
          <a:prstGeom prst="leftRightArrow">
            <a:avLst>
              <a:gd name="adj1" fmla="val 50000"/>
              <a:gd name="adj2" fmla="val 547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3059280" y="2781360"/>
            <a:ext cx="1225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72000" y="2781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987640" y="4292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651640" y="429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203640" y="1844640"/>
                <a:ext cx="244944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·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"/>
          <p:cNvSpPr/>
          <p:nvPr/>
        </p:nvSpPr>
        <p:spPr>
          <a:xfrm>
            <a:off x="1042920" y="4365720"/>
            <a:ext cx="763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 Masa que reacciona electro químicamente 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=    Peso Equivalente   (kg/kmol de car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Intensidad de corrient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Tiempo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=    Constante de Faraday (9.65 x 107 C/k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ular masa de cobre depositada en un cátodo con: I=300[A], t=2 horas. Para las siguientes rea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2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2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851280" y="3213000"/>
                <a:ext cx="2449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9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3708360" y="4941720"/>
                <a:ext cx="23036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2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3492360" y="4005360"/>
                <a:ext cx="2735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5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6"/>
              <p:cNvSpPr txBox="1"/>
              <p:nvPr/>
            </p:nvSpPr>
            <p:spPr>
              <a:xfrm>
                <a:off x="3564000" y="5734080"/>
                <a:ext cx="273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,4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8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que ocurr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cción elect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debe moverse hacia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tre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y elec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2700360" y="1844640"/>
            <a:ext cx="3352320" cy="2057400"/>
            <a:chOff x="2700360" y="1844640"/>
            <a:chExt cx="3352320" cy="2057400"/>
          </a:xfrm>
        </p:grpSpPr>
        <mc:AlternateContent>
          <mc:Choice xmlns:a14="http://schemas.microsoft.com/office/drawing/2010/main" Requires="a14">
            <p:sp>
              <p:nvSpPr>
                <p:cNvPr id="82" name="Object 5"/>
                <p:cNvSpPr txBox="1"/>
                <p:nvPr/>
              </p:nvSpPr>
              <p:spPr>
                <a:xfrm>
                  <a:off x="3156120" y="1844640"/>
                  <a:ext cx="37116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Group 6"/>
            <p:cNvGrpSpPr/>
            <p:nvPr/>
          </p:nvGrpSpPr>
          <p:grpSpPr>
            <a:xfrm>
              <a:off x="2700360" y="1981080"/>
              <a:ext cx="3352320" cy="1920960"/>
              <a:chOff x="2700360" y="1981080"/>
              <a:chExt cx="3352320" cy="1920960"/>
            </a:xfrm>
          </p:grpSpPr>
          <p:grpSp>
            <p:nvGrpSpPr>
              <p:cNvPr id="84" name="Group 7"/>
              <p:cNvGrpSpPr/>
              <p:nvPr/>
            </p:nvGrpSpPr>
            <p:grpSpPr>
              <a:xfrm>
                <a:off x="2700360" y="1981080"/>
                <a:ext cx="3200760" cy="1920960"/>
                <a:chOff x="2700360" y="1981080"/>
                <a:chExt cx="3200760" cy="1920960"/>
              </a:xfrm>
            </p:grpSpPr>
            <p:sp>
              <p:nvSpPr>
                <p:cNvPr id="85" name="Line 8"/>
                <p:cNvSpPr/>
                <p:nvPr/>
              </p:nvSpPr>
              <p:spPr>
                <a:xfrm>
                  <a:off x="2978640" y="1981080"/>
                  <a:ext cx="0" cy="19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9"/>
                <p:cNvSpPr/>
                <p:nvPr/>
              </p:nvSpPr>
              <p:spPr>
                <a:xfrm flipV="1">
                  <a:off x="2700360" y="21178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0"/>
                <p:cNvSpPr/>
                <p:nvPr/>
              </p:nvSpPr>
              <p:spPr>
                <a:xfrm flipV="1">
                  <a:off x="2700360" y="2255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1"/>
                <p:cNvSpPr/>
                <p:nvPr/>
              </p:nvSpPr>
              <p:spPr>
                <a:xfrm flipV="1">
                  <a:off x="2700360" y="2392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2"/>
                <p:cNvSpPr/>
                <p:nvPr/>
              </p:nvSpPr>
              <p:spPr>
                <a:xfrm flipV="1">
                  <a:off x="2700360" y="2529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3"/>
                <p:cNvSpPr/>
                <p:nvPr/>
              </p:nvSpPr>
              <p:spPr>
                <a:xfrm flipV="1">
                  <a:off x="2700360" y="2666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14"/>
                <p:cNvSpPr/>
                <p:nvPr/>
              </p:nvSpPr>
              <p:spPr>
                <a:xfrm flipV="1">
                  <a:off x="2700360" y="2804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5"/>
                <p:cNvSpPr/>
                <p:nvPr/>
              </p:nvSpPr>
              <p:spPr>
                <a:xfrm flipV="1">
                  <a:off x="2700360" y="2941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6"/>
                <p:cNvSpPr/>
                <p:nvPr/>
              </p:nvSpPr>
              <p:spPr>
                <a:xfrm flipV="1">
                  <a:off x="2700360" y="3078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7"/>
                <p:cNvSpPr/>
                <p:nvPr/>
              </p:nvSpPr>
              <p:spPr>
                <a:xfrm flipV="1">
                  <a:off x="2700360" y="3215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8"/>
                <p:cNvSpPr/>
                <p:nvPr/>
              </p:nvSpPr>
              <p:spPr>
                <a:xfrm flipV="1">
                  <a:off x="2700360" y="33526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9"/>
                <p:cNvSpPr/>
                <p:nvPr/>
              </p:nvSpPr>
              <p:spPr>
                <a:xfrm flipV="1">
                  <a:off x="2700360" y="34898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0"/>
                <p:cNvSpPr/>
                <p:nvPr/>
              </p:nvSpPr>
              <p:spPr>
                <a:xfrm flipV="1">
                  <a:off x="2700360" y="3627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1"/>
                <p:cNvSpPr/>
                <p:nvPr/>
              </p:nvSpPr>
              <p:spPr>
                <a:xfrm flipV="1">
                  <a:off x="2700360" y="3764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22"/>
                <p:cNvSpPr/>
                <p:nvPr/>
              </p:nvSpPr>
              <p:spPr>
                <a:xfrm>
                  <a:off x="297864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3"/>
                <p:cNvSpPr/>
                <p:nvPr/>
              </p:nvSpPr>
              <p:spPr>
                <a:xfrm>
                  <a:off x="2839320" y="2741400"/>
                  <a:ext cx="278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4"/>
                <p:cNvSpPr/>
                <p:nvPr/>
              </p:nvSpPr>
              <p:spPr>
                <a:xfrm flipH="1">
                  <a:off x="3381120" y="2738520"/>
                  <a:ext cx="2087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Dot"/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5"/>
                <p:cNvSpPr/>
                <p:nvPr/>
              </p:nvSpPr>
              <p:spPr>
                <a:xfrm>
                  <a:off x="548388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26"/>
              <p:cNvSpPr/>
              <p:nvPr/>
            </p:nvSpPr>
            <p:spPr>
              <a:xfrm>
                <a:off x="5496120" y="255168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7"/>
              <p:cNvSpPr/>
              <p:nvPr/>
            </p:nvSpPr>
            <p:spPr>
              <a:xfrm>
                <a:off x="2990880" y="255276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28"/>
            <p:cNvSpPr/>
            <p:nvPr/>
          </p:nvSpPr>
          <p:spPr>
            <a:xfrm>
              <a:off x="4562640" y="2435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3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456080" y="21650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30"/>
                <p:cNvSpPr txBox="1"/>
                <p:nvPr/>
              </p:nvSpPr>
              <p:spPr>
                <a:xfrm>
                  <a:off x="4307040" y="2977920"/>
                  <a:ext cx="10429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ansport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31"/>
          <p:cNvSpPr/>
          <p:nvPr/>
        </p:nvSpPr>
        <p:spPr>
          <a:xfrm>
            <a:off x="1550520" y="2349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c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velocidad de la reacción esta controlada por el PASO MÁS LENTO. Hay 3 caso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&gt; &g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&lt; &l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Control mi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619280" y="1425600"/>
                <a:ext cx="1440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2916360" y="3860640"/>
                <a:ext cx="259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kC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Rectangle 6"/>
          <p:cNvSpPr/>
          <p:nvPr/>
        </p:nvSpPr>
        <p:spPr>
          <a:xfrm>
            <a:off x="4788000" y="1484280"/>
            <a:ext cx="374472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g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gt; 0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l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lt; 0 cat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| 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=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i = 0 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86720" y="3376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íric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1547640" y="2349360"/>
                <a:ext cx="1800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m>
                      <m:mr>
                        <m:e>
                          <m:limUpp>
                            <m:e>
                              <m:r>
                                <m:t xml:space="preserve">→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a</m:t>
                              </m:r>
                            </m:lim>
                          </m:limUpp>
                        </m:e>
                      </m:mr>
                      <m:mr>
                        <m:e>
                          <m:limLow>
                            <m:e>
                              <m:r>
                                <m:t xml:space="preserve">←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c</m:t>
                              </m:r>
                            </m:lim>
                          </m:limLow>
                        </m:e>
                      </m:mr>
                    </m:m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1547640" y="5445000"/>
                <a:ext cx="208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788000" y="5445000"/>
                <a:ext cx="2376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Line 16"/>
          <p:cNvSpPr/>
          <p:nvPr/>
        </p:nvSpPr>
        <p:spPr>
          <a:xfrm flipH="1">
            <a:off x="2556000" y="450864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4284720" y="4508640"/>
            <a:ext cx="15825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961600" y="407664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=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162840" y="4508640"/>
            <a:ext cx="102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E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. de Butler y Vol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de intercambio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eficientes de transferencia de carga anódico y ca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Sobre potencial (V)  = E -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nstante de los gases (8.314 J/mol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Temperatura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421000"/>
                <a:ext cx="5184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2:26:39Z</dcterms:created>
  <dc:creator>Carlos Francisco</dc:creator>
  <dc:description/>
  <dc:language>en-US</dc:language>
  <cp:lastModifiedBy>Carlos Francisco</cp:lastModifiedBy>
  <dcterms:modified xsi:type="dcterms:W3CDTF">2009-10-08T15:13:58Z</dcterms:modified>
  <cp:revision>36</cp:revision>
  <dc:subject/>
  <dc:title>Auxiliar 1</dc:title>
</cp:coreProperties>
</file>