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23.png" ContentType="image/png"/>
  <Override PartName="/ppt/media/image21.wmf" ContentType="image/x-wmf"/>
  <Override PartName="/ppt/media/image5.png" ContentType="image/png"/>
  <Override PartName="/ppt/media/image10.png" ContentType="image/png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22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MI51A - Pirometalur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6761-DE20-4C0A-AE59-B5183B1A3D7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2241-4C6E-4AA9-B1F9-86253AB24A3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3676-F44E-4BCF-B544-962B5CC8808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F213-DA1E-4A63-8435-CC671031375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11FE-647C-4369-BB3A-E5937C208FB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5073-5FB8-41A5-A549-7B1F601C595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A699-BA75-4264-8A7B-EBD42400883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C5CD-9C41-4E8B-A60F-B5871E59392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70DF-595D-439A-9D80-6B52966A6AC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CC10-42A8-49E9-AFAB-044568BE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1678-285C-4064-AF59-BF8F9AB2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1E74-017F-456C-93E2-B242E3A9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52EB-52A0-4EE1-8EB9-97EA16A6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9074-7B44-496A-AE69-0DDB7804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DB06-F4C8-497F-B136-F3284C32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FC82-0DF7-413F-A512-68856683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ABAF-8E70-49C9-8D38-4EAA4F01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A7A0-0402-499B-B84F-A1658911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A710-ACA8-4557-8F05-CAB1BFD6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9291-3FC6-4690-B074-03C47DB3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FC3A-DD54-41FF-B7C0-D9FF3A8F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BB16-804F-4E72-958A-2FCDC5FD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5ECA-5001-4EF2-9C9B-2E9F6045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77C0-A855-4682-8CEC-13E97A35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5AC1-0430-48F6-A5D3-E3BF987C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5DFA-0618-426E-A413-AA31032B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0AF4D-A358-4F45-B733-5D28FB103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3B90A-32D8-4086-BD6F-F0C1759F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4A9E5-3F3A-4780-B08E-F7C538EF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599C3-ECF5-4876-929D-A965871A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0BFA8-B163-45BE-9F13-0CB7A085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5FC4-6FCB-43FF-AA9C-F89E3251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CDA66-02DE-49F9-BD1A-B4F597AC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F0312-872E-4D62-8B08-0855E8CE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3C280-26E3-4017-8E8A-7B4B5F27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07778-223B-4550-933C-7CE26CF6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0A402-16A4-494F-937B-7014077F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DB2EC-AB98-437C-B1E7-1C8D4E15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CC370-9D63-4419-87EE-453CDEB4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1CDDF-3C43-4F9C-BE46-2CFE56FA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24588-24FB-4EAC-AC05-0060C419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70CEB-E7F7-4C86-9018-D2BBEA92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286F-7465-4856-82EB-322CD23C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A974F-852C-4BAB-93A3-F887D29C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5D56C-6CC4-4899-A043-8FC17B80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71D0E-ABFF-476F-BD2F-187D9E56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253B0-9407-47E8-B45A-9F73BFB1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63195-826F-40B5-9208-EE0CECD0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F4968-36D0-443F-B692-BEEC3AF2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7FE26-828B-45E3-932A-E2DCE016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D2ADB-14AA-45A3-B571-67840683A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7A6AA-A81C-4251-9730-4681E71B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97DAE-2C5B-4F3B-8CD8-067506AF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C53-91F8-4230-9C62-BD10A108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1CD3E-B8E0-4EA1-A2E0-D873213B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6B655-C173-4DB9-880D-54BAF3D9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6A437-9476-4624-9CD9-1C544EAA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C260F-1FDA-4C12-BD03-F9D4FB55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1B491-35A8-41A7-AC25-6C4EBB66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7EE17-DF6B-454B-A35C-732F1C1E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1DBE9-26CC-4A5A-AA7A-F1E9152A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E59AD-622E-49B0-A554-AE4D4AEA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85200-2B69-4315-8E5C-514B22C4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ADB87-6425-4E6A-B95D-2CC25746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134C-F188-448D-8439-144252DF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5DE7B-640A-496C-A10E-E4DD8914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66ED4-A7EF-47DA-80EA-943FFF08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733EE-EC6D-4227-8347-68F499F0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EFA2E-9B46-472F-9450-BF2E5DFC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D5E71-3A29-40A3-ADE2-86F95559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0BC28-D5A2-4925-B530-A249F884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E6EB0-DD2E-497C-A6BC-B32D76C5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DC129-70F5-4D8A-8EE6-D4E6A666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889FD-A251-495A-986B-BAFC4229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54AA7-4EE4-4675-8B44-52C9A600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F9B5-C4EB-4267-9495-2C6FA8B7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FA37F-3B55-43DA-AF53-A12762CD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F1C43-C835-44F6-9C8F-FDAF3CC8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DFBF1-0004-41F4-B3D4-91D07DEE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7FEFC-233D-4BE6-91B8-5B149371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922D0-AEE6-4528-9F74-B6647847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006CB-A25C-4099-BBD4-559D6313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FFD8D-7215-4852-BE6C-6BA6E2E3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060BC-AF63-4210-94CF-10FB00CF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FC60D-FF15-4D14-828E-C5FCB30E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4486A-50E2-4021-BCF2-B29A9453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B95F-5D16-4E63-8B6B-35576C30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CAA2E-FC63-4D4F-A6A2-11B6E858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1B8D1-4E8F-41EC-9079-0BDE0BFE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27269-5FCA-4686-8FF7-81183D84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9DC93-A753-4C8F-9F8D-EC192B63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2EA02-4117-4B9B-9746-756E5A5BD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B1D6-0726-48B8-90EC-BA17EA2B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3007-E58B-4090-A63C-104842BC3DE6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1CC8-0DBE-4237-A259-E481AF2913EA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B984-2F05-4F6A-A948-90D278406E2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7742-75A1-4771-A627-E2C6A5CDE634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9A8B-349C-433B-A366-3D1DB1939CC4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6338-71D0-482E-BD61-55084988D021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9120-EC89-45E5-AF9F-612AC811CBC0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http://cipres.cec.uchile.cl/~cam/main/images/logo2.gif"/>
          <p:cNvPicPr/>
          <p:nvPr/>
        </p:nvPicPr>
        <p:blipFill>
          <a:blip r:embed="rId1"/>
          <a:stretch/>
        </p:blipFill>
        <p:spPr>
          <a:xfrm>
            <a:off x="7451640" y="333360"/>
            <a:ext cx="1325520" cy="126684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3"/>
          <p:cNvSpPr/>
          <p:nvPr/>
        </p:nvSpPr>
        <p:spPr>
          <a:xfrm>
            <a:off x="428760" y="4714920"/>
            <a:ext cx="64008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45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orbel"/>
              </a:rPr>
              <a:t>Profesor Auxiliar: Julio Díaz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orbel"/>
              </a:rPr>
              <a:t>Semestre Primavera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Rectangle 2" descr=""/>
          <p:cNvPicPr/>
          <p:nvPr/>
        </p:nvPicPr>
        <p:blipFill>
          <a:blip r:embed="rId2"/>
          <a:stretch/>
        </p:blipFill>
        <p:spPr>
          <a:xfrm>
            <a:off x="444600" y="2030400"/>
            <a:ext cx="801684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2" descr=""/>
          <p:cNvPicPr/>
          <p:nvPr/>
        </p:nvPicPr>
        <p:blipFill>
          <a:blip r:embed="rId1"/>
          <a:stretch/>
        </p:blipFill>
        <p:spPr>
          <a:xfrm>
            <a:off x="182520" y="152280"/>
            <a:ext cx="8510760" cy="126216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1476"/>
          <p:cNvGrpSpPr/>
          <p:nvPr/>
        </p:nvGrpSpPr>
        <p:grpSpPr>
          <a:xfrm>
            <a:off x="785880" y="2214720"/>
            <a:ext cx="7743600" cy="3731040"/>
            <a:chOff x="785880" y="2214720"/>
            <a:chExt cx="7743600" cy="3731040"/>
          </a:xfrm>
        </p:grpSpPr>
        <p:grpSp>
          <p:nvGrpSpPr>
            <p:cNvPr id="337" name="Group 1477"/>
            <p:cNvGrpSpPr/>
            <p:nvPr/>
          </p:nvGrpSpPr>
          <p:grpSpPr>
            <a:xfrm>
              <a:off x="785880" y="2214720"/>
              <a:ext cx="7297560" cy="3731040"/>
              <a:chOff x="785880" y="2214720"/>
              <a:chExt cx="7297560" cy="3731040"/>
            </a:xfrm>
          </p:grpSpPr>
          <p:grpSp>
            <p:nvGrpSpPr>
              <p:cNvPr id="338" name="Group 1478"/>
              <p:cNvGrpSpPr/>
              <p:nvPr/>
            </p:nvGrpSpPr>
            <p:grpSpPr>
              <a:xfrm>
                <a:off x="785880" y="2214720"/>
                <a:ext cx="7297560" cy="3731040"/>
                <a:chOff x="785880" y="2214720"/>
                <a:chExt cx="7297560" cy="3731040"/>
              </a:xfrm>
            </p:grpSpPr>
            <p:grpSp>
              <p:nvGrpSpPr>
                <p:cNvPr id="339" name="Group 1479"/>
                <p:cNvGrpSpPr/>
                <p:nvPr/>
              </p:nvGrpSpPr>
              <p:grpSpPr>
                <a:xfrm>
                  <a:off x="1758960" y="2260800"/>
                  <a:ext cx="6324480" cy="3684960"/>
                  <a:chOff x="1758960" y="2260800"/>
                  <a:chExt cx="6324480" cy="3684960"/>
                </a:xfrm>
              </p:grpSpPr>
              <p:grpSp>
                <p:nvGrpSpPr>
                  <p:cNvPr id="340" name="Group 1480"/>
                  <p:cNvGrpSpPr/>
                  <p:nvPr/>
                </p:nvGrpSpPr>
                <p:grpSpPr>
                  <a:xfrm>
                    <a:off x="1758960" y="2260800"/>
                    <a:ext cx="6324480" cy="3684960"/>
                    <a:chOff x="1758960" y="2260800"/>
                    <a:chExt cx="6324480" cy="3684960"/>
                  </a:xfrm>
                </p:grpSpPr>
                <p:grpSp>
                  <p:nvGrpSpPr>
                    <p:cNvPr id="341" name="Group 1481"/>
                    <p:cNvGrpSpPr/>
                    <p:nvPr/>
                  </p:nvGrpSpPr>
                  <p:grpSpPr>
                    <a:xfrm>
                      <a:off x="1758960" y="2260800"/>
                      <a:ext cx="2818080" cy="3684960"/>
                      <a:chOff x="1758960" y="2260800"/>
                      <a:chExt cx="2818080" cy="3684960"/>
                    </a:xfrm>
                  </p:grpSpPr>
                  <p:grpSp>
                    <p:nvGrpSpPr>
                      <p:cNvPr id="342" name="Group 1482"/>
                      <p:cNvGrpSpPr/>
                      <p:nvPr/>
                    </p:nvGrpSpPr>
                    <p:grpSpPr>
                      <a:xfrm>
                        <a:off x="1758960" y="3266640"/>
                        <a:ext cx="2818080" cy="2679120"/>
                        <a:chOff x="1758960" y="3266640"/>
                        <a:chExt cx="2818080" cy="2679120"/>
                      </a:xfrm>
                    </p:grpSpPr>
                    <p:grpSp>
                      <p:nvGrpSpPr>
                        <p:cNvPr id="343" name="Group 1483"/>
                        <p:cNvGrpSpPr/>
                        <p:nvPr/>
                      </p:nvGrpSpPr>
                      <p:grpSpPr>
                        <a:xfrm>
                          <a:off x="1758960" y="3266640"/>
                          <a:ext cx="2818080" cy="2679120"/>
                          <a:chOff x="1758960" y="3266640"/>
                          <a:chExt cx="2818080" cy="2679120"/>
                        </a:xfrm>
                      </p:grpSpPr>
                      <p:grpSp>
                        <p:nvGrpSpPr>
                          <p:cNvPr id="344" name="Group 1484"/>
                          <p:cNvGrpSpPr/>
                          <p:nvPr/>
                        </p:nvGrpSpPr>
                        <p:grpSpPr>
                          <a:xfrm>
                            <a:off x="1758960" y="3266640"/>
                            <a:ext cx="2818080" cy="2679120"/>
                            <a:chOff x="1758960" y="3266640"/>
                            <a:chExt cx="2818080" cy="2679120"/>
                          </a:xfrm>
                        </p:grpSpPr>
                        <p:sp>
                          <p:nvSpPr>
                            <p:cNvPr id="345" name="Rectangle 1485"/>
                            <p:cNvSpPr/>
                            <p:nvPr/>
                          </p:nvSpPr>
                          <p:spPr>
                            <a:xfrm>
                              <a:off x="1758960" y="3266640"/>
                              <a:ext cx="2756880" cy="2177640"/>
                            </a:xfrm>
                            <a:prstGeom prst="rect">
                              <a:avLst/>
                            </a:prstGeom>
                            <a:solidFill>
                              <a:srgbClr val="969696"/>
                            </a:solidFill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46" name="Rectangle 1486"/>
                            <p:cNvSpPr/>
                            <p:nvPr/>
                          </p:nvSpPr>
                          <p:spPr>
                            <a:xfrm>
                              <a:off x="1758960" y="5443560"/>
                              <a:ext cx="2756880" cy="50220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47" name="Text Box 1487"/>
                            <p:cNvSpPr/>
                            <p:nvPr/>
                          </p:nvSpPr>
                          <p:spPr>
                            <a:xfrm>
                              <a:off x="1839960" y="4941720"/>
                              <a:ext cx="1094400" cy="334800"/>
                            </a:xfrm>
                            <a:prstGeom prst="rect">
                              <a:avLst/>
                            </a:prstGeom>
                            <a:solidFill>
                              <a:srgbClr val="969696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" sz="1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Fe</a:t>
                              </a:r>
                              <a:r>
                                <a:rPr b="1" lang="es-ES" sz="12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</a:t>
                              </a:r>
                              <a:r>
                                <a:rPr b="1" lang="es-ES" sz="1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SiO</a:t>
                              </a:r>
                              <a:r>
                                <a:rPr b="1" lang="es-ES" sz="12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4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48" name="Text Box 1488"/>
                            <p:cNvSpPr/>
                            <p:nvPr/>
                          </p:nvSpPr>
                          <p:spPr>
                            <a:xfrm>
                              <a:off x="2853360" y="4941720"/>
                              <a:ext cx="770040" cy="376920"/>
                            </a:xfrm>
                            <a:prstGeom prst="rect">
                              <a:avLst/>
                            </a:prstGeom>
                            <a:solidFill>
                              <a:srgbClr val="969696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" sz="1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Fe</a:t>
                              </a:r>
                              <a:r>
                                <a:rPr b="1" lang="es-ES" sz="12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3</a:t>
                              </a:r>
                              <a:r>
                                <a:rPr b="1" lang="es-ES" sz="1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O</a:t>
                              </a:r>
                              <a:r>
                                <a:rPr b="1" lang="es-ES" sz="12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4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49" name="Text Box 1489"/>
                            <p:cNvSpPr/>
                            <p:nvPr/>
                          </p:nvSpPr>
                          <p:spPr>
                            <a:xfrm>
                              <a:off x="3623760" y="4941720"/>
                              <a:ext cx="953280" cy="378720"/>
                            </a:xfrm>
                            <a:prstGeom prst="rect">
                              <a:avLst/>
                            </a:prstGeom>
                            <a:solidFill>
                              <a:srgbClr val="969696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" sz="1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Cu</a:t>
                              </a:r>
                              <a:r>
                                <a:rPr b="1" lang="es-ES" sz="12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</a:t>
                              </a:r>
                              <a:r>
                                <a:rPr b="1" lang="es-ES" sz="1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O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50" name="Text Box 1490"/>
                            <p:cNvSpPr/>
                            <p:nvPr/>
                          </p:nvSpPr>
                          <p:spPr>
                            <a:xfrm>
                              <a:off x="2691360" y="5486040"/>
                              <a:ext cx="1216080" cy="37692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" sz="1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Cu</a:t>
                              </a:r>
                              <a:r>
                                <a:rPr b="1" lang="es-ES" sz="12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</a:t>
                              </a:r>
                              <a:r>
                                <a:rPr b="1" lang="es-ES" sz="1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S-FeS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51" name="Group 1491"/>
                          <p:cNvGrpSpPr/>
                          <p:nvPr/>
                        </p:nvGrpSpPr>
                        <p:grpSpPr>
                          <a:xfrm>
                            <a:off x="1961280" y="3810960"/>
                            <a:ext cx="2067120" cy="1004760"/>
                            <a:chOff x="1961280" y="3810960"/>
                            <a:chExt cx="2067120" cy="1004760"/>
                          </a:xfrm>
                        </p:grpSpPr>
                        <p:sp>
                          <p:nvSpPr>
                            <p:cNvPr id="352" name="Oval 1492"/>
                            <p:cNvSpPr/>
                            <p:nvPr/>
                          </p:nvSpPr>
                          <p:spPr>
                            <a:xfrm>
                              <a:off x="2853000" y="4271400"/>
                              <a:ext cx="81000" cy="83520"/>
                            </a:xfrm>
                            <a:prstGeom prst="ellipse">
                              <a:avLst/>
                            </a:prstGeom>
                            <a:solidFill>
                              <a:srgbClr val="c0c0c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2240" bIns="122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53" name="Oval 1493"/>
                            <p:cNvSpPr/>
                            <p:nvPr/>
                          </p:nvSpPr>
                          <p:spPr>
                            <a:xfrm>
                              <a:off x="3137040" y="4229280"/>
                              <a:ext cx="81000" cy="83520"/>
                            </a:xfrm>
                            <a:prstGeom prst="ellipse">
                              <a:avLst/>
                            </a:prstGeom>
                            <a:solidFill>
                              <a:srgbClr val="c0c0c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2240" bIns="122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54" name="Oval 1494"/>
                            <p:cNvSpPr/>
                            <p:nvPr/>
                          </p:nvSpPr>
                          <p:spPr>
                            <a:xfrm>
                              <a:off x="2366640" y="4313160"/>
                              <a:ext cx="80640" cy="83520"/>
                            </a:xfrm>
                            <a:prstGeom prst="ellipse">
                              <a:avLst/>
                            </a:prstGeom>
                            <a:solidFill>
                              <a:srgbClr val="c0c0c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2240" bIns="122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55" name="Oval 1495"/>
                            <p:cNvSpPr/>
                            <p:nvPr/>
                          </p:nvSpPr>
                          <p:spPr>
                            <a:xfrm>
                              <a:off x="3947760" y="4313160"/>
                              <a:ext cx="80640" cy="83520"/>
                            </a:xfrm>
                            <a:prstGeom prst="ellipse">
                              <a:avLst/>
                            </a:prstGeom>
                            <a:solidFill>
                              <a:srgbClr val="333333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2240" bIns="122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56" name="Oval 1496"/>
                            <p:cNvSpPr/>
                            <p:nvPr/>
                          </p:nvSpPr>
                          <p:spPr>
                            <a:xfrm>
                              <a:off x="3069360" y="4494600"/>
                              <a:ext cx="81000" cy="83520"/>
                            </a:xfrm>
                            <a:prstGeom prst="ellipse">
                              <a:avLst/>
                            </a:prstGeom>
                            <a:solidFill>
                              <a:srgbClr val="c0c0c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2240" bIns="122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57" name="Oval 1497"/>
                            <p:cNvSpPr/>
                            <p:nvPr/>
                          </p:nvSpPr>
                          <p:spPr>
                            <a:xfrm>
                              <a:off x="3285360" y="4718160"/>
                              <a:ext cx="81000" cy="83520"/>
                            </a:xfrm>
                            <a:prstGeom prst="ellipse">
                              <a:avLst/>
                            </a:prstGeom>
                            <a:solidFill>
                              <a:srgbClr val="c0c0c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2240" bIns="122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58" name="Oval 1498"/>
                            <p:cNvSpPr/>
                            <p:nvPr/>
                          </p:nvSpPr>
                          <p:spPr>
                            <a:xfrm>
                              <a:off x="3501720" y="4439160"/>
                              <a:ext cx="81000" cy="83520"/>
                            </a:xfrm>
                            <a:prstGeom prst="ellipse">
                              <a:avLst/>
                            </a:prstGeom>
                            <a:solidFill>
                              <a:srgbClr val="c0c0c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2240" bIns="122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59" name="Oval 1499"/>
                            <p:cNvSpPr/>
                            <p:nvPr/>
                          </p:nvSpPr>
                          <p:spPr>
                            <a:xfrm>
                              <a:off x="1961280" y="4690080"/>
                              <a:ext cx="81000" cy="83520"/>
                            </a:xfrm>
                            <a:prstGeom prst="ellipse">
                              <a:avLst/>
                            </a:prstGeom>
                            <a:solidFill>
                              <a:srgbClr val="c0c0c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2240" bIns="122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60" name="Oval 1500"/>
                            <p:cNvSpPr/>
                            <p:nvPr/>
                          </p:nvSpPr>
                          <p:spPr>
                            <a:xfrm>
                              <a:off x="2569320" y="4690080"/>
                              <a:ext cx="81000" cy="83520"/>
                            </a:xfrm>
                            <a:prstGeom prst="ellipse">
                              <a:avLst/>
                            </a:prstGeom>
                            <a:solidFill>
                              <a:srgbClr val="c0c0c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2240" bIns="122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61" name="Oval 1501"/>
                            <p:cNvSpPr/>
                            <p:nvPr/>
                          </p:nvSpPr>
                          <p:spPr>
                            <a:xfrm>
                              <a:off x="3420720" y="3810960"/>
                              <a:ext cx="81000" cy="83520"/>
                            </a:xfrm>
                            <a:prstGeom prst="ellipse">
                              <a:avLst/>
                            </a:prstGeom>
                            <a:solidFill>
                              <a:srgbClr val="c0c0c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2240" bIns="122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62" name="Oval 1502"/>
                            <p:cNvSpPr/>
                            <p:nvPr/>
                          </p:nvSpPr>
                          <p:spPr>
                            <a:xfrm>
                              <a:off x="3826080" y="4732200"/>
                              <a:ext cx="81000" cy="83520"/>
                            </a:xfrm>
                            <a:prstGeom prst="ellipse">
                              <a:avLst/>
                            </a:prstGeom>
                            <a:solidFill>
                              <a:srgbClr val="c0c0c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2240" bIns="122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63" name="Oval 1503"/>
                            <p:cNvSpPr/>
                            <p:nvPr/>
                          </p:nvSpPr>
                          <p:spPr>
                            <a:xfrm>
                              <a:off x="3015360" y="3810960"/>
                              <a:ext cx="80640" cy="83520"/>
                            </a:xfrm>
                            <a:prstGeom prst="ellipse">
                              <a:avLst/>
                            </a:prstGeom>
                            <a:solidFill>
                              <a:srgbClr val="c0c0c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2240" bIns="122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64" name="Oval 1504"/>
                        <p:cNvSpPr/>
                        <p:nvPr/>
                      </p:nvSpPr>
                      <p:spPr>
                        <a:xfrm>
                          <a:off x="2610000" y="3517920"/>
                          <a:ext cx="162000" cy="1674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5" name="Oval 1505"/>
                        <p:cNvSpPr/>
                        <p:nvPr/>
                      </p:nvSpPr>
                      <p:spPr>
                        <a:xfrm>
                          <a:off x="3502080" y="3434040"/>
                          <a:ext cx="162000" cy="1674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6" name="Oval 1506"/>
                        <p:cNvSpPr/>
                        <p:nvPr/>
                      </p:nvSpPr>
                      <p:spPr>
                        <a:xfrm>
                          <a:off x="1880280" y="3685320"/>
                          <a:ext cx="162000" cy="1670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7" name="Oval 1507"/>
                        <p:cNvSpPr/>
                        <p:nvPr/>
                      </p:nvSpPr>
                      <p:spPr>
                        <a:xfrm>
                          <a:off x="4231800" y="3852720"/>
                          <a:ext cx="162000" cy="1674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68" name="Group 1508"/>
                      <p:cNvGrpSpPr/>
                      <p:nvPr/>
                    </p:nvGrpSpPr>
                    <p:grpSpPr>
                      <a:xfrm>
                        <a:off x="2042640" y="2260800"/>
                        <a:ext cx="2188800" cy="1843200"/>
                        <a:chOff x="2042640" y="2260800"/>
                        <a:chExt cx="2188800" cy="1843200"/>
                      </a:xfrm>
                    </p:grpSpPr>
                    <p:sp>
                      <p:nvSpPr>
                        <p:cNvPr id="369" name="Rectangle 1509"/>
                        <p:cNvSpPr/>
                        <p:nvPr/>
                      </p:nvSpPr>
                      <p:spPr>
                        <a:xfrm>
                          <a:off x="2042640" y="3266640"/>
                          <a:ext cx="567360" cy="8373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0" name="Rectangle 1510"/>
                        <p:cNvSpPr/>
                        <p:nvPr/>
                      </p:nvSpPr>
                      <p:spPr>
                        <a:xfrm>
                          <a:off x="2082960" y="2260800"/>
                          <a:ext cx="486360" cy="180180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1" name="Rectangle 1511"/>
                        <p:cNvSpPr/>
                        <p:nvPr/>
                      </p:nvSpPr>
                      <p:spPr>
                        <a:xfrm>
                          <a:off x="3664080" y="3266640"/>
                          <a:ext cx="567360" cy="79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2" name="Rectangle 1512"/>
                        <p:cNvSpPr/>
                        <p:nvPr/>
                      </p:nvSpPr>
                      <p:spPr>
                        <a:xfrm>
                          <a:off x="3704760" y="2260800"/>
                          <a:ext cx="486360" cy="1759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73" name="Group 1513"/>
                    <p:cNvGrpSpPr/>
                    <p:nvPr/>
                  </p:nvGrpSpPr>
                  <p:grpSpPr>
                    <a:xfrm>
                      <a:off x="3259080" y="2930760"/>
                      <a:ext cx="4824360" cy="2639160"/>
                      <a:chOff x="3259080" y="2930760"/>
                      <a:chExt cx="4824360" cy="2639160"/>
                    </a:xfrm>
                  </p:grpSpPr>
                  <p:sp>
                    <p:nvSpPr>
                      <p:cNvPr id="374" name="Text Box 1514"/>
                      <p:cNvSpPr/>
                      <p:nvPr/>
                    </p:nvSpPr>
                    <p:spPr>
                      <a:xfrm>
                        <a:off x="5164560" y="2930760"/>
                        <a:ext cx="2918880" cy="1617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C  +  CO</a:t>
                        </a:r>
                        <a:r>
                          <a:rPr b="0" lang="es-ES" sz="11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2 </a:t>
                        </a: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 =  2 CO</a:t>
                        </a:r>
                        <a:endParaRPr b="0" lang="en-US" sz="11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Fe</a:t>
                        </a:r>
                        <a:r>
                          <a:rPr b="0" lang="es-ES" sz="11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3</a:t>
                        </a: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O</a:t>
                        </a:r>
                        <a:r>
                          <a:rPr b="0" lang="es-ES" sz="11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4 </a:t>
                        </a: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 + CO  =  3 FeO + CO</a:t>
                        </a:r>
                        <a:r>
                          <a:rPr b="0" lang="es-ES" sz="11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2</a:t>
                        </a:r>
                        <a:endParaRPr b="0" lang="en-US" sz="11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Cu</a:t>
                        </a:r>
                        <a:r>
                          <a:rPr b="0" lang="es-ES" sz="11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2</a:t>
                        </a: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O  + CO  =  2 Cu + CO</a:t>
                        </a:r>
                        <a:r>
                          <a:rPr b="0" lang="es-ES" sz="11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2</a:t>
                        </a:r>
                        <a:endParaRPr b="0" lang="en-US" sz="11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Fe</a:t>
                        </a:r>
                        <a:r>
                          <a:rPr b="0" lang="es-ES" sz="11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3</a:t>
                        </a: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O</a:t>
                        </a:r>
                        <a:r>
                          <a:rPr b="0" lang="es-ES" sz="11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4 </a:t>
                        </a: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+ 2 Cu = 3 FeO + Cu</a:t>
                        </a:r>
                        <a:r>
                          <a:rPr b="0" lang="es-ES" sz="11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2</a:t>
                        </a: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O</a:t>
                        </a:r>
                        <a:endParaRPr b="0" lang="en-US" sz="11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FeO  +  CO  =  Fe  +  CO</a:t>
                        </a:r>
                        <a:r>
                          <a:rPr b="0" lang="es-ES" sz="11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2</a:t>
                        </a:r>
                        <a:endParaRPr b="0" lang="en-US" sz="11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Fe</a:t>
                        </a:r>
                        <a:r>
                          <a:rPr b="0" lang="es-ES" sz="11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3</a:t>
                        </a: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O</a:t>
                        </a:r>
                        <a:r>
                          <a:rPr b="0" lang="es-ES" sz="11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4  </a:t>
                        </a: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+  Fe  =  4 FeO</a:t>
                        </a:r>
                        <a:endParaRPr b="0" lang="en-US" sz="11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Cu</a:t>
                        </a:r>
                        <a:r>
                          <a:rPr b="0" lang="es-ES" sz="11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2</a:t>
                        </a: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O  +  Fe  =  2 Cu  +  FeO</a:t>
                        </a:r>
                        <a:endParaRPr b="0" lang="en-US" sz="11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3 Fe</a:t>
                        </a:r>
                        <a:r>
                          <a:rPr b="0" lang="es-ES" sz="11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3</a:t>
                        </a: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O</a:t>
                        </a:r>
                        <a:r>
                          <a:rPr b="0" lang="es-ES" sz="11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4 </a:t>
                        </a: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+  FeS = 10 FeO + SO</a:t>
                        </a:r>
                        <a:r>
                          <a:rPr b="0" lang="es-ES" sz="11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2</a:t>
                        </a: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 </a:t>
                        </a:r>
                        <a:endParaRPr b="0" lang="en-US" sz="11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5" name="Line 1515"/>
                      <p:cNvSpPr/>
                      <p:nvPr/>
                    </p:nvSpPr>
                    <p:spPr>
                      <a:xfrm flipH="1">
                        <a:off x="4191120" y="3099240"/>
                        <a:ext cx="1013400" cy="502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6" name="Line 1516"/>
                      <p:cNvSpPr/>
                      <p:nvPr/>
                    </p:nvSpPr>
                    <p:spPr>
                      <a:xfrm flipH="1">
                        <a:off x="4231800" y="3434040"/>
                        <a:ext cx="1013400" cy="293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7" name="Line 1517"/>
                      <p:cNvSpPr/>
                      <p:nvPr/>
                    </p:nvSpPr>
                    <p:spPr>
                      <a:xfrm flipH="1">
                        <a:off x="4232160" y="3811320"/>
                        <a:ext cx="972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8" name="Line 1518"/>
                      <p:cNvSpPr/>
                      <p:nvPr/>
                    </p:nvSpPr>
                    <p:spPr>
                      <a:xfrm flipH="1">
                        <a:off x="4029120" y="4188240"/>
                        <a:ext cx="1175760" cy="167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9" name="Line 1519"/>
                      <p:cNvSpPr/>
                      <p:nvPr/>
                    </p:nvSpPr>
                    <p:spPr>
                      <a:xfrm flipH="1" flipV="1">
                        <a:off x="4232160" y="4062240"/>
                        <a:ext cx="932400" cy="418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0" name="Line 1520"/>
                      <p:cNvSpPr/>
                      <p:nvPr/>
                    </p:nvSpPr>
                    <p:spPr>
                      <a:xfrm flipH="1" flipV="1">
                        <a:off x="3299400" y="4439160"/>
                        <a:ext cx="1864800" cy="460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1" name="Line 1521"/>
                      <p:cNvSpPr/>
                      <p:nvPr/>
                    </p:nvSpPr>
                    <p:spPr>
                      <a:xfrm flipH="1" flipV="1">
                        <a:off x="3259080" y="4523040"/>
                        <a:ext cx="1946160" cy="7120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2" name="Line 1522"/>
                      <p:cNvSpPr/>
                      <p:nvPr/>
                    </p:nvSpPr>
                    <p:spPr>
                      <a:xfrm flipH="1" flipV="1">
                        <a:off x="3259080" y="4648680"/>
                        <a:ext cx="1946160" cy="9212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83" name="Group 1523"/>
                  <p:cNvGrpSpPr/>
                  <p:nvPr/>
                </p:nvGrpSpPr>
                <p:grpSpPr>
                  <a:xfrm>
                    <a:off x="1799280" y="3141360"/>
                    <a:ext cx="2675880" cy="219600"/>
                    <a:chOff x="1799280" y="3141360"/>
                    <a:chExt cx="2675880" cy="219600"/>
                  </a:xfrm>
                </p:grpSpPr>
                <p:sp>
                  <p:nvSpPr>
                    <p:cNvPr id="384" name="Freeform 1524"/>
                    <p:cNvSpPr/>
                    <p:nvPr/>
                  </p:nvSpPr>
                  <p:spPr>
                    <a:xfrm>
                      <a:off x="2569680" y="3141360"/>
                      <a:ext cx="283680" cy="167400"/>
                    </a:xfrm>
                    <a:custGeom>
                      <a:avLst/>
                      <a:gdLst>
                        <a:gd name="textAreaLeft" fmla="*/ 0 w 283680"/>
                        <a:gd name="textAreaRight" fmla="*/ 284040 w 283680"/>
                        <a:gd name="textAreaTop" fmla="*/ 0 h 167400"/>
                        <a:gd name="textAreaBottom" fmla="*/ 167760 h 167400"/>
                      </a:gdLst>
                      <a:ahLst/>
                      <a:rect l="textAreaLeft" t="textAreaTop" r="textAreaRight" b="textAreaBottom"/>
                      <a:pathLst>
                        <a:path w="405" h="270">
                          <a:moveTo>
                            <a:pt x="180" y="0"/>
                          </a:moveTo>
                          <a:lnTo>
                            <a:pt x="90" y="45"/>
                          </a:lnTo>
                          <a:lnTo>
                            <a:pt x="0" y="135"/>
                          </a:lnTo>
                          <a:lnTo>
                            <a:pt x="45" y="225"/>
                          </a:lnTo>
                          <a:lnTo>
                            <a:pt x="135" y="270"/>
                          </a:lnTo>
                          <a:lnTo>
                            <a:pt x="270" y="270"/>
                          </a:lnTo>
                          <a:lnTo>
                            <a:pt x="405" y="180"/>
                          </a:lnTo>
                          <a:lnTo>
                            <a:pt x="360" y="90"/>
                          </a:lnTo>
                          <a:lnTo>
                            <a:pt x="270" y="0"/>
                          </a:lnTo>
                          <a:lnTo>
                            <a:pt x="180" y="0"/>
                          </a:ln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Freeform 1525"/>
                    <p:cNvSpPr/>
                    <p:nvPr/>
                  </p:nvSpPr>
                  <p:spPr>
                    <a:xfrm>
                      <a:off x="2853360" y="3141360"/>
                      <a:ext cx="283680" cy="167400"/>
                    </a:xfrm>
                    <a:custGeom>
                      <a:avLst/>
                      <a:gdLst>
                        <a:gd name="textAreaLeft" fmla="*/ 0 w 283680"/>
                        <a:gd name="textAreaRight" fmla="*/ 284040 w 283680"/>
                        <a:gd name="textAreaTop" fmla="*/ 0 h 167400"/>
                        <a:gd name="textAreaBottom" fmla="*/ 167760 h 167400"/>
                      </a:gdLst>
                      <a:ahLst/>
                      <a:rect l="textAreaLeft" t="textAreaTop" r="textAreaRight" b="textAreaBottom"/>
                      <a:pathLst>
                        <a:path w="405" h="270">
                          <a:moveTo>
                            <a:pt x="180" y="0"/>
                          </a:moveTo>
                          <a:lnTo>
                            <a:pt x="90" y="45"/>
                          </a:lnTo>
                          <a:lnTo>
                            <a:pt x="0" y="135"/>
                          </a:lnTo>
                          <a:lnTo>
                            <a:pt x="45" y="225"/>
                          </a:lnTo>
                          <a:lnTo>
                            <a:pt x="135" y="270"/>
                          </a:lnTo>
                          <a:lnTo>
                            <a:pt x="270" y="270"/>
                          </a:lnTo>
                          <a:lnTo>
                            <a:pt x="405" y="180"/>
                          </a:lnTo>
                          <a:lnTo>
                            <a:pt x="360" y="90"/>
                          </a:lnTo>
                          <a:lnTo>
                            <a:pt x="270" y="0"/>
                          </a:lnTo>
                          <a:lnTo>
                            <a:pt x="180" y="0"/>
                          </a:ln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Freeform 1526"/>
                    <p:cNvSpPr/>
                    <p:nvPr/>
                  </p:nvSpPr>
                  <p:spPr>
                    <a:xfrm>
                      <a:off x="3137400" y="3141360"/>
                      <a:ext cx="283680" cy="167400"/>
                    </a:xfrm>
                    <a:custGeom>
                      <a:avLst/>
                      <a:gdLst>
                        <a:gd name="textAreaLeft" fmla="*/ 0 w 283680"/>
                        <a:gd name="textAreaRight" fmla="*/ 284040 w 283680"/>
                        <a:gd name="textAreaTop" fmla="*/ 0 h 167400"/>
                        <a:gd name="textAreaBottom" fmla="*/ 167760 h 167400"/>
                      </a:gdLst>
                      <a:ahLst/>
                      <a:rect l="textAreaLeft" t="textAreaTop" r="textAreaRight" b="textAreaBottom"/>
                      <a:pathLst>
                        <a:path w="405" h="270">
                          <a:moveTo>
                            <a:pt x="180" y="0"/>
                          </a:moveTo>
                          <a:lnTo>
                            <a:pt x="90" y="45"/>
                          </a:lnTo>
                          <a:lnTo>
                            <a:pt x="0" y="135"/>
                          </a:lnTo>
                          <a:lnTo>
                            <a:pt x="45" y="225"/>
                          </a:lnTo>
                          <a:lnTo>
                            <a:pt x="135" y="270"/>
                          </a:lnTo>
                          <a:lnTo>
                            <a:pt x="270" y="270"/>
                          </a:lnTo>
                          <a:lnTo>
                            <a:pt x="405" y="180"/>
                          </a:lnTo>
                          <a:lnTo>
                            <a:pt x="360" y="90"/>
                          </a:lnTo>
                          <a:lnTo>
                            <a:pt x="270" y="0"/>
                          </a:lnTo>
                          <a:lnTo>
                            <a:pt x="180" y="0"/>
                          </a:ln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Freeform 1527"/>
                    <p:cNvSpPr/>
                    <p:nvPr/>
                  </p:nvSpPr>
                  <p:spPr>
                    <a:xfrm>
                      <a:off x="3421080" y="3141360"/>
                      <a:ext cx="283680" cy="167400"/>
                    </a:xfrm>
                    <a:custGeom>
                      <a:avLst/>
                      <a:gdLst>
                        <a:gd name="textAreaLeft" fmla="*/ 0 w 283680"/>
                        <a:gd name="textAreaRight" fmla="*/ 284040 w 283680"/>
                        <a:gd name="textAreaTop" fmla="*/ 0 h 167400"/>
                        <a:gd name="textAreaBottom" fmla="*/ 167760 h 167400"/>
                      </a:gdLst>
                      <a:ahLst/>
                      <a:rect l="textAreaLeft" t="textAreaTop" r="textAreaRight" b="textAreaBottom"/>
                      <a:pathLst>
                        <a:path w="405" h="270">
                          <a:moveTo>
                            <a:pt x="180" y="0"/>
                          </a:moveTo>
                          <a:lnTo>
                            <a:pt x="90" y="45"/>
                          </a:lnTo>
                          <a:lnTo>
                            <a:pt x="0" y="135"/>
                          </a:lnTo>
                          <a:lnTo>
                            <a:pt x="45" y="225"/>
                          </a:lnTo>
                          <a:lnTo>
                            <a:pt x="135" y="270"/>
                          </a:lnTo>
                          <a:lnTo>
                            <a:pt x="270" y="270"/>
                          </a:lnTo>
                          <a:lnTo>
                            <a:pt x="405" y="180"/>
                          </a:lnTo>
                          <a:lnTo>
                            <a:pt x="360" y="90"/>
                          </a:lnTo>
                          <a:lnTo>
                            <a:pt x="270" y="0"/>
                          </a:lnTo>
                          <a:lnTo>
                            <a:pt x="180" y="0"/>
                          </a:ln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Freeform 1528"/>
                    <p:cNvSpPr/>
                    <p:nvPr/>
                  </p:nvSpPr>
                  <p:spPr>
                    <a:xfrm>
                      <a:off x="1799280" y="3141360"/>
                      <a:ext cx="283680" cy="167400"/>
                    </a:xfrm>
                    <a:custGeom>
                      <a:avLst/>
                      <a:gdLst>
                        <a:gd name="textAreaLeft" fmla="*/ 0 w 283680"/>
                        <a:gd name="textAreaRight" fmla="*/ 284040 w 283680"/>
                        <a:gd name="textAreaTop" fmla="*/ 0 h 167400"/>
                        <a:gd name="textAreaBottom" fmla="*/ 167760 h 167400"/>
                      </a:gdLst>
                      <a:ahLst/>
                      <a:rect l="textAreaLeft" t="textAreaTop" r="textAreaRight" b="textAreaBottom"/>
                      <a:pathLst>
                        <a:path w="405" h="270">
                          <a:moveTo>
                            <a:pt x="180" y="0"/>
                          </a:moveTo>
                          <a:lnTo>
                            <a:pt x="90" y="45"/>
                          </a:lnTo>
                          <a:lnTo>
                            <a:pt x="0" y="135"/>
                          </a:lnTo>
                          <a:lnTo>
                            <a:pt x="45" y="225"/>
                          </a:lnTo>
                          <a:lnTo>
                            <a:pt x="135" y="270"/>
                          </a:lnTo>
                          <a:lnTo>
                            <a:pt x="270" y="270"/>
                          </a:lnTo>
                          <a:lnTo>
                            <a:pt x="405" y="180"/>
                          </a:lnTo>
                          <a:lnTo>
                            <a:pt x="360" y="90"/>
                          </a:lnTo>
                          <a:lnTo>
                            <a:pt x="270" y="0"/>
                          </a:lnTo>
                          <a:lnTo>
                            <a:pt x="180" y="0"/>
                          </a:ln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Freeform 1529"/>
                    <p:cNvSpPr/>
                    <p:nvPr/>
                  </p:nvSpPr>
                  <p:spPr>
                    <a:xfrm>
                      <a:off x="4191480" y="3141360"/>
                      <a:ext cx="283680" cy="167400"/>
                    </a:xfrm>
                    <a:custGeom>
                      <a:avLst/>
                      <a:gdLst>
                        <a:gd name="textAreaLeft" fmla="*/ 0 w 283680"/>
                        <a:gd name="textAreaRight" fmla="*/ 284040 w 283680"/>
                        <a:gd name="textAreaTop" fmla="*/ 0 h 167400"/>
                        <a:gd name="textAreaBottom" fmla="*/ 167760 h 167400"/>
                      </a:gdLst>
                      <a:ahLst/>
                      <a:rect l="textAreaLeft" t="textAreaTop" r="textAreaRight" b="textAreaBottom"/>
                      <a:pathLst>
                        <a:path w="405" h="270">
                          <a:moveTo>
                            <a:pt x="180" y="0"/>
                          </a:moveTo>
                          <a:lnTo>
                            <a:pt x="90" y="45"/>
                          </a:lnTo>
                          <a:lnTo>
                            <a:pt x="0" y="135"/>
                          </a:lnTo>
                          <a:lnTo>
                            <a:pt x="45" y="225"/>
                          </a:lnTo>
                          <a:lnTo>
                            <a:pt x="135" y="270"/>
                          </a:lnTo>
                          <a:lnTo>
                            <a:pt x="270" y="270"/>
                          </a:lnTo>
                          <a:lnTo>
                            <a:pt x="405" y="180"/>
                          </a:lnTo>
                          <a:lnTo>
                            <a:pt x="360" y="90"/>
                          </a:lnTo>
                          <a:lnTo>
                            <a:pt x="270" y="0"/>
                          </a:lnTo>
                          <a:lnTo>
                            <a:pt x="180" y="0"/>
                          </a:ln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Freeform 1530"/>
                    <p:cNvSpPr/>
                    <p:nvPr/>
                  </p:nvSpPr>
                  <p:spPr>
                    <a:xfrm>
                      <a:off x="1820880" y="3266640"/>
                      <a:ext cx="221400" cy="83520"/>
                    </a:xfrm>
                    <a:custGeom>
                      <a:avLst/>
                      <a:gdLst>
                        <a:gd name="textAreaLeft" fmla="*/ 0 w 221400"/>
                        <a:gd name="textAreaRight" fmla="*/ 221760 w 221400"/>
                        <a:gd name="textAreaTop" fmla="*/ 0 h 83520"/>
                        <a:gd name="textAreaBottom" fmla="*/ 83880 h 83520"/>
                      </a:gdLst>
                      <a:ahLst/>
                      <a:rect l="textAreaLeft" t="textAreaTop" r="textAreaRight" b="textAreaBottom"/>
                      <a:pathLst>
                        <a:path w="246" h="90">
                          <a:moveTo>
                            <a:pt x="0" y="1"/>
                          </a:moveTo>
                          <a:lnTo>
                            <a:pt x="21" y="19"/>
                          </a:lnTo>
                          <a:lnTo>
                            <a:pt x="138" y="37"/>
                          </a:lnTo>
                          <a:lnTo>
                            <a:pt x="246" y="0"/>
                          </a:lnTo>
                          <a:lnTo>
                            <a:pt x="246" y="45"/>
                          </a:lnTo>
                          <a:lnTo>
                            <a:pt x="156" y="90"/>
                          </a:lnTo>
                          <a:lnTo>
                            <a:pt x="66" y="88"/>
                          </a:lnTo>
                          <a:lnTo>
                            <a:pt x="21" y="45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Freeform 1531"/>
                    <p:cNvSpPr/>
                    <p:nvPr/>
                  </p:nvSpPr>
                  <p:spPr>
                    <a:xfrm>
                      <a:off x="2596680" y="3256560"/>
                      <a:ext cx="259200" cy="93600"/>
                    </a:xfrm>
                    <a:custGeom>
                      <a:avLst/>
                      <a:gdLst>
                        <a:gd name="textAreaLeft" fmla="*/ 0 w 259200"/>
                        <a:gd name="textAreaRight" fmla="*/ 259560 w 259200"/>
                        <a:gd name="textAreaTop" fmla="*/ 0 h 93600"/>
                        <a:gd name="textAreaBottom" fmla="*/ 93960 h 93600"/>
                      </a:gdLst>
                      <a:ahLst/>
                      <a:rect l="textAreaLeft" t="textAreaTop" r="textAreaRight" b="textAreaBottom"/>
                      <a:pathLst>
                        <a:path w="288" h="101">
                          <a:moveTo>
                            <a:pt x="15" y="12"/>
                          </a:moveTo>
                          <a:lnTo>
                            <a:pt x="36" y="30"/>
                          </a:lnTo>
                          <a:lnTo>
                            <a:pt x="153" y="48"/>
                          </a:lnTo>
                          <a:lnTo>
                            <a:pt x="288" y="0"/>
                          </a:lnTo>
                          <a:lnTo>
                            <a:pt x="261" y="56"/>
                          </a:lnTo>
                          <a:lnTo>
                            <a:pt x="171" y="101"/>
                          </a:lnTo>
                          <a:lnTo>
                            <a:pt x="81" y="99"/>
                          </a:lnTo>
                          <a:lnTo>
                            <a:pt x="36" y="56"/>
                          </a:lnTo>
                          <a:lnTo>
                            <a:pt x="0" y="27"/>
                          </a:lnTo>
                          <a:lnTo>
                            <a:pt x="15" y="1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Freeform 1532"/>
                    <p:cNvSpPr/>
                    <p:nvPr/>
                  </p:nvSpPr>
                  <p:spPr>
                    <a:xfrm>
                      <a:off x="2877840" y="3256560"/>
                      <a:ext cx="256680" cy="93600"/>
                    </a:xfrm>
                    <a:custGeom>
                      <a:avLst/>
                      <a:gdLst>
                        <a:gd name="textAreaLeft" fmla="*/ 0 w 256680"/>
                        <a:gd name="textAreaRight" fmla="*/ 256680 w 256680"/>
                        <a:gd name="textAreaTop" fmla="*/ 0 h 93600"/>
                        <a:gd name="textAreaBottom" fmla="*/ 93960 h 93600"/>
                      </a:gdLst>
                      <a:ahLst/>
                      <a:rect l="textAreaLeft" t="textAreaTop" r="textAreaRight" b="textAreaBottom"/>
                      <a:pathLst>
                        <a:path w="285" h="101">
                          <a:moveTo>
                            <a:pt x="18" y="12"/>
                          </a:moveTo>
                          <a:lnTo>
                            <a:pt x="43" y="30"/>
                          </a:lnTo>
                          <a:lnTo>
                            <a:pt x="181" y="48"/>
                          </a:lnTo>
                          <a:lnTo>
                            <a:pt x="285" y="0"/>
                          </a:lnTo>
                          <a:lnTo>
                            <a:pt x="270" y="51"/>
                          </a:lnTo>
                          <a:lnTo>
                            <a:pt x="203" y="101"/>
                          </a:lnTo>
                          <a:lnTo>
                            <a:pt x="96" y="99"/>
                          </a:lnTo>
                          <a:lnTo>
                            <a:pt x="0" y="24"/>
                          </a:lnTo>
                          <a:lnTo>
                            <a:pt x="18" y="1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Freeform 1533"/>
                    <p:cNvSpPr/>
                    <p:nvPr/>
                  </p:nvSpPr>
                  <p:spPr>
                    <a:xfrm>
                      <a:off x="3177720" y="3254040"/>
                      <a:ext cx="235080" cy="106920"/>
                    </a:xfrm>
                    <a:custGeom>
                      <a:avLst/>
                      <a:gdLst>
                        <a:gd name="textAreaLeft" fmla="*/ 0 w 235080"/>
                        <a:gd name="textAreaRight" fmla="*/ 235440 w 235080"/>
                        <a:gd name="textAreaTop" fmla="*/ 0 h 106920"/>
                        <a:gd name="textAreaBottom" fmla="*/ 107280 h 106920"/>
                      </a:gdLst>
                      <a:ahLst/>
                      <a:rect l="textAreaLeft" t="textAreaTop" r="textAreaRight" b="textAreaBottom"/>
                      <a:pathLst>
                        <a:path w="261" h="115">
                          <a:moveTo>
                            <a:pt x="18" y="26"/>
                          </a:moveTo>
                          <a:lnTo>
                            <a:pt x="43" y="44"/>
                          </a:lnTo>
                          <a:lnTo>
                            <a:pt x="181" y="62"/>
                          </a:lnTo>
                          <a:lnTo>
                            <a:pt x="261" y="0"/>
                          </a:lnTo>
                          <a:lnTo>
                            <a:pt x="258" y="33"/>
                          </a:lnTo>
                          <a:lnTo>
                            <a:pt x="203" y="115"/>
                          </a:lnTo>
                          <a:lnTo>
                            <a:pt x="96" y="113"/>
                          </a:lnTo>
                          <a:lnTo>
                            <a:pt x="0" y="38"/>
                          </a:lnTo>
                          <a:lnTo>
                            <a:pt x="18" y="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Freeform 1534"/>
                    <p:cNvSpPr/>
                    <p:nvPr/>
                  </p:nvSpPr>
                  <p:spPr>
                    <a:xfrm>
                      <a:off x="3437280" y="3266640"/>
                      <a:ext cx="240480" cy="93960"/>
                    </a:xfrm>
                    <a:custGeom>
                      <a:avLst/>
                      <a:gdLst>
                        <a:gd name="textAreaLeft" fmla="*/ 0 w 240480"/>
                        <a:gd name="textAreaRight" fmla="*/ 240840 w 240480"/>
                        <a:gd name="textAreaTop" fmla="*/ 0 h 93960"/>
                        <a:gd name="textAreaBottom" fmla="*/ 94320 h 93960"/>
                      </a:gdLst>
                      <a:ahLst/>
                      <a:rect l="textAreaLeft" t="textAreaTop" r="textAreaRight" b="textAreaBottom"/>
                      <a:pathLst>
                        <a:path w="267" h="101">
                          <a:moveTo>
                            <a:pt x="0" y="12"/>
                          </a:moveTo>
                          <a:lnTo>
                            <a:pt x="25" y="30"/>
                          </a:lnTo>
                          <a:lnTo>
                            <a:pt x="163" y="48"/>
                          </a:lnTo>
                          <a:lnTo>
                            <a:pt x="267" y="0"/>
                          </a:lnTo>
                          <a:lnTo>
                            <a:pt x="252" y="51"/>
                          </a:lnTo>
                          <a:lnTo>
                            <a:pt x="185" y="101"/>
                          </a:lnTo>
                          <a:lnTo>
                            <a:pt x="78" y="99"/>
                          </a:lnTo>
                          <a:lnTo>
                            <a:pt x="9" y="4"/>
                          </a:lnTo>
                          <a:lnTo>
                            <a:pt x="0" y="1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Freeform 1535"/>
                    <p:cNvSpPr/>
                    <p:nvPr/>
                  </p:nvSpPr>
                  <p:spPr>
                    <a:xfrm>
                      <a:off x="4232160" y="3256560"/>
                      <a:ext cx="237600" cy="104040"/>
                    </a:xfrm>
                    <a:custGeom>
                      <a:avLst/>
                      <a:gdLst>
                        <a:gd name="textAreaLeft" fmla="*/ 0 w 237600"/>
                        <a:gd name="textAreaRight" fmla="*/ 237960 w 237600"/>
                        <a:gd name="textAreaTop" fmla="*/ 0 h 104040"/>
                        <a:gd name="textAreaBottom" fmla="*/ 104400 h 104040"/>
                      </a:gdLst>
                      <a:ahLst/>
                      <a:rect l="textAreaLeft" t="textAreaTop" r="textAreaRight" b="textAreaBottom"/>
                      <a:pathLst>
                        <a:path w="264" h="112">
                          <a:moveTo>
                            <a:pt x="18" y="23"/>
                          </a:moveTo>
                          <a:lnTo>
                            <a:pt x="43" y="41"/>
                          </a:lnTo>
                          <a:lnTo>
                            <a:pt x="181" y="59"/>
                          </a:lnTo>
                          <a:lnTo>
                            <a:pt x="264" y="0"/>
                          </a:lnTo>
                          <a:lnTo>
                            <a:pt x="243" y="57"/>
                          </a:lnTo>
                          <a:lnTo>
                            <a:pt x="203" y="112"/>
                          </a:lnTo>
                          <a:lnTo>
                            <a:pt x="96" y="110"/>
                          </a:lnTo>
                          <a:lnTo>
                            <a:pt x="0" y="35"/>
                          </a:lnTo>
                          <a:lnTo>
                            <a:pt x="18" y="2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6" name="Group 1536"/>
                <p:cNvGrpSpPr/>
                <p:nvPr/>
              </p:nvGrpSpPr>
              <p:grpSpPr>
                <a:xfrm>
                  <a:off x="785880" y="2214720"/>
                  <a:ext cx="2919240" cy="3434040"/>
                  <a:chOff x="785880" y="2214720"/>
                  <a:chExt cx="2919240" cy="3434040"/>
                </a:xfrm>
              </p:grpSpPr>
              <p:sp>
                <p:nvSpPr>
                  <p:cNvPr id="397" name="Text Box 1537"/>
                  <p:cNvSpPr/>
                  <p:nvPr/>
                </p:nvSpPr>
                <p:spPr>
                  <a:xfrm>
                    <a:off x="988560" y="2214720"/>
                    <a:ext cx="1216080" cy="46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lectrodos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Text Box 1538"/>
                  <p:cNvSpPr/>
                  <p:nvPr/>
                </p:nvSpPr>
                <p:spPr>
                  <a:xfrm>
                    <a:off x="988560" y="2675160"/>
                    <a:ext cx="1216080" cy="46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que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Text Box 1539"/>
                  <p:cNvSpPr/>
                  <p:nvPr/>
                </p:nvSpPr>
                <p:spPr>
                  <a:xfrm>
                    <a:off x="988560" y="3261600"/>
                    <a:ext cx="770040" cy="418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as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Text Box 1540"/>
                  <p:cNvSpPr/>
                  <p:nvPr/>
                </p:nvSpPr>
                <p:spPr>
                  <a:xfrm>
                    <a:off x="988560" y="5020560"/>
                    <a:ext cx="810720" cy="62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ta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Text Box 1541"/>
                  <p:cNvSpPr/>
                  <p:nvPr/>
                </p:nvSpPr>
                <p:spPr>
                  <a:xfrm>
                    <a:off x="1028880" y="3889800"/>
                    <a:ext cx="1216080" cy="795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otas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ta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1542"/>
                  <p:cNvSpPr/>
                  <p:nvPr/>
                </p:nvSpPr>
                <p:spPr>
                  <a:xfrm>
                    <a:off x="1110240" y="2507760"/>
                    <a:ext cx="892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Line 1543"/>
                  <p:cNvSpPr/>
                  <p:nvPr/>
                </p:nvSpPr>
                <p:spPr>
                  <a:xfrm>
                    <a:off x="1961640" y="2507760"/>
                    <a:ext cx="1743480" cy="25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Line 1544"/>
                  <p:cNvSpPr/>
                  <p:nvPr/>
                </p:nvSpPr>
                <p:spPr>
                  <a:xfrm>
                    <a:off x="1961640" y="2507760"/>
                    <a:ext cx="121320" cy="167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Line 1545"/>
                  <p:cNvSpPr/>
                  <p:nvPr/>
                </p:nvSpPr>
                <p:spPr>
                  <a:xfrm>
                    <a:off x="1110240" y="2968560"/>
                    <a:ext cx="446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Line 1546"/>
                  <p:cNvSpPr/>
                  <p:nvPr/>
                </p:nvSpPr>
                <p:spPr>
                  <a:xfrm>
                    <a:off x="1556280" y="2968560"/>
                    <a:ext cx="364680" cy="209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Line 1547"/>
                  <p:cNvSpPr/>
                  <p:nvPr/>
                </p:nvSpPr>
                <p:spPr>
                  <a:xfrm>
                    <a:off x="1110240" y="3555000"/>
                    <a:ext cx="446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Line 1548"/>
                  <p:cNvSpPr/>
                  <p:nvPr/>
                </p:nvSpPr>
                <p:spPr>
                  <a:xfrm>
                    <a:off x="1556280" y="3555000"/>
                    <a:ext cx="486360" cy="8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Line 1549"/>
                  <p:cNvSpPr/>
                  <p:nvPr/>
                </p:nvSpPr>
                <p:spPr>
                  <a:xfrm>
                    <a:off x="1556280" y="3555000"/>
                    <a:ext cx="364680" cy="167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Line 1550"/>
                  <p:cNvSpPr/>
                  <p:nvPr/>
                </p:nvSpPr>
                <p:spPr>
                  <a:xfrm>
                    <a:off x="1150560" y="4434480"/>
                    <a:ext cx="486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Line 1551"/>
                  <p:cNvSpPr/>
                  <p:nvPr/>
                </p:nvSpPr>
                <p:spPr>
                  <a:xfrm>
                    <a:off x="1596600" y="4434480"/>
                    <a:ext cx="973080" cy="29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Line 1552"/>
                  <p:cNvSpPr/>
                  <p:nvPr/>
                </p:nvSpPr>
                <p:spPr>
                  <a:xfrm>
                    <a:off x="1110240" y="5565240"/>
                    <a:ext cx="527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Text Box 1553"/>
                  <p:cNvSpPr/>
                  <p:nvPr/>
                </p:nvSpPr>
                <p:spPr>
                  <a:xfrm>
                    <a:off x="785880" y="4560120"/>
                    <a:ext cx="1013400" cy="36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scoria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Line 1554"/>
                  <p:cNvSpPr/>
                  <p:nvPr/>
                </p:nvSpPr>
                <p:spPr>
                  <a:xfrm>
                    <a:off x="1637280" y="5565240"/>
                    <a:ext cx="283680" cy="8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Line 1555"/>
                  <p:cNvSpPr/>
                  <p:nvPr/>
                </p:nvSpPr>
                <p:spPr>
                  <a:xfrm>
                    <a:off x="1150560" y="4853520"/>
                    <a:ext cx="446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Line 1556"/>
                  <p:cNvSpPr/>
                  <p:nvPr/>
                </p:nvSpPr>
                <p:spPr>
                  <a:xfrm>
                    <a:off x="1596600" y="4853520"/>
                    <a:ext cx="283680" cy="41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7" name="Line 1557"/>
              <p:cNvSpPr/>
              <p:nvPr/>
            </p:nvSpPr>
            <p:spPr>
              <a:xfrm flipV="1">
                <a:off x="1596600" y="3345120"/>
                <a:ext cx="24300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1558"/>
            <p:cNvGrpSpPr/>
            <p:nvPr/>
          </p:nvGrpSpPr>
          <p:grpSpPr>
            <a:xfrm>
              <a:off x="7718760" y="2842560"/>
              <a:ext cx="810720" cy="2931840"/>
              <a:chOff x="7718760" y="2842560"/>
              <a:chExt cx="810720" cy="2931840"/>
            </a:xfrm>
          </p:grpSpPr>
          <p:sp>
            <p:nvSpPr>
              <p:cNvPr id="419" name="Text Box 1559"/>
              <p:cNvSpPr/>
              <p:nvPr/>
            </p:nvSpPr>
            <p:spPr>
              <a:xfrm>
                <a:off x="7718760" y="2842560"/>
                <a:ext cx="7297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60"/>
              <p:cNvSpPr/>
              <p:nvPr/>
            </p:nvSpPr>
            <p:spPr>
              <a:xfrm>
                <a:off x="7718760" y="3219480"/>
                <a:ext cx="7297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561"/>
              <p:cNvSpPr/>
              <p:nvPr/>
            </p:nvSpPr>
            <p:spPr>
              <a:xfrm>
                <a:off x="7718760" y="3596400"/>
                <a:ext cx="7297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Text Box 1562"/>
              <p:cNvSpPr/>
              <p:nvPr/>
            </p:nvSpPr>
            <p:spPr>
              <a:xfrm>
                <a:off x="7718760" y="3973320"/>
                <a:ext cx="7297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1563"/>
              <p:cNvSpPr/>
              <p:nvPr/>
            </p:nvSpPr>
            <p:spPr>
              <a:xfrm>
                <a:off x="7718760" y="4308480"/>
                <a:ext cx="7297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1564"/>
              <p:cNvSpPr/>
              <p:nvPr/>
            </p:nvSpPr>
            <p:spPr>
              <a:xfrm>
                <a:off x="7759080" y="4685400"/>
                <a:ext cx="7297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Text Box 1565"/>
              <p:cNvSpPr/>
              <p:nvPr/>
            </p:nvSpPr>
            <p:spPr>
              <a:xfrm>
                <a:off x="7799760" y="5020560"/>
                <a:ext cx="7297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1566"/>
              <p:cNvSpPr/>
              <p:nvPr/>
            </p:nvSpPr>
            <p:spPr>
              <a:xfrm>
                <a:off x="7799760" y="5355720"/>
                <a:ext cx="7297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182520" y="152280"/>
            <a:ext cx="8510760" cy="1262160"/>
          </a:xfrm>
          <a:prstGeom prst="rect">
            <a:avLst/>
          </a:prstGeom>
          <a:ln w="0">
            <a:noFill/>
          </a:ln>
        </p:spPr>
      </p:pic>
      <p:sp>
        <p:nvSpPr>
          <p:cNvPr id="428" name="100 CuadroTexto"/>
          <p:cNvSpPr/>
          <p:nvPr/>
        </p:nvSpPr>
        <p:spPr>
          <a:xfrm>
            <a:off x="500040" y="1928880"/>
            <a:ext cx="8072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El sistema está diseñado para dar un tiempo de residencia de 2 a 3 horas y una escoria de 0.55 a 0.65%Cu y 35-40% de 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Consumo Típico: 1200Kwh/T de escoria fundida y 600 Kwh/T de material sólido car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En sedimentación, el consumo varía entre 50 y 100 Kwh/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Carbón: Sobre el 2% por peso de la escoria cargada y sobre 5% en peso para un reductor sulfí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El calor es generado por paso de corriente eléctrica a través de un material resis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182520" y="152280"/>
            <a:ext cx="8510760" cy="1262160"/>
          </a:xfrm>
          <a:prstGeom prst="rect">
            <a:avLst/>
          </a:prstGeom>
          <a:ln w="0">
            <a:noFill/>
          </a:ln>
        </p:spPr>
      </p:pic>
      <p:sp>
        <p:nvSpPr>
          <p:cNvPr id="430" name="100 CuadroTexto"/>
          <p:cNvSpPr/>
          <p:nvPr/>
        </p:nvSpPr>
        <p:spPr>
          <a:xfrm>
            <a:off x="500040" y="1928880"/>
            <a:ext cx="8072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rbel"/>
              </a:rPr>
              <a:t>La eficiencia de desarrollo de calor es dependiente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La intensidad de corr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La distancia entre electrodos y la superficie de la mata o profundidad de la esc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La resistencia específica de la escoria. La resistencia se aumenta cambiando la composición, agregando elementos que le den mayor acidez a la esco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En general, para una operación eficiente de un Horno Eléctrico de electrodos sumergidos en una escoria de resistencia, se basa en una altura de fase de escoria profunda, alto voltaje y un alto factor de po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212760" y="-12600"/>
            <a:ext cx="8480520" cy="1476360"/>
          </a:xfrm>
          <a:prstGeom prst="rect">
            <a:avLst/>
          </a:prstGeom>
          <a:ln w="0">
            <a:noFill/>
          </a:ln>
        </p:spPr>
      </p:pic>
      <p:sp>
        <p:nvSpPr>
          <p:cNvPr id="432" name="100 CuadroTexto"/>
          <p:cNvSpPr/>
          <p:nvPr/>
        </p:nvSpPr>
        <p:spPr>
          <a:xfrm>
            <a:off x="428760" y="1643040"/>
            <a:ext cx="8072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rbel"/>
              </a:rPr>
              <a:t>Reducción Direc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Fe3O4 + C = 3FeO +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FeO + C = Fe +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rbel"/>
              </a:rPr>
              <a:t>Reducción Indi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Fe3O4 + CO = 3FeO + 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FeO + CO = Fe + 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rbel"/>
              </a:rPr>
              <a:t>Reacción de B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CO2 + C = 2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rbel"/>
              </a:rPr>
              <a:t>Vía Hi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Fe3O4 + Fe = 4F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182520" y="152280"/>
            <a:ext cx="8626680" cy="1262160"/>
          </a:xfrm>
          <a:prstGeom prst="rect">
            <a:avLst/>
          </a:prstGeom>
          <a:ln w="0">
            <a:noFill/>
          </a:ln>
        </p:spPr>
      </p:pic>
      <p:sp>
        <p:nvSpPr>
          <p:cNvPr id="434" name="100 CuadroTexto"/>
          <p:cNvSpPr/>
          <p:nvPr/>
        </p:nvSpPr>
        <p:spPr>
          <a:xfrm>
            <a:off x="428760" y="1643040"/>
            <a:ext cx="8072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Difusión de CO2 a través de la capa de difusión de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Adsorción de CO2 en la superficie del carb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Reacción d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Desorción de CO desde la superficie de carb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Difusíón de CO  a través de las capas de difusión de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Adsorción de CO sobre la superficie de escoria líq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Reacción de reducción de los óxidos metá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Difusión de óxidos metálicos (Fe3O4-Cu2O) desde el seno de la escoria a la interfase líquida escoria-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Si la actividad del Fe3O4 es baja; reducción de Cu2O a cobre metá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Nucleación y crecimiento de cobre metálico, coalescencia sedi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Si la actividad del Fe3O4 y Cu2O es baja, reducción de FeO a hierro metá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Nucleación y crecimiento de hierro metá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Reducción de Fe3O4 y Cu2O con hierro metá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Desorción de CO2 desde la superficie de escoria líq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Difusión de CO2 a través de la capa de difusión de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Rectangle 2" descr=""/>
          <p:cNvPicPr/>
          <p:nvPr/>
        </p:nvPicPr>
        <p:blipFill>
          <a:blip r:embed="rId1"/>
          <a:stretch/>
        </p:blipFill>
        <p:spPr>
          <a:xfrm>
            <a:off x="182520" y="152280"/>
            <a:ext cx="8510760" cy="12621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0" descr=""/>
          <p:cNvPicPr/>
          <p:nvPr/>
        </p:nvPicPr>
        <p:blipFill>
          <a:blip r:embed="rId2"/>
          <a:stretch/>
        </p:blipFill>
        <p:spPr>
          <a:xfrm>
            <a:off x="642960" y="2428920"/>
            <a:ext cx="3340080" cy="42926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1" descr=""/>
          <p:cNvPicPr/>
          <p:nvPr/>
        </p:nvPicPr>
        <p:blipFill>
          <a:blip r:embed="rId3"/>
          <a:stretch/>
        </p:blipFill>
        <p:spPr>
          <a:xfrm>
            <a:off x="5214960" y="2357280"/>
            <a:ext cx="3225600" cy="429588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29"/>
          <p:cNvSpPr/>
          <p:nvPr/>
        </p:nvSpPr>
        <p:spPr>
          <a:xfrm>
            <a:off x="254160" y="1434960"/>
            <a:ext cx="4851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coria de Convertidor Ten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2"/>
          <p:cNvSpPr/>
          <p:nvPr/>
        </p:nvSpPr>
        <p:spPr>
          <a:xfrm>
            <a:off x="5500800" y="1428840"/>
            <a:ext cx="3111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coria Reduc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5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1357200" y="1500120"/>
            <a:ext cx="6432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182520" y="152280"/>
            <a:ext cx="8510760" cy="126216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1"/>
          <p:cNvSpPr/>
          <p:nvPr/>
        </p:nvSpPr>
        <p:spPr>
          <a:xfrm>
            <a:off x="285840" y="1447200"/>
            <a:ext cx="8501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Un horno de limpieza de escoria trata 120 toneladas de escoria CT, cuya composición es de 6 % Cu, 18 % Fe3O4, 31,13 %SiO2 y 46,69 % F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Mediante la alimentación de carbón como reductor se obtiene una escoria de descarte con 1% en Cu y 6 % Fe3O4, y un eje compuesto de Cu2S y FeS equivalente a un contenido en cobre de 7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Si la recuperación de cobre en el proceso es de 86% y considerando que la reacción de reducción es la sigu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C + 2Fe3O4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MX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 CO2 + 6F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Calcu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Masa escoria reduc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Masa y composición del eje produc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Tiempo de reducción si se utiliza un flujo de reductor de 15 kg/min y considerando que la eficiencia del reductor es de 80% y su contenido de carbono es de 9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182520" y="152280"/>
            <a:ext cx="851076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" name=""/>
          <p:cNvGraphicFramePr/>
          <p:nvPr/>
        </p:nvGraphicFramePr>
        <p:xfrm>
          <a:off x="2357280" y="2714760"/>
          <a:ext cx="4572000" cy="2124000"/>
        </p:xfrm>
        <a:graphic>
          <a:graphicData uri="http://schemas.openxmlformats.org/drawingml/2006/table">
            <a:tbl>
              <a:tblPr/>
              <a:tblGrid>
                <a:gridCol w="1571760"/>
                <a:gridCol w="1476360"/>
                <a:gridCol w="152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omponentes  (% en pes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l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0-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8-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e3O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8-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i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4-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8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  <p:sp>
        <p:nvSpPr>
          <p:cNvPr id="315" name="9 CuadroTexto"/>
          <p:cNvSpPr/>
          <p:nvPr/>
        </p:nvSpPr>
        <p:spPr>
          <a:xfrm>
            <a:off x="428760" y="164304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rbel"/>
              </a:rPr>
              <a:t>Escoria de Horno Flash y Convertidor Ten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10 CuadroTexto"/>
          <p:cNvSpPr/>
          <p:nvPr/>
        </p:nvSpPr>
        <p:spPr>
          <a:xfrm>
            <a:off x="642960" y="5357880"/>
            <a:ext cx="792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El primer criterio para un proceso de tratamiento de escoria es una alta recuperación de cobre, esto es, la limpieza de la escoria limpia debería contener menos del 0.5% Cu en p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182520" y="152280"/>
            <a:ext cx="8510760" cy="1262160"/>
          </a:xfrm>
          <a:prstGeom prst="rect">
            <a:avLst/>
          </a:prstGeom>
          <a:ln w="0">
            <a:noFill/>
          </a:ln>
        </p:spPr>
      </p:pic>
      <p:sp>
        <p:nvSpPr>
          <p:cNvPr id="318" name="9 CuadroTexto"/>
          <p:cNvSpPr/>
          <p:nvPr/>
        </p:nvSpPr>
        <p:spPr>
          <a:xfrm>
            <a:off x="357120" y="1928880"/>
            <a:ext cx="821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rbel"/>
              </a:rPr>
              <a:t>Pérdidas de cobre en las esco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El cobre en la escoria se encuentra principalmente en dos for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Inclusiones de mata y cobre metálico atrapado mecánic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Cobre disue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182520" y="152280"/>
            <a:ext cx="851076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9 CuadroTexto"/>
          <p:cNvSpPr/>
          <p:nvPr/>
        </p:nvSpPr>
        <p:spPr>
          <a:xfrm>
            <a:off x="357120" y="4643280"/>
            <a:ext cx="821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rbel"/>
              </a:rPr>
              <a:t>Disolución de co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Potencial de Oxígeno en la esc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Actividad del Cobre en la m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Composición de la esc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3 CuadroTexto"/>
          <p:cNvSpPr/>
          <p:nvPr/>
        </p:nvSpPr>
        <p:spPr>
          <a:xfrm>
            <a:off x="428760" y="1643040"/>
            <a:ext cx="8215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rbel"/>
              </a:rPr>
              <a:t>Inclu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Infiltración de súlfuros en la ganga porosa durante la f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Oxidación y Fusión de concentrado en suspensión sobre el b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Inyección de concentrado en mata o esc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Agitación intensiva del baño y adición de concentrado sobre la suspensión de la esc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Transporte de la mata a la escoria debido al ascenso de burbujas de gas hacia la interfase mata-esc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30240" y="-165240"/>
            <a:ext cx="8534160" cy="17812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7" descr=""/>
          <p:cNvPicPr/>
          <p:nvPr/>
        </p:nvPicPr>
        <p:blipFill>
          <a:blip r:embed="rId2"/>
          <a:stretch/>
        </p:blipFill>
        <p:spPr>
          <a:xfrm>
            <a:off x="0" y="2554200"/>
            <a:ext cx="4483080" cy="3932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8" descr=""/>
          <p:cNvPicPr/>
          <p:nvPr/>
        </p:nvPicPr>
        <p:blipFill>
          <a:blip r:embed="rId3"/>
          <a:stretch/>
        </p:blipFill>
        <p:spPr>
          <a:xfrm>
            <a:off x="4648320" y="2502000"/>
            <a:ext cx="4495680" cy="39448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29"/>
          <p:cNvSpPr/>
          <p:nvPr/>
        </p:nvSpPr>
        <p:spPr>
          <a:xfrm>
            <a:off x="1473120" y="2235240"/>
            <a:ext cx="23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ta de Co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0"/>
          <p:cNvSpPr/>
          <p:nvPr/>
        </p:nvSpPr>
        <p:spPr>
          <a:xfrm>
            <a:off x="5791320" y="2197080"/>
            <a:ext cx="23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bre Metá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182520" y="152280"/>
            <a:ext cx="8663040" cy="1262160"/>
          </a:xfrm>
          <a:prstGeom prst="rect">
            <a:avLst/>
          </a:prstGeom>
          <a:ln w="0">
            <a:noFill/>
          </a:ln>
        </p:spPr>
      </p:pic>
      <p:sp>
        <p:nvSpPr>
          <p:cNvPr id="328" name="7 CuadroTexto"/>
          <p:cNvSpPr/>
          <p:nvPr/>
        </p:nvSpPr>
        <p:spPr>
          <a:xfrm>
            <a:off x="357120" y="1928880"/>
            <a:ext cx="8072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rbel"/>
              </a:rPr>
              <a:t>Vía Molienda – Flo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rbel"/>
              </a:rPr>
              <a:t>Vía Lixiv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rbel"/>
              </a:rPr>
              <a:t>Vía Pirometalúr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Sedimentación Ex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Recirculación de Esc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Horno de Limpieza de Esc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Horno Eléctrico de Limpieza de Esc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Rectangle 2" descr=""/>
          <p:cNvPicPr/>
          <p:nvPr/>
        </p:nvPicPr>
        <p:blipFill>
          <a:blip r:embed="rId1"/>
          <a:stretch/>
        </p:blipFill>
        <p:spPr>
          <a:xfrm>
            <a:off x="212760" y="-12600"/>
            <a:ext cx="8480520" cy="1476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47" descr=""/>
          <p:cNvPicPr/>
          <p:nvPr/>
        </p:nvPicPr>
        <p:blipFill>
          <a:blip r:embed="rId2"/>
          <a:stretch/>
        </p:blipFill>
        <p:spPr>
          <a:xfrm>
            <a:off x="1571760" y="1521000"/>
            <a:ext cx="578160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Rectangle 2" descr=""/>
          <p:cNvPicPr/>
          <p:nvPr/>
        </p:nvPicPr>
        <p:blipFill>
          <a:blip r:embed="rId1"/>
          <a:stretch/>
        </p:blipFill>
        <p:spPr>
          <a:xfrm>
            <a:off x="182520" y="152280"/>
            <a:ext cx="8510760" cy="1262160"/>
          </a:xfrm>
          <a:prstGeom prst="rect">
            <a:avLst/>
          </a:prstGeom>
          <a:ln w="0">
            <a:noFill/>
          </a:ln>
        </p:spPr>
      </p:pic>
      <p:sp>
        <p:nvSpPr>
          <p:cNvPr id="332" name="3 CuadroTexto"/>
          <p:cNvSpPr/>
          <p:nvPr/>
        </p:nvSpPr>
        <p:spPr>
          <a:xfrm>
            <a:off x="500040" y="1714680"/>
            <a:ext cx="8072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rbel"/>
              </a:rPr>
              <a:t>La efectividad de un proceso pirometalúrgico para tratar escorias depende de los siguientes facto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Se requiere un reductor (carbón o coke). El grado de contacto entre las fases y la agitación determina la velocidad de reacción, la cual depende del tipo de h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La sedimentación depende de las propiedades de la escoria y de la mata, agitación del baño, tamaño de las partículas de mata dispersas, y profundidad de esc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El diseño y disposición de el o los ho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182520" y="152280"/>
            <a:ext cx="8510760" cy="1262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382" descr=""/>
          <p:cNvPicPr/>
          <p:nvPr/>
        </p:nvPicPr>
        <p:blipFill>
          <a:blip r:embed="rId2"/>
          <a:stretch/>
        </p:blipFill>
        <p:spPr>
          <a:xfrm>
            <a:off x="1428840" y="2143080"/>
            <a:ext cx="771516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20:22:29Z</dcterms:created>
  <dc:creator>rolivares</dc:creator>
  <dc:description/>
  <dc:language>en-US</dc:language>
  <cp:lastModifiedBy>Julio</cp:lastModifiedBy>
  <dcterms:modified xsi:type="dcterms:W3CDTF">2009-09-30T04:00:50Z</dcterms:modified>
  <cp:revision>133</cp:revision>
  <dc:subject/>
  <dc:title>Clases Auxiliares MI 51A - Pirometalurgia</dc:title>
</cp:coreProperties>
</file>