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6.png" ContentType="image/png"/>
  <Override PartName="/ppt/media/image14.wmf" ContentType="image/x-wmf"/>
  <Override PartName="/ppt/media/image4.png" ContentType="image/png"/>
  <Override PartName="/ppt/media/image23.png" ContentType="image/png"/>
  <Override PartName="/ppt/media/image21.wmf" ContentType="image/x-wmf"/>
  <Override PartName="/ppt/media/image5.png" ContentType="image/png"/>
  <Override PartName="/ppt/media/image10.png" ContentType="image/png"/>
  <Override PartName="/ppt/media/image20.wmf" ContentType="image/x-wmf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.jpeg" ContentType="image/jpeg"/>
  <Override PartName="/ppt/media/image22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MI51A - Pirometalurg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FD946-E522-49F8-8091-53B8985060D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35FC-E738-45C9-BF35-7A158EE3344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946E8-4C1D-4685-B97E-F17288911F76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3F27-D1AB-4926-9D1D-C6E107610FB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0DC0-1F0F-4004-8640-31D64B80C4A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C364-C8E1-4B94-9175-2EE3559CE85D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E32B-A52E-4353-8F5D-3FAF9D2ADD58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9B187-CCC8-40AA-A5B3-CD321DB2A4B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F0BAB-9D36-45A2-9BDB-E2956C62E26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9A688-1AFB-4DC8-A525-1566557C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2A3-4EA8-48F9-A27F-CABA3B6F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AC59-B435-4F94-9E74-6B3A6F893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1053-5B12-45A0-945E-98F4A76B8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21CDC-845B-468A-84CE-D95EF9F0E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E7982-D8AC-4DFE-8A7B-FFB98F6B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6E2B9-E13F-4619-B3D3-DF809CB24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2A2-919A-4B87-AF39-2599A82D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FA59-D9E0-4A30-AE08-7970A637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725CD-5998-404A-AA2A-8F24D21FB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4CDD-BC19-4FCD-8E58-E9AF2C9C3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9B69-A31B-43A8-9115-6DD66DB5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CF10-8E03-4B54-89AA-63E7A25C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BF2-65BB-4279-8225-2A7878E2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F5A9-17D9-46A2-829A-1D150FCA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B065-CEC3-46D7-9949-F4CC678F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A94F4-6ABD-473A-A9F0-BFAA74363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3019C-705B-458A-B87A-15BD14E60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3C29B8-588D-44F0-A8BA-558A0F194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B2D0A-3B02-46E1-9F7E-EF74DF37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27A9A-A7C9-421F-87E7-CD2349E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283BD-22EE-496C-9D89-337BCA031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0DC3-28C1-48E3-A845-517CF9DF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9E81B-E0FA-4068-AB59-5BE294F1C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E42E8-04F8-447D-93A8-F88F7807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AE8C-7380-42FB-BC2F-7F8314486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EA7CA7-54EC-4795-8C75-CA97FEB73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1439-0B66-4E59-A082-FD8BAAB8C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36545-6F44-4991-8AE8-5E25FED34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60DE9-2155-4937-A69E-A5FB12662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DDD96-1FC1-41A5-B0DB-7D41C2C44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49F89-B6DA-46D7-B097-0C4C0E48D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042FD-9504-443A-986E-8DB1A0D47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333F-C957-4628-8E69-D20CEF10B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2B634-F29B-4E21-AEE0-421F52F1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5231-530F-4AB7-896D-1F2D98E3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24B515-0320-4AA2-82CA-CDDB027A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E1DFE-B762-40C6-ADE7-268B6640E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043B6-D999-43A3-ACB3-BF21C220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CB4E-4115-457F-8B3F-4F717146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06099-08D8-4152-9431-6132A080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3849A8-0A00-4AE7-AE4D-B0E4EAC7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6D5B3-5037-418B-A06F-597C2AA4D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0887C-4905-48FF-8FE4-B0CDC97B9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BC4-6E8C-40EF-9AA6-E09392F1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A50A5-EB1B-4F8D-97E9-336122FB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695EC0-3463-4964-8527-46CDBE2BD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EBBAC-55AB-4380-8E88-62BBA366E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8C15BB-9C8E-42E2-870C-5612F55F0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C0C4F8-5752-403D-B9DA-FE679FB24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CC0A5-F203-4D11-995F-0E30ED6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0DAD7-62ED-4EC8-9C41-91E6BBBD1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1E5E0-A9BC-49B5-8CF9-F70A742C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0D29A-1BBB-479F-84F6-3AE7F341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92FCC-6C93-46D5-8D29-A50E1AB3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9BB7-2D39-4AAE-9C4C-38E16C406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35E44D-91D1-43AB-B3B8-67A5A4D40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1F906-1824-44AA-B3C4-FE703871D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72DDDD-94B9-408B-80A4-B99745358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5A40-BD78-40A7-83C6-47A06F1B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40EFA1-E170-4347-B27A-2BF5FDD0B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107C9-5DE5-4B0B-B2CC-314728EE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A88C0-0004-44D2-BED1-D5FB250D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E884A-CA13-41E0-BAB4-0F7DFDDD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CF844C-B76E-43BC-AF10-2FB0B44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33843B-B9A2-4EF7-AB28-836D75B0C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FD1-6C12-413A-A69E-0F9CEC06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B4801-331D-4D2A-A624-FD21F343B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06337E-E49A-496E-B1D0-72A5D4C1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5AEA6-51CF-4BC8-8E24-731988899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A03BD8-7BC5-4A1A-9E13-0EBFC4772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4E0D95-C53D-46DF-8A89-41FFF82D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623A2-4B1A-4773-9692-0007D071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603A9D-E8DD-46CB-857F-5EB4071A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CCFCB3-BAC6-4E4F-91B9-8CD6EACD1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0271-DAA1-4CDE-8851-F6671FF3B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793BB-4A57-4633-B162-E110665C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C8CC-8178-4261-84D0-8CF07ECA0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5FB9F-8458-40A2-8D72-76A98B0B9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0F523A-1BE8-43C3-BC27-A59E5448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8A50C-E58C-4BA1-A014-53B9FA2B1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8E11E-FB4E-4294-94B6-CDDE36E9C1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B94D0-C4E7-4865-8EAD-00587EFFA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7684-E496-4568-A5FE-D7951496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769D-E92A-426B-95B8-AD2A6363B469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8 Rectángulo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0 Rectángulo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009A-6560-49F1-8F8D-2E595FDB6E8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8 Rectángulo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10 Rectángulo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2BD6-3016-4BC6-9587-B927FE9BD635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671BE-9663-4342-8E63-16A75F8BD965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8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10 Rectángulo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0D5E3-2CA4-4F63-988F-4AF605211B0E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9 Rectángulo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6 Rectángulo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8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0 Rectángulo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2C5F3-5EFF-4083-9F23-2DA55D63E03E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8 Rectángulo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10 Rectángulo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7A9F8-3BBB-4859-AF14-77777FFBAF08}" type="slidenum">
              <a:rPr b="0" lang="es-CL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4" descr="http://cipres.cec.uchile.cl/~cam/main/images/logo2.gif"/>
          <p:cNvPicPr/>
          <p:nvPr/>
        </p:nvPicPr>
        <p:blipFill>
          <a:blip r:embed="rId1"/>
          <a:stretch/>
        </p:blipFill>
        <p:spPr>
          <a:xfrm>
            <a:off x="7451640" y="333360"/>
            <a:ext cx="1325520" cy="1266840"/>
          </a:xfrm>
          <a:prstGeom prst="rect">
            <a:avLst/>
          </a:prstGeom>
          <a:ln w="0">
            <a:noFill/>
          </a:ln>
        </p:spPr>
      </p:pic>
      <p:sp>
        <p:nvSpPr>
          <p:cNvPr id="311" name="Rectangle 3"/>
          <p:cNvSpPr/>
          <p:nvPr/>
        </p:nvSpPr>
        <p:spPr>
          <a:xfrm>
            <a:off x="428760" y="4714920"/>
            <a:ext cx="640080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Profesor Auxiliar: Julio Díaz 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Corbel"/>
              </a:rPr>
              <a:t>Semestre Primavera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Rectangle 2" descr=""/>
          <p:cNvPicPr/>
          <p:nvPr/>
        </p:nvPicPr>
        <p:blipFill>
          <a:blip r:embed="rId2"/>
          <a:stretch/>
        </p:blipFill>
        <p:spPr>
          <a:xfrm>
            <a:off x="444600" y="2030400"/>
            <a:ext cx="8016840" cy="14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grpSp>
        <p:nvGrpSpPr>
          <p:cNvPr id="336" name="Group 1476"/>
          <p:cNvGrpSpPr/>
          <p:nvPr/>
        </p:nvGrpSpPr>
        <p:grpSpPr>
          <a:xfrm>
            <a:off x="785880" y="2214720"/>
            <a:ext cx="7743600" cy="3731040"/>
            <a:chOff x="785880" y="2214720"/>
            <a:chExt cx="7743600" cy="3731040"/>
          </a:xfrm>
        </p:grpSpPr>
        <p:grpSp>
          <p:nvGrpSpPr>
            <p:cNvPr id="337" name="Group 1477"/>
            <p:cNvGrpSpPr/>
            <p:nvPr/>
          </p:nvGrpSpPr>
          <p:grpSpPr>
            <a:xfrm>
              <a:off x="785880" y="2214720"/>
              <a:ext cx="7297560" cy="3731040"/>
              <a:chOff x="785880" y="2214720"/>
              <a:chExt cx="7297560" cy="3731040"/>
            </a:xfrm>
          </p:grpSpPr>
          <p:grpSp>
            <p:nvGrpSpPr>
              <p:cNvPr id="338" name="Group 1478"/>
              <p:cNvGrpSpPr/>
              <p:nvPr/>
            </p:nvGrpSpPr>
            <p:grpSpPr>
              <a:xfrm>
                <a:off x="785880" y="2214720"/>
                <a:ext cx="7297560" cy="3731040"/>
                <a:chOff x="785880" y="2214720"/>
                <a:chExt cx="7297560" cy="3731040"/>
              </a:xfrm>
            </p:grpSpPr>
            <p:grpSp>
              <p:nvGrpSpPr>
                <p:cNvPr id="339" name="Group 1479"/>
                <p:cNvGrpSpPr/>
                <p:nvPr/>
              </p:nvGrpSpPr>
              <p:grpSpPr>
                <a:xfrm>
                  <a:off x="1758960" y="2260800"/>
                  <a:ext cx="6324480" cy="3684960"/>
                  <a:chOff x="1758960" y="2260800"/>
                  <a:chExt cx="6324480" cy="3684960"/>
                </a:xfrm>
              </p:grpSpPr>
              <p:grpSp>
                <p:nvGrpSpPr>
                  <p:cNvPr id="340" name="Group 1480"/>
                  <p:cNvGrpSpPr/>
                  <p:nvPr/>
                </p:nvGrpSpPr>
                <p:grpSpPr>
                  <a:xfrm>
                    <a:off x="1758960" y="2260800"/>
                    <a:ext cx="6324480" cy="3684960"/>
                    <a:chOff x="1758960" y="2260800"/>
                    <a:chExt cx="6324480" cy="3684960"/>
                  </a:xfrm>
                </p:grpSpPr>
                <p:grpSp>
                  <p:nvGrpSpPr>
                    <p:cNvPr id="341" name="Group 1481"/>
                    <p:cNvGrpSpPr/>
                    <p:nvPr/>
                  </p:nvGrpSpPr>
                  <p:grpSpPr>
                    <a:xfrm>
                      <a:off x="1758960" y="2260800"/>
                      <a:ext cx="2818080" cy="3684960"/>
                      <a:chOff x="1758960" y="2260800"/>
                      <a:chExt cx="2818080" cy="3684960"/>
                    </a:xfrm>
                  </p:grpSpPr>
                  <p:grpSp>
                    <p:nvGrpSpPr>
                      <p:cNvPr id="342" name="Group 1482"/>
                      <p:cNvGrpSpPr/>
                      <p:nvPr/>
                    </p:nvGrpSpPr>
                    <p:grpSpPr>
                      <a:xfrm>
                        <a:off x="1758960" y="3266640"/>
                        <a:ext cx="2818080" cy="2679120"/>
                        <a:chOff x="1758960" y="3266640"/>
                        <a:chExt cx="2818080" cy="2679120"/>
                      </a:xfrm>
                    </p:grpSpPr>
                    <p:grpSp>
                      <p:nvGrpSpPr>
                        <p:cNvPr id="343" name="Group 1483"/>
                        <p:cNvGrpSpPr/>
                        <p:nvPr/>
                      </p:nvGrpSpPr>
                      <p:grpSpPr>
                        <a:xfrm>
                          <a:off x="1758960" y="3266640"/>
                          <a:ext cx="2818080" cy="2679120"/>
                          <a:chOff x="1758960" y="3266640"/>
                          <a:chExt cx="2818080" cy="2679120"/>
                        </a:xfrm>
                      </p:grpSpPr>
                      <p:grpSp>
                        <p:nvGrpSpPr>
                          <p:cNvPr id="344" name="Group 1484"/>
                          <p:cNvGrpSpPr/>
                          <p:nvPr/>
                        </p:nvGrpSpPr>
                        <p:grpSpPr>
                          <a:xfrm>
                            <a:off x="1758960" y="3266640"/>
                            <a:ext cx="2818080" cy="2679120"/>
                            <a:chOff x="1758960" y="3266640"/>
                            <a:chExt cx="2818080" cy="2679120"/>
                          </a:xfrm>
                        </p:grpSpPr>
                        <p:sp>
                          <p:nvSpPr>
                            <p:cNvPr id="345" name="Rectangle 1485"/>
                            <p:cNvSpPr/>
                            <p:nvPr/>
                          </p:nvSpPr>
                          <p:spPr>
                            <a:xfrm>
                              <a:off x="1758960" y="3266640"/>
                              <a:ext cx="2756880" cy="217764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6" name="Rectangle 1486"/>
                            <p:cNvSpPr/>
                            <p:nvPr/>
                          </p:nvSpPr>
                          <p:spPr>
                            <a:xfrm>
                              <a:off x="1758960" y="5443560"/>
                              <a:ext cx="2756880" cy="50220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324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7" name="Text Box 1487"/>
                            <p:cNvSpPr/>
                            <p:nvPr/>
                          </p:nvSpPr>
                          <p:spPr>
                            <a:xfrm>
                              <a:off x="1839960" y="4941720"/>
                              <a:ext cx="1094400" cy="33480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Fe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SiO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8" name="Text Box 1488"/>
                            <p:cNvSpPr/>
                            <p:nvPr/>
                          </p:nvSpPr>
                          <p:spPr>
                            <a:xfrm>
                              <a:off x="2853360" y="4941720"/>
                              <a:ext cx="770040" cy="37692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Fe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3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O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4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49" name="Text Box 1489"/>
                            <p:cNvSpPr/>
                            <p:nvPr/>
                          </p:nvSpPr>
                          <p:spPr>
                            <a:xfrm>
                              <a:off x="3623760" y="4941720"/>
                              <a:ext cx="953280" cy="378720"/>
                            </a:xfrm>
                            <a:prstGeom prst="rect">
                              <a:avLst/>
                            </a:prstGeom>
                            <a:solidFill>
                              <a:srgbClr val="969696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Cu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O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0" name="Text Box 1490"/>
                            <p:cNvSpPr/>
                            <p:nvPr/>
                          </p:nvSpPr>
                          <p:spPr>
                            <a:xfrm>
                              <a:off x="2691360" y="5486040"/>
                              <a:ext cx="1216080" cy="376920"/>
                            </a:xfrm>
                            <a:prstGeom prst="rect">
                              <a:avLst/>
                            </a:prstGeom>
                            <a:solidFill>
                              <a:srgbClr val="c0c0c0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lnSpc>
                                  <a:spcPct val="100000"/>
                                </a:lnSpc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Cu</a:t>
                              </a:r>
                              <a:r>
                                <a:rPr b="1" lang="es-ES" sz="1200" spc="-1" strike="noStrike" baseline="-25000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2</a:t>
                              </a:r>
                              <a:r>
                                <a:rPr b="1" lang="es-ES" sz="12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S-FeS</a:t>
                              </a:r>
                              <a:endParaRPr b="0" lang="en-US" sz="12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1" name="Group 1491"/>
                          <p:cNvGrpSpPr/>
                          <p:nvPr/>
                        </p:nvGrpSpPr>
                        <p:grpSpPr>
                          <a:xfrm>
                            <a:off x="1961280" y="3810960"/>
                            <a:ext cx="2067120" cy="1004760"/>
                            <a:chOff x="1961280" y="3810960"/>
                            <a:chExt cx="2067120" cy="1004760"/>
                          </a:xfrm>
                        </p:grpSpPr>
                        <p:sp>
                          <p:nvSpPr>
                            <p:cNvPr id="352" name="Oval 1492"/>
                            <p:cNvSpPr/>
                            <p:nvPr/>
                          </p:nvSpPr>
                          <p:spPr>
                            <a:xfrm>
                              <a:off x="2853000" y="42714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3" name="Oval 1493"/>
                            <p:cNvSpPr/>
                            <p:nvPr/>
                          </p:nvSpPr>
                          <p:spPr>
                            <a:xfrm>
                              <a:off x="3137040" y="42292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4" name="Oval 1494"/>
                            <p:cNvSpPr/>
                            <p:nvPr/>
                          </p:nvSpPr>
                          <p:spPr>
                            <a:xfrm>
                              <a:off x="2366640" y="43131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5" name="Oval 1495"/>
                            <p:cNvSpPr/>
                            <p:nvPr/>
                          </p:nvSpPr>
                          <p:spPr>
                            <a:xfrm>
                              <a:off x="3947760" y="43131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333333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6" name="Oval 1496"/>
                            <p:cNvSpPr/>
                            <p:nvPr/>
                          </p:nvSpPr>
                          <p:spPr>
                            <a:xfrm>
                              <a:off x="3069360" y="44946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7" name="Oval 1497"/>
                            <p:cNvSpPr/>
                            <p:nvPr/>
                          </p:nvSpPr>
                          <p:spPr>
                            <a:xfrm>
                              <a:off x="3285360" y="47181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8" name="Oval 1498"/>
                            <p:cNvSpPr/>
                            <p:nvPr/>
                          </p:nvSpPr>
                          <p:spPr>
                            <a:xfrm>
                              <a:off x="3501720" y="44391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59" name="Oval 1499"/>
                            <p:cNvSpPr/>
                            <p:nvPr/>
                          </p:nvSpPr>
                          <p:spPr>
                            <a:xfrm>
                              <a:off x="1961280" y="46900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0" name="Oval 1500"/>
                            <p:cNvSpPr/>
                            <p:nvPr/>
                          </p:nvSpPr>
                          <p:spPr>
                            <a:xfrm>
                              <a:off x="2569320" y="469008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1" name="Oval 1501"/>
                            <p:cNvSpPr/>
                            <p:nvPr/>
                          </p:nvSpPr>
                          <p:spPr>
                            <a:xfrm>
                              <a:off x="3420720" y="381096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2" name="Oval 1502"/>
                            <p:cNvSpPr/>
                            <p:nvPr/>
                          </p:nvSpPr>
                          <p:spPr>
                            <a:xfrm>
                              <a:off x="3826080" y="4732200"/>
                              <a:ext cx="8100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  <p:sp>
                          <p:nvSpPr>
                            <p:cNvPr id="363" name="Oval 1503"/>
                            <p:cNvSpPr/>
                            <p:nvPr/>
                          </p:nvSpPr>
                          <p:spPr>
                            <a:xfrm>
                              <a:off x="3015360" y="3810960"/>
                              <a:ext cx="80640" cy="83520"/>
                            </a:xfrm>
                            <a:prstGeom prst="ellipse">
                              <a:avLst/>
                            </a:prstGeom>
                            <a:solidFill>
                              <a:srgbClr val="c0c0c0"/>
                            </a:solidFill>
                            <a:ln w="936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2240" bIns="122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1600" spc="-1" strike="noStrike">
                                <a:solidFill>
                                  <a:srgbClr val="000000"/>
                                </a:solidFill>
                                <a:latin typeface="Arial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64" name="Oval 1504"/>
                        <p:cNvSpPr/>
                        <p:nvPr/>
                      </p:nvSpPr>
                      <p:spPr>
                        <a:xfrm>
                          <a:off x="2610000" y="351792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5" name="Oval 1505"/>
                        <p:cNvSpPr/>
                        <p:nvPr/>
                      </p:nvSpPr>
                      <p:spPr>
                        <a:xfrm>
                          <a:off x="3502080" y="343404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6" name="Oval 1506"/>
                        <p:cNvSpPr/>
                        <p:nvPr/>
                      </p:nvSpPr>
                      <p:spPr>
                        <a:xfrm>
                          <a:off x="1880280" y="3685320"/>
                          <a:ext cx="162000" cy="16704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7" name="Oval 1507"/>
                        <p:cNvSpPr/>
                        <p:nvPr/>
                      </p:nvSpPr>
                      <p:spPr>
                        <a:xfrm>
                          <a:off x="4231800" y="3852720"/>
                          <a:ext cx="162000" cy="1674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368" name="Group 1508"/>
                      <p:cNvGrpSpPr/>
                      <p:nvPr/>
                    </p:nvGrpSpPr>
                    <p:grpSpPr>
                      <a:xfrm>
                        <a:off x="2042640" y="2260800"/>
                        <a:ext cx="2188800" cy="1843200"/>
                        <a:chOff x="2042640" y="2260800"/>
                        <a:chExt cx="2188800" cy="1843200"/>
                      </a:xfrm>
                    </p:grpSpPr>
                    <p:sp>
                      <p:nvSpPr>
                        <p:cNvPr id="369" name="Rectangle 1509"/>
                        <p:cNvSpPr/>
                        <p:nvPr/>
                      </p:nvSpPr>
                      <p:spPr>
                        <a:xfrm>
                          <a:off x="2042640" y="3266640"/>
                          <a:ext cx="567360" cy="83736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0" name="Rectangle 1510"/>
                        <p:cNvSpPr/>
                        <p:nvPr/>
                      </p:nvSpPr>
                      <p:spPr>
                        <a:xfrm>
                          <a:off x="2082960" y="2260800"/>
                          <a:ext cx="486360" cy="180180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1" name="Rectangle 1511"/>
                        <p:cNvSpPr/>
                        <p:nvPr/>
                      </p:nvSpPr>
                      <p:spPr>
                        <a:xfrm>
                          <a:off x="3664080" y="3266640"/>
                          <a:ext cx="567360" cy="795600"/>
                        </a:xfrm>
                        <a:prstGeom prst="rect">
                          <a:avLst/>
                        </a:prstGeom>
                        <a:solidFill>
                          <a:srgbClr val="ffffff"/>
                        </a:solidFill>
                        <a:ln w="324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2" name="Rectangle 1512"/>
                        <p:cNvSpPr/>
                        <p:nvPr/>
                      </p:nvSpPr>
                      <p:spPr>
                        <a:xfrm>
                          <a:off x="3704760" y="2260800"/>
                          <a:ext cx="486360" cy="1759680"/>
                        </a:xfrm>
                        <a:prstGeom prst="rect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6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3" name="Group 1513"/>
                    <p:cNvGrpSpPr/>
                    <p:nvPr/>
                  </p:nvGrpSpPr>
                  <p:grpSpPr>
                    <a:xfrm>
                      <a:off x="3259080" y="2930760"/>
                      <a:ext cx="4824360" cy="2639160"/>
                      <a:chOff x="3259080" y="2930760"/>
                      <a:chExt cx="4824360" cy="2639160"/>
                    </a:xfrm>
                  </p:grpSpPr>
                  <p:sp>
                    <p:nvSpPr>
                      <p:cNvPr id="374" name="Text Box 1514"/>
                      <p:cNvSpPr/>
                      <p:nvPr/>
                    </p:nvSpPr>
                    <p:spPr>
                      <a:xfrm>
                        <a:off x="5164560" y="2930760"/>
                        <a:ext cx="2918880" cy="1617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  + 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=  2 C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+ CO  =  3 FeO +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  + CO  =  2 Cu +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2 Cu = 3 FeO + 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O  +  CO  =  Fe  +  C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 Fe  =  4 Fe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Cu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  +  Fe  =  2 Cu  +  FeO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3 Fe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3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4 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+  FeS = 10 FeO + SO</a:t>
                        </a:r>
                        <a:r>
                          <a:rPr b="0" lang="es-ES" sz="1100" spc="-1" strike="noStrike" baseline="-25000">
                            <a:solidFill>
                              <a:srgbClr val="000000"/>
                            </a:solidFill>
                            <a:latin typeface="Times New Roman"/>
                          </a:rPr>
                          <a:t>2</a:t>
                        </a:r>
                        <a:r>
                          <a:rPr b="0" lang="es-ES" sz="11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 </a:t>
                        </a:r>
                        <a:endParaRPr b="0" lang="en-US" sz="11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5" name="Line 1515"/>
                      <p:cNvSpPr/>
                      <p:nvPr/>
                    </p:nvSpPr>
                    <p:spPr>
                      <a:xfrm flipH="1">
                        <a:off x="4191120" y="3099240"/>
                        <a:ext cx="1013400" cy="50256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6" name="Line 1516"/>
                      <p:cNvSpPr/>
                      <p:nvPr/>
                    </p:nvSpPr>
                    <p:spPr>
                      <a:xfrm flipH="1">
                        <a:off x="4231800" y="3434040"/>
                        <a:ext cx="1013400" cy="2930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7" name="Line 1517"/>
                      <p:cNvSpPr/>
                      <p:nvPr/>
                    </p:nvSpPr>
                    <p:spPr>
                      <a:xfrm flipH="1">
                        <a:off x="4232160" y="3811320"/>
                        <a:ext cx="972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8" name="Line 1518"/>
                      <p:cNvSpPr/>
                      <p:nvPr/>
                    </p:nvSpPr>
                    <p:spPr>
                      <a:xfrm flipH="1">
                        <a:off x="4029120" y="4188240"/>
                        <a:ext cx="1175760" cy="1674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79" name="Line 1519"/>
                      <p:cNvSpPr/>
                      <p:nvPr/>
                    </p:nvSpPr>
                    <p:spPr>
                      <a:xfrm flipH="1" flipV="1">
                        <a:off x="4232160" y="4062240"/>
                        <a:ext cx="932400" cy="4186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0" name="Line 1520"/>
                      <p:cNvSpPr/>
                      <p:nvPr/>
                    </p:nvSpPr>
                    <p:spPr>
                      <a:xfrm flipH="1" flipV="1">
                        <a:off x="3299400" y="4439160"/>
                        <a:ext cx="1864800" cy="4604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1" name="Line 1521"/>
                      <p:cNvSpPr/>
                      <p:nvPr/>
                    </p:nvSpPr>
                    <p:spPr>
                      <a:xfrm flipH="1" flipV="1">
                        <a:off x="3259080" y="4523040"/>
                        <a:ext cx="1946160" cy="71208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82" name="Line 1522"/>
                      <p:cNvSpPr/>
                      <p:nvPr/>
                    </p:nvSpPr>
                    <p:spPr>
                      <a:xfrm flipH="1" flipV="1">
                        <a:off x="3259080" y="4648680"/>
                        <a:ext cx="1946160" cy="9212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6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383" name="Group 1523"/>
                  <p:cNvGrpSpPr/>
                  <p:nvPr/>
                </p:nvGrpSpPr>
                <p:grpSpPr>
                  <a:xfrm>
                    <a:off x="1799280" y="3141360"/>
                    <a:ext cx="2675880" cy="219600"/>
                    <a:chOff x="1799280" y="3141360"/>
                    <a:chExt cx="2675880" cy="219600"/>
                  </a:xfrm>
                </p:grpSpPr>
                <p:sp>
                  <p:nvSpPr>
                    <p:cNvPr id="384" name="Freeform 1524"/>
                    <p:cNvSpPr/>
                    <p:nvPr/>
                  </p:nvSpPr>
                  <p:spPr>
                    <a:xfrm>
                      <a:off x="25696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Freeform 1525"/>
                    <p:cNvSpPr/>
                    <p:nvPr/>
                  </p:nvSpPr>
                  <p:spPr>
                    <a:xfrm>
                      <a:off x="285336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1526"/>
                    <p:cNvSpPr/>
                    <p:nvPr/>
                  </p:nvSpPr>
                  <p:spPr>
                    <a:xfrm>
                      <a:off x="313740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Freeform 1527"/>
                    <p:cNvSpPr/>
                    <p:nvPr/>
                  </p:nvSpPr>
                  <p:spPr>
                    <a:xfrm>
                      <a:off x="34210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Freeform 1528"/>
                    <p:cNvSpPr/>
                    <p:nvPr/>
                  </p:nvSpPr>
                  <p:spPr>
                    <a:xfrm>
                      <a:off x="17992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1529"/>
                    <p:cNvSpPr/>
                    <p:nvPr/>
                  </p:nvSpPr>
                  <p:spPr>
                    <a:xfrm>
                      <a:off x="4191480" y="3141360"/>
                      <a:ext cx="283680" cy="167400"/>
                    </a:xfrm>
                    <a:custGeom>
                      <a:avLst/>
                      <a:gdLst>
                        <a:gd name="textAreaLeft" fmla="*/ 0 w 283680"/>
                        <a:gd name="textAreaRight" fmla="*/ 284040 w 283680"/>
                        <a:gd name="textAreaTop" fmla="*/ 0 h 167400"/>
                        <a:gd name="textAreaBottom" fmla="*/ 167760 h 167400"/>
                      </a:gdLst>
                      <a:ahLst/>
                      <a:rect l="textAreaLeft" t="textAreaTop" r="textAreaRight" b="textAreaBottom"/>
                      <a:pathLst>
                        <a:path w="405" h="270">
                          <a:moveTo>
                            <a:pt x="180" y="0"/>
                          </a:moveTo>
                          <a:lnTo>
                            <a:pt x="90" y="45"/>
                          </a:lnTo>
                          <a:lnTo>
                            <a:pt x="0" y="135"/>
                          </a:lnTo>
                          <a:lnTo>
                            <a:pt x="45" y="225"/>
                          </a:lnTo>
                          <a:lnTo>
                            <a:pt x="135" y="270"/>
                          </a:lnTo>
                          <a:lnTo>
                            <a:pt x="270" y="270"/>
                          </a:lnTo>
                          <a:lnTo>
                            <a:pt x="405" y="180"/>
                          </a:lnTo>
                          <a:lnTo>
                            <a:pt x="360" y="90"/>
                          </a:lnTo>
                          <a:lnTo>
                            <a:pt x="270" y="0"/>
                          </a:lnTo>
                          <a:lnTo>
                            <a:pt x="180" y="0"/>
                          </a:lnTo>
                          <a:close/>
                        </a:path>
                      </a:pathLst>
                    </a:custGeom>
                    <a:solidFill>
                      <a:srgbClr val="333333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Freeform 1530"/>
                    <p:cNvSpPr/>
                    <p:nvPr/>
                  </p:nvSpPr>
                  <p:spPr>
                    <a:xfrm>
                      <a:off x="1820880" y="3266640"/>
                      <a:ext cx="221400" cy="83520"/>
                    </a:xfrm>
                    <a:custGeom>
                      <a:avLst/>
                      <a:gdLst>
                        <a:gd name="textAreaLeft" fmla="*/ 0 w 221400"/>
                        <a:gd name="textAreaRight" fmla="*/ 221760 w 221400"/>
                        <a:gd name="textAreaTop" fmla="*/ 0 h 83520"/>
                        <a:gd name="textAreaBottom" fmla="*/ 83880 h 83520"/>
                      </a:gdLst>
                      <a:ahLst/>
                      <a:rect l="textAreaLeft" t="textAreaTop" r="textAreaRight" b="textAreaBottom"/>
                      <a:pathLst>
                        <a:path w="246" h="90">
                          <a:moveTo>
                            <a:pt x="0" y="1"/>
                          </a:moveTo>
                          <a:lnTo>
                            <a:pt x="21" y="19"/>
                          </a:lnTo>
                          <a:lnTo>
                            <a:pt x="138" y="37"/>
                          </a:lnTo>
                          <a:lnTo>
                            <a:pt x="246" y="0"/>
                          </a:lnTo>
                          <a:lnTo>
                            <a:pt x="246" y="45"/>
                          </a:lnTo>
                          <a:lnTo>
                            <a:pt x="156" y="90"/>
                          </a:lnTo>
                          <a:lnTo>
                            <a:pt x="66" y="88"/>
                          </a:lnTo>
                          <a:lnTo>
                            <a:pt x="21" y="45"/>
                          </a:lnTo>
                          <a:lnTo>
                            <a:pt x="0" y="1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7080" bIns="3708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Freeform 1531"/>
                    <p:cNvSpPr/>
                    <p:nvPr/>
                  </p:nvSpPr>
                  <p:spPr>
                    <a:xfrm>
                      <a:off x="2596680" y="3256560"/>
                      <a:ext cx="259200" cy="93600"/>
                    </a:xfrm>
                    <a:custGeom>
                      <a:avLst/>
                      <a:gdLst>
                        <a:gd name="textAreaLeft" fmla="*/ 0 w 259200"/>
                        <a:gd name="textAreaRight" fmla="*/ 259560 w 25920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88" h="101">
                          <a:moveTo>
                            <a:pt x="15" y="12"/>
                          </a:moveTo>
                          <a:lnTo>
                            <a:pt x="36" y="30"/>
                          </a:lnTo>
                          <a:lnTo>
                            <a:pt x="153" y="48"/>
                          </a:lnTo>
                          <a:lnTo>
                            <a:pt x="288" y="0"/>
                          </a:lnTo>
                          <a:lnTo>
                            <a:pt x="261" y="56"/>
                          </a:lnTo>
                          <a:lnTo>
                            <a:pt x="171" y="101"/>
                          </a:lnTo>
                          <a:lnTo>
                            <a:pt x="81" y="99"/>
                          </a:lnTo>
                          <a:lnTo>
                            <a:pt x="36" y="56"/>
                          </a:lnTo>
                          <a:lnTo>
                            <a:pt x="0" y="27"/>
                          </a:lnTo>
                          <a:lnTo>
                            <a:pt x="15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1532"/>
                    <p:cNvSpPr/>
                    <p:nvPr/>
                  </p:nvSpPr>
                  <p:spPr>
                    <a:xfrm>
                      <a:off x="2877840" y="3256560"/>
                      <a:ext cx="256680" cy="93600"/>
                    </a:xfrm>
                    <a:custGeom>
                      <a:avLst/>
                      <a:gdLst>
                        <a:gd name="textAreaLeft" fmla="*/ 0 w 256680"/>
                        <a:gd name="textAreaRight" fmla="*/ 256680 w 256680"/>
                        <a:gd name="textAreaTop" fmla="*/ 0 h 93600"/>
                        <a:gd name="textAreaBottom" fmla="*/ 93960 h 93600"/>
                      </a:gdLst>
                      <a:ahLst/>
                      <a:rect l="textAreaLeft" t="textAreaTop" r="textAreaRight" b="textAreaBottom"/>
                      <a:pathLst>
                        <a:path w="285" h="101">
                          <a:moveTo>
                            <a:pt x="18" y="12"/>
                          </a:moveTo>
                          <a:lnTo>
                            <a:pt x="43" y="30"/>
                          </a:lnTo>
                          <a:lnTo>
                            <a:pt x="181" y="48"/>
                          </a:lnTo>
                          <a:lnTo>
                            <a:pt x="285" y="0"/>
                          </a:lnTo>
                          <a:lnTo>
                            <a:pt x="270" y="51"/>
                          </a:lnTo>
                          <a:lnTo>
                            <a:pt x="203" y="101"/>
                          </a:lnTo>
                          <a:lnTo>
                            <a:pt x="96" y="99"/>
                          </a:lnTo>
                          <a:lnTo>
                            <a:pt x="0" y="24"/>
                          </a:lnTo>
                          <a:lnTo>
                            <a:pt x="18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3" name="Freeform 1533"/>
                    <p:cNvSpPr/>
                    <p:nvPr/>
                  </p:nvSpPr>
                  <p:spPr>
                    <a:xfrm>
                      <a:off x="3177720" y="3254040"/>
                      <a:ext cx="235080" cy="106920"/>
                    </a:xfrm>
                    <a:custGeom>
                      <a:avLst/>
                      <a:gdLst>
                        <a:gd name="textAreaLeft" fmla="*/ 0 w 235080"/>
                        <a:gd name="textAreaRight" fmla="*/ 235440 w 235080"/>
                        <a:gd name="textAreaTop" fmla="*/ 0 h 106920"/>
                        <a:gd name="textAreaBottom" fmla="*/ 107280 h 106920"/>
                      </a:gdLst>
                      <a:ahLst/>
                      <a:rect l="textAreaLeft" t="textAreaTop" r="textAreaRight" b="textAreaBottom"/>
                      <a:pathLst>
                        <a:path w="261" h="115">
                          <a:moveTo>
                            <a:pt x="18" y="26"/>
                          </a:moveTo>
                          <a:lnTo>
                            <a:pt x="43" y="44"/>
                          </a:lnTo>
                          <a:lnTo>
                            <a:pt x="181" y="62"/>
                          </a:lnTo>
                          <a:lnTo>
                            <a:pt x="261" y="0"/>
                          </a:lnTo>
                          <a:lnTo>
                            <a:pt x="258" y="33"/>
                          </a:lnTo>
                          <a:lnTo>
                            <a:pt x="203" y="115"/>
                          </a:lnTo>
                          <a:lnTo>
                            <a:pt x="96" y="113"/>
                          </a:lnTo>
                          <a:lnTo>
                            <a:pt x="0" y="38"/>
                          </a:lnTo>
                          <a:lnTo>
                            <a:pt x="18" y="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Freeform 1534"/>
                    <p:cNvSpPr/>
                    <p:nvPr/>
                  </p:nvSpPr>
                  <p:spPr>
                    <a:xfrm>
                      <a:off x="3437280" y="3266640"/>
                      <a:ext cx="240480" cy="93960"/>
                    </a:xfrm>
                    <a:custGeom>
                      <a:avLst/>
                      <a:gdLst>
                        <a:gd name="textAreaLeft" fmla="*/ 0 w 240480"/>
                        <a:gd name="textAreaRight" fmla="*/ 240840 w 240480"/>
                        <a:gd name="textAreaTop" fmla="*/ 0 h 93960"/>
                        <a:gd name="textAreaBottom" fmla="*/ 94320 h 93960"/>
                      </a:gdLst>
                      <a:ahLst/>
                      <a:rect l="textAreaLeft" t="textAreaTop" r="textAreaRight" b="textAreaBottom"/>
                      <a:pathLst>
                        <a:path w="267" h="101">
                          <a:moveTo>
                            <a:pt x="0" y="12"/>
                          </a:moveTo>
                          <a:lnTo>
                            <a:pt x="25" y="30"/>
                          </a:lnTo>
                          <a:lnTo>
                            <a:pt x="163" y="48"/>
                          </a:lnTo>
                          <a:lnTo>
                            <a:pt x="267" y="0"/>
                          </a:lnTo>
                          <a:lnTo>
                            <a:pt x="252" y="51"/>
                          </a:lnTo>
                          <a:lnTo>
                            <a:pt x="185" y="101"/>
                          </a:lnTo>
                          <a:lnTo>
                            <a:pt x="78" y="99"/>
                          </a:lnTo>
                          <a:lnTo>
                            <a:pt x="9" y="4"/>
                          </a:lnTo>
                          <a:lnTo>
                            <a:pt x="0" y="12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1535"/>
                    <p:cNvSpPr/>
                    <p:nvPr/>
                  </p:nvSpPr>
                  <p:spPr>
                    <a:xfrm>
                      <a:off x="4232160" y="3256560"/>
                      <a:ext cx="237600" cy="104040"/>
                    </a:xfrm>
                    <a:custGeom>
                      <a:avLst/>
                      <a:gdLst>
                        <a:gd name="textAreaLeft" fmla="*/ 0 w 237600"/>
                        <a:gd name="textAreaRight" fmla="*/ 237960 w 237600"/>
                        <a:gd name="textAreaTop" fmla="*/ 0 h 104040"/>
                        <a:gd name="textAreaBottom" fmla="*/ 104400 h 104040"/>
                      </a:gdLst>
                      <a:ahLst/>
                      <a:rect l="textAreaLeft" t="textAreaTop" r="textAreaRight" b="textAreaBottom"/>
                      <a:pathLst>
                        <a:path w="264" h="112">
                          <a:moveTo>
                            <a:pt x="18" y="23"/>
                          </a:moveTo>
                          <a:lnTo>
                            <a:pt x="43" y="41"/>
                          </a:lnTo>
                          <a:lnTo>
                            <a:pt x="181" y="59"/>
                          </a:lnTo>
                          <a:lnTo>
                            <a:pt x="264" y="0"/>
                          </a:lnTo>
                          <a:lnTo>
                            <a:pt x="243" y="57"/>
                          </a:lnTo>
                          <a:lnTo>
                            <a:pt x="203" y="112"/>
                          </a:lnTo>
                          <a:lnTo>
                            <a:pt x="96" y="110"/>
                          </a:lnTo>
                          <a:lnTo>
                            <a:pt x="0" y="35"/>
                          </a:lnTo>
                          <a:lnTo>
                            <a:pt x="18" y="23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6" name="Group 1536"/>
                <p:cNvGrpSpPr/>
                <p:nvPr/>
              </p:nvGrpSpPr>
              <p:grpSpPr>
                <a:xfrm>
                  <a:off x="785880" y="2214720"/>
                  <a:ext cx="2919240" cy="3434040"/>
                  <a:chOff x="785880" y="2214720"/>
                  <a:chExt cx="2919240" cy="3434040"/>
                </a:xfrm>
              </p:grpSpPr>
              <p:sp>
                <p:nvSpPr>
                  <p:cNvPr id="397" name="Text Box 1537"/>
                  <p:cNvSpPr/>
                  <p:nvPr/>
                </p:nvSpPr>
                <p:spPr>
                  <a:xfrm>
                    <a:off x="988560" y="2214720"/>
                    <a:ext cx="1216080" cy="46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lectrodo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Text Box 1538"/>
                  <p:cNvSpPr/>
                  <p:nvPr/>
                </p:nvSpPr>
                <p:spPr>
                  <a:xfrm>
                    <a:off x="988560" y="2675160"/>
                    <a:ext cx="1216080" cy="460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Coque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Text Box 1539"/>
                  <p:cNvSpPr/>
                  <p:nvPr/>
                </p:nvSpPr>
                <p:spPr>
                  <a:xfrm>
                    <a:off x="988560" y="3261600"/>
                    <a:ext cx="770040" cy="418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a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Text Box 1540"/>
                  <p:cNvSpPr/>
                  <p:nvPr/>
                </p:nvSpPr>
                <p:spPr>
                  <a:xfrm>
                    <a:off x="988560" y="5020560"/>
                    <a:ext cx="810720" cy="628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t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Text Box 1541"/>
                  <p:cNvSpPr/>
                  <p:nvPr/>
                </p:nvSpPr>
                <p:spPr>
                  <a:xfrm>
                    <a:off x="1028880" y="3889800"/>
                    <a:ext cx="1216080" cy="795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Gota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t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1542"/>
                  <p:cNvSpPr/>
                  <p:nvPr/>
                </p:nvSpPr>
                <p:spPr>
                  <a:xfrm>
                    <a:off x="1110240" y="2507760"/>
                    <a:ext cx="89208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1543"/>
                  <p:cNvSpPr/>
                  <p:nvPr/>
                </p:nvSpPr>
                <p:spPr>
                  <a:xfrm>
                    <a:off x="1961640" y="2507760"/>
                    <a:ext cx="1743480" cy="251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1544"/>
                  <p:cNvSpPr/>
                  <p:nvPr/>
                </p:nvSpPr>
                <p:spPr>
                  <a:xfrm>
                    <a:off x="1961640" y="2507760"/>
                    <a:ext cx="121320" cy="16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1545"/>
                  <p:cNvSpPr/>
                  <p:nvPr/>
                </p:nvSpPr>
                <p:spPr>
                  <a:xfrm>
                    <a:off x="1110240" y="296856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Line 1546"/>
                  <p:cNvSpPr/>
                  <p:nvPr/>
                </p:nvSpPr>
                <p:spPr>
                  <a:xfrm>
                    <a:off x="1556280" y="2968560"/>
                    <a:ext cx="364680" cy="2091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Line 1547"/>
                  <p:cNvSpPr/>
                  <p:nvPr/>
                </p:nvSpPr>
                <p:spPr>
                  <a:xfrm>
                    <a:off x="1110240" y="355500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1548"/>
                  <p:cNvSpPr/>
                  <p:nvPr/>
                </p:nvSpPr>
                <p:spPr>
                  <a:xfrm>
                    <a:off x="1556280" y="3555000"/>
                    <a:ext cx="48636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1549"/>
                  <p:cNvSpPr/>
                  <p:nvPr/>
                </p:nvSpPr>
                <p:spPr>
                  <a:xfrm>
                    <a:off x="1556280" y="3555000"/>
                    <a:ext cx="364680" cy="167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1550"/>
                  <p:cNvSpPr/>
                  <p:nvPr/>
                </p:nvSpPr>
                <p:spPr>
                  <a:xfrm>
                    <a:off x="1150560" y="4434480"/>
                    <a:ext cx="48636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1551"/>
                  <p:cNvSpPr/>
                  <p:nvPr/>
                </p:nvSpPr>
                <p:spPr>
                  <a:xfrm>
                    <a:off x="1596600" y="4434480"/>
                    <a:ext cx="973080" cy="29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1552"/>
                  <p:cNvSpPr/>
                  <p:nvPr/>
                </p:nvSpPr>
                <p:spPr>
                  <a:xfrm>
                    <a:off x="1110240" y="5565240"/>
                    <a:ext cx="527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Text Box 1553"/>
                  <p:cNvSpPr/>
                  <p:nvPr/>
                </p:nvSpPr>
                <p:spPr>
                  <a:xfrm>
                    <a:off x="785880" y="4560120"/>
                    <a:ext cx="1013400" cy="360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1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scoria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1554"/>
                  <p:cNvSpPr/>
                  <p:nvPr/>
                </p:nvSpPr>
                <p:spPr>
                  <a:xfrm>
                    <a:off x="1637280" y="5565240"/>
                    <a:ext cx="283680" cy="835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720" bIns="3672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1555"/>
                  <p:cNvSpPr/>
                  <p:nvPr/>
                </p:nvSpPr>
                <p:spPr>
                  <a:xfrm>
                    <a:off x="1150560" y="4853520"/>
                    <a:ext cx="4460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1556"/>
                  <p:cNvSpPr/>
                  <p:nvPr/>
                </p:nvSpPr>
                <p:spPr>
                  <a:xfrm>
                    <a:off x="1596600" y="4853520"/>
                    <a:ext cx="283680" cy="41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17" name="Line 1557"/>
              <p:cNvSpPr/>
              <p:nvPr/>
            </p:nvSpPr>
            <p:spPr>
              <a:xfrm flipV="1">
                <a:off x="1596600" y="3345120"/>
                <a:ext cx="243000" cy="20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8" name="Group 1558"/>
            <p:cNvGrpSpPr/>
            <p:nvPr/>
          </p:nvGrpSpPr>
          <p:grpSpPr>
            <a:xfrm>
              <a:off x="7718760" y="2842560"/>
              <a:ext cx="810720" cy="2931840"/>
              <a:chOff x="7718760" y="2842560"/>
              <a:chExt cx="810720" cy="2931840"/>
            </a:xfrm>
          </p:grpSpPr>
          <p:sp>
            <p:nvSpPr>
              <p:cNvPr id="419" name="Text Box 1559"/>
              <p:cNvSpPr/>
              <p:nvPr/>
            </p:nvSpPr>
            <p:spPr>
              <a:xfrm>
                <a:off x="7718760" y="284256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Text Box 1560"/>
              <p:cNvSpPr/>
              <p:nvPr/>
            </p:nvSpPr>
            <p:spPr>
              <a:xfrm>
                <a:off x="7718760" y="321948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Text Box 1561"/>
              <p:cNvSpPr/>
              <p:nvPr/>
            </p:nvSpPr>
            <p:spPr>
              <a:xfrm>
                <a:off x="7718760" y="359640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Text Box 1562"/>
              <p:cNvSpPr/>
              <p:nvPr/>
            </p:nvSpPr>
            <p:spPr>
              <a:xfrm>
                <a:off x="7718760" y="397332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1563"/>
              <p:cNvSpPr/>
              <p:nvPr/>
            </p:nvSpPr>
            <p:spPr>
              <a:xfrm>
                <a:off x="7718760" y="430848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1564"/>
              <p:cNvSpPr/>
              <p:nvPr/>
            </p:nvSpPr>
            <p:spPr>
              <a:xfrm>
                <a:off x="7759080" y="468540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565"/>
              <p:cNvSpPr/>
              <p:nvPr/>
            </p:nvSpPr>
            <p:spPr>
              <a:xfrm>
                <a:off x="7799760" y="502056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1566"/>
              <p:cNvSpPr/>
              <p:nvPr/>
            </p:nvSpPr>
            <p:spPr>
              <a:xfrm>
                <a:off x="7799760" y="5355720"/>
                <a:ext cx="7297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28" name="100 CuadroTexto"/>
          <p:cNvSpPr/>
          <p:nvPr/>
        </p:nvSpPr>
        <p:spPr>
          <a:xfrm>
            <a:off x="500040" y="1928880"/>
            <a:ext cx="8072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sistema está diseñado para dar un tiempo de residencia de 2 a 3 horas y una escoria de 0.55 a 0.65%Cu y 35-40% de F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onsumo Típico: 1200Kwh/T de escoria fundida y 600 Kwh/T de material sólido car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n sedimentación, el consumo varía entre 50 y 100 Kwh/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arbón: Sobre el 2% por peso de la escoria cargada y sobre 5% en peso para un reductor sulf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calor es generado por paso de corriente eléctrica a través de un material resis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30" name="100 CuadroTexto"/>
          <p:cNvSpPr/>
          <p:nvPr/>
        </p:nvSpPr>
        <p:spPr>
          <a:xfrm>
            <a:off x="500040" y="1928880"/>
            <a:ext cx="80726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La eficiencia de desarrollo de calor es dependiente 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intensidad de corr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distancia entre electrodos y la superficie de la mata o profundidad de la esc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resistencia específica de la escoria. La resistencia se aumenta cambiando la composición, agregando elementos que le den mayor acidez a la escor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n general, para una operación eficiente de un Horno Eléctrico de electrodos sumergidos en una escoria de resistencia, se basa en una altura de fase de escoria profunda, alto voltaje y un alto factor de pot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Rectangle 2" descr=""/>
          <p:cNvPicPr/>
          <p:nvPr/>
        </p:nvPicPr>
        <p:blipFill>
          <a:blip r:embed="rId1"/>
          <a:stretch/>
        </p:blipFill>
        <p:spPr>
          <a:xfrm>
            <a:off x="212760" y="-12600"/>
            <a:ext cx="8480520" cy="1476360"/>
          </a:xfrm>
          <a:prstGeom prst="rect">
            <a:avLst/>
          </a:prstGeom>
          <a:ln w="0">
            <a:noFill/>
          </a:ln>
        </p:spPr>
      </p:pic>
      <p:sp>
        <p:nvSpPr>
          <p:cNvPr id="432" name="100 CuadroTexto"/>
          <p:cNvSpPr/>
          <p:nvPr/>
        </p:nvSpPr>
        <p:spPr>
          <a:xfrm>
            <a:off x="428760" y="1643040"/>
            <a:ext cx="8072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ducción Direc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C = 3FeO +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O + C = Fe + 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ducción Indirec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CO = 3FeO +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O + CO = Fe + CO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Reacción de Bo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CO2 + C = 2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Hie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Fe3O4 + Fe = 4F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626680" cy="1262160"/>
          </a:xfrm>
          <a:prstGeom prst="rect">
            <a:avLst/>
          </a:prstGeom>
          <a:ln w="0">
            <a:noFill/>
          </a:ln>
        </p:spPr>
      </p:pic>
      <p:sp>
        <p:nvSpPr>
          <p:cNvPr id="434" name="100 CuadroTexto"/>
          <p:cNvSpPr/>
          <p:nvPr/>
        </p:nvSpPr>
        <p:spPr>
          <a:xfrm>
            <a:off x="428760" y="1643040"/>
            <a:ext cx="8072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CO2 a través de la capa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Adsorción de CO2 en la superficie del car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acción de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esorción de CO desde la superficie de carb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íón de CO  a través de las capas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Adsorción de CO sobre la superficie de escoria líq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acción de reducción de los óxidos metál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óxidos metálicos (Fe3O4-Cu2O) desde el seno de la escoria a la interfase líquida escoria-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i la actividad del Fe3O4 es baja; reducción de Cu2O a cobre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Nucleación y crecimiento de cobre metálico, coalescencia sedi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i la actividad del Fe3O4 y Cu2O es baja, reducción de FeO a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Nucleación y crecimiento de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ducción de Fe3O4 y Cu2O con hierro metál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esorción de CO2 desde la superficie de escoria líq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Difusión de CO2 a través de la capa de difusión de 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0" descr=""/>
          <p:cNvPicPr/>
          <p:nvPr/>
        </p:nvPicPr>
        <p:blipFill>
          <a:blip r:embed="rId2"/>
          <a:stretch/>
        </p:blipFill>
        <p:spPr>
          <a:xfrm>
            <a:off x="642960" y="2428920"/>
            <a:ext cx="3340080" cy="4292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31" descr=""/>
          <p:cNvPicPr/>
          <p:nvPr/>
        </p:nvPicPr>
        <p:blipFill>
          <a:blip r:embed="rId3"/>
          <a:stretch/>
        </p:blipFill>
        <p:spPr>
          <a:xfrm>
            <a:off x="5214960" y="2357280"/>
            <a:ext cx="3225600" cy="42958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29"/>
          <p:cNvSpPr/>
          <p:nvPr/>
        </p:nvSpPr>
        <p:spPr>
          <a:xfrm>
            <a:off x="254160" y="1434960"/>
            <a:ext cx="4851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oria de Convertidor Ten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0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32"/>
          <p:cNvSpPr/>
          <p:nvPr/>
        </p:nvSpPr>
        <p:spPr>
          <a:xfrm>
            <a:off x="5500800" y="1428840"/>
            <a:ext cx="3111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scoria Reduc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s-CL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41" name="Picture 5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43284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443" name="Rectangle 1"/>
          <p:cNvSpPr/>
          <p:nvPr/>
        </p:nvSpPr>
        <p:spPr>
          <a:xfrm>
            <a:off x="285840" y="1447200"/>
            <a:ext cx="850104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Un horno de limpieza de escoria trata 120 toneladas de escoria CT, cuya composición es de 6 % Cu, 18 % Fe3O4, 31,13 %SiO2 y 46,69 % F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ediante la alimentación de carbón como reductor se obtiene una escoria de descarte con 1% en Cu y 6 % Fe3O4, y un eje compuesto de Cu2S y FeS equivalente a un contenido en cobre de 7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Si la recuperación de cobre en el proceso es de 86% y considerando que la reacción de reducción es la sigu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 + 2Fe3O4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 CO2 + 6F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Calc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asa escoria reduc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Masa y composición del eje produci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rbel"/>
                <a:ea typeface="Times New Roman"/>
              </a:rPr>
              <a:t>Tiempo de reducción si se utiliza un flujo de reductor de 15 kg/min y considerando que la eficiencia del reductor es de 80% y su contenido de carbono es de 95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2357280" y="2714760"/>
          <a:ext cx="4572000" cy="2124000"/>
        </p:xfrm>
        <a:graphic>
          <a:graphicData uri="http://schemas.openxmlformats.org/drawingml/2006/table">
            <a:tbl>
              <a:tblPr/>
              <a:tblGrid>
                <a:gridCol w="1571760"/>
                <a:gridCol w="1476360"/>
                <a:gridCol w="152388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omponentes  (% en peso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la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ad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C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6-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-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40-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38-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Fe3O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18-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8-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e3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SiO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4-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28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f1e7"/>
                    </a:solidFill>
                  </a:tcPr>
                </a:tc>
              </a:tr>
            </a:tbl>
          </a:graphicData>
        </a:graphic>
      </p:graphicFrame>
      <p:sp>
        <p:nvSpPr>
          <p:cNvPr id="315" name="9 CuadroTexto"/>
          <p:cNvSpPr/>
          <p:nvPr/>
        </p:nvSpPr>
        <p:spPr>
          <a:xfrm>
            <a:off x="428760" y="164304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Escoria de Horno Flash y Convertidor Ten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10 CuadroTexto"/>
          <p:cNvSpPr/>
          <p:nvPr/>
        </p:nvSpPr>
        <p:spPr>
          <a:xfrm>
            <a:off x="642960" y="5357880"/>
            <a:ext cx="7929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El primer criterio para un proceso de tratamiento de escoria es una alta recuperación de cobre, esto es, la limpieza de la escoria limpia debería contener menos del 0.5% Cu en p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9 CuadroTexto"/>
          <p:cNvSpPr/>
          <p:nvPr/>
        </p:nvSpPr>
        <p:spPr>
          <a:xfrm>
            <a:off x="357120" y="192888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Pérdidas de cobre en las esco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El cobre en la escoria se encuentra principalmente en dos form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clusiones de mata y cobre metálico atrapado mecánic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obre disue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9 CuadroTexto"/>
          <p:cNvSpPr/>
          <p:nvPr/>
        </p:nvSpPr>
        <p:spPr>
          <a:xfrm>
            <a:off x="357120" y="4643280"/>
            <a:ext cx="82155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Disolución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Potencial de Oxígeno en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ctividad del Cobre en la m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Composición de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3 CuadroTexto"/>
          <p:cNvSpPr/>
          <p:nvPr/>
        </p:nvSpPr>
        <p:spPr>
          <a:xfrm>
            <a:off x="428760" y="1643040"/>
            <a:ext cx="8215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rbel"/>
              </a:rPr>
              <a:t>I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filtración de súlfuros en la ganga porosa durante la fus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Oxidación y Fusión de concentrado en suspensión sobre el b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Inyección de concentrado en mata o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Agitación intensiva del baño y adición de concentrado sobre la suspensión de la 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rbel"/>
              </a:rPr>
              <a:t>Transporte de la mata a la escoria debido al ascenso de burbujas de gas hacia la interfase mata-esco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Rectangle 2" descr=""/>
          <p:cNvPicPr/>
          <p:nvPr/>
        </p:nvPicPr>
        <p:blipFill>
          <a:blip r:embed="rId1"/>
          <a:stretch/>
        </p:blipFill>
        <p:spPr>
          <a:xfrm>
            <a:off x="30240" y="-165240"/>
            <a:ext cx="8534160" cy="17812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7" descr=""/>
          <p:cNvPicPr/>
          <p:nvPr/>
        </p:nvPicPr>
        <p:blipFill>
          <a:blip r:embed="rId2"/>
          <a:stretch/>
        </p:blipFill>
        <p:spPr>
          <a:xfrm>
            <a:off x="0" y="2554200"/>
            <a:ext cx="4483080" cy="3932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8" descr=""/>
          <p:cNvPicPr/>
          <p:nvPr/>
        </p:nvPicPr>
        <p:blipFill>
          <a:blip r:embed="rId3"/>
          <a:stretch/>
        </p:blipFill>
        <p:spPr>
          <a:xfrm>
            <a:off x="4648320" y="2502000"/>
            <a:ext cx="4495680" cy="39448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29"/>
          <p:cNvSpPr/>
          <p:nvPr/>
        </p:nvSpPr>
        <p:spPr>
          <a:xfrm>
            <a:off x="1473120" y="223524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ta de Co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0"/>
          <p:cNvSpPr/>
          <p:nvPr/>
        </p:nvSpPr>
        <p:spPr>
          <a:xfrm>
            <a:off x="5791320" y="219708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bre Metá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66304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7 CuadroTexto"/>
          <p:cNvSpPr/>
          <p:nvPr/>
        </p:nvSpPr>
        <p:spPr>
          <a:xfrm>
            <a:off x="357120" y="1928880"/>
            <a:ext cx="8072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Molienda – Flo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Lixiv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Vía Pirometalúrg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edimentación Ex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Recirculación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Horno de Limpieza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Horno Eléctrico de Limpieza de Esco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Rectangle 2" descr=""/>
          <p:cNvPicPr/>
          <p:nvPr/>
        </p:nvPicPr>
        <p:blipFill>
          <a:blip r:embed="rId1"/>
          <a:stretch/>
        </p:blipFill>
        <p:spPr>
          <a:xfrm>
            <a:off x="212760" y="-12600"/>
            <a:ext cx="8480520" cy="14763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347" descr=""/>
          <p:cNvPicPr/>
          <p:nvPr/>
        </p:nvPicPr>
        <p:blipFill>
          <a:blip r:embed="rId2"/>
          <a:stretch/>
        </p:blipFill>
        <p:spPr>
          <a:xfrm>
            <a:off x="1571760" y="1521000"/>
            <a:ext cx="5781600" cy="53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sp>
        <p:nvSpPr>
          <p:cNvPr id="332" name="3 CuadroTexto"/>
          <p:cNvSpPr/>
          <p:nvPr/>
        </p:nvSpPr>
        <p:spPr>
          <a:xfrm>
            <a:off x="500040" y="1714680"/>
            <a:ext cx="8072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Corbel"/>
              </a:rPr>
              <a:t>La efectividad de un proceso pirometalúrgico para tratar escorias depende de los siguientes fact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Se requiere un reductor (carbón o coke). El grado de contacto entre las fases y la agitación determina la velocidad de reacción, la cual depende del tipo de ho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La sedimentación depende de las propiedades de la escoria y de la mata, agitación del baño, tamaño de las partículas de mata dispersas, y profundidad de esc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rbel"/>
              </a:rPr>
              <a:t>El diseño y disposición de el o los ho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Rectangle 2" descr=""/>
          <p:cNvPicPr/>
          <p:nvPr/>
        </p:nvPicPr>
        <p:blipFill>
          <a:blip r:embed="rId1"/>
          <a:stretch/>
        </p:blipFill>
        <p:spPr>
          <a:xfrm>
            <a:off x="182520" y="152280"/>
            <a:ext cx="8510760" cy="1262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82" descr=""/>
          <p:cNvPicPr/>
          <p:nvPr/>
        </p:nvPicPr>
        <p:blipFill>
          <a:blip r:embed="rId2"/>
          <a:stretch/>
        </p:blipFill>
        <p:spPr>
          <a:xfrm>
            <a:off x="1428840" y="2143080"/>
            <a:ext cx="771516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20:22:29Z</dcterms:created>
  <dc:creator>rolivares</dc:creator>
  <dc:description/>
  <dc:language>en-US</dc:language>
  <cp:lastModifiedBy>Julio</cp:lastModifiedBy>
  <dcterms:modified xsi:type="dcterms:W3CDTF">2009-09-30T04:00:50Z</dcterms:modified>
  <cp:revision>133</cp:revision>
  <dc:subject/>
  <dc:title>Clases Auxiliares MI 51A - Pirometalurgia</dc:title>
</cp:coreProperties>
</file>