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3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9EDA-00BF-480B-94BC-2964C169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626-D9E6-41FC-8593-14FD69B1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C73-F05D-4BCD-A865-6DCDC4C2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6A0-58FD-4EBE-A505-7DCBDF82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B643-21A9-4249-B4B4-5FEB44BF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EDB6-66DA-42DE-BB4F-516855D6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7BAF-F4C3-4592-A8CE-86832FCF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643B-9CDA-49A5-91AB-8BB7EAB3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213F-4B18-431D-9D8B-35F3FFDF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B9DA-5B90-45BE-98F4-4438BA11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BA77-65A5-4D12-885E-B7509512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BA9-85DF-4FB5-BB5E-43F23F42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5E50-A900-4B94-85D5-6AABB8D7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0C5F-3778-4A99-AA0F-F1BDBFC3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3D31-529D-4666-ACF6-1D1C0B25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E915-0C56-44DB-AE44-A5913B25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9358-0768-4523-B174-7EEAF915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10C83-15F6-4952-B2B9-51164030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C9C7B-AAF7-4368-A758-5910C2E1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26AE5-8B63-4E87-BA7A-70F535F0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2BE2A-92D0-4D85-8A94-6AA0F9AF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A2FA1-D67B-45D3-A0AF-56D65447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FE4-13BB-47ED-90DF-E3F1F8BD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2B21B-B4A4-4858-BD69-359A7923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388AE-EBD9-47AA-B0FF-89E7678D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28BFA-6CD5-4EEC-B891-BA83B3AC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C391B-D793-4994-A75A-380810B4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80787-3173-4ADE-90B8-741BA742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8D044-8898-4B2B-8F3F-0315ABB0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FD3AB-7BCE-425F-AB22-B7A68B56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E9EA8-6C89-470A-BC3E-0A81E644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B547F-9691-416B-A886-BE4AD213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94F05-EC41-48DA-ADCF-7D02630E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DF69-BD93-45B1-927A-BFCF5174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629D4-8EE1-49EE-BC22-406958CD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C2DF9-4418-42EB-9742-3A3053E6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EE69F-7D41-42E8-8F63-6ADF7A20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2DA69-94C6-4A54-8A2A-53333819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E903C-5EE7-4DC0-A555-E40B1334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7697F-8DAD-46C3-8B38-A6953F65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0F396-3954-4FCA-8327-C6BB51BC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2B58B-EB5B-4C57-847C-86684EA6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B3537-4D13-4677-86CD-648CF7C2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2C76A-45C6-4C33-BDC0-ECFFF2F8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B9B-F279-42B9-9EB4-100A7B8B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97DDC-DC6F-48C4-B04C-2209E1E8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53DED-4DB7-400B-8C88-785E31E0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8904D-E154-4C39-87FF-0527D629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F84BD-FE03-46D9-8664-49482AD8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BFE0B-1F98-4D11-AD1D-F05A40BE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EFD2C-7F8D-4D82-AF75-9581D989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BD888-AE87-49DA-879E-72DBDA8D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F304F-F897-4FB4-B051-6C187F01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DB50F-636A-4683-ACB4-366F5BD0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46E1B-CB74-4142-B2A6-509BBB16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6FAF-6D95-4ED2-A37D-BCACD0CB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F75C3-6609-4C85-8388-427BEB1F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95CA3-2C0C-4F7A-BC55-652EAA92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33DF7-2DEE-451F-948A-8257016C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D64D7-62EA-41D6-995A-D8119AF7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2CEB6-C269-492E-BF1D-1B532A18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5E4BD-2E5E-49A3-9317-7C36F746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09E40-906A-449E-AB5C-CDAE2A97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D42C7-BA8D-4CAE-8EB6-3462A9C4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06205-52E0-4B7A-9B9B-60D1EAD2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59B28-151F-4EDC-A7C7-D1D08656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D06-DB2F-4080-A58D-F98EACB0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3B42C-2F84-43E4-8E25-23B1ADD8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F4EE1-CE46-429A-A2D6-E775E3BE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1BA07-6A9E-48D7-85C7-AB4D107A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A630F-2C6C-42A1-8A78-67811474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6F4E3-27A5-4792-80E5-13704106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DF5EC-ACD1-41CA-855D-0D6BC2A5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63F64-D4A7-45C1-B51C-8827F3BF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C35D6-6020-4AC7-B3A1-0E3BD7A2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64EE2-1E6C-45C4-AB58-95C6CEB0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943A6-14F8-43BC-A851-9C7B31A9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C95D-23CB-447C-B61D-096BBB5A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1705D-9595-44E9-A176-9EFADB9D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EAA84-5EDA-43D6-B3C8-AD2F30A9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7BE83-C9E0-4933-9293-FDDF69B6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5E703-A934-4B12-A768-2D66E064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1DE80-D8E0-4523-A034-E7834CB7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37C56-201F-4D1F-ADCD-DC6F4990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2D5CB-777A-44A4-B438-240EC3BF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5BAAC-0E2F-46BD-9977-B46D5A1D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E2930-F34F-4200-B5FB-E8402B8A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4368C-0473-4173-957E-08EE0606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A98-AD46-42A7-93CE-1DD744C1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6FDC8-F95B-49FC-A4EE-0991352C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AD890-9A09-42DD-9663-8E0C3050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B8B37-6212-4B8C-8239-B852C087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2C982-9B0E-484D-8E36-C348E325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32016-AF1F-45C0-99F0-C631F4E9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0EE3C-F27C-40ED-AEF3-53B277F7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3F307-B320-4845-92D3-3C2329F8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1F3C-FBC3-4C44-B441-3BC1A73A3916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1381-57F2-4F89-83BE-5F41D0514DB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11DE-8963-499A-99E8-1DFFBE537C4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7FE9-85C0-4290-BD06-66C0C44BBD57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E1C5-C113-464F-AFE9-8943B2F89404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814D-A1EB-4059-B0BC-6182588055DA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872F-8EB0-4D10-B3F7-E092FC556C02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804F-5759-496A-A949-8F912B73A620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http://cipres.cec.uchile.cl/~cam/main/images/logo2.gif"/>
          <p:cNvPicPr/>
          <p:nvPr/>
        </p:nvPicPr>
        <p:blipFill>
          <a:blip r:embed="rId1"/>
          <a:stretch/>
        </p:blipFill>
        <p:spPr>
          <a:xfrm>
            <a:off x="7451640" y="333360"/>
            <a:ext cx="1325520" cy="1266840"/>
          </a:xfrm>
          <a:prstGeom prst="rect">
            <a:avLst/>
          </a:prstGeom>
          <a:ln w="0">
            <a:noFill/>
          </a:ln>
        </p:spPr>
      </p:pic>
      <p:pic>
        <p:nvPicPr>
          <p:cNvPr id="347" name="Rectangle 2" descr=""/>
          <p:cNvPicPr/>
          <p:nvPr/>
        </p:nvPicPr>
        <p:blipFill>
          <a:blip r:embed="rId2"/>
          <a:stretch/>
        </p:blipFill>
        <p:spPr>
          <a:xfrm>
            <a:off x="444600" y="2030400"/>
            <a:ext cx="8016840" cy="14511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3"/>
          <p:cNvSpPr/>
          <p:nvPr/>
        </p:nvSpPr>
        <p:spPr>
          <a:xfrm>
            <a:off x="428760" y="4714920"/>
            <a:ext cx="64008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orbel"/>
              </a:rPr>
              <a:t>Profesor Auxiliar: Julio Díaz 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orbel"/>
              </a:rPr>
              <a:t>Semestre Primavera 200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4" name="3 Rectángulo"/>
          <p:cNvSpPr/>
          <p:nvPr/>
        </p:nvSpPr>
        <p:spPr>
          <a:xfrm>
            <a:off x="214200" y="1643040"/>
            <a:ext cx="8929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Hobo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1500120" y="2500200"/>
            <a:ext cx="61516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7" name="3 Rectángulo"/>
          <p:cNvSpPr/>
          <p:nvPr/>
        </p:nvSpPr>
        <p:spPr>
          <a:xfrm>
            <a:off x="214200" y="1500120"/>
            <a:ext cx="8929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B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4181400" y="2643120"/>
            <a:ext cx="4962600" cy="3076560"/>
          </a:xfrm>
          <a:prstGeom prst="rect">
            <a:avLst/>
          </a:prstGeom>
          <a:ln w="0">
            <a:noFill/>
          </a:ln>
        </p:spPr>
      </p:pic>
      <p:sp>
        <p:nvSpPr>
          <p:cNvPr id="379" name="5 CuadroTexto"/>
          <p:cNvSpPr/>
          <p:nvPr/>
        </p:nvSpPr>
        <p:spPr>
          <a:xfrm>
            <a:off x="0" y="2357280"/>
            <a:ext cx="3929040" cy="39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nvertidor rotatorio soplado mediante una lanza refriger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oceso puede reemplazar las etapas del proceso convenc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lto contenido de S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en los ga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ermite tratamiento de distintos tipos de concentr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efractarios de Cromo-Magnesi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1" name="3 Rectángulo"/>
          <p:cNvSpPr/>
          <p:nvPr/>
        </p:nvSpPr>
        <p:spPr>
          <a:xfrm>
            <a:off x="214200" y="1500120"/>
            <a:ext cx="8929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B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5 CuadroTexto"/>
          <p:cNvSpPr/>
          <p:nvPr/>
        </p:nvSpPr>
        <p:spPr>
          <a:xfrm>
            <a:off x="5000760" y="2928960"/>
            <a:ext cx="3929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Formada la mata por sucesivas cargas y escoriados, se sopla aire para obtener bli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ltas emisiones de polvo generando problemas en las campanas y duc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0" y="2928960"/>
            <a:ext cx="490860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5" name="3 Rectángulo"/>
          <p:cNvSpPr/>
          <p:nvPr/>
        </p:nvSpPr>
        <p:spPr>
          <a:xfrm>
            <a:off x="214200" y="1500120"/>
            <a:ext cx="8929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ceso Mitsubush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5 CuadroTexto"/>
          <p:cNvSpPr/>
          <p:nvPr/>
        </p:nvSpPr>
        <p:spPr>
          <a:xfrm>
            <a:off x="285840" y="2143080"/>
            <a:ext cx="871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oceso de conversión en baño que combina fusión, limpieza de escoria y conversión en una operación continu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nsta de un horno de fusión (S), limpieza de escorias (CL) y uno de conversión (C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2"/>
          <a:stretch/>
        </p:blipFill>
        <p:spPr>
          <a:xfrm>
            <a:off x="571680" y="3786120"/>
            <a:ext cx="80485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9" name="3 Rectángulo"/>
          <p:cNvSpPr/>
          <p:nvPr/>
        </p:nvSpPr>
        <p:spPr>
          <a:xfrm>
            <a:off x="214200" y="1500120"/>
            <a:ext cx="892980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ceso Mitsubush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Horno 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s alimentado por concentrado seco, Si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y material de recic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ire enriquecido (55% 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) inyectado mediante lanzas vertic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oduce una mezcla de mata y escoria la que fluy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ntinuamente hacia el horno 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os gases de salida contienen entre 25 y 30% de S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0" name="Picture 2" descr="S-Furnace+Diagram"/>
          <p:cNvPicPr/>
          <p:nvPr/>
        </p:nvPicPr>
        <p:blipFill>
          <a:blip r:embed="rId2"/>
          <a:stretch/>
        </p:blipFill>
        <p:spPr>
          <a:xfrm>
            <a:off x="5857920" y="4143240"/>
            <a:ext cx="251460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2" name="3 Rectángulo"/>
          <p:cNvSpPr/>
          <p:nvPr/>
        </p:nvSpPr>
        <p:spPr>
          <a:xfrm>
            <a:off x="214200" y="1500120"/>
            <a:ext cx="89298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ceso Mitsubush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Horno 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Horno eléctrico con 3 o 6 electrodos de grafito a lo largo de su eje ax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para la mata (68% Cu aprox) de la escoria provenientes del horno de fu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 mata fluye continuamente hacia el horno de conver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 escoria es vaciada y granulada con agua y almacen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iempo de residencia 1-2 H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equeña cantidad de gas generado el cual es expulsado a la atmósfe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3" name="Picture 2" descr="CL-Furnace+Diagram"/>
          <p:cNvPicPr/>
          <p:nvPr/>
        </p:nvPicPr>
        <p:blipFill>
          <a:blip r:embed="rId2"/>
          <a:stretch/>
        </p:blipFill>
        <p:spPr>
          <a:xfrm>
            <a:off x="6572160" y="3929040"/>
            <a:ext cx="182880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5" name="3 Rectángulo"/>
          <p:cNvSpPr/>
          <p:nvPr/>
        </p:nvSpPr>
        <p:spPr>
          <a:xfrm>
            <a:off x="214200" y="1500120"/>
            <a:ext cx="8929800" cy="48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ceso Mitsubush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Horno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limentado continuamente con mata proveniente del horno 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 sopla aire enriquecido (30-35% 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) y CaC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mediante lanz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oduce blister que se envía continuamente a hornos de recepció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ara su posterior purificación en los hornos de áno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oduce escoria Calcio-Ferrítica con un 14% Cu apro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6" name="Picture 2" descr="C-Furnace+Diagram"/>
          <p:cNvPicPr/>
          <p:nvPr/>
        </p:nvPicPr>
        <p:blipFill>
          <a:blip r:embed="rId2"/>
          <a:stretch/>
        </p:blipFill>
        <p:spPr>
          <a:xfrm>
            <a:off x="6643800" y="4286160"/>
            <a:ext cx="14256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8" name="3 Rectángulo"/>
          <p:cNvSpPr/>
          <p:nvPr/>
        </p:nvSpPr>
        <p:spPr>
          <a:xfrm>
            <a:off x="214200" y="1500120"/>
            <a:ext cx="89298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ceso Mitsubush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Horno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9" name="Picture 3" descr="C:\Documents and Settings\Carlos\My Documents\Continuous Conversion UChile 2006\Metalurgia Conv Mitsubishi.JPG"/>
          <p:cNvPicPr/>
          <p:nvPr/>
        </p:nvPicPr>
        <p:blipFill>
          <a:blip r:embed="rId2"/>
          <a:stretch/>
        </p:blipFill>
        <p:spPr>
          <a:xfrm>
            <a:off x="2714760" y="2000160"/>
            <a:ext cx="386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1357200" y="2214720"/>
            <a:ext cx="6343920" cy="3838320"/>
          </a:xfrm>
          <a:prstGeom prst="rect">
            <a:avLst/>
          </a:prstGeom>
          <a:ln w="0">
            <a:noFill/>
          </a:ln>
        </p:spPr>
      </p:pic>
      <p:sp>
        <p:nvSpPr>
          <p:cNvPr id="402" name="5 Rectángulo"/>
          <p:cNvSpPr/>
          <p:nvPr/>
        </p:nvSpPr>
        <p:spPr>
          <a:xfrm>
            <a:off x="214200" y="1500120"/>
            <a:ext cx="89298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ceso Mitsubush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4" name="5 Rectángulo"/>
          <p:cNvSpPr/>
          <p:nvPr/>
        </p:nvSpPr>
        <p:spPr>
          <a:xfrm>
            <a:off x="214200" y="1500120"/>
            <a:ext cx="8929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ceso Kennecott-Outokump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6 CuadroTexto"/>
          <p:cNvSpPr/>
          <p:nvPr/>
        </p:nvSpPr>
        <p:spPr>
          <a:xfrm>
            <a:off x="214200" y="2143080"/>
            <a:ext cx="8572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oceso de conversión continua compuesto de un horno de fusión flash y otro de conversión flash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nvertidor flash de geometría similar al de fusión Outokumpu pero más pequeñ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equerimient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ata con 70% C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Granulación de la mata en partículas de 0.5 [mm] utilizando un torrente de agu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olienda hasta formar granos de 50 [um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limentación continua de los granos hacia el horno flash de conversión,                       inyectando ademas un flujo de CaO y aire enriquecido (80%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ecolección continua de gas de sali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emoción periódica de escoria y bli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189000" y="378000"/>
            <a:ext cx="8504280" cy="13842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-360" y="1999800"/>
            <a:ext cx="3971880" cy="4162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versió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versión Bat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versión Continu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jercici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5 Imagen" descr="DSC02549.JPG"/>
          <p:cNvPicPr/>
          <p:nvPr/>
        </p:nvPicPr>
        <p:blipFill>
          <a:blip r:embed="rId2"/>
          <a:stretch/>
        </p:blipFill>
        <p:spPr>
          <a:xfrm>
            <a:off x="3857760" y="2071800"/>
            <a:ext cx="5048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7" name="5 Rectángulo"/>
          <p:cNvSpPr/>
          <p:nvPr/>
        </p:nvSpPr>
        <p:spPr>
          <a:xfrm>
            <a:off x="214200" y="1500120"/>
            <a:ext cx="8929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ceso Kennecott-Outokump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8" name="Picture 3" descr="C:\Documents and Settings\Carlos\My Documents\Continuous Conversion UChile 2006\Convertidor Flash.JPG"/>
          <p:cNvPicPr/>
          <p:nvPr/>
        </p:nvPicPr>
        <p:blipFill>
          <a:blip r:embed="rId2"/>
          <a:stretch/>
        </p:blipFill>
        <p:spPr>
          <a:xfrm>
            <a:off x="2357280" y="2071800"/>
            <a:ext cx="49294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0" name="5 Rectángulo"/>
          <p:cNvSpPr/>
          <p:nvPr/>
        </p:nvSpPr>
        <p:spPr>
          <a:xfrm>
            <a:off x="214200" y="1500120"/>
            <a:ext cx="8929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ceso Kennecott-Outokump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1928880" y="2500200"/>
            <a:ext cx="54388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3" name="5 Rectángulo"/>
          <p:cNvSpPr/>
          <p:nvPr/>
        </p:nvSpPr>
        <p:spPr>
          <a:xfrm>
            <a:off x="214200" y="1500120"/>
            <a:ext cx="89298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428760" y="1436760"/>
          <a:ext cx="8305560" cy="5421240"/>
        </p:xfrm>
        <a:graphic>
          <a:graphicData uri="http://schemas.openxmlformats.org/drawingml/2006/table">
            <a:tbl>
              <a:tblPr/>
              <a:tblGrid>
                <a:gridCol w="3962160"/>
                <a:gridCol w="1447920"/>
                <a:gridCol w="1676520"/>
                <a:gridCol w="12189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an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tsubis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a aliment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íqu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íqu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ól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 probada, t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or de operación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i-bl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ister, S 0,6-0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ister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0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co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yalít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rrít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rrít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clado de áno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ción de pol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sión/Conversión Independie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ación de campaña,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6" name="5 Rectángulo"/>
          <p:cNvSpPr/>
          <p:nvPr/>
        </p:nvSpPr>
        <p:spPr>
          <a:xfrm>
            <a:off x="214200" y="1500120"/>
            <a:ext cx="8929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ceso Ausmelt C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6 CuadroTexto"/>
          <p:cNvSpPr/>
          <p:nvPr/>
        </p:nvSpPr>
        <p:spPr>
          <a:xfrm>
            <a:off x="0" y="2071800"/>
            <a:ext cx="914400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oceso de conversión continua el cual usa una lanza sumergible en el baño para generar las reacciones dese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ata fundida se deposita en el hor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ire enriquecido (30-35% 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) el cu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s soplado dentro del baño de mata 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scoria mediante una lanz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s posible utilizar mata sólida en la aliment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 ley de la mata debe estar entre 55 y 70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coria - 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Fe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CaO (5-20%)-C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 (10-25%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lister - 0,2-0,8% S con Cu en escoria 10-2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Picture 3" descr="C:\Documents and Settings\Carlos\My Documents\Continuous Conversion UChile 2006\Ausmelt Furnace.JPG"/>
          <p:cNvPicPr/>
          <p:nvPr/>
        </p:nvPicPr>
        <p:blipFill>
          <a:blip r:embed="rId2"/>
          <a:stretch/>
        </p:blipFill>
        <p:spPr>
          <a:xfrm>
            <a:off x="5429160" y="2643120"/>
            <a:ext cx="3714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3"/>
          <p:cNvSpPr/>
          <p:nvPr/>
        </p:nvSpPr>
        <p:spPr>
          <a:xfrm>
            <a:off x="-214200" y="1928880"/>
            <a:ext cx="9144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8120" indent="-318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l PS es un reactor intenso, flexible con capacidad para procesar materiales secundari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8120" indent="-318960" algn="just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8120" indent="-318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lrededor del 85% del cobre de fundición se produce usando convertidores PS/Hobok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8120" indent="-318960" algn="just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8120" indent="-318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n Japón y Europa hay fundiciones que operan PS con emisiones &lt;0,1% del S en la materia prim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8120" indent="-318960" algn="just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8120" indent="-318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Mejoras en la ingeniería y operación del PS han resultado en un gas de conversión más fácilmente tratable en planta de áci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8120" indent="-318960" algn="just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8120" indent="-318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l costo de controlar emisiones fugitivas debe compararse con el de reemplazo de tecnolog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8120" indent="-318960" algn="just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38120" indent="-318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a conversión continua será adoptada en nuevas fundiciones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480960" y="-6480"/>
            <a:ext cx="8010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3"/>
          <p:cNvSpPr/>
          <p:nvPr/>
        </p:nvSpPr>
        <p:spPr>
          <a:xfrm>
            <a:off x="0" y="1500120"/>
            <a:ext cx="89298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Un convertidor CPS después de completada la etapa de soplado a escoria, queda cargado con 350 toneladas de metal blanco (75% Cu y especies únicas presentes: Cu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S y FeS). Finalizada la siguiente etapa de soplado a cobre con aire (21% O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) se obtiene un cobre blister de 99% Cu y 1% S. Si el 100% del Fe en el metal blanco pasa a la escoria como Fe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 y el 10% del cobre contenido en el material de entrada también pasa a la escoria como Cu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Calcul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a)Masa de cobre blis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b)Aire necesario producido para obtener dicho cobre blis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c)Calcular la cantidad de Scrap (100% Cu) necesario para enfriar el convertidor y mantenerlo a una temperatura de 1250 ºC, si el balance de calor global del sistema muestra que para mantener dicha temperatura hay que retirar del sistema 300 Mca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Tahoma"/>
              </a:rPr>
              <a:t>Dato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Cp 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Tahoma"/>
              </a:rPr>
              <a:t>Cu(s)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= 7,308 – 2,707x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T – 0,785x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fr-FR" sz="1600" spc="-1" strike="noStrike" baseline="30000">
                <a:solidFill>
                  <a:srgbClr val="000000"/>
                </a:solidFill>
                <a:latin typeface="Tahoma"/>
              </a:rPr>
              <a:t>-2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+ 2,34x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fr-FR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  [cal/mol K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Cp 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Tahoma"/>
              </a:rPr>
              <a:t>Cu(l)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= 7,85   [cal/mol K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Tahoma"/>
              </a:rPr>
              <a:t>fusión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= 3,14   [kcal/mol]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480960" y="-6480"/>
            <a:ext cx="8010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3" name="3 Rectángulo"/>
          <p:cNvSpPr/>
          <p:nvPr/>
        </p:nvSpPr>
        <p:spPr>
          <a:xfrm>
            <a:off x="0" y="1857240"/>
            <a:ext cx="8929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 conversión tiene por objetivo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liminar Fe, S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y otras impurezas desde la mata para producir cobre metálico “Blister” de 98.5 – 99% 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sto se logra mediante la oxidación de la mata líquida proveniente de la fusión. La oxidación se realiza con aire o aire enriquecido con oxígen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 conversión del eje de cobre se lleva a cabo casi universalmente en los convertidores Peirce-Smith, aunque también existen equipos alternativos tales como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Hobok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BR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itsubish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Kennecot Outokump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usmelt C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3 Rectángulo"/>
          <p:cNvSpPr/>
          <p:nvPr/>
        </p:nvSpPr>
        <p:spPr>
          <a:xfrm>
            <a:off x="0" y="1450800"/>
            <a:ext cx="892980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 conversión se lleva a cabo en 2 etapa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oplado  a esc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l Fe presente como FeS se oxida a FeO y Fe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generando S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gaseoso según las siguientes reaccion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FeS + 3/2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= FeO + S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 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Oxidación del F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3FeO + 1/2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= Fe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ormación de la Magneti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2FeO + Si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= 2FeO</a:t>
            </a:r>
            <a:r>
              <a:rPr b="0" lang="es-CL" sz="3200" spc="-1" strike="noStrike" baseline="18000">
                <a:solidFill>
                  <a:srgbClr val="000000"/>
                </a:solidFill>
                <a:latin typeface="Tahoma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i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           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corificación del Fe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s reacciones son de carácter exotérm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sta etapa termina cuando la mata contiene menos de 1% de F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scoria con 10 – 20 % magnetita sólida y hasta un 15 % Cu disuelto y atrap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oducto Final Metal Blanco con una temperatura de 1200°C, escoria líquida a 1250°C y gases a 1300°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7" name="3 Rectángulo"/>
          <p:cNvSpPr/>
          <p:nvPr/>
        </p:nvSpPr>
        <p:spPr>
          <a:xfrm>
            <a:off x="0" y="1643040"/>
            <a:ext cx="914400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2.  Soplado a Cob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 elimina el S presente en el Cu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 oxidándolo a S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según las reaccion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u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 + 3/2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= Cu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 + S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u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 + 2Cu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 = 6Cu + S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u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 + 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= 2Cu + S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3 Etap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u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 + x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= Cu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1-x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 Reacción ocurre hasta que el azufre ha disminuido a 19,4 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ii) Soplado siguiente forma cobre blister con 1,2 % S, Crea una región de inmiscibilidad líquido-liquido, conteniendo metal blanco con 19,4 % S y cobre blister con 1,2 % 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iii) Finalmente el sistema pierde tanto S que sólo queda cobre blister con 1,2 % S. Este se remueve por soplado con aire, cuidando de no sobre oxidar a Cu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9" name="3 Rectángulo"/>
          <p:cNvSpPr/>
          <p:nvPr/>
        </p:nvSpPr>
        <p:spPr>
          <a:xfrm>
            <a:off x="0" y="1643040"/>
            <a:ext cx="8929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2.  Soplado a Cob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1571760" y="2357280"/>
            <a:ext cx="606744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2" name="3 Rectángulo"/>
          <p:cNvSpPr/>
          <p:nvPr/>
        </p:nvSpPr>
        <p:spPr>
          <a:xfrm>
            <a:off x="214200" y="1643040"/>
            <a:ext cx="8929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irce Sm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2"/>
          <a:stretch/>
        </p:blipFill>
        <p:spPr>
          <a:xfrm>
            <a:off x="285840" y="2357280"/>
            <a:ext cx="474336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5 CuadroTexto"/>
          <p:cNvSpPr/>
          <p:nvPr/>
        </p:nvSpPr>
        <p:spPr>
          <a:xfrm>
            <a:off x="5072040" y="1928880"/>
            <a:ext cx="392904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nstruidos con una carcaza de acero  de 4 a 5 cm de espes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evestidos con 0,25 a 0,75 m de refractario básico principalmente cromo-magnesita (MgO-Cr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oduce cobre en un ciclo discontinu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iclo compuesto po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arguí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oplado a escor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Vaciado escor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oplado a cob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Vaciado Bli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6" name="3 Rectángulo"/>
          <p:cNvSpPr/>
          <p:nvPr/>
        </p:nvSpPr>
        <p:spPr>
          <a:xfrm>
            <a:off x="214200" y="1643040"/>
            <a:ext cx="8929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irce - Sm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5 CuadroTexto"/>
          <p:cNvSpPr/>
          <p:nvPr/>
        </p:nvSpPr>
        <p:spPr>
          <a:xfrm>
            <a:off x="214200" y="2571840"/>
            <a:ext cx="392904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l eje se carga por la boca y la conversión de lleva a cabo inyectando aire por tober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os productos principales son cobre blister, escoria y gases con un porcentaje variable de S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(5-15%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8" name="6 Imagen" descr="DSC02552.JPG"/>
          <p:cNvPicPr/>
          <p:nvPr/>
        </p:nvPicPr>
        <p:blipFill>
          <a:blip r:embed="rId2"/>
          <a:stretch/>
        </p:blipFill>
        <p:spPr>
          <a:xfrm>
            <a:off x="4643280" y="2143080"/>
            <a:ext cx="428652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0" name="3 Rectángulo"/>
          <p:cNvSpPr/>
          <p:nvPr/>
        </p:nvSpPr>
        <p:spPr>
          <a:xfrm>
            <a:off x="214200" y="1643040"/>
            <a:ext cx="8929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Hobo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5 CuadroTexto"/>
          <p:cNvSpPr/>
          <p:nvPr/>
        </p:nvSpPr>
        <p:spPr>
          <a:xfrm>
            <a:off x="4929120" y="1571760"/>
            <a:ext cx="392904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Formado por 3 zonas principal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caza cilíndrica que contiene las toberas y la boca. La conversión ocurre en esta zona del convertidor inyectando aire a través de las tobera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alida de gases con forma de U invertida llamado SIPHON. Esta zona está unida al cilindro de convers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n ducto cilíndrico que está fijo a la U invertida. A través de él, los gases son impulsados a un ducto vertical fijo y enviados al sistema de tratamiento de gas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3000240"/>
            <a:ext cx="49798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20:22:29Z</dcterms:created>
  <dc:creator>Julio Díaz</dc:creator>
  <dc:description/>
  <dc:language>en-US</dc:language>
  <cp:lastModifiedBy>Julio</cp:lastModifiedBy>
  <dcterms:modified xsi:type="dcterms:W3CDTF">2009-09-02T01:19:54Z</dcterms:modified>
  <cp:revision>200</cp:revision>
  <dc:subject/>
  <dc:title>Clases Auxiliares MI 51A - Pirometalurgia</dc:title>
</cp:coreProperties>
</file>