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168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9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168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30456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168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7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19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168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7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0456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2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2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2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3" marL="1600200" indent="-228600">
              <a:spcBef>
                <a:spcPts val="1400"/>
              </a:spcBef>
              <a:buClr>
                <a:srgbClr val="002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4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5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6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6628-0E02-4037-81BB-1C0968374F6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2e66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5.png"/><Relationship Id="rId17" Type="http://schemas.openxmlformats.org/officeDocument/2006/relationships/image" Target="../media/image13.wmf"/><Relationship Id="rId18" Type="http://schemas.openxmlformats.org/officeDocument/2006/relationships/image" Target="../media/image14.wmf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15.wmf"/><Relationship Id="rId22" Type="http://schemas.openxmlformats.org/officeDocument/2006/relationships/image" Target="../media/image16.wmf"/><Relationship Id="rId23" Type="http://schemas.openxmlformats.org/officeDocument/2006/relationships/image" Target="../media/image6.png"/><Relationship Id="rId24" Type="http://schemas.openxmlformats.org/officeDocument/2006/relationships/image" Target="../media/image15.wmf"/><Relationship Id="rId25" Type="http://schemas.openxmlformats.org/officeDocument/2006/relationships/image" Target="../media/image16.wmf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315200" y="6502320"/>
            <a:ext cx="1689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1960" y="1197000"/>
            <a:ext cx="8672760" cy="5184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63640" y="33336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glo Sans Light"/>
              </a:rPr>
              <a:t>DIAGRAMA DE FLUJOS CHANCADOR PRIMARIO – STOCK PILE</a:t>
            </a:r>
            <a:endParaRPr b="0" lang="en-US" sz="2000" spc="-1" strike="noStrike">
              <a:solidFill>
                <a:srgbClr val="002e66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5280" y="26028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MOLIENDA SAG – MOLIENDA BOLAS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65320" y="4888080"/>
            <a:ext cx="793800" cy="985680"/>
            <a:chOff x="1165320" y="4888080"/>
            <a:chExt cx="793800" cy="985680"/>
          </a:xfrm>
        </p:grpSpPr>
        <p:sp>
          <p:nvSpPr>
            <p:cNvPr id="84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59000" y="3056040"/>
            <a:ext cx="6852960" cy="2738160"/>
            <a:chOff x="1359000" y="3056040"/>
            <a:chExt cx="6852960" cy="2738160"/>
          </a:xfrm>
        </p:grpSpPr>
        <p:sp>
          <p:nvSpPr>
            <p:cNvPr id="285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687680" y="3144960"/>
            <a:ext cx="517320" cy="718920"/>
            <a:chOff x="1687680" y="3144960"/>
            <a:chExt cx="517320" cy="718920"/>
          </a:xfrm>
        </p:grpSpPr>
        <p:sp>
          <p:nvSpPr>
            <p:cNvPr id="486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095560" y="1052640"/>
            <a:ext cx="379440" cy="2539800"/>
            <a:chOff x="2095560" y="1052640"/>
            <a:chExt cx="379440" cy="2539800"/>
          </a:xfrm>
        </p:grpSpPr>
        <p:sp>
          <p:nvSpPr>
            <p:cNvPr id="687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888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076480" y="1165320"/>
            <a:ext cx="250920" cy="314280"/>
            <a:chOff x="2076480" y="1165320"/>
            <a:chExt cx="250920" cy="314280"/>
          </a:xfrm>
        </p:grpSpPr>
        <p:sp>
          <p:nvSpPr>
            <p:cNvPr id="1089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2037960" y="1161720"/>
            <a:ext cx="141840" cy="228960"/>
            <a:chOff x="2037960" y="1161720"/>
            <a:chExt cx="141840" cy="228960"/>
          </a:xfrm>
        </p:grpSpPr>
        <p:sp>
          <p:nvSpPr>
            <p:cNvPr id="1290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2038320" y="1098360"/>
            <a:ext cx="270000" cy="292320"/>
            <a:chOff x="2038320" y="1098360"/>
            <a:chExt cx="270000" cy="292320"/>
          </a:xfrm>
        </p:grpSpPr>
        <p:sp>
          <p:nvSpPr>
            <p:cNvPr id="1491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1522440" y="1101240"/>
            <a:ext cx="7394400" cy="5328000"/>
            <a:chOff x="1522440" y="1101240"/>
            <a:chExt cx="7394400" cy="5328000"/>
          </a:xfrm>
        </p:grpSpPr>
        <p:sp>
          <p:nvSpPr>
            <p:cNvPr id="1692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791" name="" descr=""/>
            <p:cNvPicPr/>
            <p:nvPr/>
          </p:nvPicPr>
          <p:blipFill>
            <a:blip r:embed="rId4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803" name="" descr=""/>
            <p:cNvPicPr/>
            <p:nvPr/>
          </p:nvPicPr>
          <p:blipFill>
            <a:blip r:embed="rId5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806" name="" descr=""/>
            <p:cNvPicPr/>
            <p:nvPr/>
          </p:nvPicPr>
          <p:blipFill>
            <a:blip r:embed="rId6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714240" y="1946160"/>
            <a:ext cx="7328160" cy="3716280"/>
            <a:chOff x="714240" y="1946160"/>
            <a:chExt cx="7328160" cy="3716280"/>
          </a:xfrm>
        </p:grpSpPr>
        <p:sp>
          <p:nvSpPr>
            <p:cNvPr id="1893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944" name="" descr=""/>
            <p:cNvPicPr/>
            <p:nvPr/>
          </p:nvPicPr>
          <p:blipFill>
            <a:blip r:embed="rId7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5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3782880" y="2287440"/>
            <a:ext cx="490680" cy="343080"/>
            <a:chOff x="3782880" y="2287440"/>
            <a:chExt cx="490680" cy="343080"/>
          </a:xfrm>
        </p:grpSpPr>
        <p:sp>
          <p:nvSpPr>
            <p:cNvPr id="2094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294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2295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3498840" y="2287440"/>
            <a:ext cx="1141560" cy="627120"/>
            <a:chOff x="3498840" y="2287440"/>
            <a:chExt cx="1141560" cy="627120"/>
          </a:xfrm>
        </p:grpSpPr>
        <p:sp>
          <p:nvSpPr>
            <p:cNvPr id="2496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696" name=""/>
          <p:cNvGrpSpPr/>
          <p:nvPr/>
        </p:nvGrpSpPr>
        <p:grpSpPr>
          <a:xfrm>
            <a:off x="4437000" y="2768760"/>
            <a:ext cx="311040" cy="1871640"/>
            <a:chOff x="4437000" y="2768760"/>
            <a:chExt cx="311040" cy="1871640"/>
          </a:xfrm>
        </p:grpSpPr>
        <p:sp>
          <p:nvSpPr>
            <p:cNvPr id="2697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4437000" y="4446720"/>
            <a:ext cx="1768680" cy="487080"/>
            <a:chOff x="4437000" y="4446720"/>
            <a:chExt cx="1768680" cy="487080"/>
          </a:xfrm>
        </p:grpSpPr>
        <p:sp>
          <p:nvSpPr>
            <p:cNvPr id="2898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098" name=""/>
          <p:cNvGrpSpPr/>
          <p:nvPr/>
        </p:nvGrpSpPr>
        <p:grpSpPr>
          <a:xfrm>
            <a:off x="915840" y="2054160"/>
            <a:ext cx="8001000" cy="4383000"/>
            <a:chOff x="915840" y="2054160"/>
            <a:chExt cx="8001000" cy="4383000"/>
          </a:xfrm>
        </p:grpSpPr>
        <p:sp>
          <p:nvSpPr>
            <p:cNvPr id="3099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75360" y="4648320"/>
              <a:ext cx="648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81840" y="4648320"/>
              <a:ext cx="288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4648320"/>
              <a:ext cx="324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796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09120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09444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097680" y="4648320"/>
              <a:ext cx="612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103800" y="4648320"/>
              <a:ext cx="180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103800" y="4648320"/>
              <a:ext cx="324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107040" y="4648320"/>
              <a:ext cx="324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110280" y="4648320"/>
              <a:ext cx="3240" cy="2952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113520" y="4648320"/>
              <a:ext cx="3240" cy="2952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116760" y="4648320"/>
              <a:ext cx="6120" cy="2952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122880" y="4648320"/>
              <a:ext cx="3240" cy="2952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126120" y="4648320"/>
              <a:ext cx="1800" cy="2952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126120" y="4648320"/>
              <a:ext cx="6480" cy="2952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132600" y="4648320"/>
              <a:ext cx="3240" cy="2952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135840" y="4648320"/>
              <a:ext cx="2880" cy="2952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135840" y="4648320"/>
              <a:ext cx="6120" cy="2952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141960" y="4648320"/>
              <a:ext cx="3240" cy="2952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145200" y="4648320"/>
              <a:ext cx="1440" cy="2952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145200" y="4648320"/>
              <a:ext cx="6480" cy="2952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151680" y="4648320"/>
              <a:ext cx="2880" cy="2952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154560" y="4648320"/>
              <a:ext cx="3240" cy="2952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157800" y="4648320"/>
              <a:ext cx="3240" cy="2952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161040" y="4648320"/>
              <a:ext cx="1800" cy="2952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161040" y="4648320"/>
              <a:ext cx="6480" cy="2952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167520" y="4648320"/>
              <a:ext cx="3240" cy="2952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170760" y="4648320"/>
              <a:ext cx="1440" cy="2952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6170760" y="4648320"/>
              <a:ext cx="9360" cy="2952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6180120" y="4648320"/>
              <a:ext cx="3240" cy="2952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183360" y="4648320"/>
              <a:ext cx="1440" cy="2952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6183360" y="4648320"/>
              <a:ext cx="6480" cy="2952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6189840" y="4648320"/>
              <a:ext cx="2880" cy="2952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6192720" y="4648320"/>
              <a:ext cx="1800" cy="2952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6192720" y="4648320"/>
              <a:ext cx="6480" cy="2952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199200" y="4648320"/>
              <a:ext cx="1440" cy="2952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989680" y="464832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0" y="0"/>
                  </a:moveTo>
                  <a:lnTo>
                    <a:pt x="32" y="186"/>
                  </a:lnTo>
                  <a:lnTo>
                    <a:pt x="98" y="186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199200" y="4581360"/>
              <a:ext cx="3240" cy="6696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202440" y="4581360"/>
              <a:ext cx="3240" cy="6696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205680" y="4581360"/>
              <a:ext cx="2880" cy="6696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208560" y="4581360"/>
              <a:ext cx="6480" cy="6696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215040" y="4581360"/>
              <a:ext cx="3240" cy="6696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218280" y="4581360"/>
              <a:ext cx="4680" cy="66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6222960" y="4581360"/>
              <a:ext cx="3240" cy="66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6226200" y="4581360"/>
              <a:ext cx="3240" cy="6696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229440" y="4581360"/>
              <a:ext cx="3240" cy="6696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6232680" y="4581360"/>
              <a:ext cx="2880" cy="6696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235560" y="4581360"/>
              <a:ext cx="6480" cy="6696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242040" y="4581360"/>
              <a:ext cx="3240" cy="6696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199200" y="4581360"/>
              <a:ext cx="46080" cy="6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187" name="" descr=""/>
            <p:cNvPicPr/>
            <p:nvPr/>
          </p:nvPicPr>
          <p:blipFill>
            <a:blip r:embed="rId8"/>
            <a:stretch/>
          </p:blipFill>
          <p:spPr>
            <a:xfrm>
              <a:off x="7804080" y="5856120"/>
              <a:ext cx="90180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8" name=""/>
            <p:cNvSpPr/>
            <p:nvPr/>
          </p:nvSpPr>
          <p:spPr>
            <a:xfrm>
              <a:off x="8521560" y="6281640"/>
              <a:ext cx="247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540640" y="6324480"/>
              <a:ext cx="23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620200" y="6208560"/>
              <a:ext cx="189000" cy="16200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6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42" y="98"/>
                  </a:lnTo>
                  <a:lnTo>
                    <a:pt x="48" y="100"/>
                  </a:lnTo>
                  <a:lnTo>
                    <a:pt x="54" y="100"/>
                  </a:lnTo>
                  <a:lnTo>
                    <a:pt x="60" y="102"/>
                  </a:lnTo>
                  <a:lnTo>
                    <a:pt x="66" y="100"/>
                  </a:lnTo>
                  <a:lnTo>
                    <a:pt x="72" y="100"/>
                  </a:lnTo>
                  <a:lnTo>
                    <a:pt x="76" y="98"/>
                  </a:lnTo>
                  <a:lnTo>
                    <a:pt x="82" y="96"/>
                  </a:lnTo>
                  <a:lnTo>
                    <a:pt x="88" y="94"/>
                  </a:lnTo>
                  <a:lnTo>
                    <a:pt x="92" y="92"/>
                  </a:lnTo>
                  <a:lnTo>
                    <a:pt x="98" y="90"/>
                  </a:lnTo>
                  <a:lnTo>
                    <a:pt x="103" y="86"/>
                  </a:lnTo>
                  <a:lnTo>
                    <a:pt x="107" y="83"/>
                  </a:lnTo>
                  <a:lnTo>
                    <a:pt x="109" y="79"/>
                  </a:lnTo>
                  <a:lnTo>
                    <a:pt x="111" y="75"/>
                  </a:lnTo>
                  <a:lnTo>
                    <a:pt x="115" y="69"/>
                  </a:lnTo>
                  <a:lnTo>
                    <a:pt x="117" y="65"/>
                  </a:lnTo>
                  <a:lnTo>
                    <a:pt x="119" y="59"/>
                  </a:lnTo>
                  <a:lnTo>
                    <a:pt x="119" y="54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9" y="38"/>
                  </a:lnTo>
                  <a:lnTo>
                    <a:pt x="117" y="34"/>
                  </a:lnTo>
                  <a:lnTo>
                    <a:pt x="115" y="31"/>
                  </a:lnTo>
                  <a:lnTo>
                    <a:pt x="111" y="25"/>
                  </a:lnTo>
                  <a:lnTo>
                    <a:pt x="109" y="21"/>
                  </a:lnTo>
                  <a:lnTo>
                    <a:pt x="107" y="17"/>
                  </a:lnTo>
                  <a:lnTo>
                    <a:pt x="103" y="13"/>
                  </a:lnTo>
                  <a:lnTo>
                    <a:pt x="98" y="11"/>
                  </a:lnTo>
                  <a:lnTo>
                    <a:pt x="92" y="7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620200" y="6208560"/>
              <a:ext cx="189000" cy="16200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6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42" y="98"/>
                  </a:lnTo>
                  <a:lnTo>
                    <a:pt x="48" y="100"/>
                  </a:lnTo>
                  <a:lnTo>
                    <a:pt x="54" y="100"/>
                  </a:lnTo>
                  <a:lnTo>
                    <a:pt x="60" y="102"/>
                  </a:lnTo>
                  <a:lnTo>
                    <a:pt x="66" y="100"/>
                  </a:lnTo>
                  <a:lnTo>
                    <a:pt x="72" y="100"/>
                  </a:lnTo>
                  <a:lnTo>
                    <a:pt x="76" y="98"/>
                  </a:lnTo>
                  <a:lnTo>
                    <a:pt x="82" y="96"/>
                  </a:lnTo>
                  <a:lnTo>
                    <a:pt x="88" y="94"/>
                  </a:lnTo>
                  <a:lnTo>
                    <a:pt x="92" y="92"/>
                  </a:lnTo>
                  <a:lnTo>
                    <a:pt x="98" y="90"/>
                  </a:lnTo>
                  <a:lnTo>
                    <a:pt x="103" y="86"/>
                  </a:lnTo>
                  <a:lnTo>
                    <a:pt x="107" y="83"/>
                  </a:lnTo>
                  <a:lnTo>
                    <a:pt x="109" y="79"/>
                  </a:lnTo>
                  <a:lnTo>
                    <a:pt x="111" y="75"/>
                  </a:lnTo>
                  <a:lnTo>
                    <a:pt x="115" y="69"/>
                  </a:lnTo>
                  <a:lnTo>
                    <a:pt x="117" y="65"/>
                  </a:lnTo>
                  <a:lnTo>
                    <a:pt x="119" y="59"/>
                  </a:lnTo>
                  <a:lnTo>
                    <a:pt x="119" y="54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9" y="38"/>
                  </a:lnTo>
                  <a:lnTo>
                    <a:pt x="117" y="34"/>
                  </a:lnTo>
                  <a:lnTo>
                    <a:pt x="115" y="31"/>
                  </a:lnTo>
                  <a:lnTo>
                    <a:pt x="111" y="25"/>
                  </a:lnTo>
                  <a:lnTo>
                    <a:pt x="109" y="21"/>
                  </a:lnTo>
                  <a:lnTo>
                    <a:pt x="107" y="17"/>
                  </a:lnTo>
                  <a:lnTo>
                    <a:pt x="103" y="13"/>
                  </a:lnTo>
                  <a:lnTo>
                    <a:pt x="98" y="11"/>
                  </a:lnTo>
                  <a:lnTo>
                    <a:pt x="92" y="7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H="1">
              <a:off x="8572680" y="6300720"/>
              <a:ext cx="47520" cy="907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809200" y="6300720"/>
              <a:ext cx="53640" cy="907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572680" y="6391440"/>
              <a:ext cx="284040" cy="2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724960" y="6211800"/>
              <a:ext cx="19188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H="1">
              <a:off x="8530920" y="6291360"/>
              <a:ext cx="1839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690040" y="626904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6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690040" y="626904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6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199" name="" descr=""/>
            <p:cNvPicPr/>
            <p:nvPr/>
          </p:nvPicPr>
          <p:blipFill>
            <a:blip r:embed="rId9"/>
            <a:stretch/>
          </p:blipFill>
          <p:spPr>
            <a:xfrm>
              <a:off x="1962000" y="3833640"/>
              <a:ext cx="115740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0" name=""/>
            <p:cNvSpPr/>
            <p:nvPr/>
          </p:nvSpPr>
          <p:spPr>
            <a:xfrm>
              <a:off x="2979720" y="4183200"/>
              <a:ext cx="190440" cy="161640"/>
            </a:xfrm>
            <a:custGeom>
              <a:avLst/>
              <a:gdLst/>
              <a:ahLst/>
              <a:rect l="l" t="t" r="r" b="b"/>
              <a:pathLst>
                <a:path w="120" h="102">
                  <a:moveTo>
                    <a:pt x="60" y="0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7"/>
                  </a:lnTo>
                  <a:lnTo>
                    <a:pt x="20" y="91"/>
                  </a:lnTo>
                  <a:lnTo>
                    <a:pt x="26" y="93"/>
                  </a:lnTo>
                  <a:lnTo>
                    <a:pt x="30" y="97"/>
                  </a:lnTo>
                  <a:lnTo>
                    <a:pt x="36" y="99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2" y="100"/>
                  </a:lnTo>
                  <a:lnTo>
                    <a:pt x="78" y="100"/>
                  </a:lnTo>
                  <a:lnTo>
                    <a:pt x="82" y="99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91"/>
                  </a:lnTo>
                  <a:lnTo>
                    <a:pt x="102" y="87"/>
                  </a:lnTo>
                  <a:lnTo>
                    <a:pt x="106" y="83"/>
                  </a:lnTo>
                  <a:lnTo>
                    <a:pt x="108" y="79"/>
                  </a:lnTo>
                  <a:lnTo>
                    <a:pt x="112" y="75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18" y="56"/>
                  </a:lnTo>
                  <a:lnTo>
                    <a:pt x="120" y="52"/>
                  </a:lnTo>
                  <a:lnTo>
                    <a:pt x="118" y="46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8"/>
                  </a:lnTo>
                  <a:lnTo>
                    <a:pt x="88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79720" y="4183200"/>
              <a:ext cx="190440" cy="161640"/>
            </a:xfrm>
            <a:custGeom>
              <a:avLst/>
              <a:gdLst/>
              <a:ahLst/>
              <a:rect l="l" t="t" r="r" b="b"/>
              <a:pathLst>
                <a:path w="120" h="102">
                  <a:moveTo>
                    <a:pt x="60" y="0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7"/>
                  </a:lnTo>
                  <a:lnTo>
                    <a:pt x="20" y="91"/>
                  </a:lnTo>
                  <a:lnTo>
                    <a:pt x="26" y="93"/>
                  </a:lnTo>
                  <a:lnTo>
                    <a:pt x="30" y="97"/>
                  </a:lnTo>
                  <a:lnTo>
                    <a:pt x="36" y="99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2" y="100"/>
                  </a:lnTo>
                  <a:lnTo>
                    <a:pt x="78" y="100"/>
                  </a:lnTo>
                  <a:lnTo>
                    <a:pt x="82" y="99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91"/>
                  </a:lnTo>
                  <a:lnTo>
                    <a:pt x="102" y="87"/>
                  </a:lnTo>
                  <a:lnTo>
                    <a:pt x="106" y="83"/>
                  </a:lnTo>
                  <a:lnTo>
                    <a:pt x="108" y="79"/>
                  </a:lnTo>
                  <a:lnTo>
                    <a:pt x="112" y="75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18" y="56"/>
                  </a:lnTo>
                  <a:lnTo>
                    <a:pt x="120" y="52"/>
                  </a:lnTo>
                  <a:lnTo>
                    <a:pt x="118" y="46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8"/>
                  </a:lnTo>
                  <a:lnTo>
                    <a:pt x="88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H="1">
              <a:off x="2932200" y="4278240"/>
              <a:ext cx="4752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3170160" y="4278240"/>
              <a:ext cx="5400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932200" y="4367160"/>
              <a:ext cx="28584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087720" y="4189320"/>
              <a:ext cx="19044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6" name=""/>
            <p:cNvSpPr/>
            <p:nvPr/>
          </p:nvSpPr>
          <p:spPr>
            <a:xfrm flipH="1">
              <a:off x="2889360" y="4268880"/>
              <a:ext cx="18576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49560" y="424800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6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049560" y="424800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6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63760" y="3846600"/>
              <a:ext cx="76320" cy="233280"/>
            </a:xfrm>
            <a:custGeom>
              <a:avLst/>
              <a:gdLst/>
              <a:ahLst/>
              <a:rect l="l" t="t" r="r" b="b"/>
              <a:pathLst>
                <a:path w="48" h="147">
                  <a:moveTo>
                    <a:pt x="26" y="0"/>
                  </a:moveTo>
                  <a:lnTo>
                    <a:pt x="32" y="112"/>
                  </a:lnTo>
                  <a:lnTo>
                    <a:pt x="16" y="114"/>
                  </a:lnTo>
                  <a:lnTo>
                    <a:pt x="10" y="2"/>
                  </a:lnTo>
                  <a:lnTo>
                    <a:pt x="26" y="0"/>
                  </a:lnTo>
                  <a:close/>
                  <a:moveTo>
                    <a:pt x="48" y="106"/>
                  </a:moveTo>
                  <a:lnTo>
                    <a:pt x="24" y="147"/>
                  </a:lnTo>
                  <a:lnTo>
                    <a:pt x="0" y="108"/>
                  </a:lnTo>
                  <a:lnTo>
                    <a:pt x="48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79600" y="3846600"/>
              <a:ext cx="34920" cy="18072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16" y="0"/>
                  </a:moveTo>
                  <a:lnTo>
                    <a:pt x="22" y="112"/>
                  </a:lnTo>
                  <a:lnTo>
                    <a:pt x="6" y="114"/>
                  </a:ln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363760" y="401472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2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736720" y="3497400"/>
              <a:ext cx="82800" cy="431640"/>
            </a:xfrm>
            <a:custGeom>
              <a:avLst/>
              <a:gdLst/>
              <a:ahLst/>
              <a:rect l="l" t="t" r="r" b="b"/>
              <a:pathLst>
                <a:path w="52" h="272">
                  <a:moveTo>
                    <a:pt x="36" y="0"/>
                  </a:moveTo>
                  <a:lnTo>
                    <a:pt x="36" y="239"/>
                  </a:lnTo>
                  <a:lnTo>
                    <a:pt x="18" y="239"/>
                  </a:lnTo>
                  <a:lnTo>
                    <a:pt x="18" y="0"/>
                  </a:lnTo>
                  <a:lnTo>
                    <a:pt x="36" y="0"/>
                  </a:lnTo>
                  <a:close/>
                  <a:moveTo>
                    <a:pt x="52" y="231"/>
                  </a:moveTo>
                  <a:lnTo>
                    <a:pt x="28" y="272"/>
                  </a:lnTo>
                  <a:lnTo>
                    <a:pt x="0" y="231"/>
                  </a:lnTo>
                  <a:lnTo>
                    <a:pt x="52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765520" y="3497400"/>
              <a:ext cx="28440" cy="379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736720" y="3863880"/>
              <a:ext cx="82800" cy="65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2" y="0"/>
                  </a:moveTo>
                  <a:lnTo>
                    <a:pt x="28" y="41"/>
                  </a:lnTo>
                  <a:lnTo>
                    <a:pt x="0" y="0"/>
                  </a:lnTo>
                  <a:lnTo>
                    <a:pt x="5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721640" y="5816520"/>
              <a:ext cx="79200" cy="593640"/>
            </a:xfrm>
            <a:custGeom>
              <a:avLst/>
              <a:gdLst/>
              <a:ahLst/>
              <a:rect l="l" t="t" r="r" b="b"/>
              <a:pathLst>
                <a:path w="50" h="374">
                  <a:moveTo>
                    <a:pt x="34" y="32"/>
                  </a:moveTo>
                  <a:lnTo>
                    <a:pt x="38" y="374"/>
                  </a:lnTo>
                  <a:lnTo>
                    <a:pt x="22" y="374"/>
                  </a:lnTo>
                  <a:lnTo>
                    <a:pt x="16" y="32"/>
                  </a:lnTo>
                  <a:lnTo>
                    <a:pt x="34" y="32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5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746840" y="5867280"/>
              <a:ext cx="34920" cy="542880"/>
            </a:xfrm>
            <a:custGeom>
              <a:avLst/>
              <a:gdLst/>
              <a:ahLst/>
              <a:rect l="l" t="t" r="r" b="b"/>
              <a:pathLst>
                <a:path w="22" h="342">
                  <a:moveTo>
                    <a:pt x="18" y="0"/>
                  </a:moveTo>
                  <a:lnTo>
                    <a:pt x="22" y="342"/>
                  </a:lnTo>
                  <a:lnTo>
                    <a:pt x="6" y="342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721640" y="58165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0" y="40"/>
                  </a:moveTo>
                  <a:lnTo>
                    <a:pt x="24" y="0"/>
                  </a:lnTo>
                  <a:lnTo>
                    <a:pt x="50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8" name=""/>
            <p:cNvSpPr/>
            <p:nvPr/>
          </p:nvSpPr>
          <p:spPr>
            <a:xfrm flipH="1">
              <a:off x="7749720" y="5827680"/>
              <a:ext cx="3603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078760" y="5821200"/>
              <a:ext cx="76320" cy="262080"/>
            </a:xfrm>
            <a:custGeom>
              <a:avLst/>
              <a:gdLst/>
              <a:ahLst/>
              <a:rect l="l" t="t" r="r" b="b"/>
              <a:pathLst>
                <a:path w="48" h="165">
                  <a:moveTo>
                    <a:pt x="32" y="0"/>
                  </a:moveTo>
                  <a:lnTo>
                    <a:pt x="32" y="130"/>
                  </a:lnTo>
                  <a:lnTo>
                    <a:pt x="16" y="130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4"/>
                  </a:moveTo>
                  <a:lnTo>
                    <a:pt x="24" y="165"/>
                  </a:lnTo>
                  <a:lnTo>
                    <a:pt x="0" y="124"/>
                  </a:lnTo>
                  <a:lnTo>
                    <a:pt x="48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04320" y="5821200"/>
              <a:ext cx="25200" cy="206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078760" y="601812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361360" y="5432400"/>
              <a:ext cx="81000" cy="615960"/>
            </a:xfrm>
            <a:custGeom>
              <a:avLst/>
              <a:gdLst/>
              <a:ahLst/>
              <a:rect l="l" t="t" r="r" b="b"/>
              <a:pathLst>
                <a:path w="51" h="388">
                  <a:moveTo>
                    <a:pt x="32" y="0"/>
                  </a:moveTo>
                  <a:lnTo>
                    <a:pt x="32" y="354"/>
                  </a:lnTo>
                  <a:lnTo>
                    <a:pt x="16" y="3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1" y="348"/>
                  </a:moveTo>
                  <a:lnTo>
                    <a:pt x="24" y="388"/>
                  </a:lnTo>
                  <a:lnTo>
                    <a:pt x="0" y="348"/>
                  </a:lnTo>
                  <a:lnTo>
                    <a:pt x="51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86920" y="5432400"/>
              <a:ext cx="25200" cy="561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361360" y="598500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225" name="" descr=""/>
            <p:cNvPicPr/>
            <p:nvPr/>
          </p:nvPicPr>
          <p:blipFill>
            <a:blip r:embed="rId10"/>
            <a:stretch/>
          </p:blipFill>
          <p:spPr>
            <a:xfrm>
              <a:off x="2009880" y="5821200"/>
              <a:ext cx="110304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6" name=""/>
            <p:cNvSpPr/>
            <p:nvPr/>
          </p:nvSpPr>
          <p:spPr>
            <a:xfrm flipH="1" flipV="1">
              <a:off x="2104920" y="5691240"/>
              <a:ext cx="300240" cy="20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104920" y="5645160"/>
              <a:ext cx="600120" cy="119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104920" y="5691240"/>
              <a:ext cx="600120" cy="11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104920" y="5599080"/>
              <a:ext cx="600120" cy="119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104920" y="5599080"/>
              <a:ext cx="1800" cy="9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2404800" y="5807160"/>
              <a:ext cx="29988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705040" y="571824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970360" y="6170760"/>
              <a:ext cx="19044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0" y="82"/>
                  </a:lnTo>
                  <a:lnTo>
                    <a:pt x="14" y="83"/>
                  </a:lnTo>
                  <a:lnTo>
                    <a:pt x="16" y="89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30" y="97"/>
                  </a:lnTo>
                  <a:lnTo>
                    <a:pt x="36" y="101"/>
                  </a:lnTo>
                  <a:lnTo>
                    <a:pt x="42" y="101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60" y="105"/>
                  </a:lnTo>
                  <a:lnTo>
                    <a:pt x="68" y="103"/>
                  </a:lnTo>
                  <a:lnTo>
                    <a:pt x="72" y="103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8" y="97"/>
                  </a:lnTo>
                  <a:lnTo>
                    <a:pt x="94" y="95"/>
                  </a:lnTo>
                  <a:lnTo>
                    <a:pt x="98" y="91"/>
                  </a:lnTo>
                  <a:lnTo>
                    <a:pt x="102" y="89"/>
                  </a:lnTo>
                  <a:lnTo>
                    <a:pt x="106" y="83"/>
                  </a:lnTo>
                  <a:lnTo>
                    <a:pt x="110" y="82"/>
                  </a:lnTo>
                  <a:lnTo>
                    <a:pt x="112" y="76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7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970360" y="6170760"/>
              <a:ext cx="19044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0" y="82"/>
                  </a:lnTo>
                  <a:lnTo>
                    <a:pt x="14" y="83"/>
                  </a:lnTo>
                  <a:lnTo>
                    <a:pt x="16" y="89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30" y="97"/>
                  </a:lnTo>
                  <a:lnTo>
                    <a:pt x="36" y="101"/>
                  </a:lnTo>
                  <a:lnTo>
                    <a:pt x="42" y="101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60" y="105"/>
                  </a:lnTo>
                  <a:lnTo>
                    <a:pt x="68" y="103"/>
                  </a:lnTo>
                  <a:lnTo>
                    <a:pt x="72" y="103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8" y="97"/>
                  </a:lnTo>
                  <a:lnTo>
                    <a:pt x="94" y="95"/>
                  </a:lnTo>
                  <a:lnTo>
                    <a:pt x="98" y="91"/>
                  </a:lnTo>
                  <a:lnTo>
                    <a:pt x="102" y="89"/>
                  </a:lnTo>
                  <a:lnTo>
                    <a:pt x="106" y="83"/>
                  </a:lnTo>
                  <a:lnTo>
                    <a:pt x="110" y="82"/>
                  </a:lnTo>
                  <a:lnTo>
                    <a:pt x="112" y="76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7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H="1">
              <a:off x="2925720" y="6265800"/>
              <a:ext cx="4464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3160800" y="6265800"/>
              <a:ext cx="5400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925720" y="6354720"/>
              <a:ext cx="28260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3078000" y="6176880"/>
              <a:ext cx="18756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H="1">
              <a:off x="2879640" y="6257880"/>
              <a:ext cx="18576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043080" y="6235560"/>
              <a:ext cx="4788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4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043080" y="6235560"/>
              <a:ext cx="4788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4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198520" y="6180120"/>
              <a:ext cx="212760" cy="16344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68" y="0"/>
                  </a:moveTo>
                  <a:lnTo>
                    <a:pt x="74" y="0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4" y="14"/>
                  </a:lnTo>
                  <a:lnTo>
                    <a:pt x="120" y="18"/>
                  </a:lnTo>
                  <a:lnTo>
                    <a:pt x="122" y="21"/>
                  </a:lnTo>
                  <a:lnTo>
                    <a:pt x="126" y="25"/>
                  </a:lnTo>
                  <a:lnTo>
                    <a:pt x="128" y="31"/>
                  </a:lnTo>
                  <a:lnTo>
                    <a:pt x="132" y="35"/>
                  </a:lnTo>
                  <a:lnTo>
                    <a:pt x="134" y="39"/>
                  </a:lnTo>
                  <a:lnTo>
                    <a:pt x="134" y="45"/>
                  </a:lnTo>
                  <a:lnTo>
                    <a:pt x="134" y="50"/>
                  </a:lnTo>
                  <a:lnTo>
                    <a:pt x="134" y="54"/>
                  </a:lnTo>
                  <a:lnTo>
                    <a:pt x="134" y="60"/>
                  </a:lnTo>
                  <a:lnTo>
                    <a:pt x="132" y="66"/>
                  </a:lnTo>
                  <a:lnTo>
                    <a:pt x="128" y="70"/>
                  </a:lnTo>
                  <a:lnTo>
                    <a:pt x="126" y="76"/>
                  </a:lnTo>
                  <a:lnTo>
                    <a:pt x="122" y="79"/>
                  </a:lnTo>
                  <a:lnTo>
                    <a:pt x="120" y="83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4" y="93"/>
                  </a:lnTo>
                  <a:lnTo>
                    <a:pt x="100" y="95"/>
                  </a:lnTo>
                  <a:lnTo>
                    <a:pt x="92" y="97"/>
                  </a:lnTo>
                  <a:lnTo>
                    <a:pt x="88" y="99"/>
                  </a:lnTo>
                  <a:lnTo>
                    <a:pt x="82" y="101"/>
                  </a:lnTo>
                  <a:lnTo>
                    <a:pt x="74" y="101"/>
                  </a:lnTo>
                  <a:lnTo>
                    <a:pt x="68" y="103"/>
                  </a:lnTo>
                  <a:lnTo>
                    <a:pt x="60" y="101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7"/>
                  </a:lnTo>
                  <a:lnTo>
                    <a:pt x="34" y="95"/>
                  </a:lnTo>
                  <a:lnTo>
                    <a:pt x="28" y="93"/>
                  </a:lnTo>
                  <a:lnTo>
                    <a:pt x="24" y="91"/>
                  </a:lnTo>
                  <a:lnTo>
                    <a:pt x="18" y="87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198520" y="6180120"/>
              <a:ext cx="212760" cy="16344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68" y="0"/>
                  </a:moveTo>
                  <a:lnTo>
                    <a:pt x="74" y="0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4" y="14"/>
                  </a:lnTo>
                  <a:lnTo>
                    <a:pt x="120" y="18"/>
                  </a:lnTo>
                  <a:lnTo>
                    <a:pt x="122" y="21"/>
                  </a:lnTo>
                  <a:lnTo>
                    <a:pt x="126" y="25"/>
                  </a:lnTo>
                  <a:lnTo>
                    <a:pt x="128" y="31"/>
                  </a:lnTo>
                  <a:lnTo>
                    <a:pt x="132" y="35"/>
                  </a:lnTo>
                  <a:lnTo>
                    <a:pt x="134" y="39"/>
                  </a:lnTo>
                  <a:lnTo>
                    <a:pt x="134" y="45"/>
                  </a:lnTo>
                  <a:lnTo>
                    <a:pt x="134" y="50"/>
                  </a:lnTo>
                  <a:lnTo>
                    <a:pt x="134" y="54"/>
                  </a:lnTo>
                  <a:lnTo>
                    <a:pt x="134" y="60"/>
                  </a:lnTo>
                  <a:lnTo>
                    <a:pt x="132" y="66"/>
                  </a:lnTo>
                  <a:lnTo>
                    <a:pt x="128" y="70"/>
                  </a:lnTo>
                  <a:lnTo>
                    <a:pt x="126" y="76"/>
                  </a:lnTo>
                  <a:lnTo>
                    <a:pt x="122" y="79"/>
                  </a:lnTo>
                  <a:lnTo>
                    <a:pt x="120" y="83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4" y="93"/>
                  </a:lnTo>
                  <a:lnTo>
                    <a:pt x="100" y="95"/>
                  </a:lnTo>
                  <a:lnTo>
                    <a:pt x="92" y="97"/>
                  </a:lnTo>
                  <a:lnTo>
                    <a:pt x="88" y="99"/>
                  </a:lnTo>
                  <a:lnTo>
                    <a:pt x="82" y="101"/>
                  </a:lnTo>
                  <a:lnTo>
                    <a:pt x="74" y="101"/>
                  </a:lnTo>
                  <a:lnTo>
                    <a:pt x="68" y="103"/>
                  </a:lnTo>
                  <a:lnTo>
                    <a:pt x="60" y="101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7"/>
                  </a:lnTo>
                  <a:lnTo>
                    <a:pt x="34" y="95"/>
                  </a:lnTo>
                  <a:lnTo>
                    <a:pt x="28" y="93"/>
                  </a:lnTo>
                  <a:lnTo>
                    <a:pt x="24" y="91"/>
                  </a:lnTo>
                  <a:lnTo>
                    <a:pt x="18" y="87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411280" y="6272280"/>
              <a:ext cx="54000" cy="92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H="1">
              <a:off x="2133720" y="6272280"/>
              <a:ext cx="64800" cy="92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H="1">
              <a:off x="2139840" y="6364440"/>
              <a:ext cx="325440" cy="2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H="1">
              <a:off x="2073240" y="6183360"/>
              <a:ext cx="21744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2303640" y="6262560"/>
              <a:ext cx="2095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278080" y="624204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16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278080" y="624204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16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73480" y="5821200"/>
              <a:ext cx="79200" cy="23364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32" y="0"/>
                  </a:moveTo>
                  <a:lnTo>
                    <a:pt x="32" y="112"/>
                  </a:lnTo>
                  <a:lnTo>
                    <a:pt x="16" y="112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07"/>
                  </a:moveTo>
                  <a:lnTo>
                    <a:pt x="24" y="147"/>
                  </a:lnTo>
                  <a:lnTo>
                    <a:pt x="0" y="107"/>
                  </a:lnTo>
                  <a:lnTo>
                    <a:pt x="5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398680" y="5821200"/>
              <a:ext cx="25560" cy="177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373480" y="59911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778120" y="5424480"/>
              <a:ext cx="76320" cy="547560"/>
            </a:xfrm>
            <a:custGeom>
              <a:avLst/>
              <a:gdLst/>
              <a:ahLst/>
              <a:rect l="l" t="t" r="r" b="b"/>
              <a:pathLst>
                <a:path w="48" h="345">
                  <a:moveTo>
                    <a:pt x="32" y="0"/>
                  </a:moveTo>
                  <a:lnTo>
                    <a:pt x="32" y="312"/>
                  </a:lnTo>
                  <a:lnTo>
                    <a:pt x="16" y="312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305"/>
                  </a:moveTo>
                  <a:lnTo>
                    <a:pt x="24" y="345"/>
                  </a:lnTo>
                  <a:lnTo>
                    <a:pt x="0" y="305"/>
                  </a:lnTo>
                  <a:lnTo>
                    <a:pt x="48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803680" y="5424480"/>
              <a:ext cx="25200" cy="495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778120" y="590868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H="1">
              <a:off x="1882800" y="6186600"/>
              <a:ext cx="37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H="1" flipV="1">
              <a:off x="2149560" y="3708360"/>
              <a:ext cx="242640" cy="20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149560" y="3662280"/>
              <a:ext cx="485640" cy="115920"/>
            </a:xfrm>
            <a:custGeom>
              <a:avLst/>
              <a:gdLst/>
              <a:ahLst/>
              <a:rect l="l" t="t" r="r" b="b"/>
              <a:pathLst>
                <a:path w="306" h="73">
                  <a:moveTo>
                    <a:pt x="0" y="0"/>
                  </a:moveTo>
                  <a:lnTo>
                    <a:pt x="306" y="73"/>
                  </a:lnTo>
                  <a:lnTo>
                    <a:pt x="306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149560" y="3708360"/>
              <a:ext cx="485640" cy="115920"/>
            </a:xfrm>
            <a:custGeom>
              <a:avLst/>
              <a:gdLst/>
              <a:ahLst/>
              <a:rect l="l" t="t" r="r" b="b"/>
              <a:pathLst>
                <a:path w="306" h="73">
                  <a:moveTo>
                    <a:pt x="0" y="0"/>
                  </a:moveTo>
                  <a:lnTo>
                    <a:pt x="306" y="73"/>
                  </a:lnTo>
                  <a:lnTo>
                    <a:pt x="306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149560" y="3616200"/>
              <a:ext cx="485640" cy="119160"/>
            </a:xfrm>
            <a:custGeom>
              <a:avLst/>
              <a:gdLst/>
              <a:ahLst/>
              <a:rect l="l" t="t" r="r" b="b"/>
              <a:pathLst>
                <a:path w="306" h="75">
                  <a:moveTo>
                    <a:pt x="0" y="0"/>
                  </a:moveTo>
                  <a:lnTo>
                    <a:pt x="306" y="75"/>
                  </a:lnTo>
                  <a:lnTo>
                    <a:pt x="306" y="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149560" y="3616200"/>
              <a:ext cx="1440" cy="9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2391840" y="3824280"/>
              <a:ext cx="24300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635200" y="373536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915840" y="2054160"/>
              <a:ext cx="2829240" cy="85680"/>
            </a:xfrm>
            <a:custGeom>
              <a:avLst/>
              <a:gdLst/>
              <a:ahLst/>
              <a:rect l="l" t="t" r="r" b="b"/>
              <a:pathLst>
                <a:path w="1782" h="54">
                  <a:moveTo>
                    <a:pt x="0" y="14"/>
                  </a:moveTo>
                  <a:lnTo>
                    <a:pt x="1725" y="19"/>
                  </a:lnTo>
                  <a:lnTo>
                    <a:pt x="1725" y="37"/>
                  </a:lnTo>
                  <a:lnTo>
                    <a:pt x="0" y="31"/>
                  </a:lnTo>
                  <a:lnTo>
                    <a:pt x="0" y="14"/>
                  </a:lnTo>
                  <a:close/>
                  <a:moveTo>
                    <a:pt x="1715" y="0"/>
                  </a:moveTo>
                  <a:lnTo>
                    <a:pt x="1782" y="27"/>
                  </a:lnTo>
                  <a:lnTo>
                    <a:pt x="1715" y="54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915840" y="2076480"/>
              <a:ext cx="2738520" cy="36360"/>
            </a:xfrm>
            <a:custGeom>
              <a:avLst/>
              <a:gdLst/>
              <a:ahLst/>
              <a:rect l="l" t="t" r="r" b="b"/>
              <a:pathLst>
                <a:path w="1725" h="23">
                  <a:moveTo>
                    <a:pt x="0" y="0"/>
                  </a:moveTo>
                  <a:lnTo>
                    <a:pt x="1725" y="5"/>
                  </a:lnTo>
                  <a:lnTo>
                    <a:pt x="1725" y="23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638520" y="2054160"/>
              <a:ext cx="10656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H="1">
              <a:off x="4506840" y="443088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4563720" y="2736720"/>
              <a:ext cx="593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68520" y="2647800"/>
              <a:ext cx="15433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956120" y="5052960"/>
              <a:ext cx="1343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235560" y="5046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30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8" y="29"/>
                  </a:lnTo>
                  <a:lnTo>
                    <a:pt x="22" y="29"/>
                  </a:lnTo>
                  <a:lnTo>
                    <a:pt x="30" y="31"/>
                  </a:lnTo>
                  <a:lnTo>
                    <a:pt x="34" y="29"/>
                  </a:lnTo>
                  <a:lnTo>
                    <a:pt x="40" y="29"/>
                  </a:lnTo>
                  <a:lnTo>
                    <a:pt x="44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4" y="2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235560" y="5046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30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8" y="29"/>
                  </a:lnTo>
                  <a:lnTo>
                    <a:pt x="22" y="29"/>
                  </a:lnTo>
                  <a:lnTo>
                    <a:pt x="30" y="31"/>
                  </a:lnTo>
                  <a:lnTo>
                    <a:pt x="34" y="29"/>
                  </a:lnTo>
                  <a:lnTo>
                    <a:pt x="40" y="29"/>
                  </a:lnTo>
                  <a:lnTo>
                    <a:pt x="44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4" y="2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930920" y="503712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28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12" y="29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8" y="33"/>
                  </a:lnTo>
                  <a:lnTo>
                    <a:pt x="34" y="31"/>
                  </a:lnTo>
                  <a:lnTo>
                    <a:pt x="40" y="31"/>
                  </a:lnTo>
                  <a:lnTo>
                    <a:pt x="44" y="29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930920" y="503712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28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12" y="29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8" y="33"/>
                  </a:lnTo>
                  <a:lnTo>
                    <a:pt x="34" y="31"/>
                  </a:lnTo>
                  <a:lnTo>
                    <a:pt x="40" y="31"/>
                  </a:lnTo>
                  <a:lnTo>
                    <a:pt x="44" y="29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362400" y="264168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22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2" y="29"/>
                  </a:lnTo>
                  <a:lnTo>
                    <a:pt x="26" y="28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362400" y="264168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22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2" y="29"/>
                  </a:lnTo>
                  <a:lnTo>
                    <a:pt x="26" y="28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873680" y="26416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24" y="0"/>
                  </a:move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873680" y="26416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24" y="0"/>
                  </a:move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940280" y="2682720"/>
              <a:ext cx="1440" cy="281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>
              <a:off x="4618080" y="5500800"/>
              <a:ext cx="3477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59900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59900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88304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4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4" y="25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88304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4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4" y="25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H="1">
              <a:off x="4617720" y="3613320"/>
              <a:ext cx="322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902120" y="3613320"/>
              <a:ext cx="73080" cy="428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902120" y="3613320"/>
              <a:ext cx="73080" cy="428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608360" y="36068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6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608360" y="36068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6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232680" y="5089680"/>
              <a:ext cx="79200" cy="299880"/>
            </a:xfrm>
            <a:custGeom>
              <a:avLst/>
              <a:gdLst/>
              <a:ahLst/>
              <a:rect l="l" t="t" r="r" b="b"/>
              <a:pathLst>
                <a:path w="50" h="189">
                  <a:moveTo>
                    <a:pt x="32" y="0"/>
                  </a:moveTo>
                  <a:lnTo>
                    <a:pt x="32" y="155"/>
                  </a:lnTo>
                  <a:lnTo>
                    <a:pt x="16" y="15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49"/>
                  </a:moveTo>
                  <a:lnTo>
                    <a:pt x="24" y="189"/>
                  </a:lnTo>
                  <a:lnTo>
                    <a:pt x="0" y="149"/>
                  </a:lnTo>
                  <a:lnTo>
                    <a:pt x="50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257880" y="5089680"/>
              <a:ext cx="25560" cy="2458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232680" y="532620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4424400" y="5494320"/>
              <a:ext cx="183960" cy="3636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116" y="17"/>
                  </a:moveTo>
                  <a:lnTo>
                    <a:pt x="22" y="17"/>
                  </a:lnTo>
                  <a:lnTo>
                    <a:pt x="22" y="8"/>
                  </a:lnTo>
                  <a:lnTo>
                    <a:pt x="116" y="8"/>
                  </a:lnTo>
                  <a:lnTo>
                    <a:pt x="116" y="17"/>
                  </a:lnTo>
                  <a:close/>
                  <a:moveTo>
                    <a:pt x="30" y="23"/>
                  </a:moveTo>
                  <a:lnTo>
                    <a:pt x="0" y="12"/>
                  </a:lnTo>
                  <a:lnTo>
                    <a:pt x="30" y="0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459320" y="5506920"/>
              <a:ext cx="149040" cy="144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424400" y="549432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30" y="23"/>
                  </a:moveTo>
                  <a:lnTo>
                    <a:pt x="0" y="12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433760" y="3600360"/>
              <a:ext cx="184320" cy="38160"/>
            </a:xfrm>
            <a:custGeom>
              <a:avLst/>
              <a:gdLst/>
              <a:ahLst/>
              <a:rect l="l" t="t" r="r" b="b"/>
              <a:pathLst>
                <a:path w="116" h="24">
                  <a:moveTo>
                    <a:pt x="116" y="18"/>
                  </a:moveTo>
                  <a:lnTo>
                    <a:pt x="22" y="18"/>
                  </a:lnTo>
                  <a:lnTo>
                    <a:pt x="22" y="8"/>
                  </a:lnTo>
                  <a:lnTo>
                    <a:pt x="116" y="8"/>
                  </a:lnTo>
                  <a:lnTo>
                    <a:pt x="116" y="18"/>
                  </a:lnTo>
                  <a:close/>
                  <a:moveTo>
                    <a:pt x="30" y="24"/>
                  </a:moveTo>
                  <a:lnTo>
                    <a:pt x="0" y="14"/>
                  </a:lnTo>
                  <a:lnTo>
                    <a:pt x="3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468680" y="3613320"/>
              <a:ext cx="149400" cy="1584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4267080" y="1414440"/>
            <a:ext cx="847800" cy="2224080"/>
            <a:chOff x="4267080" y="1414440"/>
            <a:chExt cx="847800" cy="2224080"/>
          </a:xfrm>
        </p:grpSpPr>
        <p:sp>
          <p:nvSpPr>
            <p:cNvPr id="3300" name=""/>
            <p:cNvSpPr/>
            <p:nvPr/>
          </p:nvSpPr>
          <p:spPr>
            <a:xfrm>
              <a:off x="4433760" y="3600360"/>
              <a:ext cx="4788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14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301" name="" descr=""/>
            <p:cNvPicPr/>
            <p:nvPr/>
          </p:nvPicPr>
          <p:blipFill>
            <a:blip r:embed="rId11"/>
            <a:stretch/>
          </p:blipFill>
          <p:spPr>
            <a:xfrm>
              <a:off x="4583160" y="1414440"/>
              <a:ext cx="53172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2" name="" descr=""/>
            <p:cNvPicPr/>
            <p:nvPr/>
          </p:nvPicPr>
          <p:blipFill>
            <a:blip r:embed="rId12"/>
            <a:stretch/>
          </p:blipFill>
          <p:spPr>
            <a:xfrm>
              <a:off x="4583160" y="1414440"/>
              <a:ext cx="53172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3" name=""/>
            <p:cNvSpPr/>
            <p:nvPr/>
          </p:nvSpPr>
          <p:spPr>
            <a:xfrm>
              <a:off x="4267080" y="1639800"/>
              <a:ext cx="3240" cy="1238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4270320" y="1639800"/>
              <a:ext cx="1800" cy="1238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270320" y="1639800"/>
              <a:ext cx="3240" cy="1238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273560" y="1639800"/>
              <a:ext cx="1440" cy="1238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273560" y="1639800"/>
              <a:ext cx="3240" cy="1238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276800" y="1639800"/>
              <a:ext cx="1440" cy="1238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276800" y="1639800"/>
              <a:ext cx="3240" cy="1238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280040" y="1639800"/>
              <a:ext cx="2880" cy="1238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282920" y="1639800"/>
              <a:ext cx="1800" cy="1238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282920" y="1639800"/>
              <a:ext cx="3240" cy="1238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4286160" y="1639800"/>
              <a:ext cx="1800" cy="1238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286160" y="1639800"/>
              <a:ext cx="3240" cy="1238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4289400" y="1639800"/>
              <a:ext cx="3240" cy="1238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4292640" y="1639800"/>
              <a:ext cx="1440" cy="1238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4292640" y="1639800"/>
              <a:ext cx="3240" cy="1238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295880" y="1639800"/>
              <a:ext cx="3240" cy="1238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299120" y="1639800"/>
              <a:ext cx="1440" cy="1238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299120" y="1639800"/>
              <a:ext cx="2880" cy="1238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302000" y="1639800"/>
              <a:ext cx="1800" cy="1238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302000" y="1639800"/>
              <a:ext cx="3240" cy="1238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305240" y="1639800"/>
              <a:ext cx="1800" cy="1238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305240" y="1639800"/>
              <a:ext cx="3240" cy="1238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308480" y="1639800"/>
              <a:ext cx="1440" cy="1238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308480" y="1639800"/>
              <a:ext cx="3240" cy="1238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311720" y="1639800"/>
              <a:ext cx="1440" cy="1238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311720" y="1639800"/>
              <a:ext cx="3240" cy="1238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314960" y="1639800"/>
              <a:ext cx="1440" cy="1238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314960" y="1639800"/>
              <a:ext cx="2880" cy="1238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317840" y="1639800"/>
              <a:ext cx="1800" cy="1238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317840" y="1639800"/>
              <a:ext cx="6480" cy="1238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324320" y="1639800"/>
              <a:ext cx="1440" cy="1238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324320" y="1639800"/>
              <a:ext cx="3240" cy="1238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4327560" y="1639800"/>
              <a:ext cx="1440" cy="1238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327560" y="1639800"/>
              <a:ext cx="3240" cy="1238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330800" y="1639800"/>
              <a:ext cx="3240" cy="1238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334040" y="1639800"/>
              <a:ext cx="1440" cy="1238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334040" y="1639800"/>
              <a:ext cx="2880" cy="1238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336920" y="1639800"/>
              <a:ext cx="1800" cy="1238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4336920" y="1639800"/>
              <a:ext cx="3240" cy="1238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340160" y="1639800"/>
              <a:ext cx="1800" cy="1238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340160" y="1639800"/>
              <a:ext cx="3240" cy="1238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340160" y="1639800"/>
              <a:ext cx="3240" cy="1238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4343400" y="1639800"/>
              <a:ext cx="1440" cy="1238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343400" y="1639800"/>
              <a:ext cx="3240" cy="1238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384800" y="1628640"/>
              <a:ext cx="288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387680" y="162864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387680" y="1628640"/>
              <a:ext cx="180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387680" y="1628640"/>
              <a:ext cx="50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392720" y="1628640"/>
              <a:ext cx="32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395960" y="162864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395960" y="162864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395960" y="1628640"/>
              <a:ext cx="288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398840" y="1628640"/>
              <a:ext cx="180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398840" y="1628640"/>
              <a:ext cx="648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405320" y="1628640"/>
              <a:ext cx="14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405320" y="162864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405320" y="162864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408560" y="162864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408560" y="162864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411800" y="162864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411800" y="162864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414680" y="1628640"/>
              <a:ext cx="32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417920" y="162864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421160" y="162864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421160" y="162864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424400" y="162864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427640" y="162864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430880" y="1628640"/>
              <a:ext cx="14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430880" y="162864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4433760" y="1628640"/>
              <a:ext cx="180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433760" y="162864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437000" y="162864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437000" y="162864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440240" y="162864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443480" y="162864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446720" y="162864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446720" y="1628640"/>
              <a:ext cx="288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449600" y="1628640"/>
              <a:ext cx="180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449600" y="162864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452840" y="162864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456080" y="162864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456080" y="162864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459320" y="1628640"/>
              <a:ext cx="14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459320" y="162864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462560" y="162864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4462560" y="162864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462560" y="1628640"/>
              <a:ext cx="32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4465800" y="1628640"/>
              <a:ext cx="288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4468680" y="1628640"/>
              <a:ext cx="180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4468680" y="162864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471920" y="162864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471920" y="1628640"/>
              <a:ext cx="180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471920" y="1628640"/>
              <a:ext cx="324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4475160" y="162864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478400" y="1628640"/>
              <a:ext cx="14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4478400" y="1628640"/>
              <a:ext cx="32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478400" y="162864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481640" y="1628640"/>
              <a:ext cx="288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484520" y="1628640"/>
              <a:ext cx="180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484520" y="162864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4487760" y="162864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4487760" y="1628640"/>
              <a:ext cx="324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4491000" y="1628640"/>
              <a:ext cx="180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491000" y="162864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4494240" y="162864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4497480" y="162864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4497480" y="1628640"/>
              <a:ext cx="14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497480" y="1628640"/>
              <a:ext cx="32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4500720" y="162864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500720" y="1628640"/>
              <a:ext cx="288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503600" y="1628640"/>
              <a:ext cx="180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503600" y="162864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506840" y="162864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510080" y="1628640"/>
              <a:ext cx="14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510080" y="162864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513320" y="162864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513320" y="162864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305240" y="1628640"/>
              <a:ext cx="211320" cy="125640"/>
            </a:xfrm>
            <a:custGeom>
              <a:avLst/>
              <a:gdLst/>
              <a:ahLst/>
              <a:rect l="l" t="t" r="r" b="b"/>
              <a:pathLst>
                <a:path w="133" h="79">
                  <a:moveTo>
                    <a:pt x="32" y="0"/>
                  </a:moveTo>
                  <a:lnTo>
                    <a:pt x="0" y="38"/>
                  </a:lnTo>
                  <a:lnTo>
                    <a:pt x="32" y="79"/>
                  </a:lnTo>
                  <a:lnTo>
                    <a:pt x="101" y="79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305240" y="165564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308480" y="165564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308480" y="1655640"/>
              <a:ext cx="32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311720" y="1655640"/>
              <a:ext cx="14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311720" y="165564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314960" y="1655640"/>
              <a:ext cx="14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314960" y="1655640"/>
              <a:ext cx="288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317840" y="1655640"/>
              <a:ext cx="180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317840" y="165564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4321080" y="165564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324320" y="165564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324320" y="165564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4327560" y="1655640"/>
              <a:ext cx="32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330800" y="1655640"/>
              <a:ext cx="14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330800" y="165564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4334040" y="1655640"/>
              <a:ext cx="288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336920" y="1655640"/>
              <a:ext cx="180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4336920" y="165564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340160" y="1655640"/>
              <a:ext cx="180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4340160" y="165564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4343400" y="165564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346640" y="1655640"/>
              <a:ext cx="14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346640" y="165564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349880" y="1655640"/>
              <a:ext cx="288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4352760" y="1655640"/>
              <a:ext cx="180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4352760" y="1655640"/>
              <a:ext cx="32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352760" y="1655640"/>
              <a:ext cx="32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4356000" y="1655640"/>
              <a:ext cx="648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4362480" y="165564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362480" y="1655640"/>
              <a:ext cx="3240" cy="716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4362480" y="165564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365720" y="165564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4368960" y="1655640"/>
              <a:ext cx="288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371840" y="1655640"/>
              <a:ext cx="180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4371840" y="165564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375080" y="1655640"/>
              <a:ext cx="180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4375080" y="165564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4378320" y="1655640"/>
              <a:ext cx="32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4378320" y="165564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381560" y="1655640"/>
              <a:ext cx="32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4384800" y="1655640"/>
              <a:ext cx="288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4387680" y="165564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4387680" y="1655640"/>
              <a:ext cx="180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387680" y="1655640"/>
              <a:ext cx="50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4392720" y="165564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392720" y="1655640"/>
              <a:ext cx="32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395960" y="165564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4395960" y="165564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4398840" y="1655640"/>
              <a:ext cx="180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398840" y="1655640"/>
              <a:ext cx="32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402080" y="165564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4053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4053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408560" y="1655640"/>
              <a:ext cx="14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408560" y="165564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411800" y="165564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4411800" y="165564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414680" y="1655640"/>
              <a:ext cx="180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4414680" y="165564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417920" y="165564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44179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421160" y="165564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4424400" y="165564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424400" y="165564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427640" y="1655640"/>
              <a:ext cx="14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427640" y="165564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430880" y="165564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430880" y="165564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433760" y="165564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4433760" y="165564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4437000" y="165564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4437000" y="165564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437000" y="165564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440240" y="165564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440240" y="1655640"/>
              <a:ext cx="648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446720" y="165564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4446720" y="1655640"/>
              <a:ext cx="288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4449600" y="1655640"/>
              <a:ext cx="180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4449600" y="165564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500" name=""/>
          <p:cNvGrpSpPr/>
          <p:nvPr/>
        </p:nvGrpSpPr>
        <p:grpSpPr>
          <a:xfrm>
            <a:off x="290520" y="1506600"/>
            <a:ext cx="4227480" cy="485640"/>
            <a:chOff x="290520" y="1506600"/>
            <a:chExt cx="4227480" cy="485640"/>
          </a:xfrm>
        </p:grpSpPr>
        <p:sp>
          <p:nvSpPr>
            <p:cNvPr id="3501" name=""/>
            <p:cNvSpPr/>
            <p:nvPr/>
          </p:nvSpPr>
          <p:spPr>
            <a:xfrm>
              <a:off x="4452840" y="165564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456080" y="1655640"/>
              <a:ext cx="180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456080" y="1655640"/>
              <a:ext cx="180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456080" y="1655640"/>
              <a:ext cx="32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459320" y="165564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462560" y="1655640"/>
              <a:ext cx="1440" cy="716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4462560" y="165564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462560" y="165564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4465800" y="1655640"/>
              <a:ext cx="28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4468680" y="1655640"/>
              <a:ext cx="32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4471920" y="1655640"/>
              <a:ext cx="180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471920" y="165564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475160" y="1655640"/>
              <a:ext cx="14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475160" y="165564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478400" y="165564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481640" y="1655640"/>
              <a:ext cx="288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484520" y="1655640"/>
              <a:ext cx="180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484520" y="165564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487760" y="165564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487760" y="165564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4491000" y="165564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494240" y="165564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497480" y="165564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497480" y="165564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4500720" y="165564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4500720" y="1655640"/>
              <a:ext cx="288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503600" y="165564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503600" y="165564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506840" y="165564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510080" y="1655640"/>
              <a:ext cx="14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510080" y="165564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513320" y="165564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513320" y="165564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516560" y="1655640"/>
              <a:ext cx="14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305240" y="1655640"/>
              <a:ext cx="21132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414680" y="175428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362480" y="183024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0"/>
                  </a:moveTo>
                  <a:lnTo>
                    <a:pt x="31" y="1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362480" y="183024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0"/>
                  </a:moveTo>
                  <a:lnTo>
                    <a:pt x="31" y="1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398840" y="1506600"/>
              <a:ext cx="1800" cy="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352760" y="1585800"/>
              <a:ext cx="93960" cy="302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0" y="0"/>
                  </a:moveTo>
                  <a:lnTo>
                    <a:pt x="29" y="1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352760" y="1585800"/>
              <a:ext cx="93960" cy="302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0" y="0"/>
                  </a:moveTo>
                  <a:lnTo>
                    <a:pt x="29" y="1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90520" y="187020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93760" y="187020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97000" y="1870200"/>
              <a:ext cx="14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97000" y="1870200"/>
              <a:ext cx="288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99880" y="1870200"/>
              <a:ext cx="32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99880" y="187020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03120" y="1870200"/>
              <a:ext cx="180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03120" y="1870200"/>
              <a:ext cx="32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06360" y="187020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09600" y="1870200"/>
              <a:ext cx="14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09600" y="187020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09600" y="187020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12840" y="187020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16080" y="1870200"/>
              <a:ext cx="14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16080" y="187020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18960" y="1870200"/>
              <a:ext cx="32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22200" y="1870200"/>
              <a:ext cx="180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22200" y="187020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25440" y="187020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25440" y="187020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28680" y="187020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31920" y="1870200"/>
              <a:ext cx="14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31920" y="1870200"/>
              <a:ext cx="288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34800" y="187020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38040" y="1870200"/>
              <a:ext cx="180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38040" y="187020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41280" y="1870200"/>
              <a:ext cx="180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41280" y="187020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44520" y="1870200"/>
              <a:ext cx="14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44520" y="187020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47760" y="187020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1000" y="1870200"/>
              <a:ext cx="14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51000" y="1870200"/>
              <a:ext cx="288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53880" y="187020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57120" y="187020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57120" y="187020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60360" y="1870200"/>
              <a:ext cx="14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60360" y="1870200"/>
              <a:ext cx="468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65040" y="1870200"/>
              <a:ext cx="180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65040" y="187020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68280" y="1870200"/>
              <a:ext cx="14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68280" y="187020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68280" y="187020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71520" y="187020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74760" y="1870200"/>
              <a:ext cx="32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78000" y="1870200"/>
              <a:ext cx="14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78000" y="1870200"/>
              <a:ext cx="14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78000" y="1870200"/>
              <a:ext cx="288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80880" y="187020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84120" y="187020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84120" y="187020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84120" y="187020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87360" y="187020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87360" y="187020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90600" y="187020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93840" y="1870200"/>
              <a:ext cx="14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93840" y="1870200"/>
              <a:ext cx="14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93840" y="1870200"/>
              <a:ext cx="288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96720" y="187020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99960" y="187020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99960" y="187020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403200" y="1870200"/>
              <a:ext cx="14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403200" y="187020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406440" y="187020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409680" y="1870200"/>
              <a:ext cx="14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409680" y="1870200"/>
              <a:ext cx="32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412920" y="1870200"/>
              <a:ext cx="288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415800" y="187020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419040" y="187020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419040" y="187020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22280" y="1870200"/>
              <a:ext cx="14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22280" y="187020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25520" y="187020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428760" y="187020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28760" y="1870200"/>
              <a:ext cx="288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31640" y="187020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34880" y="1870200"/>
              <a:ext cx="180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34880" y="1870200"/>
              <a:ext cx="180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34880" y="187020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38120" y="187020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41360" y="187020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441360" y="187020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444600" y="1870200"/>
              <a:ext cx="144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444600" y="1870200"/>
              <a:ext cx="32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47840" y="1870200"/>
              <a:ext cx="14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447840" y="1870200"/>
              <a:ext cx="288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450720" y="1870200"/>
              <a:ext cx="180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50720" y="1870200"/>
              <a:ext cx="32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453960" y="187020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457200" y="1870200"/>
              <a:ext cx="14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457200" y="1870200"/>
              <a:ext cx="32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460440" y="187020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460440" y="187020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463680" y="187020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63680" y="1870200"/>
              <a:ext cx="288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66560" y="1870200"/>
              <a:ext cx="180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466560" y="187020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66560" y="187020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69800" y="1870200"/>
              <a:ext cx="180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69800" y="187020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73040" y="187020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76280" y="187020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76280" y="187020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76280" y="187020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79520" y="187020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82760" y="1870200"/>
              <a:ext cx="288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482760" y="187020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85640" y="1870200"/>
              <a:ext cx="180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85640" y="187020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488880" y="1870200"/>
              <a:ext cx="180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88880" y="187020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492120" y="187020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492120" y="1870200"/>
              <a:ext cx="64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498600" y="187020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498600" y="1870200"/>
              <a:ext cx="288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01480" y="1870200"/>
              <a:ext cx="180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01480" y="187020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90520" y="1870200"/>
              <a:ext cx="214200" cy="12204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34" y="0"/>
                  </a:moveTo>
                  <a:lnTo>
                    <a:pt x="0" y="39"/>
                  </a:lnTo>
                  <a:lnTo>
                    <a:pt x="34" y="77"/>
                  </a:lnTo>
                  <a:lnTo>
                    <a:pt x="101" y="77"/>
                  </a:lnTo>
                  <a:lnTo>
                    <a:pt x="135" y="39"/>
                  </a:lnTo>
                  <a:lnTo>
                    <a:pt x="10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90520" y="1898640"/>
              <a:ext cx="3240" cy="6660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93760" y="1898640"/>
              <a:ext cx="3240" cy="6660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97000" y="1898640"/>
              <a:ext cx="1440" cy="6660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97000" y="1898640"/>
              <a:ext cx="2880" cy="6660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99880" y="1898640"/>
              <a:ext cx="3240" cy="6660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99880" y="1898640"/>
              <a:ext cx="3240" cy="6660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03120" y="1898640"/>
              <a:ext cx="1800" cy="6660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03120" y="1898640"/>
              <a:ext cx="3240" cy="6660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06360" y="1898640"/>
              <a:ext cx="1440" cy="6660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06360" y="1898640"/>
              <a:ext cx="3240" cy="6660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09600" y="1898640"/>
              <a:ext cx="1440" cy="6660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09600" y="1898640"/>
              <a:ext cx="3240" cy="6660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12840" y="1898640"/>
              <a:ext cx="3240" cy="6660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16080" y="1898640"/>
              <a:ext cx="1440" cy="6660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316080" y="1898640"/>
              <a:ext cx="2880" cy="6660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18960" y="1898640"/>
              <a:ext cx="3240" cy="6660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22200" y="1898640"/>
              <a:ext cx="1800" cy="6660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322200" y="1898640"/>
              <a:ext cx="3240" cy="6660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25440" y="1898640"/>
              <a:ext cx="1440" cy="6660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25440" y="1898640"/>
              <a:ext cx="3240" cy="6660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28680" y="1898640"/>
              <a:ext cx="3240" cy="6660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331920" y="1898640"/>
              <a:ext cx="2880" cy="6660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334800" y="1898640"/>
              <a:ext cx="3240" cy="666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338040" y="1898640"/>
              <a:ext cx="3240" cy="6660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341280" y="1898640"/>
              <a:ext cx="1800" cy="6660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341280" y="1898640"/>
              <a:ext cx="3240" cy="6660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41280" y="1898640"/>
              <a:ext cx="3240" cy="6660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44520" y="1898640"/>
              <a:ext cx="3240" cy="6660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347760" y="1898640"/>
              <a:ext cx="3240" cy="6660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351000" y="1898640"/>
              <a:ext cx="1440" cy="6660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51000" y="1898640"/>
              <a:ext cx="2880" cy="6660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353880" y="1898640"/>
              <a:ext cx="3240" cy="6660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57120" y="1898640"/>
              <a:ext cx="1800" cy="6660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357120" y="1898640"/>
              <a:ext cx="3240" cy="6660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57120" y="1898640"/>
              <a:ext cx="3240" cy="6660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360360" y="1898640"/>
              <a:ext cx="4680" cy="6660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65040" y="1898640"/>
              <a:ext cx="3240" cy="6660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68280" y="1898640"/>
              <a:ext cx="1440" cy="6660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68280" y="1898640"/>
              <a:ext cx="3240" cy="6660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71520" y="1898640"/>
              <a:ext cx="1440" cy="6660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1520" y="1898640"/>
              <a:ext cx="6480" cy="6660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701" name=""/>
          <p:cNvGrpSpPr/>
          <p:nvPr/>
        </p:nvGrpSpPr>
        <p:grpSpPr>
          <a:xfrm>
            <a:off x="192240" y="1204560"/>
            <a:ext cx="5987880" cy="2316600"/>
            <a:chOff x="192240" y="1204560"/>
            <a:chExt cx="5987880" cy="2316600"/>
          </a:xfrm>
        </p:grpSpPr>
        <p:sp>
          <p:nvSpPr>
            <p:cNvPr id="3702" name=""/>
            <p:cNvSpPr/>
            <p:nvPr/>
          </p:nvSpPr>
          <p:spPr>
            <a:xfrm>
              <a:off x="378000" y="1898640"/>
              <a:ext cx="1440" cy="6660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78000" y="1898640"/>
              <a:ext cx="1440" cy="6660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78000" y="1898640"/>
              <a:ext cx="2880" cy="6660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80880" y="1898640"/>
              <a:ext cx="1800" cy="666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80880" y="1898640"/>
              <a:ext cx="3240" cy="6660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84120" y="1898640"/>
              <a:ext cx="32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84120" y="1898640"/>
              <a:ext cx="32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87360" y="1898640"/>
              <a:ext cx="1440" cy="6660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87360" y="1898640"/>
              <a:ext cx="3240" cy="6660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90600" y="1898640"/>
              <a:ext cx="3240" cy="6660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938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938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93840" y="1898640"/>
              <a:ext cx="2880" cy="6660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96720" y="1898640"/>
              <a:ext cx="180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96720" y="1898640"/>
              <a:ext cx="324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99960" y="1898640"/>
              <a:ext cx="180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99960" y="1898640"/>
              <a:ext cx="324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03200" y="1898640"/>
              <a:ext cx="1440" cy="6660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03200" y="1898640"/>
              <a:ext cx="32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064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406440" y="1898640"/>
              <a:ext cx="3240" cy="6660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09680" y="1898640"/>
              <a:ext cx="1440" cy="6660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09680" y="1898640"/>
              <a:ext cx="3240" cy="6660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412920" y="1898640"/>
              <a:ext cx="14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12920" y="1898640"/>
              <a:ext cx="288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15800" y="1898640"/>
              <a:ext cx="3240" cy="6660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419040" y="1898640"/>
              <a:ext cx="1800" cy="666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19040" y="1898640"/>
              <a:ext cx="3240" cy="6660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22280" y="1898640"/>
              <a:ext cx="1440" cy="6660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22280" y="1898640"/>
              <a:ext cx="3240" cy="6660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25520" y="1898640"/>
              <a:ext cx="1440" cy="6660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25520" y="1898640"/>
              <a:ext cx="3240" cy="6660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25520" y="1898640"/>
              <a:ext cx="3240" cy="6660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28760" y="1898640"/>
              <a:ext cx="2880" cy="6660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31640" y="1898640"/>
              <a:ext cx="1800" cy="6660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31640" y="1898640"/>
              <a:ext cx="3240" cy="6660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34880" y="1898640"/>
              <a:ext cx="1800" cy="6660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34880" y="1898640"/>
              <a:ext cx="3240" cy="6660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38120" y="1898640"/>
              <a:ext cx="3240" cy="6660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41360" y="1898640"/>
              <a:ext cx="1440" cy="6660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41360" y="1898640"/>
              <a:ext cx="3240" cy="6660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41360" y="1898640"/>
              <a:ext cx="3240" cy="6660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44600" y="1898640"/>
              <a:ext cx="3240" cy="6660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447840" y="1898640"/>
              <a:ext cx="1440" cy="6660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447840" y="1898640"/>
              <a:ext cx="2880" cy="6660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50720" y="1898640"/>
              <a:ext cx="1800" cy="6660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50720" y="1898640"/>
              <a:ext cx="6480" cy="6660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57200" y="1898640"/>
              <a:ext cx="1440" cy="6660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57200" y="1898640"/>
              <a:ext cx="3240" cy="6660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60440" y="1898640"/>
              <a:ext cx="1440" cy="6660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60440" y="1898640"/>
              <a:ext cx="3240" cy="666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63680" y="1898640"/>
              <a:ext cx="2880" cy="6660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66560" y="1898640"/>
              <a:ext cx="1800" cy="6660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66560" y="1898640"/>
              <a:ext cx="3240" cy="6660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69800" y="1898640"/>
              <a:ext cx="1800" cy="6660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69800" y="1898640"/>
              <a:ext cx="3240" cy="6660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73040" y="1898640"/>
              <a:ext cx="3240" cy="6660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76280" y="1898640"/>
              <a:ext cx="1440" cy="6660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76280" y="1898640"/>
              <a:ext cx="3240" cy="6660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79520" y="1898640"/>
              <a:ext cx="3240" cy="6660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82760" y="1898640"/>
              <a:ext cx="2880" cy="6660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82760" y="1898640"/>
              <a:ext cx="2880" cy="6660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85640" y="1898640"/>
              <a:ext cx="3240" cy="6660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88880" y="1898640"/>
              <a:ext cx="3240" cy="6660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92120" y="1898640"/>
              <a:ext cx="1440" cy="6660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92120" y="1898640"/>
              <a:ext cx="3240" cy="6660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95360" y="1898640"/>
              <a:ext cx="3240" cy="6660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98600" y="1898640"/>
              <a:ext cx="1440" cy="6660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98600" y="1898640"/>
              <a:ext cx="2880" cy="6660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01480" y="1898640"/>
              <a:ext cx="1800" cy="6660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01480" y="1898640"/>
              <a:ext cx="3240" cy="6660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04720" y="1898640"/>
              <a:ext cx="1800" cy="6660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90520" y="1898640"/>
              <a:ext cx="214200" cy="6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399960" y="1992240"/>
              <a:ext cx="32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347760" y="2070000"/>
              <a:ext cx="10008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0"/>
                  </a:moveTo>
                  <a:lnTo>
                    <a:pt x="33" y="15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347760" y="2070000"/>
              <a:ext cx="10008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0"/>
                  </a:moveTo>
                  <a:lnTo>
                    <a:pt x="33" y="15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84120" y="1698480"/>
              <a:ext cx="32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338040" y="1814400"/>
              <a:ext cx="93600" cy="4140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0" y="0"/>
                  </a:moveTo>
                  <a:lnTo>
                    <a:pt x="29" y="26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338040" y="1814400"/>
              <a:ext cx="93600" cy="4140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0" y="0"/>
                  </a:moveTo>
                  <a:lnTo>
                    <a:pt x="29" y="26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81" name="" descr=""/>
            <p:cNvPicPr/>
            <p:nvPr/>
          </p:nvPicPr>
          <p:blipFill>
            <a:blip r:embed="rId13"/>
            <a:stretch/>
          </p:blipFill>
          <p:spPr>
            <a:xfrm>
              <a:off x="396720" y="1595520"/>
              <a:ext cx="513000" cy="2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2" name=""/>
            <p:cNvSpPr/>
            <p:nvPr/>
          </p:nvSpPr>
          <p:spPr>
            <a:xfrm>
              <a:off x="4398840" y="1511280"/>
              <a:ext cx="3762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4197240" y="1855800"/>
              <a:ext cx="230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4206960" y="1456920"/>
              <a:ext cx="144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197240" y="1411200"/>
              <a:ext cx="559080" cy="95400"/>
            </a:xfrm>
            <a:custGeom>
              <a:avLst/>
              <a:gdLst/>
              <a:ahLst/>
              <a:rect l="l" t="t" r="r" b="b"/>
              <a:pathLst>
                <a:path w="352" h="60">
                  <a:moveTo>
                    <a:pt x="0" y="25"/>
                  </a:moveTo>
                  <a:lnTo>
                    <a:pt x="331" y="25"/>
                  </a:lnTo>
                  <a:lnTo>
                    <a:pt x="331" y="35"/>
                  </a:lnTo>
                  <a:lnTo>
                    <a:pt x="0" y="35"/>
                  </a:lnTo>
                  <a:lnTo>
                    <a:pt x="0" y="25"/>
                  </a:lnTo>
                  <a:close/>
                  <a:moveTo>
                    <a:pt x="321" y="0"/>
                  </a:moveTo>
                  <a:lnTo>
                    <a:pt x="352" y="31"/>
                  </a:lnTo>
                  <a:lnTo>
                    <a:pt x="321" y="60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197240" y="1450800"/>
              <a:ext cx="525600" cy="16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707000" y="1411200"/>
              <a:ext cx="49320" cy="9540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0" y="0"/>
                  </a:moveTo>
                  <a:lnTo>
                    <a:pt x="31" y="31"/>
                  </a:lnTo>
                  <a:lnTo>
                    <a:pt x="0" y="6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057560" y="2041560"/>
              <a:ext cx="633600" cy="10800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99" y="41"/>
                  </a:moveTo>
                  <a:lnTo>
                    <a:pt x="24" y="41"/>
                  </a:lnTo>
                  <a:lnTo>
                    <a:pt x="24" y="27"/>
                  </a:lnTo>
                  <a:lnTo>
                    <a:pt x="399" y="27"/>
                  </a:lnTo>
                  <a:lnTo>
                    <a:pt x="399" y="41"/>
                  </a:lnTo>
                  <a:close/>
                  <a:moveTo>
                    <a:pt x="32" y="68"/>
                  </a:moveTo>
                  <a:lnTo>
                    <a:pt x="0" y="33"/>
                  </a:lnTo>
                  <a:lnTo>
                    <a:pt x="32" y="0"/>
                  </a:lnTo>
                  <a:lnTo>
                    <a:pt x="32" y="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095720" y="2084400"/>
              <a:ext cx="595440" cy="2232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057560" y="2041560"/>
              <a:ext cx="50760" cy="10800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32" y="68"/>
                  </a:moveTo>
                  <a:lnTo>
                    <a:pt x="0" y="33"/>
                  </a:lnTo>
                  <a:lnTo>
                    <a:pt x="32" y="0"/>
                  </a:lnTo>
                  <a:lnTo>
                    <a:pt x="32" y="68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V="1">
              <a:off x="2755800" y="1204560"/>
              <a:ext cx="2111400" cy="5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794120" y="1204920"/>
              <a:ext cx="127080" cy="239760"/>
            </a:xfrm>
            <a:custGeom>
              <a:avLst/>
              <a:gdLst/>
              <a:ahLst/>
              <a:rect l="l" t="t" r="r" b="b"/>
              <a:pathLst>
                <a:path w="80" h="151">
                  <a:moveTo>
                    <a:pt x="32" y="130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130"/>
                  </a:lnTo>
                  <a:lnTo>
                    <a:pt x="32" y="130"/>
                  </a:lnTo>
                  <a:close/>
                  <a:moveTo>
                    <a:pt x="80" y="124"/>
                  </a:moveTo>
                  <a:lnTo>
                    <a:pt x="40" y="151"/>
                  </a:lnTo>
                  <a:lnTo>
                    <a:pt x="0" y="124"/>
                  </a:lnTo>
                  <a:lnTo>
                    <a:pt x="8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844880" y="1204920"/>
              <a:ext cx="25560" cy="20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4794120" y="1401840"/>
              <a:ext cx="127080" cy="4284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80" y="0"/>
                  </a:moveTo>
                  <a:lnTo>
                    <a:pt x="40" y="27"/>
                  </a:lnTo>
                  <a:lnTo>
                    <a:pt x="0" y="0"/>
                  </a:lnTo>
                  <a:lnTo>
                    <a:pt x="8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120680" y="1539720"/>
              <a:ext cx="320760" cy="220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120680" y="1539720"/>
              <a:ext cx="320760" cy="220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H="1">
              <a:off x="1193760" y="1585800"/>
              <a:ext cx="7632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193760" y="166212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H="1" flipV="1">
              <a:off x="1193400" y="1542960"/>
              <a:ext cx="1908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168560" y="1576440"/>
              <a:ext cx="44280" cy="554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35"/>
                  </a:moveTo>
                  <a:lnTo>
                    <a:pt x="28" y="2"/>
                  </a:lnTo>
                  <a:lnTo>
                    <a:pt x="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123920" y="1542960"/>
              <a:ext cx="1555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123920" y="1720800"/>
              <a:ext cx="127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139760" y="1563840"/>
              <a:ext cx="18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168560" y="1631880"/>
              <a:ext cx="144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123920" y="169848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123920" y="169848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H="1">
              <a:off x="1133640" y="16984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136520" y="169848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H="1">
              <a:off x="1136160" y="16984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0" name=""/>
            <p:cNvSpPr/>
            <p:nvPr/>
          </p:nvSpPr>
          <p:spPr>
            <a:xfrm flipH="1">
              <a:off x="1139400" y="16984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139760" y="1695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193760" y="1643040"/>
              <a:ext cx="18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123920" y="1542960"/>
              <a:ext cx="14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123920" y="1560600"/>
              <a:ext cx="9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139760" y="1560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139760" y="1560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136520" y="15606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136520" y="15606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133640" y="1560600"/>
              <a:ext cx="28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251000" y="16779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247760" y="1674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247760" y="167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247760" y="16686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244520" y="1668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241280" y="166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241280" y="166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235160" y="166536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231920" y="166536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231920" y="16621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228680" y="16621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413000" y="1563840"/>
              <a:ext cx="14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324080" y="16621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1320840" y="1661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317600" y="16653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314360" y="16653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V="1">
              <a:off x="1311120" y="1665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311120" y="166536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V="1">
              <a:off x="1308240" y="16686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V="1">
              <a:off x="1305000" y="16686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0" name=""/>
            <p:cNvSpPr/>
            <p:nvPr/>
          </p:nvSpPr>
          <p:spPr>
            <a:xfrm flipV="1">
              <a:off x="1305000" y="16711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V="1">
              <a:off x="1305000" y="1674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305000" y="1677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87440" y="163188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251000" y="1681200"/>
              <a:ext cx="144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251000" y="17575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305000" y="1681200"/>
              <a:ext cx="144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7" name=""/>
            <p:cNvSpPr/>
            <p:nvPr/>
          </p:nvSpPr>
          <p:spPr>
            <a:xfrm flipH="1">
              <a:off x="1276200" y="17575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305000" y="1720800"/>
              <a:ext cx="12708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8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432080" y="169848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0" name=""/>
            <p:cNvSpPr/>
            <p:nvPr/>
          </p:nvSpPr>
          <p:spPr>
            <a:xfrm flipH="1">
              <a:off x="1419120" y="1698480"/>
              <a:ext cx="12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1" name=""/>
            <p:cNvSpPr/>
            <p:nvPr/>
          </p:nvSpPr>
          <p:spPr>
            <a:xfrm flipV="1">
              <a:off x="1413000" y="16956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H="1">
              <a:off x="1413000" y="16984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413000" y="1698480"/>
              <a:ext cx="28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415880" y="16984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H="1" flipV="1">
              <a:off x="1415520" y="16981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270080" y="158580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339920" y="157644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5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285920" y="1585800"/>
              <a:ext cx="7308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H="1">
              <a:off x="1327320" y="16621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359000" y="1643040"/>
              <a:ext cx="144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1" name=""/>
            <p:cNvSpPr/>
            <p:nvPr/>
          </p:nvSpPr>
          <p:spPr>
            <a:xfrm flipH="1">
              <a:off x="1275840" y="1542960"/>
              <a:ext cx="155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2" name=""/>
            <p:cNvSpPr/>
            <p:nvPr/>
          </p:nvSpPr>
          <p:spPr>
            <a:xfrm flipH="1">
              <a:off x="1275840" y="158580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3" name=""/>
            <p:cNvSpPr/>
            <p:nvPr/>
          </p:nvSpPr>
          <p:spPr>
            <a:xfrm flipV="1">
              <a:off x="1339920" y="1542960"/>
              <a:ext cx="1908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432080" y="1542960"/>
              <a:ext cx="14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H="1">
              <a:off x="1419120" y="1560600"/>
              <a:ext cx="1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415880" y="1560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415880" y="15606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413000" y="15606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V="1">
              <a:off x="1413000" y="156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276200" y="1760400"/>
              <a:ext cx="1800" cy="10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H="1" flipV="1">
              <a:off x="836280" y="1539360"/>
              <a:ext cx="43020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85800" y="1533600"/>
              <a:ext cx="154080" cy="11592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97" y="6"/>
                  </a:moveTo>
                  <a:lnTo>
                    <a:pt x="31" y="56"/>
                  </a:lnTo>
                  <a:lnTo>
                    <a:pt x="24" y="50"/>
                  </a:lnTo>
                  <a:lnTo>
                    <a:pt x="89" y="0"/>
                  </a:lnTo>
                  <a:lnTo>
                    <a:pt x="97" y="6"/>
                  </a:lnTo>
                  <a:close/>
                  <a:moveTo>
                    <a:pt x="47" y="62"/>
                  </a:moveTo>
                  <a:lnTo>
                    <a:pt x="0" y="73"/>
                  </a:lnTo>
                  <a:lnTo>
                    <a:pt x="18" y="35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23960" y="153360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73" y="6"/>
                  </a:moveTo>
                  <a:lnTo>
                    <a:pt x="7" y="56"/>
                  </a:lnTo>
                  <a:lnTo>
                    <a:pt x="0" y="50"/>
                  </a:lnTo>
                  <a:lnTo>
                    <a:pt x="65" y="0"/>
                  </a:lnTo>
                  <a:lnTo>
                    <a:pt x="73" y="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685800" y="158904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7" y="27"/>
                  </a:moveTo>
                  <a:lnTo>
                    <a:pt x="0" y="38"/>
                  </a:lnTo>
                  <a:lnTo>
                    <a:pt x="18" y="0"/>
                  </a:lnTo>
                  <a:lnTo>
                    <a:pt x="47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H="1">
              <a:off x="192240" y="2093760"/>
              <a:ext cx="210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192240" y="1622160"/>
              <a:ext cx="2880" cy="47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92240" y="1600200"/>
              <a:ext cx="395280" cy="58680"/>
            </a:xfrm>
            <a:custGeom>
              <a:avLst/>
              <a:gdLst/>
              <a:ahLst/>
              <a:rect l="l" t="t" r="r" b="b"/>
              <a:pathLst>
                <a:path w="249" h="37">
                  <a:moveTo>
                    <a:pt x="0" y="14"/>
                  </a:moveTo>
                  <a:lnTo>
                    <a:pt x="227" y="14"/>
                  </a:lnTo>
                  <a:lnTo>
                    <a:pt x="227" y="24"/>
                  </a:lnTo>
                  <a:lnTo>
                    <a:pt x="0" y="24"/>
                  </a:lnTo>
                  <a:lnTo>
                    <a:pt x="0" y="14"/>
                  </a:lnTo>
                  <a:close/>
                  <a:moveTo>
                    <a:pt x="219" y="0"/>
                  </a:moveTo>
                  <a:lnTo>
                    <a:pt x="249" y="20"/>
                  </a:lnTo>
                  <a:lnTo>
                    <a:pt x="219" y="3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92240" y="1622520"/>
              <a:ext cx="360360" cy="15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39640" y="1600200"/>
              <a:ext cx="4788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0"/>
                  </a:moveTo>
                  <a:lnTo>
                    <a:pt x="30" y="20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384120" y="1704960"/>
              <a:ext cx="19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>
              <a:off x="609120" y="1778040"/>
              <a:ext cx="19080" cy="1722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93640" y="3467160"/>
              <a:ext cx="138240" cy="5400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0" y="13"/>
                  </a:moveTo>
                  <a:lnTo>
                    <a:pt x="66" y="13"/>
                  </a:lnTo>
                  <a:lnTo>
                    <a:pt x="66" y="21"/>
                  </a:lnTo>
                  <a:lnTo>
                    <a:pt x="0" y="21"/>
                  </a:lnTo>
                  <a:lnTo>
                    <a:pt x="0" y="13"/>
                  </a:lnTo>
                  <a:close/>
                  <a:moveTo>
                    <a:pt x="58" y="0"/>
                  </a:moveTo>
                  <a:lnTo>
                    <a:pt x="87" y="17"/>
                  </a:lnTo>
                  <a:lnTo>
                    <a:pt x="58" y="3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93640" y="3487680"/>
              <a:ext cx="104760" cy="126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685800" y="346716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0"/>
                  </a:moveTo>
                  <a:lnTo>
                    <a:pt x="29" y="17"/>
                  </a:lnTo>
                  <a:lnTo>
                    <a:pt x="0" y="3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241280" y="1362240"/>
              <a:ext cx="69840" cy="158760"/>
            </a:xfrm>
            <a:custGeom>
              <a:avLst/>
              <a:gdLst/>
              <a:ahLst/>
              <a:rect l="l" t="t" r="r" b="b"/>
              <a:pathLst>
                <a:path w="44" h="100">
                  <a:moveTo>
                    <a:pt x="16" y="81"/>
                  </a:moveTo>
                  <a:lnTo>
                    <a:pt x="16" y="0"/>
                  </a:lnTo>
                  <a:lnTo>
                    <a:pt x="26" y="0"/>
                  </a:lnTo>
                  <a:lnTo>
                    <a:pt x="26" y="81"/>
                  </a:lnTo>
                  <a:lnTo>
                    <a:pt x="16" y="81"/>
                  </a:lnTo>
                  <a:close/>
                  <a:moveTo>
                    <a:pt x="44" y="75"/>
                  </a:moveTo>
                  <a:lnTo>
                    <a:pt x="22" y="100"/>
                  </a:lnTo>
                  <a:lnTo>
                    <a:pt x="0" y="75"/>
                  </a:lnTo>
                  <a:lnTo>
                    <a:pt x="4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266840" y="1362240"/>
              <a:ext cx="15840" cy="128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1241280" y="1481040"/>
              <a:ext cx="69840" cy="399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44" y="0"/>
                  </a:moveTo>
                  <a:lnTo>
                    <a:pt x="22" y="25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1276200" y="1371600"/>
              <a:ext cx="47808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1847880" y="1692360"/>
              <a:ext cx="82548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35440" y="1708200"/>
              <a:ext cx="53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TOCK PILE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978440" y="1638360"/>
              <a:ext cx="120168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4978440" y="1638360"/>
              <a:ext cx="1201680" cy="15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279760" y="1652760"/>
              <a:ext cx="724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ECHANCADO 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6034320" y="1652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066000" y="1652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91160" y="1582560"/>
              <a:ext cx="3240" cy="51120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800600" y="1622520"/>
              <a:ext cx="114480" cy="995400"/>
            </a:xfrm>
            <a:custGeom>
              <a:avLst/>
              <a:gdLst/>
              <a:ahLst/>
              <a:rect l="l" t="t" r="r" b="b"/>
              <a:pathLst>
                <a:path w="72" h="627">
                  <a:moveTo>
                    <a:pt x="42" y="0"/>
                  </a:moveTo>
                  <a:lnTo>
                    <a:pt x="42" y="610"/>
                  </a:lnTo>
                  <a:lnTo>
                    <a:pt x="30" y="610"/>
                  </a:lnTo>
                  <a:lnTo>
                    <a:pt x="30" y="0"/>
                  </a:lnTo>
                  <a:lnTo>
                    <a:pt x="42" y="0"/>
                  </a:lnTo>
                  <a:close/>
                  <a:moveTo>
                    <a:pt x="72" y="602"/>
                  </a:moveTo>
                  <a:lnTo>
                    <a:pt x="36" y="627"/>
                  </a:lnTo>
                  <a:lnTo>
                    <a:pt x="0" y="602"/>
                  </a:lnTo>
                  <a:lnTo>
                    <a:pt x="72" y="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848120" y="1622520"/>
              <a:ext cx="19080" cy="9684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800600" y="2577960"/>
              <a:ext cx="114480" cy="3996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2" y="0"/>
                  </a:moveTo>
                  <a:lnTo>
                    <a:pt x="36" y="25"/>
                  </a:lnTo>
                  <a:lnTo>
                    <a:pt x="0" y="0"/>
                  </a:lnTo>
                  <a:lnTo>
                    <a:pt x="7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192240" y="1293840"/>
              <a:ext cx="95724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192240" y="1293840"/>
              <a:ext cx="957240" cy="141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411120" y="1157400"/>
            <a:ext cx="8524800" cy="4915800"/>
            <a:chOff x="411120" y="1157400"/>
            <a:chExt cx="8524800" cy="4915800"/>
          </a:xfrm>
        </p:grpSpPr>
        <p:sp>
          <p:nvSpPr>
            <p:cNvPr id="3903" name=""/>
            <p:cNvSpPr/>
            <p:nvPr/>
          </p:nvSpPr>
          <p:spPr>
            <a:xfrm>
              <a:off x="411120" y="1309680"/>
              <a:ext cx="31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ECH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30440" y="13096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771840" y="1309680"/>
              <a:ext cx="33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M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535120" y="1157400"/>
              <a:ext cx="71460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535120" y="1157400"/>
              <a:ext cx="714600" cy="142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732760" y="1171440"/>
              <a:ext cx="44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IMARI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706400" y="397188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AG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1958760" y="3971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1998000" y="397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1716120" y="593568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AG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1964880" y="59356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07720" y="593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611520" y="381312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011120" y="3813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053960" y="381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3630600" y="572148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030200" y="5721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074480" y="572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157880" y="572148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557840" y="5721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7600320" y="572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108080" y="3068640"/>
              <a:ext cx="79200" cy="392040"/>
            </a:xfrm>
            <a:custGeom>
              <a:avLst/>
              <a:gdLst/>
              <a:ahLst/>
              <a:rect l="l" t="t" r="r" b="b"/>
              <a:pathLst>
                <a:path w="50" h="247">
                  <a:moveTo>
                    <a:pt x="32" y="0"/>
                  </a:moveTo>
                  <a:lnTo>
                    <a:pt x="32" y="214"/>
                  </a:lnTo>
                  <a:lnTo>
                    <a:pt x="16" y="21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206"/>
                  </a:moveTo>
                  <a:lnTo>
                    <a:pt x="24" y="247"/>
                  </a:lnTo>
                  <a:lnTo>
                    <a:pt x="0" y="206"/>
                  </a:lnTo>
                  <a:lnTo>
                    <a:pt x="50" y="20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1133640" y="3068640"/>
              <a:ext cx="25200" cy="33984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108080" y="339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695680" y="3425760"/>
              <a:ext cx="79200" cy="4604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34" y="0"/>
                  </a:moveTo>
                  <a:lnTo>
                    <a:pt x="34" y="257"/>
                  </a:lnTo>
                  <a:lnTo>
                    <a:pt x="16" y="257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247"/>
                  </a:moveTo>
                  <a:lnTo>
                    <a:pt x="26" y="290"/>
                  </a:lnTo>
                  <a:lnTo>
                    <a:pt x="0" y="247"/>
                  </a:lnTo>
                  <a:lnTo>
                    <a:pt x="50" y="24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720880" y="3425760"/>
              <a:ext cx="28800" cy="4078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695680" y="381780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50" y="0"/>
                  </a:moveTo>
                  <a:lnTo>
                    <a:pt x="26" y="43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960480" y="5043600"/>
              <a:ext cx="79200" cy="288720"/>
            </a:xfrm>
            <a:custGeom>
              <a:avLst/>
              <a:gdLst/>
              <a:ahLst/>
              <a:rect l="l" t="t" r="r" b="b"/>
              <a:pathLst>
                <a:path w="50" h="182">
                  <a:moveTo>
                    <a:pt x="34" y="0"/>
                  </a:moveTo>
                  <a:lnTo>
                    <a:pt x="34" y="149"/>
                  </a:lnTo>
                  <a:lnTo>
                    <a:pt x="16" y="149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41"/>
                  </a:moveTo>
                  <a:lnTo>
                    <a:pt x="26" y="182"/>
                  </a:lnTo>
                  <a:lnTo>
                    <a:pt x="0" y="141"/>
                  </a:lnTo>
                  <a:lnTo>
                    <a:pt x="50" y="1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985680" y="5043600"/>
              <a:ext cx="28800" cy="2365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960480" y="526716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752560" y="5629320"/>
              <a:ext cx="79560" cy="287280"/>
            </a:xfrm>
            <a:custGeom>
              <a:avLst/>
              <a:gdLst/>
              <a:ahLst/>
              <a:rect l="l" t="t" r="r" b="b"/>
              <a:pathLst>
                <a:path w="50" h="181">
                  <a:moveTo>
                    <a:pt x="32" y="0"/>
                  </a:moveTo>
                  <a:lnTo>
                    <a:pt x="32" y="147"/>
                  </a:lnTo>
                  <a:lnTo>
                    <a:pt x="16" y="14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39"/>
                  </a:moveTo>
                  <a:lnTo>
                    <a:pt x="24" y="181"/>
                  </a:lnTo>
                  <a:lnTo>
                    <a:pt x="0" y="139"/>
                  </a:lnTo>
                  <a:lnTo>
                    <a:pt x="50" y="1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778120" y="5629320"/>
              <a:ext cx="25560" cy="233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752560" y="585000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8244000" y="5730840"/>
              <a:ext cx="79200" cy="287280"/>
            </a:xfrm>
            <a:custGeom>
              <a:avLst/>
              <a:gdLst/>
              <a:ahLst/>
              <a:rect l="l" t="t" r="r" b="b"/>
              <a:pathLst>
                <a:path w="50" h="181">
                  <a:moveTo>
                    <a:pt x="32" y="0"/>
                  </a:moveTo>
                  <a:lnTo>
                    <a:pt x="32" y="148"/>
                  </a:lnTo>
                  <a:lnTo>
                    <a:pt x="16" y="148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40"/>
                  </a:moveTo>
                  <a:lnTo>
                    <a:pt x="24" y="181"/>
                  </a:lnTo>
                  <a:lnTo>
                    <a:pt x="0" y="140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8269200" y="5730840"/>
              <a:ext cx="25560" cy="2350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8244000" y="595296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4611600" y="5375160"/>
              <a:ext cx="173160" cy="637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09" y="27"/>
                  </a:moveTo>
                  <a:lnTo>
                    <a:pt x="38" y="27"/>
                  </a:lnTo>
                  <a:lnTo>
                    <a:pt x="38" y="13"/>
                  </a:lnTo>
                  <a:lnTo>
                    <a:pt x="109" y="13"/>
                  </a:lnTo>
                  <a:lnTo>
                    <a:pt x="109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672080" y="5396040"/>
              <a:ext cx="112680" cy="2196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611600" y="5375160"/>
              <a:ext cx="7632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4500720" y="3514680"/>
              <a:ext cx="293400" cy="684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9"/>
                  </a:moveTo>
                  <a:lnTo>
                    <a:pt x="40" y="29"/>
                  </a:lnTo>
                  <a:lnTo>
                    <a:pt x="40" y="14"/>
                  </a:lnTo>
                  <a:lnTo>
                    <a:pt x="185" y="14"/>
                  </a:lnTo>
                  <a:lnTo>
                    <a:pt x="185" y="29"/>
                  </a:lnTo>
                  <a:close/>
                  <a:moveTo>
                    <a:pt x="50" y="43"/>
                  </a:moveTo>
                  <a:lnTo>
                    <a:pt x="0" y="24"/>
                  </a:lnTo>
                  <a:lnTo>
                    <a:pt x="50" y="0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4564080" y="3537000"/>
              <a:ext cx="230040" cy="2376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4500720" y="351468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50" y="43"/>
                  </a:moveTo>
                  <a:lnTo>
                    <a:pt x="0" y="24"/>
                  </a:lnTo>
                  <a:lnTo>
                    <a:pt x="50" y="0"/>
                  </a:lnTo>
                  <a:lnTo>
                    <a:pt x="50" y="43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6014880" y="5457960"/>
              <a:ext cx="541440" cy="63360"/>
            </a:xfrm>
            <a:custGeom>
              <a:avLst/>
              <a:gdLst/>
              <a:ahLst/>
              <a:rect l="l" t="t" r="r" b="b"/>
              <a:pathLst>
                <a:path w="341" h="40">
                  <a:moveTo>
                    <a:pt x="0" y="13"/>
                  </a:moveTo>
                  <a:lnTo>
                    <a:pt x="299" y="13"/>
                  </a:lnTo>
                  <a:lnTo>
                    <a:pt x="299" y="27"/>
                  </a:lnTo>
                  <a:lnTo>
                    <a:pt x="0" y="27"/>
                  </a:lnTo>
                  <a:lnTo>
                    <a:pt x="0" y="13"/>
                  </a:lnTo>
                  <a:close/>
                  <a:moveTo>
                    <a:pt x="291" y="0"/>
                  </a:moveTo>
                  <a:lnTo>
                    <a:pt x="341" y="21"/>
                  </a:lnTo>
                  <a:lnTo>
                    <a:pt x="291" y="4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6014880" y="5478480"/>
              <a:ext cx="474840" cy="223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6477120" y="54579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0" y="0"/>
                  </a:moveTo>
                  <a:lnTo>
                    <a:pt x="50" y="21"/>
                  </a:ln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027080" y="2933640"/>
              <a:ext cx="3380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027080" y="2933640"/>
              <a:ext cx="338040" cy="1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168560" y="29401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861840" y="4917960"/>
              <a:ext cx="341640" cy="1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861840" y="4917960"/>
              <a:ext cx="341640" cy="11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001880" y="492768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610000" y="3295800"/>
              <a:ext cx="33804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610000" y="3295800"/>
              <a:ext cx="338040" cy="11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749680" y="33037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683320" y="5435640"/>
              <a:ext cx="34128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683320" y="5435640"/>
              <a:ext cx="341280" cy="11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826240" y="54421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284560" y="2163600"/>
              <a:ext cx="113184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284560" y="2163600"/>
              <a:ext cx="1131840" cy="18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517120" y="2179800"/>
              <a:ext cx="74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OLVA PEBBLES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339920" y="4618080"/>
              <a:ext cx="9637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339920" y="4618080"/>
              <a:ext cx="963720" cy="13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599120" y="463068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BBLES 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115000" y="46306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146320" y="4630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1339920" y="2513160"/>
              <a:ext cx="9637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339920" y="2513160"/>
              <a:ext cx="963720" cy="13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599120" y="252900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BBLES 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115000" y="25290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146320" y="2529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886040" y="18558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6" y="56"/>
                  </a:moveTo>
                  <a:lnTo>
                    <a:pt x="16" y="0"/>
                  </a:lnTo>
                  <a:lnTo>
                    <a:pt x="26" y="0"/>
                  </a:lnTo>
                  <a:lnTo>
                    <a:pt x="26" y="56"/>
                  </a:lnTo>
                  <a:lnTo>
                    <a:pt x="16" y="56"/>
                  </a:lnTo>
                  <a:close/>
                  <a:moveTo>
                    <a:pt x="44" y="50"/>
                  </a:moveTo>
                  <a:lnTo>
                    <a:pt x="22" y="73"/>
                  </a:lnTo>
                  <a:lnTo>
                    <a:pt x="0" y="50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911240" y="1855800"/>
              <a:ext cx="15840" cy="8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886040" y="193500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0"/>
                  </a:moveTo>
                  <a:lnTo>
                    <a:pt x="22" y="23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471760" y="18558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6" y="56"/>
                  </a:moveTo>
                  <a:lnTo>
                    <a:pt x="16" y="0"/>
                  </a:lnTo>
                  <a:lnTo>
                    <a:pt x="28" y="0"/>
                  </a:lnTo>
                  <a:lnTo>
                    <a:pt x="28" y="56"/>
                  </a:lnTo>
                  <a:lnTo>
                    <a:pt x="16" y="56"/>
                  </a:lnTo>
                  <a:close/>
                  <a:moveTo>
                    <a:pt x="44" y="50"/>
                  </a:moveTo>
                  <a:lnTo>
                    <a:pt x="22" y="73"/>
                  </a:lnTo>
                  <a:lnTo>
                    <a:pt x="0" y="50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496960" y="1855800"/>
              <a:ext cx="19080" cy="8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471760" y="193500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0"/>
                  </a:moveTo>
                  <a:lnTo>
                    <a:pt x="22" y="23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841680" y="539604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T 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040040" y="53960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068480" y="5396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105200" y="353376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T 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305360" y="35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333440" y="3533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8042400" y="3425760"/>
              <a:ext cx="214200" cy="84240"/>
            </a:xfrm>
            <a:custGeom>
              <a:avLst/>
              <a:gdLst/>
              <a:ahLst/>
              <a:rect l="l" t="t" r="r" b="b"/>
              <a:pathLst>
                <a:path w="135" h="53">
                  <a:moveTo>
                    <a:pt x="0" y="18"/>
                  </a:moveTo>
                  <a:lnTo>
                    <a:pt x="81" y="18"/>
                  </a:lnTo>
                  <a:lnTo>
                    <a:pt x="81" y="35"/>
                  </a:lnTo>
                  <a:lnTo>
                    <a:pt x="0" y="35"/>
                  </a:lnTo>
                  <a:lnTo>
                    <a:pt x="0" y="18"/>
                  </a:lnTo>
                  <a:close/>
                  <a:moveTo>
                    <a:pt x="69" y="0"/>
                  </a:moveTo>
                  <a:lnTo>
                    <a:pt x="135" y="28"/>
                  </a:lnTo>
                  <a:lnTo>
                    <a:pt x="69" y="5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8042400" y="3454560"/>
              <a:ext cx="12852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8151840" y="3425760"/>
              <a:ext cx="104760" cy="842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0" y="0"/>
                  </a:moveTo>
                  <a:lnTo>
                    <a:pt x="66" y="28"/>
                  </a:lnTo>
                  <a:lnTo>
                    <a:pt x="0" y="5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8211960" y="3398760"/>
              <a:ext cx="72396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8211960" y="3398760"/>
              <a:ext cx="723960" cy="128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8382600" y="3411360"/>
              <a:ext cx="47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SPESAJE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9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0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1165320" y="4888080"/>
            <a:ext cx="793800" cy="985680"/>
            <a:chOff x="1165320" y="4888080"/>
            <a:chExt cx="793800" cy="985680"/>
          </a:xfrm>
        </p:grpSpPr>
        <p:sp>
          <p:nvSpPr>
            <p:cNvPr id="4104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304" name=""/>
          <p:cNvGrpSpPr/>
          <p:nvPr/>
        </p:nvGrpSpPr>
        <p:grpSpPr>
          <a:xfrm>
            <a:off x="1598760" y="4983120"/>
            <a:ext cx="6402240" cy="811080"/>
            <a:chOff x="1598760" y="4983120"/>
            <a:chExt cx="6402240" cy="811080"/>
          </a:xfrm>
        </p:grpSpPr>
        <p:sp>
          <p:nvSpPr>
            <p:cNvPr id="4305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4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6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0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484" name="" descr=""/>
            <p:cNvPicPr/>
            <p:nvPr/>
          </p:nvPicPr>
          <p:blipFill>
            <a:blip r:embed="rId14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5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487" name="" descr=""/>
            <p:cNvPicPr/>
            <p:nvPr/>
          </p:nvPicPr>
          <p:blipFill>
            <a:blip r:embed="rId15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8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2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505" name=""/>
          <p:cNvGrpSpPr/>
          <p:nvPr/>
        </p:nvGrpSpPr>
        <p:grpSpPr>
          <a:xfrm>
            <a:off x="1359000" y="3056040"/>
            <a:ext cx="6852960" cy="2738160"/>
            <a:chOff x="1359000" y="3056040"/>
            <a:chExt cx="6852960" cy="2738160"/>
          </a:xfrm>
        </p:grpSpPr>
        <p:sp>
          <p:nvSpPr>
            <p:cNvPr id="4506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507" name="" descr=""/>
            <p:cNvPicPr/>
            <p:nvPr/>
          </p:nvPicPr>
          <p:blipFill>
            <a:blip r:embed="rId16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8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9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0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1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2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3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690" name="" descr=""/>
            <p:cNvPicPr/>
            <p:nvPr/>
          </p:nvPicPr>
          <p:blipFill>
            <a:blip r:embed="rId17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1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693" name="" descr=""/>
            <p:cNvPicPr/>
            <p:nvPr/>
          </p:nvPicPr>
          <p:blipFill>
            <a:blip r:embed="rId18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4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706" name=""/>
          <p:cNvGrpSpPr/>
          <p:nvPr/>
        </p:nvGrpSpPr>
        <p:grpSpPr>
          <a:xfrm>
            <a:off x="1359000" y="3056040"/>
            <a:ext cx="6852960" cy="2652480"/>
            <a:chOff x="1359000" y="3056040"/>
            <a:chExt cx="6852960" cy="2652480"/>
          </a:xfrm>
        </p:grpSpPr>
        <p:sp>
          <p:nvSpPr>
            <p:cNvPr id="4707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9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713" name="" descr=""/>
            <p:cNvPicPr/>
            <p:nvPr/>
          </p:nvPicPr>
          <p:blipFill>
            <a:blip r:embed="rId19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4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9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0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907" name=""/>
          <p:cNvGrpSpPr/>
          <p:nvPr/>
        </p:nvGrpSpPr>
        <p:grpSpPr>
          <a:xfrm>
            <a:off x="1687680" y="1052640"/>
            <a:ext cx="695160" cy="2811240"/>
            <a:chOff x="1687680" y="1052640"/>
            <a:chExt cx="695160" cy="2811240"/>
          </a:xfrm>
        </p:grpSpPr>
        <p:sp>
          <p:nvSpPr>
            <p:cNvPr id="4908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2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3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4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5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108" name=""/>
          <p:cNvGrpSpPr/>
          <p:nvPr/>
        </p:nvGrpSpPr>
        <p:grpSpPr>
          <a:xfrm>
            <a:off x="1687680" y="1052640"/>
            <a:ext cx="750600" cy="2811240"/>
            <a:chOff x="1687680" y="1052640"/>
            <a:chExt cx="750600" cy="2811240"/>
          </a:xfrm>
        </p:grpSpPr>
        <p:sp>
          <p:nvSpPr>
            <p:cNvPr id="5109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3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4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5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6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0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2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0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6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8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0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2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4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6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3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9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9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7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9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1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3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7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9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5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7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9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3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7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9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1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7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309" name=""/>
          <p:cNvGrpSpPr/>
          <p:nvPr/>
        </p:nvGrpSpPr>
        <p:grpSpPr>
          <a:xfrm>
            <a:off x="2095560" y="1128240"/>
            <a:ext cx="379440" cy="259200"/>
            <a:chOff x="2095560" y="1128240"/>
            <a:chExt cx="379440" cy="259200"/>
          </a:xfrm>
        </p:grpSpPr>
        <p:sp>
          <p:nvSpPr>
            <p:cNvPr id="5310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4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6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2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4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8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0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4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4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6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0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2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8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0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3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7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6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8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0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4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6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6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2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6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8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6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8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2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4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6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8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0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6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8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2356920" y="1162080"/>
            <a:ext cx="118080" cy="225360"/>
            <a:chOff x="2356920" y="1162080"/>
            <a:chExt cx="118080" cy="225360"/>
          </a:xfrm>
        </p:grpSpPr>
        <p:sp>
          <p:nvSpPr>
            <p:cNvPr id="5511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3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5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7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3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5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7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9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1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3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5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7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7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1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1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3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5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9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1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7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3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5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1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3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9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3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9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3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5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7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9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5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1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5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1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3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1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7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9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711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5712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6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4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6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8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0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2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4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6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7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9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5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9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4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6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2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4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0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4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0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4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6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8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0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6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8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4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6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6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912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5913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7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3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7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9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1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3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5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7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9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1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6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0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6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2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0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2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8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0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6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0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4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8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2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6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0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4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2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4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8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2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6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4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8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2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6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0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4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8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2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6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0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113" name=""/>
          <p:cNvGrpSpPr/>
          <p:nvPr/>
        </p:nvGrpSpPr>
        <p:grpSpPr>
          <a:xfrm>
            <a:off x="2076480" y="1165320"/>
            <a:ext cx="244440" cy="171360"/>
            <a:chOff x="2076480" y="1165320"/>
            <a:chExt cx="244440" cy="171360"/>
          </a:xfrm>
        </p:grpSpPr>
        <p:sp>
          <p:nvSpPr>
            <p:cNvPr id="6114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9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3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7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1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5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1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3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6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0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2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4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6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8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0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2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4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6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8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0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2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4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6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8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0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2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4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6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8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0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2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4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6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8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0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2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4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6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8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0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5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9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3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7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1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5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9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3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7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1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5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9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3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7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1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5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9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3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7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1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5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9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3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7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1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314" name=""/>
          <p:cNvGrpSpPr/>
          <p:nvPr/>
        </p:nvGrpSpPr>
        <p:grpSpPr>
          <a:xfrm>
            <a:off x="2037960" y="1161720"/>
            <a:ext cx="282960" cy="228960"/>
            <a:chOff x="2037960" y="1161720"/>
            <a:chExt cx="282960" cy="228960"/>
          </a:xfrm>
        </p:grpSpPr>
        <p:sp>
          <p:nvSpPr>
            <p:cNvPr id="6315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6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0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4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8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2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6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2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4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7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1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3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5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7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9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1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3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5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7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9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3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5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7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9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3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1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5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5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7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9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3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5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7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9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1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5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7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9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1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3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5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9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1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3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7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9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1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3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5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9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1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3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5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7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1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3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5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1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5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515" name=""/>
          <p:cNvGrpSpPr/>
          <p:nvPr/>
        </p:nvGrpSpPr>
        <p:grpSpPr>
          <a:xfrm>
            <a:off x="2037960" y="1161720"/>
            <a:ext cx="141840" cy="228960"/>
            <a:chOff x="2037960" y="1161720"/>
            <a:chExt cx="141840" cy="228960"/>
          </a:xfrm>
        </p:grpSpPr>
        <p:sp>
          <p:nvSpPr>
            <p:cNvPr id="6516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0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4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2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0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2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6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8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4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6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2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4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4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6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8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0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2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4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6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8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0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2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4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6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8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0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2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4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6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8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0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2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4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6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8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0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2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4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6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8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2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4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6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2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6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716" name=""/>
          <p:cNvGrpSpPr/>
          <p:nvPr/>
        </p:nvGrpSpPr>
        <p:grpSpPr>
          <a:xfrm>
            <a:off x="2038320" y="1098360"/>
            <a:ext cx="252360" cy="292320"/>
            <a:chOff x="2038320" y="1098360"/>
            <a:chExt cx="252360" cy="292320"/>
          </a:xfrm>
        </p:grpSpPr>
        <p:sp>
          <p:nvSpPr>
            <p:cNvPr id="6717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1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5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3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1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3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7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9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5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7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3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5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1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5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9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7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9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1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5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1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5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9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1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3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5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9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5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7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0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2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8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0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6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8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0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2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4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6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8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0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2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4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6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917" name=""/>
          <p:cNvGrpSpPr/>
          <p:nvPr/>
        </p:nvGrpSpPr>
        <p:grpSpPr>
          <a:xfrm>
            <a:off x="2038320" y="1098360"/>
            <a:ext cx="270000" cy="292320"/>
            <a:chOff x="2038320" y="1098360"/>
            <a:chExt cx="270000" cy="292320"/>
          </a:xfrm>
        </p:grpSpPr>
        <p:sp>
          <p:nvSpPr>
            <p:cNvPr id="6918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9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1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3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5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7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9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1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3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5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7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9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1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3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5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7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9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1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3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5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7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9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1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3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5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9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1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3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3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7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9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1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3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5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2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6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0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8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0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2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6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2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6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0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2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4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6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0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6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8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1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3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9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1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7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9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3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5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7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118" name=""/>
          <p:cNvGrpSpPr/>
          <p:nvPr/>
        </p:nvGrpSpPr>
        <p:grpSpPr>
          <a:xfrm>
            <a:off x="1522440" y="1098720"/>
            <a:ext cx="2792520" cy="2619360"/>
            <a:chOff x="1522440" y="1098720"/>
            <a:chExt cx="2792520" cy="2619360"/>
          </a:xfrm>
        </p:grpSpPr>
        <p:sp>
          <p:nvSpPr>
            <p:cNvPr id="7119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0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2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4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6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8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0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2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6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8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0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2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4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6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8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0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2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4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6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0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2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4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6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0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2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4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4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8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0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2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4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6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8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0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2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4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6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0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2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4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8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0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2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4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8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0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2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4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6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7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9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11" name="" descr=""/>
            <p:cNvPicPr/>
            <p:nvPr/>
          </p:nvPicPr>
          <p:blipFill>
            <a:blip r:embed="rId20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2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6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319" name=""/>
          <p:cNvGrpSpPr/>
          <p:nvPr/>
        </p:nvGrpSpPr>
        <p:grpSpPr>
          <a:xfrm>
            <a:off x="714240" y="1104480"/>
            <a:ext cx="8202600" cy="5324760"/>
            <a:chOff x="714240" y="1104480"/>
            <a:chExt cx="8202600" cy="5324760"/>
          </a:xfrm>
        </p:grpSpPr>
        <p:sp>
          <p:nvSpPr>
            <p:cNvPr id="7320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24" name="" descr=""/>
            <p:cNvPicPr/>
            <p:nvPr/>
          </p:nvPicPr>
          <p:blipFill>
            <a:blip r:embed="rId21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5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27" name="" descr=""/>
            <p:cNvPicPr/>
            <p:nvPr/>
          </p:nvPicPr>
          <p:blipFill>
            <a:blip r:embed="rId22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8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5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1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2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3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4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8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9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3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4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6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8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3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5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0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2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6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3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0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4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3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5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7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9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1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5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7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9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3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5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7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9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3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5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7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9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1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520" name=""/>
          <p:cNvGrpSpPr/>
          <p:nvPr/>
        </p:nvGrpSpPr>
        <p:grpSpPr>
          <a:xfrm>
            <a:off x="714240" y="1184400"/>
            <a:ext cx="8202600" cy="5244840"/>
            <a:chOff x="714240" y="1184400"/>
            <a:chExt cx="8202600" cy="5244840"/>
          </a:xfrm>
        </p:grpSpPr>
        <p:sp>
          <p:nvSpPr>
            <p:cNvPr id="7521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3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5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37" name="" descr=""/>
            <p:cNvPicPr/>
            <p:nvPr/>
          </p:nvPicPr>
          <p:blipFill>
            <a:blip r:embed="rId23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8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2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5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49" name="" descr=""/>
            <p:cNvPicPr/>
            <p:nvPr/>
          </p:nvPicPr>
          <p:blipFill>
            <a:blip r:embed="rId24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0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52" name="" descr=""/>
            <p:cNvPicPr/>
            <p:nvPr/>
          </p:nvPicPr>
          <p:blipFill>
            <a:blip r:embed="rId25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3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3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4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6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7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8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9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3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4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8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9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1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2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1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3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8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0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5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7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1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8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5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9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8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1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4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5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689" name="" descr=""/>
            <p:cNvPicPr/>
            <p:nvPr/>
          </p:nvPicPr>
          <p:blipFill>
            <a:blip r:embed="rId26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0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721" name=""/>
          <p:cNvGrpSpPr/>
          <p:nvPr/>
        </p:nvGrpSpPr>
        <p:grpSpPr>
          <a:xfrm>
            <a:off x="723960" y="2057400"/>
            <a:ext cx="6615000" cy="3605040"/>
            <a:chOff x="723960" y="2057400"/>
            <a:chExt cx="6615000" cy="3605040"/>
          </a:xfrm>
        </p:grpSpPr>
        <p:sp>
          <p:nvSpPr>
            <p:cNvPr id="7722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6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9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0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4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4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5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0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3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4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898" name="" descr=""/>
            <p:cNvPicPr/>
            <p:nvPr/>
          </p:nvPicPr>
          <p:blipFill>
            <a:blip r:embed="rId27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9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922" name=""/>
          <p:cNvGrpSpPr/>
          <p:nvPr/>
        </p:nvGrpSpPr>
        <p:grpSpPr>
          <a:xfrm>
            <a:off x="3782880" y="2413080"/>
            <a:ext cx="222480" cy="122040"/>
            <a:chOff x="3782880" y="2413080"/>
            <a:chExt cx="222480" cy="122040"/>
          </a:xfrm>
        </p:grpSpPr>
        <p:sp>
          <p:nvSpPr>
            <p:cNvPr id="7923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3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0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3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0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5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9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0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1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3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5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6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7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8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9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1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2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4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5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6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9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4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5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8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9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0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1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2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3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4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5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6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7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8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9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0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1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5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9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123" name=""/>
          <p:cNvGrpSpPr/>
          <p:nvPr/>
        </p:nvGrpSpPr>
        <p:grpSpPr>
          <a:xfrm>
            <a:off x="3782880" y="2287440"/>
            <a:ext cx="497160" cy="343080"/>
            <a:chOff x="3782880" y="2287440"/>
            <a:chExt cx="497160" cy="343080"/>
          </a:xfrm>
        </p:grpSpPr>
        <p:sp>
          <p:nvSpPr>
            <p:cNvPr id="8124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0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5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6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2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4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5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6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7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8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3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5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6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7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8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9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0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2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4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5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6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7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8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9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0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1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2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3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4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6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4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6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8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9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2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3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6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7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8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9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0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1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2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3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7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8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9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0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1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3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4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5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6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7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8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9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0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1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2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3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4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8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9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0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1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6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9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0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1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2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4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9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0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1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2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3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4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6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7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8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9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0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2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3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4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5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6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7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8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9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0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1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2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3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4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5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6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7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8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9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0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1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2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3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324" name=""/>
          <p:cNvGrpSpPr/>
          <p:nvPr/>
        </p:nvGrpSpPr>
        <p:grpSpPr>
          <a:xfrm>
            <a:off x="3782880" y="2287440"/>
            <a:ext cx="497160" cy="343080"/>
            <a:chOff x="3782880" y="2287440"/>
            <a:chExt cx="497160" cy="343080"/>
          </a:xfrm>
        </p:grpSpPr>
        <p:sp>
          <p:nvSpPr>
            <p:cNvPr id="8325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6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7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8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9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0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1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2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3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4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5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6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7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8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7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8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1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2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4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5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6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7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8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6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3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4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5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6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7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8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9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0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1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2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3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4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5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8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7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6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7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9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1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2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3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4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8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2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3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4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5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8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9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2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3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7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7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4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525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8526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0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6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7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0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1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2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3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5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6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7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8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9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0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1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2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3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4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5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6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1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2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2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7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3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8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7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8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0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1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3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4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5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6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7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8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9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2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3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4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5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6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7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8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1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2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3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4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5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6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7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8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0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2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3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4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5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726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8727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8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9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0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1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2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3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4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5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6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7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8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9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0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1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2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3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4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5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6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7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8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9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0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1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2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3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4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5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6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7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8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9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0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1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2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3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2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3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4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5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6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7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8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9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0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1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2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3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4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5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6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7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8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9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0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1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2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3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4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5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6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7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8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9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0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1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2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3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4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5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6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7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8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9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0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1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2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3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4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5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6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7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8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9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0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1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2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5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1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3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4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6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7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1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2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3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4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5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6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1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2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3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4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5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6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7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8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6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7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8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9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927" name=""/>
          <p:cNvGrpSpPr/>
          <p:nvPr/>
        </p:nvGrpSpPr>
        <p:grpSpPr>
          <a:xfrm>
            <a:off x="3498840" y="2287440"/>
            <a:ext cx="1141560" cy="627120"/>
            <a:chOff x="3498840" y="2287440"/>
            <a:chExt cx="1141560" cy="627120"/>
          </a:xfrm>
        </p:grpSpPr>
        <p:sp>
          <p:nvSpPr>
            <p:cNvPr id="8928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3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4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7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8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3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4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6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7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8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9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0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1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2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3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4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5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6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7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8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9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7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8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9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0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1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2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3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6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7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8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9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0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1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2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3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4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5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6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7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8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1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4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5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7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8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9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0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1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2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3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4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5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6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7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8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9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0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1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2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3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4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5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6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7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8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9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0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1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2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3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4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5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6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7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8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9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0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1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2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3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4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5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6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7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8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2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3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6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7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128" name=""/>
          <p:cNvGrpSpPr/>
          <p:nvPr/>
        </p:nvGrpSpPr>
        <p:grpSpPr>
          <a:xfrm>
            <a:off x="3498840" y="2287440"/>
            <a:ext cx="1206360" cy="919440"/>
            <a:chOff x="3498840" y="2287440"/>
            <a:chExt cx="1206360" cy="919440"/>
          </a:xfrm>
        </p:grpSpPr>
        <p:sp>
          <p:nvSpPr>
            <p:cNvPr id="9129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3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4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5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3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4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2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2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6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7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0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1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2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3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4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5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6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7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8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9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0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1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2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3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4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5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6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7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8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0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1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2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3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4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5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6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7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8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9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0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1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2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3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4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5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6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8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9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0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1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2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3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4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2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3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4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5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6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7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8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9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0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1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2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3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4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5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8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9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0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1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2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3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4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5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6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8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9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0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4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5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6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7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9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0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1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3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4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5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6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9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2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3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4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5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8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9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0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2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3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4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5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6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7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7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8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9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0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1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5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6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7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8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9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0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1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2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3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4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5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6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7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8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7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8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329" name=""/>
          <p:cNvGrpSpPr/>
          <p:nvPr/>
        </p:nvGrpSpPr>
        <p:grpSpPr>
          <a:xfrm>
            <a:off x="4437000" y="2768760"/>
            <a:ext cx="311040" cy="2165040"/>
            <a:chOff x="4437000" y="2768760"/>
            <a:chExt cx="311040" cy="2165040"/>
          </a:xfrm>
        </p:grpSpPr>
        <p:sp>
          <p:nvSpPr>
            <p:cNvPr id="9330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1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2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3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4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5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6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7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8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9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0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1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2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3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4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5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6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7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8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9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0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1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2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3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4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5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6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7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8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9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0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1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2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3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4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5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6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7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8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9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0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1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2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3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4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5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6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7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8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9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0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1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2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3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4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5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6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4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5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6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7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8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9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0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1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2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3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4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5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6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7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8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9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0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1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3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4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5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6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7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8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9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1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2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4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5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8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9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0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1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2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3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4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5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6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7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8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9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0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1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2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3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4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5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6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7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8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9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0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1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9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0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1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2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3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4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5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6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7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8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9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0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1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2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3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4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5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6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7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8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9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0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1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2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3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4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5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6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7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8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9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0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1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2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3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4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5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6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7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8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9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1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2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3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4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5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6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7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8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9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0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1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9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1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2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3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4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5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6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7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8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9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530" name=""/>
          <p:cNvGrpSpPr/>
          <p:nvPr/>
        </p:nvGrpSpPr>
        <p:grpSpPr>
          <a:xfrm>
            <a:off x="4437000" y="2841480"/>
            <a:ext cx="311040" cy="2092320"/>
            <a:chOff x="4437000" y="2841480"/>
            <a:chExt cx="311040" cy="2092320"/>
          </a:xfrm>
        </p:grpSpPr>
        <p:sp>
          <p:nvSpPr>
            <p:cNvPr id="9531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2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3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4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5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6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7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8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9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0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1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2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3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4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5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6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7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8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9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0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1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2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3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4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5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6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7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8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9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0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1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2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3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4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5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6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7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8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9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0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1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2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3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4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5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6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5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7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8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0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1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2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3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4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5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6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7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8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9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0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1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2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3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4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5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6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2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3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4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5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6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7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8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3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6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7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8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9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1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2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3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4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5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7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8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0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1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3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4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2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3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4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5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6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7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8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9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0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9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0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1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2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3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4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5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6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9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0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3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4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9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0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1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4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0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1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2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3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4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5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6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7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8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9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0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1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4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9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0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731" name=""/>
          <p:cNvGrpSpPr/>
          <p:nvPr/>
        </p:nvGrpSpPr>
        <p:grpSpPr>
          <a:xfrm>
            <a:off x="4456080" y="4446720"/>
            <a:ext cx="1785960" cy="487080"/>
            <a:chOff x="4456080" y="4446720"/>
            <a:chExt cx="1785960" cy="487080"/>
          </a:xfrm>
        </p:grpSpPr>
        <p:sp>
          <p:nvSpPr>
            <p:cNvPr id="9732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6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7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8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9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0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1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2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3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4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5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6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7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8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9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1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3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4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6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7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9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0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1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2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3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4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5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6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7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8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9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0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1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2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3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4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5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6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7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8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9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0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1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9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0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1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2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3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4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5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6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7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8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9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0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1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2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3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4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5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6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7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8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9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0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1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2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3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4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5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6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7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8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9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0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1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2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3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4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5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6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7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8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9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0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1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2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3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4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5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6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7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8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6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7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8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9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0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1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2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3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4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5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6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7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8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9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0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1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2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3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4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5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6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7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8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9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0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1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2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3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4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5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6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7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8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9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0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1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2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3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4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5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6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7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8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9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0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1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2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3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4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5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6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7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8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9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0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1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2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3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4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5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6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4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5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6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7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8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9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0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1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2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3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4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5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6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7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8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9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0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1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932" name=""/>
          <p:cNvGrpSpPr/>
          <p:nvPr/>
        </p:nvGrpSpPr>
        <p:grpSpPr>
          <a:xfrm>
            <a:off x="4456080" y="4446720"/>
            <a:ext cx="1785960" cy="496800"/>
            <a:chOff x="4456080" y="4446720"/>
            <a:chExt cx="1785960" cy="496800"/>
          </a:xfrm>
        </p:grpSpPr>
        <p:sp>
          <p:nvSpPr>
            <p:cNvPr id="9933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4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5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6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7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8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6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7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8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9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0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1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2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3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4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5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6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7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8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9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0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1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2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3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4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5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6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7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8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9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0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1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2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3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4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5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6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7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8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9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0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2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3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6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7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1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3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4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5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3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4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5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6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7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8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9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0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1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2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3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4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5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6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7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8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9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0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1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2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3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4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5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6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7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8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9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0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1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2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3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4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5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6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7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8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9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0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1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2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3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4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5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6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7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8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9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0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1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2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3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1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2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3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4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5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7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8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9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0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1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2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3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5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6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7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8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9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0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1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2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3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4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5" name=""/>
            <p:cNvSpPr/>
            <p:nvPr/>
          </p:nvSpPr>
          <p:spPr>
            <a:xfrm>
              <a:off x="6075360" y="4648320"/>
              <a:ext cx="648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6" name=""/>
            <p:cNvSpPr/>
            <p:nvPr/>
          </p:nvSpPr>
          <p:spPr>
            <a:xfrm>
              <a:off x="6081840" y="4648320"/>
              <a:ext cx="288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6084720" y="4648320"/>
              <a:ext cx="324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608796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609120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609444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6097680" y="4648320"/>
              <a:ext cx="612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6103800" y="4648320"/>
              <a:ext cx="180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6103800" y="4648320"/>
              <a:ext cx="324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4" name=""/>
            <p:cNvSpPr/>
            <p:nvPr/>
          </p:nvSpPr>
          <p:spPr>
            <a:xfrm>
              <a:off x="6107040" y="4648320"/>
              <a:ext cx="324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5" name=""/>
            <p:cNvSpPr/>
            <p:nvPr/>
          </p:nvSpPr>
          <p:spPr>
            <a:xfrm>
              <a:off x="6110280" y="4648320"/>
              <a:ext cx="3240" cy="2952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6" name=""/>
            <p:cNvSpPr/>
            <p:nvPr/>
          </p:nvSpPr>
          <p:spPr>
            <a:xfrm>
              <a:off x="6113520" y="4648320"/>
              <a:ext cx="3240" cy="2952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7" name=""/>
            <p:cNvSpPr/>
            <p:nvPr/>
          </p:nvSpPr>
          <p:spPr>
            <a:xfrm>
              <a:off x="6116760" y="4648320"/>
              <a:ext cx="6120" cy="2952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8" name=""/>
            <p:cNvSpPr/>
            <p:nvPr/>
          </p:nvSpPr>
          <p:spPr>
            <a:xfrm>
              <a:off x="6122880" y="4648320"/>
              <a:ext cx="3240" cy="2952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9" name=""/>
            <p:cNvSpPr/>
            <p:nvPr/>
          </p:nvSpPr>
          <p:spPr>
            <a:xfrm>
              <a:off x="6126120" y="4648320"/>
              <a:ext cx="1800" cy="2952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0" name=""/>
            <p:cNvSpPr/>
            <p:nvPr/>
          </p:nvSpPr>
          <p:spPr>
            <a:xfrm>
              <a:off x="6126120" y="4648320"/>
              <a:ext cx="6480" cy="2952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1" name=""/>
            <p:cNvSpPr/>
            <p:nvPr/>
          </p:nvSpPr>
          <p:spPr>
            <a:xfrm>
              <a:off x="6132600" y="4648320"/>
              <a:ext cx="3240" cy="2952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2" name=""/>
            <p:cNvSpPr/>
            <p:nvPr/>
          </p:nvSpPr>
          <p:spPr>
            <a:xfrm>
              <a:off x="6135840" y="4648320"/>
              <a:ext cx="2880" cy="2952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3" name=""/>
            <p:cNvSpPr/>
            <p:nvPr/>
          </p:nvSpPr>
          <p:spPr>
            <a:xfrm>
              <a:off x="6135840" y="4648320"/>
              <a:ext cx="6120" cy="2952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4" name=""/>
            <p:cNvSpPr/>
            <p:nvPr/>
          </p:nvSpPr>
          <p:spPr>
            <a:xfrm>
              <a:off x="6141960" y="4648320"/>
              <a:ext cx="3240" cy="2952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5" name=""/>
            <p:cNvSpPr/>
            <p:nvPr/>
          </p:nvSpPr>
          <p:spPr>
            <a:xfrm>
              <a:off x="6145200" y="4648320"/>
              <a:ext cx="1440" cy="2952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6" name=""/>
            <p:cNvSpPr/>
            <p:nvPr/>
          </p:nvSpPr>
          <p:spPr>
            <a:xfrm>
              <a:off x="6145200" y="4648320"/>
              <a:ext cx="6480" cy="2952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7" name=""/>
            <p:cNvSpPr/>
            <p:nvPr/>
          </p:nvSpPr>
          <p:spPr>
            <a:xfrm>
              <a:off x="6151680" y="4648320"/>
              <a:ext cx="2880" cy="2952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8" name=""/>
            <p:cNvSpPr/>
            <p:nvPr/>
          </p:nvSpPr>
          <p:spPr>
            <a:xfrm>
              <a:off x="6154560" y="4648320"/>
              <a:ext cx="3240" cy="2952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9" name=""/>
            <p:cNvSpPr/>
            <p:nvPr/>
          </p:nvSpPr>
          <p:spPr>
            <a:xfrm>
              <a:off x="6157800" y="4648320"/>
              <a:ext cx="3240" cy="2952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0" name=""/>
            <p:cNvSpPr/>
            <p:nvPr/>
          </p:nvSpPr>
          <p:spPr>
            <a:xfrm>
              <a:off x="6161040" y="4648320"/>
              <a:ext cx="1800" cy="2952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1" name=""/>
            <p:cNvSpPr/>
            <p:nvPr/>
          </p:nvSpPr>
          <p:spPr>
            <a:xfrm>
              <a:off x="6161040" y="4648320"/>
              <a:ext cx="6480" cy="2952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2" name=""/>
            <p:cNvSpPr/>
            <p:nvPr/>
          </p:nvSpPr>
          <p:spPr>
            <a:xfrm>
              <a:off x="6167520" y="4648320"/>
              <a:ext cx="3240" cy="2952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3" name=""/>
            <p:cNvSpPr/>
            <p:nvPr/>
          </p:nvSpPr>
          <p:spPr>
            <a:xfrm>
              <a:off x="6170760" y="4648320"/>
              <a:ext cx="1440" cy="2952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4" name=""/>
            <p:cNvSpPr/>
            <p:nvPr/>
          </p:nvSpPr>
          <p:spPr>
            <a:xfrm>
              <a:off x="6170760" y="4648320"/>
              <a:ext cx="9360" cy="2952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6180120" y="4648320"/>
              <a:ext cx="3240" cy="2952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6183360" y="4648320"/>
              <a:ext cx="1440" cy="2952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6183360" y="4648320"/>
              <a:ext cx="6480" cy="2952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6189840" y="4648320"/>
              <a:ext cx="2880" cy="2952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6192720" y="4648320"/>
              <a:ext cx="1800" cy="2952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6192720" y="4648320"/>
              <a:ext cx="6480" cy="2952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6199200" y="4648320"/>
              <a:ext cx="1440" cy="2952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2" name=""/>
            <p:cNvSpPr/>
            <p:nvPr/>
          </p:nvSpPr>
          <p:spPr>
            <a:xfrm>
              <a:off x="5989680" y="464832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0" y="0"/>
                  </a:moveTo>
                  <a:lnTo>
                    <a:pt x="32" y="186"/>
                  </a:lnTo>
                  <a:lnTo>
                    <a:pt x="98" y="186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sp>
        <p:nvSpPr>
          <p:cNvPr id="10133" name=""/>
          <p:cNvSpPr/>
          <p:nvPr/>
        </p:nvSpPr>
        <p:spPr>
          <a:xfrm>
            <a:off x="5270400" y="3327480"/>
            <a:ext cx="486000" cy="79200"/>
          </a:xfrm>
          <a:custGeom>
            <a:avLst/>
            <a:gdLst/>
            <a:ahLst/>
            <a:rect l="l" t="t" r="r" b="b"/>
            <a:pathLst>
              <a:path w="306" h="50">
                <a:moveTo>
                  <a:pt x="0" y="0"/>
                </a:moveTo>
                <a:lnTo>
                  <a:pt x="304" y="50"/>
                </a:lnTo>
                <a:lnTo>
                  <a:pt x="306" y="5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10134" name="" descr=""/>
          <p:cNvPicPr/>
          <p:nvPr/>
        </p:nvPicPr>
        <p:blipFill>
          <a:blip r:embed="rId28"/>
          <a:stretch/>
        </p:blipFill>
        <p:spPr>
          <a:xfrm>
            <a:off x="4572000" y="1341360"/>
            <a:ext cx="552600" cy="343080"/>
          </a:xfrm>
          <a:prstGeom prst="rect">
            <a:avLst/>
          </a:prstGeom>
          <a:ln w="0">
            <a:noFill/>
          </a:ln>
        </p:spPr>
      </p:pic>
      <p:pic>
        <p:nvPicPr>
          <p:cNvPr id="10135" name="" descr=""/>
          <p:cNvPicPr/>
          <p:nvPr/>
        </p:nvPicPr>
        <p:blipFill>
          <a:blip r:embed="rId29"/>
          <a:stretch/>
        </p:blipFill>
        <p:spPr>
          <a:xfrm>
            <a:off x="324000" y="1628640"/>
            <a:ext cx="55224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6" name=""/>
          <p:cNvSpPr/>
          <p:nvPr/>
        </p:nvSpPr>
        <p:spPr>
          <a:xfrm>
            <a:off x="4643280" y="18900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37" name=""/>
          <p:cNvSpPr/>
          <p:nvPr/>
        </p:nvSpPr>
        <p:spPr>
          <a:xfrm>
            <a:off x="4427640" y="333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CHANCADO DE PEBBLES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10138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4978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9" name=""/>
          <p:cNvSpPr/>
          <p:nvPr/>
        </p:nvSpPr>
        <p:spPr>
          <a:xfrm>
            <a:off x="3841920" y="3938760"/>
            <a:ext cx="1017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ntorno Rajo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0" name=""/>
          <p:cNvSpPr/>
          <p:nvPr/>
        </p:nvSpPr>
        <p:spPr>
          <a:xfrm>
            <a:off x="1463760" y="3892680"/>
            <a:ext cx="102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cceso            Mina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1" name=""/>
          <p:cNvSpPr/>
          <p:nvPr/>
        </p:nvSpPr>
        <p:spPr>
          <a:xfrm flipV="1">
            <a:off x="4910040" y="3497040"/>
            <a:ext cx="0" cy="323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2" name=""/>
          <p:cNvSpPr/>
          <p:nvPr/>
        </p:nvSpPr>
        <p:spPr>
          <a:xfrm>
            <a:off x="4570560" y="3319560"/>
            <a:ext cx="61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3" name=""/>
          <p:cNvSpPr/>
          <p:nvPr/>
        </p:nvSpPr>
        <p:spPr>
          <a:xfrm>
            <a:off x="2335320" y="3409920"/>
            <a:ext cx="61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ta              3700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4" name=""/>
          <p:cNvSpPr/>
          <p:nvPr/>
        </p:nvSpPr>
        <p:spPr>
          <a:xfrm>
            <a:off x="2730600" y="4670280"/>
            <a:ext cx="452160" cy="82800"/>
          </a:xfrm>
          <a:custGeom>
            <a:avLst/>
            <a:gdLst/>
            <a:ahLst/>
            <a:rect l="l" t="t" r="r" b="b"/>
            <a:pathLst>
              <a:path w="423" h="86">
                <a:moveTo>
                  <a:pt x="0" y="57"/>
                </a:moveTo>
                <a:cubicBezTo>
                  <a:pt x="13" y="62"/>
                  <a:pt x="45" y="82"/>
                  <a:pt x="81" y="84"/>
                </a:cubicBezTo>
                <a:cubicBezTo>
                  <a:pt x="117" y="86"/>
                  <a:pt x="178" y="77"/>
                  <a:pt x="216" y="66"/>
                </a:cubicBezTo>
                <a:cubicBezTo>
                  <a:pt x="254" y="55"/>
                  <a:pt x="275" y="29"/>
                  <a:pt x="309" y="18"/>
                </a:cubicBezTo>
                <a:cubicBezTo>
                  <a:pt x="343" y="7"/>
                  <a:pt x="399" y="4"/>
                  <a:pt x="423" y="0"/>
                </a:cubicBezTo>
              </a:path>
            </a:pathLst>
          </a:custGeom>
          <a:noFill/>
          <a:ln w="12600">
            <a:solidFill>
              <a:srgbClr val="cc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5" name=""/>
          <p:cNvSpPr/>
          <p:nvPr/>
        </p:nvSpPr>
        <p:spPr>
          <a:xfrm>
            <a:off x="2533680" y="4740120"/>
            <a:ext cx="385560" cy="87480"/>
          </a:xfrm>
          <a:custGeom>
            <a:avLst/>
            <a:gdLst/>
            <a:ahLst/>
            <a:rect l="l" t="t" r="r" b="b"/>
            <a:pathLst>
              <a:path w="360" h="90">
                <a:moveTo>
                  <a:pt x="0" y="72"/>
                </a:moveTo>
                <a:cubicBezTo>
                  <a:pt x="27" y="73"/>
                  <a:pt x="108" y="90"/>
                  <a:pt x="168" y="78"/>
                </a:cubicBezTo>
                <a:cubicBezTo>
                  <a:pt x="228" y="66"/>
                  <a:pt x="320" y="16"/>
                  <a:pt x="360" y="0"/>
                </a:cubicBezTo>
              </a:path>
            </a:pathLst>
          </a:custGeom>
          <a:noFill/>
          <a:ln w="12600">
            <a:solidFill>
              <a:srgbClr val="cc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6" name=""/>
          <p:cNvSpPr/>
          <p:nvPr/>
        </p:nvSpPr>
        <p:spPr>
          <a:xfrm>
            <a:off x="5435640" y="26028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7" name=""/>
          <p:cNvSpPr/>
          <p:nvPr/>
        </p:nvSpPr>
        <p:spPr>
          <a:xfrm>
            <a:off x="3348000" y="333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PLANTAS DE PRECHANCADO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grpSp>
        <p:nvGrpSpPr>
          <p:cNvPr id="10148" name=""/>
          <p:cNvGrpSpPr/>
          <p:nvPr/>
        </p:nvGrpSpPr>
        <p:grpSpPr>
          <a:xfrm>
            <a:off x="250920" y="1312920"/>
            <a:ext cx="8008920" cy="4860720"/>
            <a:chOff x="250920" y="1312920"/>
            <a:chExt cx="8008920" cy="4860720"/>
          </a:xfrm>
        </p:grpSpPr>
        <p:grpSp>
          <p:nvGrpSpPr>
            <p:cNvPr id="10149" name=""/>
            <p:cNvGrpSpPr/>
            <p:nvPr/>
          </p:nvGrpSpPr>
          <p:grpSpPr>
            <a:xfrm>
              <a:off x="3498840" y="2259000"/>
              <a:ext cx="728640" cy="600120"/>
              <a:chOff x="3498840" y="2259000"/>
              <a:chExt cx="728640" cy="600120"/>
            </a:xfrm>
          </p:grpSpPr>
          <p:sp>
            <p:nvSpPr>
              <p:cNvPr id="10150" name=""/>
              <p:cNvSpPr/>
              <p:nvPr/>
            </p:nvSpPr>
            <p:spPr>
              <a:xfrm>
                <a:off x="3498840" y="228132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1" name=""/>
              <p:cNvSpPr/>
              <p:nvPr/>
            </p:nvSpPr>
            <p:spPr>
              <a:xfrm>
                <a:off x="3503520" y="22813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3510000" y="228132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3516480" y="228132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3524400" y="228132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3525840" y="228132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6" name=""/>
              <p:cNvSpPr/>
              <p:nvPr/>
            </p:nvSpPr>
            <p:spPr>
              <a:xfrm>
                <a:off x="3530520" y="22813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7" name=""/>
              <p:cNvSpPr/>
              <p:nvPr/>
            </p:nvSpPr>
            <p:spPr>
              <a:xfrm>
                <a:off x="3537000" y="227952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3543480" y="227952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3551400" y="227952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3554280" y="2279520"/>
                <a:ext cx="32040" cy="5781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3557520" y="227952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3567240" y="227952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3570120" y="22780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4" name=""/>
              <p:cNvSpPr/>
              <p:nvPr/>
            </p:nvSpPr>
            <p:spPr>
              <a:xfrm>
                <a:off x="3575160" y="2278080"/>
                <a:ext cx="3816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>
                <a:off x="3584520" y="2278080"/>
                <a:ext cx="30240" cy="577800"/>
              </a:xfrm>
              <a:custGeom>
                <a:avLst/>
                <a:gdLst/>
                <a:ahLst/>
                <a:rect l="l" t="t" r="r" b="b"/>
                <a:pathLst>
                  <a:path w="3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8" y="728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3584520" y="2278080"/>
                <a:ext cx="3960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3594240" y="22780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3597120" y="22780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3602160" y="2278080"/>
                <a:ext cx="3780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3611520" y="227808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3613320" y="227808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9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9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3622680" y="22780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3625920" y="22780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3629160" y="227808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3638520" y="22780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3643200" y="22766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3649680" y="22766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3654360" y="2276640"/>
                <a:ext cx="30240" cy="57780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3656160" y="227664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9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9" y="72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3665520" y="22766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3670200" y="22766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3673440" y="2274840"/>
                <a:ext cx="36720" cy="57960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368136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3686040" y="2274840"/>
                <a:ext cx="367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369252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6" name=""/>
              <p:cNvSpPr/>
              <p:nvPr/>
            </p:nvSpPr>
            <p:spPr>
              <a:xfrm>
                <a:off x="3697200" y="22748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7" name=""/>
              <p:cNvSpPr/>
              <p:nvPr/>
            </p:nvSpPr>
            <p:spPr>
              <a:xfrm>
                <a:off x="3700440" y="2274840"/>
                <a:ext cx="36360" cy="57960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370836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3713040" y="227484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3720960" y="2274840"/>
                <a:ext cx="3204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3724200" y="227484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3728880" y="22748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3735360" y="227484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3741840" y="22748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374796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375120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3755880" y="22734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3762360" y="2273400"/>
                <a:ext cx="34920" cy="57600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3768840" y="22734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377496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3780000" y="227160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3782880" y="227160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3790800" y="227160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3795840" y="2271600"/>
                <a:ext cx="3312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380052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3807000" y="2271600"/>
                <a:ext cx="3312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381168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3817800" y="227160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3822840" y="2271600"/>
                <a:ext cx="3312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382752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3833640" y="227160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3838680" y="227160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9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9" y="72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3848040" y="227160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3849840" y="22701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3852720" y="227016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7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7" y="727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3860640" y="2270160"/>
                <a:ext cx="3204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3863880" y="227016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3873600" y="227016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3875040" y="227016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387972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3889440" y="2268360"/>
                <a:ext cx="30240" cy="57816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389088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3900600" y="2268360"/>
                <a:ext cx="33120" cy="57816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3905280" y="226836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3908520" y="226836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8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3916440" y="226836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3919680" y="22683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392256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3932280" y="22683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3935520" y="226836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3943440" y="226836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3948120" y="226836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3949560" y="226692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3959280" y="2266920"/>
                <a:ext cx="3312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3963960" y="22669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3970440" y="226692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3976560" y="226692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3978360" y="226692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3987720" y="22654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3990960" y="226548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3997440" y="22654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4003560" y="22654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4006800" y="226548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4014720" y="22654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4017960" y="22654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402444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403056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403560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404172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404640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405144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405756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4062240" y="22636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406872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407340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4078440" y="226368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4086360" y="22636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4089240" y="226224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4095720" y="22622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4100400" y="22622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4105440" y="226224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4113360" y="22622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4116240" y="226224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4125960" y="2260440"/>
                <a:ext cx="30240" cy="5781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4127400" y="226044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4133880" y="226044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4140360" y="2260440"/>
                <a:ext cx="33120" cy="5781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4145040" y="226044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4148280" y="2260440"/>
                <a:ext cx="3636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4154400" y="226044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4160880" y="226044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416880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417204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4175280" y="2260440"/>
                <a:ext cx="37800" cy="57816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418464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4187880" y="226044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7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7" y="727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4195800" y="225900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3513240" y="2265480"/>
                <a:ext cx="696960" cy="585720"/>
              </a:xfrm>
              <a:custGeom>
                <a:avLst/>
                <a:gdLst/>
                <a:ahLst/>
                <a:rect l="l" t="t" r="r" b="b"/>
                <a:pathLst>
                  <a:path w="878" h="738">
                    <a:moveTo>
                      <a:pt x="199" y="14"/>
                    </a:moveTo>
                    <a:lnTo>
                      <a:pt x="0" y="380"/>
                    </a:lnTo>
                    <a:lnTo>
                      <a:pt x="236" y="738"/>
                    </a:lnTo>
                    <a:lnTo>
                      <a:pt x="680" y="725"/>
                    </a:lnTo>
                    <a:lnTo>
                      <a:pt x="878" y="353"/>
                    </a:lnTo>
                    <a:lnTo>
                      <a:pt x="642" y="0"/>
                    </a:lnTo>
                    <a:lnTo>
                      <a:pt x="199" y="14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3514680" y="2395440"/>
                <a:ext cx="3240" cy="33012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3517920" y="2395440"/>
                <a:ext cx="7920" cy="33012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3525840" y="2395440"/>
                <a:ext cx="4680" cy="33012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3530520" y="2395440"/>
                <a:ext cx="7920" cy="33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3538440" y="2395440"/>
                <a:ext cx="3240" cy="33012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3541680" y="2395440"/>
                <a:ext cx="4680" cy="33012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3546360" y="2395440"/>
                <a:ext cx="6480" cy="3301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3552840" y="2395440"/>
                <a:ext cx="4680" cy="33012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3557520" y="2395440"/>
                <a:ext cx="4680" cy="33012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3562200" y="2395440"/>
                <a:ext cx="6480" cy="33012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3568680" y="2395440"/>
                <a:ext cx="4680" cy="33012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3573360" y="2395440"/>
                <a:ext cx="9720" cy="33012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3583080" y="2395440"/>
                <a:ext cx="1440" cy="33012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3584520" y="2395440"/>
                <a:ext cx="4680" cy="33012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3589200" y="2395440"/>
                <a:ext cx="9720" cy="33012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3598920" y="2395440"/>
                <a:ext cx="1440" cy="33012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3600360" y="2395440"/>
                <a:ext cx="9720" cy="33012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3610080" y="2395440"/>
                <a:ext cx="3240" cy="33012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3613320" y="2395440"/>
                <a:ext cx="2880" cy="33012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3616200" y="2395440"/>
                <a:ext cx="9720" cy="33012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3625920" y="2395440"/>
                <a:ext cx="3240" cy="33012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3629160" y="2395440"/>
                <a:ext cx="4680" cy="33012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3633840" y="2395440"/>
                <a:ext cx="9360" cy="33012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3643200" y="2395440"/>
                <a:ext cx="1800" cy="33012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3643200" y="2395440"/>
                <a:ext cx="11160" cy="33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3654360" y="2395440"/>
                <a:ext cx="3240" cy="33012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3657600" y="2395440"/>
                <a:ext cx="3240" cy="33012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3660840" y="2395440"/>
                <a:ext cx="9360" cy="33012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3670200" y="2395440"/>
                <a:ext cx="1800" cy="33012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3672000" y="2395440"/>
                <a:ext cx="4680" cy="33012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3676680" y="2395440"/>
                <a:ext cx="7920" cy="33012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3684600" y="2395440"/>
                <a:ext cx="3240" cy="33012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3687840" y="2395440"/>
                <a:ext cx="9360" cy="33012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3697200" y="2395440"/>
                <a:ext cx="4680" cy="33012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3701880" y="2395440"/>
                <a:ext cx="1800" cy="33012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3703680" y="2395440"/>
                <a:ext cx="9360" cy="33012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3713040" y="2395440"/>
                <a:ext cx="1800" cy="33012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3714840" y="2395440"/>
                <a:ext cx="9360" cy="33012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3724200" y="2395440"/>
                <a:ext cx="4680" cy="33012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3728880" y="2395440"/>
                <a:ext cx="3240" cy="33012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3732120" y="2395440"/>
                <a:ext cx="7920" cy="33012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3740040" y="2395440"/>
                <a:ext cx="5040" cy="33012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3745080" y="2395440"/>
                <a:ext cx="1440" cy="33012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3746520" y="2395440"/>
                <a:ext cx="9360" cy="33012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3755880" y="2395440"/>
                <a:ext cx="5040" cy="33012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3760920" y="2395440"/>
                <a:ext cx="6120" cy="33012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3767040" y="2395440"/>
                <a:ext cx="5040" cy="33012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3772080" y="2395440"/>
                <a:ext cx="1440" cy="33012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3773520" y="2395440"/>
                <a:ext cx="9360" cy="33012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3782880" y="2395440"/>
                <a:ext cx="6480" cy="33012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3789360" y="2395440"/>
                <a:ext cx="6480" cy="33012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3795840" y="2395440"/>
                <a:ext cx="4680" cy="33012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3800520" y="2395440"/>
                <a:ext cx="3240" cy="33012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3803760" y="2395440"/>
                <a:ext cx="7920" cy="33012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381168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381636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3821040" y="2395440"/>
                <a:ext cx="6480" cy="33012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3827520" y="2395440"/>
                <a:ext cx="3240" cy="3301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3830760" y="2395440"/>
                <a:ext cx="7920" cy="33012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383868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384336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3848040" y="2395440"/>
                <a:ext cx="6480" cy="33012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385452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385920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3863880" y="2395440"/>
                <a:ext cx="64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387036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3875040" y="2395440"/>
                <a:ext cx="6480" cy="33012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388152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388620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3890880" y="2395440"/>
                <a:ext cx="7920" cy="33012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3898800" y="2395440"/>
                <a:ext cx="3240" cy="3301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350" name=""/>
            <p:cNvGrpSpPr/>
            <p:nvPr/>
          </p:nvGrpSpPr>
          <p:grpSpPr>
            <a:xfrm>
              <a:off x="1392120" y="1604880"/>
              <a:ext cx="4021200" cy="3165480"/>
              <a:chOff x="1392120" y="1604880"/>
              <a:chExt cx="4021200" cy="3165480"/>
            </a:xfrm>
          </p:grpSpPr>
          <p:sp>
            <p:nvSpPr>
              <p:cNvPr id="10351" name=""/>
              <p:cNvSpPr/>
              <p:nvPr/>
            </p:nvSpPr>
            <p:spPr>
              <a:xfrm>
                <a:off x="3902040" y="2395440"/>
                <a:ext cx="6480" cy="33012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390852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3913200" y="2395440"/>
                <a:ext cx="64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3919680" y="2395440"/>
                <a:ext cx="6120" cy="33012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3925800" y="2395440"/>
                <a:ext cx="3240" cy="33012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3929040" y="2395440"/>
                <a:ext cx="4680" cy="33012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3933720" y="2395440"/>
                <a:ext cx="6480" cy="33012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3940200" y="2395440"/>
                <a:ext cx="6480" cy="33012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3946680" y="2395440"/>
                <a:ext cx="6120" cy="33012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3952800" y="2395440"/>
                <a:ext cx="4680" cy="33012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3957480" y="2395440"/>
                <a:ext cx="5040" cy="33012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3962520" y="2395440"/>
                <a:ext cx="6120" cy="33012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3968640" y="2395440"/>
                <a:ext cx="5040" cy="33012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3973680" y="2395440"/>
                <a:ext cx="9360" cy="33012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3983040" y="2395440"/>
                <a:ext cx="1440" cy="33012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3984480" y="2395440"/>
                <a:ext cx="5040" cy="33012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3989520" y="2395440"/>
                <a:ext cx="7920" cy="33012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>
                <a:off x="3997440" y="2395440"/>
                <a:ext cx="3240" cy="33012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4000680" y="2395440"/>
                <a:ext cx="4680" cy="33012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4005360" y="2395440"/>
                <a:ext cx="6120" cy="33012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4011480" y="2395440"/>
                <a:ext cx="5040" cy="33012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4016520" y="2395440"/>
                <a:ext cx="9360" cy="33012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4025880" y="2395440"/>
                <a:ext cx="1440" cy="33012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>
                <a:off x="4027320" y="2395440"/>
                <a:ext cx="5040" cy="33012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>
                <a:off x="4032360" y="2395440"/>
                <a:ext cx="9360" cy="33012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>
                <a:off x="4041720" y="2395440"/>
                <a:ext cx="3240" cy="33012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>
                <a:off x="4044960" y="2395440"/>
                <a:ext cx="7920" cy="33012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>
                <a:off x="4052880" y="2395440"/>
                <a:ext cx="3240" cy="33012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>
                <a:off x="4056120" y="2395440"/>
                <a:ext cx="3240" cy="33012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0" name=""/>
              <p:cNvSpPr/>
              <p:nvPr/>
            </p:nvSpPr>
            <p:spPr>
              <a:xfrm>
                <a:off x="4059360" y="2395440"/>
                <a:ext cx="9360" cy="33012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1" name=""/>
              <p:cNvSpPr/>
              <p:nvPr/>
            </p:nvSpPr>
            <p:spPr>
              <a:xfrm>
                <a:off x="4068720" y="2395440"/>
                <a:ext cx="3240" cy="33012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2" name=""/>
              <p:cNvSpPr/>
              <p:nvPr/>
            </p:nvSpPr>
            <p:spPr>
              <a:xfrm>
                <a:off x="4071960" y="2395440"/>
                <a:ext cx="4680" cy="33012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3" name=""/>
              <p:cNvSpPr/>
              <p:nvPr/>
            </p:nvSpPr>
            <p:spPr>
              <a:xfrm>
                <a:off x="4076640" y="2395440"/>
                <a:ext cx="9720" cy="33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4086360" y="2395440"/>
                <a:ext cx="1440" cy="33012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4086360" y="2395440"/>
                <a:ext cx="9360" cy="33012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4095720" y="2395440"/>
                <a:ext cx="4680" cy="33012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7" name=""/>
              <p:cNvSpPr/>
              <p:nvPr/>
            </p:nvSpPr>
            <p:spPr>
              <a:xfrm>
                <a:off x="4100400" y="2395440"/>
                <a:ext cx="3240" cy="33012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8" name=""/>
              <p:cNvSpPr/>
              <p:nvPr/>
            </p:nvSpPr>
            <p:spPr>
              <a:xfrm>
                <a:off x="4103640" y="2395440"/>
                <a:ext cx="9720" cy="33012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4113360" y="2395440"/>
                <a:ext cx="1440" cy="33012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4114800" y="2395440"/>
                <a:ext cx="4680" cy="33012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4119480" y="2395440"/>
                <a:ext cx="9720" cy="33012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4129200" y="2395440"/>
                <a:ext cx="1440" cy="33012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4130640" y="2395440"/>
                <a:ext cx="9720" cy="33012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4140360" y="2395440"/>
                <a:ext cx="4680" cy="33012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4145040" y="2395440"/>
                <a:ext cx="1440" cy="33012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4146480" y="2395440"/>
                <a:ext cx="9720" cy="33012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4156200" y="2395440"/>
                <a:ext cx="1440" cy="33012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4157640" y="2395440"/>
                <a:ext cx="9720" cy="33012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4167360" y="2395440"/>
                <a:ext cx="4680" cy="33012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4172040" y="2395440"/>
                <a:ext cx="1440" cy="33012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4173480" y="2395440"/>
                <a:ext cx="11160" cy="3301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4184640" y="2395440"/>
                <a:ext cx="3240" cy="33012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4187880" y="2395440"/>
                <a:ext cx="3240" cy="33012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4191120" y="2395440"/>
                <a:ext cx="7920" cy="33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4199040" y="2395440"/>
                <a:ext cx="4680" cy="33012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4203720" y="2395440"/>
                <a:ext cx="7920" cy="33012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4211640" y="2395440"/>
                <a:ext cx="3240" cy="33012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3514680" y="2395440"/>
                <a:ext cx="700200" cy="3301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04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79720" y="1604880"/>
                <a:ext cx="1533600" cy="68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9720" y="1604880"/>
                <a:ext cx="1533600" cy="68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1" name=""/>
              <p:cNvSpPr/>
              <p:nvPr/>
            </p:nvSpPr>
            <p:spPr>
              <a:xfrm>
                <a:off x="2003400" y="206532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8"/>
                    </a:lnTo>
                    <a:lnTo>
                      <a:pt x="188" y="45"/>
                    </a:lnTo>
                    <a:lnTo>
                      <a:pt x="190" y="50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0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2003400" y="206532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8"/>
                    </a:lnTo>
                    <a:lnTo>
                      <a:pt x="188" y="45"/>
                    </a:lnTo>
                    <a:lnTo>
                      <a:pt x="190" y="50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0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 flipH="1">
                <a:off x="1546200" y="2071800"/>
                <a:ext cx="5745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1536840" y="2065320"/>
                <a:ext cx="142560" cy="10332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90" y="0"/>
                    </a:moveTo>
                    <a:lnTo>
                      <a:pt x="98" y="0"/>
                    </a:lnTo>
                    <a:lnTo>
                      <a:pt x="109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3" y="6"/>
                    </a:lnTo>
                    <a:lnTo>
                      <a:pt x="140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8"/>
                    </a:lnTo>
                    <a:lnTo>
                      <a:pt x="176" y="45"/>
                    </a:lnTo>
                    <a:lnTo>
                      <a:pt x="177" y="50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0"/>
                    </a:lnTo>
                    <a:lnTo>
                      <a:pt x="177" y="77"/>
                    </a:lnTo>
                    <a:lnTo>
                      <a:pt x="176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40" y="117"/>
                    </a:lnTo>
                    <a:lnTo>
                      <a:pt x="133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9" y="128"/>
                    </a:lnTo>
                    <a:lnTo>
                      <a:pt x="98" y="128"/>
                    </a:lnTo>
                    <a:lnTo>
                      <a:pt x="90" y="129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7" y="121"/>
                    </a:lnTo>
                    <a:lnTo>
                      <a:pt x="40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40" y="10"/>
                    </a:lnTo>
                    <a:lnTo>
                      <a:pt x="47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1536840" y="2065320"/>
                <a:ext cx="142560" cy="10332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90" y="0"/>
                    </a:moveTo>
                    <a:lnTo>
                      <a:pt x="98" y="0"/>
                    </a:lnTo>
                    <a:lnTo>
                      <a:pt x="109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3" y="6"/>
                    </a:lnTo>
                    <a:lnTo>
                      <a:pt x="140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8"/>
                    </a:lnTo>
                    <a:lnTo>
                      <a:pt x="176" y="45"/>
                    </a:lnTo>
                    <a:lnTo>
                      <a:pt x="177" y="50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0"/>
                    </a:lnTo>
                    <a:lnTo>
                      <a:pt x="177" y="77"/>
                    </a:lnTo>
                    <a:lnTo>
                      <a:pt x="176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40" y="117"/>
                    </a:lnTo>
                    <a:lnTo>
                      <a:pt x="133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9" y="128"/>
                    </a:lnTo>
                    <a:lnTo>
                      <a:pt x="98" y="128"/>
                    </a:lnTo>
                    <a:lnTo>
                      <a:pt x="90" y="129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7" y="121"/>
                    </a:lnTo>
                    <a:lnTo>
                      <a:pt x="40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40" y="10"/>
                    </a:lnTo>
                    <a:lnTo>
                      <a:pt x="47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9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1878120" y="4354560"/>
                <a:ext cx="161640" cy="122040"/>
              </a:xfrm>
              <a:custGeom>
                <a:avLst/>
                <a:gdLst/>
                <a:ahLst/>
                <a:rect l="l" t="t" r="r" b="b"/>
                <a:pathLst>
                  <a:path w="203" h="154">
                    <a:moveTo>
                      <a:pt x="101" y="0"/>
                    </a:moveTo>
                    <a:lnTo>
                      <a:pt x="111" y="0"/>
                    </a:lnTo>
                    <a:lnTo>
                      <a:pt x="120" y="2"/>
                    </a:lnTo>
                    <a:lnTo>
                      <a:pt x="130" y="3"/>
                    </a:lnTo>
                    <a:lnTo>
                      <a:pt x="141" y="6"/>
                    </a:lnTo>
                    <a:lnTo>
                      <a:pt x="149" y="9"/>
                    </a:lnTo>
                    <a:lnTo>
                      <a:pt x="158" y="13"/>
                    </a:lnTo>
                    <a:lnTo>
                      <a:pt x="165" y="18"/>
                    </a:lnTo>
                    <a:lnTo>
                      <a:pt x="172" y="22"/>
                    </a:lnTo>
                    <a:lnTo>
                      <a:pt x="179" y="27"/>
                    </a:lnTo>
                    <a:lnTo>
                      <a:pt x="184" y="34"/>
                    </a:lnTo>
                    <a:lnTo>
                      <a:pt x="189" y="41"/>
                    </a:lnTo>
                    <a:lnTo>
                      <a:pt x="194" y="47"/>
                    </a:lnTo>
                    <a:lnTo>
                      <a:pt x="198" y="54"/>
                    </a:lnTo>
                    <a:lnTo>
                      <a:pt x="199" y="61"/>
                    </a:lnTo>
                    <a:lnTo>
                      <a:pt x="201" y="69"/>
                    </a:lnTo>
                    <a:lnTo>
                      <a:pt x="203" y="77"/>
                    </a:lnTo>
                    <a:lnTo>
                      <a:pt x="201" y="85"/>
                    </a:lnTo>
                    <a:lnTo>
                      <a:pt x="199" y="93"/>
                    </a:lnTo>
                    <a:lnTo>
                      <a:pt x="198" y="99"/>
                    </a:lnTo>
                    <a:lnTo>
                      <a:pt x="194" y="106"/>
                    </a:lnTo>
                    <a:lnTo>
                      <a:pt x="189" y="113"/>
                    </a:lnTo>
                    <a:lnTo>
                      <a:pt x="184" y="119"/>
                    </a:lnTo>
                    <a:lnTo>
                      <a:pt x="179" y="126"/>
                    </a:lnTo>
                    <a:lnTo>
                      <a:pt x="172" y="132"/>
                    </a:lnTo>
                    <a:lnTo>
                      <a:pt x="165" y="136"/>
                    </a:lnTo>
                    <a:lnTo>
                      <a:pt x="158" y="141"/>
                    </a:lnTo>
                    <a:lnTo>
                      <a:pt x="149" y="145"/>
                    </a:lnTo>
                    <a:lnTo>
                      <a:pt x="141" y="148"/>
                    </a:lnTo>
                    <a:lnTo>
                      <a:pt x="130" y="150"/>
                    </a:lnTo>
                    <a:lnTo>
                      <a:pt x="120" y="152"/>
                    </a:lnTo>
                    <a:lnTo>
                      <a:pt x="111" y="153"/>
                    </a:lnTo>
                    <a:lnTo>
                      <a:pt x="101" y="154"/>
                    </a:lnTo>
                    <a:lnTo>
                      <a:pt x="91" y="153"/>
                    </a:lnTo>
                    <a:lnTo>
                      <a:pt x="80" y="152"/>
                    </a:lnTo>
                    <a:lnTo>
                      <a:pt x="70" y="150"/>
                    </a:lnTo>
                    <a:lnTo>
                      <a:pt x="62" y="148"/>
                    </a:lnTo>
                    <a:lnTo>
                      <a:pt x="51" y="145"/>
                    </a:lnTo>
                    <a:lnTo>
                      <a:pt x="44" y="141"/>
                    </a:lnTo>
                    <a:lnTo>
                      <a:pt x="36" y="136"/>
                    </a:lnTo>
                    <a:lnTo>
                      <a:pt x="29" y="132"/>
                    </a:lnTo>
                    <a:lnTo>
                      <a:pt x="22" y="126"/>
                    </a:lnTo>
                    <a:lnTo>
                      <a:pt x="17" y="119"/>
                    </a:lnTo>
                    <a:lnTo>
                      <a:pt x="12" y="113"/>
                    </a:lnTo>
                    <a:lnTo>
                      <a:pt x="6" y="106"/>
                    </a:lnTo>
                    <a:lnTo>
                      <a:pt x="3" y="99"/>
                    </a:lnTo>
                    <a:lnTo>
                      <a:pt x="1" y="93"/>
                    </a:lnTo>
                    <a:lnTo>
                      <a:pt x="0" y="85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17" y="34"/>
                    </a:lnTo>
                    <a:lnTo>
                      <a:pt x="22" y="27"/>
                    </a:lnTo>
                    <a:lnTo>
                      <a:pt x="29" y="22"/>
                    </a:lnTo>
                    <a:lnTo>
                      <a:pt x="36" y="18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62" y="6"/>
                    </a:lnTo>
                    <a:lnTo>
                      <a:pt x="70" y="3"/>
                    </a:lnTo>
                    <a:lnTo>
                      <a:pt x="80" y="2"/>
                    </a:lnTo>
                    <a:lnTo>
                      <a:pt x="9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1878120" y="4354560"/>
                <a:ext cx="161640" cy="122040"/>
              </a:xfrm>
              <a:custGeom>
                <a:avLst/>
                <a:gdLst/>
                <a:ahLst/>
                <a:rect l="l" t="t" r="r" b="b"/>
                <a:pathLst>
                  <a:path w="203" h="154">
                    <a:moveTo>
                      <a:pt x="101" y="0"/>
                    </a:moveTo>
                    <a:lnTo>
                      <a:pt x="111" y="0"/>
                    </a:lnTo>
                    <a:lnTo>
                      <a:pt x="120" y="2"/>
                    </a:lnTo>
                    <a:lnTo>
                      <a:pt x="130" y="3"/>
                    </a:lnTo>
                    <a:lnTo>
                      <a:pt x="141" y="6"/>
                    </a:lnTo>
                    <a:lnTo>
                      <a:pt x="149" y="9"/>
                    </a:lnTo>
                    <a:lnTo>
                      <a:pt x="158" y="13"/>
                    </a:lnTo>
                    <a:lnTo>
                      <a:pt x="165" y="18"/>
                    </a:lnTo>
                    <a:lnTo>
                      <a:pt x="172" y="22"/>
                    </a:lnTo>
                    <a:lnTo>
                      <a:pt x="179" y="27"/>
                    </a:lnTo>
                    <a:lnTo>
                      <a:pt x="184" y="34"/>
                    </a:lnTo>
                    <a:lnTo>
                      <a:pt x="189" y="41"/>
                    </a:lnTo>
                    <a:lnTo>
                      <a:pt x="194" y="47"/>
                    </a:lnTo>
                    <a:lnTo>
                      <a:pt x="198" y="54"/>
                    </a:lnTo>
                    <a:lnTo>
                      <a:pt x="199" y="61"/>
                    </a:lnTo>
                    <a:lnTo>
                      <a:pt x="201" y="69"/>
                    </a:lnTo>
                    <a:lnTo>
                      <a:pt x="203" y="77"/>
                    </a:lnTo>
                    <a:lnTo>
                      <a:pt x="201" y="85"/>
                    </a:lnTo>
                    <a:lnTo>
                      <a:pt x="199" y="93"/>
                    </a:lnTo>
                    <a:lnTo>
                      <a:pt x="198" y="99"/>
                    </a:lnTo>
                    <a:lnTo>
                      <a:pt x="194" y="106"/>
                    </a:lnTo>
                    <a:lnTo>
                      <a:pt x="189" y="113"/>
                    </a:lnTo>
                    <a:lnTo>
                      <a:pt x="184" y="119"/>
                    </a:lnTo>
                    <a:lnTo>
                      <a:pt x="179" y="126"/>
                    </a:lnTo>
                    <a:lnTo>
                      <a:pt x="172" y="132"/>
                    </a:lnTo>
                    <a:lnTo>
                      <a:pt x="165" y="136"/>
                    </a:lnTo>
                    <a:lnTo>
                      <a:pt x="158" y="141"/>
                    </a:lnTo>
                    <a:lnTo>
                      <a:pt x="149" y="145"/>
                    </a:lnTo>
                    <a:lnTo>
                      <a:pt x="141" y="148"/>
                    </a:lnTo>
                    <a:lnTo>
                      <a:pt x="130" y="150"/>
                    </a:lnTo>
                    <a:lnTo>
                      <a:pt x="120" y="152"/>
                    </a:lnTo>
                    <a:lnTo>
                      <a:pt x="111" y="153"/>
                    </a:lnTo>
                    <a:lnTo>
                      <a:pt x="101" y="154"/>
                    </a:lnTo>
                    <a:lnTo>
                      <a:pt x="91" y="153"/>
                    </a:lnTo>
                    <a:lnTo>
                      <a:pt x="80" y="152"/>
                    </a:lnTo>
                    <a:lnTo>
                      <a:pt x="70" y="150"/>
                    </a:lnTo>
                    <a:lnTo>
                      <a:pt x="62" y="148"/>
                    </a:lnTo>
                    <a:lnTo>
                      <a:pt x="51" y="145"/>
                    </a:lnTo>
                    <a:lnTo>
                      <a:pt x="44" y="141"/>
                    </a:lnTo>
                    <a:lnTo>
                      <a:pt x="36" y="136"/>
                    </a:lnTo>
                    <a:lnTo>
                      <a:pt x="29" y="132"/>
                    </a:lnTo>
                    <a:lnTo>
                      <a:pt x="22" y="126"/>
                    </a:lnTo>
                    <a:lnTo>
                      <a:pt x="17" y="119"/>
                    </a:lnTo>
                    <a:lnTo>
                      <a:pt x="12" y="113"/>
                    </a:lnTo>
                    <a:lnTo>
                      <a:pt x="6" y="106"/>
                    </a:lnTo>
                    <a:lnTo>
                      <a:pt x="3" y="99"/>
                    </a:lnTo>
                    <a:lnTo>
                      <a:pt x="1" y="93"/>
                    </a:lnTo>
                    <a:lnTo>
                      <a:pt x="0" y="85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17" y="34"/>
                    </a:lnTo>
                    <a:lnTo>
                      <a:pt x="22" y="27"/>
                    </a:lnTo>
                    <a:lnTo>
                      <a:pt x="29" y="22"/>
                    </a:lnTo>
                    <a:lnTo>
                      <a:pt x="36" y="18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62" y="6"/>
                    </a:lnTo>
                    <a:lnTo>
                      <a:pt x="70" y="3"/>
                    </a:lnTo>
                    <a:lnTo>
                      <a:pt x="80" y="2"/>
                    </a:lnTo>
                    <a:lnTo>
                      <a:pt x="91" y="0"/>
                    </a:lnTo>
                    <a:lnTo>
                      <a:pt x="101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 flipH="1">
                <a:off x="1418760" y="4367160"/>
                <a:ext cx="57492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1392120" y="4367160"/>
                <a:ext cx="179640" cy="109440"/>
              </a:xfrm>
              <a:custGeom>
                <a:avLst/>
                <a:gdLst/>
                <a:ahLst/>
                <a:rect l="l" t="t" r="r" b="b"/>
                <a:pathLst>
                  <a:path w="227" h="137">
                    <a:moveTo>
                      <a:pt x="113" y="0"/>
                    </a:moveTo>
                    <a:lnTo>
                      <a:pt x="124" y="0"/>
                    </a:lnTo>
                    <a:lnTo>
                      <a:pt x="136" y="1"/>
                    </a:lnTo>
                    <a:lnTo>
                      <a:pt x="146" y="2"/>
                    </a:lnTo>
                    <a:lnTo>
                      <a:pt x="156" y="5"/>
                    </a:lnTo>
                    <a:lnTo>
                      <a:pt x="167" y="8"/>
                    </a:lnTo>
                    <a:lnTo>
                      <a:pt x="175" y="10"/>
                    </a:lnTo>
                    <a:lnTo>
                      <a:pt x="186" y="14"/>
                    </a:lnTo>
                    <a:lnTo>
                      <a:pt x="192" y="20"/>
                    </a:lnTo>
                    <a:lnTo>
                      <a:pt x="199" y="24"/>
                    </a:lnTo>
                    <a:lnTo>
                      <a:pt x="206" y="29"/>
                    </a:lnTo>
                    <a:lnTo>
                      <a:pt x="213" y="36"/>
                    </a:lnTo>
                    <a:lnTo>
                      <a:pt x="217" y="41"/>
                    </a:lnTo>
                    <a:lnTo>
                      <a:pt x="222" y="48"/>
                    </a:lnTo>
                    <a:lnTo>
                      <a:pt x="223" y="54"/>
                    </a:lnTo>
                    <a:lnTo>
                      <a:pt x="225" y="61"/>
                    </a:lnTo>
                    <a:lnTo>
                      <a:pt x="227" y="68"/>
                    </a:lnTo>
                    <a:lnTo>
                      <a:pt x="225" y="74"/>
                    </a:lnTo>
                    <a:lnTo>
                      <a:pt x="223" y="81"/>
                    </a:lnTo>
                    <a:lnTo>
                      <a:pt x="222" y="88"/>
                    </a:lnTo>
                    <a:lnTo>
                      <a:pt x="217" y="94"/>
                    </a:lnTo>
                    <a:lnTo>
                      <a:pt x="213" y="101"/>
                    </a:lnTo>
                    <a:lnTo>
                      <a:pt x="206" y="106"/>
                    </a:lnTo>
                    <a:lnTo>
                      <a:pt x="199" y="112"/>
                    </a:lnTo>
                    <a:lnTo>
                      <a:pt x="192" y="116"/>
                    </a:lnTo>
                    <a:lnTo>
                      <a:pt x="186" y="121"/>
                    </a:lnTo>
                    <a:lnTo>
                      <a:pt x="175" y="125"/>
                    </a:lnTo>
                    <a:lnTo>
                      <a:pt x="167" y="128"/>
                    </a:lnTo>
                    <a:lnTo>
                      <a:pt x="156" y="131"/>
                    </a:lnTo>
                    <a:lnTo>
                      <a:pt x="146" y="133"/>
                    </a:lnTo>
                    <a:lnTo>
                      <a:pt x="136" y="135"/>
                    </a:lnTo>
                    <a:lnTo>
                      <a:pt x="124" y="136"/>
                    </a:lnTo>
                    <a:lnTo>
                      <a:pt x="113" y="137"/>
                    </a:lnTo>
                    <a:lnTo>
                      <a:pt x="101" y="136"/>
                    </a:lnTo>
                    <a:lnTo>
                      <a:pt x="89" y="135"/>
                    </a:lnTo>
                    <a:lnTo>
                      <a:pt x="79" y="133"/>
                    </a:lnTo>
                    <a:lnTo>
                      <a:pt x="68" y="131"/>
                    </a:lnTo>
                    <a:lnTo>
                      <a:pt x="58" y="128"/>
                    </a:lnTo>
                    <a:lnTo>
                      <a:pt x="50" y="125"/>
                    </a:lnTo>
                    <a:lnTo>
                      <a:pt x="41" y="121"/>
                    </a:lnTo>
                    <a:lnTo>
                      <a:pt x="32" y="116"/>
                    </a:lnTo>
                    <a:lnTo>
                      <a:pt x="25" y="112"/>
                    </a:lnTo>
                    <a:lnTo>
                      <a:pt x="19" y="106"/>
                    </a:lnTo>
                    <a:lnTo>
                      <a:pt x="13" y="101"/>
                    </a:lnTo>
                    <a:lnTo>
                      <a:pt x="8" y="94"/>
                    </a:lnTo>
                    <a:lnTo>
                      <a:pt x="3" y="88"/>
                    </a:lnTo>
                    <a:lnTo>
                      <a:pt x="1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3" y="48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9" y="29"/>
                    </a:lnTo>
                    <a:lnTo>
                      <a:pt x="25" y="24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0" y="10"/>
                    </a:lnTo>
                    <a:lnTo>
                      <a:pt x="58" y="8"/>
                    </a:lnTo>
                    <a:lnTo>
                      <a:pt x="68" y="5"/>
                    </a:lnTo>
                    <a:lnTo>
                      <a:pt x="79" y="2"/>
                    </a:lnTo>
                    <a:lnTo>
                      <a:pt x="89" y="1"/>
                    </a:lnTo>
                    <a:lnTo>
                      <a:pt x="101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1392120" y="4367160"/>
                <a:ext cx="179640" cy="109440"/>
              </a:xfrm>
              <a:custGeom>
                <a:avLst/>
                <a:gdLst/>
                <a:ahLst/>
                <a:rect l="l" t="t" r="r" b="b"/>
                <a:pathLst>
                  <a:path w="227" h="137">
                    <a:moveTo>
                      <a:pt x="113" y="0"/>
                    </a:moveTo>
                    <a:lnTo>
                      <a:pt x="124" y="0"/>
                    </a:lnTo>
                    <a:lnTo>
                      <a:pt x="136" y="1"/>
                    </a:lnTo>
                    <a:lnTo>
                      <a:pt x="146" y="2"/>
                    </a:lnTo>
                    <a:lnTo>
                      <a:pt x="156" y="5"/>
                    </a:lnTo>
                    <a:lnTo>
                      <a:pt x="167" y="8"/>
                    </a:lnTo>
                    <a:lnTo>
                      <a:pt x="175" y="10"/>
                    </a:lnTo>
                    <a:lnTo>
                      <a:pt x="186" y="14"/>
                    </a:lnTo>
                    <a:lnTo>
                      <a:pt x="192" y="20"/>
                    </a:lnTo>
                    <a:lnTo>
                      <a:pt x="199" y="24"/>
                    </a:lnTo>
                    <a:lnTo>
                      <a:pt x="206" y="29"/>
                    </a:lnTo>
                    <a:lnTo>
                      <a:pt x="213" y="36"/>
                    </a:lnTo>
                    <a:lnTo>
                      <a:pt x="217" y="41"/>
                    </a:lnTo>
                    <a:lnTo>
                      <a:pt x="222" y="48"/>
                    </a:lnTo>
                    <a:lnTo>
                      <a:pt x="223" y="54"/>
                    </a:lnTo>
                    <a:lnTo>
                      <a:pt x="225" y="61"/>
                    </a:lnTo>
                    <a:lnTo>
                      <a:pt x="227" y="68"/>
                    </a:lnTo>
                    <a:lnTo>
                      <a:pt x="225" y="74"/>
                    </a:lnTo>
                    <a:lnTo>
                      <a:pt x="223" y="81"/>
                    </a:lnTo>
                    <a:lnTo>
                      <a:pt x="222" y="88"/>
                    </a:lnTo>
                    <a:lnTo>
                      <a:pt x="217" y="94"/>
                    </a:lnTo>
                    <a:lnTo>
                      <a:pt x="213" y="101"/>
                    </a:lnTo>
                    <a:lnTo>
                      <a:pt x="206" y="106"/>
                    </a:lnTo>
                    <a:lnTo>
                      <a:pt x="199" y="112"/>
                    </a:lnTo>
                    <a:lnTo>
                      <a:pt x="192" y="116"/>
                    </a:lnTo>
                    <a:lnTo>
                      <a:pt x="186" y="121"/>
                    </a:lnTo>
                    <a:lnTo>
                      <a:pt x="175" y="125"/>
                    </a:lnTo>
                    <a:lnTo>
                      <a:pt x="167" y="128"/>
                    </a:lnTo>
                    <a:lnTo>
                      <a:pt x="156" y="131"/>
                    </a:lnTo>
                    <a:lnTo>
                      <a:pt x="146" y="133"/>
                    </a:lnTo>
                    <a:lnTo>
                      <a:pt x="136" y="135"/>
                    </a:lnTo>
                    <a:lnTo>
                      <a:pt x="124" y="136"/>
                    </a:lnTo>
                    <a:lnTo>
                      <a:pt x="113" y="137"/>
                    </a:lnTo>
                    <a:lnTo>
                      <a:pt x="101" y="136"/>
                    </a:lnTo>
                    <a:lnTo>
                      <a:pt x="89" y="135"/>
                    </a:lnTo>
                    <a:lnTo>
                      <a:pt x="79" y="133"/>
                    </a:lnTo>
                    <a:lnTo>
                      <a:pt x="68" y="131"/>
                    </a:lnTo>
                    <a:lnTo>
                      <a:pt x="58" y="128"/>
                    </a:lnTo>
                    <a:lnTo>
                      <a:pt x="50" y="125"/>
                    </a:lnTo>
                    <a:lnTo>
                      <a:pt x="41" y="121"/>
                    </a:lnTo>
                    <a:lnTo>
                      <a:pt x="32" y="116"/>
                    </a:lnTo>
                    <a:lnTo>
                      <a:pt x="25" y="112"/>
                    </a:lnTo>
                    <a:lnTo>
                      <a:pt x="19" y="106"/>
                    </a:lnTo>
                    <a:lnTo>
                      <a:pt x="13" y="101"/>
                    </a:lnTo>
                    <a:lnTo>
                      <a:pt x="8" y="94"/>
                    </a:lnTo>
                    <a:lnTo>
                      <a:pt x="3" y="88"/>
                    </a:lnTo>
                    <a:lnTo>
                      <a:pt x="1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3" y="48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9" y="29"/>
                    </a:lnTo>
                    <a:lnTo>
                      <a:pt x="25" y="24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0" y="10"/>
                    </a:lnTo>
                    <a:lnTo>
                      <a:pt x="58" y="8"/>
                    </a:lnTo>
                    <a:lnTo>
                      <a:pt x="68" y="5"/>
                    </a:lnTo>
                    <a:lnTo>
                      <a:pt x="79" y="2"/>
                    </a:lnTo>
                    <a:lnTo>
                      <a:pt x="89" y="1"/>
                    </a:lnTo>
                    <a:lnTo>
                      <a:pt x="101" y="0"/>
                    </a:lnTo>
                    <a:lnTo>
                      <a:pt x="1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1805040" y="4513320"/>
                <a:ext cx="88092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1805040" y="4514760"/>
                <a:ext cx="880920" cy="3240"/>
              </a:xfrm>
              <a:prstGeom prst="rect">
                <a:avLst/>
              </a:prstGeom>
              <a:solidFill>
                <a:srgbClr val="35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1805040" y="4518000"/>
                <a:ext cx="880920" cy="1440"/>
              </a:xfrm>
              <a:prstGeom prst="rect">
                <a:avLst/>
              </a:prstGeom>
              <a:solidFill>
                <a:srgbClr val="38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1805040" y="4519440"/>
                <a:ext cx="880920" cy="180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1805040" y="4521240"/>
                <a:ext cx="880920" cy="1440"/>
              </a:xfrm>
              <a:prstGeom prst="rect">
                <a:avLst/>
              </a:prstGeom>
              <a:solidFill>
                <a:srgbClr val="3c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1805040" y="4522680"/>
                <a:ext cx="880920" cy="1800"/>
              </a:xfrm>
              <a:prstGeom prst="rect">
                <a:avLst/>
              </a:prstGeom>
              <a:solidFill>
                <a:srgbClr val="3e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1805040" y="4524480"/>
                <a:ext cx="880920" cy="1440"/>
              </a:xfrm>
              <a:prstGeom prst="rect">
                <a:avLst/>
              </a:prstGeom>
              <a:solidFill>
                <a:srgbClr val="40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1805040" y="4525920"/>
                <a:ext cx="880920" cy="1800"/>
              </a:xfrm>
              <a:prstGeom prst="rect">
                <a:avLst/>
              </a:prstGeom>
              <a:solidFill>
                <a:srgbClr val="43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1805040" y="4527720"/>
                <a:ext cx="880920" cy="1440"/>
              </a:xfrm>
              <a:prstGeom prst="rect">
                <a:avLst/>
              </a:prstGeom>
              <a:solidFill>
                <a:srgbClr val="45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1805040" y="4529160"/>
                <a:ext cx="880920" cy="1440"/>
              </a:xfrm>
              <a:prstGeom prst="rect">
                <a:avLst/>
              </a:prstGeom>
              <a:solidFill>
                <a:srgbClr val="47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1805040" y="4530600"/>
                <a:ext cx="880920" cy="180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1805040" y="4532400"/>
                <a:ext cx="880920" cy="1440"/>
              </a:xfrm>
              <a:prstGeom prst="rect">
                <a:avLst/>
              </a:pr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1805040" y="4533840"/>
                <a:ext cx="880920" cy="1800"/>
              </a:xfrm>
              <a:prstGeom prst="rect">
                <a:avLst/>
              </a:prstGeom>
              <a:solidFill>
                <a:srgbClr val="4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1805040" y="4535640"/>
                <a:ext cx="880920" cy="1440"/>
              </a:xfrm>
              <a:prstGeom prst="rect">
                <a:avLst/>
              </a:prstGeom>
              <a:solidFill>
                <a:srgbClr val="51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1805040" y="4537080"/>
                <a:ext cx="880920" cy="1440"/>
              </a:xfrm>
              <a:prstGeom prst="rect">
                <a:avLst/>
              </a:prstGeom>
              <a:solidFill>
                <a:srgbClr val="547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1805040" y="4538520"/>
                <a:ext cx="880920" cy="1800"/>
              </a:xfrm>
              <a:prstGeom prst="rect">
                <a:avLst/>
              </a:prstGeom>
              <a:solidFill>
                <a:srgbClr val="567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1805040" y="4540320"/>
                <a:ext cx="880920" cy="1440"/>
              </a:xfrm>
              <a:prstGeom prst="rect">
                <a:avLst/>
              </a:prstGeom>
              <a:solidFill>
                <a:srgbClr val="5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1805040" y="4541760"/>
                <a:ext cx="880920" cy="1800"/>
              </a:xfrm>
              <a:prstGeom prst="rect">
                <a:avLst/>
              </a:prstGeom>
              <a:solidFill>
                <a:srgbClr val="5c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1805040" y="4543560"/>
                <a:ext cx="880920" cy="1440"/>
              </a:xfrm>
              <a:prstGeom prst="rect">
                <a:avLst/>
              </a:prstGeom>
              <a:solidFill>
                <a:srgbClr val="5f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1805040" y="4545000"/>
                <a:ext cx="880920" cy="1440"/>
              </a:xfrm>
              <a:prstGeom prst="rect">
                <a:avLst/>
              </a:prstGeom>
              <a:solidFill>
                <a:srgbClr val="61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1805040" y="4546440"/>
                <a:ext cx="880920" cy="1800"/>
              </a:xfrm>
              <a:prstGeom prst="rect">
                <a:avLst/>
              </a:prstGeom>
              <a:solidFill>
                <a:srgbClr val="65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1805040" y="4548240"/>
                <a:ext cx="880920" cy="1440"/>
              </a:xfrm>
              <a:prstGeom prst="rect">
                <a:avLst/>
              </a:prstGeom>
              <a:solidFill>
                <a:srgbClr val="678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1805040" y="4549680"/>
                <a:ext cx="880920" cy="1800"/>
              </a:xfrm>
              <a:prstGeom prst="rect">
                <a:avLst/>
              </a:prstGeom>
              <a:solidFill>
                <a:srgbClr val="6a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1805040" y="4551480"/>
                <a:ext cx="880920" cy="1440"/>
              </a:xfrm>
              <a:prstGeom prst="rect">
                <a:avLst/>
              </a:prstGeom>
              <a:solidFill>
                <a:srgbClr val="6c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1805040" y="4552920"/>
                <a:ext cx="880920" cy="1440"/>
              </a:xfrm>
              <a:prstGeom prst="rect">
                <a:avLst/>
              </a:prstGeom>
              <a:solidFill>
                <a:srgbClr val="6e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1805040" y="4552920"/>
                <a:ext cx="880920" cy="1440"/>
              </a:xfrm>
              <a:prstGeom prst="rect">
                <a:avLst/>
              </a:prstGeom>
              <a:solidFill>
                <a:srgbClr val="70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1805040" y="4554360"/>
                <a:ext cx="880920" cy="1800"/>
              </a:xfrm>
              <a:prstGeom prst="rect">
                <a:avLst/>
              </a:prstGeom>
              <a:solidFill>
                <a:srgbClr val="72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1805040" y="4556160"/>
                <a:ext cx="880920" cy="1440"/>
              </a:xfrm>
              <a:prstGeom prst="rect">
                <a:avLst/>
              </a:prstGeom>
              <a:solidFill>
                <a:srgbClr val="76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1805040" y="4557600"/>
                <a:ext cx="880920" cy="1800"/>
              </a:xfrm>
              <a:prstGeom prst="rect">
                <a:avLst/>
              </a:prstGeom>
              <a:solidFill>
                <a:srgbClr val="78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1805040" y="4559400"/>
                <a:ext cx="880920" cy="1440"/>
              </a:xfrm>
              <a:prstGeom prst="rect">
                <a:avLst/>
              </a:prstGeom>
              <a:solidFill>
                <a:srgbClr val="7a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1805040" y="4559400"/>
                <a:ext cx="880920" cy="1440"/>
              </a:xfrm>
              <a:prstGeom prst="rect">
                <a:avLst/>
              </a:prstGeom>
              <a:solidFill>
                <a:srgbClr val="7c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1805040" y="4560840"/>
                <a:ext cx="880920" cy="180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1805040" y="4562640"/>
                <a:ext cx="880920" cy="1440"/>
              </a:xfrm>
              <a:prstGeom prst="rect">
                <a:avLst/>
              </a:prstGeom>
              <a:solidFill>
                <a:srgbClr val="80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1805040" y="4562640"/>
                <a:ext cx="880920" cy="1440"/>
              </a:xfrm>
              <a:prstGeom prst="rect">
                <a:avLst/>
              </a:prstGeom>
              <a:solidFill>
                <a:srgbClr val="82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1805040" y="4564080"/>
                <a:ext cx="880920" cy="1440"/>
              </a:xfrm>
              <a:prstGeom prst="rect">
                <a:avLst/>
              </a:prstGeom>
              <a:solidFill>
                <a:srgbClr val="849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1805040" y="4565520"/>
                <a:ext cx="880920" cy="1800"/>
              </a:xfrm>
              <a:prstGeom prst="rect">
                <a:avLst/>
              </a:prstGeom>
              <a:solidFill>
                <a:srgbClr val="8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1805040" y="4565520"/>
                <a:ext cx="880920" cy="1800"/>
              </a:xfrm>
              <a:prstGeom prst="rect">
                <a:avLst/>
              </a:prstGeom>
              <a:solidFill>
                <a:srgbClr val="88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1805040" y="4567320"/>
                <a:ext cx="880920" cy="1440"/>
              </a:xfrm>
              <a:prstGeom prst="rect">
                <a:avLst/>
              </a:prstGeom>
              <a:solidFill>
                <a:srgbClr val="8a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1805040" y="4568760"/>
                <a:ext cx="880920" cy="1800"/>
              </a:xfrm>
              <a:prstGeom prst="rect">
                <a:avLst/>
              </a:prstGeom>
              <a:solidFill>
                <a:srgbClr val="8c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1805040" y="4568760"/>
                <a:ext cx="880920" cy="1800"/>
              </a:xfrm>
              <a:prstGeom prst="rect">
                <a:avLst/>
              </a:prstGeom>
              <a:solidFill>
                <a:srgbClr val="8e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1805040" y="4570560"/>
                <a:ext cx="880920" cy="1440"/>
              </a:xfrm>
              <a:prstGeom prst="rect">
                <a:avLst/>
              </a:prstGeom>
              <a:solidFill>
                <a:srgbClr val="9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1805040" y="4572000"/>
                <a:ext cx="880920" cy="1440"/>
              </a:xfrm>
              <a:prstGeom prst="rect">
                <a:avLst/>
              </a:prstGeom>
              <a:solidFill>
                <a:srgbClr val="9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1805040" y="4572000"/>
                <a:ext cx="88092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1805040" y="4573440"/>
                <a:ext cx="880920" cy="1800"/>
              </a:xfrm>
              <a:prstGeom prst="rect">
                <a:avLst/>
              </a:prstGeom>
              <a:solidFill>
                <a:srgbClr val="96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1805040" y="4575240"/>
                <a:ext cx="880920" cy="1440"/>
              </a:xfrm>
              <a:prstGeom prst="rect">
                <a:avLst/>
              </a:prstGeom>
              <a:solidFill>
                <a:srgbClr val="98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1805040" y="4575240"/>
                <a:ext cx="880920" cy="1440"/>
              </a:xfrm>
              <a:prstGeom prst="rect">
                <a:avLst/>
              </a:prstGeom>
              <a:solidFill>
                <a:srgbClr val="9a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1805040" y="4576680"/>
                <a:ext cx="880920" cy="1800"/>
              </a:xfrm>
              <a:prstGeom prst="rect">
                <a:avLst/>
              </a:prstGeom>
              <a:solidFill>
                <a:srgbClr val="9c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1805040" y="4578480"/>
                <a:ext cx="880920" cy="1440"/>
              </a:xfrm>
              <a:prstGeom prst="rect">
                <a:avLst/>
              </a:prstGeom>
              <a:solidFill>
                <a:srgbClr val="9e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1805040" y="4578480"/>
                <a:ext cx="880920" cy="1440"/>
              </a:xfrm>
              <a:prstGeom prst="rect">
                <a:avLst/>
              </a:prstGeom>
              <a:solidFill>
                <a:srgbClr val="a0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1805040" y="4579920"/>
                <a:ext cx="880920" cy="1440"/>
              </a:xfrm>
              <a:prstGeom prst="rect">
                <a:avLst/>
              </a:prstGeom>
              <a:solidFill>
                <a:srgbClr val="a2a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1805040" y="4581360"/>
                <a:ext cx="880920" cy="1800"/>
              </a:xfrm>
              <a:prstGeom prst="rect">
                <a:avLst/>
              </a:prstGeom>
              <a:solidFill>
                <a:srgbClr val="a4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1805040" y="4581360"/>
                <a:ext cx="880920" cy="3240"/>
              </a:xfrm>
              <a:prstGeom prst="rect">
                <a:avLst/>
              </a:prstGeom>
              <a:solidFill>
                <a:srgbClr val="a6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1805040" y="4584600"/>
                <a:ext cx="880920" cy="1800"/>
              </a:xfrm>
              <a:prstGeom prst="rect">
                <a:avLst/>
              </a:prstGeom>
              <a:solidFill>
                <a:srgbClr val="aa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1805040" y="4584600"/>
                <a:ext cx="880920" cy="3240"/>
              </a:xfrm>
              <a:prstGeom prst="rect">
                <a:avLst/>
              </a:prstGeom>
              <a:solidFill>
                <a:srgbClr val="acb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1805040" y="4587840"/>
                <a:ext cx="880920" cy="1800"/>
              </a:xfrm>
              <a:prstGeom prst="rect">
                <a:avLst/>
              </a:prstGeom>
              <a:solidFill>
                <a:srgbClr val="af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1805040" y="4587840"/>
                <a:ext cx="880920" cy="1800"/>
              </a:xfrm>
              <a:prstGeom prst="rect">
                <a:avLst/>
              </a:prstGeom>
              <a:solidFill>
                <a:srgbClr val="b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1805040" y="4589640"/>
                <a:ext cx="880920" cy="1440"/>
              </a:xfrm>
              <a:prstGeom prst="rect">
                <a:avLst/>
              </a:prstGeom>
              <a:solidFill>
                <a:srgbClr val="b3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1805040" y="4591080"/>
                <a:ext cx="880920" cy="1440"/>
              </a:xfrm>
              <a:prstGeom prst="rect">
                <a:avLst/>
              </a:prstGeom>
              <a:solidFill>
                <a:srgbClr val="b5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1805040" y="4591080"/>
                <a:ext cx="880920" cy="3240"/>
              </a:xfrm>
              <a:prstGeom prst="rect">
                <a:avLst/>
              </a:prstGeom>
              <a:solidFill>
                <a:srgbClr val="b7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1805040" y="4594320"/>
                <a:ext cx="880920" cy="1440"/>
              </a:xfrm>
              <a:prstGeom prst="rect">
                <a:avLst/>
              </a:prstGeom>
              <a:solidFill>
                <a:srgbClr val="ba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1805040" y="459432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1805040" y="4595760"/>
                <a:ext cx="880920" cy="1800"/>
              </a:xfrm>
              <a:prstGeom prst="rect">
                <a:avLst/>
              </a:prstGeom>
              <a:solidFill>
                <a:srgbClr val="be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1805040" y="4597560"/>
                <a:ext cx="880920" cy="1440"/>
              </a:xfrm>
              <a:prstGeom prst="rect">
                <a:avLst/>
              </a:prstGeom>
              <a:solidFill>
                <a:srgbClr val="c0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1805040" y="4597560"/>
                <a:ext cx="880920" cy="2880"/>
              </a:xfrm>
              <a:prstGeom prst="rect">
                <a:avLst/>
              </a:prstGeom>
              <a:solidFill>
                <a:srgbClr val="c2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1805040" y="4600440"/>
                <a:ext cx="880920" cy="1800"/>
              </a:xfrm>
              <a:prstGeom prst="rect">
                <a:avLst/>
              </a:prstGeom>
              <a:solidFill>
                <a:srgbClr val="c5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1805040" y="4600440"/>
                <a:ext cx="880920" cy="32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1805040" y="4603680"/>
                <a:ext cx="880920" cy="1800"/>
              </a:xfrm>
              <a:prstGeom prst="rect">
                <a:avLst/>
              </a:prstGeom>
              <a:solidFill>
                <a:srgbClr val="c9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1805040" y="460548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1805040" y="4606920"/>
                <a:ext cx="880920" cy="1440"/>
              </a:xfrm>
              <a:prstGeom prst="rect">
                <a:avLst/>
              </a:prstGeom>
              <a:solidFill>
                <a:srgbClr val="ce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1805040" y="4608360"/>
                <a:ext cx="880920" cy="1800"/>
              </a:xfrm>
              <a:prstGeom prst="rect">
                <a:avLst/>
              </a:prstGeom>
              <a:solidFill>
                <a:srgbClr val="d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1805040" y="4610160"/>
                <a:ext cx="880920" cy="1440"/>
              </a:xfrm>
              <a:prstGeom prst="rect">
                <a:avLst/>
              </a:prstGeom>
              <a:solidFill>
                <a:srgbClr val="d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1805040" y="4611600"/>
                <a:ext cx="880920" cy="1800"/>
              </a:xfrm>
              <a:prstGeom prst="rect">
                <a:avLst/>
              </a:prstGeom>
              <a:solidFill>
                <a:srgbClr val="d5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1805040" y="4613400"/>
                <a:ext cx="880920" cy="1440"/>
              </a:xfrm>
              <a:prstGeom prst="rect">
                <a:avLst/>
              </a:prstGeom>
              <a:solidFill>
                <a:srgbClr val="d7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1805040" y="4614840"/>
                <a:ext cx="880920" cy="3240"/>
              </a:xfrm>
              <a:prstGeom prst="rect">
                <a:avLst/>
              </a:prstGeom>
              <a:solidFill>
                <a:srgbClr val="da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1805040" y="4618080"/>
                <a:ext cx="880920" cy="1440"/>
              </a:xfrm>
              <a:prstGeom prst="rect">
                <a:avLst/>
              </a:prstGeom>
              <a:solidFill>
                <a:srgbClr val="dc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1805040" y="4619520"/>
                <a:ext cx="880920" cy="1800"/>
              </a:xfrm>
              <a:prstGeom prst="rect">
                <a:avLst/>
              </a:prstGeom>
              <a:solidFill>
                <a:srgbClr val="df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1805040" y="4621320"/>
                <a:ext cx="880920" cy="32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1805040" y="4624560"/>
                <a:ext cx="880920" cy="144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1805040" y="4626000"/>
                <a:ext cx="880920" cy="144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1805040" y="4627440"/>
                <a:ext cx="880920" cy="3240"/>
              </a:xfrm>
              <a:prstGeom prst="rect">
                <a:avLst/>
              </a:prstGeom>
              <a:solidFill>
                <a:srgbClr val="e7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1805040" y="4630680"/>
                <a:ext cx="880920" cy="180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1805040" y="4632480"/>
                <a:ext cx="880920" cy="288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1805040" y="4635360"/>
                <a:ext cx="880920" cy="1800"/>
              </a:xfrm>
              <a:prstGeom prst="rect">
                <a:avLst/>
              </a:prstGeom>
              <a:solidFill>
                <a:srgbClr val="ed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1805040" y="4637160"/>
                <a:ext cx="880920" cy="324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1805040" y="4640400"/>
                <a:ext cx="880920" cy="2880"/>
              </a:xfrm>
              <a:prstGeom prst="rect">
                <a:avLst/>
              </a:prstGeom>
              <a:solidFill>
                <a:srgbClr val="f1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1805040" y="4643280"/>
                <a:ext cx="880920" cy="32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1805040" y="4646520"/>
                <a:ext cx="880920" cy="3240"/>
              </a:xfrm>
              <a:prstGeom prst="rect">
                <a:avLst/>
              </a:prstGeom>
              <a:solidFill>
                <a:srgbClr val="f5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1805040" y="4649760"/>
                <a:ext cx="880920" cy="4680"/>
              </a:xfrm>
              <a:prstGeom prst="rect">
                <a:avLst/>
              </a:prstGeom>
              <a:solidFill>
                <a:srgbClr val="f7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1805040" y="4654440"/>
                <a:ext cx="880920" cy="324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1805040" y="4657680"/>
                <a:ext cx="880920" cy="4680"/>
              </a:xfrm>
              <a:prstGeom prst="rect">
                <a:avLst/>
              </a:prstGeom>
              <a:solidFill>
                <a:srgbClr val="fa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1805040" y="4662360"/>
                <a:ext cx="880920" cy="648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1805040" y="4668840"/>
                <a:ext cx="880920" cy="2052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1805040" y="4689360"/>
                <a:ext cx="880920" cy="5040"/>
              </a:xfrm>
              <a:prstGeom prst="rect">
                <a:avLst/>
              </a:prstGeom>
              <a:solidFill>
                <a:srgbClr val="fc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1805040" y="4694400"/>
                <a:ext cx="880920" cy="468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1805040" y="4699080"/>
                <a:ext cx="880920" cy="4680"/>
              </a:xfrm>
              <a:prstGeom prst="rect">
                <a:avLst/>
              </a:prstGeom>
              <a:solidFill>
                <a:srgbClr val="f9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1805040" y="4703760"/>
                <a:ext cx="880920" cy="1440"/>
              </a:xfrm>
              <a:prstGeom prst="rect">
                <a:avLst/>
              </a:pr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1805040" y="4705200"/>
                <a:ext cx="880920" cy="50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1805040" y="4710240"/>
                <a:ext cx="880920" cy="2880"/>
              </a:xfrm>
              <a:prstGeom prst="rect">
                <a:avLst/>
              </a:prstGeom>
              <a:solidFill>
                <a:srgbClr val="f4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1805040" y="4713120"/>
                <a:ext cx="880920" cy="3240"/>
              </a:xfrm>
              <a:prstGeom prst="rect">
                <a:avLst/>
              </a:prstGeom>
              <a:solidFill>
                <a:srgbClr val="f2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1805040" y="4716360"/>
                <a:ext cx="880920" cy="1800"/>
              </a:xfrm>
              <a:prstGeom prst="rect">
                <a:avLst/>
              </a:prstGeom>
              <a:solidFill>
                <a:srgbClr val="f0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1805040" y="4718160"/>
                <a:ext cx="880920" cy="1440"/>
              </a:xfrm>
              <a:prstGeom prst="rect">
                <a:avLst/>
              </a:prstGeom>
              <a:solidFill>
                <a:srgbClr val="ee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1805040" y="4719600"/>
                <a:ext cx="880920" cy="3240"/>
              </a:xfrm>
              <a:prstGeom prst="rect">
                <a:avLst/>
              </a:prstGeom>
              <a:solidFill>
                <a:srgbClr val="ec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1805040" y="4722840"/>
                <a:ext cx="880920" cy="324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1805040" y="4726080"/>
                <a:ext cx="880920" cy="1440"/>
              </a:xfrm>
              <a:prstGeom prst="rect">
                <a:avLst/>
              </a:prstGeom>
              <a:solidFill>
                <a:srgbClr val="e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1805040" y="4727520"/>
                <a:ext cx="880920" cy="180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1805040" y="4729320"/>
                <a:ext cx="880920" cy="2880"/>
              </a:xfrm>
              <a:prstGeom prst="rect">
                <a:avLst/>
              </a:prstGeom>
              <a:solidFill>
                <a:srgbClr val="e4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1805040" y="4732200"/>
                <a:ext cx="880920" cy="1800"/>
              </a:xfrm>
              <a:prstGeom prst="rect">
                <a:avLst/>
              </a:prstGeom>
              <a:solidFill>
                <a:srgbClr val="e2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1805040" y="4734000"/>
                <a:ext cx="880920" cy="1440"/>
              </a:xfrm>
              <a:prstGeom prst="rect">
                <a:avLst/>
              </a:prstGeom>
              <a:solidFill>
                <a:srgbClr val="e0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1805040" y="4735440"/>
                <a:ext cx="880920" cy="3240"/>
              </a:xfrm>
              <a:prstGeom prst="rect">
                <a:avLst/>
              </a:prstGeom>
              <a:solidFill>
                <a:srgbClr val="dd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1805040" y="4738680"/>
                <a:ext cx="880920" cy="1440"/>
              </a:xfrm>
              <a:prstGeom prst="rect">
                <a:avLst/>
              </a:prstGeom>
              <a:solidFill>
                <a:srgbClr val="db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1805040" y="4740120"/>
                <a:ext cx="880920" cy="1800"/>
              </a:xfrm>
              <a:prstGeom prst="rect">
                <a:avLst/>
              </a:prstGeom>
              <a:solidFill>
                <a:srgbClr val="d8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1805040" y="4741920"/>
                <a:ext cx="880920" cy="3240"/>
              </a:xfrm>
              <a:prstGeom prst="rect">
                <a:avLst/>
              </a:prstGeom>
              <a:solidFill>
                <a:srgbClr val="d5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1805040" y="4745160"/>
                <a:ext cx="880920" cy="1440"/>
              </a:xfrm>
              <a:prstGeom prst="rect">
                <a:avLst/>
              </a:prstGeom>
              <a:solidFill>
                <a:srgbClr val="d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1805040" y="4745160"/>
                <a:ext cx="880920" cy="1440"/>
              </a:xfrm>
              <a:prstGeom prst="rect">
                <a:avLst/>
              </a:prstGeom>
              <a:solidFill>
                <a:srgbClr val="d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1805040" y="4746600"/>
                <a:ext cx="880920" cy="1440"/>
              </a:xfrm>
              <a:prstGeom prst="rect">
                <a:avLst/>
              </a:prstGeom>
              <a:solidFill>
                <a:srgbClr val="cf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1805040" y="4748040"/>
                <a:ext cx="880920" cy="32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1805040" y="4751280"/>
                <a:ext cx="880920" cy="1800"/>
              </a:xfrm>
              <a:prstGeom prst="rect">
                <a:avLst/>
              </a:prstGeom>
              <a:solidFill>
                <a:srgbClr val="c9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1805040" y="4753080"/>
                <a:ext cx="88092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1805040" y="4754520"/>
                <a:ext cx="880920" cy="1800"/>
              </a:xfrm>
              <a:prstGeom prst="rect">
                <a:avLst/>
              </a:prstGeom>
              <a:solidFill>
                <a:srgbClr val="c5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1805040" y="4754520"/>
                <a:ext cx="880920" cy="3240"/>
              </a:xfrm>
              <a:prstGeom prst="rect">
                <a:avLst/>
              </a:prstGeom>
              <a:solidFill>
                <a:srgbClr val="c3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1805040" y="4757760"/>
                <a:ext cx="880920" cy="1440"/>
              </a:xfrm>
              <a:prstGeom prst="rect">
                <a:avLst/>
              </a:prstGeom>
              <a:solidFill>
                <a:srgbClr val="c0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1805040" y="4757760"/>
                <a:ext cx="880920" cy="1440"/>
              </a:xfrm>
              <a:prstGeom prst="rect">
                <a:avLst/>
              </a:prstGeom>
              <a:solidFill>
                <a:srgbClr val="be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1805040" y="4759200"/>
                <a:ext cx="880920" cy="180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1805040" y="4761000"/>
                <a:ext cx="880920" cy="1440"/>
              </a:xfrm>
              <a:prstGeom prst="rect">
                <a:avLst/>
              </a:prstGeom>
              <a:solidFill>
                <a:srgbClr val="ba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1805040" y="4761000"/>
                <a:ext cx="880920" cy="3240"/>
              </a:xfrm>
              <a:prstGeom prst="rect">
                <a:avLst/>
              </a:prstGeom>
              <a:solidFill>
                <a:srgbClr val="b8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1805040" y="4764240"/>
                <a:ext cx="880920" cy="1440"/>
              </a:xfrm>
              <a:prstGeom prst="rect">
                <a:avLst/>
              </a:prstGeom>
              <a:solidFill>
                <a:srgbClr val="b5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1805040" y="4764240"/>
                <a:ext cx="880920" cy="1440"/>
              </a:xfrm>
              <a:prstGeom prst="rect">
                <a:avLst/>
              </a:prstGeom>
              <a:solidFill>
                <a:srgbClr val="b3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1805040" y="4765680"/>
                <a:ext cx="880920" cy="1440"/>
              </a:xfrm>
              <a:prstGeom prst="rect">
                <a:avLst/>
              </a:prstGeom>
              <a:solidFill>
                <a:srgbClr val="b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1805040" y="4767120"/>
                <a:ext cx="880920" cy="1800"/>
              </a:xfrm>
              <a:prstGeom prst="rect">
                <a:avLst/>
              </a:prstGeom>
              <a:solidFill>
                <a:srgbClr val="af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1805040" y="4767120"/>
                <a:ext cx="880920" cy="3240"/>
              </a:xfrm>
              <a:prstGeom prst="rect">
                <a:avLst/>
              </a:prstGeom>
              <a:solidFill>
                <a:srgbClr val="ad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551" name=""/>
            <p:cNvGrpSpPr/>
            <p:nvPr/>
          </p:nvGrpSpPr>
          <p:grpSpPr>
            <a:xfrm>
              <a:off x="1797120" y="4506840"/>
              <a:ext cx="915840" cy="341280"/>
              <a:chOff x="1797120" y="4506840"/>
              <a:chExt cx="915840" cy="341280"/>
            </a:xfrm>
          </p:grpSpPr>
          <p:sp>
            <p:nvSpPr>
              <p:cNvPr id="10552" name=""/>
              <p:cNvSpPr/>
              <p:nvPr/>
            </p:nvSpPr>
            <p:spPr>
              <a:xfrm>
                <a:off x="1805040" y="4770360"/>
                <a:ext cx="880920" cy="1800"/>
              </a:xfrm>
              <a:prstGeom prst="rect">
                <a:avLst/>
              </a:prstGeom>
              <a:solidFill>
                <a:srgbClr val="aa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1805040" y="4770360"/>
                <a:ext cx="880920" cy="3240"/>
              </a:xfrm>
              <a:prstGeom prst="rect">
                <a:avLst/>
              </a:prstGeom>
              <a:solidFill>
                <a:srgbClr val="a7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1805040" y="4773600"/>
                <a:ext cx="880920" cy="1440"/>
              </a:xfrm>
              <a:prstGeom prst="rect">
                <a:avLst/>
              </a:prstGeom>
              <a:solidFill>
                <a:srgbClr val="a4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1805040" y="4773600"/>
                <a:ext cx="880920" cy="1440"/>
              </a:xfrm>
              <a:prstGeom prst="rect">
                <a:avLst/>
              </a:prstGeom>
              <a:solidFill>
                <a:srgbClr val="a2a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1805040" y="4775040"/>
                <a:ext cx="880920" cy="1800"/>
              </a:xfrm>
              <a:prstGeom prst="rect">
                <a:avLst/>
              </a:prstGeom>
              <a:solidFill>
                <a:srgbClr val="a0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9e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9c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1805040" y="4778280"/>
                <a:ext cx="880920" cy="1800"/>
              </a:xfrm>
              <a:prstGeom prst="rect">
                <a:avLst/>
              </a:prstGeom>
              <a:solidFill>
                <a:srgbClr val="9a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98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96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1805040" y="4781520"/>
                <a:ext cx="88092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9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9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1805040" y="4784760"/>
                <a:ext cx="880920" cy="1440"/>
              </a:xfrm>
              <a:prstGeom prst="rect">
                <a:avLst/>
              </a:prstGeom>
              <a:solidFill>
                <a:srgbClr val="8e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c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a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1805040" y="4788000"/>
                <a:ext cx="880920" cy="1440"/>
              </a:xfrm>
              <a:prstGeom prst="rect">
                <a:avLst/>
              </a:prstGeom>
              <a:solidFill>
                <a:srgbClr val="88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8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849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1805040" y="4791240"/>
                <a:ext cx="880920" cy="1440"/>
              </a:xfrm>
              <a:prstGeom prst="rect">
                <a:avLst/>
              </a:prstGeom>
              <a:solidFill>
                <a:srgbClr val="82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80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1805040" y="4794120"/>
                <a:ext cx="880920" cy="1800"/>
              </a:xfrm>
              <a:prstGeom prst="rect">
                <a:avLst/>
              </a:prstGeom>
              <a:solidFill>
                <a:srgbClr val="7c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7a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78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1805040" y="4797360"/>
                <a:ext cx="880920" cy="1800"/>
              </a:xfrm>
              <a:prstGeom prst="rect">
                <a:avLst/>
              </a:prstGeom>
              <a:solidFill>
                <a:srgbClr val="76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1805040" y="4799160"/>
                <a:ext cx="880920" cy="1440"/>
              </a:xfrm>
              <a:prstGeom prst="rect">
                <a:avLst/>
              </a:prstGeom>
              <a:solidFill>
                <a:srgbClr val="73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70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1805040" y="4802040"/>
                <a:ext cx="880920" cy="1800"/>
              </a:xfrm>
              <a:prstGeom prst="rect">
                <a:avLst/>
              </a:prstGeom>
              <a:solidFill>
                <a:srgbClr val="6e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6c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6a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1805040" y="4805280"/>
                <a:ext cx="880920" cy="1800"/>
              </a:xfrm>
              <a:prstGeom prst="rect">
                <a:avLst/>
              </a:prstGeom>
              <a:solidFill>
                <a:srgbClr val="688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65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1805040" y="4808520"/>
                <a:ext cx="880920" cy="1440"/>
              </a:xfrm>
              <a:prstGeom prst="rect">
                <a:avLst/>
              </a:prstGeom>
              <a:solidFill>
                <a:srgbClr val="62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5f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1805040" y="4811760"/>
                <a:ext cx="880920" cy="1440"/>
              </a:xfrm>
              <a:prstGeom prst="rect">
                <a:avLst/>
              </a:prstGeom>
              <a:solidFill>
                <a:srgbClr val="5d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8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5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9" name=""/>
              <p:cNvSpPr/>
              <p:nvPr/>
            </p:nvSpPr>
            <p:spPr>
              <a:xfrm>
                <a:off x="1805040" y="4815000"/>
                <a:ext cx="880920" cy="1440"/>
              </a:xfrm>
              <a:prstGeom prst="rect">
                <a:avLst/>
              </a:prstGeom>
              <a:solidFill>
                <a:srgbClr val="577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547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1805040" y="4818240"/>
                <a:ext cx="880920" cy="1440"/>
              </a:xfrm>
              <a:prstGeom prst="rect">
                <a:avLst/>
              </a:prstGeom>
              <a:solidFill>
                <a:srgbClr val="52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4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1805040" y="4821120"/>
                <a:ext cx="880920" cy="1800"/>
              </a:xfrm>
              <a:prstGeom prst="rect">
                <a:avLst/>
              </a:prstGeom>
              <a:solidFill>
                <a:srgbClr val="4d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1805040" y="4822920"/>
                <a:ext cx="880920" cy="3240"/>
              </a:xfrm>
              <a:prstGeom prst="rect">
                <a:avLst/>
              </a:prstGeom>
              <a:solidFill>
                <a:srgbClr val="4a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47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1805040" y="4827600"/>
                <a:ext cx="880920" cy="1440"/>
              </a:xfrm>
              <a:prstGeom prst="rect">
                <a:avLst/>
              </a:prstGeom>
              <a:solidFill>
                <a:srgbClr val="45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43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1805040" y="4829040"/>
                <a:ext cx="880920" cy="3240"/>
              </a:xfrm>
              <a:prstGeom prst="rect">
                <a:avLst/>
              </a:prstGeom>
              <a:solidFill>
                <a:srgbClr val="416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3e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1805040" y="4834080"/>
                <a:ext cx="880920" cy="1440"/>
              </a:xfrm>
              <a:prstGeom prst="rect">
                <a:avLst/>
              </a:prstGeom>
              <a:solidFill>
                <a:srgbClr val="3c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1805040" y="4836960"/>
                <a:ext cx="880920" cy="1800"/>
              </a:xfrm>
              <a:prstGeom prst="rect">
                <a:avLst/>
              </a:prstGeom>
              <a:solidFill>
                <a:srgbClr val="38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36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1805040" y="4840200"/>
                <a:ext cx="880920" cy="1800"/>
              </a:xfrm>
              <a:prstGeom prst="rect">
                <a:avLst/>
              </a:prstGeom>
              <a:solidFill>
                <a:srgbClr val="34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1806480" y="4514760"/>
                <a:ext cx="881280" cy="327240"/>
              </a:xfrm>
              <a:prstGeom prst="rect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1805040" y="4513320"/>
                <a:ext cx="89856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1805040" y="4514760"/>
                <a:ext cx="898560" cy="1800"/>
              </a:xfrm>
              <a:prstGeom prst="rect">
                <a:avLst/>
              </a:prstGeom>
              <a:solidFill>
                <a:srgbClr val="3b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1805040" y="4514760"/>
                <a:ext cx="898560" cy="1800"/>
              </a:xfrm>
              <a:prstGeom prst="rect">
                <a:avLst/>
              </a:prstGeom>
              <a:solidFill>
                <a:srgbClr val="43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1805040" y="4516560"/>
                <a:ext cx="898560" cy="1440"/>
              </a:xfrm>
              <a:prstGeom prst="rect">
                <a:avLst/>
              </a:prstGeom>
              <a:solidFill>
                <a:srgbClr val="4b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1805040" y="4518000"/>
                <a:ext cx="898560" cy="1440"/>
              </a:xfrm>
              <a:prstGeom prst="rect">
                <a:avLst/>
              </a:prstGeom>
              <a:solidFill>
                <a:srgbClr val="54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1805040" y="4518000"/>
                <a:ext cx="898560" cy="1440"/>
              </a:xfrm>
              <a:prstGeom prst="rect">
                <a:avLst/>
              </a:prstGeom>
              <a:solidFill>
                <a:srgbClr val="5e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1805040" y="4519440"/>
                <a:ext cx="898560" cy="1800"/>
              </a:xfrm>
              <a:prstGeom prst="rect">
                <a:avLst/>
              </a:prstGeom>
              <a:solidFill>
                <a:srgbClr val="68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1805040" y="4521240"/>
                <a:ext cx="898560" cy="1440"/>
              </a:xfrm>
              <a:prstGeom prst="rect">
                <a:avLst/>
              </a:prstGeom>
              <a:solidFill>
                <a:srgbClr val="72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1805040" y="4521240"/>
                <a:ext cx="898560" cy="144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1805040" y="4522680"/>
                <a:ext cx="898560" cy="1800"/>
              </a:xfrm>
              <a:prstGeom prst="rect">
                <a:avLst/>
              </a:prstGeom>
              <a:solidFill>
                <a:srgbClr val="89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1805040" y="4524480"/>
                <a:ext cx="89856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1805040" y="4524480"/>
                <a:ext cx="898560" cy="144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1805040" y="4525920"/>
                <a:ext cx="898560" cy="1800"/>
              </a:xfrm>
              <a:prstGeom prst="rect">
                <a:avLst/>
              </a:prstGeom>
              <a:solidFill>
                <a:srgbClr val="aa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1805040" y="4527720"/>
                <a:ext cx="898560" cy="1440"/>
              </a:xfrm>
              <a:prstGeom prst="rect">
                <a:avLst/>
              </a:prstGeom>
              <a:solidFill>
                <a:srgbClr val="b4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1805040" y="4527720"/>
                <a:ext cx="898560" cy="1440"/>
              </a:xfrm>
              <a:prstGeom prst="rect">
                <a:avLst/>
              </a:prstGeom>
              <a:solidFill>
                <a:srgbClr val="be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1805040" y="4529160"/>
                <a:ext cx="89856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1805040" y="4530600"/>
                <a:ext cx="898560" cy="1800"/>
              </a:xfrm>
              <a:prstGeom prst="rect">
                <a:avLst/>
              </a:prstGeom>
              <a:solidFill>
                <a:srgbClr val="d0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1805040" y="4530600"/>
                <a:ext cx="898560" cy="1800"/>
              </a:xfrm>
              <a:prstGeom prst="rect">
                <a:avLst/>
              </a:prstGeom>
              <a:solidFill>
                <a:srgbClr val="d8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1805040" y="4532400"/>
                <a:ext cx="898560" cy="1440"/>
              </a:xfrm>
              <a:prstGeom prst="rect">
                <a:avLst/>
              </a:prstGeom>
              <a:solidFill>
                <a:srgbClr val="df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1805040" y="4533840"/>
                <a:ext cx="898560" cy="180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1805040" y="4533840"/>
                <a:ext cx="898560" cy="180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1805040" y="4535640"/>
                <a:ext cx="898560" cy="144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1805040" y="4537080"/>
                <a:ext cx="89856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1805040" y="4537080"/>
                <a:ext cx="89856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1805040" y="4538520"/>
                <a:ext cx="898560" cy="1800"/>
              </a:xfrm>
              <a:prstGeom prst="rect">
                <a:avLst/>
              </a:pr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1805040" y="4540320"/>
                <a:ext cx="89856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1805040" y="4540320"/>
                <a:ext cx="898560" cy="1440"/>
              </a:xfrm>
              <a:prstGeom prst="rect">
                <a:avLst/>
              </a:pr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1805040" y="4541760"/>
                <a:ext cx="898560" cy="180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1805040" y="4543560"/>
                <a:ext cx="898560" cy="1440"/>
              </a:xfrm>
              <a:prstGeom prst="rect">
                <a:avLst/>
              </a:pr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1805040" y="4545000"/>
                <a:ext cx="89856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1805040" y="4546440"/>
                <a:ext cx="898560" cy="1800"/>
              </a:xfrm>
              <a:prstGeom prst="rect">
                <a:avLst/>
              </a:pr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1805040" y="4546440"/>
                <a:ext cx="898560" cy="180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1805040" y="4548240"/>
                <a:ext cx="89856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1805040" y="4549680"/>
                <a:ext cx="898560" cy="180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1805040" y="4549680"/>
                <a:ext cx="898560" cy="180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1805040" y="4551480"/>
                <a:ext cx="898560" cy="144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1805040" y="4552920"/>
                <a:ext cx="898560" cy="1440"/>
              </a:xfrm>
              <a:prstGeom prst="rect">
                <a:avLst/>
              </a:prstGeom>
              <a:solidFill>
                <a:srgbClr val="df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1805040" y="4552920"/>
                <a:ext cx="898560" cy="1440"/>
              </a:xfrm>
              <a:prstGeom prst="rect">
                <a:avLst/>
              </a:prstGeom>
              <a:solidFill>
                <a:srgbClr val="d8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1805040" y="4554360"/>
                <a:ext cx="898560" cy="1800"/>
              </a:xfrm>
              <a:prstGeom prst="rect">
                <a:avLst/>
              </a:prstGeom>
              <a:solidFill>
                <a:srgbClr val="d0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1805040" y="4556160"/>
                <a:ext cx="89856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1805040" y="4556160"/>
                <a:ext cx="898560" cy="1440"/>
              </a:xfrm>
              <a:prstGeom prst="rect">
                <a:avLst/>
              </a:prstGeom>
              <a:solidFill>
                <a:srgbClr val="be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1805040" y="4557600"/>
                <a:ext cx="898560" cy="1800"/>
              </a:xfrm>
              <a:prstGeom prst="rect">
                <a:avLst/>
              </a:prstGeom>
              <a:solidFill>
                <a:srgbClr val="b4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1805040" y="4559400"/>
                <a:ext cx="898560" cy="1440"/>
              </a:xfrm>
              <a:prstGeom prst="rect">
                <a:avLst/>
              </a:prstGeom>
              <a:solidFill>
                <a:srgbClr val="aa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1805040" y="4559400"/>
                <a:ext cx="898560" cy="144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1805040" y="4560840"/>
                <a:ext cx="898560" cy="180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1805040" y="4562640"/>
                <a:ext cx="898560" cy="1440"/>
              </a:xfrm>
              <a:prstGeom prst="rect">
                <a:avLst/>
              </a:prstGeom>
              <a:solidFill>
                <a:srgbClr val="89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1805040" y="4562640"/>
                <a:ext cx="898560" cy="1440"/>
              </a:xfrm>
              <a:prstGeom prst="rect">
                <a:avLst/>
              </a:prstGeom>
              <a:solidFill>
                <a:srgbClr val="7e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1805040" y="4564080"/>
                <a:ext cx="898560" cy="1440"/>
              </a:xfrm>
              <a:prstGeom prst="rect">
                <a:avLst/>
              </a:prstGeom>
              <a:solidFill>
                <a:srgbClr val="73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1805040" y="4565520"/>
                <a:ext cx="898560" cy="1800"/>
              </a:xfrm>
              <a:prstGeom prst="rect">
                <a:avLst/>
              </a:prstGeom>
              <a:solidFill>
                <a:srgbClr val="68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1805040" y="4565520"/>
                <a:ext cx="898560" cy="1800"/>
              </a:xfrm>
              <a:prstGeom prst="rect">
                <a:avLst/>
              </a:prstGeom>
              <a:solidFill>
                <a:srgbClr val="5e7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1805040" y="4567320"/>
                <a:ext cx="898560" cy="1440"/>
              </a:xfrm>
              <a:prstGeom prst="rect">
                <a:avLst/>
              </a:prstGeom>
              <a:solidFill>
                <a:srgbClr val="54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1805040" y="4568760"/>
                <a:ext cx="898560" cy="1800"/>
              </a:xfrm>
              <a:prstGeom prst="rect">
                <a:avLst/>
              </a:prstGeom>
              <a:solidFill>
                <a:srgbClr val="4b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1805040" y="4568760"/>
                <a:ext cx="898560" cy="1800"/>
              </a:xfrm>
              <a:prstGeom prst="rect">
                <a:avLst/>
              </a:prstGeom>
              <a:solidFill>
                <a:srgbClr val="43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1805040" y="4570560"/>
                <a:ext cx="898560" cy="1440"/>
              </a:xfrm>
              <a:prstGeom prst="rect">
                <a:avLst/>
              </a:prstGeom>
              <a:solidFill>
                <a:srgbClr val="3b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1797120" y="4506840"/>
                <a:ext cx="915840" cy="71640"/>
              </a:xfrm>
              <a:custGeom>
                <a:avLst/>
                <a:gdLst/>
                <a:ahLst/>
                <a:rect l="l" t="t" r="r" b="b"/>
                <a:pathLst>
                  <a:path w="1155" h="91">
                    <a:moveTo>
                      <a:pt x="1123" y="17"/>
                    </a:moveTo>
                    <a:lnTo>
                      <a:pt x="1123" y="17"/>
                    </a:lnTo>
                    <a:lnTo>
                      <a:pt x="1121" y="17"/>
                    </a:lnTo>
                    <a:lnTo>
                      <a:pt x="1119" y="16"/>
                    </a:lnTo>
                    <a:lnTo>
                      <a:pt x="1116" y="15"/>
                    </a:lnTo>
                    <a:lnTo>
                      <a:pt x="1112" y="12"/>
                    </a:lnTo>
                    <a:lnTo>
                      <a:pt x="1112" y="11"/>
                    </a:lnTo>
                    <a:lnTo>
                      <a:pt x="1112" y="9"/>
                    </a:lnTo>
                    <a:lnTo>
                      <a:pt x="1112" y="7"/>
                    </a:lnTo>
                    <a:lnTo>
                      <a:pt x="1112" y="5"/>
                    </a:lnTo>
                    <a:lnTo>
                      <a:pt x="1116" y="3"/>
                    </a:lnTo>
                    <a:lnTo>
                      <a:pt x="1119" y="1"/>
                    </a:lnTo>
                    <a:lnTo>
                      <a:pt x="1121" y="0"/>
                    </a:lnTo>
                    <a:lnTo>
                      <a:pt x="1123" y="0"/>
                    </a:lnTo>
                    <a:lnTo>
                      <a:pt x="1123" y="0"/>
                    </a:lnTo>
                    <a:lnTo>
                      <a:pt x="1125" y="0"/>
                    </a:lnTo>
                    <a:lnTo>
                      <a:pt x="1126" y="1"/>
                    </a:lnTo>
                    <a:lnTo>
                      <a:pt x="1130" y="3"/>
                    </a:lnTo>
                    <a:lnTo>
                      <a:pt x="1133" y="5"/>
                    </a:lnTo>
                    <a:lnTo>
                      <a:pt x="1133" y="7"/>
                    </a:lnTo>
                    <a:lnTo>
                      <a:pt x="1133" y="9"/>
                    </a:lnTo>
                    <a:lnTo>
                      <a:pt x="1133" y="11"/>
                    </a:lnTo>
                    <a:lnTo>
                      <a:pt x="1133" y="12"/>
                    </a:lnTo>
                    <a:lnTo>
                      <a:pt x="1130" y="15"/>
                    </a:lnTo>
                    <a:lnTo>
                      <a:pt x="1126" y="16"/>
                    </a:lnTo>
                    <a:lnTo>
                      <a:pt x="1125" y="17"/>
                    </a:lnTo>
                    <a:lnTo>
                      <a:pt x="1123" y="17"/>
                    </a:lnTo>
                    <a:lnTo>
                      <a:pt x="1123" y="17"/>
                    </a:lnTo>
                    <a:close/>
                    <a:moveTo>
                      <a:pt x="1080" y="17"/>
                    </a:moveTo>
                    <a:lnTo>
                      <a:pt x="1080" y="17"/>
                    </a:lnTo>
                    <a:lnTo>
                      <a:pt x="1078" y="17"/>
                    </a:lnTo>
                    <a:lnTo>
                      <a:pt x="1076" y="16"/>
                    </a:lnTo>
                    <a:lnTo>
                      <a:pt x="1073" y="15"/>
                    </a:lnTo>
                    <a:lnTo>
                      <a:pt x="1069" y="12"/>
                    </a:lnTo>
                    <a:lnTo>
                      <a:pt x="1069" y="11"/>
                    </a:lnTo>
                    <a:lnTo>
                      <a:pt x="1069" y="9"/>
                    </a:lnTo>
                    <a:lnTo>
                      <a:pt x="1069" y="7"/>
                    </a:lnTo>
                    <a:lnTo>
                      <a:pt x="1069" y="5"/>
                    </a:lnTo>
                    <a:lnTo>
                      <a:pt x="1073" y="3"/>
                    </a:lnTo>
                    <a:lnTo>
                      <a:pt x="1076" y="1"/>
                    </a:lnTo>
                    <a:lnTo>
                      <a:pt x="1078" y="0"/>
                    </a:lnTo>
                    <a:lnTo>
                      <a:pt x="1080" y="0"/>
                    </a:lnTo>
                    <a:lnTo>
                      <a:pt x="1080" y="0"/>
                    </a:lnTo>
                    <a:lnTo>
                      <a:pt x="1081" y="0"/>
                    </a:lnTo>
                    <a:lnTo>
                      <a:pt x="1083" y="1"/>
                    </a:lnTo>
                    <a:lnTo>
                      <a:pt x="1087" y="3"/>
                    </a:lnTo>
                    <a:lnTo>
                      <a:pt x="1090" y="5"/>
                    </a:lnTo>
                    <a:lnTo>
                      <a:pt x="1090" y="7"/>
                    </a:lnTo>
                    <a:lnTo>
                      <a:pt x="1090" y="9"/>
                    </a:lnTo>
                    <a:lnTo>
                      <a:pt x="1090" y="11"/>
                    </a:lnTo>
                    <a:lnTo>
                      <a:pt x="1090" y="12"/>
                    </a:lnTo>
                    <a:lnTo>
                      <a:pt x="1087" y="15"/>
                    </a:lnTo>
                    <a:lnTo>
                      <a:pt x="1083" y="16"/>
                    </a:lnTo>
                    <a:lnTo>
                      <a:pt x="1081" y="17"/>
                    </a:lnTo>
                    <a:lnTo>
                      <a:pt x="1080" y="17"/>
                    </a:lnTo>
                    <a:lnTo>
                      <a:pt x="1080" y="17"/>
                    </a:lnTo>
                    <a:close/>
                    <a:moveTo>
                      <a:pt x="1037" y="17"/>
                    </a:moveTo>
                    <a:lnTo>
                      <a:pt x="1037" y="17"/>
                    </a:lnTo>
                    <a:lnTo>
                      <a:pt x="1035" y="17"/>
                    </a:lnTo>
                    <a:lnTo>
                      <a:pt x="1033" y="16"/>
                    </a:lnTo>
                    <a:lnTo>
                      <a:pt x="1030" y="15"/>
                    </a:lnTo>
                    <a:lnTo>
                      <a:pt x="1026" y="12"/>
                    </a:lnTo>
                    <a:lnTo>
                      <a:pt x="1026" y="11"/>
                    </a:lnTo>
                    <a:lnTo>
                      <a:pt x="1026" y="9"/>
                    </a:lnTo>
                    <a:lnTo>
                      <a:pt x="1026" y="7"/>
                    </a:lnTo>
                    <a:lnTo>
                      <a:pt x="1026" y="5"/>
                    </a:lnTo>
                    <a:lnTo>
                      <a:pt x="1030" y="3"/>
                    </a:lnTo>
                    <a:lnTo>
                      <a:pt x="1033" y="1"/>
                    </a:lnTo>
                    <a:lnTo>
                      <a:pt x="1035" y="0"/>
                    </a:lnTo>
                    <a:lnTo>
                      <a:pt x="1037" y="0"/>
                    </a:lnTo>
                    <a:lnTo>
                      <a:pt x="1037" y="0"/>
                    </a:lnTo>
                    <a:lnTo>
                      <a:pt x="1038" y="0"/>
                    </a:lnTo>
                    <a:lnTo>
                      <a:pt x="1040" y="1"/>
                    </a:lnTo>
                    <a:lnTo>
                      <a:pt x="1044" y="3"/>
                    </a:lnTo>
                    <a:lnTo>
                      <a:pt x="1047" y="5"/>
                    </a:lnTo>
                    <a:lnTo>
                      <a:pt x="1047" y="7"/>
                    </a:lnTo>
                    <a:lnTo>
                      <a:pt x="1047" y="9"/>
                    </a:lnTo>
                    <a:lnTo>
                      <a:pt x="1047" y="11"/>
                    </a:lnTo>
                    <a:lnTo>
                      <a:pt x="1047" y="12"/>
                    </a:lnTo>
                    <a:lnTo>
                      <a:pt x="1044" y="15"/>
                    </a:lnTo>
                    <a:lnTo>
                      <a:pt x="1040" y="16"/>
                    </a:lnTo>
                    <a:lnTo>
                      <a:pt x="1038" y="17"/>
                    </a:lnTo>
                    <a:lnTo>
                      <a:pt x="1037" y="17"/>
                    </a:lnTo>
                    <a:lnTo>
                      <a:pt x="1037" y="17"/>
                    </a:lnTo>
                    <a:close/>
                    <a:moveTo>
                      <a:pt x="994" y="17"/>
                    </a:moveTo>
                    <a:lnTo>
                      <a:pt x="994" y="17"/>
                    </a:lnTo>
                    <a:lnTo>
                      <a:pt x="992" y="17"/>
                    </a:lnTo>
                    <a:lnTo>
                      <a:pt x="990" y="16"/>
                    </a:lnTo>
                    <a:lnTo>
                      <a:pt x="987" y="15"/>
                    </a:lnTo>
                    <a:lnTo>
                      <a:pt x="983" y="12"/>
                    </a:lnTo>
                    <a:lnTo>
                      <a:pt x="983" y="11"/>
                    </a:lnTo>
                    <a:lnTo>
                      <a:pt x="983" y="9"/>
                    </a:lnTo>
                    <a:lnTo>
                      <a:pt x="983" y="7"/>
                    </a:lnTo>
                    <a:lnTo>
                      <a:pt x="983" y="5"/>
                    </a:lnTo>
                    <a:lnTo>
                      <a:pt x="987" y="3"/>
                    </a:lnTo>
                    <a:lnTo>
                      <a:pt x="990" y="1"/>
                    </a:lnTo>
                    <a:lnTo>
                      <a:pt x="992" y="0"/>
                    </a:lnTo>
                    <a:lnTo>
                      <a:pt x="994" y="0"/>
                    </a:lnTo>
                    <a:lnTo>
                      <a:pt x="994" y="0"/>
                    </a:lnTo>
                    <a:lnTo>
                      <a:pt x="995" y="0"/>
                    </a:lnTo>
                    <a:lnTo>
                      <a:pt x="997" y="1"/>
                    </a:lnTo>
                    <a:lnTo>
                      <a:pt x="1001" y="3"/>
                    </a:lnTo>
                    <a:lnTo>
                      <a:pt x="1004" y="5"/>
                    </a:lnTo>
                    <a:lnTo>
                      <a:pt x="1004" y="7"/>
                    </a:lnTo>
                    <a:lnTo>
                      <a:pt x="1004" y="9"/>
                    </a:lnTo>
                    <a:lnTo>
                      <a:pt x="1004" y="11"/>
                    </a:lnTo>
                    <a:lnTo>
                      <a:pt x="1004" y="12"/>
                    </a:lnTo>
                    <a:lnTo>
                      <a:pt x="1001" y="15"/>
                    </a:lnTo>
                    <a:lnTo>
                      <a:pt x="997" y="16"/>
                    </a:lnTo>
                    <a:lnTo>
                      <a:pt x="995" y="17"/>
                    </a:lnTo>
                    <a:lnTo>
                      <a:pt x="994" y="17"/>
                    </a:lnTo>
                    <a:lnTo>
                      <a:pt x="994" y="17"/>
                    </a:lnTo>
                    <a:close/>
                    <a:moveTo>
                      <a:pt x="951" y="17"/>
                    </a:moveTo>
                    <a:lnTo>
                      <a:pt x="951" y="17"/>
                    </a:lnTo>
                    <a:lnTo>
                      <a:pt x="949" y="17"/>
                    </a:lnTo>
                    <a:lnTo>
                      <a:pt x="947" y="16"/>
                    </a:lnTo>
                    <a:lnTo>
                      <a:pt x="944" y="15"/>
                    </a:lnTo>
                    <a:lnTo>
                      <a:pt x="940" y="12"/>
                    </a:lnTo>
                    <a:lnTo>
                      <a:pt x="940" y="11"/>
                    </a:lnTo>
                    <a:lnTo>
                      <a:pt x="940" y="9"/>
                    </a:lnTo>
                    <a:lnTo>
                      <a:pt x="940" y="7"/>
                    </a:lnTo>
                    <a:lnTo>
                      <a:pt x="940" y="5"/>
                    </a:lnTo>
                    <a:lnTo>
                      <a:pt x="944" y="3"/>
                    </a:lnTo>
                    <a:lnTo>
                      <a:pt x="947" y="1"/>
                    </a:lnTo>
                    <a:lnTo>
                      <a:pt x="949" y="0"/>
                    </a:lnTo>
                    <a:lnTo>
                      <a:pt x="951" y="0"/>
                    </a:lnTo>
                    <a:lnTo>
                      <a:pt x="951" y="0"/>
                    </a:lnTo>
                    <a:lnTo>
                      <a:pt x="952" y="0"/>
                    </a:lnTo>
                    <a:lnTo>
                      <a:pt x="954" y="1"/>
                    </a:lnTo>
                    <a:lnTo>
                      <a:pt x="957" y="3"/>
                    </a:lnTo>
                    <a:lnTo>
                      <a:pt x="961" y="5"/>
                    </a:lnTo>
                    <a:lnTo>
                      <a:pt x="961" y="7"/>
                    </a:lnTo>
                    <a:lnTo>
                      <a:pt x="961" y="9"/>
                    </a:lnTo>
                    <a:lnTo>
                      <a:pt x="961" y="11"/>
                    </a:lnTo>
                    <a:lnTo>
                      <a:pt x="961" y="12"/>
                    </a:lnTo>
                    <a:lnTo>
                      <a:pt x="957" y="15"/>
                    </a:lnTo>
                    <a:lnTo>
                      <a:pt x="954" y="16"/>
                    </a:lnTo>
                    <a:lnTo>
                      <a:pt x="952" y="17"/>
                    </a:lnTo>
                    <a:lnTo>
                      <a:pt x="951" y="17"/>
                    </a:lnTo>
                    <a:lnTo>
                      <a:pt x="951" y="17"/>
                    </a:lnTo>
                    <a:close/>
                    <a:moveTo>
                      <a:pt x="908" y="17"/>
                    </a:moveTo>
                    <a:lnTo>
                      <a:pt x="908" y="17"/>
                    </a:lnTo>
                    <a:lnTo>
                      <a:pt x="906" y="17"/>
                    </a:lnTo>
                    <a:lnTo>
                      <a:pt x="904" y="16"/>
                    </a:lnTo>
                    <a:lnTo>
                      <a:pt x="901" y="15"/>
                    </a:lnTo>
                    <a:lnTo>
                      <a:pt x="897" y="12"/>
                    </a:lnTo>
                    <a:lnTo>
                      <a:pt x="897" y="11"/>
                    </a:lnTo>
                    <a:lnTo>
                      <a:pt x="897" y="9"/>
                    </a:lnTo>
                    <a:lnTo>
                      <a:pt x="897" y="7"/>
                    </a:lnTo>
                    <a:lnTo>
                      <a:pt x="897" y="5"/>
                    </a:lnTo>
                    <a:lnTo>
                      <a:pt x="901" y="3"/>
                    </a:lnTo>
                    <a:lnTo>
                      <a:pt x="904" y="1"/>
                    </a:lnTo>
                    <a:lnTo>
                      <a:pt x="906" y="0"/>
                    </a:lnTo>
                    <a:lnTo>
                      <a:pt x="908" y="0"/>
                    </a:lnTo>
                    <a:lnTo>
                      <a:pt x="908" y="0"/>
                    </a:lnTo>
                    <a:lnTo>
                      <a:pt x="909" y="0"/>
                    </a:lnTo>
                    <a:lnTo>
                      <a:pt x="911" y="1"/>
                    </a:lnTo>
                    <a:lnTo>
                      <a:pt x="914" y="3"/>
                    </a:lnTo>
                    <a:lnTo>
                      <a:pt x="918" y="5"/>
                    </a:lnTo>
                    <a:lnTo>
                      <a:pt x="918" y="7"/>
                    </a:lnTo>
                    <a:lnTo>
                      <a:pt x="918" y="9"/>
                    </a:lnTo>
                    <a:lnTo>
                      <a:pt x="918" y="11"/>
                    </a:lnTo>
                    <a:lnTo>
                      <a:pt x="918" y="12"/>
                    </a:lnTo>
                    <a:lnTo>
                      <a:pt x="914" y="15"/>
                    </a:lnTo>
                    <a:lnTo>
                      <a:pt x="911" y="16"/>
                    </a:lnTo>
                    <a:lnTo>
                      <a:pt x="909" y="17"/>
                    </a:lnTo>
                    <a:lnTo>
                      <a:pt x="908" y="17"/>
                    </a:lnTo>
                    <a:lnTo>
                      <a:pt x="908" y="17"/>
                    </a:lnTo>
                    <a:close/>
                    <a:moveTo>
                      <a:pt x="865" y="17"/>
                    </a:moveTo>
                    <a:lnTo>
                      <a:pt x="865" y="17"/>
                    </a:lnTo>
                    <a:lnTo>
                      <a:pt x="863" y="17"/>
                    </a:lnTo>
                    <a:lnTo>
                      <a:pt x="861" y="16"/>
                    </a:lnTo>
                    <a:lnTo>
                      <a:pt x="858" y="15"/>
                    </a:lnTo>
                    <a:lnTo>
                      <a:pt x="854" y="12"/>
                    </a:lnTo>
                    <a:lnTo>
                      <a:pt x="854" y="11"/>
                    </a:lnTo>
                    <a:lnTo>
                      <a:pt x="854" y="9"/>
                    </a:lnTo>
                    <a:lnTo>
                      <a:pt x="854" y="7"/>
                    </a:lnTo>
                    <a:lnTo>
                      <a:pt x="854" y="5"/>
                    </a:lnTo>
                    <a:lnTo>
                      <a:pt x="858" y="3"/>
                    </a:lnTo>
                    <a:lnTo>
                      <a:pt x="861" y="1"/>
                    </a:lnTo>
                    <a:lnTo>
                      <a:pt x="863" y="0"/>
                    </a:lnTo>
                    <a:lnTo>
                      <a:pt x="865" y="0"/>
                    </a:lnTo>
                    <a:lnTo>
                      <a:pt x="865" y="0"/>
                    </a:lnTo>
                    <a:lnTo>
                      <a:pt x="866" y="0"/>
                    </a:lnTo>
                    <a:lnTo>
                      <a:pt x="868" y="1"/>
                    </a:lnTo>
                    <a:lnTo>
                      <a:pt x="871" y="3"/>
                    </a:lnTo>
                    <a:lnTo>
                      <a:pt x="875" y="5"/>
                    </a:lnTo>
                    <a:lnTo>
                      <a:pt x="875" y="7"/>
                    </a:lnTo>
                    <a:lnTo>
                      <a:pt x="875" y="9"/>
                    </a:lnTo>
                    <a:lnTo>
                      <a:pt x="875" y="11"/>
                    </a:lnTo>
                    <a:lnTo>
                      <a:pt x="875" y="12"/>
                    </a:lnTo>
                    <a:lnTo>
                      <a:pt x="871" y="15"/>
                    </a:lnTo>
                    <a:lnTo>
                      <a:pt x="868" y="16"/>
                    </a:lnTo>
                    <a:lnTo>
                      <a:pt x="866" y="17"/>
                    </a:lnTo>
                    <a:lnTo>
                      <a:pt x="865" y="17"/>
                    </a:lnTo>
                    <a:lnTo>
                      <a:pt x="865" y="17"/>
                    </a:lnTo>
                    <a:close/>
                    <a:moveTo>
                      <a:pt x="821" y="17"/>
                    </a:moveTo>
                    <a:lnTo>
                      <a:pt x="821" y="17"/>
                    </a:lnTo>
                    <a:lnTo>
                      <a:pt x="820" y="17"/>
                    </a:lnTo>
                    <a:lnTo>
                      <a:pt x="818" y="16"/>
                    </a:lnTo>
                    <a:lnTo>
                      <a:pt x="815" y="15"/>
                    </a:lnTo>
                    <a:lnTo>
                      <a:pt x="811" y="12"/>
                    </a:lnTo>
                    <a:lnTo>
                      <a:pt x="811" y="11"/>
                    </a:lnTo>
                    <a:lnTo>
                      <a:pt x="811" y="9"/>
                    </a:lnTo>
                    <a:lnTo>
                      <a:pt x="811" y="7"/>
                    </a:lnTo>
                    <a:lnTo>
                      <a:pt x="811" y="5"/>
                    </a:lnTo>
                    <a:lnTo>
                      <a:pt x="815" y="3"/>
                    </a:lnTo>
                    <a:lnTo>
                      <a:pt x="818" y="1"/>
                    </a:lnTo>
                    <a:lnTo>
                      <a:pt x="820" y="0"/>
                    </a:lnTo>
                    <a:lnTo>
                      <a:pt x="821" y="0"/>
                    </a:lnTo>
                    <a:lnTo>
                      <a:pt x="821" y="0"/>
                    </a:lnTo>
                    <a:lnTo>
                      <a:pt x="823" y="0"/>
                    </a:lnTo>
                    <a:lnTo>
                      <a:pt x="825" y="1"/>
                    </a:lnTo>
                    <a:lnTo>
                      <a:pt x="828" y="3"/>
                    </a:lnTo>
                    <a:lnTo>
                      <a:pt x="832" y="5"/>
                    </a:lnTo>
                    <a:lnTo>
                      <a:pt x="832" y="7"/>
                    </a:lnTo>
                    <a:lnTo>
                      <a:pt x="832" y="9"/>
                    </a:lnTo>
                    <a:lnTo>
                      <a:pt x="832" y="11"/>
                    </a:lnTo>
                    <a:lnTo>
                      <a:pt x="832" y="12"/>
                    </a:lnTo>
                    <a:lnTo>
                      <a:pt x="828" y="15"/>
                    </a:lnTo>
                    <a:lnTo>
                      <a:pt x="825" y="16"/>
                    </a:lnTo>
                    <a:lnTo>
                      <a:pt x="823" y="17"/>
                    </a:lnTo>
                    <a:lnTo>
                      <a:pt x="821" y="17"/>
                    </a:lnTo>
                    <a:lnTo>
                      <a:pt x="821" y="17"/>
                    </a:lnTo>
                    <a:close/>
                    <a:moveTo>
                      <a:pt x="778" y="17"/>
                    </a:moveTo>
                    <a:lnTo>
                      <a:pt x="778" y="17"/>
                    </a:lnTo>
                    <a:lnTo>
                      <a:pt x="777" y="17"/>
                    </a:lnTo>
                    <a:lnTo>
                      <a:pt x="775" y="16"/>
                    </a:lnTo>
                    <a:lnTo>
                      <a:pt x="772" y="15"/>
                    </a:lnTo>
                    <a:lnTo>
                      <a:pt x="768" y="12"/>
                    </a:lnTo>
                    <a:lnTo>
                      <a:pt x="768" y="11"/>
                    </a:lnTo>
                    <a:lnTo>
                      <a:pt x="768" y="9"/>
                    </a:lnTo>
                    <a:lnTo>
                      <a:pt x="768" y="7"/>
                    </a:lnTo>
                    <a:lnTo>
                      <a:pt x="768" y="5"/>
                    </a:lnTo>
                    <a:lnTo>
                      <a:pt x="772" y="3"/>
                    </a:lnTo>
                    <a:lnTo>
                      <a:pt x="775" y="1"/>
                    </a:lnTo>
                    <a:lnTo>
                      <a:pt x="777" y="0"/>
                    </a:lnTo>
                    <a:lnTo>
                      <a:pt x="778" y="0"/>
                    </a:lnTo>
                    <a:lnTo>
                      <a:pt x="778" y="0"/>
                    </a:lnTo>
                    <a:lnTo>
                      <a:pt x="780" y="0"/>
                    </a:lnTo>
                    <a:lnTo>
                      <a:pt x="782" y="1"/>
                    </a:lnTo>
                    <a:lnTo>
                      <a:pt x="785" y="3"/>
                    </a:lnTo>
                    <a:lnTo>
                      <a:pt x="789" y="5"/>
                    </a:lnTo>
                    <a:lnTo>
                      <a:pt x="789" y="7"/>
                    </a:lnTo>
                    <a:lnTo>
                      <a:pt x="789" y="9"/>
                    </a:lnTo>
                    <a:lnTo>
                      <a:pt x="789" y="11"/>
                    </a:lnTo>
                    <a:lnTo>
                      <a:pt x="789" y="12"/>
                    </a:lnTo>
                    <a:lnTo>
                      <a:pt x="785" y="15"/>
                    </a:lnTo>
                    <a:lnTo>
                      <a:pt x="782" y="16"/>
                    </a:lnTo>
                    <a:lnTo>
                      <a:pt x="780" y="17"/>
                    </a:lnTo>
                    <a:lnTo>
                      <a:pt x="778" y="17"/>
                    </a:lnTo>
                    <a:lnTo>
                      <a:pt x="778" y="17"/>
                    </a:lnTo>
                    <a:close/>
                    <a:moveTo>
                      <a:pt x="735" y="17"/>
                    </a:moveTo>
                    <a:lnTo>
                      <a:pt x="735" y="17"/>
                    </a:lnTo>
                    <a:lnTo>
                      <a:pt x="734" y="17"/>
                    </a:lnTo>
                    <a:lnTo>
                      <a:pt x="730" y="16"/>
                    </a:lnTo>
                    <a:lnTo>
                      <a:pt x="729" y="15"/>
                    </a:lnTo>
                    <a:lnTo>
                      <a:pt x="725" y="12"/>
                    </a:lnTo>
                    <a:lnTo>
                      <a:pt x="725" y="11"/>
                    </a:lnTo>
                    <a:lnTo>
                      <a:pt x="725" y="9"/>
                    </a:lnTo>
                    <a:lnTo>
                      <a:pt x="725" y="7"/>
                    </a:lnTo>
                    <a:lnTo>
                      <a:pt x="725" y="5"/>
                    </a:lnTo>
                    <a:lnTo>
                      <a:pt x="729" y="3"/>
                    </a:lnTo>
                    <a:lnTo>
                      <a:pt x="730" y="1"/>
                    </a:lnTo>
                    <a:lnTo>
                      <a:pt x="734" y="0"/>
                    </a:lnTo>
                    <a:lnTo>
                      <a:pt x="735" y="0"/>
                    </a:lnTo>
                    <a:lnTo>
                      <a:pt x="735" y="0"/>
                    </a:lnTo>
                    <a:lnTo>
                      <a:pt x="737" y="0"/>
                    </a:lnTo>
                    <a:lnTo>
                      <a:pt x="739" y="1"/>
                    </a:lnTo>
                    <a:lnTo>
                      <a:pt x="742" y="3"/>
                    </a:lnTo>
                    <a:lnTo>
                      <a:pt x="746" y="5"/>
                    </a:lnTo>
                    <a:lnTo>
                      <a:pt x="746" y="7"/>
                    </a:lnTo>
                    <a:lnTo>
                      <a:pt x="746" y="9"/>
                    </a:lnTo>
                    <a:lnTo>
                      <a:pt x="746" y="11"/>
                    </a:lnTo>
                    <a:lnTo>
                      <a:pt x="746" y="12"/>
                    </a:lnTo>
                    <a:lnTo>
                      <a:pt x="742" y="15"/>
                    </a:lnTo>
                    <a:lnTo>
                      <a:pt x="739" y="16"/>
                    </a:lnTo>
                    <a:lnTo>
                      <a:pt x="737" y="17"/>
                    </a:lnTo>
                    <a:lnTo>
                      <a:pt x="735" y="17"/>
                    </a:lnTo>
                    <a:lnTo>
                      <a:pt x="735" y="17"/>
                    </a:lnTo>
                    <a:close/>
                    <a:moveTo>
                      <a:pt x="692" y="17"/>
                    </a:moveTo>
                    <a:lnTo>
                      <a:pt x="692" y="17"/>
                    </a:lnTo>
                    <a:lnTo>
                      <a:pt x="691" y="17"/>
                    </a:lnTo>
                    <a:lnTo>
                      <a:pt x="687" y="16"/>
                    </a:lnTo>
                    <a:lnTo>
                      <a:pt x="685" y="15"/>
                    </a:lnTo>
                    <a:lnTo>
                      <a:pt x="682" y="12"/>
                    </a:lnTo>
                    <a:lnTo>
                      <a:pt x="682" y="11"/>
                    </a:lnTo>
                    <a:lnTo>
                      <a:pt x="682" y="9"/>
                    </a:lnTo>
                    <a:lnTo>
                      <a:pt x="682" y="7"/>
                    </a:lnTo>
                    <a:lnTo>
                      <a:pt x="682" y="5"/>
                    </a:lnTo>
                    <a:lnTo>
                      <a:pt x="685" y="3"/>
                    </a:lnTo>
                    <a:lnTo>
                      <a:pt x="687" y="1"/>
                    </a:lnTo>
                    <a:lnTo>
                      <a:pt x="691" y="0"/>
                    </a:lnTo>
                    <a:lnTo>
                      <a:pt x="692" y="0"/>
                    </a:lnTo>
                    <a:lnTo>
                      <a:pt x="692" y="0"/>
                    </a:lnTo>
                    <a:lnTo>
                      <a:pt x="694" y="0"/>
                    </a:lnTo>
                    <a:lnTo>
                      <a:pt x="696" y="1"/>
                    </a:lnTo>
                    <a:lnTo>
                      <a:pt x="699" y="3"/>
                    </a:lnTo>
                    <a:lnTo>
                      <a:pt x="703" y="5"/>
                    </a:lnTo>
                    <a:lnTo>
                      <a:pt x="703" y="7"/>
                    </a:lnTo>
                    <a:lnTo>
                      <a:pt x="703" y="9"/>
                    </a:lnTo>
                    <a:lnTo>
                      <a:pt x="703" y="11"/>
                    </a:lnTo>
                    <a:lnTo>
                      <a:pt x="703" y="12"/>
                    </a:lnTo>
                    <a:lnTo>
                      <a:pt x="699" y="15"/>
                    </a:lnTo>
                    <a:lnTo>
                      <a:pt x="696" y="16"/>
                    </a:lnTo>
                    <a:lnTo>
                      <a:pt x="694" y="17"/>
                    </a:lnTo>
                    <a:lnTo>
                      <a:pt x="692" y="17"/>
                    </a:lnTo>
                    <a:lnTo>
                      <a:pt x="692" y="17"/>
                    </a:lnTo>
                    <a:close/>
                    <a:moveTo>
                      <a:pt x="649" y="17"/>
                    </a:moveTo>
                    <a:lnTo>
                      <a:pt x="649" y="17"/>
                    </a:lnTo>
                    <a:lnTo>
                      <a:pt x="648" y="17"/>
                    </a:lnTo>
                    <a:lnTo>
                      <a:pt x="644" y="16"/>
                    </a:lnTo>
                    <a:lnTo>
                      <a:pt x="642" y="15"/>
                    </a:lnTo>
                    <a:lnTo>
                      <a:pt x="639" y="12"/>
                    </a:lnTo>
                    <a:lnTo>
                      <a:pt x="639" y="11"/>
                    </a:lnTo>
                    <a:lnTo>
                      <a:pt x="639" y="9"/>
                    </a:lnTo>
                    <a:lnTo>
                      <a:pt x="639" y="7"/>
                    </a:lnTo>
                    <a:lnTo>
                      <a:pt x="639" y="5"/>
                    </a:lnTo>
                    <a:lnTo>
                      <a:pt x="642" y="3"/>
                    </a:lnTo>
                    <a:lnTo>
                      <a:pt x="644" y="1"/>
                    </a:lnTo>
                    <a:lnTo>
                      <a:pt x="648" y="0"/>
                    </a:lnTo>
                    <a:lnTo>
                      <a:pt x="649" y="0"/>
                    </a:lnTo>
                    <a:lnTo>
                      <a:pt x="649" y="0"/>
                    </a:lnTo>
                    <a:lnTo>
                      <a:pt x="651" y="0"/>
                    </a:lnTo>
                    <a:lnTo>
                      <a:pt x="653" y="1"/>
                    </a:lnTo>
                    <a:lnTo>
                      <a:pt x="656" y="3"/>
                    </a:lnTo>
                    <a:lnTo>
                      <a:pt x="660" y="5"/>
                    </a:lnTo>
                    <a:lnTo>
                      <a:pt x="660" y="7"/>
                    </a:lnTo>
                    <a:lnTo>
                      <a:pt x="660" y="9"/>
                    </a:lnTo>
                    <a:lnTo>
                      <a:pt x="660" y="11"/>
                    </a:lnTo>
                    <a:lnTo>
                      <a:pt x="660" y="12"/>
                    </a:lnTo>
                    <a:lnTo>
                      <a:pt x="656" y="15"/>
                    </a:lnTo>
                    <a:lnTo>
                      <a:pt x="653" y="16"/>
                    </a:lnTo>
                    <a:lnTo>
                      <a:pt x="651" y="17"/>
                    </a:lnTo>
                    <a:lnTo>
                      <a:pt x="649" y="17"/>
                    </a:lnTo>
                    <a:lnTo>
                      <a:pt x="649" y="17"/>
                    </a:lnTo>
                    <a:close/>
                    <a:moveTo>
                      <a:pt x="606" y="17"/>
                    </a:moveTo>
                    <a:lnTo>
                      <a:pt x="606" y="17"/>
                    </a:lnTo>
                    <a:lnTo>
                      <a:pt x="605" y="17"/>
                    </a:lnTo>
                    <a:lnTo>
                      <a:pt x="601" y="16"/>
                    </a:lnTo>
                    <a:lnTo>
                      <a:pt x="599" y="15"/>
                    </a:lnTo>
                    <a:lnTo>
                      <a:pt x="596" y="12"/>
                    </a:lnTo>
                    <a:lnTo>
                      <a:pt x="596" y="11"/>
                    </a:lnTo>
                    <a:lnTo>
                      <a:pt x="596" y="9"/>
                    </a:lnTo>
                    <a:lnTo>
                      <a:pt x="596" y="7"/>
                    </a:lnTo>
                    <a:lnTo>
                      <a:pt x="596" y="5"/>
                    </a:lnTo>
                    <a:lnTo>
                      <a:pt x="599" y="3"/>
                    </a:lnTo>
                    <a:lnTo>
                      <a:pt x="601" y="1"/>
                    </a:lnTo>
                    <a:lnTo>
                      <a:pt x="605" y="0"/>
                    </a:lnTo>
                    <a:lnTo>
                      <a:pt x="606" y="0"/>
                    </a:lnTo>
                    <a:lnTo>
                      <a:pt x="606" y="0"/>
                    </a:lnTo>
                    <a:lnTo>
                      <a:pt x="608" y="0"/>
                    </a:lnTo>
                    <a:lnTo>
                      <a:pt x="610" y="1"/>
                    </a:lnTo>
                    <a:lnTo>
                      <a:pt x="613" y="3"/>
                    </a:lnTo>
                    <a:lnTo>
                      <a:pt x="617" y="5"/>
                    </a:lnTo>
                    <a:lnTo>
                      <a:pt x="617" y="7"/>
                    </a:lnTo>
                    <a:lnTo>
                      <a:pt x="617" y="9"/>
                    </a:lnTo>
                    <a:lnTo>
                      <a:pt x="617" y="11"/>
                    </a:lnTo>
                    <a:lnTo>
                      <a:pt x="617" y="12"/>
                    </a:lnTo>
                    <a:lnTo>
                      <a:pt x="613" y="15"/>
                    </a:lnTo>
                    <a:lnTo>
                      <a:pt x="610" y="16"/>
                    </a:lnTo>
                    <a:lnTo>
                      <a:pt x="608" y="17"/>
                    </a:lnTo>
                    <a:lnTo>
                      <a:pt x="606" y="17"/>
                    </a:lnTo>
                    <a:lnTo>
                      <a:pt x="606" y="17"/>
                    </a:lnTo>
                    <a:close/>
                    <a:moveTo>
                      <a:pt x="563" y="17"/>
                    </a:moveTo>
                    <a:lnTo>
                      <a:pt x="563" y="17"/>
                    </a:lnTo>
                    <a:lnTo>
                      <a:pt x="562" y="17"/>
                    </a:lnTo>
                    <a:lnTo>
                      <a:pt x="558" y="16"/>
                    </a:lnTo>
                    <a:lnTo>
                      <a:pt x="555" y="15"/>
                    </a:lnTo>
                    <a:lnTo>
                      <a:pt x="553" y="12"/>
                    </a:lnTo>
                    <a:lnTo>
                      <a:pt x="553" y="11"/>
                    </a:lnTo>
                    <a:lnTo>
                      <a:pt x="553" y="9"/>
                    </a:lnTo>
                    <a:lnTo>
                      <a:pt x="553" y="7"/>
                    </a:lnTo>
                    <a:lnTo>
                      <a:pt x="553" y="5"/>
                    </a:lnTo>
                    <a:lnTo>
                      <a:pt x="555" y="3"/>
                    </a:lnTo>
                    <a:lnTo>
                      <a:pt x="558" y="1"/>
                    </a:lnTo>
                    <a:lnTo>
                      <a:pt x="562" y="0"/>
                    </a:lnTo>
                    <a:lnTo>
                      <a:pt x="563" y="0"/>
                    </a:lnTo>
                    <a:lnTo>
                      <a:pt x="563" y="0"/>
                    </a:lnTo>
                    <a:lnTo>
                      <a:pt x="565" y="0"/>
                    </a:lnTo>
                    <a:lnTo>
                      <a:pt x="567" y="1"/>
                    </a:lnTo>
                    <a:lnTo>
                      <a:pt x="570" y="3"/>
                    </a:lnTo>
                    <a:lnTo>
                      <a:pt x="574" y="5"/>
                    </a:lnTo>
                    <a:lnTo>
                      <a:pt x="574" y="7"/>
                    </a:lnTo>
                    <a:lnTo>
                      <a:pt x="574" y="9"/>
                    </a:lnTo>
                    <a:lnTo>
                      <a:pt x="574" y="11"/>
                    </a:lnTo>
                    <a:lnTo>
                      <a:pt x="574" y="12"/>
                    </a:lnTo>
                    <a:lnTo>
                      <a:pt x="570" y="15"/>
                    </a:lnTo>
                    <a:lnTo>
                      <a:pt x="567" y="16"/>
                    </a:lnTo>
                    <a:lnTo>
                      <a:pt x="565" y="17"/>
                    </a:lnTo>
                    <a:lnTo>
                      <a:pt x="563" y="17"/>
                    </a:lnTo>
                    <a:lnTo>
                      <a:pt x="563" y="17"/>
                    </a:lnTo>
                    <a:close/>
                    <a:moveTo>
                      <a:pt x="520" y="17"/>
                    </a:moveTo>
                    <a:lnTo>
                      <a:pt x="520" y="17"/>
                    </a:lnTo>
                    <a:lnTo>
                      <a:pt x="518" y="17"/>
                    </a:lnTo>
                    <a:lnTo>
                      <a:pt x="515" y="16"/>
                    </a:lnTo>
                    <a:lnTo>
                      <a:pt x="512" y="15"/>
                    </a:lnTo>
                    <a:lnTo>
                      <a:pt x="510" y="12"/>
                    </a:lnTo>
                    <a:lnTo>
                      <a:pt x="510" y="11"/>
                    </a:lnTo>
                    <a:lnTo>
                      <a:pt x="510" y="9"/>
                    </a:lnTo>
                    <a:lnTo>
                      <a:pt x="510" y="7"/>
                    </a:lnTo>
                    <a:lnTo>
                      <a:pt x="510" y="5"/>
                    </a:lnTo>
                    <a:lnTo>
                      <a:pt x="512" y="3"/>
                    </a:lnTo>
                    <a:lnTo>
                      <a:pt x="515" y="1"/>
                    </a:lnTo>
                    <a:lnTo>
                      <a:pt x="518" y="0"/>
                    </a:lnTo>
                    <a:lnTo>
                      <a:pt x="520" y="0"/>
                    </a:lnTo>
                    <a:lnTo>
                      <a:pt x="520" y="0"/>
                    </a:lnTo>
                    <a:lnTo>
                      <a:pt x="522" y="0"/>
                    </a:lnTo>
                    <a:lnTo>
                      <a:pt x="524" y="1"/>
                    </a:lnTo>
                    <a:lnTo>
                      <a:pt x="527" y="3"/>
                    </a:lnTo>
                    <a:lnTo>
                      <a:pt x="531" y="5"/>
                    </a:lnTo>
                    <a:lnTo>
                      <a:pt x="531" y="7"/>
                    </a:lnTo>
                    <a:lnTo>
                      <a:pt x="531" y="9"/>
                    </a:lnTo>
                    <a:lnTo>
                      <a:pt x="531" y="11"/>
                    </a:lnTo>
                    <a:lnTo>
                      <a:pt x="531" y="12"/>
                    </a:lnTo>
                    <a:lnTo>
                      <a:pt x="527" y="15"/>
                    </a:lnTo>
                    <a:lnTo>
                      <a:pt x="524" y="16"/>
                    </a:lnTo>
                    <a:lnTo>
                      <a:pt x="522" y="17"/>
                    </a:lnTo>
                    <a:lnTo>
                      <a:pt x="520" y="17"/>
                    </a:lnTo>
                    <a:lnTo>
                      <a:pt x="520" y="17"/>
                    </a:lnTo>
                    <a:close/>
                    <a:moveTo>
                      <a:pt x="477" y="17"/>
                    </a:moveTo>
                    <a:lnTo>
                      <a:pt x="477" y="17"/>
                    </a:lnTo>
                    <a:lnTo>
                      <a:pt x="475" y="17"/>
                    </a:lnTo>
                    <a:lnTo>
                      <a:pt x="472" y="16"/>
                    </a:lnTo>
                    <a:lnTo>
                      <a:pt x="469" y="15"/>
                    </a:lnTo>
                    <a:lnTo>
                      <a:pt x="467" y="12"/>
                    </a:lnTo>
                    <a:lnTo>
                      <a:pt x="467" y="11"/>
                    </a:lnTo>
                    <a:lnTo>
                      <a:pt x="467" y="9"/>
                    </a:lnTo>
                    <a:lnTo>
                      <a:pt x="467" y="7"/>
                    </a:lnTo>
                    <a:lnTo>
                      <a:pt x="467" y="5"/>
                    </a:lnTo>
                    <a:lnTo>
                      <a:pt x="469" y="3"/>
                    </a:lnTo>
                    <a:lnTo>
                      <a:pt x="472" y="1"/>
                    </a:lnTo>
                    <a:lnTo>
                      <a:pt x="475" y="0"/>
                    </a:lnTo>
                    <a:lnTo>
                      <a:pt x="477" y="0"/>
                    </a:lnTo>
                    <a:lnTo>
                      <a:pt x="477" y="0"/>
                    </a:lnTo>
                    <a:lnTo>
                      <a:pt x="479" y="0"/>
                    </a:lnTo>
                    <a:lnTo>
                      <a:pt x="481" y="1"/>
                    </a:lnTo>
                    <a:lnTo>
                      <a:pt x="484" y="3"/>
                    </a:lnTo>
                    <a:lnTo>
                      <a:pt x="487" y="5"/>
                    </a:lnTo>
                    <a:lnTo>
                      <a:pt x="487" y="7"/>
                    </a:lnTo>
                    <a:lnTo>
                      <a:pt x="487" y="9"/>
                    </a:lnTo>
                    <a:lnTo>
                      <a:pt x="487" y="11"/>
                    </a:lnTo>
                    <a:lnTo>
                      <a:pt x="487" y="12"/>
                    </a:lnTo>
                    <a:lnTo>
                      <a:pt x="484" y="15"/>
                    </a:lnTo>
                    <a:lnTo>
                      <a:pt x="481" y="16"/>
                    </a:lnTo>
                    <a:lnTo>
                      <a:pt x="479" y="17"/>
                    </a:lnTo>
                    <a:lnTo>
                      <a:pt x="477" y="17"/>
                    </a:lnTo>
                    <a:lnTo>
                      <a:pt x="477" y="17"/>
                    </a:lnTo>
                    <a:close/>
                    <a:moveTo>
                      <a:pt x="434" y="17"/>
                    </a:moveTo>
                    <a:lnTo>
                      <a:pt x="434" y="17"/>
                    </a:lnTo>
                    <a:lnTo>
                      <a:pt x="432" y="17"/>
                    </a:lnTo>
                    <a:lnTo>
                      <a:pt x="429" y="16"/>
                    </a:lnTo>
                    <a:lnTo>
                      <a:pt x="425" y="15"/>
                    </a:lnTo>
                    <a:lnTo>
                      <a:pt x="424" y="12"/>
                    </a:lnTo>
                    <a:lnTo>
                      <a:pt x="424" y="11"/>
                    </a:lnTo>
                    <a:lnTo>
                      <a:pt x="424" y="9"/>
                    </a:lnTo>
                    <a:lnTo>
                      <a:pt x="424" y="7"/>
                    </a:lnTo>
                    <a:lnTo>
                      <a:pt x="424" y="5"/>
                    </a:lnTo>
                    <a:lnTo>
                      <a:pt x="425" y="3"/>
                    </a:lnTo>
                    <a:lnTo>
                      <a:pt x="429" y="1"/>
                    </a:lnTo>
                    <a:lnTo>
                      <a:pt x="432" y="0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6" y="0"/>
                    </a:lnTo>
                    <a:lnTo>
                      <a:pt x="438" y="1"/>
                    </a:lnTo>
                    <a:lnTo>
                      <a:pt x="441" y="3"/>
                    </a:lnTo>
                    <a:lnTo>
                      <a:pt x="444" y="5"/>
                    </a:lnTo>
                    <a:lnTo>
                      <a:pt x="444" y="7"/>
                    </a:lnTo>
                    <a:lnTo>
                      <a:pt x="444" y="9"/>
                    </a:lnTo>
                    <a:lnTo>
                      <a:pt x="444" y="11"/>
                    </a:lnTo>
                    <a:lnTo>
                      <a:pt x="444" y="12"/>
                    </a:lnTo>
                    <a:lnTo>
                      <a:pt x="441" y="15"/>
                    </a:lnTo>
                    <a:lnTo>
                      <a:pt x="438" y="16"/>
                    </a:lnTo>
                    <a:lnTo>
                      <a:pt x="436" y="17"/>
                    </a:lnTo>
                    <a:lnTo>
                      <a:pt x="434" y="17"/>
                    </a:lnTo>
                    <a:lnTo>
                      <a:pt x="434" y="17"/>
                    </a:lnTo>
                    <a:close/>
                    <a:moveTo>
                      <a:pt x="391" y="17"/>
                    </a:moveTo>
                    <a:lnTo>
                      <a:pt x="391" y="17"/>
                    </a:lnTo>
                    <a:lnTo>
                      <a:pt x="389" y="17"/>
                    </a:lnTo>
                    <a:lnTo>
                      <a:pt x="386" y="16"/>
                    </a:lnTo>
                    <a:lnTo>
                      <a:pt x="382" y="15"/>
                    </a:lnTo>
                    <a:lnTo>
                      <a:pt x="381" y="12"/>
                    </a:lnTo>
                    <a:lnTo>
                      <a:pt x="381" y="11"/>
                    </a:lnTo>
                    <a:lnTo>
                      <a:pt x="381" y="9"/>
                    </a:lnTo>
                    <a:lnTo>
                      <a:pt x="381" y="7"/>
                    </a:lnTo>
                    <a:lnTo>
                      <a:pt x="381" y="5"/>
                    </a:lnTo>
                    <a:lnTo>
                      <a:pt x="382" y="3"/>
                    </a:lnTo>
                    <a:lnTo>
                      <a:pt x="386" y="1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3" y="0"/>
                    </a:lnTo>
                    <a:lnTo>
                      <a:pt x="395" y="1"/>
                    </a:lnTo>
                    <a:lnTo>
                      <a:pt x="398" y="3"/>
                    </a:lnTo>
                    <a:lnTo>
                      <a:pt x="401" y="5"/>
                    </a:lnTo>
                    <a:lnTo>
                      <a:pt x="401" y="7"/>
                    </a:lnTo>
                    <a:lnTo>
                      <a:pt x="401" y="9"/>
                    </a:lnTo>
                    <a:lnTo>
                      <a:pt x="401" y="11"/>
                    </a:lnTo>
                    <a:lnTo>
                      <a:pt x="401" y="12"/>
                    </a:lnTo>
                    <a:lnTo>
                      <a:pt x="398" y="15"/>
                    </a:lnTo>
                    <a:lnTo>
                      <a:pt x="395" y="16"/>
                    </a:lnTo>
                    <a:lnTo>
                      <a:pt x="393" y="17"/>
                    </a:lnTo>
                    <a:lnTo>
                      <a:pt x="391" y="17"/>
                    </a:lnTo>
                    <a:lnTo>
                      <a:pt x="391" y="17"/>
                    </a:lnTo>
                    <a:close/>
                    <a:moveTo>
                      <a:pt x="348" y="17"/>
                    </a:moveTo>
                    <a:lnTo>
                      <a:pt x="348" y="17"/>
                    </a:lnTo>
                    <a:lnTo>
                      <a:pt x="346" y="17"/>
                    </a:lnTo>
                    <a:lnTo>
                      <a:pt x="343" y="16"/>
                    </a:lnTo>
                    <a:lnTo>
                      <a:pt x="339" y="15"/>
                    </a:lnTo>
                    <a:lnTo>
                      <a:pt x="338" y="12"/>
                    </a:lnTo>
                    <a:lnTo>
                      <a:pt x="338" y="11"/>
                    </a:lnTo>
                    <a:lnTo>
                      <a:pt x="338" y="9"/>
                    </a:lnTo>
                    <a:lnTo>
                      <a:pt x="338" y="7"/>
                    </a:lnTo>
                    <a:lnTo>
                      <a:pt x="338" y="5"/>
                    </a:lnTo>
                    <a:lnTo>
                      <a:pt x="339" y="3"/>
                    </a:lnTo>
                    <a:lnTo>
                      <a:pt x="343" y="1"/>
                    </a:lnTo>
                    <a:lnTo>
                      <a:pt x="346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50" y="0"/>
                    </a:lnTo>
                    <a:lnTo>
                      <a:pt x="351" y="1"/>
                    </a:lnTo>
                    <a:lnTo>
                      <a:pt x="355" y="3"/>
                    </a:lnTo>
                    <a:lnTo>
                      <a:pt x="358" y="5"/>
                    </a:lnTo>
                    <a:lnTo>
                      <a:pt x="358" y="7"/>
                    </a:lnTo>
                    <a:lnTo>
                      <a:pt x="358" y="9"/>
                    </a:lnTo>
                    <a:lnTo>
                      <a:pt x="358" y="11"/>
                    </a:lnTo>
                    <a:lnTo>
                      <a:pt x="358" y="12"/>
                    </a:lnTo>
                    <a:lnTo>
                      <a:pt x="355" y="15"/>
                    </a:lnTo>
                    <a:lnTo>
                      <a:pt x="351" y="16"/>
                    </a:lnTo>
                    <a:lnTo>
                      <a:pt x="350" y="17"/>
                    </a:lnTo>
                    <a:lnTo>
                      <a:pt x="348" y="17"/>
                    </a:lnTo>
                    <a:lnTo>
                      <a:pt x="348" y="17"/>
                    </a:lnTo>
                    <a:close/>
                    <a:moveTo>
                      <a:pt x="305" y="17"/>
                    </a:moveTo>
                    <a:lnTo>
                      <a:pt x="305" y="17"/>
                    </a:lnTo>
                    <a:lnTo>
                      <a:pt x="303" y="17"/>
                    </a:lnTo>
                    <a:lnTo>
                      <a:pt x="300" y="16"/>
                    </a:lnTo>
                    <a:lnTo>
                      <a:pt x="296" y="15"/>
                    </a:lnTo>
                    <a:lnTo>
                      <a:pt x="295" y="12"/>
                    </a:lnTo>
                    <a:lnTo>
                      <a:pt x="295" y="11"/>
                    </a:lnTo>
                    <a:lnTo>
                      <a:pt x="295" y="9"/>
                    </a:lnTo>
                    <a:lnTo>
                      <a:pt x="295" y="7"/>
                    </a:lnTo>
                    <a:lnTo>
                      <a:pt x="295" y="5"/>
                    </a:lnTo>
                    <a:lnTo>
                      <a:pt x="296" y="3"/>
                    </a:lnTo>
                    <a:lnTo>
                      <a:pt x="300" y="1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5" y="0"/>
                    </a:lnTo>
                    <a:lnTo>
                      <a:pt x="307" y="0"/>
                    </a:lnTo>
                    <a:lnTo>
                      <a:pt x="308" y="1"/>
                    </a:lnTo>
                    <a:lnTo>
                      <a:pt x="312" y="3"/>
                    </a:lnTo>
                    <a:lnTo>
                      <a:pt x="315" y="5"/>
                    </a:lnTo>
                    <a:lnTo>
                      <a:pt x="315" y="7"/>
                    </a:lnTo>
                    <a:lnTo>
                      <a:pt x="315" y="9"/>
                    </a:lnTo>
                    <a:lnTo>
                      <a:pt x="315" y="11"/>
                    </a:lnTo>
                    <a:lnTo>
                      <a:pt x="315" y="12"/>
                    </a:lnTo>
                    <a:lnTo>
                      <a:pt x="312" y="15"/>
                    </a:lnTo>
                    <a:lnTo>
                      <a:pt x="308" y="16"/>
                    </a:lnTo>
                    <a:lnTo>
                      <a:pt x="307" y="17"/>
                    </a:lnTo>
                    <a:lnTo>
                      <a:pt x="305" y="17"/>
                    </a:lnTo>
                    <a:lnTo>
                      <a:pt x="305" y="17"/>
                    </a:lnTo>
                    <a:close/>
                    <a:moveTo>
                      <a:pt x="262" y="17"/>
                    </a:moveTo>
                    <a:lnTo>
                      <a:pt x="262" y="17"/>
                    </a:lnTo>
                    <a:lnTo>
                      <a:pt x="260" y="17"/>
                    </a:lnTo>
                    <a:lnTo>
                      <a:pt x="257" y="16"/>
                    </a:lnTo>
                    <a:lnTo>
                      <a:pt x="253" y="15"/>
                    </a:lnTo>
                    <a:lnTo>
                      <a:pt x="252" y="12"/>
                    </a:lnTo>
                    <a:lnTo>
                      <a:pt x="252" y="11"/>
                    </a:lnTo>
                    <a:lnTo>
                      <a:pt x="252" y="9"/>
                    </a:lnTo>
                    <a:lnTo>
                      <a:pt x="252" y="7"/>
                    </a:lnTo>
                    <a:lnTo>
                      <a:pt x="252" y="5"/>
                    </a:lnTo>
                    <a:lnTo>
                      <a:pt x="253" y="3"/>
                    </a:lnTo>
                    <a:lnTo>
                      <a:pt x="257" y="1"/>
                    </a:lnTo>
                    <a:lnTo>
                      <a:pt x="260" y="0"/>
                    </a:lnTo>
                    <a:lnTo>
                      <a:pt x="262" y="0"/>
                    </a:lnTo>
                    <a:lnTo>
                      <a:pt x="262" y="0"/>
                    </a:lnTo>
                    <a:lnTo>
                      <a:pt x="264" y="0"/>
                    </a:lnTo>
                    <a:lnTo>
                      <a:pt x="265" y="1"/>
                    </a:lnTo>
                    <a:lnTo>
                      <a:pt x="269" y="3"/>
                    </a:lnTo>
                    <a:lnTo>
                      <a:pt x="272" y="5"/>
                    </a:lnTo>
                    <a:lnTo>
                      <a:pt x="272" y="7"/>
                    </a:lnTo>
                    <a:lnTo>
                      <a:pt x="272" y="9"/>
                    </a:lnTo>
                    <a:lnTo>
                      <a:pt x="272" y="11"/>
                    </a:lnTo>
                    <a:lnTo>
                      <a:pt x="272" y="12"/>
                    </a:lnTo>
                    <a:lnTo>
                      <a:pt x="269" y="15"/>
                    </a:lnTo>
                    <a:lnTo>
                      <a:pt x="265" y="16"/>
                    </a:lnTo>
                    <a:lnTo>
                      <a:pt x="264" y="17"/>
                    </a:lnTo>
                    <a:lnTo>
                      <a:pt x="262" y="17"/>
                    </a:lnTo>
                    <a:lnTo>
                      <a:pt x="262" y="17"/>
                    </a:lnTo>
                    <a:close/>
                    <a:moveTo>
                      <a:pt x="219" y="17"/>
                    </a:moveTo>
                    <a:lnTo>
                      <a:pt x="219" y="17"/>
                    </a:lnTo>
                    <a:lnTo>
                      <a:pt x="217" y="17"/>
                    </a:lnTo>
                    <a:lnTo>
                      <a:pt x="214" y="16"/>
                    </a:lnTo>
                    <a:lnTo>
                      <a:pt x="210" y="15"/>
                    </a:lnTo>
                    <a:lnTo>
                      <a:pt x="209" y="12"/>
                    </a:lnTo>
                    <a:lnTo>
                      <a:pt x="209" y="11"/>
                    </a:lnTo>
                    <a:lnTo>
                      <a:pt x="209" y="9"/>
                    </a:lnTo>
                    <a:lnTo>
                      <a:pt x="209" y="7"/>
                    </a:lnTo>
                    <a:lnTo>
                      <a:pt x="209" y="5"/>
                    </a:lnTo>
                    <a:lnTo>
                      <a:pt x="210" y="3"/>
                    </a:lnTo>
                    <a:lnTo>
                      <a:pt x="214" y="1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2" y="1"/>
                    </a:lnTo>
                    <a:lnTo>
                      <a:pt x="226" y="3"/>
                    </a:lnTo>
                    <a:lnTo>
                      <a:pt x="229" y="5"/>
                    </a:lnTo>
                    <a:lnTo>
                      <a:pt x="229" y="7"/>
                    </a:lnTo>
                    <a:lnTo>
                      <a:pt x="229" y="9"/>
                    </a:lnTo>
                    <a:lnTo>
                      <a:pt x="229" y="11"/>
                    </a:lnTo>
                    <a:lnTo>
                      <a:pt x="229" y="12"/>
                    </a:lnTo>
                    <a:lnTo>
                      <a:pt x="226" y="15"/>
                    </a:lnTo>
                    <a:lnTo>
                      <a:pt x="222" y="16"/>
                    </a:lnTo>
                    <a:lnTo>
                      <a:pt x="221" y="17"/>
                    </a:lnTo>
                    <a:lnTo>
                      <a:pt x="219" y="17"/>
                    </a:lnTo>
                    <a:lnTo>
                      <a:pt x="219" y="17"/>
                    </a:lnTo>
                    <a:close/>
                    <a:moveTo>
                      <a:pt x="176" y="17"/>
                    </a:moveTo>
                    <a:lnTo>
                      <a:pt x="176" y="17"/>
                    </a:lnTo>
                    <a:lnTo>
                      <a:pt x="174" y="17"/>
                    </a:lnTo>
                    <a:lnTo>
                      <a:pt x="171" y="16"/>
                    </a:lnTo>
                    <a:lnTo>
                      <a:pt x="167" y="15"/>
                    </a:lnTo>
                    <a:lnTo>
                      <a:pt x="166" y="12"/>
                    </a:lnTo>
                    <a:lnTo>
                      <a:pt x="166" y="11"/>
                    </a:lnTo>
                    <a:lnTo>
                      <a:pt x="166" y="9"/>
                    </a:lnTo>
                    <a:lnTo>
                      <a:pt x="166" y="7"/>
                    </a:lnTo>
                    <a:lnTo>
                      <a:pt x="166" y="5"/>
                    </a:lnTo>
                    <a:lnTo>
                      <a:pt x="167" y="3"/>
                    </a:lnTo>
                    <a:lnTo>
                      <a:pt x="171" y="1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178" y="0"/>
                    </a:lnTo>
                    <a:lnTo>
                      <a:pt x="179" y="1"/>
                    </a:lnTo>
                    <a:lnTo>
                      <a:pt x="183" y="3"/>
                    </a:lnTo>
                    <a:lnTo>
                      <a:pt x="186" y="5"/>
                    </a:lnTo>
                    <a:lnTo>
                      <a:pt x="186" y="7"/>
                    </a:lnTo>
                    <a:lnTo>
                      <a:pt x="186" y="9"/>
                    </a:lnTo>
                    <a:lnTo>
                      <a:pt x="186" y="11"/>
                    </a:lnTo>
                    <a:lnTo>
                      <a:pt x="186" y="12"/>
                    </a:lnTo>
                    <a:lnTo>
                      <a:pt x="183" y="15"/>
                    </a:lnTo>
                    <a:lnTo>
                      <a:pt x="179" y="16"/>
                    </a:lnTo>
                    <a:lnTo>
                      <a:pt x="178" y="17"/>
                    </a:lnTo>
                    <a:lnTo>
                      <a:pt x="176" y="17"/>
                    </a:lnTo>
                    <a:lnTo>
                      <a:pt x="176" y="17"/>
                    </a:lnTo>
                    <a:close/>
                    <a:moveTo>
                      <a:pt x="133" y="17"/>
                    </a:moveTo>
                    <a:lnTo>
                      <a:pt x="133" y="17"/>
                    </a:lnTo>
                    <a:lnTo>
                      <a:pt x="129" y="17"/>
                    </a:lnTo>
                    <a:lnTo>
                      <a:pt x="128" y="16"/>
                    </a:lnTo>
                    <a:lnTo>
                      <a:pt x="124" y="15"/>
                    </a:lnTo>
                    <a:lnTo>
                      <a:pt x="122" y="12"/>
                    </a:lnTo>
                    <a:lnTo>
                      <a:pt x="122" y="11"/>
                    </a:lnTo>
                    <a:lnTo>
                      <a:pt x="122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4" y="3"/>
                    </a:lnTo>
                    <a:lnTo>
                      <a:pt x="128" y="1"/>
                    </a:lnTo>
                    <a:lnTo>
                      <a:pt x="12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6" y="1"/>
                    </a:lnTo>
                    <a:lnTo>
                      <a:pt x="140" y="3"/>
                    </a:lnTo>
                    <a:lnTo>
                      <a:pt x="143" y="5"/>
                    </a:lnTo>
                    <a:lnTo>
                      <a:pt x="143" y="7"/>
                    </a:lnTo>
                    <a:lnTo>
                      <a:pt x="143" y="9"/>
                    </a:lnTo>
                    <a:lnTo>
                      <a:pt x="143" y="11"/>
                    </a:lnTo>
                    <a:lnTo>
                      <a:pt x="143" y="12"/>
                    </a:lnTo>
                    <a:lnTo>
                      <a:pt x="140" y="15"/>
                    </a:lnTo>
                    <a:lnTo>
                      <a:pt x="136" y="16"/>
                    </a:lnTo>
                    <a:lnTo>
                      <a:pt x="135" y="17"/>
                    </a:lnTo>
                    <a:lnTo>
                      <a:pt x="133" y="17"/>
                    </a:lnTo>
                    <a:lnTo>
                      <a:pt x="133" y="17"/>
                    </a:lnTo>
                    <a:close/>
                    <a:moveTo>
                      <a:pt x="90" y="17"/>
                    </a:moveTo>
                    <a:lnTo>
                      <a:pt x="90" y="17"/>
                    </a:lnTo>
                    <a:lnTo>
                      <a:pt x="86" y="17"/>
                    </a:lnTo>
                    <a:lnTo>
                      <a:pt x="85" y="16"/>
                    </a:lnTo>
                    <a:lnTo>
                      <a:pt x="81" y="15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79" y="9"/>
                    </a:lnTo>
                    <a:lnTo>
                      <a:pt x="79" y="7"/>
                    </a:lnTo>
                    <a:lnTo>
                      <a:pt x="79" y="5"/>
                    </a:lnTo>
                    <a:lnTo>
                      <a:pt x="81" y="3"/>
                    </a:lnTo>
                    <a:lnTo>
                      <a:pt x="85" y="1"/>
                    </a:lnTo>
                    <a:lnTo>
                      <a:pt x="86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7" y="3"/>
                    </a:lnTo>
                    <a:lnTo>
                      <a:pt x="100" y="5"/>
                    </a:lnTo>
                    <a:lnTo>
                      <a:pt x="100" y="7"/>
                    </a:lnTo>
                    <a:lnTo>
                      <a:pt x="100" y="9"/>
                    </a:lnTo>
                    <a:lnTo>
                      <a:pt x="100" y="11"/>
                    </a:lnTo>
                    <a:lnTo>
                      <a:pt x="100" y="12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90" y="17"/>
                    </a:lnTo>
                    <a:lnTo>
                      <a:pt x="90" y="17"/>
                    </a:lnTo>
                    <a:close/>
                    <a:moveTo>
                      <a:pt x="47" y="17"/>
                    </a:moveTo>
                    <a:lnTo>
                      <a:pt x="47" y="17"/>
                    </a:lnTo>
                    <a:lnTo>
                      <a:pt x="43" y="17"/>
                    </a:lnTo>
                    <a:lnTo>
                      <a:pt x="42" y="16"/>
                    </a:lnTo>
                    <a:lnTo>
                      <a:pt x="38" y="15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8" y="3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50" y="1"/>
                    </a:lnTo>
                    <a:lnTo>
                      <a:pt x="54" y="3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7" y="9"/>
                    </a:lnTo>
                    <a:lnTo>
                      <a:pt x="57" y="11"/>
                    </a:lnTo>
                    <a:lnTo>
                      <a:pt x="57" y="12"/>
                    </a:lnTo>
                    <a:lnTo>
                      <a:pt x="54" y="15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7" y="17"/>
                    </a:lnTo>
                    <a:close/>
                    <a:moveTo>
                      <a:pt x="23" y="15"/>
                    </a:moveTo>
                    <a:lnTo>
                      <a:pt x="23" y="15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6" y="23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9" y="24"/>
                    </a:lnTo>
                    <a:lnTo>
                      <a:pt x="7" y="23"/>
                    </a:lnTo>
                    <a:lnTo>
                      <a:pt x="4" y="21"/>
                    </a:ln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9" y="9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3" y="15"/>
                    </a:lnTo>
                    <a:lnTo>
                      <a:pt x="23" y="15"/>
                    </a:lnTo>
                    <a:close/>
                    <a:moveTo>
                      <a:pt x="23" y="48"/>
                    </a:moveTo>
                    <a:lnTo>
                      <a:pt x="23" y="48"/>
                    </a:lnTo>
                    <a:lnTo>
                      <a:pt x="23" y="51"/>
                    </a:lnTo>
                    <a:lnTo>
                      <a:pt x="21" y="52"/>
                    </a:lnTo>
                    <a:lnTo>
                      <a:pt x="19" y="55"/>
                    </a:lnTo>
                    <a:lnTo>
                      <a:pt x="16" y="56"/>
                    </a:lnTo>
                    <a:lnTo>
                      <a:pt x="14" y="57"/>
                    </a:lnTo>
                    <a:lnTo>
                      <a:pt x="12" y="57"/>
                    </a:lnTo>
                    <a:lnTo>
                      <a:pt x="9" y="57"/>
                    </a:lnTo>
                    <a:lnTo>
                      <a:pt x="7" y="56"/>
                    </a:lnTo>
                    <a:lnTo>
                      <a:pt x="4" y="55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2" y="45"/>
                    </a:lnTo>
                    <a:lnTo>
                      <a:pt x="4" y="43"/>
                    </a:lnTo>
                    <a:lnTo>
                      <a:pt x="7" y="41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1"/>
                    </a:lnTo>
                    <a:lnTo>
                      <a:pt x="19" y="43"/>
                    </a:lnTo>
                    <a:lnTo>
                      <a:pt x="21" y="45"/>
                    </a:lnTo>
                    <a:lnTo>
                      <a:pt x="23" y="47"/>
                    </a:lnTo>
                    <a:lnTo>
                      <a:pt x="23" y="48"/>
                    </a:lnTo>
                    <a:lnTo>
                      <a:pt x="23" y="48"/>
                    </a:lnTo>
                    <a:close/>
                    <a:moveTo>
                      <a:pt x="23" y="82"/>
                    </a:moveTo>
                    <a:lnTo>
                      <a:pt x="23" y="82"/>
                    </a:lnTo>
                    <a:lnTo>
                      <a:pt x="23" y="84"/>
                    </a:lnTo>
                    <a:lnTo>
                      <a:pt x="21" y="86"/>
                    </a:lnTo>
                    <a:lnTo>
                      <a:pt x="19" y="88"/>
                    </a:lnTo>
                    <a:lnTo>
                      <a:pt x="16" y="90"/>
                    </a:lnTo>
                    <a:lnTo>
                      <a:pt x="14" y="91"/>
                    </a:lnTo>
                    <a:lnTo>
                      <a:pt x="12" y="91"/>
                    </a:lnTo>
                    <a:lnTo>
                      <a:pt x="9" y="91"/>
                    </a:lnTo>
                    <a:lnTo>
                      <a:pt x="7" y="90"/>
                    </a:lnTo>
                    <a:lnTo>
                      <a:pt x="4" y="88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2" y="79"/>
                    </a:lnTo>
                    <a:lnTo>
                      <a:pt x="4" y="76"/>
                    </a:lnTo>
                    <a:lnTo>
                      <a:pt x="7" y="75"/>
                    </a:lnTo>
                    <a:lnTo>
                      <a:pt x="9" y="74"/>
                    </a:lnTo>
                    <a:lnTo>
                      <a:pt x="12" y="74"/>
                    </a:lnTo>
                    <a:lnTo>
                      <a:pt x="14" y="74"/>
                    </a:lnTo>
                    <a:lnTo>
                      <a:pt x="16" y="75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3" y="80"/>
                    </a:lnTo>
                    <a:lnTo>
                      <a:pt x="23" y="82"/>
                    </a:lnTo>
                    <a:lnTo>
                      <a:pt x="23" y="82"/>
                    </a:lnTo>
                    <a:close/>
                    <a:moveTo>
                      <a:pt x="54" y="74"/>
                    </a:moveTo>
                    <a:lnTo>
                      <a:pt x="54" y="74"/>
                    </a:lnTo>
                    <a:lnTo>
                      <a:pt x="57" y="74"/>
                    </a:lnTo>
                    <a:lnTo>
                      <a:pt x="59" y="75"/>
                    </a:lnTo>
                    <a:lnTo>
                      <a:pt x="62" y="76"/>
                    </a:lnTo>
                    <a:lnTo>
                      <a:pt x="64" y="79"/>
                    </a:lnTo>
                    <a:lnTo>
                      <a:pt x="66" y="80"/>
                    </a:lnTo>
                    <a:lnTo>
                      <a:pt x="66" y="83"/>
                    </a:lnTo>
                    <a:lnTo>
                      <a:pt x="66" y="84"/>
                    </a:lnTo>
                    <a:lnTo>
                      <a:pt x="64" y="86"/>
                    </a:lnTo>
                    <a:lnTo>
                      <a:pt x="62" y="88"/>
                    </a:lnTo>
                    <a:lnTo>
                      <a:pt x="59" y="90"/>
                    </a:lnTo>
                    <a:lnTo>
                      <a:pt x="57" y="91"/>
                    </a:lnTo>
                    <a:lnTo>
                      <a:pt x="54" y="91"/>
                    </a:lnTo>
                    <a:lnTo>
                      <a:pt x="54" y="91"/>
                    </a:lnTo>
                    <a:lnTo>
                      <a:pt x="52" y="91"/>
                    </a:lnTo>
                    <a:lnTo>
                      <a:pt x="50" y="90"/>
                    </a:lnTo>
                    <a:lnTo>
                      <a:pt x="47" y="88"/>
                    </a:lnTo>
                    <a:lnTo>
                      <a:pt x="45" y="86"/>
                    </a:lnTo>
                    <a:lnTo>
                      <a:pt x="43" y="84"/>
                    </a:lnTo>
                    <a:lnTo>
                      <a:pt x="43" y="83"/>
                    </a:lnTo>
                    <a:lnTo>
                      <a:pt x="43" y="80"/>
                    </a:lnTo>
                    <a:lnTo>
                      <a:pt x="45" y="79"/>
                    </a:lnTo>
                    <a:lnTo>
                      <a:pt x="47" y="76"/>
                    </a:lnTo>
                    <a:lnTo>
                      <a:pt x="50" y="75"/>
                    </a:lnTo>
                    <a:lnTo>
                      <a:pt x="52" y="74"/>
                    </a:lnTo>
                    <a:lnTo>
                      <a:pt x="54" y="74"/>
                    </a:lnTo>
                    <a:lnTo>
                      <a:pt x="54" y="74"/>
                    </a:lnTo>
                    <a:close/>
                    <a:moveTo>
                      <a:pt x="97" y="74"/>
                    </a:moveTo>
                    <a:lnTo>
                      <a:pt x="98" y="74"/>
                    </a:lnTo>
                    <a:lnTo>
                      <a:pt x="100" y="74"/>
                    </a:lnTo>
                    <a:lnTo>
                      <a:pt x="102" y="75"/>
                    </a:lnTo>
                    <a:lnTo>
                      <a:pt x="105" y="76"/>
                    </a:lnTo>
                    <a:lnTo>
                      <a:pt x="107" y="79"/>
                    </a:lnTo>
                    <a:lnTo>
                      <a:pt x="109" y="80"/>
                    </a:lnTo>
                    <a:lnTo>
                      <a:pt x="109" y="83"/>
                    </a:lnTo>
                    <a:lnTo>
                      <a:pt x="109" y="84"/>
                    </a:lnTo>
                    <a:lnTo>
                      <a:pt x="107" y="86"/>
                    </a:lnTo>
                    <a:lnTo>
                      <a:pt x="105" y="88"/>
                    </a:lnTo>
                    <a:lnTo>
                      <a:pt x="102" y="90"/>
                    </a:lnTo>
                    <a:lnTo>
                      <a:pt x="100" y="91"/>
                    </a:lnTo>
                    <a:lnTo>
                      <a:pt x="98" y="91"/>
                    </a:lnTo>
                    <a:lnTo>
                      <a:pt x="97" y="91"/>
                    </a:lnTo>
                    <a:lnTo>
                      <a:pt x="95" y="91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6"/>
                    </a:lnTo>
                    <a:lnTo>
                      <a:pt x="86" y="84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8" y="79"/>
                    </a:lnTo>
                    <a:lnTo>
                      <a:pt x="90" y="76"/>
                    </a:lnTo>
                    <a:lnTo>
                      <a:pt x="93" y="75"/>
                    </a:lnTo>
                    <a:lnTo>
                      <a:pt x="95" y="74"/>
                    </a:lnTo>
                    <a:lnTo>
                      <a:pt x="97" y="74"/>
                    </a:lnTo>
                    <a:lnTo>
                      <a:pt x="97" y="74"/>
                    </a:lnTo>
                    <a:close/>
                    <a:moveTo>
                      <a:pt x="141" y="74"/>
                    </a:moveTo>
                    <a:lnTo>
                      <a:pt x="141" y="74"/>
                    </a:lnTo>
                    <a:lnTo>
                      <a:pt x="143" y="74"/>
                    </a:lnTo>
                    <a:lnTo>
                      <a:pt x="145" y="75"/>
                    </a:lnTo>
                    <a:lnTo>
                      <a:pt x="148" y="76"/>
                    </a:lnTo>
                    <a:lnTo>
                      <a:pt x="150" y="79"/>
                    </a:lnTo>
                    <a:lnTo>
                      <a:pt x="152" y="80"/>
                    </a:lnTo>
                    <a:lnTo>
                      <a:pt x="152" y="83"/>
                    </a:lnTo>
                    <a:lnTo>
                      <a:pt x="152" y="84"/>
                    </a:lnTo>
                    <a:lnTo>
                      <a:pt x="150" y="86"/>
                    </a:lnTo>
                    <a:lnTo>
                      <a:pt x="148" y="88"/>
                    </a:lnTo>
                    <a:lnTo>
                      <a:pt x="145" y="90"/>
                    </a:lnTo>
                    <a:lnTo>
                      <a:pt x="143" y="91"/>
                    </a:lnTo>
                    <a:lnTo>
                      <a:pt x="141" y="91"/>
                    </a:lnTo>
                    <a:lnTo>
                      <a:pt x="141" y="91"/>
                    </a:lnTo>
                    <a:lnTo>
                      <a:pt x="138" y="91"/>
                    </a:lnTo>
                    <a:lnTo>
                      <a:pt x="136" y="90"/>
                    </a:lnTo>
                    <a:lnTo>
                      <a:pt x="133" y="88"/>
                    </a:lnTo>
                    <a:lnTo>
                      <a:pt x="131" y="86"/>
                    </a:lnTo>
                    <a:lnTo>
                      <a:pt x="129" y="84"/>
                    </a:lnTo>
                    <a:lnTo>
                      <a:pt x="129" y="83"/>
                    </a:lnTo>
                    <a:lnTo>
                      <a:pt x="129" y="80"/>
                    </a:lnTo>
                    <a:lnTo>
                      <a:pt x="131" y="79"/>
                    </a:lnTo>
                    <a:lnTo>
                      <a:pt x="133" y="76"/>
                    </a:lnTo>
                    <a:lnTo>
                      <a:pt x="136" y="75"/>
                    </a:lnTo>
                    <a:lnTo>
                      <a:pt x="138" y="74"/>
                    </a:lnTo>
                    <a:lnTo>
                      <a:pt x="141" y="74"/>
                    </a:lnTo>
                    <a:lnTo>
                      <a:pt x="141" y="74"/>
                    </a:lnTo>
                    <a:close/>
                    <a:moveTo>
                      <a:pt x="184" y="74"/>
                    </a:moveTo>
                    <a:lnTo>
                      <a:pt x="184" y="74"/>
                    </a:lnTo>
                    <a:lnTo>
                      <a:pt x="186" y="74"/>
                    </a:lnTo>
                    <a:lnTo>
                      <a:pt x="188" y="75"/>
                    </a:lnTo>
                    <a:lnTo>
                      <a:pt x="191" y="76"/>
                    </a:lnTo>
                    <a:lnTo>
                      <a:pt x="193" y="79"/>
                    </a:lnTo>
                    <a:lnTo>
                      <a:pt x="195" y="80"/>
                    </a:lnTo>
                    <a:lnTo>
                      <a:pt x="195" y="83"/>
                    </a:lnTo>
                    <a:lnTo>
                      <a:pt x="195" y="84"/>
                    </a:lnTo>
                    <a:lnTo>
                      <a:pt x="193" y="86"/>
                    </a:lnTo>
                    <a:lnTo>
                      <a:pt x="191" y="88"/>
                    </a:lnTo>
                    <a:lnTo>
                      <a:pt x="188" y="90"/>
                    </a:lnTo>
                    <a:lnTo>
                      <a:pt x="186" y="91"/>
                    </a:lnTo>
                    <a:lnTo>
                      <a:pt x="184" y="91"/>
                    </a:lnTo>
                    <a:lnTo>
                      <a:pt x="184" y="91"/>
                    </a:lnTo>
                    <a:lnTo>
                      <a:pt x="181" y="91"/>
                    </a:lnTo>
                    <a:lnTo>
                      <a:pt x="179" y="90"/>
                    </a:lnTo>
                    <a:lnTo>
                      <a:pt x="176" y="88"/>
                    </a:lnTo>
                    <a:lnTo>
                      <a:pt x="174" y="86"/>
                    </a:lnTo>
                    <a:lnTo>
                      <a:pt x="172" y="84"/>
                    </a:lnTo>
                    <a:lnTo>
                      <a:pt x="172" y="83"/>
                    </a:lnTo>
                    <a:lnTo>
                      <a:pt x="172" y="80"/>
                    </a:lnTo>
                    <a:lnTo>
                      <a:pt x="174" y="79"/>
                    </a:lnTo>
                    <a:lnTo>
                      <a:pt x="176" y="76"/>
                    </a:lnTo>
                    <a:lnTo>
                      <a:pt x="179" y="75"/>
                    </a:lnTo>
                    <a:lnTo>
                      <a:pt x="181" y="74"/>
                    </a:lnTo>
                    <a:lnTo>
                      <a:pt x="184" y="74"/>
                    </a:lnTo>
                    <a:lnTo>
                      <a:pt x="184" y="74"/>
                    </a:lnTo>
                    <a:close/>
                    <a:moveTo>
                      <a:pt x="228" y="74"/>
                    </a:moveTo>
                    <a:lnTo>
                      <a:pt x="228" y="74"/>
                    </a:lnTo>
                    <a:lnTo>
                      <a:pt x="229" y="74"/>
                    </a:lnTo>
                    <a:lnTo>
                      <a:pt x="231" y="75"/>
                    </a:lnTo>
                    <a:lnTo>
                      <a:pt x="234" y="76"/>
                    </a:lnTo>
                    <a:lnTo>
                      <a:pt x="236" y="79"/>
                    </a:lnTo>
                    <a:lnTo>
                      <a:pt x="238" y="80"/>
                    </a:lnTo>
                    <a:lnTo>
                      <a:pt x="238" y="83"/>
                    </a:lnTo>
                    <a:lnTo>
                      <a:pt x="238" y="84"/>
                    </a:lnTo>
                    <a:lnTo>
                      <a:pt x="236" y="86"/>
                    </a:lnTo>
                    <a:lnTo>
                      <a:pt x="234" y="88"/>
                    </a:lnTo>
                    <a:lnTo>
                      <a:pt x="231" y="90"/>
                    </a:lnTo>
                    <a:lnTo>
                      <a:pt x="229" y="91"/>
                    </a:lnTo>
                    <a:lnTo>
                      <a:pt x="228" y="91"/>
                    </a:lnTo>
                    <a:lnTo>
                      <a:pt x="228" y="91"/>
                    </a:lnTo>
                    <a:lnTo>
                      <a:pt x="224" y="91"/>
                    </a:lnTo>
                    <a:lnTo>
                      <a:pt x="222" y="90"/>
                    </a:lnTo>
                    <a:lnTo>
                      <a:pt x="219" y="88"/>
                    </a:lnTo>
                    <a:lnTo>
                      <a:pt x="217" y="86"/>
                    </a:lnTo>
                    <a:lnTo>
                      <a:pt x="215" y="84"/>
                    </a:lnTo>
                    <a:lnTo>
                      <a:pt x="215" y="83"/>
                    </a:lnTo>
                    <a:lnTo>
                      <a:pt x="215" y="80"/>
                    </a:lnTo>
                    <a:lnTo>
                      <a:pt x="217" y="79"/>
                    </a:lnTo>
                    <a:lnTo>
                      <a:pt x="219" y="76"/>
                    </a:lnTo>
                    <a:lnTo>
                      <a:pt x="222" y="75"/>
                    </a:lnTo>
                    <a:lnTo>
                      <a:pt x="224" y="74"/>
                    </a:lnTo>
                    <a:lnTo>
                      <a:pt x="228" y="74"/>
                    </a:lnTo>
                    <a:lnTo>
                      <a:pt x="228" y="74"/>
                    </a:lnTo>
                    <a:close/>
                    <a:moveTo>
                      <a:pt x="271" y="74"/>
                    </a:moveTo>
                    <a:lnTo>
                      <a:pt x="271" y="74"/>
                    </a:lnTo>
                    <a:lnTo>
                      <a:pt x="272" y="74"/>
                    </a:lnTo>
                    <a:lnTo>
                      <a:pt x="274" y="75"/>
                    </a:lnTo>
                    <a:lnTo>
                      <a:pt x="277" y="76"/>
                    </a:lnTo>
                    <a:lnTo>
                      <a:pt x="279" y="79"/>
                    </a:lnTo>
                    <a:lnTo>
                      <a:pt x="281" y="80"/>
                    </a:lnTo>
                    <a:lnTo>
                      <a:pt x="281" y="83"/>
                    </a:lnTo>
                    <a:lnTo>
                      <a:pt x="281" y="84"/>
                    </a:lnTo>
                    <a:lnTo>
                      <a:pt x="279" y="86"/>
                    </a:lnTo>
                    <a:lnTo>
                      <a:pt x="277" y="88"/>
                    </a:lnTo>
                    <a:lnTo>
                      <a:pt x="274" y="90"/>
                    </a:lnTo>
                    <a:lnTo>
                      <a:pt x="272" y="91"/>
                    </a:lnTo>
                    <a:lnTo>
                      <a:pt x="271" y="91"/>
                    </a:lnTo>
                    <a:lnTo>
                      <a:pt x="271" y="91"/>
                    </a:lnTo>
                    <a:lnTo>
                      <a:pt x="267" y="91"/>
                    </a:lnTo>
                    <a:lnTo>
                      <a:pt x="265" y="90"/>
                    </a:lnTo>
                    <a:lnTo>
                      <a:pt x="262" y="88"/>
                    </a:lnTo>
                    <a:lnTo>
                      <a:pt x="260" y="86"/>
                    </a:lnTo>
                    <a:lnTo>
                      <a:pt x="258" y="84"/>
                    </a:lnTo>
                    <a:lnTo>
                      <a:pt x="258" y="83"/>
                    </a:lnTo>
                    <a:lnTo>
                      <a:pt x="258" y="80"/>
                    </a:lnTo>
                    <a:lnTo>
                      <a:pt x="260" y="79"/>
                    </a:lnTo>
                    <a:lnTo>
                      <a:pt x="262" y="76"/>
                    </a:lnTo>
                    <a:lnTo>
                      <a:pt x="265" y="75"/>
                    </a:lnTo>
                    <a:lnTo>
                      <a:pt x="267" y="74"/>
                    </a:lnTo>
                    <a:lnTo>
                      <a:pt x="271" y="74"/>
                    </a:lnTo>
                    <a:lnTo>
                      <a:pt x="271" y="74"/>
                    </a:lnTo>
                    <a:close/>
                    <a:moveTo>
                      <a:pt x="314" y="74"/>
                    </a:moveTo>
                    <a:lnTo>
                      <a:pt x="314" y="74"/>
                    </a:lnTo>
                    <a:lnTo>
                      <a:pt x="315" y="74"/>
                    </a:lnTo>
                    <a:lnTo>
                      <a:pt x="317" y="75"/>
                    </a:lnTo>
                    <a:lnTo>
                      <a:pt x="320" y="76"/>
                    </a:lnTo>
                    <a:lnTo>
                      <a:pt x="322" y="79"/>
                    </a:lnTo>
                    <a:lnTo>
                      <a:pt x="324" y="80"/>
                    </a:lnTo>
                    <a:lnTo>
                      <a:pt x="324" y="83"/>
                    </a:lnTo>
                    <a:lnTo>
                      <a:pt x="324" y="84"/>
                    </a:lnTo>
                    <a:lnTo>
                      <a:pt x="322" y="86"/>
                    </a:lnTo>
                    <a:lnTo>
                      <a:pt x="320" y="88"/>
                    </a:lnTo>
                    <a:lnTo>
                      <a:pt x="317" y="90"/>
                    </a:lnTo>
                    <a:lnTo>
                      <a:pt x="315" y="91"/>
                    </a:lnTo>
                    <a:lnTo>
                      <a:pt x="314" y="91"/>
                    </a:lnTo>
                    <a:lnTo>
                      <a:pt x="314" y="91"/>
                    </a:lnTo>
                    <a:lnTo>
                      <a:pt x="310" y="91"/>
                    </a:lnTo>
                    <a:lnTo>
                      <a:pt x="308" y="90"/>
                    </a:lnTo>
                    <a:lnTo>
                      <a:pt x="305" y="88"/>
                    </a:lnTo>
                    <a:lnTo>
                      <a:pt x="303" y="86"/>
                    </a:lnTo>
                    <a:lnTo>
                      <a:pt x="302" y="84"/>
                    </a:lnTo>
                    <a:lnTo>
                      <a:pt x="302" y="83"/>
                    </a:lnTo>
                    <a:lnTo>
                      <a:pt x="302" y="80"/>
                    </a:lnTo>
                    <a:lnTo>
                      <a:pt x="303" y="79"/>
                    </a:lnTo>
                    <a:lnTo>
                      <a:pt x="305" y="76"/>
                    </a:lnTo>
                    <a:lnTo>
                      <a:pt x="308" y="75"/>
                    </a:lnTo>
                    <a:lnTo>
                      <a:pt x="310" y="74"/>
                    </a:lnTo>
                    <a:lnTo>
                      <a:pt x="314" y="74"/>
                    </a:lnTo>
                    <a:lnTo>
                      <a:pt x="314" y="74"/>
                    </a:lnTo>
                    <a:close/>
                    <a:moveTo>
                      <a:pt x="357" y="74"/>
                    </a:moveTo>
                    <a:lnTo>
                      <a:pt x="357" y="74"/>
                    </a:lnTo>
                    <a:lnTo>
                      <a:pt x="358" y="74"/>
                    </a:lnTo>
                    <a:lnTo>
                      <a:pt x="360" y="75"/>
                    </a:lnTo>
                    <a:lnTo>
                      <a:pt x="364" y="76"/>
                    </a:lnTo>
                    <a:lnTo>
                      <a:pt x="365" y="79"/>
                    </a:lnTo>
                    <a:lnTo>
                      <a:pt x="367" y="80"/>
                    </a:lnTo>
                    <a:lnTo>
                      <a:pt x="367" y="83"/>
                    </a:lnTo>
                    <a:lnTo>
                      <a:pt x="367" y="84"/>
                    </a:lnTo>
                    <a:lnTo>
                      <a:pt x="365" y="86"/>
                    </a:lnTo>
                    <a:lnTo>
                      <a:pt x="364" y="88"/>
                    </a:lnTo>
                    <a:lnTo>
                      <a:pt x="360" y="90"/>
                    </a:lnTo>
                    <a:lnTo>
                      <a:pt x="358" y="91"/>
                    </a:lnTo>
                    <a:lnTo>
                      <a:pt x="357" y="91"/>
                    </a:lnTo>
                    <a:lnTo>
                      <a:pt x="357" y="91"/>
                    </a:lnTo>
                    <a:lnTo>
                      <a:pt x="353" y="91"/>
                    </a:lnTo>
                    <a:lnTo>
                      <a:pt x="351" y="90"/>
                    </a:lnTo>
                    <a:lnTo>
                      <a:pt x="348" y="88"/>
                    </a:lnTo>
                    <a:lnTo>
                      <a:pt x="346" y="86"/>
                    </a:lnTo>
                    <a:lnTo>
                      <a:pt x="345" y="84"/>
                    </a:lnTo>
                    <a:lnTo>
                      <a:pt x="345" y="83"/>
                    </a:lnTo>
                    <a:lnTo>
                      <a:pt x="345" y="80"/>
                    </a:lnTo>
                    <a:lnTo>
                      <a:pt x="346" y="79"/>
                    </a:lnTo>
                    <a:lnTo>
                      <a:pt x="348" y="76"/>
                    </a:lnTo>
                    <a:lnTo>
                      <a:pt x="351" y="75"/>
                    </a:lnTo>
                    <a:lnTo>
                      <a:pt x="353" y="74"/>
                    </a:lnTo>
                    <a:lnTo>
                      <a:pt x="357" y="74"/>
                    </a:lnTo>
                    <a:lnTo>
                      <a:pt x="357" y="74"/>
                    </a:lnTo>
                    <a:close/>
                    <a:moveTo>
                      <a:pt x="400" y="74"/>
                    </a:moveTo>
                    <a:lnTo>
                      <a:pt x="400" y="74"/>
                    </a:lnTo>
                    <a:lnTo>
                      <a:pt x="401" y="74"/>
                    </a:lnTo>
                    <a:lnTo>
                      <a:pt x="403" y="75"/>
                    </a:lnTo>
                    <a:lnTo>
                      <a:pt x="407" y="76"/>
                    </a:lnTo>
                    <a:lnTo>
                      <a:pt x="408" y="79"/>
                    </a:lnTo>
                    <a:lnTo>
                      <a:pt x="410" y="80"/>
                    </a:lnTo>
                    <a:lnTo>
                      <a:pt x="410" y="83"/>
                    </a:lnTo>
                    <a:lnTo>
                      <a:pt x="410" y="84"/>
                    </a:lnTo>
                    <a:lnTo>
                      <a:pt x="408" y="86"/>
                    </a:lnTo>
                    <a:lnTo>
                      <a:pt x="407" y="88"/>
                    </a:lnTo>
                    <a:lnTo>
                      <a:pt x="403" y="90"/>
                    </a:lnTo>
                    <a:lnTo>
                      <a:pt x="401" y="91"/>
                    </a:lnTo>
                    <a:lnTo>
                      <a:pt x="400" y="91"/>
                    </a:lnTo>
                    <a:lnTo>
                      <a:pt x="400" y="91"/>
                    </a:lnTo>
                    <a:lnTo>
                      <a:pt x="396" y="91"/>
                    </a:lnTo>
                    <a:lnTo>
                      <a:pt x="395" y="90"/>
                    </a:lnTo>
                    <a:lnTo>
                      <a:pt x="391" y="88"/>
                    </a:lnTo>
                    <a:lnTo>
                      <a:pt x="389" y="86"/>
                    </a:lnTo>
                    <a:lnTo>
                      <a:pt x="388" y="84"/>
                    </a:lnTo>
                    <a:lnTo>
                      <a:pt x="388" y="83"/>
                    </a:lnTo>
                    <a:lnTo>
                      <a:pt x="388" y="80"/>
                    </a:lnTo>
                    <a:lnTo>
                      <a:pt x="389" y="79"/>
                    </a:lnTo>
                    <a:lnTo>
                      <a:pt x="391" y="76"/>
                    </a:lnTo>
                    <a:lnTo>
                      <a:pt x="395" y="75"/>
                    </a:lnTo>
                    <a:lnTo>
                      <a:pt x="396" y="74"/>
                    </a:lnTo>
                    <a:lnTo>
                      <a:pt x="400" y="74"/>
                    </a:lnTo>
                    <a:lnTo>
                      <a:pt x="400" y="74"/>
                    </a:lnTo>
                    <a:close/>
                    <a:moveTo>
                      <a:pt x="443" y="74"/>
                    </a:moveTo>
                    <a:lnTo>
                      <a:pt x="443" y="74"/>
                    </a:lnTo>
                    <a:lnTo>
                      <a:pt x="444" y="74"/>
                    </a:lnTo>
                    <a:lnTo>
                      <a:pt x="446" y="75"/>
                    </a:lnTo>
                    <a:lnTo>
                      <a:pt x="450" y="76"/>
                    </a:lnTo>
                    <a:lnTo>
                      <a:pt x="451" y="79"/>
                    </a:lnTo>
                    <a:lnTo>
                      <a:pt x="453" y="80"/>
                    </a:lnTo>
                    <a:lnTo>
                      <a:pt x="453" y="83"/>
                    </a:lnTo>
                    <a:lnTo>
                      <a:pt x="453" y="84"/>
                    </a:lnTo>
                    <a:lnTo>
                      <a:pt x="451" y="86"/>
                    </a:lnTo>
                    <a:lnTo>
                      <a:pt x="450" y="88"/>
                    </a:lnTo>
                    <a:lnTo>
                      <a:pt x="446" y="90"/>
                    </a:lnTo>
                    <a:lnTo>
                      <a:pt x="444" y="91"/>
                    </a:lnTo>
                    <a:lnTo>
                      <a:pt x="443" y="91"/>
                    </a:lnTo>
                    <a:lnTo>
                      <a:pt x="443" y="91"/>
                    </a:lnTo>
                    <a:lnTo>
                      <a:pt x="439" y="91"/>
                    </a:lnTo>
                    <a:lnTo>
                      <a:pt x="438" y="90"/>
                    </a:lnTo>
                    <a:lnTo>
                      <a:pt x="434" y="88"/>
                    </a:lnTo>
                    <a:lnTo>
                      <a:pt x="432" y="86"/>
                    </a:lnTo>
                    <a:lnTo>
                      <a:pt x="431" y="84"/>
                    </a:lnTo>
                    <a:lnTo>
                      <a:pt x="431" y="83"/>
                    </a:lnTo>
                    <a:lnTo>
                      <a:pt x="431" y="80"/>
                    </a:lnTo>
                    <a:lnTo>
                      <a:pt x="432" y="79"/>
                    </a:lnTo>
                    <a:lnTo>
                      <a:pt x="434" y="76"/>
                    </a:lnTo>
                    <a:lnTo>
                      <a:pt x="438" y="75"/>
                    </a:lnTo>
                    <a:lnTo>
                      <a:pt x="439" y="74"/>
                    </a:lnTo>
                    <a:lnTo>
                      <a:pt x="443" y="74"/>
                    </a:lnTo>
                    <a:lnTo>
                      <a:pt x="443" y="74"/>
                    </a:lnTo>
                    <a:close/>
                    <a:moveTo>
                      <a:pt x="486" y="74"/>
                    </a:moveTo>
                    <a:lnTo>
                      <a:pt x="486" y="74"/>
                    </a:lnTo>
                    <a:lnTo>
                      <a:pt x="487" y="74"/>
                    </a:lnTo>
                    <a:lnTo>
                      <a:pt x="489" y="75"/>
                    </a:lnTo>
                    <a:lnTo>
                      <a:pt x="493" y="76"/>
                    </a:lnTo>
                    <a:lnTo>
                      <a:pt x="494" y="79"/>
                    </a:lnTo>
                    <a:lnTo>
                      <a:pt x="496" y="80"/>
                    </a:lnTo>
                    <a:lnTo>
                      <a:pt x="496" y="83"/>
                    </a:lnTo>
                    <a:lnTo>
                      <a:pt x="496" y="84"/>
                    </a:lnTo>
                    <a:lnTo>
                      <a:pt x="494" y="86"/>
                    </a:lnTo>
                    <a:lnTo>
                      <a:pt x="493" y="88"/>
                    </a:lnTo>
                    <a:lnTo>
                      <a:pt x="489" y="90"/>
                    </a:lnTo>
                    <a:lnTo>
                      <a:pt x="487" y="91"/>
                    </a:lnTo>
                    <a:lnTo>
                      <a:pt x="486" y="91"/>
                    </a:lnTo>
                    <a:lnTo>
                      <a:pt x="486" y="91"/>
                    </a:lnTo>
                    <a:lnTo>
                      <a:pt x="482" y="91"/>
                    </a:lnTo>
                    <a:lnTo>
                      <a:pt x="481" y="90"/>
                    </a:lnTo>
                    <a:lnTo>
                      <a:pt x="477" y="88"/>
                    </a:lnTo>
                    <a:lnTo>
                      <a:pt x="475" y="86"/>
                    </a:lnTo>
                    <a:lnTo>
                      <a:pt x="474" y="84"/>
                    </a:lnTo>
                    <a:lnTo>
                      <a:pt x="474" y="83"/>
                    </a:lnTo>
                    <a:lnTo>
                      <a:pt x="474" y="80"/>
                    </a:lnTo>
                    <a:lnTo>
                      <a:pt x="475" y="79"/>
                    </a:lnTo>
                    <a:lnTo>
                      <a:pt x="477" y="76"/>
                    </a:lnTo>
                    <a:lnTo>
                      <a:pt x="481" y="75"/>
                    </a:lnTo>
                    <a:lnTo>
                      <a:pt x="482" y="74"/>
                    </a:lnTo>
                    <a:lnTo>
                      <a:pt x="486" y="74"/>
                    </a:lnTo>
                    <a:lnTo>
                      <a:pt x="486" y="74"/>
                    </a:lnTo>
                    <a:close/>
                    <a:moveTo>
                      <a:pt x="529" y="74"/>
                    </a:moveTo>
                    <a:lnTo>
                      <a:pt x="529" y="74"/>
                    </a:lnTo>
                    <a:lnTo>
                      <a:pt x="531" y="74"/>
                    </a:lnTo>
                    <a:lnTo>
                      <a:pt x="532" y="75"/>
                    </a:lnTo>
                    <a:lnTo>
                      <a:pt x="536" y="76"/>
                    </a:lnTo>
                    <a:lnTo>
                      <a:pt x="537" y="79"/>
                    </a:lnTo>
                    <a:lnTo>
                      <a:pt x="539" y="80"/>
                    </a:lnTo>
                    <a:lnTo>
                      <a:pt x="539" y="83"/>
                    </a:lnTo>
                    <a:lnTo>
                      <a:pt x="539" y="84"/>
                    </a:lnTo>
                    <a:lnTo>
                      <a:pt x="537" y="86"/>
                    </a:lnTo>
                    <a:lnTo>
                      <a:pt x="536" y="88"/>
                    </a:lnTo>
                    <a:lnTo>
                      <a:pt x="532" y="90"/>
                    </a:lnTo>
                    <a:lnTo>
                      <a:pt x="531" y="91"/>
                    </a:lnTo>
                    <a:lnTo>
                      <a:pt x="529" y="91"/>
                    </a:lnTo>
                    <a:lnTo>
                      <a:pt x="529" y="91"/>
                    </a:lnTo>
                    <a:lnTo>
                      <a:pt x="525" y="91"/>
                    </a:lnTo>
                    <a:lnTo>
                      <a:pt x="524" y="90"/>
                    </a:lnTo>
                    <a:lnTo>
                      <a:pt x="520" y="88"/>
                    </a:lnTo>
                    <a:lnTo>
                      <a:pt x="518" y="86"/>
                    </a:lnTo>
                    <a:lnTo>
                      <a:pt x="517" y="84"/>
                    </a:lnTo>
                    <a:lnTo>
                      <a:pt x="517" y="83"/>
                    </a:lnTo>
                    <a:lnTo>
                      <a:pt x="517" y="80"/>
                    </a:lnTo>
                    <a:lnTo>
                      <a:pt x="518" y="79"/>
                    </a:lnTo>
                    <a:lnTo>
                      <a:pt x="520" y="76"/>
                    </a:lnTo>
                    <a:lnTo>
                      <a:pt x="524" y="75"/>
                    </a:lnTo>
                    <a:lnTo>
                      <a:pt x="525" y="74"/>
                    </a:lnTo>
                    <a:lnTo>
                      <a:pt x="529" y="74"/>
                    </a:lnTo>
                    <a:lnTo>
                      <a:pt x="529" y="74"/>
                    </a:lnTo>
                    <a:close/>
                    <a:moveTo>
                      <a:pt x="572" y="74"/>
                    </a:moveTo>
                    <a:lnTo>
                      <a:pt x="572" y="74"/>
                    </a:lnTo>
                    <a:lnTo>
                      <a:pt x="574" y="74"/>
                    </a:lnTo>
                    <a:lnTo>
                      <a:pt x="575" y="75"/>
                    </a:lnTo>
                    <a:lnTo>
                      <a:pt x="579" y="76"/>
                    </a:lnTo>
                    <a:lnTo>
                      <a:pt x="580" y="79"/>
                    </a:lnTo>
                    <a:lnTo>
                      <a:pt x="582" y="80"/>
                    </a:lnTo>
                    <a:lnTo>
                      <a:pt x="582" y="83"/>
                    </a:lnTo>
                    <a:lnTo>
                      <a:pt x="582" y="84"/>
                    </a:lnTo>
                    <a:lnTo>
                      <a:pt x="580" y="86"/>
                    </a:lnTo>
                    <a:lnTo>
                      <a:pt x="579" y="88"/>
                    </a:lnTo>
                    <a:lnTo>
                      <a:pt x="575" y="90"/>
                    </a:lnTo>
                    <a:lnTo>
                      <a:pt x="574" y="91"/>
                    </a:lnTo>
                    <a:lnTo>
                      <a:pt x="572" y="91"/>
                    </a:lnTo>
                    <a:lnTo>
                      <a:pt x="572" y="91"/>
                    </a:lnTo>
                    <a:lnTo>
                      <a:pt x="568" y="91"/>
                    </a:lnTo>
                    <a:lnTo>
                      <a:pt x="567" y="90"/>
                    </a:lnTo>
                    <a:lnTo>
                      <a:pt x="563" y="88"/>
                    </a:lnTo>
                    <a:lnTo>
                      <a:pt x="562" y="86"/>
                    </a:lnTo>
                    <a:lnTo>
                      <a:pt x="562" y="84"/>
                    </a:lnTo>
                    <a:lnTo>
                      <a:pt x="560" y="83"/>
                    </a:lnTo>
                    <a:lnTo>
                      <a:pt x="562" y="80"/>
                    </a:lnTo>
                    <a:lnTo>
                      <a:pt x="562" y="79"/>
                    </a:lnTo>
                    <a:lnTo>
                      <a:pt x="563" y="76"/>
                    </a:lnTo>
                    <a:lnTo>
                      <a:pt x="567" y="75"/>
                    </a:lnTo>
                    <a:lnTo>
                      <a:pt x="568" y="74"/>
                    </a:lnTo>
                    <a:lnTo>
                      <a:pt x="572" y="74"/>
                    </a:lnTo>
                    <a:lnTo>
                      <a:pt x="572" y="74"/>
                    </a:lnTo>
                    <a:close/>
                    <a:moveTo>
                      <a:pt x="615" y="74"/>
                    </a:moveTo>
                    <a:lnTo>
                      <a:pt x="615" y="74"/>
                    </a:lnTo>
                    <a:lnTo>
                      <a:pt x="617" y="74"/>
                    </a:lnTo>
                    <a:lnTo>
                      <a:pt x="618" y="75"/>
                    </a:lnTo>
                    <a:lnTo>
                      <a:pt x="622" y="76"/>
                    </a:lnTo>
                    <a:lnTo>
                      <a:pt x="623" y="79"/>
                    </a:lnTo>
                    <a:lnTo>
                      <a:pt x="625" y="80"/>
                    </a:lnTo>
                    <a:lnTo>
                      <a:pt x="625" y="83"/>
                    </a:lnTo>
                    <a:lnTo>
                      <a:pt x="625" y="84"/>
                    </a:lnTo>
                    <a:lnTo>
                      <a:pt x="623" y="86"/>
                    </a:lnTo>
                    <a:lnTo>
                      <a:pt x="622" y="88"/>
                    </a:lnTo>
                    <a:lnTo>
                      <a:pt x="618" y="90"/>
                    </a:lnTo>
                    <a:lnTo>
                      <a:pt x="617" y="91"/>
                    </a:lnTo>
                    <a:lnTo>
                      <a:pt x="615" y="91"/>
                    </a:lnTo>
                    <a:lnTo>
                      <a:pt x="615" y="91"/>
                    </a:lnTo>
                    <a:lnTo>
                      <a:pt x="611" y="91"/>
                    </a:lnTo>
                    <a:lnTo>
                      <a:pt x="610" y="90"/>
                    </a:lnTo>
                    <a:lnTo>
                      <a:pt x="606" y="88"/>
                    </a:lnTo>
                    <a:lnTo>
                      <a:pt x="605" y="86"/>
                    </a:lnTo>
                    <a:lnTo>
                      <a:pt x="605" y="84"/>
                    </a:lnTo>
                    <a:lnTo>
                      <a:pt x="603" y="83"/>
                    </a:lnTo>
                    <a:lnTo>
                      <a:pt x="605" y="80"/>
                    </a:lnTo>
                    <a:lnTo>
                      <a:pt x="605" y="79"/>
                    </a:lnTo>
                    <a:lnTo>
                      <a:pt x="606" y="76"/>
                    </a:lnTo>
                    <a:lnTo>
                      <a:pt x="610" y="75"/>
                    </a:lnTo>
                    <a:lnTo>
                      <a:pt x="611" y="74"/>
                    </a:lnTo>
                    <a:lnTo>
                      <a:pt x="615" y="74"/>
                    </a:lnTo>
                    <a:lnTo>
                      <a:pt x="615" y="74"/>
                    </a:lnTo>
                    <a:close/>
                    <a:moveTo>
                      <a:pt x="658" y="74"/>
                    </a:moveTo>
                    <a:lnTo>
                      <a:pt x="658" y="74"/>
                    </a:lnTo>
                    <a:lnTo>
                      <a:pt x="660" y="74"/>
                    </a:lnTo>
                    <a:lnTo>
                      <a:pt x="661" y="75"/>
                    </a:lnTo>
                    <a:lnTo>
                      <a:pt x="665" y="76"/>
                    </a:lnTo>
                    <a:lnTo>
                      <a:pt x="667" y="79"/>
                    </a:lnTo>
                    <a:lnTo>
                      <a:pt x="668" y="80"/>
                    </a:lnTo>
                    <a:lnTo>
                      <a:pt x="668" y="83"/>
                    </a:lnTo>
                    <a:lnTo>
                      <a:pt x="668" y="84"/>
                    </a:lnTo>
                    <a:lnTo>
                      <a:pt x="667" y="86"/>
                    </a:lnTo>
                    <a:lnTo>
                      <a:pt x="665" y="88"/>
                    </a:lnTo>
                    <a:lnTo>
                      <a:pt x="661" y="90"/>
                    </a:lnTo>
                    <a:lnTo>
                      <a:pt x="660" y="91"/>
                    </a:lnTo>
                    <a:lnTo>
                      <a:pt x="658" y="91"/>
                    </a:lnTo>
                    <a:lnTo>
                      <a:pt x="658" y="91"/>
                    </a:lnTo>
                    <a:lnTo>
                      <a:pt x="654" y="91"/>
                    </a:lnTo>
                    <a:lnTo>
                      <a:pt x="653" y="90"/>
                    </a:lnTo>
                    <a:lnTo>
                      <a:pt x="649" y="88"/>
                    </a:lnTo>
                    <a:lnTo>
                      <a:pt x="648" y="86"/>
                    </a:lnTo>
                    <a:lnTo>
                      <a:pt x="648" y="84"/>
                    </a:lnTo>
                    <a:lnTo>
                      <a:pt x="646" y="83"/>
                    </a:lnTo>
                    <a:lnTo>
                      <a:pt x="648" y="80"/>
                    </a:lnTo>
                    <a:lnTo>
                      <a:pt x="648" y="79"/>
                    </a:lnTo>
                    <a:lnTo>
                      <a:pt x="649" y="76"/>
                    </a:lnTo>
                    <a:lnTo>
                      <a:pt x="653" y="75"/>
                    </a:lnTo>
                    <a:lnTo>
                      <a:pt x="654" y="74"/>
                    </a:lnTo>
                    <a:lnTo>
                      <a:pt x="658" y="74"/>
                    </a:lnTo>
                    <a:lnTo>
                      <a:pt x="658" y="74"/>
                    </a:lnTo>
                    <a:close/>
                    <a:moveTo>
                      <a:pt x="701" y="74"/>
                    </a:moveTo>
                    <a:lnTo>
                      <a:pt x="701" y="74"/>
                    </a:lnTo>
                    <a:lnTo>
                      <a:pt x="703" y="74"/>
                    </a:lnTo>
                    <a:lnTo>
                      <a:pt x="704" y="75"/>
                    </a:lnTo>
                    <a:lnTo>
                      <a:pt x="708" y="76"/>
                    </a:lnTo>
                    <a:lnTo>
                      <a:pt x="710" y="79"/>
                    </a:lnTo>
                    <a:lnTo>
                      <a:pt x="711" y="80"/>
                    </a:lnTo>
                    <a:lnTo>
                      <a:pt x="711" y="83"/>
                    </a:lnTo>
                    <a:lnTo>
                      <a:pt x="711" y="84"/>
                    </a:lnTo>
                    <a:lnTo>
                      <a:pt x="710" y="86"/>
                    </a:lnTo>
                    <a:lnTo>
                      <a:pt x="708" y="88"/>
                    </a:lnTo>
                    <a:lnTo>
                      <a:pt x="704" y="90"/>
                    </a:lnTo>
                    <a:lnTo>
                      <a:pt x="703" y="91"/>
                    </a:lnTo>
                    <a:lnTo>
                      <a:pt x="701" y="91"/>
                    </a:lnTo>
                    <a:lnTo>
                      <a:pt x="701" y="91"/>
                    </a:lnTo>
                    <a:lnTo>
                      <a:pt x="698" y="91"/>
                    </a:lnTo>
                    <a:lnTo>
                      <a:pt x="696" y="90"/>
                    </a:lnTo>
                    <a:lnTo>
                      <a:pt x="692" y="88"/>
                    </a:lnTo>
                    <a:lnTo>
                      <a:pt x="691" y="86"/>
                    </a:lnTo>
                    <a:lnTo>
                      <a:pt x="691" y="84"/>
                    </a:lnTo>
                    <a:lnTo>
                      <a:pt x="689" y="83"/>
                    </a:lnTo>
                    <a:lnTo>
                      <a:pt x="691" y="80"/>
                    </a:lnTo>
                    <a:lnTo>
                      <a:pt x="691" y="79"/>
                    </a:lnTo>
                    <a:lnTo>
                      <a:pt x="692" y="76"/>
                    </a:lnTo>
                    <a:lnTo>
                      <a:pt x="696" y="75"/>
                    </a:lnTo>
                    <a:lnTo>
                      <a:pt x="698" y="74"/>
                    </a:lnTo>
                    <a:lnTo>
                      <a:pt x="701" y="74"/>
                    </a:lnTo>
                    <a:lnTo>
                      <a:pt x="701" y="74"/>
                    </a:lnTo>
                    <a:close/>
                    <a:moveTo>
                      <a:pt x="744" y="74"/>
                    </a:moveTo>
                    <a:lnTo>
                      <a:pt x="744" y="74"/>
                    </a:lnTo>
                    <a:lnTo>
                      <a:pt x="746" y="74"/>
                    </a:lnTo>
                    <a:lnTo>
                      <a:pt x="747" y="75"/>
                    </a:lnTo>
                    <a:lnTo>
                      <a:pt x="751" y="76"/>
                    </a:lnTo>
                    <a:lnTo>
                      <a:pt x="753" y="79"/>
                    </a:lnTo>
                    <a:lnTo>
                      <a:pt x="754" y="80"/>
                    </a:lnTo>
                    <a:lnTo>
                      <a:pt x="754" y="83"/>
                    </a:lnTo>
                    <a:lnTo>
                      <a:pt x="754" y="84"/>
                    </a:lnTo>
                    <a:lnTo>
                      <a:pt x="753" y="86"/>
                    </a:lnTo>
                    <a:lnTo>
                      <a:pt x="751" y="88"/>
                    </a:lnTo>
                    <a:lnTo>
                      <a:pt x="747" y="90"/>
                    </a:lnTo>
                    <a:lnTo>
                      <a:pt x="746" y="91"/>
                    </a:lnTo>
                    <a:lnTo>
                      <a:pt x="744" y="91"/>
                    </a:lnTo>
                    <a:lnTo>
                      <a:pt x="744" y="91"/>
                    </a:lnTo>
                    <a:lnTo>
                      <a:pt x="741" y="91"/>
                    </a:lnTo>
                    <a:lnTo>
                      <a:pt x="739" y="90"/>
                    </a:lnTo>
                    <a:lnTo>
                      <a:pt x="735" y="88"/>
                    </a:lnTo>
                    <a:lnTo>
                      <a:pt x="734" y="86"/>
                    </a:lnTo>
                    <a:lnTo>
                      <a:pt x="734" y="84"/>
                    </a:lnTo>
                    <a:lnTo>
                      <a:pt x="732" y="83"/>
                    </a:lnTo>
                    <a:lnTo>
                      <a:pt x="734" y="80"/>
                    </a:lnTo>
                    <a:lnTo>
                      <a:pt x="734" y="79"/>
                    </a:lnTo>
                    <a:lnTo>
                      <a:pt x="735" y="76"/>
                    </a:lnTo>
                    <a:lnTo>
                      <a:pt x="739" y="75"/>
                    </a:lnTo>
                    <a:lnTo>
                      <a:pt x="741" y="74"/>
                    </a:lnTo>
                    <a:lnTo>
                      <a:pt x="744" y="74"/>
                    </a:lnTo>
                    <a:lnTo>
                      <a:pt x="744" y="74"/>
                    </a:lnTo>
                    <a:close/>
                    <a:moveTo>
                      <a:pt x="787" y="74"/>
                    </a:moveTo>
                    <a:lnTo>
                      <a:pt x="787" y="74"/>
                    </a:lnTo>
                    <a:lnTo>
                      <a:pt x="789" y="74"/>
                    </a:lnTo>
                    <a:lnTo>
                      <a:pt x="790" y="75"/>
                    </a:lnTo>
                    <a:lnTo>
                      <a:pt x="794" y="76"/>
                    </a:lnTo>
                    <a:lnTo>
                      <a:pt x="796" y="79"/>
                    </a:lnTo>
                    <a:lnTo>
                      <a:pt x="797" y="80"/>
                    </a:lnTo>
                    <a:lnTo>
                      <a:pt x="797" y="83"/>
                    </a:lnTo>
                    <a:lnTo>
                      <a:pt x="797" y="84"/>
                    </a:lnTo>
                    <a:lnTo>
                      <a:pt x="796" y="86"/>
                    </a:lnTo>
                    <a:lnTo>
                      <a:pt x="794" y="88"/>
                    </a:lnTo>
                    <a:lnTo>
                      <a:pt x="790" y="90"/>
                    </a:lnTo>
                    <a:lnTo>
                      <a:pt x="789" y="91"/>
                    </a:lnTo>
                    <a:lnTo>
                      <a:pt x="787" y="91"/>
                    </a:lnTo>
                    <a:lnTo>
                      <a:pt x="787" y="91"/>
                    </a:lnTo>
                    <a:lnTo>
                      <a:pt x="784" y="91"/>
                    </a:lnTo>
                    <a:lnTo>
                      <a:pt x="782" y="90"/>
                    </a:lnTo>
                    <a:lnTo>
                      <a:pt x="778" y="88"/>
                    </a:lnTo>
                    <a:lnTo>
                      <a:pt x="777" y="86"/>
                    </a:lnTo>
                    <a:lnTo>
                      <a:pt x="777" y="84"/>
                    </a:lnTo>
                    <a:lnTo>
                      <a:pt x="775" y="83"/>
                    </a:lnTo>
                    <a:lnTo>
                      <a:pt x="777" y="80"/>
                    </a:lnTo>
                    <a:lnTo>
                      <a:pt x="777" y="79"/>
                    </a:lnTo>
                    <a:lnTo>
                      <a:pt x="778" y="76"/>
                    </a:lnTo>
                    <a:lnTo>
                      <a:pt x="782" y="75"/>
                    </a:lnTo>
                    <a:lnTo>
                      <a:pt x="784" y="74"/>
                    </a:lnTo>
                    <a:lnTo>
                      <a:pt x="787" y="74"/>
                    </a:lnTo>
                    <a:lnTo>
                      <a:pt x="787" y="74"/>
                    </a:lnTo>
                    <a:close/>
                    <a:moveTo>
                      <a:pt x="830" y="74"/>
                    </a:moveTo>
                    <a:lnTo>
                      <a:pt x="830" y="74"/>
                    </a:lnTo>
                    <a:lnTo>
                      <a:pt x="832" y="74"/>
                    </a:lnTo>
                    <a:lnTo>
                      <a:pt x="834" y="75"/>
                    </a:lnTo>
                    <a:lnTo>
                      <a:pt x="837" y="76"/>
                    </a:lnTo>
                    <a:lnTo>
                      <a:pt x="839" y="79"/>
                    </a:lnTo>
                    <a:lnTo>
                      <a:pt x="840" y="80"/>
                    </a:lnTo>
                    <a:lnTo>
                      <a:pt x="840" y="83"/>
                    </a:lnTo>
                    <a:lnTo>
                      <a:pt x="840" y="84"/>
                    </a:lnTo>
                    <a:lnTo>
                      <a:pt x="839" y="86"/>
                    </a:lnTo>
                    <a:lnTo>
                      <a:pt x="837" y="88"/>
                    </a:lnTo>
                    <a:lnTo>
                      <a:pt x="834" y="90"/>
                    </a:lnTo>
                    <a:lnTo>
                      <a:pt x="832" y="91"/>
                    </a:lnTo>
                    <a:lnTo>
                      <a:pt x="830" y="91"/>
                    </a:lnTo>
                    <a:lnTo>
                      <a:pt x="830" y="91"/>
                    </a:lnTo>
                    <a:lnTo>
                      <a:pt x="827" y="91"/>
                    </a:lnTo>
                    <a:lnTo>
                      <a:pt x="825" y="90"/>
                    </a:lnTo>
                    <a:lnTo>
                      <a:pt x="821" y="88"/>
                    </a:lnTo>
                    <a:lnTo>
                      <a:pt x="820" y="86"/>
                    </a:lnTo>
                    <a:lnTo>
                      <a:pt x="820" y="84"/>
                    </a:lnTo>
                    <a:lnTo>
                      <a:pt x="818" y="83"/>
                    </a:lnTo>
                    <a:lnTo>
                      <a:pt x="820" y="80"/>
                    </a:lnTo>
                    <a:lnTo>
                      <a:pt x="820" y="79"/>
                    </a:lnTo>
                    <a:lnTo>
                      <a:pt x="821" y="76"/>
                    </a:lnTo>
                    <a:lnTo>
                      <a:pt x="825" y="75"/>
                    </a:lnTo>
                    <a:lnTo>
                      <a:pt x="827" y="74"/>
                    </a:lnTo>
                    <a:lnTo>
                      <a:pt x="830" y="74"/>
                    </a:lnTo>
                    <a:lnTo>
                      <a:pt x="830" y="74"/>
                    </a:lnTo>
                    <a:close/>
                    <a:moveTo>
                      <a:pt x="873" y="74"/>
                    </a:moveTo>
                    <a:lnTo>
                      <a:pt x="873" y="74"/>
                    </a:lnTo>
                    <a:lnTo>
                      <a:pt x="875" y="74"/>
                    </a:lnTo>
                    <a:lnTo>
                      <a:pt x="877" y="75"/>
                    </a:lnTo>
                    <a:lnTo>
                      <a:pt x="880" y="76"/>
                    </a:lnTo>
                    <a:lnTo>
                      <a:pt x="882" y="79"/>
                    </a:lnTo>
                    <a:lnTo>
                      <a:pt x="883" y="80"/>
                    </a:lnTo>
                    <a:lnTo>
                      <a:pt x="883" y="83"/>
                    </a:lnTo>
                    <a:lnTo>
                      <a:pt x="883" y="84"/>
                    </a:lnTo>
                    <a:lnTo>
                      <a:pt x="882" y="86"/>
                    </a:lnTo>
                    <a:lnTo>
                      <a:pt x="880" y="88"/>
                    </a:lnTo>
                    <a:lnTo>
                      <a:pt x="877" y="90"/>
                    </a:lnTo>
                    <a:lnTo>
                      <a:pt x="875" y="91"/>
                    </a:lnTo>
                    <a:lnTo>
                      <a:pt x="873" y="91"/>
                    </a:lnTo>
                    <a:lnTo>
                      <a:pt x="873" y="91"/>
                    </a:lnTo>
                    <a:lnTo>
                      <a:pt x="870" y="91"/>
                    </a:lnTo>
                    <a:lnTo>
                      <a:pt x="868" y="90"/>
                    </a:lnTo>
                    <a:lnTo>
                      <a:pt x="865" y="88"/>
                    </a:lnTo>
                    <a:lnTo>
                      <a:pt x="863" y="86"/>
                    </a:lnTo>
                    <a:lnTo>
                      <a:pt x="863" y="84"/>
                    </a:lnTo>
                    <a:lnTo>
                      <a:pt x="861" y="83"/>
                    </a:lnTo>
                    <a:lnTo>
                      <a:pt x="863" y="80"/>
                    </a:lnTo>
                    <a:lnTo>
                      <a:pt x="863" y="79"/>
                    </a:lnTo>
                    <a:lnTo>
                      <a:pt x="865" y="76"/>
                    </a:lnTo>
                    <a:lnTo>
                      <a:pt x="868" y="75"/>
                    </a:lnTo>
                    <a:lnTo>
                      <a:pt x="870" y="74"/>
                    </a:lnTo>
                    <a:lnTo>
                      <a:pt x="873" y="74"/>
                    </a:lnTo>
                    <a:lnTo>
                      <a:pt x="873" y="74"/>
                    </a:lnTo>
                    <a:close/>
                    <a:moveTo>
                      <a:pt x="916" y="74"/>
                    </a:moveTo>
                    <a:lnTo>
                      <a:pt x="916" y="74"/>
                    </a:lnTo>
                    <a:lnTo>
                      <a:pt x="918" y="74"/>
                    </a:lnTo>
                    <a:lnTo>
                      <a:pt x="920" y="75"/>
                    </a:lnTo>
                    <a:lnTo>
                      <a:pt x="923" y="76"/>
                    </a:lnTo>
                    <a:lnTo>
                      <a:pt x="925" y="79"/>
                    </a:lnTo>
                    <a:lnTo>
                      <a:pt x="927" y="80"/>
                    </a:lnTo>
                    <a:lnTo>
                      <a:pt x="927" y="83"/>
                    </a:lnTo>
                    <a:lnTo>
                      <a:pt x="927" y="84"/>
                    </a:lnTo>
                    <a:lnTo>
                      <a:pt x="925" y="86"/>
                    </a:lnTo>
                    <a:lnTo>
                      <a:pt x="923" y="88"/>
                    </a:lnTo>
                    <a:lnTo>
                      <a:pt x="920" y="90"/>
                    </a:lnTo>
                    <a:lnTo>
                      <a:pt x="918" y="91"/>
                    </a:lnTo>
                    <a:lnTo>
                      <a:pt x="916" y="91"/>
                    </a:lnTo>
                    <a:lnTo>
                      <a:pt x="916" y="91"/>
                    </a:lnTo>
                    <a:lnTo>
                      <a:pt x="913" y="91"/>
                    </a:lnTo>
                    <a:lnTo>
                      <a:pt x="911" y="90"/>
                    </a:lnTo>
                    <a:lnTo>
                      <a:pt x="908" y="88"/>
                    </a:lnTo>
                    <a:lnTo>
                      <a:pt x="906" y="86"/>
                    </a:lnTo>
                    <a:lnTo>
                      <a:pt x="906" y="84"/>
                    </a:lnTo>
                    <a:lnTo>
                      <a:pt x="904" y="83"/>
                    </a:lnTo>
                    <a:lnTo>
                      <a:pt x="906" y="80"/>
                    </a:lnTo>
                    <a:lnTo>
                      <a:pt x="906" y="79"/>
                    </a:lnTo>
                    <a:lnTo>
                      <a:pt x="908" y="76"/>
                    </a:lnTo>
                    <a:lnTo>
                      <a:pt x="911" y="75"/>
                    </a:lnTo>
                    <a:lnTo>
                      <a:pt x="913" y="74"/>
                    </a:lnTo>
                    <a:lnTo>
                      <a:pt x="916" y="74"/>
                    </a:lnTo>
                    <a:lnTo>
                      <a:pt x="916" y="74"/>
                    </a:lnTo>
                    <a:close/>
                    <a:moveTo>
                      <a:pt x="959" y="74"/>
                    </a:moveTo>
                    <a:lnTo>
                      <a:pt x="959" y="74"/>
                    </a:lnTo>
                    <a:lnTo>
                      <a:pt x="961" y="74"/>
                    </a:lnTo>
                    <a:lnTo>
                      <a:pt x="963" y="75"/>
                    </a:lnTo>
                    <a:lnTo>
                      <a:pt x="966" y="76"/>
                    </a:lnTo>
                    <a:lnTo>
                      <a:pt x="970" y="79"/>
                    </a:lnTo>
                    <a:lnTo>
                      <a:pt x="970" y="80"/>
                    </a:lnTo>
                    <a:lnTo>
                      <a:pt x="970" y="83"/>
                    </a:lnTo>
                    <a:lnTo>
                      <a:pt x="970" y="84"/>
                    </a:lnTo>
                    <a:lnTo>
                      <a:pt x="970" y="86"/>
                    </a:lnTo>
                    <a:lnTo>
                      <a:pt x="966" y="88"/>
                    </a:lnTo>
                    <a:lnTo>
                      <a:pt x="963" y="90"/>
                    </a:lnTo>
                    <a:lnTo>
                      <a:pt x="961" y="91"/>
                    </a:lnTo>
                    <a:lnTo>
                      <a:pt x="959" y="91"/>
                    </a:lnTo>
                    <a:lnTo>
                      <a:pt x="959" y="91"/>
                    </a:lnTo>
                    <a:lnTo>
                      <a:pt x="956" y="91"/>
                    </a:lnTo>
                    <a:lnTo>
                      <a:pt x="954" y="90"/>
                    </a:lnTo>
                    <a:lnTo>
                      <a:pt x="951" y="88"/>
                    </a:lnTo>
                    <a:lnTo>
                      <a:pt x="949" y="86"/>
                    </a:lnTo>
                    <a:lnTo>
                      <a:pt x="949" y="84"/>
                    </a:lnTo>
                    <a:lnTo>
                      <a:pt x="947" y="83"/>
                    </a:lnTo>
                    <a:lnTo>
                      <a:pt x="949" y="80"/>
                    </a:lnTo>
                    <a:lnTo>
                      <a:pt x="949" y="79"/>
                    </a:lnTo>
                    <a:lnTo>
                      <a:pt x="951" y="76"/>
                    </a:lnTo>
                    <a:lnTo>
                      <a:pt x="954" y="75"/>
                    </a:lnTo>
                    <a:lnTo>
                      <a:pt x="956" y="74"/>
                    </a:lnTo>
                    <a:lnTo>
                      <a:pt x="959" y="74"/>
                    </a:lnTo>
                    <a:lnTo>
                      <a:pt x="959" y="74"/>
                    </a:lnTo>
                    <a:close/>
                    <a:moveTo>
                      <a:pt x="1002" y="74"/>
                    </a:moveTo>
                    <a:lnTo>
                      <a:pt x="1002" y="74"/>
                    </a:lnTo>
                    <a:lnTo>
                      <a:pt x="1004" y="74"/>
                    </a:lnTo>
                    <a:lnTo>
                      <a:pt x="1006" y="75"/>
                    </a:lnTo>
                    <a:lnTo>
                      <a:pt x="1009" y="76"/>
                    </a:lnTo>
                    <a:lnTo>
                      <a:pt x="1013" y="79"/>
                    </a:lnTo>
                    <a:lnTo>
                      <a:pt x="1013" y="80"/>
                    </a:lnTo>
                    <a:lnTo>
                      <a:pt x="1013" y="83"/>
                    </a:lnTo>
                    <a:lnTo>
                      <a:pt x="1013" y="84"/>
                    </a:lnTo>
                    <a:lnTo>
                      <a:pt x="1013" y="86"/>
                    </a:lnTo>
                    <a:lnTo>
                      <a:pt x="1009" y="88"/>
                    </a:lnTo>
                    <a:lnTo>
                      <a:pt x="1006" y="90"/>
                    </a:lnTo>
                    <a:lnTo>
                      <a:pt x="1004" y="91"/>
                    </a:lnTo>
                    <a:lnTo>
                      <a:pt x="1002" y="91"/>
                    </a:lnTo>
                    <a:lnTo>
                      <a:pt x="1002" y="91"/>
                    </a:lnTo>
                    <a:lnTo>
                      <a:pt x="999" y="91"/>
                    </a:lnTo>
                    <a:lnTo>
                      <a:pt x="997" y="90"/>
                    </a:lnTo>
                    <a:lnTo>
                      <a:pt x="994" y="88"/>
                    </a:lnTo>
                    <a:lnTo>
                      <a:pt x="992" y="86"/>
                    </a:lnTo>
                    <a:lnTo>
                      <a:pt x="992" y="84"/>
                    </a:lnTo>
                    <a:lnTo>
                      <a:pt x="992" y="83"/>
                    </a:lnTo>
                    <a:lnTo>
                      <a:pt x="992" y="80"/>
                    </a:lnTo>
                    <a:lnTo>
                      <a:pt x="992" y="79"/>
                    </a:lnTo>
                    <a:lnTo>
                      <a:pt x="994" y="76"/>
                    </a:lnTo>
                    <a:lnTo>
                      <a:pt x="997" y="75"/>
                    </a:lnTo>
                    <a:lnTo>
                      <a:pt x="999" y="74"/>
                    </a:lnTo>
                    <a:lnTo>
                      <a:pt x="1002" y="74"/>
                    </a:lnTo>
                    <a:lnTo>
                      <a:pt x="1002" y="74"/>
                    </a:lnTo>
                    <a:close/>
                    <a:moveTo>
                      <a:pt x="1045" y="74"/>
                    </a:moveTo>
                    <a:lnTo>
                      <a:pt x="1045" y="74"/>
                    </a:lnTo>
                    <a:lnTo>
                      <a:pt x="1047" y="74"/>
                    </a:lnTo>
                    <a:lnTo>
                      <a:pt x="1049" y="75"/>
                    </a:lnTo>
                    <a:lnTo>
                      <a:pt x="1052" y="76"/>
                    </a:lnTo>
                    <a:lnTo>
                      <a:pt x="1056" y="79"/>
                    </a:lnTo>
                    <a:lnTo>
                      <a:pt x="1056" y="80"/>
                    </a:lnTo>
                    <a:lnTo>
                      <a:pt x="1056" y="83"/>
                    </a:lnTo>
                    <a:lnTo>
                      <a:pt x="1056" y="84"/>
                    </a:lnTo>
                    <a:lnTo>
                      <a:pt x="1056" y="86"/>
                    </a:lnTo>
                    <a:lnTo>
                      <a:pt x="1052" y="88"/>
                    </a:lnTo>
                    <a:lnTo>
                      <a:pt x="1049" y="90"/>
                    </a:lnTo>
                    <a:lnTo>
                      <a:pt x="1047" y="91"/>
                    </a:lnTo>
                    <a:lnTo>
                      <a:pt x="1045" y="91"/>
                    </a:lnTo>
                    <a:lnTo>
                      <a:pt x="1045" y="91"/>
                    </a:lnTo>
                    <a:lnTo>
                      <a:pt x="1042" y="91"/>
                    </a:lnTo>
                    <a:lnTo>
                      <a:pt x="1040" y="90"/>
                    </a:lnTo>
                    <a:lnTo>
                      <a:pt x="1037" y="88"/>
                    </a:lnTo>
                    <a:lnTo>
                      <a:pt x="1035" y="86"/>
                    </a:lnTo>
                    <a:lnTo>
                      <a:pt x="1035" y="84"/>
                    </a:lnTo>
                    <a:lnTo>
                      <a:pt x="1035" y="83"/>
                    </a:lnTo>
                    <a:lnTo>
                      <a:pt x="1035" y="80"/>
                    </a:lnTo>
                    <a:lnTo>
                      <a:pt x="1035" y="79"/>
                    </a:lnTo>
                    <a:lnTo>
                      <a:pt x="1037" y="76"/>
                    </a:lnTo>
                    <a:lnTo>
                      <a:pt x="1040" y="75"/>
                    </a:lnTo>
                    <a:lnTo>
                      <a:pt x="1042" y="74"/>
                    </a:lnTo>
                    <a:lnTo>
                      <a:pt x="1045" y="74"/>
                    </a:lnTo>
                    <a:lnTo>
                      <a:pt x="1045" y="74"/>
                    </a:lnTo>
                    <a:close/>
                    <a:moveTo>
                      <a:pt x="1088" y="74"/>
                    </a:moveTo>
                    <a:lnTo>
                      <a:pt x="1088" y="74"/>
                    </a:lnTo>
                    <a:lnTo>
                      <a:pt x="1090" y="74"/>
                    </a:lnTo>
                    <a:lnTo>
                      <a:pt x="1092" y="75"/>
                    </a:lnTo>
                    <a:lnTo>
                      <a:pt x="1095" y="76"/>
                    </a:lnTo>
                    <a:lnTo>
                      <a:pt x="1099" y="79"/>
                    </a:lnTo>
                    <a:lnTo>
                      <a:pt x="1099" y="80"/>
                    </a:lnTo>
                    <a:lnTo>
                      <a:pt x="1099" y="83"/>
                    </a:lnTo>
                    <a:lnTo>
                      <a:pt x="1099" y="84"/>
                    </a:lnTo>
                    <a:lnTo>
                      <a:pt x="1099" y="86"/>
                    </a:lnTo>
                    <a:lnTo>
                      <a:pt x="1095" y="88"/>
                    </a:lnTo>
                    <a:lnTo>
                      <a:pt x="1092" y="90"/>
                    </a:lnTo>
                    <a:lnTo>
                      <a:pt x="1090" y="91"/>
                    </a:lnTo>
                    <a:lnTo>
                      <a:pt x="1088" y="91"/>
                    </a:lnTo>
                    <a:lnTo>
                      <a:pt x="1088" y="91"/>
                    </a:lnTo>
                    <a:lnTo>
                      <a:pt x="1085" y="91"/>
                    </a:lnTo>
                    <a:lnTo>
                      <a:pt x="1083" y="90"/>
                    </a:lnTo>
                    <a:lnTo>
                      <a:pt x="1080" y="88"/>
                    </a:lnTo>
                    <a:lnTo>
                      <a:pt x="1078" y="86"/>
                    </a:lnTo>
                    <a:lnTo>
                      <a:pt x="1078" y="84"/>
                    </a:lnTo>
                    <a:lnTo>
                      <a:pt x="1078" y="83"/>
                    </a:lnTo>
                    <a:lnTo>
                      <a:pt x="1078" y="80"/>
                    </a:lnTo>
                    <a:lnTo>
                      <a:pt x="1078" y="79"/>
                    </a:lnTo>
                    <a:lnTo>
                      <a:pt x="1080" y="76"/>
                    </a:lnTo>
                    <a:lnTo>
                      <a:pt x="1083" y="75"/>
                    </a:lnTo>
                    <a:lnTo>
                      <a:pt x="1085" y="74"/>
                    </a:lnTo>
                    <a:lnTo>
                      <a:pt x="1088" y="74"/>
                    </a:lnTo>
                    <a:lnTo>
                      <a:pt x="1088" y="74"/>
                    </a:lnTo>
                    <a:close/>
                    <a:moveTo>
                      <a:pt x="1131" y="74"/>
                    </a:moveTo>
                    <a:lnTo>
                      <a:pt x="1131" y="74"/>
                    </a:lnTo>
                    <a:lnTo>
                      <a:pt x="1133" y="74"/>
                    </a:lnTo>
                    <a:lnTo>
                      <a:pt x="1135" y="75"/>
                    </a:lnTo>
                    <a:lnTo>
                      <a:pt x="1138" y="76"/>
                    </a:lnTo>
                    <a:lnTo>
                      <a:pt x="1142" y="79"/>
                    </a:lnTo>
                    <a:lnTo>
                      <a:pt x="1142" y="80"/>
                    </a:lnTo>
                    <a:lnTo>
                      <a:pt x="1142" y="83"/>
                    </a:lnTo>
                    <a:lnTo>
                      <a:pt x="1142" y="84"/>
                    </a:lnTo>
                    <a:lnTo>
                      <a:pt x="1142" y="86"/>
                    </a:lnTo>
                    <a:lnTo>
                      <a:pt x="1138" y="88"/>
                    </a:lnTo>
                    <a:lnTo>
                      <a:pt x="1135" y="90"/>
                    </a:lnTo>
                    <a:lnTo>
                      <a:pt x="1133" y="91"/>
                    </a:lnTo>
                    <a:lnTo>
                      <a:pt x="1131" y="91"/>
                    </a:lnTo>
                    <a:lnTo>
                      <a:pt x="1131" y="91"/>
                    </a:lnTo>
                    <a:lnTo>
                      <a:pt x="1128" y="91"/>
                    </a:lnTo>
                    <a:lnTo>
                      <a:pt x="1126" y="90"/>
                    </a:lnTo>
                    <a:lnTo>
                      <a:pt x="1123" y="88"/>
                    </a:lnTo>
                    <a:lnTo>
                      <a:pt x="1121" y="86"/>
                    </a:lnTo>
                    <a:lnTo>
                      <a:pt x="1121" y="84"/>
                    </a:lnTo>
                    <a:lnTo>
                      <a:pt x="1121" y="83"/>
                    </a:lnTo>
                    <a:lnTo>
                      <a:pt x="1121" y="80"/>
                    </a:lnTo>
                    <a:lnTo>
                      <a:pt x="1121" y="79"/>
                    </a:lnTo>
                    <a:lnTo>
                      <a:pt x="1123" y="76"/>
                    </a:lnTo>
                    <a:lnTo>
                      <a:pt x="1126" y="75"/>
                    </a:lnTo>
                    <a:lnTo>
                      <a:pt x="1128" y="74"/>
                    </a:lnTo>
                    <a:lnTo>
                      <a:pt x="1131" y="74"/>
                    </a:lnTo>
                    <a:lnTo>
                      <a:pt x="1131" y="74"/>
                    </a:lnTo>
                    <a:close/>
                    <a:moveTo>
                      <a:pt x="1133" y="59"/>
                    </a:moveTo>
                    <a:lnTo>
                      <a:pt x="1133" y="59"/>
                    </a:lnTo>
                    <a:lnTo>
                      <a:pt x="1133" y="57"/>
                    </a:lnTo>
                    <a:lnTo>
                      <a:pt x="1135" y="56"/>
                    </a:lnTo>
                    <a:lnTo>
                      <a:pt x="1137" y="53"/>
                    </a:lnTo>
                    <a:lnTo>
                      <a:pt x="1140" y="52"/>
                    </a:lnTo>
                    <a:lnTo>
                      <a:pt x="1142" y="51"/>
                    </a:lnTo>
                    <a:lnTo>
                      <a:pt x="1145" y="51"/>
                    </a:lnTo>
                    <a:lnTo>
                      <a:pt x="1147" y="51"/>
                    </a:lnTo>
                    <a:lnTo>
                      <a:pt x="1149" y="52"/>
                    </a:lnTo>
                    <a:lnTo>
                      <a:pt x="1152" y="53"/>
                    </a:lnTo>
                    <a:lnTo>
                      <a:pt x="1154" y="56"/>
                    </a:lnTo>
                    <a:lnTo>
                      <a:pt x="1155" y="57"/>
                    </a:lnTo>
                    <a:lnTo>
                      <a:pt x="1155" y="59"/>
                    </a:lnTo>
                    <a:lnTo>
                      <a:pt x="1155" y="59"/>
                    </a:lnTo>
                    <a:lnTo>
                      <a:pt x="1155" y="62"/>
                    </a:lnTo>
                    <a:lnTo>
                      <a:pt x="1154" y="63"/>
                    </a:lnTo>
                    <a:lnTo>
                      <a:pt x="1152" y="66"/>
                    </a:lnTo>
                    <a:lnTo>
                      <a:pt x="1149" y="67"/>
                    </a:lnTo>
                    <a:lnTo>
                      <a:pt x="1147" y="68"/>
                    </a:lnTo>
                    <a:lnTo>
                      <a:pt x="1145" y="68"/>
                    </a:lnTo>
                    <a:lnTo>
                      <a:pt x="1142" y="68"/>
                    </a:lnTo>
                    <a:lnTo>
                      <a:pt x="1140" y="67"/>
                    </a:lnTo>
                    <a:lnTo>
                      <a:pt x="1137" y="66"/>
                    </a:lnTo>
                    <a:lnTo>
                      <a:pt x="1135" y="63"/>
                    </a:lnTo>
                    <a:lnTo>
                      <a:pt x="1133" y="62"/>
                    </a:lnTo>
                    <a:lnTo>
                      <a:pt x="1133" y="59"/>
                    </a:lnTo>
                    <a:lnTo>
                      <a:pt x="1133" y="59"/>
                    </a:lnTo>
                    <a:close/>
                    <a:moveTo>
                      <a:pt x="1133" y="25"/>
                    </a:moveTo>
                    <a:lnTo>
                      <a:pt x="1133" y="25"/>
                    </a:lnTo>
                    <a:lnTo>
                      <a:pt x="1133" y="24"/>
                    </a:lnTo>
                    <a:lnTo>
                      <a:pt x="1135" y="23"/>
                    </a:lnTo>
                    <a:lnTo>
                      <a:pt x="1137" y="20"/>
                    </a:lnTo>
                    <a:lnTo>
                      <a:pt x="1140" y="19"/>
                    </a:lnTo>
                    <a:lnTo>
                      <a:pt x="1142" y="17"/>
                    </a:lnTo>
                    <a:lnTo>
                      <a:pt x="1145" y="17"/>
                    </a:lnTo>
                    <a:lnTo>
                      <a:pt x="1147" y="17"/>
                    </a:lnTo>
                    <a:lnTo>
                      <a:pt x="1149" y="19"/>
                    </a:lnTo>
                    <a:lnTo>
                      <a:pt x="1152" y="20"/>
                    </a:lnTo>
                    <a:lnTo>
                      <a:pt x="1154" y="23"/>
                    </a:lnTo>
                    <a:lnTo>
                      <a:pt x="1155" y="24"/>
                    </a:lnTo>
                    <a:lnTo>
                      <a:pt x="1155" y="25"/>
                    </a:lnTo>
                    <a:lnTo>
                      <a:pt x="1155" y="25"/>
                    </a:lnTo>
                    <a:lnTo>
                      <a:pt x="1155" y="28"/>
                    </a:lnTo>
                    <a:lnTo>
                      <a:pt x="1154" y="29"/>
                    </a:lnTo>
                    <a:lnTo>
                      <a:pt x="1152" y="32"/>
                    </a:lnTo>
                    <a:lnTo>
                      <a:pt x="1149" y="33"/>
                    </a:lnTo>
                    <a:lnTo>
                      <a:pt x="1147" y="35"/>
                    </a:lnTo>
                    <a:lnTo>
                      <a:pt x="1145" y="35"/>
                    </a:lnTo>
                    <a:lnTo>
                      <a:pt x="1142" y="35"/>
                    </a:lnTo>
                    <a:lnTo>
                      <a:pt x="1140" y="33"/>
                    </a:lnTo>
                    <a:lnTo>
                      <a:pt x="1137" y="32"/>
                    </a:lnTo>
                    <a:lnTo>
                      <a:pt x="1135" y="29"/>
                    </a:lnTo>
                    <a:lnTo>
                      <a:pt x="1133" y="28"/>
                    </a:lnTo>
                    <a:lnTo>
                      <a:pt x="1133" y="25"/>
                    </a:lnTo>
                    <a:lnTo>
                      <a:pt x="1133" y="2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1805040" y="4778280"/>
                <a:ext cx="880920" cy="180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41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1805040" y="4781520"/>
                <a:ext cx="880920" cy="1440"/>
              </a:xfrm>
              <a:prstGeom prst="rect">
                <a:avLst/>
              </a:prstGeom>
              <a:solidFill>
                <a:srgbClr val="50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5a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63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1805040" y="4784760"/>
                <a:ext cx="880920" cy="1440"/>
              </a:xfrm>
              <a:prstGeom prst="rect">
                <a:avLst/>
              </a:prstGeom>
              <a:solidFill>
                <a:srgbClr val="6c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76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1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1805040" y="4788000"/>
                <a:ext cx="880920" cy="1440"/>
              </a:xfrm>
              <a:prstGeom prst="rect">
                <a:avLst/>
              </a:prstGeom>
              <a:solidFill>
                <a:srgbClr val="8b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9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1805040" y="4791240"/>
                <a:ext cx="880920" cy="1440"/>
              </a:xfrm>
              <a:prstGeom prst="rect">
                <a:avLst/>
              </a:prstGeom>
              <a:solidFill>
                <a:srgbClr val="a9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b2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1805040" y="4794120"/>
                <a:ext cx="880920" cy="1800"/>
              </a:xfrm>
              <a:prstGeom prst="rect">
                <a:avLst/>
              </a:prstGeom>
              <a:solidFill>
                <a:srgbClr val="c4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d4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1805040" y="4797360"/>
                <a:ext cx="880920" cy="1800"/>
              </a:xfrm>
              <a:prstGeom prst="rect">
                <a:avLst/>
              </a:prstGeom>
              <a:solidFill>
                <a:srgbClr val="db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1805040" y="4799160"/>
                <a:ext cx="880920" cy="14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1805040" y="4802040"/>
                <a:ext cx="880920" cy="1800"/>
              </a:xfrm>
              <a:prstGeom prst="rect">
                <a:avLst/>
              </a:prstGeom>
              <a:solidFill>
                <a:srgbClr val="f0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1805040" y="4805280"/>
                <a:ext cx="880920" cy="180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1805040" y="4808520"/>
                <a:ext cx="880920" cy="144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1805040" y="4811760"/>
                <a:ext cx="880920" cy="144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1805040" y="4815000"/>
                <a:ext cx="88092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f0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1805040" y="4818240"/>
                <a:ext cx="880920" cy="144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1805040" y="4821120"/>
                <a:ext cx="880920" cy="1800"/>
              </a:xfrm>
              <a:prstGeom prst="rect">
                <a:avLst/>
              </a:prstGeom>
              <a:solidFill>
                <a:srgbClr val="db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1805040" y="4822920"/>
                <a:ext cx="880920" cy="1440"/>
              </a:xfrm>
              <a:prstGeom prst="rect">
                <a:avLst/>
              </a:prstGeom>
              <a:solidFill>
                <a:srgbClr val="d4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1805040" y="482292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1805040" y="4824360"/>
                <a:ext cx="880920" cy="1800"/>
              </a:xfrm>
              <a:prstGeom prst="rect">
                <a:avLst/>
              </a:prstGeom>
              <a:solidFill>
                <a:srgbClr val="c4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b2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1805040" y="4827600"/>
                <a:ext cx="880920" cy="1440"/>
              </a:xfrm>
              <a:prstGeom prst="rect">
                <a:avLst/>
              </a:prstGeom>
              <a:solidFill>
                <a:srgbClr val="a9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9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1805040" y="4830840"/>
                <a:ext cx="880920" cy="1440"/>
              </a:xfrm>
              <a:prstGeom prst="rect">
                <a:avLst/>
              </a:prstGeom>
              <a:solidFill>
                <a:srgbClr val="8b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81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76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1805040" y="4834080"/>
                <a:ext cx="880920" cy="1440"/>
              </a:xfrm>
              <a:prstGeom prst="rect">
                <a:avLst/>
              </a:prstGeom>
              <a:solidFill>
                <a:srgbClr val="6c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63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5a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1805040" y="4836960"/>
                <a:ext cx="880920" cy="1800"/>
              </a:xfrm>
              <a:prstGeom prst="rect">
                <a:avLst/>
              </a:prstGeom>
              <a:solidFill>
                <a:srgbClr val="50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41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1805040" y="4840200"/>
                <a:ext cx="880920" cy="1800"/>
              </a:xfrm>
              <a:prstGeom prst="rect">
                <a:avLst/>
              </a:prstGeom>
              <a:solidFill>
                <a:srgbClr val="3a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1797120" y="4770360"/>
                <a:ext cx="898560" cy="77760"/>
              </a:xfrm>
              <a:custGeom>
                <a:avLst/>
                <a:gdLst/>
                <a:ahLst/>
                <a:rect l="l" t="t" r="r" b="b"/>
                <a:pathLst>
                  <a:path w="1133" h="98">
                    <a:moveTo>
                      <a:pt x="1100" y="98"/>
                    </a:moveTo>
                    <a:lnTo>
                      <a:pt x="1100" y="98"/>
                    </a:lnTo>
                    <a:lnTo>
                      <a:pt x="1099" y="98"/>
                    </a:lnTo>
                    <a:lnTo>
                      <a:pt x="1097" y="96"/>
                    </a:lnTo>
                    <a:lnTo>
                      <a:pt x="1094" y="95"/>
                    </a:lnTo>
                    <a:lnTo>
                      <a:pt x="1090" y="92"/>
                    </a:lnTo>
                    <a:lnTo>
                      <a:pt x="1090" y="91"/>
                    </a:lnTo>
                    <a:lnTo>
                      <a:pt x="1090" y="89"/>
                    </a:lnTo>
                    <a:lnTo>
                      <a:pt x="1090" y="87"/>
                    </a:lnTo>
                    <a:lnTo>
                      <a:pt x="1090" y="85"/>
                    </a:lnTo>
                    <a:lnTo>
                      <a:pt x="1094" y="83"/>
                    </a:lnTo>
                    <a:lnTo>
                      <a:pt x="1097" y="81"/>
                    </a:lnTo>
                    <a:lnTo>
                      <a:pt x="1099" y="80"/>
                    </a:lnTo>
                    <a:lnTo>
                      <a:pt x="1100" y="80"/>
                    </a:lnTo>
                    <a:lnTo>
                      <a:pt x="1100" y="80"/>
                    </a:lnTo>
                    <a:lnTo>
                      <a:pt x="1102" y="80"/>
                    </a:lnTo>
                    <a:lnTo>
                      <a:pt x="1104" y="81"/>
                    </a:lnTo>
                    <a:lnTo>
                      <a:pt x="1107" y="83"/>
                    </a:lnTo>
                    <a:lnTo>
                      <a:pt x="1111" y="85"/>
                    </a:lnTo>
                    <a:lnTo>
                      <a:pt x="1111" y="87"/>
                    </a:lnTo>
                    <a:lnTo>
                      <a:pt x="1111" y="89"/>
                    </a:lnTo>
                    <a:lnTo>
                      <a:pt x="1111" y="91"/>
                    </a:lnTo>
                    <a:lnTo>
                      <a:pt x="1111" y="92"/>
                    </a:lnTo>
                    <a:lnTo>
                      <a:pt x="1107" y="95"/>
                    </a:lnTo>
                    <a:lnTo>
                      <a:pt x="1104" y="96"/>
                    </a:lnTo>
                    <a:lnTo>
                      <a:pt x="1102" y="98"/>
                    </a:lnTo>
                    <a:lnTo>
                      <a:pt x="1100" y="98"/>
                    </a:lnTo>
                    <a:lnTo>
                      <a:pt x="1100" y="98"/>
                    </a:lnTo>
                    <a:close/>
                    <a:moveTo>
                      <a:pt x="1057" y="98"/>
                    </a:moveTo>
                    <a:lnTo>
                      <a:pt x="1057" y="98"/>
                    </a:lnTo>
                    <a:lnTo>
                      <a:pt x="1056" y="98"/>
                    </a:lnTo>
                    <a:lnTo>
                      <a:pt x="1054" y="96"/>
                    </a:lnTo>
                    <a:lnTo>
                      <a:pt x="1050" y="95"/>
                    </a:lnTo>
                    <a:lnTo>
                      <a:pt x="1047" y="92"/>
                    </a:lnTo>
                    <a:lnTo>
                      <a:pt x="1047" y="91"/>
                    </a:lnTo>
                    <a:lnTo>
                      <a:pt x="1047" y="89"/>
                    </a:lnTo>
                    <a:lnTo>
                      <a:pt x="1047" y="87"/>
                    </a:lnTo>
                    <a:lnTo>
                      <a:pt x="1047" y="85"/>
                    </a:lnTo>
                    <a:lnTo>
                      <a:pt x="1050" y="83"/>
                    </a:lnTo>
                    <a:lnTo>
                      <a:pt x="1054" y="81"/>
                    </a:lnTo>
                    <a:lnTo>
                      <a:pt x="1056" y="80"/>
                    </a:lnTo>
                    <a:lnTo>
                      <a:pt x="1057" y="80"/>
                    </a:lnTo>
                    <a:lnTo>
                      <a:pt x="1057" y="80"/>
                    </a:lnTo>
                    <a:lnTo>
                      <a:pt x="1059" y="80"/>
                    </a:lnTo>
                    <a:lnTo>
                      <a:pt x="1061" y="81"/>
                    </a:lnTo>
                    <a:lnTo>
                      <a:pt x="1064" y="83"/>
                    </a:lnTo>
                    <a:lnTo>
                      <a:pt x="1068" y="85"/>
                    </a:lnTo>
                    <a:lnTo>
                      <a:pt x="1068" y="87"/>
                    </a:lnTo>
                    <a:lnTo>
                      <a:pt x="1068" y="89"/>
                    </a:lnTo>
                    <a:lnTo>
                      <a:pt x="1068" y="91"/>
                    </a:lnTo>
                    <a:lnTo>
                      <a:pt x="1068" y="92"/>
                    </a:lnTo>
                    <a:lnTo>
                      <a:pt x="1064" y="95"/>
                    </a:lnTo>
                    <a:lnTo>
                      <a:pt x="1061" y="96"/>
                    </a:lnTo>
                    <a:lnTo>
                      <a:pt x="1059" y="98"/>
                    </a:lnTo>
                    <a:lnTo>
                      <a:pt x="1057" y="98"/>
                    </a:lnTo>
                    <a:lnTo>
                      <a:pt x="1057" y="98"/>
                    </a:lnTo>
                    <a:close/>
                    <a:moveTo>
                      <a:pt x="1014" y="98"/>
                    </a:moveTo>
                    <a:lnTo>
                      <a:pt x="1014" y="98"/>
                    </a:lnTo>
                    <a:lnTo>
                      <a:pt x="1013" y="98"/>
                    </a:lnTo>
                    <a:lnTo>
                      <a:pt x="1011" y="96"/>
                    </a:lnTo>
                    <a:lnTo>
                      <a:pt x="1007" y="95"/>
                    </a:lnTo>
                    <a:lnTo>
                      <a:pt x="1004" y="92"/>
                    </a:lnTo>
                    <a:lnTo>
                      <a:pt x="1004" y="91"/>
                    </a:lnTo>
                    <a:lnTo>
                      <a:pt x="1004" y="89"/>
                    </a:lnTo>
                    <a:lnTo>
                      <a:pt x="1004" y="87"/>
                    </a:lnTo>
                    <a:lnTo>
                      <a:pt x="1004" y="85"/>
                    </a:lnTo>
                    <a:lnTo>
                      <a:pt x="1007" y="83"/>
                    </a:lnTo>
                    <a:lnTo>
                      <a:pt x="1011" y="81"/>
                    </a:lnTo>
                    <a:lnTo>
                      <a:pt x="1013" y="80"/>
                    </a:lnTo>
                    <a:lnTo>
                      <a:pt x="1014" y="80"/>
                    </a:lnTo>
                    <a:lnTo>
                      <a:pt x="1014" y="80"/>
                    </a:lnTo>
                    <a:lnTo>
                      <a:pt x="1016" y="80"/>
                    </a:lnTo>
                    <a:lnTo>
                      <a:pt x="1018" y="81"/>
                    </a:lnTo>
                    <a:lnTo>
                      <a:pt x="1021" y="83"/>
                    </a:lnTo>
                    <a:lnTo>
                      <a:pt x="1025" y="85"/>
                    </a:lnTo>
                    <a:lnTo>
                      <a:pt x="1025" y="87"/>
                    </a:lnTo>
                    <a:lnTo>
                      <a:pt x="1025" y="89"/>
                    </a:lnTo>
                    <a:lnTo>
                      <a:pt x="1025" y="91"/>
                    </a:lnTo>
                    <a:lnTo>
                      <a:pt x="1025" y="92"/>
                    </a:lnTo>
                    <a:lnTo>
                      <a:pt x="1021" y="95"/>
                    </a:lnTo>
                    <a:lnTo>
                      <a:pt x="1018" y="96"/>
                    </a:lnTo>
                    <a:lnTo>
                      <a:pt x="1016" y="98"/>
                    </a:lnTo>
                    <a:lnTo>
                      <a:pt x="1014" y="98"/>
                    </a:lnTo>
                    <a:lnTo>
                      <a:pt x="1014" y="98"/>
                    </a:lnTo>
                    <a:close/>
                    <a:moveTo>
                      <a:pt x="971" y="98"/>
                    </a:moveTo>
                    <a:lnTo>
                      <a:pt x="971" y="98"/>
                    </a:lnTo>
                    <a:lnTo>
                      <a:pt x="970" y="98"/>
                    </a:lnTo>
                    <a:lnTo>
                      <a:pt x="968" y="96"/>
                    </a:lnTo>
                    <a:lnTo>
                      <a:pt x="964" y="95"/>
                    </a:lnTo>
                    <a:lnTo>
                      <a:pt x="961" y="92"/>
                    </a:lnTo>
                    <a:lnTo>
                      <a:pt x="961" y="91"/>
                    </a:lnTo>
                    <a:lnTo>
                      <a:pt x="961" y="89"/>
                    </a:lnTo>
                    <a:lnTo>
                      <a:pt x="961" y="87"/>
                    </a:lnTo>
                    <a:lnTo>
                      <a:pt x="961" y="85"/>
                    </a:lnTo>
                    <a:lnTo>
                      <a:pt x="964" y="83"/>
                    </a:lnTo>
                    <a:lnTo>
                      <a:pt x="968" y="81"/>
                    </a:lnTo>
                    <a:lnTo>
                      <a:pt x="970" y="80"/>
                    </a:lnTo>
                    <a:lnTo>
                      <a:pt x="971" y="80"/>
                    </a:lnTo>
                    <a:lnTo>
                      <a:pt x="971" y="80"/>
                    </a:lnTo>
                    <a:lnTo>
                      <a:pt x="973" y="80"/>
                    </a:lnTo>
                    <a:lnTo>
                      <a:pt x="975" y="81"/>
                    </a:lnTo>
                    <a:lnTo>
                      <a:pt x="978" y="83"/>
                    </a:lnTo>
                    <a:lnTo>
                      <a:pt x="982" y="85"/>
                    </a:lnTo>
                    <a:lnTo>
                      <a:pt x="982" y="87"/>
                    </a:lnTo>
                    <a:lnTo>
                      <a:pt x="982" y="89"/>
                    </a:lnTo>
                    <a:lnTo>
                      <a:pt x="982" y="91"/>
                    </a:lnTo>
                    <a:lnTo>
                      <a:pt x="982" y="92"/>
                    </a:lnTo>
                    <a:lnTo>
                      <a:pt x="978" y="95"/>
                    </a:lnTo>
                    <a:lnTo>
                      <a:pt x="975" y="96"/>
                    </a:lnTo>
                    <a:lnTo>
                      <a:pt x="973" y="98"/>
                    </a:lnTo>
                    <a:lnTo>
                      <a:pt x="971" y="98"/>
                    </a:lnTo>
                    <a:lnTo>
                      <a:pt x="971" y="98"/>
                    </a:lnTo>
                    <a:close/>
                    <a:moveTo>
                      <a:pt x="928" y="98"/>
                    </a:moveTo>
                    <a:lnTo>
                      <a:pt x="928" y="98"/>
                    </a:lnTo>
                    <a:lnTo>
                      <a:pt x="927" y="98"/>
                    </a:lnTo>
                    <a:lnTo>
                      <a:pt x="925" y="96"/>
                    </a:lnTo>
                    <a:lnTo>
                      <a:pt x="921" y="95"/>
                    </a:lnTo>
                    <a:lnTo>
                      <a:pt x="918" y="92"/>
                    </a:lnTo>
                    <a:lnTo>
                      <a:pt x="918" y="91"/>
                    </a:lnTo>
                    <a:lnTo>
                      <a:pt x="918" y="89"/>
                    </a:lnTo>
                    <a:lnTo>
                      <a:pt x="918" y="87"/>
                    </a:lnTo>
                    <a:lnTo>
                      <a:pt x="918" y="85"/>
                    </a:lnTo>
                    <a:lnTo>
                      <a:pt x="921" y="83"/>
                    </a:lnTo>
                    <a:lnTo>
                      <a:pt x="925" y="81"/>
                    </a:lnTo>
                    <a:lnTo>
                      <a:pt x="927" y="80"/>
                    </a:lnTo>
                    <a:lnTo>
                      <a:pt x="928" y="80"/>
                    </a:lnTo>
                    <a:lnTo>
                      <a:pt x="928" y="80"/>
                    </a:lnTo>
                    <a:lnTo>
                      <a:pt x="930" y="80"/>
                    </a:lnTo>
                    <a:lnTo>
                      <a:pt x="932" y="81"/>
                    </a:lnTo>
                    <a:lnTo>
                      <a:pt x="935" y="83"/>
                    </a:lnTo>
                    <a:lnTo>
                      <a:pt x="939" y="85"/>
                    </a:lnTo>
                    <a:lnTo>
                      <a:pt x="939" y="87"/>
                    </a:lnTo>
                    <a:lnTo>
                      <a:pt x="939" y="89"/>
                    </a:lnTo>
                    <a:lnTo>
                      <a:pt x="939" y="91"/>
                    </a:lnTo>
                    <a:lnTo>
                      <a:pt x="939" y="92"/>
                    </a:lnTo>
                    <a:lnTo>
                      <a:pt x="935" y="95"/>
                    </a:lnTo>
                    <a:lnTo>
                      <a:pt x="932" y="96"/>
                    </a:lnTo>
                    <a:lnTo>
                      <a:pt x="930" y="98"/>
                    </a:lnTo>
                    <a:lnTo>
                      <a:pt x="928" y="98"/>
                    </a:lnTo>
                    <a:lnTo>
                      <a:pt x="928" y="98"/>
                    </a:lnTo>
                    <a:close/>
                    <a:moveTo>
                      <a:pt x="885" y="98"/>
                    </a:moveTo>
                    <a:lnTo>
                      <a:pt x="885" y="98"/>
                    </a:lnTo>
                    <a:lnTo>
                      <a:pt x="883" y="98"/>
                    </a:lnTo>
                    <a:lnTo>
                      <a:pt x="882" y="96"/>
                    </a:lnTo>
                    <a:lnTo>
                      <a:pt x="878" y="95"/>
                    </a:lnTo>
                    <a:lnTo>
                      <a:pt x="875" y="92"/>
                    </a:lnTo>
                    <a:lnTo>
                      <a:pt x="875" y="91"/>
                    </a:lnTo>
                    <a:lnTo>
                      <a:pt x="875" y="89"/>
                    </a:lnTo>
                    <a:lnTo>
                      <a:pt x="875" y="87"/>
                    </a:lnTo>
                    <a:lnTo>
                      <a:pt x="875" y="85"/>
                    </a:lnTo>
                    <a:lnTo>
                      <a:pt x="878" y="83"/>
                    </a:lnTo>
                    <a:lnTo>
                      <a:pt x="882" y="81"/>
                    </a:lnTo>
                    <a:lnTo>
                      <a:pt x="883" y="80"/>
                    </a:lnTo>
                    <a:lnTo>
                      <a:pt x="885" y="80"/>
                    </a:lnTo>
                    <a:lnTo>
                      <a:pt x="885" y="80"/>
                    </a:lnTo>
                    <a:lnTo>
                      <a:pt x="887" y="80"/>
                    </a:lnTo>
                    <a:lnTo>
                      <a:pt x="889" y="81"/>
                    </a:lnTo>
                    <a:lnTo>
                      <a:pt x="892" y="83"/>
                    </a:lnTo>
                    <a:lnTo>
                      <a:pt x="896" y="85"/>
                    </a:lnTo>
                    <a:lnTo>
                      <a:pt x="896" y="87"/>
                    </a:lnTo>
                    <a:lnTo>
                      <a:pt x="896" y="89"/>
                    </a:lnTo>
                    <a:lnTo>
                      <a:pt x="896" y="91"/>
                    </a:lnTo>
                    <a:lnTo>
                      <a:pt x="896" y="92"/>
                    </a:lnTo>
                    <a:lnTo>
                      <a:pt x="892" y="95"/>
                    </a:lnTo>
                    <a:lnTo>
                      <a:pt x="889" y="96"/>
                    </a:lnTo>
                    <a:lnTo>
                      <a:pt x="887" y="98"/>
                    </a:lnTo>
                    <a:lnTo>
                      <a:pt x="885" y="98"/>
                    </a:lnTo>
                    <a:lnTo>
                      <a:pt x="885" y="98"/>
                    </a:lnTo>
                    <a:close/>
                    <a:moveTo>
                      <a:pt x="842" y="98"/>
                    </a:moveTo>
                    <a:lnTo>
                      <a:pt x="842" y="98"/>
                    </a:lnTo>
                    <a:lnTo>
                      <a:pt x="840" y="98"/>
                    </a:lnTo>
                    <a:lnTo>
                      <a:pt x="839" y="96"/>
                    </a:lnTo>
                    <a:lnTo>
                      <a:pt x="835" y="95"/>
                    </a:lnTo>
                    <a:lnTo>
                      <a:pt x="832" y="92"/>
                    </a:lnTo>
                    <a:lnTo>
                      <a:pt x="832" y="91"/>
                    </a:lnTo>
                    <a:lnTo>
                      <a:pt x="832" y="89"/>
                    </a:lnTo>
                    <a:lnTo>
                      <a:pt x="832" y="87"/>
                    </a:lnTo>
                    <a:lnTo>
                      <a:pt x="832" y="85"/>
                    </a:lnTo>
                    <a:lnTo>
                      <a:pt x="835" y="83"/>
                    </a:lnTo>
                    <a:lnTo>
                      <a:pt x="839" y="81"/>
                    </a:lnTo>
                    <a:lnTo>
                      <a:pt x="840" y="80"/>
                    </a:lnTo>
                    <a:lnTo>
                      <a:pt x="842" y="80"/>
                    </a:lnTo>
                    <a:lnTo>
                      <a:pt x="842" y="80"/>
                    </a:lnTo>
                    <a:lnTo>
                      <a:pt x="844" y="80"/>
                    </a:lnTo>
                    <a:lnTo>
                      <a:pt x="846" y="81"/>
                    </a:lnTo>
                    <a:lnTo>
                      <a:pt x="849" y="83"/>
                    </a:lnTo>
                    <a:lnTo>
                      <a:pt x="852" y="85"/>
                    </a:lnTo>
                    <a:lnTo>
                      <a:pt x="852" y="87"/>
                    </a:lnTo>
                    <a:lnTo>
                      <a:pt x="852" y="89"/>
                    </a:lnTo>
                    <a:lnTo>
                      <a:pt x="852" y="91"/>
                    </a:lnTo>
                    <a:lnTo>
                      <a:pt x="852" y="92"/>
                    </a:lnTo>
                    <a:lnTo>
                      <a:pt x="849" y="95"/>
                    </a:lnTo>
                    <a:lnTo>
                      <a:pt x="846" y="96"/>
                    </a:lnTo>
                    <a:lnTo>
                      <a:pt x="844" y="98"/>
                    </a:lnTo>
                    <a:lnTo>
                      <a:pt x="842" y="98"/>
                    </a:lnTo>
                    <a:lnTo>
                      <a:pt x="842" y="98"/>
                    </a:lnTo>
                    <a:close/>
                    <a:moveTo>
                      <a:pt x="799" y="98"/>
                    </a:moveTo>
                    <a:lnTo>
                      <a:pt x="799" y="98"/>
                    </a:lnTo>
                    <a:lnTo>
                      <a:pt x="797" y="98"/>
                    </a:lnTo>
                    <a:lnTo>
                      <a:pt x="796" y="96"/>
                    </a:lnTo>
                    <a:lnTo>
                      <a:pt x="792" y="95"/>
                    </a:lnTo>
                    <a:lnTo>
                      <a:pt x="789" y="92"/>
                    </a:lnTo>
                    <a:lnTo>
                      <a:pt x="789" y="91"/>
                    </a:lnTo>
                    <a:lnTo>
                      <a:pt x="789" y="89"/>
                    </a:lnTo>
                    <a:lnTo>
                      <a:pt x="789" y="87"/>
                    </a:lnTo>
                    <a:lnTo>
                      <a:pt x="789" y="85"/>
                    </a:lnTo>
                    <a:lnTo>
                      <a:pt x="792" y="83"/>
                    </a:lnTo>
                    <a:lnTo>
                      <a:pt x="796" y="81"/>
                    </a:lnTo>
                    <a:lnTo>
                      <a:pt x="797" y="80"/>
                    </a:lnTo>
                    <a:lnTo>
                      <a:pt x="799" y="80"/>
                    </a:lnTo>
                    <a:lnTo>
                      <a:pt x="799" y="80"/>
                    </a:lnTo>
                    <a:lnTo>
                      <a:pt x="801" y="80"/>
                    </a:lnTo>
                    <a:lnTo>
                      <a:pt x="803" y="81"/>
                    </a:lnTo>
                    <a:lnTo>
                      <a:pt x="806" y="83"/>
                    </a:lnTo>
                    <a:lnTo>
                      <a:pt x="809" y="85"/>
                    </a:lnTo>
                    <a:lnTo>
                      <a:pt x="809" y="87"/>
                    </a:lnTo>
                    <a:lnTo>
                      <a:pt x="809" y="89"/>
                    </a:lnTo>
                    <a:lnTo>
                      <a:pt x="809" y="91"/>
                    </a:lnTo>
                    <a:lnTo>
                      <a:pt x="809" y="92"/>
                    </a:lnTo>
                    <a:lnTo>
                      <a:pt x="806" y="95"/>
                    </a:lnTo>
                    <a:lnTo>
                      <a:pt x="803" y="96"/>
                    </a:lnTo>
                    <a:lnTo>
                      <a:pt x="801" y="98"/>
                    </a:lnTo>
                    <a:lnTo>
                      <a:pt x="799" y="98"/>
                    </a:lnTo>
                    <a:lnTo>
                      <a:pt x="799" y="98"/>
                    </a:lnTo>
                    <a:close/>
                    <a:moveTo>
                      <a:pt x="756" y="98"/>
                    </a:moveTo>
                    <a:lnTo>
                      <a:pt x="756" y="98"/>
                    </a:lnTo>
                    <a:lnTo>
                      <a:pt x="754" y="98"/>
                    </a:lnTo>
                    <a:lnTo>
                      <a:pt x="753" y="96"/>
                    </a:lnTo>
                    <a:lnTo>
                      <a:pt x="749" y="95"/>
                    </a:lnTo>
                    <a:lnTo>
                      <a:pt x="746" y="92"/>
                    </a:lnTo>
                    <a:lnTo>
                      <a:pt x="746" y="91"/>
                    </a:lnTo>
                    <a:lnTo>
                      <a:pt x="746" y="89"/>
                    </a:lnTo>
                    <a:lnTo>
                      <a:pt x="746" y="87"/>
                    </a:lnTo>
                    <a:lnTo>
                      <a:pt x="746" y="85"/>
                    </a:lnTo>
                    <a:lnTo>
                      <a:pt x="749" y="83"/>
                    </a:lnTo>
                    <a:lnTo>
                      <a:pt x="753" y="81"/>
                    </a:lnTo>
                    <a:lnTo>
                      <a:pt x="754" y="80"/>
                    </a:lnTo>
                    <a:lnTo>
                      <a:pt x="756" y="80"/>
                    </a:lnTo>
                    <a:lnTo>
                      <a:pt x="756" y="80"/>
                    </a:lnTo>
                    <a:lnTo>
                      <a:pt x="758" y="80"/>
                    </a:lnTo>
                    <a:lnTo>
                      <a:pt x="760" y="81"/>
                    </a:lnTo>
                    <a:lnTo>
                      <a:pt x="763" y="83"/>
                    </a:lnTo>
                    <a:lnTo>
                      <a:pt x="766" y="85"/>
                    </a:lnTo>
                    <a:lnTo>
                      <a:pt x="766" y="87"/>
                    </a:lnTo>
                    <a:lnTo>
                      <a:pt x="766" y="89"/>
                    </a:lnTo>
                    <a:lnTo>
                      <a:pt x="766" y="91"/>
                    </a:lnTo>
                    <a:lnTo>
                      <a:pt x="766" y="92"/>
                    </a:lnTo>
                    <a:lnTo>
                      <a:pt x="763" y="95"/>
                    </a:lnTo>
                    <a:lnTo>
                      <a:pt x="760" y="96"/>
                    </a:lnTo>
                    <a:lnTo>
                      <a:pt x="758" y="98"/>
                    </a:lnTo>
                    <a:lnTo>
                      <a:pt x="756" y="98"/>
                    </a:lnTo>
                    <a:lnTo>
                      <a:pt x="756" y="98"/>
                    </a:lnTo>
                    <a:close/>
                    <a:moveTo>
                      <a:pt x="713" y="98"/>
                    </a:moveTo>
                    <a:lnTo>
                      <a:pt x="713" y="98"/>
                    </a:lnTo>
                    <a:lnTo>
                      <a:pt x="711" y="98"/>
                    </a:lnTo>
                    <a:lnTo>
                      <a:pt x="708" y="96"/>
                    </a:lnTo>
                    <a:lnTo>
                      <a:pt x="706" y="95"/>
                    </a:lnTo>
                    <a:lnTo>
                      <a:pt x="703" y="92"/>
                    </a:lnTo>
                    <a:lnTo>
                      <a:pt x="703" y="91"/>
                    </a:lnTo>
                    <a:lnTo>
                      <a:pt x="703" y="89"/>
                    </a:lnTo>
                    <a:lnTo>
                      <a:pt x="703" y="87"/>
                    </a:lnTo>
                    <a:lnTo>
                      <a:pt x="703" y="85"/>
                    </a:lnTo>
                    <a:lnTo>
                      <a:pt x="706" y="83"/>
                    </a:lnTo>
                    <a:lnTo>
                      <a:pt x="708" y="81"/>
                    </a:lnTo>
                    <a:lnTo>
                      <a:pt x="711" y="80"/>
                    </a:lnTo>
                    <a:lnTo>
                      <a:pt x="713" y="80"/>
                    </a:lnTo>
                    <a:lnTo>
                      <a:pt x="713" y="80"/>
                    </a:lnTo>
                    <a:lnTo>
                      <a:pt x="715" y="80"/>
                    </a:lnTo>
                    <a:lnTo>
                      <a:pt x="716" y="81"/>
                    </a:lnTo>
                    <a:lnTo>
                      <a:pt x="720" y="83"/>
                    </a:lnTo>
                    <a:lnTo>
                      <a:pt x="723" y="85"/>
                    </a:lnTo>
                    <a:lnTo>
                      <a:pt x="723" y="87"/>
                    </a:lnTo>
                    <a:lnTo>
                      <a:pt x="723" y="89"/>
                    </a:lnTo>
                    <a:lnTo>
                      <a:pt x="723" y="91"/>
                    </a:lnTo>
                    <a:lnTo>
                      <a:pt x="723" y="92"/>
                    </a:lnTo>
                    <a:lnTo>
                      <a:pt x="720" y="95"/>
                    </a:lnTo>
                    <a:lnTo>
                      <a:pt x="716" y="96"/>
                    </a:lnTo>
                    <a:lnTo>
                      <a:pt x="715" y="98"/>
                    </a:lnTo>
                    <a:lnTo>
                      <a:pt x="713" y="98"/>
                    </a:lnTo>
                    <a:lnTo>
                      <a:pt x="713" y="98"/>
                    </a:lnTo>
                    <a:close/>
                    <a:moveTo>
                      <a:pt x="670" y="98"/>
                    </a:moveTo>
                    <a:lnTo>
                      <a:pt x="670" y="98"/>
                    </a:lnTo>
                    <a:lnTo>
                      <a:pt x="668" y="98"/>
                    </a:lnTo>
                    <a:lnTo>
                      <a:pt x="665" y="96"/>
                    </a:lnTo>
                    <a:lnTo>
                      <a:pt x="663" y="95"/>
                    </a:lnTo>
                    <a:lnTo>
                      <a:pt x="660" y="92"/>
                    </a:lnTo>
                    <a:lnTo>
                      <a:pt x="660" y="91"/>
                    </a:lnTo>
                    <a:lnTo>
                      <a:pt x="660" y="89"/>
                    </a:lnTo>
                    <a:lnTo>
                      <a:pt x="660" y="87"/>
                    </a:lnTo>
                    <a:lnTo>
                      <a:pt x="660" y="85"/>
                    </a:lnTo>
                    <a:lnTo>
                      <a:pt x="663" y="83"/>
                    </a:lnTo>
                    <a:lnTo>
                      <a:pt x="665" y="81"/>
                    </a:lnTo>
                    <a:lnTo>
                      <a:pt x="668" y="80"/>
                    </a:lnTo>
                    <a:lnTo>
                      <a:pt x="670" y="80"/>
                    </a:lnTo>
                    <a:lnTo>
                      <a:pt x="670" y="80"/>
                    </a:lnTo>
                    <a:lnTo>
                      <a:pt x="672" y="80"/>
                    </a:lnTo>
                    <a:lnTo>
                      <a:pt x="673" y="81"/>
                    </a:lnTo>
                    <a:lnTo>
                      <a:pt x="677" y="83"/>
                    </a:lnTo>
                    <a:lnTo>
                      <a:pt x="680" y="85"/>
                    </a:lnTo>
                    <a:lnTo>
                      <a:pt x="680" y="87"/>
                    </a:lnTo>
                    <a:lnTo>
                      <a:pt x="680" y="89"/>
                    </a:lnTo>
                    <a:lnTo>
                      <a:pt x="680" y="91"/>
                    </a:lnTo>
                    <a:lnTo>
                      <a:pt x="680" y="92"/>
                    </a:lnTo>
                    <a:lnTo>
                      <a:pt x="677" y="95"/>
                    </a:lnTo>
                    <a:lnTo>
                      <a:pt x="673" y="96"/>
                    </a:lnTo>
                    <a:lnTo>
                      <a:pt x="672" y="98"/>
                    </a:lnTo>
                    <a:lnTo>
                      <a:pt x="670" y="98"/>
                    </a:lnTo>
                    <a:lnTo>
                      <a:pt x="670" y="98"/>
                    </a:lnTo>
                    <a:close/>
                    <a:moveTo>
                      <a:pt x="627" y="98"/>
                    </a:moveTo>
                    <a:lnTo>
                      <a:pt x="627" y="98"/>
                    </a:lnTo>
                    <a:lnTo>
                      <a:pt x="625" y="98"/>
                    </a:lnTo>
                    <a:lnTo>
                      <a:pt x="622" y="96"/>
                    </a:lnTo>
                    <a:lnTo>
                      <a:pt x="620" y="95"/>
                    </a:lnTo>
                    <a:lnTo>
                      <a:pt x="617" y="92"/>
                    </a:lnTo>
                    <a:lnTo>
                      <a:pt x="617" y="91"/>
                    </a:lnTo>
                    <a:lnTo>
                      <a:pt x="617" y="89"/>
                    </a:lnTo>
                    <a:lnTo>
                      <a:pt x="617" y="87"/>
                    </a:lnTo>
                    <a:lnTo>
                      <a:pt x="617" y="85"/>
                    </a:lnTo>
                    <a:lnTo>
                      <a:pt x="620" y="83"/>
                    </a:lnTo>
                    <a:lnTo>
                      <a:pt x="622" y="81"/>
                    </a:lnTo>
                    <a:lnTo>
                      <a:pt x="625" y="80"/>
                    </a:lnTo>
                    <a:lnTo>
                      <a:pt x="627" y="80"/>
                    </a:lnTo>
                    <a:lnTo>
                      <a:pt x="627" y="80"/>
                    </a:lnTo>
                    <a:lnTo>
                      <a:pt x="629" y="80"/>
                    </a:lnTo>
                    <a:lnTo>
                      <a:pt x="630" y="81"/>
                    </a:lnTo>
                    <a:lnTo>
                      <a:pt x="634" y="83"/>
                    </a:lnTo>
                    <a:lnTo>
                      <a:pt x="637" y="85"/>
                    </a:lnTo>
                    <a:lnTo>
                      <a:pt x="637" y="87"/>
                    </a:lnTo>
                    <a:lnTo>
                      <a:pt x="637" y="89"/>
                    </a:lnTo>
                    <a:lnTo>
                      <a:pt x="637" y="91"/>
                    </a:lnTo>
                    <a:lnTo>
                      <a:pt x="637" y="92"/>
                    </a:lnTo>
                    <a:lnTo>
                      <a:pt x="634" y="95"/>
                    </a:lnTo>
                    <a:lnTo>
                      <a:pt x="630" y="96"/>
                    </a:lnTo>
                    <a:lnTo>
                      <a:pt x="629" y="98"/>
                    </a:lnTo>
                    <a:lnTo>
                      <a:pt x="627" y="98"/>
                    </a:lnTo>
                    <a:lnTo>
                      <a:pt x="627" y="98"/>
                    </a:lnTo>
                    <a:close/>
                    <a:moveTo>
                      <a:pt x="584" y="98"/>
                    </a:moveTo>
                    <a:lnTo>
                      <a:pt x="584" y="98"/>
                    </a:lnTo>
                    <a:lnTo>
                      <a:pt x="582" y="98"/>
                    </a:lnTo>
                    <a:lnTo>
                      <a:pt x="579" y="96"/>
                    </a:lnTo>
                    <a:lnTo>
                      <a:pt x="577" y="95"/>
                    </a:lnTo>
                    <a:lnTo>
                      <a:pt x="574" y="92"/>
                    </a:lnTo>
                    <a:lnTo>
                      <a:pt x="574" y="91"/>
                    </a:lnTo>
                    <a:lnTo>
                      <a:pt x="574" y="89"/>
                    </a:lnTo>
                    <a:lnTo>
                      <a:pt x="574" y="87"/>
                    </a:lnTo>
                    <a:lnTo>
                      <a:pt x="574" y="85"/>
                    </a:lnTo>
                    <a:lnTo>
                      <a:pt x="577" y="83"/>
                    </a:lnTo>
                    <a:lnTo>
                      <a:pt x="579" y="81"/>
                    </a:lnTo>
                    <a:lnTo>
                      <a:pt x="582" y="80"/>
                    </a:lnTo>
                    <a:lnTo>
                      <a:pt x="584" y="80"/>
                    </a:lnTo>
                    <a:lnTo>
                      <a:pt x="584" y="80"/>
                    </a:lnTo>
                    <a:lnTo>
                      <a:pt x="586" y="80"/>
                    </a:lnTo>
                    <a:lnTo>
                      <a:pt x="587" y="81"/>
                    </a:lnTo>
                    <a:lnTo>
                      <a:pt x="591" y="83"/>
                    </a:lnTo>
                    <a:lnTo>
                      <a:pt x="594" y="85"/>
                    </a:lnTo>
                    <a:lnTo>
                      <a:pt x="594" y="87"/>
                    </a:lnTo>
                    <a:lnTo>
                      <a:pt x="594" y="89"/>
                    </a:lnTo>
                    <a:lnTo>
                      <a:pt x="594" y="91"/>
                    </a:lnTo>
                    <a:lnTo>
                      <a:pt x="594" y="92"/>
                    </a:lnTo>
                    <a:lnTo>
                      <a:pt x="591" y="95"/>
                    </a:lnTo>
                    <a:lnTo>
                      <a:pt x="587" y="96"/>
                    </a:lnTo>
                    <a:lnTo>
                      <a:pt x="586" y="98"/>
                    </a:lnTo>
                    <a:lnTo>
                      <a:pt x="584" y="98"/>
                    </a:lnTo>
                    <a:lnTo>
                      <a:pt x="584" y="98"/>
                    </a:lnTo>
                    <a:close/>
                    <a:moveTo>
                      <a:pt x="541" y="98"/>
                    </a:moveTo>
                    <a:lnTo>
                      <a:pt x="541" y="98"/>
                    </a:lnTo>
                    <a:lnTo>
                      <a:pt x="539" y="98"/>
                    </a:lnTo>
                    <a:lnTo>
                      <a:pt x="536" y="96"/>
                    </a:lnTo>
                    <a:lnTo>
                      <a:pt x="532" y="95"/>
                    </a:lnTo>
                    <a:lnTo>
                      <a:pt x="531" y="92"/>
                    </a:lnTo>
                    <a:lnTo>
                      <a:pt x="531" y="91"/>
                    </a:lnTo>
                    <a:lnTo>
                      <a:pt x="531" y="89"/>
                    </a:lnTo>
                    <a:lnTo>
                      <a:pt x="531" y="87"/>
                    </a:lnTo>
                    <a:lnTo>
                      <a:pt x="531" y="85"/>
                    </a:lnTo>
                    <a:lnTo>
                      <a:pt x="532" y="83"/>
                    </a:lnTo>
                    <a:lnTo>
                      <a:pt x="536" y="81"/>
                    </a:lnTo>
                    <a:lnTo>
                      <a:pt x="539" y="80"/>
                    </a:lnTo>
                    <a:lnTo>
                      <a:pt x="541" y="80"/>
                    </a:lnTo>
                    <a:lnTo>
                      <a:pt x="541" y="80"/>
                    </a:lnTo>
                    <a:lnTo>
                      <a:pt x="543" y="80"/>
                    </a:lnTo>
                    <a:lnTo>
                      <a:pt x="544" y="81"/>
                    </a:lnTo>
                    <a:lnTo>
                      <a:pt x="548" y="83"/>
                    </a:lnTo>
                    <a:lnTo>
                      <a:pt x="551" y="85"/>
                    </a:lnTo>
                    <a:lnTo>
                      <a:pt x="551" y="87"/>
                    </a:lnTo>
                    <a:lnTo>
                      <a:pt x="551" y="89"/>
                    </a:lnTo>
                    <a:lnTo>
                      <a:pt x="551" y="91"/>
                    </a:lnTo>
                    <a:lnTo>
                      <a:pt x="551" y="92"/>
                    </a:lnTo>
                    <a:lnTo>
                      <a:pt x="548" y="95"/>
                    </a:lnTo>
                    <a:lnTo>
                      <a:pt x="544" y="96"/>
                    </a:lnTo>
                    <a:lnTo>
                      <a:pt x="543" y="98"/>
                    </a:lnTo>
                    <a:lnTo>
                      <a:pt x="541" y="98"/>
                    </a:lnTo>
                    <a:lnTo>
                      <a:pt x="541" y="98"/>
                    </a:lnTo>
                    <a:close/>
                    <a:moveTo>
                      <a:pt x="498" y="98"/>
                    </a:moveTo>
                    <a:lnTo>
                      <a:pt x="498" y="98"/>
                    </a:lnTo>
                    <a:lnTo>
                      <a:pt x="496" y="98"/>
                    </a:lnTo>
                    <a:lnTo>
                      <a:pt x="493" y="96"/>
                    </a:lnTo>
                    <a:lnTo>
                      <a:pt x="489" y="95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7" y="89"/>
                    </a:lnTo>
                    <a:lnTo>
                      <a:pt x="487" y="87"/>
                    </a:lnTo>
                    <a:lnTo>
                      <a:pt x="487" y="85"/>
                    </a:lnTo>
                    <a:lnTo>
                      <a:pt x="489" y="83"/>
                    </a:lnTo>
                    <a:lnTo>
                      <a:pt x="493" y="81"/>
                    </a:lnTo>
                    <a:lnTo>
                      <a:pt x="496" y="80"/>
                    </a:lnTo>
                    <a:lnTo>
                      <a:pt x="498" y="80"/>
                    </a:lnTo>
                    <a:lnTo>
                      <a:pt x="498" y="80"/>
                    </a:lnTo>
                    <a:lnTo>
                      <a:pt x="500" y="80"/>
                    </a:lnTo>
                    <a:lnTo>
                      <a:pt x="501" y="81"/>
                    </a:lnTo>
                    <a:lnTo>
                      <a:pt x="505" y="83"/>
                    </a:lnTo>
                    <a:lnTo>
                      <a:pt x="508" y="85"/>
                    </a:lnTo>
                    <a:lnTo>
                      <a:pt x="508" y="87"/>
                    </a:lnTo>
                    <a:lnTo>
                      <a:pt x="508" y="89"/>
                    </a:lnTo>
                    <a:lnTo>
                      <a:pt x="508" y="91"/>
                    </a:lnTo>
                    <a:lnTo>
                      <a:pt x="508" y="92"/>
                    </a:lnTo>
                    <a:lnTo>
                      <a:pt x="505" y="95"/>
                    </a:lnTo>
                    <a:lnTo>
                      <a:pt x="501" y="96"/>
                    </a:lnTo>
                    <a:lnTo>
                      <a:pt x="500" y="98"/>
                    </a:lnTo>
                    <a:lnTo>
                      <a:pt x="498" y="98"/>
                    </a:lnTo>
                    <a:lnTo>
                      <a:pt x="498" y="98"/>
                    </a:lnTo>
                    <a:close/>
                    <a:moveTo>
                      <a:pt x="455" y="98"/>
                    </a:moveTo>
                    <a:lnTo>
                      <a:pt x="455" y="98"/>
                    </a:lnTo>
                    <a:lnTo>
                      <a:pt x="453" y="98"/>
                    </a:lnTo>
                    <a:lnTo>
                      <a:pt x="450" y="96"/>
                    </a:lnTo>
                    <a:lnTo>
                      <a:pt x="446" y="95"/>
                    </a:lnTo>
                    <a:lnTo>
                      <a:pt x="444" y="92"/>
                    </a:lnTo>
                    <a:lnTo>
                      <a:pt x="444" y="91"/>
                    </a:lnTo>
                    <a:lnTo>
                      <a:pt x="444" y="89"/>
                    </a:lnTo>
                    <a:lnTo>
                      <a:pt x="444" y="87"/>
                    </a:lnTo>
                    <a:lnTo>
                      <a:pt x="444" y="85"/>
                    </a:lnTo>
                    <a:lnTo>
                      <a:pt x="446" y="83"/>
                    </a:lnTo>
                    <a:lnTo>
                      <a:pt x="450" y="81"/>
                    </a:lnTo>
                    <a:lnTo>
                      <a:pt x="453" y="80"/>
                    </a:lnTo>
                    <a:lnTo>
                      <a:pt x="455" y="80"/>
                    </a:lnTo>
                    <a:lnTo>
                      <a:pt x="455" y="80"/>
                    </a:lnTo>
                    <a:lnTo>
                      <a:pt x="456" y="80"/>
                    </a:lnTo>
                    <a:lnTo>
                      <a:pt x="458" y="81"/>
                    </a:lnTo>
                    <a:lnTo>
                      <a:pt x="462" y="83"/>
                    </a:lnTo>
                    <a:lnTo>
                      <a:pt x="465" y="85"/>
                    </a:lnTo>
                    <a:lnTo>
                      <a:pt x="465" y="87"/>
                    </a:lnTo>
                    <a:lnTo>
                      <a:pt x="465" y="89"/>
                    </a:lnTo>
                    <a:lnTo>
                      <a:pt x="465" y="91"/>
                    </a:lnTo>
                    <a:lnTo>
                      <a:pt x="465" y="92"/>
                    </a:lnTo>
                    <a:lnTo>
                      <a:pt x="462" y="95"/>
                    </a:lnTo>
                    <a:lnTo>
                      <a:pt x="458" y="96"/>
                    </a:lnTo>
                    <a:lnTo>
                      <a:pt x="456" y="98"/>
                    </a:lnTo>
                    <a:lnTo>
                      <a:pt x="455" y="98"/>
                    </a:lnTo>
                    <a:lnTo>
                      <a:pt x="455" y="98"/>
                    </a:lnTo>
                    <a:close/>
                    <a:moveTo>
                      <a:pt x="412" y="98"/>
                    </a:moveTo>
                    <a:lnTo>
                      <a:pt x="412" y="98"/>
                    </a:lnTo>
                    <a:lnTo>
                      <a:pt x="410" y="98"/>
                    </a:lnTo>
                    <a:lnTo>
                      <a:pt x="407" y="96"/>
                    </a:lnTo>
                    <a:lnTo>
                      <a:pt x="403" y="95"/>
                    </a:lnTo>
                    <a:lnTo>
                      <a:pt x="401" y="92"/>
                    </a:lnTo>
                    <a:lnTo>
                      <a:pt x="401" y="91"/>
                    </a:lnTo>
                    <a:lnTo>
                      <a:pt x="401" y="89"/>
                    </a:lnTo>
                    <a:lnTo>
                      <a:pt x="401" y="87"/>
                    </a:lnTo>
                    <a:lnTo>
                      <a:pt x="401" y="85"/>
                    </a:lnTo>
                    <a:lnTo>
                      <a:pt x="403" y="83"/>
                    </a:lnTo>
                    <a:lnTo>
                      <a:pt x="407" y="81"/>
                    </a:lnTo>
                    <a:lnTo>
                      <a:pt x="410" y="80"/>
                    </a:lnTo>
                    <a:lnTo>
                      <a:pt x="412" y="80"/>
                    </a:lnTo>
                    <a:lnTo>
                      <a:pt x="412" y="80"/>
                    </a:lnTo>
                    <a:lnTo>
                      <a:pt x="413" y="80"/>
                    </a:lnTo>
                    <a:lnTo>
                      <a:pt x="415" y="81"/>
                    </a:lnTo>
                    <a:lnTo>
                      <a:pt x="419" y="83"/>
                    </a:lnTo>
                    <a:lnTo>
                      <a:pt x="422" y="85"/>
                    </a:lnTo>
                    <a:lnTo>
                      <a:pt x="422" y="87"/>
                    </a:lnTo>
                    <a:lnTo>
                      <a:pt x="422" y="89"/>
                    </a:lnTo>
                    <a:lnTo>
                      <a:pt x="422" y="91"/>
                    </a:lnTo>
                    <a:lnTo>
                      <a:pt x="422" y="92"/>
                    </a:lnTo>
                    <a:lnTo>
                      <a:pt x="419" y="95"/>
                    </a:lnTo>
                    <a:lnTo>
                      <a:pt x="415" y="96"/>
                    </a:lnTo>
                    <a:lnTo>
                      <a:pt x="413" y="98"/>
                    </a:lnTo>
                    <a:lnTo>
                      <a:pt x="412" y="98"/>
                    </a:lnTo>
                    <a:lnTo>
                      <a:pt x="412" y="98"/>
                    </a:lnTo>
                    <a:close/>
                    <a:moveTo>
                      <a:pt x="369" y="98"/>
                    </a:moveTo>
                    <a:lnTo>
                      <a:pt x="369" y="98"/>
                    </a:lnTo>
                    <a:lnTo>
                      <a:pt x="367" y="98"/>
                    </a:lnTo>
                    <a:lnTo>
                      <a:pt x="364" y="96"/>
                    </a:lnTo>
                    <a:lnTo>
                      <a:pt x="360" y="95"/>
                    </a:lnTo>
                    <a:lnTo>
                      <a:pt x="358" y="92"/>
                    </a:lnTo>
                    <a:lnTo>
                      <a:pt x="358" y="91"/>
                    </a:lnTo>
                    <a:lnTo>
                      <a:pt x="358" y="89"/>
                    </a:lnTo>
                    <a:lnTo>
                      <a:pt x="358" y="87"/>
                    </a:lnTo>
                    <a:lnTo>
                      <a:pt x="358" y="85"/>
                    </a:lnTo>
                    <a:lnTo>
                      <a:pt x="360" y="83"/>
                    </a:lnTo>
                    <a:lnTo>
                      <a:pt x="364" y="81"/>
                    </a:lnTo>
                    <a:lnTo>
                      <a:pt x="367" y="80"/>
                    </a:lnTo>
                    <a:lnTo>
                      <a:pt x="369" y="80"/>
                    </a:lnTo>
                    <a:lnTo>
                      <a:pt x="369" y="80"/>
                    </a:lnTo>
                    <a:lnTo>
                      <a:pt x="370" y="80"/>
                    </a:lnTo>
                    <a:lnTo>
                      <a:pt x="372" y="81"/>
                    </a:lnTo>
                    <a:lnTo>
                      <a:pt x="376" y="83"/>
                    </a:lnTo>
                    <a:lnTo>
                      <a:pt x="379" y="85"/>
                    </a:lnTo>
                    <a:lnTo>
                      <a:pt x="379" y="87"/>
                    </a:lnTo>
                    <a:lnTo>
                      <a:pt x="379" y="89"/>
                    </a:lnTo>
                    <a:lnTo>
                      <a:pt x="379" y="91"/>
                    </a:lnTo>
                    <a:lnTo>
                      <a:pt x="379" y="92"/>
                    </a:lnTo>
                    <a:lnTo>
                      <a:pt x="376" y="95"/>
                    </a:lnTo>
                    <a:lnTo>
                      <a:pt x="372" y="96"/>
                    </a:lnTo>
                    <a:lnTo>
                      <a:pt x="370" y="98"/>
                    </a:lnTo>
                    <a:lnTo>
                      <a:pt x="369" y="98"/>
                    </a:lnTo>
                    <a:lnTo>
                      <a:pt x="369" y="98"/>
                    </a:lnTo>
                    <a:close/>
                    <a:moveTo>
                      <a:pt x="326" y="98"/>
                    </a:moveTo>
                    <a:lnTo>
                      <a:pt x="326" y="98"/>
                    </a:lnTo>
                    <a:lnTo>
                      <a:pt x="324" y="98"/>
                    </a:lnTo>
                    <a:lnTo>
                      <a:pt x="320" y="96"/>
                    </a:lnTo>
                    <a:lnTo>
                      <a:pt x="317" y="95"/>
                    </a:lnTo>
                    <a:lnTo>
                      <a:pt x="315" y="92"/>
                    </a:lnTo>
                    <a:lnTo>
                      <a:pt x="315" y="91"/>
                    </a:lnTo>
                    <a:lnTo>
                      <a:pt x="315" y="89"/>
                    </a:lnTo>
                    <a:lnTo>
                      <a:pt x="315" y="87"/>
                    </a:lnTo>
                    <a:lnTo>
                      <a:pt x="315" y="85"/>
                    </a:lnTo>
                    <a:lnTo>
                      <a:pt x="317" y="83"/>
                    </a:lnTo>
                    <a:lnTo>
                      <a:pt x="320" y="81"/>
                    </a:lnTo>
                    <a:lnTo>
                      <a:pt x="324" y="80"/>
                    </a:lnTo>
                    <a:lnTo>
                      <a:pt x="326" y="80"/>
                    </a:lnTo>
                    <a:lnTo>
                      <a:pt x="326" y="80"/>
                    </a:lnTo>
                    <a:lnTo>
                      <a:pt x="327" y="80"/>
                    </a:lnTo>
                    <a:lnTo>
                      <a:pt x="329" y="81"/>
                    </a:lnTo>
                    <a:lnTo>
                      <a:pt x="333" y="83"/>
                    </a:lnTo>
                    <a:lnTo>
                      <a:pt x="336" y="85"/>
                    </a:lnTo>
                    <a:lnTo>
                      <a:pt x="336" y="87"/>
                    </a:lnTo>
                    <a:lnTo>
                      <a:pt x="336" y="89"/>
                    </a:lnTo>
                    <a:lnTo>
                      <a:pt x="336" y="91"/>
                    </a:lnTo>
                    <a:lnTo>
                      <a:pt x="336" y="92"/>
                    </a:lnTo>
                    <a:lnTo>
                      <a:pt x="333" y="95"/>
                    </a:lnTo>
                    <a:lnTo>
                      <a:pt x="329" y="96"/>
                    </a:lnTo>
                    <a:lnTo>
                      <a:pt x="327" y="98"/>
                    </a:lnTo>
                    <a:lnTo>
                      <a:pt x="326" y="98"/>
                    </a:lnTo>
                    <a:lnTo>
                      <a:pt x="326" y="98"/>
                    </a:lnTo>
                    <a:close/>
                    <a:moveTo>
                      <a:pt x="283" y="98"/>
                    </a:moveTo>
                    <a:lnTo>
                      <a:pt x="283" y="98"/>
                    </a:lnTo>
                    <a:lnTo>
                      <a:pt x="281" y="98"/>
                    </a:lnTo>
                    <a:lnTo>
                      <a:pt x="277" y="96"/>
                    </a:lnTo>
                    <a:lnTo>
                      <a:pt x="274" y="95"/>
                    </a:lnTo>
                    <a:lnTo>
                      <a:pt x="272" y="92"/>
                    </a:lnTo>
                    <a:lnTo>
                      <a:pt x="272" y="91"/>
                    </a:lnTo>
                    <a:lnTo>
                      <a:pt x="272" y="89"/>
                    </a:lnTo>
                    <a:lnTo>
                      <a:pt x="272" y="87"/>
                    </a:lnTo>
                    <a:lnTo>
                      <a:pt x="272" y="85"/>
                    </a:lnTo>
                    <a:lnTo>
                      <a:pt x="274" y="83"/>
                    </a:lnTo>
                    <a:lnTo>
                      <a:pt x="277" y="81"/>
                    </a:lnTo>
                    <a:lnTo>
                      <a:pt x="281" y="80"/>
                    </a:lnTo>
                    <a:lnTo>
                      <a:pt x="283" y="80"/>
                    </a:lnTo>
                    <a:lnTo>
                      <a:pt x="283" y="80"/>
                    </a:lnTo>
                    <a:lnTo>
                      <a:pt x="284" y="80"/>
                    </a:lnTo>
                    <a:lnTo>
                      <a:pt x="286" y="81"/>
                    </a:lnTo>
                    <a:lnTo>
                      <a:pt x="289" y="83"/>
                    </a:lnTo>
                    <a:lnTo>
                      <a:pt x="293" y="85"/>
                    </a:lnTo>
                    <a:lnTo>
                      <a:pt x="293" y="87"/>
                    </a:lnTo>
                    <a:lnTo>
                      <a:pt x="293" y="89"/>
                    </a:lnTo>
                    <a:lnTo>
                      <a:pt x="293" y="91"/>
                    </a:lnTo>
                    <a:lnTo>
                      <a:pt x="293" y="92"/>
                    </a:lnTo>
                    <a:lnTo>
                      <a:pt x="289" y="95"/>
                    </a:lnTo>
                    <a:lnTo>
                      <a:pt x="286" y="96"/>
                    </a:lnTo>
                    <a:lnTo>
                      <a:pt x="284" y="98"/>
                    </a:lnTo>
                    <a:lnTo>
                      <a:pt x="283" y="98"/>
                    </a:lnTo>
                    <a:lnTo>
                      <a:pt x="283" y="98"/>
                    </a:lnTo>
                    <a:close/>
                    <a:moveTo>
                      <a:pt x="240" y="98"/>
                    </a:moveTo>
                    <a:lnTo>
                      <a:pt x="240" y="98"/>
                    </a:lnTo>
                    <a:lnTo>
                      <a:pt x="238" y="98"/>
                    </a:lnTo>
                    <a:lnTo>
                      <a:pt x="234" y="96"/>
                    </a:lnTo>
                    <a:lnTo>
                      <a:pt x="231" y="95"/>
                    </a:lnTo>
                    <a:lnTo>
                      <a:pt x="229" y="92"/>
                    </a:lnTo>
                    <a:lnTo>
                      <a:pt x="229" y="91"/>
                    </a:lnTo>
                    <a:lnTo>
                      <a:pt x="229" y="89"/>
                    </a:lnTo>
                    <a:lnTo>
                      <a:pt x="229" y="87"/>
                    </a:lnTo>
                    <a:lnTo>
                      <a:pt x="229" y="85"/>
                    </a:lnTo>
                    <a:lnTo>
                      <a:pt x="231" y="83"/>
                    </a:lnTo>
                    <a:lnTo>
                      <a:pt x="234" y="81"/>
                    </a:lnTo>
                    <a:lnTo>
                      <a:pt x="238" y="80"/>
                    </a:lnTo>
                    <a:lnTo>
                      <a:pt x="240" y="80"/>
                    </a:lnTo>
                    <a:lnTo>
                      <a:pt x="240" y="80"/>
                    </a:lnTo>
                    <a:lnTo>
                      <a:pt x="241" y="80"/>
                    </a:lnTo>
                    <a:lnTo>
                      <a:pt x="243" y="81"/>
                    </a:lnTo>
                    <a:lnTo>
                      <a:pt x="246" y="83"/>
                    </a:lnTo>
                    <a:lnTo>
                      <a:pt x="250" y="85"/>
                    </a:lnTo>
                    <a:lnTo>
                      <a:pt x="250" y="87"/>
                    </a:lnTo>
                    <a:lnTo>
                      <a:pt x="250" y="89"/>
                    </a:lnTo>
                    <a:lnTo>
                      <a:pt x="250" y="91"/>
                    </a:lnTo>
                    <a:lnTo>
                      <a:pt x="250" y="92"/>
                    </a:lnTo>
                    <a:lnTo>
                      <a:pt x="246" y="95"/>
                    </a:lnTo>
                    <a:lnTo>
                      <a:pt x="243" y="96"/>
                    </a:lnTo>
                    <a:lnTo>
                      <a:pt x="241" y="98"/>
                    </a:lnTo>
                    <a:lnTo>
                      <a:pt x="240" y="98"/>
                    </a:lnTo>
                    <a:lnTo>
                      <a:pt x="240" y="98"/>
                    </a:lnTo>
                    <a:close/>
                    <a:moveTo>
                      <a:pt x="197" y="98"/>
                    </a:moveTo>
                    <a:lnTo>
                      <a:pt x="197" y="98"/>
                    </a:lnTo>
                    <a:lnTo>
                      <a:pt x="195" y="98"/>
                    </a:lnTo>
                    <a:lnTo>
                      <a:pt x="191" y="96"/>
                    </a:lnTo>
                    <a:lnTo>
                      <a:pt x="188" y="95"/>
                    </a:lnTo>
                    <a:lnTo>
                      <a:pt x="186" y="92"/>
                    </a:lnTo>
                    <a:lnTo>
                      <a:pt x="186" y="91"/>
                    </a:lnTo>
                    <a:lnTo>
                      <a:pt x="186" y="89"/>
                    </a:lnTo>
                    <a:lnTo>
                      <a:pt x="186" y="87"/>
                    </a:lnTo>
                    <a:lnTo>
                      <a:pt x="186" y="85"/>
                    </a:lnTo>
                    <a:lnTo>
                      <a:pt x="188" y="83"/>
                    </a:lnTo>
                    <a:lnTo>
                      <a:pt x="191" y="81"/>
                    </a:lnTo>
                    <a:lnTo>
                      <a:pt x="195" y="80"/>
                    </a:lnTo>
                    <a:lnTo>
                      <a:pt x="197" y="80"/>
                    </a:lnTo>
                    <a:lnTo>
                      <a:pt x="197" y="80"/>
                    </a:lnTo>
                    <a:lnTo>
                      <a:pt x="198" y="80"/>
                    </a:lnTo>
                    <a:lnTo>
                      <a:pt x="200" y="81"/>
                    </a:lnTo>
                    <a:lnTo>
                      <a:pt x="203" y="83"/>
                    </a:lnTo>
                    <a:lnTo>
                      <a:pt x="207" y="85"/>
                    </a:lnTo>
                    <a:lnTo>
                      <a:pt x="207" y="87"/>
                    </a:lnTo>
                    <a:lnTo>
                      <a:pt x="207" y="89"/>
                    </a:lnTo>
                    <a:lnTo>
                      <a:pt x="207" y="91"/>
                    </a:lnTo>
                    <a:lnTo>
                      <a:pt x="207" y="92"/>
                    </a:lnTo>
                    <a:lnTo>
                      <a:pt x="203" y="95"/>
                    </a:lnTo>
                    <a:lnTo>
                      <a:pt x="200" y="96"/>
                    </a:lnTo>
                    <a:lnTo>
                      <a:pt x="198" y="98"/>
                    </a:lnTo>
                    <a:lnTo>
                      <a:pt x="197" y="98"/>
                    </a:lnTo>
                    <a:lnTo>
                      <a:pt x="197" y="98"/>
                    </a:lnTo>
                    <a:close/>
                    <a:moveTo>
                      <a:pt x="153" y="98"/>
                    </a:moveTo>
                    <a:lnTo>
                      <a:pt x="153" y="98"/>
                    </a:lnTo>
                    <a:lnTo>
                      <a:pt x="152" y="98"/>
                    </a:lnTo>
                    <a:lnTo>
                      <a:pt x="148" y="96"/>
                    </a:lnTo>
                    <a:lnTo>
                      <a:pt x="145" y="95"/>
                    </a:lnTo>
                    <a:lnTo>
                      <a:pt x="143" y="92"/>
                    </a:lnTo>
                    <a:lnTo>
                      <a:pt x="143" y="91"/>
                    </a:lnTo>
                    <a:lnTo>
                      <a:pt x="143" y="89"/>
                    </a:lnTo>
                    <a:lnTo>
                      <a:pt x="143" y="87"/>
                    </a:lnTo>
                    <a:lnTo>
                      <a:pt x="143" y="85"/>
                    </a:lnTo>
                    <a:lnTo>
                      <a:pt x="145" y="83"/>
                    </a:lnTo>
                    <a:lnTo>
                      <a:pt x="148" y="81"/>
                    </a:lnTo>
                    <a:lnTo>
                      <a:pt x="152" y="80"/>
                    </a:lnTo>
                    <a:lnTo>
                      <a:pt x="153" y="80"/>
                    </a:lnTo>
                    <a:lnTo>
                      <a:pt x="153" y="80"/>
                    </a:lnTo>
                    <a:lnTo>
                      <a:pt x="155" y="80"/>
                    </a:lnTo>
                    <a:lnTo>
                      <a:pt x="157" y="81"/>
                    </a:lnTo>
                    <a:lnTo>
                      <a:pt x="160" y="83"/>
                    </a:lnTo>
                    <a:lnTo>
                      <a:pt x="164" y="85"/>
                    </a:lnTo>
                    <a:lnTo>
                      <a:pt x="164" y="87"/>
                    </a:lnTo>
                    <a:lnTo>
                      <a:pt x="164" y="89"/>
                    </a:lnTo>
                    <a:lnTo>
                      <a:pt x="164" y="91"/>
                    </a:lnTo>
                    <a:lnTo>
                      <a:pt x="164" y="92"/>
                    </a:lnTo>
                    <a:lnTo>
                      <a:pt x="160" y="95"/>
                    </a:lnTo>
                    <a:lnTo>
                      <a:pt x="157" y="96"/>
                    </a:lnTo>
                    <a:lnTo>
                      <a:pt x="155" y="98"/>
                    </a:lnTo>
                    <a:lnTo>
                      <a:pt x="153" y="98"/>
                    </a:lnTo>
                    <a:lnTo>
                      <a:pt x="153" y="98"/>
                    </a:lnTo>
                    <a:close/>
                    <a:moveTo>
                      <a:pt x="110" y="98"/>
                    </a:moveTo>
                    <a:lnTo>
                      <a:pt x="110" y="98"/>
                    </a:lnTo>
                    <a:lnTo>
                      <a:pt x="107" y="98"/>
                    </a:lnTo>
                    <a:lnTo>
                      <a:pt x="105" y="96"/>
                    </a:lnTo>
                    <a:lnTo>
                      <a:pt x="102" y="95"/>
                    </a:lnTo>
                    <a:lnTo>
                      <a:pt x="100" y="92"/>
                    </a:lnTo>
                    <a:lnTo>
                      <a:pt x="100" y="91"/>
                    </a:lnTo>
                    <a:lnTo>
                      <a:pt x="100" y="89"/>
                    </a:lnTo>
                    <a:lnTo>
                      <a:pt x="100" y="87"/>
                    </a:lnTo>
                    <a:lnTo>
                      <a:pt x="100" y="85"/>
                    </a:lnTo>
                    <a:lnTo>
                      <a:pt x="102" y="83"/>
                    </a:lnTo>
                    <a:lnTo>
                      <a:pt x="105" y="81"/>
                    </a:lnTo>
                    <a:lnTo>
                      <a:pt x="107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2" y="80"/>
                    </a:lnTo>
                    <a:lnTo>
                      <a:pt x="114" y="81"/>
                    </a:lnTo>
                    <a:lnTo>
                      <a:pt x="117" y="83"/>
                    </a:lnTo>
                    <a:lnTo>
                      <a:pt x="121" y="85"/>
                    </a:lnTo>
                    <a:lnTo>
                      <a:pt x="121" y="87"/>
                    </a:lnTo>
                    <a:lnTo>
                      <a:pt x="121" y="89"/>
                    </a:lnTo>
                    <a:lnTo>
                      <a:pt x="121" y="91"/>
                    </a:lnTo>
                    <a:lnTo>
                      <a:pt x="121" y="92"/>
                    </a:lnTo>
                    <a:lnTo>
                      <a:pt x="117" y="95"/>
                    </a:lnTo>
                    <a:lnTo>
                      <a:pt x="114" y="96"/>
                    </a:lnTo>
                    <a:lnTo>
                      <a:pt x="112" y="98"/>
                    </a:lnTo>
                    <a:lnTo>
                      <a:pt x="110" y="98"/>
                    </a:lnTo>
                    <a:lnTo>
                      <a:pt x="110" y="98"/>
                    </a:lnTo>
                    <a:close/>
                    <a:moveTo>
                      <a:pt x="67" y="98"/>
                    </a:moveTo>
                    <a:lnTo>
                      <a:pt x="67" y="98"/>
                    </a:lnTo>
                    <a:lnTo>
                      <a:pt x="64" y="98"/>
                    </a:lnTo>
                    <a:lnTo>
                      <a:pt x="62" y="96"/>
                    </a:lnTo>
                    <a:lnTo>
                      <a:pt x="59" y="95"/>
                    </a:lnTo>
                    <a:lnTo>
                      <a:pt x="57" y="92"/>
                    </a:lnTo>
                    <a:lnTo>
                      <a:pt x="57" y="91"/>
                    </a:lnTo>
                    <a:lnTo>
                      <a:pt x="57" y="89"/>
                    </a:lnTo>
                    <a:lnTo>
                      <a:pt x="57" y="87"/>
                    </a:lnTo>
                    <a:lnTo>
                      <a:pt x="57" y="85"/>
                    </a:lnTo>
                    <a:lnTo>
                      <a:pt x="59" y="83"/>
                    </a:lnTo>
                    <a:lnTo>
                      <a:pt x="62" y="81"/>
                    </a:lnTo>
                    <a:lnTo>
                      <a:pt x="64" y="80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9" y="80"/>
                    </a:lnTo>
                    <a:lnTo>
                      <a:pt x="71" y="81"/>
                    </a:lnTo>
                    <a:lnTo>
                      <a:pt x="74" y="83"/>
                    </a:lnTo>
                    <a:lnTo>
                      <a:pt x="78" y="85"/>
                    </a:lnTo>
                    <a:lnTo>
                      <a:pt x="78" y="87"/>
                    </a:lnTo>
                    <a:lnTo>
                      <a:pt x="78" y="89"/>
                    </a:lnTo>
                    <a:lnTo>
                      <a:pt x="78" y="91"/>
                    </a:lnTo>
                    <a:lnTo>
                      <a:pt x="78" y="92"/>
                    </a:lnTo>
                    <a:lnTo>
                      <a:pt x="74" y="95"/>
                    </a:lnTo>
                    <a:lnTo>
                      <a:pt x="71" y="96"/>
                    </a:lnTo>
                    <a:lnTo>
                      <a:pt x="69" y="98"/>
                    </a:lnTo>
                    <a:lnTo>
                      <a:pt x="67" y="98"/>
                    </a:lnTo>
                    <a:lnTo>
                      <a:pt x="67" y="98"/>
                    </a:lnTo>
                    <a:close/>
                    <a:moveTo>
                      <a:pt x="24" y="98"/>
                    </a:moveTo>
                    <a:lnTo>
                      <a:pt x="24" y="98"/>
                    </a:lnTo>
                    <a:lnTo>
                      <a:pt x="21" y="98"/>
                    </a:lnTo>
                    <a:lnTo>
                      <a:pt x="19" y="96"/>
                    </a:lnTo>
                    <a:lnTo>
                      <a:pt x="16" y="95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89"/>
                    </a:lnTo>
                    <a:lnTo>
                      <a:pt x="14" y="87"/>
                    </a:lnTo>
                    <a:lnTo>
                      <a:pt x="14" y="85"/>
                    </a:lnTo>
                    <a:lnTo>
                      <a:pt x="16" y="83"/>
                    </a:lnTo>
                    <a:lnTo>
                      <a:pt x="19" y="81"/>
                    </a:lnTo>
                    <a:lnTo>
                      <a:pt x="21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6" y="80"/>
                    </a:lnTo>
                    <a:lnTo>
                      <a:pt x="28" y="81"/>
                    </a:lnTo>
                    <a:lnTo>
                      <a:pt x="31" y="83"/>
                    </a:lnTo>
                    <a:lnTo>
                      <a:pt x="35" y="85"/>
                    </a:lnTo>
                    <a:lnTo>
                      <a:pt x="35" y="87"/>
                    </a:lnTo>
                    <a:lnTo>
                      <a:pt x="35" y="89"/>
                    </a:lnTo>
                    <a:lnTo>
                      <a:pt x="35" y="91"/>
                    </a:lnTo>
                    <a:lnTo>
                      <a:pt x="35" y="92"/>
                    </a:lnTo>
                    <a:lnTo>
                      <a:pt x="31" y="95"/>
                    </a:lnTo>
                    <a:lnTo>
                      <a:pt x="28" y="96"/>
                    </a:lnTo>
                    <a:lnTo>
                      <a:pt x="26" y="98"/>
                    </a:lnTo>
                    <a:lnTo>
                      <a:pt x="24" y="98"/>
                    </a:lnTo>
                    <a:lnTo>
                      <a:pt x="24" y="98"/>
                    </a:lnTo>
                    <a:close/>
                    <a:moveTo>
                      <a:pt x="0" y="65"/>
                    </a:move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4" y="59"/>
                    </a:lnTo>
                    <a:lnTo>
                      <a:pt x="7" y="57"/>
                    </a:lnTo>
                    <a:lnTo>
                      <a:pt x="9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9" y="59"/>
                    </a:lnTo>
                    <a:lnTo>
                      <a:pt x="21" y="61"/>
                    </a:lnTo>
                    <a:lnTo>
                      <a:pt x="23" y="63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7"/>
                    </a:lnTo>
                    <a:lnTo>
                      <a:pt x="21" y="68"/>
                    </a:lnTo>
                    <a:lnTo>
                      <a:pt x="19" y="71"/>
                    </a:lnTo>
                    <a:lnTo>
                      <a:pt x="16" y="73"/>
                    </a:lnTo>
                    <a:lnTo>
                      <a:pt x="14" y="73"/>
                    </a:lnTo>
                    <a:lnTo>
                      <a:pt x="12" y="73"/>
                    </a:lnTo>
                    <a:lnTo>
                      <a:pt x="9" y="73"/>
                    </a:lnTo>
                    <a:lnTo>
                      <a:pt x="7" y="73"/>
                    </a:lnTo>
                    <a:lnTo>
                      <a:pt x="4" y="71"/>
                    </a:lnTo>
                    <a:lnTo>
                      <a:pt x="2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  <a:moveTo>
                      <a:pt x="0" y="32"/>
                    </a:moveTo>
                    <a:lnTo>
                      <a:pt x="0" y="32"/>
                    </a:lnTo>
                    <a:lnTo>
                      <a:pt x="0" y="29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9" y="25"/>
                    </a:lnTo>
                    <a:lnTo>
                      <a:pt x="21" y="28"/>
                    </a:lnTo>
                    <a:lnTo>
                      <a:pt x="23" y="29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7" y="40"/>
                    </a:lnTo>
                    <a:lnTo>
                      <a:pt x="4" y="37"/>
                    </a:lnTo>
                    <a:lnTo>
                      <a:pt x="2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  <a:moveTo>
                      <a:pt x="24" y="0"/>
                    </a:moveTo>
                    <a:lnTo>
                      <a:pt x="24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5" y="12"/>
                    </a:lnTo>
                    <a:lnTo>
                      <a:pt x="33" y="15"/>
                    </a:lnTo>
                    <a:lnTo>
                      <a:pt x="30" y="16"/>
                    </a:lnTo>
                    <a:lnTo>
                      <a:pt x="28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1" y="16"/>
                    </a:lnTo>
                    <a:lnTo>
                      <a:pt x="17" y="15"/>
                    </a:lnTo>
                    <a:lnTo>
                      <a:pt x="16" y="12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  <a:moveTo>
                      <a:pt x="67" y="0"/>
                    </a:moveTo>
                    <a:lnTo>
                      <a:pt x="67" y="0"/>
                    </a:lnTo>
                    <a:lnTo>
                      <a:pt x="71" y="0"/>
                    </a:lnTo>
                    <a:lnTo>
                      <a:pt x="73" y="1"/>
                    </a:lnTo>
                    <a:lnTo>
                      <a:pt x="76" y="3"/>
                    </a:lnTo>
                    <a:lnTo>
                      <a:pt x="78" y="5"/>
                    </a:lnTo>
                    <a:lnTo>
                      <a:pt x="79" y="7"/>
                    </a:lnTo>
                    <a:lnTo>
                      <a:pt x="79" y="9"/>
                    </a:lnTo>
                    <a:lnTo>
                      <a:pt x="79" y="11"/>
                    </a:lnTo>
                    <a:lnTo>
                      <a:pt x="78" y="12"/>
                    </a:lnTo>
                    <a:lnTo>
                      <a:pt x="76" y="15"/>
                    </a:lnTo>
                    <a:lnTo>
                      <a:pt x="73" y="16"/>
                    </a:lnTo>
                    <a:lnTo>
                      <a:pt x="71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4" y="16"/>
                    </a:lnTo>
                    <a:lnTo>
                      <a:pt x="60" y="15"/>
                    </a:lnTo>
                    <a:lnTo>
                      <a:pt x="59" y="12"/>
                    </a:lnTo>
                    <a:lnTo>
                      <a:pt x="57" y="11"/>
                    </a:lnTo>
                    <a:lnTo>
                      <a:pt x="57" y="9"/>
                    </a:lnTo>
                    <a:lnTo>
                      <a:pt x="57" y="7"/>
                    </a:lnTo>
                    <a:lnTo>
                      <a:pt x="59" y="5"/>
                    </a:lnTo>
                    <a:lnTo>
                      <a:pt x="60" y="3"/>
                    </a:lnTo>
                    <a:lnTo>
                      <a:pt x="64" y="1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  <a:moveTo>
                      <a:pt x="110" y="0"/>
                    </a:moveTo>
                    <a:lnTo>
                      <a:pt x="112" y="0"/>
                    </a:lnTo>
                    <a:lnTo>
                      <a:pt x="114" y="0"/>
                    </a:lnTo>
                    <a:lnTo>
                      <a:pt x="116" y="1"/>
                    </a:lnTo>
                    <a:lnTo>
                      <a:pt x="119" y="3"/>
                    </a:lnTo>
                    <a:lnTo>
                      <a:pt x="121" y="5"/>
                    </a:lnTo>
                    <a:lnTo>
                      <a:pt x="122" y="7"/>
                    </a:lnTo>
                    <a:lnTo>
                      <a:pt x="122" y="9"/>
                    </a:lnTo>
                    <a:lnTo>
                      <a:pt x="122" y="11"/>
                    </a:lnTo>
                    <a:lnTo>
                      <a:pt x="121" y="12"/>
                    </a:lnTo>
                    <a:lnTo>
                      <a:pt x="119" y="15"/>
                    </a:lnTo>
                    <a:lnTo>
                      <a:pt x="116" y="16"/>
                    </a:lnTo>
                    <a:lnTo>
                      <a:pt x="114" y="17"/>
                    </a:lnTo>
                    <a:lnTo>
                      <a:pt x="112" y="17"/>
                    </a:lnTo>
                    <a:lnTo>
                      <a:pt x="110" y="17"/>
                    </a:lnTo>
                    <a:lnTo>
                      <a:pt x="109" y="17"/>
                    </a:lnTo>
                    <a:lnTo>
                      <a:pt x="107" y="16"/>
                    </a:lnTo>
                    <a:lnTo>
                      <a:pt x="104" y="15"/>
                    </a:lnTo>
                    <a:lnTo>
                      <a:pt x="102" y="12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100" y="7"/>
                    </a:lnTo>
                    <a:lnTo>
                      <a:pt x="102" y="5"/>
                    </a:lnTo>
                    <a:lnTo>
                      <a:pt x="104" y="3"/>
                    </a:lnTo>
                    <a:lnTo>
                      <a:pt x="107" y="1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  <a:moveTo>
                      <a:pt x="155" y="0"/>
                    </a:moveTo>
                    <a:lnTo>
                      <a:pt x="155" y="0"/>
                    </a:lnTo>
                    <a:lnTo>
                      <a:pt x="157" y="0"/>
                    </a:lnTo>
                    <a:lnTo>
                      <a:pt x="159" y="1"/>
                    </a:lnTo>
                    <a:lnTo>
                      <a:pt x="162" y="3"/>
                    </a:lnTo>
                    <a:lnTo>
                      <a:pt x="164" y="5"/>
                    </a:lnTo>
                    <a:lnTo>
                      <a:pt x="166" y="7"/>
                    </a:lnTo>
                    <a:lnTo>
                      <a:pt x="166" y="9"/>
                    </a:lnTo>
                    <a:lnTo>
                      <a:pt x="166" y="11"/>
                    </a:lnTo>
                    <a:lnTo>
                      <a:pt x="164" y="12"/>
                    </a:lnTo>
                    <a:lnTo>
                      <a:pt x="162" y="15"/>
                    </a:lnTo>
                    <a:lnTo>
                      <a:pt x="159" y="16"/>
                    </a:lnTo>
                    <a:lnTo>
                      <a:pt x="157" y="17"/>
                    </a:lnTo>
                    <a:lnTo>
                      <a:pt x="155" y="17"/>
                    </a:lnTo>
                    <a:lnTo>
                      <a:pt x="155" y="17"/>
                    </a:lnTo>
                    <a:lnTo>
                      <a:pt x="152" y="17"/>
                    </a:lnTo>
                    <a:lnTo>
                      <a:pt x="150" y="16"/>
                    </a:lnTo>
                    <a:lnTo>
                      <a:pt x="147" y="15"/>
                    </a:lnTo>
                    <a:lnTo>
                      <a:pt x="145" y="12"/>
                    </a:lnTo>
                    <a:lnTo>
                      <a:pt x="143" y="11"/>
                    </a:lnTo>
                    <a:lnTo>
                      <a:pt x="143" y="9"/>
                    </a:lnTo>
                    <a:lnTo>
                      <a:pt x="143" y="7"/>
                    </a:lnTo>
                    <a:lnTo>
                      <a:pt x="145" y="5"/>
                    </a:lnTo>
                    <a:lnTo>
                      <a:pt x="147" y="3"/>
                    </a:lnTo>
                    <a:lnTo>
                      <a:pt x="150" y="1"/>
                    </a:lnTo>
                    <a:lnTo>
                      <a:pt x="152" y="0"/>
                    </a:lnTo>
                    <a:lnTo>
                      <a:pt x="155" y="0"/>
                    </a:lnTo>
                    <a:lnTo>
                      <a:pt x="155" y="0"/>
                    </a:lnTo>
                    <a:close/>
                    <a:moveTo>
                      <a:pt x="198" y="0"/>
                    </a:move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5" y="3"/>
                    </a:lnTo>
                    <a:lnTo>
                      <a:pt x="207" y="5"/>
                    </a:lnTo>
                    <a:lnTo>
                      <a:pt x="209" y="7"/>
                    </a:lnTo>
                    <a:lnTo>
                      <a:pt x="209" y="9"/>
                    </a:lnTo>
                    <a:lnTo>
                      <a:pt x="209" y="11"/>
                    </a:lnTo>
                    <a:lnTo>
                      <a:pt x="207" y="12"/>
                    </a:lnTo>
                    <a:lnTo>
                      <a:pt x="205" y="15"/>
                    </a:lnTo>
                    <a:lnTo>
                      <a:pt x="202" y="16"/>
                    </a:lnTo>
                    <a:lnTo>
                      <a:pt x="200" y="17"/>
                    </a:lnTo>
                    <a:lnTo>
                      <a:pt x="198" y="17"/>
                    </a:lnTo>
                    <a:lnTo>
                      <a:pt x="198" y="17"/>
                    </a:lnTo>
                    <a:lnTo>
                      <a:pt x="195" y="17"/>
                    </a:lnTo>
                    <a:lnTo>
                      <a:pt x="193" y="16"/>
                    </a:lnTo>
                    <a:lnTo>
                      <a:pt x="190" y="15"/>
                    </a:lnTo>
                    <a:lnTo>
                      <a:pt x="188" y="12"/>
                    </a:lnTo>
                    <a:lnTo>
                      <a:pt x="186" y="11"/>
                    </a:lnTo>
                    <a:lnTo>
                      <a:pt x="186" y="9"/>
                    </a:lnTo>
                    <a:lnTo>
                      <a:pt x="186" y="7"/>
                    </a:lnTo>
                    <a:lnTo>
                      <a:pt x="188" y="5"/>
                    </a:lnTo>
                    <a:lnTo>
                      <a:pt x="190" y="3"/>
                    </a:lnTo>
                    <a:lnTo>
                      <a:pt x="193" y="1"/>
                    </a:lnTo>
                    <a:lnTo>
                      <a:pt x="195" y="0"/>
                    </a:lnTo>
                    <a:lnTo>
                      <a:pt x="198" y="0"/>
                    </a:lnTo>
                    <a:lnTo>
                      <a:pt x="198" y="0"/>
                    </a:lnTo>
                    <a:close/>
                    <a:moveTo>
                      <a:pt x="241" y="0"/>
                    </a:moveTo>
                    <a:lnTo>
                      <a:pt x="241" y="0"/>
                    </a:lnTo>
                    <a:lnTo>
                      <a:pt x="243" y="0"/>
                    </a:lnTo>
                    <a:lnTo>
                      <a:pt x="245" y="1"/>
                    </a:lnTo>
                    <a:lnTo>
                      <a:pt x="248" y="3"/>
                    </a:lnTo>
                    <a:lnTo>
                      <a:pt x="250" y="5"/>
                    </a:lnTo>
                    <a:lnTo>
                      <a:pt x="252" y="7"/>
                    </a:lnTo>
                    <a:lnTo>
                      <a:pt x="252" y="9"/>
                    </a:lnTo>
                    <a:lnTo>
                      <a:pt x="252" y="11"/>
                    </a:lnTo>
                    <a:lnTo>
                      <a:pt x="250" y="12"/>
                    </a:lnTo>
                    <a:lnTo>
                      <a:pt x="248" y="15"/>
                    </a:lnTo>
                    <a:lnTo>
                      <a:pt x="245" y="16"/>
                    </a:lnTo>
                    <a:lnTo>
                      <a:pt x="243" y="17"/>
                    </a:lnTo>
                    <a:lnTo>
                      <a:pt x="241" y="17"/>
                    </a:lnTo>
                    <a:lnTo>
                      <a:pt x="241" y="17"/>
                    </a:lnTo>
                    <a:lnTo>
                      <a:pt x="238" y="17"/>
                    </a:lnTo>
                    <a:lnTo>
                      <a:pt x="236" y="16"/>
                    </a:lnTo>
                    <a:lnTo>
                      <a:pt x="233" y="15"/>
                    </a:lnTo>
                    <a:lnTo>
                      <a:pt x="231" y="12"/>
                    </a:lnTo>
                    <a:lnTo>
                      <a:pt x="229" y="11"/>
                    </a:lnTo>
                    <a:lnTo>
                      <a:pt x="229" y="9"/>
                    </a:lnTo>
                    <a:lnTo>
                      <a:pt x="229" y="7"/>
                    </a:lnTo>
                    <a:lnTo>
                      <a:pt x="231" y="5"/>
                    </a:lnTo>
                    <a:lnTo>
                      <a:pt x="233" y="3"/>
                    </a:lnTo>
                    <a:lnTo>
                      <a:pt x="236" y="1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1" y="0"/>
                    </a:lnTo>
                    <a:close/>
                    <a:moveTo>
                      <a:pt x="284" y="0"/>
                    </a:moveTo>
                    <a:lnTo>
                      <a:pt x="284" y="0"/>
                    </a:lnTo>
                    <a:lnTo>
                      <a:pt x="286" y="0"/>
                    </a:lnTo>
                    <a:lnTo>
                      <a:pt x="288" y="1"/>
                    </a:lnTo>
                    <a:lnTo>
                      <a:pt x="291" y="3"/>
                    </a:lnTo>
                    <a:lnTo>
                      <a:pt x="293" y="5"/>
                    </a:lnTo>
                    <a:lnTo>
                      <a:pt x="295" y="7"/>
                    </a:lnTo>
                    <a:lnTo>
                      <a:pt x="295" y="9"/>
                    </a:lnTo>
                    <a:lnTo>
                      <a:pt x="295" y="11"/>
                    </a:lnTo>
                    <a:lnTo>
                      <a:pt x="293" y="12"/>
                    </a:lnTo>
                    <a:lnTo>
                      <a:pt x="291" y="15"/>
                    </a:lnTo>
                    <a:lnTo>
                      <a:pt x="288" y="16"/>
                    </a:lnTo>
                    <a:lnTo>
                      <a:pt x="286" y="17"/>
                    </a:lnTo>
                    <a:lnTo>
                      <a:pt x="284" y="17"/>
                    </a:lnTo>
                    <a:lnTo>
                      <a:pt x="284" y="17"/>
                    </a:lnTo>
                    <a:lnTo>
                      <a:pt x="281" y="17"/>
                    </a:lnTo>
                    <a:lnTo>
                      <a:pt x="279" y="16"/>
                    </a:lnTo>
                    <a:lnTo>
                      <a:pt x="276" y="15"/>
                    </a:lnTo>
                    <a:lnTo>
                      <a:pt x="274" y="12"/>
                    </a:lnTo>
                    <a:lnTo>
                      <a:pt x="272" y="11"/>
                    </a:lnTo>
                    <a:lnTo>
                      <a:pt x="272" y="9"/>
                    </a:lnTo>
                    <a:lnTo>
                      <a:pt x="272" y="7"/>
                    </a:lnTo>
                    <a:lnTo>
                      <a:pt x="274" y="5"/>
                    </a:lnTo>
                    <a:lnTo>
                      <a:pt x="276" y="3"/>
                    </a:lnTo>
                    <a:lnTo>
                      <a:pt x="279" y="1"/>
                    </a:lnTo>
                    <a:lnTo>
                      <a:pt x="281" y="0"/>
                    </a:lnTo>
                    <a:lnTo>
                      <a:pt x="284" y="0"/>
                    </a:lnTo>
                    <a:lnTo>
                      <a:pt x="284" y="0"/>
                    </a:lnTo>
                    <a:close/>
                    <a:moveTo>
                      <a:pt x="327" y="0"/>
                    </a:moveTo>
                    <a:lnTo>
                      <a:pt x="327" y="0"/>
                    </a:lnTo>
                    <a:lnTo>
                      <a:pt x="329" y="0"/>
                    </a:lnTo>
                    <a:lnTo>
                      <a:pt x="331" y="1"/>
                    </a:lnTo>
                    <a:lnTo>
                      <a:pt x="334" y="3"/>
                    </a:lnTo>
                    <a:lnTo>
                      <a:pt x="336" y="5"/>
                    </a:lnTo>
                    <a:lnTo>
                      <a:pt x="338" y="7"/>
                    </a:lnTo>
                    <a:lnTo>
                      <a:pt x="338" y="9"/>
                    </a:lnTo>
                    <a:lnTo>
                      <a:pt x="338" y="11"/>
                    </a:lnTo>
                    <a:lnTo>
                      <a:pt x="336" y="12"/>
                    </a:lnTo>
                    <a:lnTo>
                      <a:pt x="334" y="15"/>
                    </a:lnTo>
                    <a:lnTo>
                      <a:pt x="331" y="16"/>
                    </a:lnTo>
                    <a:lnTo>
                      <a:pt x="329" y="17"/>
                    </a:lnTo>
                    <a:lnTo>
                      <a:pt x="327" y="17"/>
                    </a:lnTo>
                    <a:lnTo>
                      <a:pt x="327" y="17"/>
                    </a:lnTo>
                    <a:lnTo>
                      <a:pt x="324" y="17"/>
                    </a:lnTo>
                    <a:lnTo>
                      <a:pt x="322" y="16"/>
                    </a:lnTo>
                    <a:lnTo>
                      <a:pt x="319" y="15"/>
                    </a:lnTo>
                    <a:lnTo>
                      <a:pt x="317" y="12"/>
                    </a:lnTo>
                    <a:lnTo>
                      <a:pt x="315" y="11"/>
                    </a:lnTo>
                    <a:lnTo>
                      <a:pt x="315" y="9"/>
                    </a:lnTo>
                    <a:lnTo>
                      <a:pt x="315" y="7"/>
                    </a:lnTo>
                    <a:lnTo>
                      <a:pt x="317" y="5"/>
                    </a:lnTo>
                    <a:lnTo>
                      <a:pt x="319" y="3"/>
                    </a:lnTo>
                    <a:lnTo>
                      <a:pt x="322" y="1"/>
                    </a:lnTo>
                    <a:lnTo>
                      <a:pt x="324" y="0"/>
                    </a:lnTo>
                    <a:lnTo>
                      <a:pt x="327" y="0"/>
                    </a:lnTo>
                    <a:lnTo>
                      <a:pt x="327" y="0"/>
                    </a:lnTo>
                    <a:close/>
                    <a:moveTo>
                      <a:pt x="370" y="0"/>
                    </a:moveTo>
                    <a:lnTo>
                      <a:pt x="370" y="0"/>
                    </a:lnTo>
                    <a:lnTo>
                      <a:pt x="372" y="0"/>
                    </a:lnTo>
                    <a:lnTo>
                      <a:pt x="374" y="1"/>
                    </a:lnTo>
                    <a:lnTo>
                      <a:pt x="377" y="3"/>
                    </a:lnTo>
                    <a:lnTo>
                      <a:pt x="379" y="5"/>
                    </a:lnTo>
                    <a:lnTo>
                      <a:pt x="381" y="7"/>
                    </a:lnTo>
                    <a:lnTo>
                      <a:pt x="381" y="9"/>
                    </a:lnTo>
                    <a:lnTo>
                      <a:pt x="381" y="11"/>
                    </a:lnTo>
                    <a:lnTo>
                      <a:pt x="379" y="12"/>
                    </a:lnTo>
                    <a:lnTo>
                      <a:pt x="377" y="15"/>
                    </a:lnTo>
                    <a:lnTo>
                      <a:pt x="374" y="16"/>
                    </a:lnTo>
                    <a:lnTo>
                      <a:pt x="372" y="17"/>
                    </a:lnTo>
                    <a:lnTo>
                      <a:pt x="370" y="17"/>
                    </a:lnTo>
                    <a:lnTo>
                      <a:pt x="370" y="17"/>
                    </a:lnTo>
                    <a:lnTo>
                      <a:pt x="367" y="17"/>
                    </a:lnTo>
                    <a:lnTo>
                      <a:pt x="365" y="16"/>
                    </a:lnTo>
                    <a:lnTo>
                      <a:pt x="362" y="15"/>
                    </a:lnTo>
                    <a:lnTo>
                      <a:pt x="360" y="12"/>
                    </a:lnTo>
                    <a:lnTo>
                      <a:pt x="358" y="11"/>
                    </a:lnTo>
                    <a:lnTo>
                      <a:pt x="358" y="9"/>
                    </a:lnTo>
                    <a:lnTo>
                      <a:pt x="358" y="7"/>
                    </a:lnTo>
                    <a:lnTo>
                      <a:pt x="360" y="5"/>
                    </a:lnTo>
                    <a:lnTo>
                      <a:pt x="362" y="3"/>
                    </a:lnTo>
                    <a:lnTo>
                      <a:pt x="365" y="1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0" y="0"/>
                    </a:lnTo>
                    <a:close/>
                    <a:moveTo>
                      <a:pt x="413" y="0"/>
                    </a:moveTo>
                    <a:lnTo>
                      <a:pt x="413" y="0"/>
                    </a:lnTo>
                    <a:lnTo>
                      <a:pt x="415" y="0"/>
                    </a:lnTo>
                    <a:lnTo>
                      <a:pt x="417" y="1"/>
                    </a:lnTo>
                    <a:lnTo>
                      <a:pt x="420" y="3"/>
                    </a:lnTo>
                    <a:lnTo>
                      <a:pt x="422" y="5"/>
                    </a:lnTo>
                    <a:lnTo>
                      <a:pt x="424" y="7"/>
                    </a:lnTo>
                    <a:lnTo>
                      <a:pt x="424" y="9"/>
                    </a:lnTo>
                    <a:lnTo>
                      <a:pt x="424" y="11"/>
                    </a:lnTo>
                    <a:lnTo>
                      <a:pt x="422" y="12"/>
                    </a:lnTo>
                    <a:lnTo>
                      <a:pt x="420" y="15"/>
                    </a:lnTo>
                    <a:lnTo>
                      <a:pt x="417" y="16"/>
                    </a:lnTo>
                    <a:lnTo>
                      <a:pt x="415" y="17"/>
                    </a:lnTo>
                    <a:lnTo>
                      <a:pt x="413" y="17"/>
                    </a:lnTo>
                    <a:lnTo>
                      <a:pt x="413" y="17"/>
                    </a:lnTo>
                    <a:lnTo>
                      <a:pt x="410" y="17"/>
                    </a:lnTo>
                    <a:lnTo>
                      <a:pt x="408" y="16"/>
                    </a:lnTo>
                    <a:lnTo>
                      <a:pt x="405" y="15"/>
                    </a:lnTo>
                    <a:lnTo>
                      <a:pt x="403" y="12"/>
                    </a:lnTo>
                    <a:lnTo>
                      <a:pt x="401" y="11"/>
                    </a:lnTo>
                    <a:lnTo>
                      <a:pt x="401" y="9"/>
                    </a:lnTo>
                    <a:lnTo>
                      <a:pt x="401" y="7"/>
                    </a:lnTo>
                    <a:lnTo>
                      <a:pt x="403" y="5"/>
                    </a:lnTo>
                    <a:lnTo>
                      <a:pt x="405" y="3"/>
                    </a:lnTo>
                    <a:lnTo>
                      <a:pt x="408" y="1"/>
                    </a:lnTo>
                    <a:lnTo>
                      <a:pt x="410" y="0"/>
                    </a:lnTo>
                    <a:lnTo>
                      <a:pt x="413" y="0"/>
                    </a:lnTo>
                    <a:lnTo>
                      <a:pt x="413" y="0"/>
                    </a:lnTo>
                    <a:close/>
                    <a:moveTo>
                      <a:pt x="456" y="0"/>
                    </a:moveTo>
                    <a:lnTo>
                      <a:pt x="456" y="0"/>
                    </a:lnTo>
                    <a:lnTo>
                      <a:pt x="458" y="0"/>
                    </a:lnTo>
                    <a:lnTo>
                      <a:pt x="460" y="1"/>
                    </a:lnTo>
                    <a:lnTo>
                      <a:pt x="463" y="3"/>
                    </a:lnTo>
                    <a:lnTo>
                      <a:pt x="465" y="5"/>
                    </a:lnTo>
                    <a:lnTo>
                      <a:pt x="467" y="7"/>
                    </a:lnTo>
                    <a:lnTo>
                      <a:pt x="467" y="9"/>
                    </a:lnTo>
                    <a:lnTo>
                      <a:pt x="467" y="11"/>
                    </a:lnTo>
                    <a:lnTo>
                      <a:pt x="465" y="12"/>
                    </a:lnTo>
                    <a:lnTo>
                      <a:pt x="463" y="15"/>
                    </a:lnTo>
                    <a:lnTo>
                      <a:pt x="460" y="16"/>
                    </a:lnTo>
                    <a:lnTo>
                      <a:pt x="458" y="17"/>
                    </a:lnTo>
                    <a:lnTo>
                      <a:pt x="456" y="17"/>
                    </a:lnTo>
                    <a:lnTo>
                      <a:pt x="456" y="17"/>
                    </a:lnTo>
                    <a:lnTo>
                      <a:pt x="453" y="17"/>
                    </a:lnTo>
                    <a:lnTo>
                      <a:pt x="451" y="16"/>
                    </a:lnTo>
                    <a:lnTo>
                      <a:pt x="448" y="15"/>
                    </a:lnTo>
                    <a:lnTo>
                      <a:pt x="446" y="12"/>
                    </a:lnTo>
                    <a:lnTo>
                      <a:pt x="444" y="11"/>
                    </a:lnTo>
                    <a:lnTo>
                      <a:pt x="444" y="9"/>
                    </a:lnTo>
                    <a:lnTo>
                      <a:pt x="444" y="7"/>
                    </a:lnTo>
                    <a:lnTo>
                      <a:pt x="446" y="5"/>
                    </a:lnTo>
                    <a:lnTo>
                      <a:pt x="448" y="3"/>
                    </a:lnTo>
                    <a:lnTo>
                      <a:pt x="451" y="1"/>
                    </a:lnTo>
                    <a:lnTo>
                      <a:pt x="453" y="0"/>
                    </a:lnTo>
                    <a:lnTo>
                      <a:pt x="456" y="0"/>
                    </a:lnTo>
                    <a:lnTo>
                      <a:pt x="456" y="0"/>
                    </a:lnTo>
                    <a:close/>
                    <a:moveTo>
                      <a:pt x="500" y="0"/>
                    </a:moveTo>
                    <a:lnTo>
                      <a:pt x="500" y="0"/>
                    </a:lnTo>
                    <a:lnTo>
                      <a:pt x="501" y="0"/>
                    </a:lnTo>
                    <a:lnTo>
                      <a:pt x="503" y="1"/>
                    </a:lnTo>
                    <a:lnTo>
                      <a:pt x="506" y="3"/>
                    </a:lnTo>
                    <a:lnTo>
                      <a:pt x="508" y="5"/>
                    </a:lnTo>
                    <a:lnTo>
                      <a:pt x="510" y="7"/>
                    </a:lnTo>
                    <a:lnTo>
                      <a:pt x="510" y="9"/>
                    </a:lnTo>
                    <a:lnTo>
                      <a:pt x="510" y="11"/>
                    </a:lnTo>
                    <a:lnTo>
                      <a:pt x="508" y="12"/>
                    </a:lnTo>
                    <a:lnTo>
                      <a:pt x="506" y="15"/>
                    </a:lnTo>
                    <a:lnTo>
                      <a:pt x="503" y="16"/>
                    </a:lnTo>
                    <a:lnTo>
                      <a:pt x="501" y="17"/>
                    </a:lnTo>
                    <a:lnTo>
                      <a:pt x="500" y="17"/>
                    </a:lnTo>
                    <a:lnTo>
                      <a:pt x="500" y="17"/>
                    </a:lnTo>
                    <a:lnTo>
                      <a:pt x="496" y="17"/>
                    </a:lnTo>
                    <a:lnTo>
                      <a:pt x="494" y="16"/>
                    </a:lnTo>
                    <a:lnTo>
                      <a:pt x="491" y="15"/>
                    </a:lnTo>
                    <a:lnTo>
                      <a:pt x="489" y="12"/>
                    </a:lnTo>
                    <a:lnTo>
                      <a:pt x="487" y="11"/>
                    </a:lnTo>
                    <a:lnTo>
                      <a:pt x="487" y="9"/>
                    </a:lnTo>
                    <a:lnTo>
                      <a:pt x="487" y="7"/>
                    </a:lnTo>
                    <a:lnTo>
                      <a:pt x="489" y="5"/>
                    </a:lnTo>
                    <a:lnTo>
                      <a:pt x="491" y="3"/>
                    </a:lnTo>
                    <a:lnTo>
                      <a:pt x="494" y="1"/>
                    </a:lnTo>
                    <a:lnTo>
                      <a:pt x="496" y="0"/>
                    </a:lnTo>
                    <a:lnTo>
                      <a:pt x="500" y="0"/>
                    </a:lnTo>
                    <a:lnTo>
                      <a:pt x="500" y="0"/>
                    </a:lnTo>
                    <a:close/>
                    <a:moveTo>
                      <a:pt x="543" y="0"/>
                    </a:moveTo>
                    <a:lnTo>
                      <a:pt x="543" y="0"/>
                    </a:lnTo>
                    <a:lnTo>
                      <a:pt x="544" y="0"/>
                    </a:lnTo>
                    <a:lnTo>
                      <a:pt x="546" y="1"/>
                    </a:lnTo>
                    <a:lnTo>
                      <a:pt x="549" y="3"/>
                    </a:lnTo>
                    <a:lnTo>
                      <a:pt x="551" y="5"/>
                    </a:lnTo>
                    <a:lnTo>
                      <a:pt x="553" y="7"/>
                    </a:lnTo>
                    <a:lnTo>
                      <a:pt x="553" y="9"/>
                    </a:lnTo>
                    <a:lnTo>
                      <a:pt x="553" y="11"/>
                    </a:lnTo>
                    <a:lnTo>
                      <a:pt x="551" y="12"/>
                    </a:lnTo>
                    <a:lnTo>
                      <a:pt x="549" y="15"/>
                    </a:lnTo>
                    <a:lnTo>
                      <a:pt x="546" y="16"/>
                    </a:lnTo>
                    <a:lnTo>
                      <a:pt x="544" y="17"/>
                    </a:lnTo>
                    <a:lnTo>
                      <a:pt x="543" y="17"/>
                    </a:lnTo>
                    <a:lnTo>
                      <a:pt x="543" y="17"/>
                    </a:lnTo>
                    <a:lnTo>
                      <a:pt x="539" y="17"/>
                    </a:lnTo>
                    <a:lnTo>
                      <a:pt x="537" y="16"/>
                    </a:lnTo>
                    <a:lnTo>
                      <a:pt x="534" y="15"/>
                    </a:lnTo>
                    <a:lnTo>
                      <a:pt x="532" y="12"/>
                    </a:lnTo>
                    <a:lnTo>
                      <a:pt x="531" y="11"/>
                    </a:lnTo>
                    <a:lnTo>
                      <a:pt x="531" y="9"/>
                    </a:lnTo>
                    <a:lnTo>
                      <a:pt x="531" y="7"/>
                    </a:lnTo>
                    <a:lnTo>
                      <a:pt x="532" y="5"/>
                    </a:lnTo>
                    <a:lnTo>
                      <a:pt x="534" y="3"/>
                    </a:lnTo>
                    <a:lnTo>
                      <a:pt x="537" y="1"/>
                    </a:lnTo>
                    <a:lnTo>
                      <a:pt x="539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  <a:moveTo>
                      <a:pt x="586" y="0"/>
                    </a:moveTo>
                    <a:lnTo>
                      <a:pt x="586" y="0"/>
                    </a:lnTo>
                    <a:lnTo>
                      <a:pt x="587" y="0"/>
                    </a:lnTo>
                    <a:lnTo>
                      <a:pt x="589" y="1"/>
                    </a:lnTo>
                    <a:lnTo>
                      <a:pt x="593" y="3"/>
                    </a:lnTo>
                    <a:lnTo>
                      <a:pt x="594" y="5"/>
                    </a:lnTo>
                    <a:lnTo>
                      <a:pt x="596" y="7"/>
                    </a:lnTo>
                    <a:lnTo>
                      <a:pt x="596" y="9"/>
                    </a:lnTo>
                    <a:lnTo>
                      <a:pt x="596" y="11"/>
                    </a:lnTo>
                    <a:lnTo>
                      <a:pt x="594" y="12"/>
                    </a:lnTo>
                    <a:lnTo>
                      <a:pt x="593" y="15"/>
                    </a:lnTo>
                    <a:lnTo>
                      <a:pt x="589" y="16"/>
                    </a:lnTo>
                    <a:lnTo>
                      <a:pt x="587" y="17"/>
                    </a:lnTo>
                    <a:lnTo>
                      <a:pt x="586" y="17"/>
                    </a:lnTo>
                    <a:lnTo>
                      <a:pt x="586" y="17"/>
                    </a:lnTo>
                    <a:lnTo>
                      <a:pt x="582" y="17"/>
                    </a:lnTo>
                    <a:lnTo>
                      <a:pt x="580" y="16"/>
                    </a:lnTo>
                    <a:lnTo>
                      <a:pt x="577" y="15"/>
                    </a:lnTo>
                    <a:lnTo>
                      <a:pt x="575" y="12"/>
                    </a:lnTo>
                    <a:lnTo>
                      <a:pt x="575" y="11"/>
                    </a:lnTo>
                    <a:lnTo>
                      <a:pt x="574" y="9"/>
                    </a:lnTo>
                    <a:lnTo>
                      <a:pt x="575" y="7"/>
                    </a:lnTo>
                    <a:lnTo>
                      <a:pt x="575" y="5"/>
                    </a:lnTo>
                    <a:lnTo>
                      <a:pt x="577" y="3"/>
                    </a:lnTo>
                    <a:lnTo>
                      <a:pt x="580" y="1"/>
                    </a:lnTo>
                    <a:lnTo>
                      <a:pt x="582" y="0"/>
                    </a:lnTo>
                    <a:lnTo>
                      <a:pt x="586" y="0"/>
                    </a:lnTo>
                    <a:lnTo>
                      <a:pt x="586" y="0"/>
                    </a:lnTo>
                    <a:close/>
                    <a:moveTo>
                      <a:pt x="629" y="0"/>
                    </a:moveTo>
                    <a:lnTo>
                      <a:pt x="629" y="0"/>
                    </a:lnTo>
                    <a:lnTo>
                      <a:pt x="630" y="0"/>
                    </a:lnTo>
                    <a:lnTo>
                      <a:pt x="632" y="1"/>
                    </a:lnTo>
                    <a:lnTo>
                      <a:pt x="636" y="3"/>
                    </a:lnTo>
                    <a:lnTo>
                      <a:pt x="637" y="5"/>
                    </a:lnTo>
                    <a:lnTo>
                      <a:pt x="639" y="7"/>
                    </a:lnTo>
                    <a:lnTo>
                      <a:pt x="639" y="9"/>
                    </a:lnTo>
                    <a:lnTo>
                      <a:pt x="639" y="11"/>
                    </a:lnTo>
                    <a:lnTo>
                      <a:pt x="637" y="12"/>
                    </a:lnTo>
                    <a:lnTo>
                      <a:pt x="636" y="15"/>
                    </a:lnTo>
                    <a:lnTo>
                      <a:pt x="632" y="16"/>
                    </a:lnTo>
                    <a:lnTo>
                      <a:pt x="630" y="17"/>
                    </a:lnTo>
                    <a:lnTo>
                      <a:pt x="629" y="17"/>
                    </a:lnTo>
                    <a:lnTo>
                      <a:pt x="629" y="17"/>
                    </a:lnTo>
                    <a:lnTo>
                      <a:pt x="625" y="17"/>
                    </a:lnTo>
                    <a:lnTo>
                      <a:pt x="623" y="16"/>
                    </a:lnTo>
                    <a:lnTo>
                      <a:pt x="620" y="15"/>
                    </a:lnTo>
                    <a:lnTo>
                      <a:pt x="618" y="12"/>
                    </a:lnTo>
                    <a:lnTo>
                      <a:pt x="618" y="11"/>
                    </a:lnTo>
                    <a:lnTo>
                      <a:pt x="617" y="9"/>
                    </a:lnTo>
                    <a:lnTo>
                      <a:pt x="618" y="7"/>
                    </a:lnTo>
                    <a:lnTo>
                      <a:pt x="618" y="5"/>
                    </a:lnTo>
                    <a:lnTo>
                      <a:pt x="620" y="3"/>
                    </a:lnTo>
                    <a:lnTo>
                      <a:pt x="623" y="1"/>
                    </a:lnTo>
                    <a:lnTo>
                      <a:pt x="625" y="0"/>
                    </a:lnTo>
                    <a:lnTo>
                      <a:pt x="629" y="0"/>
                    </a:lnTo>
                    <a:lnTo>
                      <a:pt x="629" y="0"/>
                    </a:lnTo>
                    <a:close/>
                    <a:moveTo>
                      <a:pt x="672" y="0"/>
                    </a:moveTo>
                    <a:lnTo>
                      <a:pt x="672" y="0"/>
                    </a:lnTo>
                    <a:lnTo>
                      <a:pt x="673" y="0"/>
                    </a:lnTo>
                    <a:lnTo>
                      <a:pt x="675" y="1"/>
                    </a:lnTo>
                    <a:lnTo>
                      <a:pt x="679" y="3"/>
                    </a:lnTo>
                    <a:lnTo>
                      <a:pt x="680" y="5"/>
                    </a:lnTo>
                    <a:lnTo>
                      <a:pt x="682" y="7"/>
                    </a:lnTo>
                    <a:lnTo>
                      <a:pt x="682" y="9"/>
                    </a:lnTo>
                    <a:lnTo>
                      <a:pt x="682" y="11"/>
                    </a:lnTo>
                    <a:lnTo>
                      <a:pt x="680" y="12"/>
                    </a:lnTo>
                    <a:lnTo>
                      <a:pt x="679" y="15"/>
                    </a:lnTo>
                    <a:lnTo>
                      <a:pt x="675" y="16"/>
                    </a:lnTo>
                    <a:lnTo>
                      <a:pt x="673" y="17"/>
                    </a:lnTo>
                    <a:lnTo>
                      <a:pt x="672" y="17"/>
                    </a:lnTo>
                    <a:lnTo>
                      <a:pt x="672" y="17"/>
                    </a:lnTo>
                    <a:lnTo>
                      <a:pt x="668" y="17"/>
                    </a:lnTo>
                    <a:lnTo>
                      <a:pt x="667" y="16"/>
                    </a:lnTo>
                    <a:lnTo>
                      <a:pt x="663" y="15"/>
                    </a:lnTo>
                    <a:lnTo>
                      <a:pt x="661" y="12"/>
                    </a:lnTo>
                    <a:lnTo>
                      <a:pt x="661" y="11"/>
                    </a:lnTo>
                    <a:lnTo>
                      <a:pt x="660" y="9"/>
                    </a:lnTo>
                    <a:lnTo>
                      <a:pt x="661" y="7"/>
                    </a:lnTo>
                    <a:lnTo>
                      <a:pt x="661" y="5"/>
                    </a:lnTo>
                    <a:lnTo>
                      <a:pt x="663" y="3"/>
                    </a:lnTo>
                    <a:lnTo>
                      <a:pt x="667" y="1"/>
                    </a:lnTo>
                    <a:lnTo>
                      <a:pt x="668" y="0"/>
                    </a:lnTo>
                    <a:lnTo>
                      <a:pt x="672" y="0"/>
                    </a:lnTo>
                    <a:lnTo>
                      <a:pt x="672" y="0"/>
                    </a:lnTo>
                    <a:close/>
                    <a:moveTo>
                      <a:pt x="715" y="0"/>
                    </a:moveTo>
                    <a:lnTo>
                      <a:pt x="715" y="0"/>
                    </a:lnTo>
                    <a:lnTo>
                      <a:pt x="716" y="0"/>
                    </a:lnTo>
                    <a:lnTo>
                      <a:pt x="718" y="1"/>
                    </a:lnTo>
                    <a:lnTo>
                      <a:pt x="722" y="3"/>
                    </a:lnTo>
                    <a:lnTo>
                      <a:pt x="723" y="5"/>
                    </a:lnTo>
                    <a:lnTo>
                      <a:pt x="725" y="7"/>
                    </a:lnTo>
                    <a:lnTo>
                      <a:pt x="725" y="9"/>
                    </a:lnTo>
                    <a:lnTo>
                      <a:pt x="725" y="11"/>
                    </a:lnTo>
                    <a:lnTo>
                      <a:pt x="723" y="12"/>
                    </a:lnTo>
                    <a:lnTo>
                      <a:pt x="722" y="15"/>
                    </a:lnTo>
                    <a:lnTo>
                      <a:pt x="718" y="16"/>
                    </a:lnTo>
                    <a:lnTo>
                      <a:pt x="716" y="17"/>
                    </a:lnTo>
                    <a:lnTo>
                      <a:pt x="715" y="17"/>
                    </a:lnTo>
                    <a:lnTo>
                      <a:pt x="715" y="17"/>
                    </a:lnTo>
                    <a:lnTo>
                      <a:pt x="711" y="17"/>
                    </a:lnTo>
                    <a:lnTo>
                      <a:pt x="710" y="16"/>
                    </a:lnTo>
                    <a:lnTo>
                      <a:pt x="706" y="15"/>
                    </a:lnTo>
                    <a:lnTo>
                      <a:pt x="704" y="12"/>
                    </a:lnTo>
                    <a:lnTo>
                      <a:pt x="704" y="11"/>
                    </a:lnTo>
                    <a:lnTo>
                      <a:pt x="703" y="9"/>
                    </a:lnTo>
                    <a:lnTo>
                      <a:pt x="704" y="7"/>
                    </a:lnTo>
                    <a:lnTo>
                      <a:pt x="704" y="5"/>
                    </a:lnTo>
                    <a:lnTo>
                      <a:pt x="706" y="3"/>
                    </a:lnTo>
                    <a:lnTo>
                      <a:pt x="710" y="1"/>
                    </a:lnTo>
                    <a:lnTo>
                      <a:pt x="711" y="0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  <a:moveTo>
                      <a:pt x="758" y="0"/>
                    </a:moveTo>
                    <a:lnTo>
                      <a:pt x="758" y="0"/>
                    </a:lnTo>
                    <a:lnTo>
                      <a:pt x="760" y="0"/>
                    </a:lnTo>
                    <a:lnTo>
                      <a:pt x="761" y="1"/>
                    </a:lnTo>
                    <a:lnTo>
                      <a:pt x="765" y="3"/>
                    </a:lnTo>
                    <a:lnTo>
                      <a:pt x="766" y="5"/>
                    </a:lnTo>
                    <a:lnTo>
                      <a:pt x="768" y="7"/>
                    </a:lnTo>
                    <a:lnTo>
                      <a:pt x="768" y="9"/>
                    </a:lnTo>
                    <a:lnTo>
                      <a:pt x="768" y="11"/>
                    </a:lnTo>
                    <a:lnTo>
                      <a:pt x="766" y="12"/>
                    </a:lnTo>
                    <a:lnTo>
                      <a:pt x="765" y="15"/>
                    </a:lnTo>
                    <a:lnTo>
                      <a:pt x="761" y="16"/>
                    </a:lnTo>
                    <a:lnTo>
                      <a:pt x="760" y="17"/>
                    </a:lnTo>
                    <a:lnTo>
                      <a:pt x="758" y="17"/>
                    </a:lnTo>
                    <a:lnTo>
                      <a:pt x="758" y="17"/>
                    </a:lnTo>
                    <a:lnTo>
                      <a:pt x="754" y="17"/>
                    </a:lnTo>
                    <a:lnTo>
                      <a:pt x="753" y="16"/>
                    </a:lnTo>
                    <a:lnTo>
                      <a:pt x="749" y="15"/>
                    </a:lnTo>
                    <a:lnTo>
                      <a:pt x="747" y="12"/>
                    </a:lnTo>
                    <a:lnTo>
                      <a:pt x="747" y="11"/>
                    </a:lnTo>
                    <a:lnTo>
                      <a:pt x="746" y="9"/>
                    </a:lnTo>
                    <a:lnTo>
                      <a:pt x="747" y="7"/>
                    </a:lnTo>
                    <a:lnTo>
                      <a:pt x="747" y="5"/>
                    </a:lnTo>
                    <a:lnTo>
                      <a:pt x="749" y="3"/>
                    </a:lnTo>
                    <a:lnTo>
                      <a:pt x="753" y="1"/>
                    </a:lnTo>
                    <a:lnTo>
                      <a:pt x="754" y="0"/>
                    </a:lnTo>
                    <a:lnTo>
                      <a:pt x="758" y="0"/>
                    </a:lnTo>
                    <a:lnTo>
                      <a:pt x="758" y="0"/>
                    </a:lnTo>
                    <a:close/>
                    <a:moveTo>
                      <a:pt x="801" y="0"/>
                    </a:moveTo>
                    <a:lnTo>
                      <a:pt x="801" y="0"/>
                    </a:lnTo>
                    <a:lnTo>
                      <a:pt x="803" y="0"/>
                    </a:lnTo>
                    <a:lnTo>
                      <a:pt x="804" y="1"/>
                    </a:lnTo>
                    <a:lnTo>
                      <a:pt x="808" y="3"/>
                    </a:lnTo>
                    <a:lnTo>
                      <a:pt x="809" y="5"/>
                    </a:lnTo>
                    <a:lnTo>
                      <a:pt x="811" y="7"/>
                    </a:lnTo>
                    <a:lnTo>
                      <a:pt x="811" y="9"/>
                    </a:lnTo>
                    <a:lnTo>
                      <a:pt x="811" y="11"/>
                    </a:lnTo>
                    <a:lnTo>
                      <a:pt x="809" y="12"/>
                    </a:lnTo>
                    <a:lnTo>
                      <a:pt x="808" y="15"/>
                    </a:lnTo>
                    <a:lnTo>
                      <a:pt x="804" y="16"/>
                    </a:lnTo>
                    <a:lnTo>
                      <a:pt x="803" y="17"/>
                    </a:lnTo>
                    <a:lnTo>
                      <a:pt x="801" y="17"/>
                    </a:lnTo>
                    <a:lnTo>
                      <a:pt x="801" y="17"/>
                    </a:lnTo>
                    <a:lnTo>
                      <a:pt x="797" y="17"/>
                    </a:lnTo>
                    <a:lnTo>
                      <a:pt x="796" y="16"/>
                    </a:lnTo>
                    <a:lnTo>
                      <a:pt x="792" y="15"/>
                    </a:lnTo>
                    <a:lnTo>
                      <a:pt x="790" y="12"/>
                    </a:lnTo>
                    <a:lnTo>
                      <a:pt x="790" y="11"/>
                    </a:lnTo>
                    <a:lnTo>
                      <a:pt x="789" y="9"/>
                    </a:lnTo>
                    <a:lnTo>
                      <a:pt x="790" y="7"/>
                    </a:lnTo>
                    <a:lnTo>
                      <a:pt x="790" y="5"/>
                    </a:lnTo>
                    <a:lnTo>
                      <a:pt x="792" y="3"/>
                    </a:lnTo>
                    <a:lnTo>
                      <a:pt x="796" y="1"/>
                    </a:lnTo>
                    <a:lnTo>
                      <a:pt x="797" y="0"/>
                    </a:lnTo>
                    <a:lnTo>
                      <a:pt x="801" y="0"/>
                    </a:lnTo>
                    <a:lnTo>
                      <a:pt x="801" y="0"/>
                    </a:lnTo>
                    <a:close/>
                    <a:moveTo>
                      <a:pt x="844" y="0"/>
                    </a:moveTo>
                    <a:lnTo>
                      <a:pt x="844" y="0"/>
                    </a:lnTo>
                    <a:lnTo>
                      <a:pt x="846" y="0"/>
                    </a:lnTo>
                    <a:lnTo>
                      <a:pt x="847" y="1"/>
                    </a:lnTo>
                    <a:lnTo>
                      <a:pt x="851" y="3"/>
                    </a:lnTo>
                    <a:lnTo>
                      <a:pt x="852" y="5"/>
                    </a:lnTo>
                    <a:lnTo>
                      <a:pt x="854" y="7"/>
                    </a:lnTo>
                    <a:lnTo>
                      <a:pt x="854" y="9"/>
                    </a:lnTo>
                    <a:lnTo>
                      <a:pt x="854" y="11"/>
                    </a:lnTo>
                    <a:lnTo>
                      <a:pt x="852" y="12"/>
                    </a:lnTo>
                    <a:lnTo>
                      <a:pt x="851" y="15"/>
                    </a:lnTo>
                    <a:lnTo>
                      <a:pt x="847" y="16"/>
                    </a:lnTo>
                    <a:lnTo>
                      <a:pt x="846" y="17"/>
                    </a:lnTo>
                    <a:lnTo>
                      <a:pt x="844" y="17"/>
                    </a:lnTo>
                    <a:lnTo>
                      <a:pt x="844" y="17"/>
                    </a:lnTo>
                    <a:lnTo>
                      <a:pt x="840" y="17"/>
                    </a:lnTo>
                    <a:lnTo>
                      <a:pt x="839" y="16"/>
                    </a:lnTo>
                    <a:lnTo>
                      <a:pt x="835" y="15"/>
                    </a:lnTo>
                    <a:lnTo>
                      <a:pt x="834" y="12"/>
                    </a:lnTo>
                    <a:lnTo>
                      <a:pt x="834" y="11"/>
                    </a:lnTo>
                    <a:lnTo>
                      <a:pt x="832" y="9"/>
                    </a:lnTo>
                    <a:lnTo>
                      <a:pt x="834" y="7"/>
                    </a:lnTo>
                    <a:lnTo>
                      <a:pt x="834" y="5"/>
                    </a:lnTo>
                    <a:lnTo>
                      <a:pt x="835" y="3"/>
                    </a:lnTo>
                    <a:lnTo>
                      <a:pt x="839" y="1"/>
                    </a:lnTo>
                    <a:lnTo>
                      <a:pt x="840" y="0"/>
                    </a:lnTo>
                    <a:lnTo>
                      <a:pt x="844" y="0"/>
                    </a:lnTo>
                    <a:lnTo>
                      <a:pt x="844" y="0"/>
                    </a:lnTo>
                    <a:close/>
                    <a:moveTo>
                      <a:pt x="887" y="0"/>
                    </a:moveTo>
                    <a:lnTo>
                      <a:pt x="887" y="0"/>
                    </a:lnTo>
                    <a:lnTo>
                      <a:pt x="889" y="0"/>
                    </a:lnTo>
                    <a:lnTo>
                      <a:pt x="890" y="1"/>
                    </a:lnTo>
                    <a:lnTo>
                      <a:pt x="894" y="3"/>
                    </a:lnTo>
                    <a:lnTo>
                      <a:pt x="896" y="5"/>
                    </a:lnTo>
                    <a:lnTo>
                      <a:pt x="897" y="7"/>
                    </a:lnTo>
                    <a:lnTo>
                      <a:pt x="897" y="9"/>
                    </a:lnTo>
                    <a:lnTo>
                      <a:pt x="897" y="11"/>
                    </a:lnTo>
                    <a:lnTo>
                      <a:pt x="896" y="12"/>
                    </a:lnTo>
                    <a:lnTo>
                      <a:pt x="894" y="15"/>
                    </a:lnTo>
                    <a:lnTo>
                      <a:pt x="890" y="16"/>
                    </a:lnTo>
                    <a:lnTo>
                      <a:pt x="889" y="17"/>
                    </a:lnTo>
                    <a:lnTo>
                      <a:pt x="887" y="17"/>
                    </a:lnTo>
                    <a:lnTo>
                      <a:pt x="887" y="17"/>
                    </a:lnTo>
                    <a:lnTo>
                      <a:pt x="883" y="17"/>
                    </a:lnTo>
                    <a:lnTo>
                      <a:pt x="882" y="16"/>
                    </a:lnTo>
                    <a:lnTo>
                      <a:pt x="878" y="15"/>
                    </a:lnTo>
                    <a:lnTo>
                      <a:pt x="877" y="12"/>
                    </a:lnTo>
                    <a:lnTo>
                      <a:pt x="877" y="11"/>
                    </a:lnTo>
                    <a:lnTo>
                      <a:pt x="875" y="9"/>
                    </a:lnTo>
                    <a:lnTo>
                      <a:pt x="877" y="7"/>
                    </a:lnTo>
                    <a:lnTo>
                      <a:pt x="877" y="5"/>
                    </a:lnTo>
                    <a:lnTo>
                      <a:pt x="878" y="3"/>
                    </a:lnTo>
                    <a:lnTo>
                      <a:pt x="882" y="1"/>
                    </a:lnTo>
                    <a:lnTo>
                      <a:pt x="883" y="0"/>
                    </a:lnTo>
                    <a:lnTo>
                      <a:pt x="887" y="0"/>
                    </a:lnTo>
                    <a:lnTo>
                      <a:pt x="887" y="0"/>
                    </a:lnTo>
                    <a:close/>
                    <a:moveTo>
                      <a:pt x="930" y="0"/>
                    </a:moveTo>
                    <a:lnTo>
                      <a:pt x="930" y="0"/>
                    </a:lnTo>
                    <a:lnTo>
                      <a:pt x="932" y="0"/>
                    </a:lnTo>
                    <a:lnTo>
                      <a:pt x="933" y="1"/>
                    </a:lnTo>
                    <a:lnTo>
                      <a:pt x="937" y="3"/>
                    </a:lnTo>
                    <a:lnTo>
                      <a:pt x="939" y="5"/>
                    </a:lnTo>
                    <a:lnTo>
                      <a:pt x="940" y="7"/>
                    </a:lnTo>
                    <a:lnTo>
                      <a:pt x="940" y="9"/>
                    </a:lnTo>
                    <a:lnTo>
                      <a:pt x="940" y="11"/>
                    </a:lnTo>
                    <a:lnTo>
                      <a:pt x="939" y="12"/>
                    </a:lnTo>
                    <a:lnTo>
                      <a:pt x="937" y="15"/>
                    </a:lnTo>
                    <a:lnTo>
                      <a:pt x="933" y="16"/>
                    </a:lnTo>
                    <a:lnTo>
                      <a:pt x="932" y="17"/>
                    </a:lnTo>
                    <a:lnTo>
                      <a:pt x="930" y="17"/>
                    </a:lnTo>
                    <a:lnTo>
                      <a:pt x="930" y="17"/>
                    </a:lnTo>
                    <a:lnTo>
                      <a:pt x="927" y="17"/>
                    </a:lnTo>
                    <a:lnTo>
                      <a:pt x="925" y="16"/>
                    </a:lnTo>
                    <a:lnTo>
                      <a:pt x="921" y="15"/>
                    </a:lnTo>
                    <a:lnTo>
                      <a:pt x="920" y="12"/>
                    </a:lnTo>
                    <a:lnTo>
                      <a:pt x="920" y="11"/>
                    </a:lnTo>
                    <a:lnTo>
                      <a:pt x="918" y="9"/>
                    </a:lnTo>
                    <a:lnTo>
                      <a:pt x="920" y="7"/>
                    </a:lnTo>
                    <a:lnTo>
                      <a:pt x="920" y="5"/>
                    </a:lnTo>
                    <a:lnTo>
                      <a:pt x="921" y="3"/>
                    </a:lnTo>
                    <a:lnTo>
                      <a:pt x="925" y="1"/>
                    </a:lnTo>
                    <a:lnTo>
                      <a:pt x="927" y="0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  <a:moveTo>
                      <a:pt x="973" y="0"/>
                    </a:moveTo>
                    <a:lnTo>
                      <a:pt x="973" y="0"/>
                    </a:lnTo>
                    <a:lnTo>
                      <a:pt x="975" y="0"/>
                    </a:lnTo>
                    <a:lnTo>
                      <a:pt x="976" y="1"/>
                    </a:lnTo>
                    <a:lnTo>
                      <a:pt x="980" y="3"/>
                    </a:lnTo>
                    <a:lnTo>
                      <a:pt x="983" y="5"/>
                    </a:lnTo>
                    <a:lnTo>
                      <a:pt x="983" y="7"/>
                    </a:lnTo>
                    <a:lnTo>
                      <a:pt x="983" y="9"/>
                    </a:lnTo>
                    <a:lnTo>
                      <a:pt x="983" y="11"/>
                    </a:lnTo>
                    <a:lnTo>
                      <a:pt x="983" y="12"/>
                    </a:lnTo>
                    <a:lnTo>
                      <a:pt x="980" y="15"/>
                    </a:lnTo>
                    <a:lnTo>
                      <a:pt x="976" y="16"/>
                    </a:lnTo>
                    <a:lnTo>
                      <a:pt x="975" y="17"/>
                    </a:lnTo>
                    <a:lnTo>
                      <a:pt x="973" y="17"/>
                    </a:lnTo>
                    <a:lnTo>
                      <a:pt x="973" y="17"/>
                    </a:lnTo>
                    <a:lnTo>
                      <a:pt x="970" y="17"/>
                    </a:lnTo>
                    <a:lnTo>
                      <a:pt x="968" y="16"/>
                    </a:lnTo>
                    <a:lnTo>
                      <a:pt x="964" y="15"/>
                    </a:lnTo>
                    <a:lnTo>
                      <a:pt x="963" y="12"/>
                    </a:lnTo>
                    <a:lnTo>
                      <a:pt x="963" y="11"/>
                    </a:lnTo>
                    <a:lnTo>
                      <a:pt x="961" y="9"/>
                    </a:lnTo>
                    <a:lnTo>
                      <a:pt x="963" y="7"/>
                    </a:lnTo>
                    <a:lnTo>
                      <a:pt x="963" y="5"/>
                    </a:lnTo>
                    <a:lnTo>
                      <a:pt x="964" y="3"/>
                    </a:lnTo>
                    <a:lnTo>
                      <a:pt x="968" y="1"/>
                    </a:lnTo>
                    <a:lnTo>
                      <a:pt x="970" y="0"/>
                    </a:lnTo>
                    <a:lnTo>
                      <a:pt x="973" y="0"/>
                    </a:lnTo>
                    <a:lnTo>
                      <a:pt x="973" y="0"/>
                    </a:lnTo>
                    <a:close/>
                    <a:moveTo>
                      <a:pt x="1016" y="0"/>
                    </a:moveTo>
                    <a:lnTo>
                      <a:pt x="1016" y="0"/>
                    </a:lnTo>
                    <a:lnTo>
                      <a:pt x="1018" y="0"/>
                    </a:lnTo>
                    <a:lnTo>
                      <a:pt x="1019" y="1"/>
                    </a:lnTo>
                    <a:lnTo>
                      <a:pt x="1023" y="3"/>
                    </a:lnTo>
                    <a:lnTo>
                      <a:pt x="1026" y="5"/>
                    </a:lnTo>
                    <a:lnTo>
                      <a:pt x="1026" y="7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2"/>
                    </a:lnTo>
                    <a:lnTo>
                      <a:pt x="1023" y="15"/>
                    </a:lnTo>
                    <a:lnTo>
                      <a:pt x="1019" y="16"/>
                    </a:lnTo>
                    <a:lnTo>
                      <a:pt x="1018" y="17"/>
                    </a:lnTo>
                    <a:lnTo>
                      <a:pt x="1016" y="17"/>
                    </a:lnTo>
                    <a:lnTo>
                      <a:pt x="1016" y="17"/>
                    </a:lnTo>
                    <a:lnTo>
                      <a:pt x="1013" y="17"/>
                    </a:lnTo>
                    <a:lnTo>
                      <a:pt x="1011" y="16"/>
                    </a:lnTo>
                    <a:lnTo>
                      <a:pt x="1007" y="15"/>
                    </a:lnTo>
                    <a:lnTo>
                      <a:pt x="1006" y="12"/>
                    </a:lnTo>
                    <a:lnTo>
                      <a:pt x="1006" y="11"/>
                    </a:lnTo>
                    <a:lnTo>
                      <a:pt x="1006" y="9"/>
                    </a:lnTo>
                    <a:lnTo>
                      <a:pt x="1006" y="7"/>
                    </a:lnTo>
                    <a:lnTo>
                      <a:pt x="1006" y="5"/>
                    </a:lnTo>
                    <a:lnTo>
                      <a:pt x="1007" y="3"/>
                    </a:lnTo>
                    <a:lnTo>
                      <a:pt x="1011" y="1"/>
                    </a:lnTo>
                    <a:lnTo>
                      <a:pt x="1013" y="0"/>
                    </a:lnTo>
                    <a:lnTo>
                      <a:pt x="1016" y="0"/>
                    </a:lnTo>
                    <a:lnTo>
                      <a:pt x="1016" y="0"/>
                    </a:lnTo>
                    <a:close/>
                    <a:moveTo>
                      <a:pt x="1059" y="0"/>
                    </a:moveTo>
                    <a:lnTo>
                      <a:pt x="1059" y="0"/>
                    </a:lnTo>
                    <a:lnTo>
                      <a:pt x="1061" y="0"/>
                    </a:lnTo>
                    <a:lnTo>
                      <a:pt x="1063" y="1"/>
                    </a:lnTo>
                    <a:lnTo>
                      <a:pt x="1066" y="3"/>
                    </a:lnTo>
                    <a:lnTo>
                      <a:pt x="1069" y="5"/>
                    </a:lnTo>
                    <a:lnTo>
                      <a:pt x="1069" y="7"/>
                    </a:lnTo>
                    <a:lnTo>
                      <a:pt x="1069" y="9"/>
                    </a:lnTo>
                    <a:lnTo>
                      <a:pt x="1069" y="11"/>
                    </a:lnTo>
                    <a:lnTo>
                      <a:pt x="1069" y="12"/>
                    </a:lnTo>
                    <a:lnTo>
                      <a:pt x="1066" y="15"/>
                    </a:lnTo>
                    <a:lnTo>
                      <a:pt x="1063" y="16"/>
                    </a:lnTo>
                    <a:lnTo>
                      <a:pt x="1061" y="17"/>
                    </a:lnTo>
                    <a:lnTo>
                      <a:pt x="1059" y="17"/>
                    </a:lnTo>
                    <a:lnTo>
                      <a:pt x="1059" y="17"/>
                    </a:lnTo>
                    <a:lnTo>
                      <a:pt x="1056" y="17"/>
                    </a:lnTo>
                    <a:lnTo>
                      <a:pt x="1054" y="16"/>
                    </a:lnTo>
                    <a:lnTo>
                      <a:pt x="1050" y="15"/>
                    </a:lnTo>
                    <a:lnTo>
                      <a:pt x="1049" y="12"/>
                    </a:lnTo>
                    <a:lnTo>
                      <a:pt x="1049" y="11"/>
                    </a:lnTo>
                    <a:lnTo>
                      <a:pt x="1049" y="9"/>
                    </a:lnTo>
                    <a:lnTo>
                      <a:pt x="1049" y="7"/>
                    </a:lnTo>
                    <a:lnTo>
                      <a:pt x="1049" y="5"/>
                    </a:lnTo>
                    <a:lnTo>
                      <a:pt x="1050" y="3"/>
                    </a:lnTo>
                    <a:lnTo>
                      <a:pt x="1054" y="1"/>
                    </a:lnTo>
                    <a:lnTo>
                      <a:pt x="1056" y="0"/>
                    </a:lnTo>
                    <a:lnTo>
                      <a:pt x="1059" y="0"/>
                    </a:lnTo>
                    <a:lnTo>
                      <a:pt x="1059" y="0"/>
                    </a:lnTo>
                    <a:close/>
                    <a:moveTo>
                      <a:pt x="1102" y="0"/>
                    </a:moveTo>
                    <a:lnTo>
                      <a:pt x="1102" y="0"/>
                    </a:lnTo>
                    <a:lnTo>
                      <a:pt x="1104" y="0"/>
                    </a:lnTo>
                    <a:lnTo>
                      <a:pt x="1106" y="1"/>
                    </a:lnTo>
                    <a:lnTo>
                      <a:pt x="1109" y="3"/>
                    </a:lnTo>
                    <a:lnTo>
                      <a:pt x="1112" y="5"/>
                    </a:lnTo>
                    <a:lnTo>
                      <a:pt x="1112" y="7"/>
                    </a:lnTo>
                    <a:lnTo>
                      <a:pt x="1112" y="9"/>
                    </a:lnTo>
                    <a:lnTo>
                      <a:pt x="1112" y="11"/>
                    </a:lnTo>
                    <a:lnTo>
                      <a:pt x="1112" y="12"/>
                    </a:lnTo>
                    <a:lnTo>
                      <a:pt x="1109" y="15"/>
                    </a:lnTo>
                    <a:lnTo>
                      <a:pt x="1106" y="16"/>
                    </a:lnTo>
                    <a:lnTo>
                      <a:pt x="1104" y="17"/>
                    </a:lnTo>
                    <a:lnTo>
                      <a:pt x="1102" y="17"/>
                    </a:lnTo>
                    <a:lnTo>
                      <a:pt x="1102" y="17"/>
                    </a:lnTo>
                    <a:lnTo>
                      <a:pt x="1099" y="17"/>
                    </a:lnTo>
                    <a:lnTo>
                      <a:pt x="1097" y="16"/>
                    </a:lnTo>
                    <a:lnTo>
                      <a:pt x="1094" y="15"/>
                    </a:lnTo>
                    <a:lnTo>
                      <a:pt x="1092" y="12"/>
                    </a:lnTo>
                    <a:lnTo>
                      <a:pt x="1092" y="11"/>
                    </a:lnTo>
                    <a:lnTo>
                      <a:pt x="1092" y="9"/>
                    </a:lnTo>
                    <a:lnTo>
                      <a:pt x="1092" y="7"/>
                    </a:lnTo>
                    <a:lnTo>
                      <a:pt x="1092" y="5"/>
                    </a:lnTo>
                    <a:lnTo>
                      <a:pt x="1094" y="3"/>
                    </a:lnTo>
                    <a:lnTo>
                      <a:pt x="1097" y="1"/>
                    </a:lnTo>
                    <a:lnTo>
                      <a:pt x="1099" y="0"/>
                    </a:lnTo>
                    <a:lnTo>
                      <a:pt x="1102" y="0"/>
                    </a:lnTo>
                    <a:lnTo>
                      <a:pt x="1102" y="0"/>
                    </a:lnTo>
                    <a:close/>
                    <a:moveTo>
                      <a:pt x="1133" y="27"/>
                    </a:moveTo>
                    <a:lnTo>
                      <a:pt x="1133" y="27"/>
                    </a:lnTo>
                    <a:lnTo>
                      <a:pt x="1133" y="28"/>
                    </a:lnTo>
                    <a:lnTo>
                      <a:pt x="1131" y="29"/>
                    </a:lnTo>
                    <a:lnTo>
                      <a:pt x="1130" y="32"/>
                    </a:lnTo>
                    <a:lnTo>
                      <a:pt x="1126" y="35"/>
                    </a:lnTo>
                    <a:lnTo>
                      <a:pt x="1125" y="35"/>
                    </a:lnTo>
                    <a:lnTo>
                      <a:pt x="1123" y="35"/>
                    </a:lnTo>
                    <a:lnTo>
                      <a:pt x="1119" y="35"/>
                    </a:lnTo>
                    <a:lnTo>
                      <a:pt x="1118" y="35"/>
                    </a:lnTo>
                    <a:lnTo>
                      <a:pt x="1114" y="32"/>
                    </a:lnTo>
                    <a:lnTo>
                      <a:pt x="1112" y="29"/>
                    </a:lnTo>
                    <a:lnTo>
                      <a:pt x="1111" y="28"/>
                    </a:lnTo>
                    <a:lnTo>
                      <a:pt x="1111" y="27"/>
                    </a:lnTo>
                    <a:lnTo>
                      <a:pt x="1111" y="27"/>
                    </a:lnTo>
                    <a:lnTo>
                      <a:pt x="1111" y="24"/>
                    </a:lnTo>
                    <a:lnTo>
                      <a:pt x="1112" y="23"/>
                    </a:lnTo>
                    <a:lnTo>
                      <a:pt x="1114" y="20"/>
                    </a:lnTo>
                    <a:lnTo>
                      <a:pt x="1118" y="19"/>
                    </a:lnTo>
                    <a:lnTo>
                      <a:pt x="1119" y="19"/>
                    </a:lnTo>
                    <a:lnTo>
                      <a:pt x="1123" y="19"/>
                    </a:lnTo>
                    <a:lnTo>
                      <a:pt x="1125" y="19"/>
                    </a:lnTo>
                    <a:lnTo>
                      <a:pt x="1126" y="19"/>
                    </a:lnTo>
                    <a:lnTo>
                      <a:pt x="1130" y="20"/>
                    </a:lnTo>
                    <a:lnTo>
                      <a:pt x="1131" y="23"/>
                    </a:lnTo>
                    <a:lnTo>
                      <a:pt x="1133" y="24"/>
                    </a:lnTo>
                    <a:lnTo>
                      <a:pt x="1133" y="27"/>
                    </a:lnTo>
                    <a:lnTo>
                      <a:pt x="1133" y="27"/>
                    </a:lnTo>
                    <a:close/>
                    <a:moveTo>
                      <a:pt x="1133" y="60"/>
                    </a:moveTo>
                    <a:lnTo>
                      <a:pt x="1133" y="60"/>
                    </a:lnTo>
                    <a:lnTo>
                      <a:pt x="1133" y="61"/>
                    </a:lnTo>
                    <a:lnTo>
                      <a:pt x="1131" y="63"/>
                    </a:lnTo>
                    <a:lnTo>
                      <a:pt x="1130" y="65"/>
                    </a:lnTo>
                    <a:lnTo>
                      <a:pt x="1126" y="68"/>
                    </a:lnTo>
                    <a:lnTo>
                      <a:pt x="1125" y="68"/>
                    </a:lnTo>
                    <a:lnTo>
                      <a:pt x="1123" y="68"/>
                    </a:lnTo>
                    <a:lnTo>
                      <a:pt x="1119" y="68"/>
                    </a:lnTo>
                    <a:lnTo>
                      <a:pt x="1118" y="68"/>
                    </a:lnTo>
                    <a:lnTo>
                      <a:pt x="1114" y="65"/>
                    </a:lnTo>
                    <a:lnTo>
                      <a:pt x="1112" y="63"/>
                    </a:lnTo>
                    <a:lnTo>
                      <a:pt x="1111" y="61"/>
                    </a:lnTo>
                    <a:lnTo>
                      <a:pt x="1111" y="60"/>
                    </a:lnTo>
                    <a:lnTo>
                      <a:pt x="1111" y="60"/>
                    </a:lnTo>
                    <a:lnTo>
                      <a:pt x="1111" y="57"/>
                    </a:lnTo>
                    <a:lnTo>
                      <a:pt x="1112" y="56"/>
                    </a:lnTo>
                    <a:lnTo>
                      <a:pt x="1114" y="53"/>
                    </a:lnTo>
                    <a:lnTo>
                      <a:pt x="1118" y="52"/>
                    </a:lnTo>
                    <a:lnTo>
                      <a:pt x="1119" y="52"/>
                    </a:lnTo>
                    <a:lnTo>
                      <a:pt x="1123" y="52"/>
                    </a:lnTo>
                    <a:lnTo>
                      <a:pt x="1125" y="52"/>
                    </a:lnTo>
                    <a:lnTo>
                      <a:pt x="1126" y="52"/>
                    </a:lnTo>
                    <a:lnTo>
                      <a:pt x="1130" y="53"/>
                    </a:lnTo>
                    <a:lnTo>
                      <a:pt x="1131" y="56"/>
                    </a:lnTo>
                    <a:lnTo>
                      <a:pt x="1133" y="57"/>
                    </a:lnTo>
                    <a:lnTo>
                      <a:pt x="1133" y="60"/>
                    </a:lnTo>
                    <a:lnTo>
                      <a:pt x="1133" y="6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1797120" y="4521240"/>
                <a:ext cx="9000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2008080" y="4589640"/>
                <a:ext cx="206640" cy="80640"/>
              </a:xfrm>
              <a:custGeom>
                <a:avLst/>
                <a:gdLst/>
                <a:ahLst/>
                <a:rect l="l" t="t" r="r" b="b"/>
                <a:pathLst>
                  <a:path w="260" h="102">
                    <a:moveTo>
                      <a:pt x="260" y="0"/>
                    </a:moveTo>
                    <a:lnTo>
                      <a:pt x="0" y="102"/>
                    </a:lnTo>
                    <a:lnTo>
                      <a:pt x="0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2008080" y="4702320"/>
                <a:ext cx="90720" cy="1440"/>
              </a:xfrm>
              <a:custGeom>
                <a:avLst/>
                <a:gdLst/>
                <a:ahLst/>
                <a:rect l="l" t="t" r="r" b="b"/>
                <a:pathLst>
                  <a:path w="114" h="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2008080" y="452268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66" y="6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1930320" y="4575240"/>
                <a:ext cx="130320" cy="81000"/>
              </a:xfrm>
              <a:custGeom>
                <a:avLst/>
                <a:gdLst/>
                <a:ahLst/>
                <a:rect l="l" t="t" r="r" b="b"/>
                <a:pathLst>
                  <a:path w="164" h="102">
                    <a:moveTo>
                      <a:pt x="0" y="102"/>
                    </a:moveTo>
                    <a:lnTo>
                      <a:pt x="164" y="0"/>
                    </a:lnTo>
                    <a:lnTo>
                      <a:pt x="1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1801800" y="4522680"/>
                <a:ext cx="438120" cy="1800"/>
              </a:xfrm>
              <a:custGeom>
                <a:avLst/>
                <a:gdLst/>
                <a:ahLst/>
                <a:rect l="l" t="t" r="r" b="b"/>
                <a:pathLst>
                  <a:path w="553" h="0">
                    <a:moveTo>
                      <a:pt x="0" y="0"/>
                    </a:moveTo>
                    <a:lnTo>
                      <a:pt x="553" y="0"/>
                    </a:lnTo>
                    <a:lnTo>
                      <a:pt x="5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1801800" y="4782960"/>
                <a:ext cx="360360" cy="1800"/>
              </a:xfrm>
              <a:custGeom>
                <a:avLst/>
                <a:gdLst/>
                <a:ahLst/>
                <a:rect l="l" t="t" r="r" b="b"/>
                <a:pathLst>
                  <a:path w="455" h="0">
                    <a:moveTo>
                      <a:pt x="0" y="0"/>
                    </a:moveTo>
                    <a:lnTo>
                      <a:pt x="455" y="0"/>
                    </a:lnTo>
                    <a:lnTo>
                      <a:pt x="4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1854360" y="4552920"/>
                <a:ext cx="1440" cy="19836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0"/>
                    </a:move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1930320" y="4656240"/>
                <a:ext cx="1800" cy="126720"/>
              </a:xfrm>
              <a:custGeom>
                <a:avLst/>
                <a:gdLst/>
                <a:ahLst/>
                <a:rect l="l" t="t" r="r" b="b"/>
                <a:pathLst>
                  <a:path w="0" h="159">
                    <a:moveTo>
                      <a:pt x="0" y="0"/>
                    </a:moveTo>
                    <a:lnTo>
                      <a:pt x="0" y="15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1801800" y="475452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50" h="0">
                    <a:moveTo>
                      <a:pt x="0" y="0"/>
                    </a:move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1801800" y="47545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35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1839960" y="4754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5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1844640" y="475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6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1847880" y="475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1851120" y="475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1852560" y="475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2008080" y="4670280"/>
                <a:ext cx="1800" cy="32040"/>
              </a:xfrm>
              <a:custGeom>
                <a:avLst/>
                <a:gdLst/>
                <a:ahLst/>
                <a:rect l="l" t="t" r="r" b="b"/>
                <a:pathLst>
                  <a:path w="0" h="40">
                    <a:moveTo>
                      <a:pt x="0" y="0"/>
                    </a:move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1801800" y="452268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1801800" y="454968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50" h="0">
                    <a:moveTo>
                      <a:pt x="0" y="0"/>
                    </a:move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1852560" y="4552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1851120" y="4551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184788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184464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1839960" y="45496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2160720" y="472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2160720" y="4718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2" y="4"/>
                    </a:lnTo>
                    <a:lnTo>
                      <a:pt x="4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2157480" y="471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2151000" y="4711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7" y="4"/>
                    </a:lnTo>
                    <a:lnTo>
                      <a:pt x="7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2146320" y="47102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7" y="3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2141640" y="47070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7" y="2"/>
                    </a:lnTo>
                    <a:lnTo>
                      <a:pt x="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752" name=""/>
            <p:cNvGrpSpPr/>
            <p:nvPr/>
          </p:nvGrpSpPr>
          <p:grpSpPr>
            <a:xfrm>
              <a:off x="1797120" y="4521240"/>
              <a:ext cx="2895480" cy="1036440"/>
              <a:chOff x="1797120" y="4521240"/>
              <a:chExt cx="2895480" cy="1036440"/>
            </a:xfrm>
          </p:grpSpPr>
          <p:sp>
            <p:nvSpPr>
              <p:cNvPr id="10753" name=""/>
              <p:cNvSpPr/>
              <p:nvPr/>
            </p:nvSpPr>
            <p:spPr>
              <a:xfrm>
                <a:off x="2131920" y="47052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10" y="3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2124000" y="47037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11" y="3"/>
                    </a:lnTo>
                    <a:lnTo>
                      <a:pt x="1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211608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10" y="1"/>
                    </a:lnTo>
                    <a:lnTo>
                      <a:pt x="1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2106720" y="47023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2098800" y="47023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2622600" y="4552920"/>
                <a:ext cx="1440" cy="19836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0"/>
                    </a:move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2367000" y="47005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235728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234936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2341440" y="47037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2335320" y="470520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2327400" y="47070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2322360" y="4710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2317680" y="471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2314440" y="471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2313000" y="4718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2313000" y="472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2544840" y="4656240"/>
                <a:ext cx="1440" cy="126720"/>
              </a:xfrm>
              <a:custGeom>
                <a:avLst/>
                <a:gdLst/>
                <a:ahLst/>
                <a:rect l="l" t="t" r="r" b="b"/>
                <a:pathLst>
                  <a:path w="0" h="159">
                    <a:moveTo>
                      <a:pt x="0" y="0"/>
                    </a:moveTo>
                    <a:lnTo>
                      <a:pt x="0" y="15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2162160" y="472428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0" h="140">
                    <a:moveTo>
                      <a:pt x="0" y="0"/>
                    </a:move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2162160" y="4835520"/>
                <a:ext cx="7776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2313000" y="472428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0" h="140">
                    <a:moveTo>
                      <a:pt x="0" y="0"/>
                    </a:move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2235240" y="4835520"/>
                <a:ext cx="7776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9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2311560" y="4782960"/>
                <a:ext cx="360360" cy="1800"/>
              </a:xfrm>
              <a:custGeom>
                <a:avLst/>
                <a:gdLst/>
                <a:ahLst/>
                <a:rect l="l" t="t" r="r" b="b"/>
                <a:pathLst>
                  <a:path w="455" h="0">
                    <a:moveTo>
                      <a:pt x="455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2671920" y="47545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35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2633760" y="47545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4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2620800" y="475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2622600" y="4751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2622600" y="475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2625840" y="4754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2630520" y="475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2214720" y="458964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33" h="0">
                    <a:moveTo>
                      <a:pt x="0" y="0"/>
                    </a:moveTo>
                    <a:lnTo>
                      <a:pt x="33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2416320" y="4575240"/>
                <a:ext cx="128520" cy="81000"/>
              </a:xfrm>
              <a:custGeom>
                <a:avLst/>
                <a:gdLst/>
                <a:ahLst/>
                <a:rect l="l" t="t" r="r" b="b"/>
                <a:pathLst>
                  <a:path w="162" h="102">
                    <a:moveTo>
                      <a:pt x="162" y="10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2260440" y="4589640"/>
                <a:ext cx="206640" cy="80640"/>
              </a:xfrm>
              <a:custGeom>
                <a:avLst/>
                <a:gdLst/>
                <a:ahLst/>
                <a:rect l="l" t="t" r="r" b="b"/>
                <a:pathLst>
                  <a:path w="260" h="102">
                    <a:moveTo>
                      <a:pt x="0" y="0"/>
                    </a:moveTo>
                    <a:lnTo>
                      <a:pt x="260" y="102"/>
                    </a:lnTo>
                    <a:lnTo>
                      <a:pt x="260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2376360" y="4702320"/>
                <a:ext cx="90720" cy="1440"/>
              </a:xfrm>
              <a:custGeom>
                <a:avLst/>
                <a:gdLst/>
                <a:ahLst/>
                <a:rect l="l" t="t" r="r" b="b"/>
                <a:pathLst>
                  <a:path w="116" h="0">
                    <a:moveTo>
                      <a:pt x="116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2467080" y="4670280"/>
                <a:ext cx="1440" cy="32040"/>
              </a:xfrm>
              <a:custGeom>
                <a:avLst/>
                <a:gdLst/>
                <a:ahLst/>
                <a:rect l="l" t="t" r="r" b="b"/>
                <a:pathLst>
                  <a:path w="0" h="40">
                    <a:moveTo>
                      <a:pt x="0" y="0"/>
                    </a:move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2235240" y="4522680"/>
                <a:ext cx="436680" cy="1800"/>
              </a:xfrm>
              <a:custGeom>
                <a:avLst/>
                <a:gdLst/>
                <a:ahLst/>
                <a:rect l="l" t="t" r="r" b="b"/>
                <a:pathLst>
                  <a:path w="551" h="0">
                    <a:moveTo>
                      <a:pt x="551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9" name=""/>
              <p:cNvSpPr/>
              <p:nvPr/>
            </p:nvSpPr>
            <p:spPr>
              <a:xfrm>
                <a:off x="2235240" y="458964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33" h="0">
                    <a:moveTo>
                      <a:pt x="33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0" name=""/>
              <p:cNvSpPr/>
              <p:nvPr/>
            </p:nvSpPr>
            <p:spPr>
              <a:xfrm>
                <a:off x="2416320" y="452268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0" y="67"/>
                    </a:moveTo>
                    <a:lnTo>
                      <a:pt x="66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2671920" y="452268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2633760" y="45496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4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263052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2625840" y="4549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262404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2622600" y="4551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2622600" y="4552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1797120" y="4521240"/>
                <a:ext cx="9000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4095720" y="51084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4098960" y="510840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4105440" y="51069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4108320" y="510696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4114800" y="5106960"/>
                <a:ext cx="255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4116240" y="5106960"/>
                <a:ext cx="288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4121280" y="51069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4125960" y="51069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4130640" y="510696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4137120" y="51069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4140360" y="51069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4145040" y="51069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4151160" y="5106960"/>
                <a:ext cx="2412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4152960" y="51069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4156200" y="510696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4164120" y="510696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4165560" y="510696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4173480" y="51069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4175280" y="510552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4179960" y="510552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4186080" y="51055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4187880" y="51055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4195800" y="510552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4200480" y="510552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4202280" y="5105520"/>
                <a:ext cx="2988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420840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4213080" y="5103720"/>
                <a:ext cx="2880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421812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4222800" y="5103720"/>
                <a:ext cx="23760" cy="4510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4222800" y="5103720"/>
                <a:ext cx="31680" cy="4510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423216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4235400" y="5103720"/>
                <a:ext cx="25560" cy="4510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4237200" y="5103720"/>
                <a:ext cx="29880" cy="4510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4243320" y="510372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4248000" y="510372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4253040" y="510372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4257720" y="51037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4259160" y="51037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4267080" y="51037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4270320" y="510372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7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4276800" y="51037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428004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4282920" y="510228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428940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4292640" y="510228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4299120" y="5102280"/>
                <a:ext cx="266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430200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4305240" y="510228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431172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4314960" y="5100480"/>
                <a:ext cx="2844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432108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432432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4329000" y="5100480"/>
                <a:ext cx="2880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433404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4338720" y="5100480"/>
                <a:ext cx="25200" cy="4510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4341960" y="5100480"/>
                <a:ext cx="28440" cy="4510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4348080" y="510048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4351320" y="510048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435600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4361040" y="5100480"/>
                <a:ext cx="2664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4363920" y="510048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437040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4373640" y="510048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437976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4381560" y="509904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4384800" y="509904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4392720" y="509904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4394160" y="509904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4402080" y="509904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4403880" y="509904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4408560" y="509904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4414680" y="5099040"/>
                <a:ext cx="2412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4416480" y="509760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4424400" y="509760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4429080" y="5097600"/>
                <a:ext cx="237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4429080" y="509760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4438800" y="5097600"/>
                <a:ext cx="237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4438800" y="509760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4443480" y="509760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4449600" y="509760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4451400" y="509760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4459320" y="509760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4464000" y="509760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4465800" y="5097600"/>
                <a:ext cx="2988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4471920" y="50976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4476600" y="50976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4481640" y="50976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4486320" y="509580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4487760" y="509580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449568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4498920" y="50958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4505400" y="509580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450864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4511520" y="50958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451800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452124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452592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453060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453564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454032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454356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454824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455292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4557600" y="509436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456264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456732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4570560" y="50943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4576680" y="50943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4578480" y="50943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458460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458784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4592520" y="509256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459756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4602240" y="509256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4608360" y="50925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4611600" y="50925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461484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4619520" y="50925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4624560" y="5091120"/>
                <a:ext cx="2664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4627440" y="5091120"/>
                <a:ext cx="2880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4633920" y="509112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4637160" y="509112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4645080" y="50911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3" h="565">
                    <a:moveTo>
                      <a:pt x="0" y="0"/>
                    </a:moveTo>
                    <a:lnTo>
                      <a:pt x="30" y="565"/>
                    </a:lnTo>
                    <a:lnTo>
                      <a:pt x="33" y="565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4646520" y="509112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2" h="565">
                    <a:moveTo>
                      <a:pt x="0" y="0"/>
                    </a:moveTo>
                    <a:lnTo>
                      <a:pt x="29" y="565"/>
                    </a:lnTo>
                    <a:lnTo>
                      <a:pt x="32" y="565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4649760" y="509112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4657680" y="50911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5">
                    <a:moveTo>
                      <a:pt x="0" y="0"/>
                    </a:moveTo>
                    <a:lnTo>
                      <a:pt x="30" y="565"/>
                    </a:lnTo>
                    <a:lnTo>
                      <a:pt x="31" y="565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4659480" y="50911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4667400" y="5091120"/>
                <a:ext cx="25200" cy="447840"/>
              </a:xfrm>
              <a:custGeom>
                <a:avLst/>
                <a:gdLst/>
                <a:ahLst/>
                <a:rect l="l" t="t" r="r" b="b"/>
                <a:pathLst>
                  <a:path w="31" h="566">
                    <a:moveTo>
                      <a:pt x="0" y="0"/>
                    </a:moveTo>
                    <a:lnTo>
                      <a:pt x="29" y="566"/>
                    </a:lnTo>
                    <a:lnTo>
                      <a:pt x="31" y="566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4105440" y="5095800"/>
                <a:ext cx="574560" cy="455760"/>
              </a:xfrm>
              <a:custGeom>
                <a:avLst/>
                <a:gdLst/>
                <a:ahLst/>
                <a:rect l="l" t="t" r="r" b="b"/>
                <a:pathLst>
                  <a:path w="723" h="575">
                    <a:moveTo>
                      <a:pt x="163" y="11"/>
                    </a:moveTo>
                    <a:lnTo>
                      <a:pt x="0" y="295"/>
                    </a:lnTo>
                    <a:lnTo>
                      <a:pt x="193" y="575"/>
                    </a:lnTo>
                    <a:lnTo>
                      <a:pt x="558" y="563"/>
                    </a:lnTo>
                    <a:lnTo>
                      <a:pt x="723" y="274"/>
                    </a:lnTo>
                    <a:lnTo>
                      <a:pt x="528" y="0"/>
                    </a:lnTo>
                    <a:lnTo>
                      <a:pt x="163" y="11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4106880" y="5197320"/>
                <a:ext cx="4680" cy="25560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4111560" y="5197320"/>
                <a:ext cx="4680" cy="25560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4116240" y="5197320"/>
                <a:ext cx="5040" cy="25560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4121280" y="5197320"/>
                <a:ext cx="6120" cy="2556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4127400" y="5197320"/>
                <a:ext cx="1800" cy="25560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4129200" y="5197320"/>
                <a:ext cx="4680" cy="25560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4133880" y="5197320"/>
                <a:ext cx="4680" cy="25560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4138560" y="5197320"/>
                <a:ext cx="4680" cy="25560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4143240" y="5197320"/>
                <a:ext cx="3240" cy="25560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4146480" y="5197320"/>
                <a:ext cx="6480" cy="25560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4152960" y="5197320"/>
                <a:ext cx="3240" cy="25560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>
                <a:off x="4156200" y="5197320"/>
                <a:ext cx="7920" cy="25560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4164120" y="5197320"/>
                <a:ext cx="1440" cy="25560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4165560" y="5197320"/>
                <a:ext cx="3240" cy="25560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4168800" y="5197320"/>
                <a:ext cx="7920" cy="25560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>
                <a:off x="4176720" y="5197320"/>
                <a:ext cx="1440" cy="25560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4178160" y="5197320"/>
                <a:ext cx="7920" cy="25560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>
                <a:off x="4186080" y="5197320"/>
                <a:ext cx="1800" cy="25560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>
                <a:off x="4187880" y="5197320"/>
                <a:ext cx="4680" cy="25560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4192560" y="5197320"/>
                <a:ext cx="6480" cy="25560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>
                <a:off x="4199040" y="5197320"/>
                <a:ext cx="3240" cy="25560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4202280" y="5197320"/>
                <a:ext cx="1440" cy="25560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4203720" y="5197320"/>
                <a:ext cx="9360" cy="25560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4213080" y="5197320"/>
                <a:ext cx="1800" cy="25560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4213080" y="5197320"/>
                <a:ext cx="9720" cy="2556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953" name=""/>
            <p:cNvGrpSpPr/>
            <p:nvPr/>
          </p:nvGrpSpPr>
          <p:grpSpPr>
            <a:xfrm>
              <a:off x="250920" y="1312920"/>
              <a:ext cx="6414840" cy="4468680"/>
              <a:chOff x="250920" y="1312920"/>
              <a:chExt cx="6414840" cy="4468680"/>
            </a:xfrm>
          </p:grpSpPr>
          <p:sp>
            <p:nvSpPr>
              <p:cNvPr id="10954" name=""/>
              <p:cNvSpPr/>
              <p:nvPr/>
            </p:nvSpPr>
            <p:spPr>
              <a:xfrm>
                <a:off x="4222800" y="5197320"/>
                <a:ext cx="1440" cy="25560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4224240" y="5197320"/>
                <a:ext cx="3240" cy="25560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4227480" y="5197320"/>
                <a:ext cx="6480" cy="25560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>
                <a:off x="4233960" y="5197320"/>
                <a:ext cx="3240" cy="25560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4237200" y="5197320"/>
                <a:ext cx="2880" cy="25560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4240080" y="5197320"/>
                <a:ext cx="7920" cy="25560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4248000" y="5197320"/>
                <a:ext cx="1800" cy="25560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4249800" y="5197320"/>
                <a:ext cx="7920" cy="25560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4257720" y="5197320"/>
                <a:ext cx="3240" cy="25560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4260960" y="5197320"/>
                <a:ext cx="1440" cy="25560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4262400" y="5197320"/>
                <a:ext cx="7920" cy="25560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4270320" y="5197320"/>
                <a:ext cx="1800" cy="25560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>
                <a:off x="4272120" y="5197320"/>
                <a:ext cx="7920" cy="25560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4280040" y="5197320"/>
                <a:ext cx="2880" cy="25560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4282920" y="5197320"/>
                <a:ext cx="1800" cy="25560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4284720" y="5197320"/>
                <a:ext cx="7920" cy="25560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4292640" y="5197320"/>
                <a:ext cx="4680" cy="25560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4297320" y="5197320"/>
                <a:ext cx="1800" cy="25560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>
                <a:off x="4299120" y="5197320"/>
                <a:ext cx="6120" cy="25560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4305240" y="5197320"/>
                <a:ext cx="4680" cy="25560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4309920" y="5197320"/>
                <a:ext cx="5040" cy="25560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4314960" y="5197320"/>
                <a:ext cx="4680" cy="25560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4319640" y="5197320"/>
                <a:ext cx="1440" cy="25560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4321080" y="5197320"/>
                <a:ext cx="7920" cy="25560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4329000" y="5197320"/>
                <a:ext cx="3240" cy="25560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4332240" y="5197320"/>
                <a:ext cx="6480" cy="25560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4338720" y="5197320"/>
                <a:ext cx="3240" cy="25560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4341960" y="5197320"/>
                <a:ext cx="2880" cy="25560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2" name=""/>
              <p:cNvSpPr/>
              <p:nvPr/>
            </p:nvSpPr>
            <p:spPr>
              <a:xfrm>
                <a:off x="4344840" y="5197320"/>
                <a:ext cx="6480" cy="25560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4351320" y="5197320"/>
                <a:ext cx="324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4354560" y="5197320"/>
                <a:ext cx="468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4359240" y="5197320"/>
                <a:ext cx="4680" cy="25560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4363920" y="5197320"/>
                <a:ext cx="5040" cy="25560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4368960" y="5197320"/>
                <a:ext cx="4680" cy="25560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437364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4376880" y="5197320"/>
                <a:ext cx="288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0" name=""/>
              <p:cNvSpPr/>
              <p:nvPr/>
            </p:nvSpPr>
            <p:spPr>
              <a:xfrm>
                <a:off x="4379760" y="5197320"/>
                <a:ext cx="6480" cy="25560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1" name=""/>
              <p:cNvSpPr/>
              <p:nvPr/>
            </p:nvSpPr>
            <p:spPr>
              <a:xfrm>
                <a:off x="4386240" y="5197320"/>
                <a:ext cx="468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4390920" y="5197320"/>
                <a:ext cx="324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3" name=""/>
              <p:cNvSpPr/>
              <p:nvPr/>
            </p:nvSpPr>
            <p:spPr>
              <a:xfrm>
                <a:off x="4394160" y="5197320"/>
                <a:ext cx="648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4" name=""/>
              <p:cNvSpPr/>
              <p:nvPr/>
            </p:nvSpPr>
            <p:spPr>
              <a:xfrm>
                <a:off x="4400640" y="5197320"/>
                <a:ext cx="324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4403880" y="5197320"/>
                <a:ext cx="6120" cy="25560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441000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441324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>
                <a:off x="4416480" y="5197320"/>
                <a:ext cx="4680" cy="25560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>
                <a:off x="4421160" y="5197320"/>
                <a:ext cx="4680" cy="25560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4425840" y="5197320"/>
                <a:ext cx="5040" cy="25560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4430880" y="5197320"/>
                <a:ext cx="468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4435560" y="5197320"/>
                <a:ext cx="324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4438800" y="5197320"/>
                <a:ext cx="6120" cy="25560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4444920" y="5197320"/>
                <a:ext cx="4680" cy="25560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4449600" y="5197320"/>
                <a:ext cx="1800" cy="25560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4451400" y="5197320"/>
                <a:ext cx="6480" cy="25560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4457880" y="5197320"/>
                <a:ext cx="2880" cy="25560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4460760" y="5197320"/>
                <a:ext cx="6480" cy="25560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4467240" y="5197320"/>
                <a:ext cx="3240" cy="25560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4470480" y="5197320"/>
                <a:ext cx="4680" cy="25560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4475160" y="5197320"/>
                <a:ext cx="4680" cy="25560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4479840" y="5197320"/>
                <a:ext cx="4680" cy="25560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>
                <a:off x="4484520" y="5197320"/>
                <a:ext cx="6480" cy="25560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4491000" y="5197320"/>
                <a:ext cx="1800" cy="25560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4492800" y="5197320"/>
                <a:ext cx="4680" cy="25560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4497480" y="5197320"/>
                <a:ext cx="4680" cy="25560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4502160" y="5197320"/>
                <a:ext cx="4680" cy="25560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>
                <a:off x="4506840" y="5197320"/>
                <a:ext cx="3240" cy="25560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>
                <a:off x="4510080" y="5197320"/>
                <a:ext cx="6480" cy="25560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>
                <a:off x="4516560" y="5197320"/>
                <a:ext cx="2880" cy="25560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>
                <a:off x="4519440" y="5197320"/>
                <a:ext cx="8280" cy="25560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2" name=""/>
              <p:cNvSpPr/>
              <p:nvPr/>
            </p:nvSpPr>
            <p:spPr>
              <a:xfrm>
                <a:off x="4527720" y="5197320"/>
                <a:ext cx="1440" cy="25560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>
                <a:off x="4529160" y="5197320"/>
                <a:ext cx="3240" cy="25560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4532400" y="5197320"/>
                <a:ext cx="7920" cy="25560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4540320" y="5197320"/>
                <a:ext cx="1440" cy="25560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4541760" y="5197320"/>
                <a:ext cx="7920" cy="25560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4549680" y="5197320"/>
                <a:ext cx="1800" cy="25560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4551480" y="5197320"/>
                <a:ext cx="4680" cy="25560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>
                <a:off x="4556160" y="5197320"/>
                <a:ext cx="6480" cy="25560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4562640" y="5197320"/>
                <a:ext cx="2880" cy="25560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4565520" y="5197320"/>
                <a:ext cx="1800" cy="25560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4567320" y="5197320"/>
                <a:ext cx="9360" cy="2556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4576680" y="5197320"/>
                <a:ext cx="1800" cy="25560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4576680" y="5197320"/>
                <a:ext cx="9720" cy="25560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4586400" y="5197320"/>
                <a:ext cx="1440" cy="25560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4587840" y="5197320"/>
                <a:ext cx="3240" cy="25560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4591080" y="5197320"/>
                <a:ext cx="6480" cy="25560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4597560" y="5197320"/>
                <a:ext cx="2880" cy="25560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4600440" y="5197320"/>
                <a:ext cx="3240" cy="25560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4603680" y="5197320"/>
                <a:ext cx="7920" cy="25560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4611600" y="5197320"/>
                <a:ext cx="1800" cy="25560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4613400" y="5197320"/>
                <a:ext cx="7920" cy="25560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4621320" y="5197320"/>
                <a:ext cx="3240" cy="25560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4624560" y="5197320"/>
                <a:ext cx="1440" cy="25560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4626000" y="5197320"/>
                <a:ext cx="7920" cy="25560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4633920" y="5197320"/>
                <a:ext cx="1440" cy="25560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4635360" y="5197320"/>
                <a:ext cx="7920" cy="25560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4643280" y="5197320"/>
                <a:ext cx="3240" cy="25560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4646520" y="5197320"/>
                <a:ext cx="1800" cy="25560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4648320" y="5197320"/>
                <a:ext cx="7920" cy="25560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4656240" y="5197320"/>
                <a:ext cx="4680" cy="25560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4660920" y="5197320"/>
                <a:ext cx="1440" cy="25560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4662360" y="5197320"/>
                <a:ext cx="6480" cy="2556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4668840" y="5197320"/>
                <a:ext cx="4680" cy="25560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4673520" y="5197320"/>
                <a:ext cx="4680" cy="25560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4678200" y="5197320"/>
                <a:ext cx="5040" cy="25560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4106880" y="5197320"/>
                <a:ext cx="576360" cy="255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86320" y="4308480"/>
                <a:ext cx="1149480" cy="84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86320" y="4308480"/>
                <a:ext cx="114948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0" name=""/>
              <p:cNvSpPr/>
              <p:nvPr/>
            </p:nvSpPr>
            <p:spPr>
              <a:xfrm>
                <a:off x="4230720" y="1614600"/>
                <a:ext cx="141120" cy="10296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60" y="6"/>
                    </a:moveTo>
                    <a:lnTo>
                      <a:pt x="68" y="3"/>
                    </a:lnTo>
                    <a:lnTo>
                      <a:pt x="77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103" y="0"/>
                    </a:lnTo>
                    <a:lnTo>
                      <a:pt x="111" y="2"/>
                    </a:lnTo>
                    <a:lnTo>
                      <a:pt x="120" y="3"/>
                    </a:lnTo>
                    <a:lnTo>
                      <a:pt x="129" y="6"/>
                    </a:lnTo>
                    <a:lnTo>
                      <a:pt x="136" y="8"/>
                    </a:lnTo>
                    <a:lnTo>
                      <a:pt x="142" y="11"/>
                    </a:lnTo>
                    <a:lnTo>
                      <a:pt x="149" y="15"/>
                    </a:lnTo>
                    <a:lnTo>
                      <a:pt x="156" y="19"/>
                    </a:lnTo>
                    <a:lnTo>
                      <a:pt x="161" y="24"/>
                    </a:lnTo>
                    <a:lnTo>
                      <a:pt x="167" y="30"/>
                    </a:lnTo>
                    <a:lnTo>
                      <a:pt x="170" y="35"/>
                    </a:lnTo>
                    <a:lnTo>
                      <a:pt x="173" y="42"/>
                    </a:lnTo>
                    <a:lnTo>
                      <a:pt x="177" y="47"/>
                    </a:lnTo>
                    <a:lnTo>
                      <a:pt x="179" y="54"/>
                    </a:lnTo>
                    <a:lnTo>
                      <a:pt x="179" y="61"/>
                    </a:lnTo>
                    <a:lnTo>
                      <a:pt x="179" y="67"/>
                    </a:lnTo>
                    <a:lnTo>
                      <a:pt x="177" y="74"/>
                    </a:lnTo>
                    <a:lnTo>
                      <a:pt x="175" y="79"/>
                    </a:lnTo>
                    <a:lnTo>
                      <a:pt x="173" y="86"/>
                    </a:lnTo>
                    <a:lnTo>
                      <a:pt x="170" y="91"/>
                    </a:lnTo>
                    <a:lnTo>
                      <a:pt x="167" y="97"/>
                    </a:lnTo>
                    <a:lnTo>
                      <a:pt x="161" y="102"/>
                    </a:lnTo>
                    <a:lnTo>
                      <a:pt x="156" y="107"/>
                    </a:lnTo>
                    <a:lnTo>
                      <a:pt x="149" y="113"/>
                    </a:lnTo>
                    <a:lnTo>
                      <a:pt x="142" y="117"/>
                    </a:lnTo>
                    <a:lnTo>
                      <a:pt x="136" y="121"/>
                    </a:lnTo>
                    <a:lnTo>
                      <a:pt x="127" y="123"/>
                    </a:lnTo>
                    <a:lnTo>
                      <a:pt x="118" y="127"/>
                    </a:lnTo>
                    <a:lnTo>
                      <a:pt x="110" y="129"/>
                    </a:lnTo>
                    <a:lnTo>
                      <a:pt x="101" y="130"/>
                    </a:lnTo>
                    <a:lnTo>
                      <a:pt x="93" y="131"/>
                    </a:lnTo>
                    <a:lnTo>
                      <a:pt x="84" y="131"/>
                    </a:lnTo>
                    <a:lnTo>
                      <a:pt x="75" y="131"/>
                    </a:lnTo>
                    <a:lnTo>
                      <a:pt x="67" y="130"/>
                    </a:lnTo>
                    <a:lnTo>
                      <a:pt x="58" y="129"/>
                    </a:lnTo>
                    <a:lnTo>
                      <a:pt x="50" y="126"/>
                    </a:lnTo>
                    <a:lnTo>
                      <a:pt x="43" y="123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2" y="113"/>
                    </a:lnTo>
                    <a:lnTo>
                      <a:pt x="17" y="107"/>
                    </a:lnTo>
                    <a:lnTo>
                      <a:pt x="12" y="102"/>
                    </a:lnTo>
                    <a:lnTo>
                      <a:pt x="8" y="97"/>
                    </a:lnTo>
                    <a:lnTo>
                      <a:pt x="5" y="91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1" y="59"/>
                    </a:lnTo>
                    <a:lnTo>
                      <a:pt x="3" y="53"/>
                    </a:lnTo>
                    <a:lnTo>
                      <a:pt x="5" y="46"/>
                    </a:lnTo>
                    <a:lnTo>
                      <a:pt x="8" y="41"/>
                    </a:lnTo>
                    <a:lnTo>
                      <a:pt x="13" y="35"/>
                    </a:lnTo>
                    <a:lnTo>
                      <a:pt x="17" y="30"/>
                    </a:lnTo>
                    <a:lnTo>
                      <a:pt x="24" y="24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3" y="11"/>
                    </a:lnTo>
                    <a:lnTo>
                      <a:pt x="51" y="8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4230720" y="1614600"/>
                <a:ext cx="141120" cy="10296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60" y="6"/>
                    </a:moveTo>
                    <a:lnTo>
                      <a:pt x="68" y="3"/>
                    </a:lnTo>
                    <a:lnTo>
                      <a:pt x="77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103" y="0"/>
                    </a:lnTo>
                    <a:lnTo>
                      <a:pt x="111" y="2"/>
                    </a:lnTo>
                    <a:lnTo>
                      <a:pt x="120" y="3"/>
                    </a:lnTo>
                    <a:lnTo>
                      <a:pt x="129" y="6"/>
                    </a:lnTo>
                    <a:lnTo>
                      <a:pt x="136" y="8"/>
                    </a:lnTo>
                    <a:lnTo>
                      <a:pt x="142" y="11"/>
                    </a:lnTo>
                    <a:lnTo>
                      <a:pt x="149" y="15"/>
                    </a:lnTo>
                    <a:lnTo>
                      <a:pt x="156" y="19"/>
                    </a:lnTo>
                    <a:lnTo>
                      <a:pt x="161" y="24"/>
                    </a:lnTo>
                    <a:lnTo>
                      <a:pt x="167" y="30"/>
                    </a:lnTo>
                    <a:lnTo>
                      <a:pt x="170" y="35"/>
                    </a:lnTo>
                    <a:lnTo>
                      <a:pt x="173" y="42"/>
                    </a:lnTo>
                    <a:lnTo>
                      <a:pt x="177" y="47"/>
                    </a:lnTo>
                    <a:lnTo>
                      <a:pt x="179" y="54"/>
                    </a:lnTo>
                    <a:lnTo>
                      <a:pt x="179" y="61"/>
                    </a:lnTo>
                    <a:lnTo>
                      <a:pt x="179" y="67"/>
                    </a:lnTo>
                    <a:lnTo>
                      <a:pt x="177" y="74"/>
                    </a:lnTo>
                    <a:lnTo>
                      <a:pt x="175" y="79"/>
                    </a:lnTo>
                    <a:lnTo>
                      <a:pt x="173" y="86"/>
                    </a:lnTo>
                    <a:lnTo>
                      <a:pt x="170" y="91"/>
                    </a:lnTo>
                    <a:lnTo>
                      <a:pt x="167" y="97"/>
                    </a:lnTo>
                    <a:lnTo>
                      <a:pt x="161" y="102"/>
                    </a:lnTo>
                    <a:lnTo>
                      <a:pt x="156" y="107"/>
                    </a:lnTo>
                    <a:lnTo>
                      <a:pt x="149" y="113"/>
                    </a:lnTo>
                    <a:lnTo>
                      <a:pt x="142" y="117"/>
                    </a:lnTo>
                    <a:lnTo>
                      <a:pt x="136" y="121"/>
                    </a:lnTo>
                    <a:lnTo>
                      <a:pt x="127" y="123"/>
                    </a:lnTo>
                    <a:lnTo>
                      <a:pt x="118" y="127"/>
                    </a:lnTo>
                    <a:lnTo>
                      <a:pt x="110" y="129"/>
                    </a:lnTo>
                    <a:lnTo>
                      <a:pt x="101" y="130"/>
                    </a:lnTo>
                    <a:lnTo>
                      <a:pt x="93" y="131"/>
                    </a:lnTo>
                    <a:lnTo>
                      <a:pt x="84" y="131"/>
                    </a:lnTo>
                    <a:lnTo>
                      <a:pt x="75" y="131"/>
                    </a:lnTo>
                    <a:lnTo>
                      <a:pt x="67" y="130"/>
                    </a:lnTo>
                    <a:lnTo>
                      <a:pt x="58" y="129"/>
                    </a:lnTo>
                    <a:lnTo>
                      <a:pt x="50" y="126"/>
                    </a:lnTo>
                    <a:lnTo>
                      <a:pt x="43" y="123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2" y="113"/>
                    </a:lnTo>
                    <a:lnTo>
                      <a:pt x="17" y="107"/>
                    </a:lnTo>
                    <a:lnTo>
                      <a:pt x="12" y="102"/>
                    </a:lnTo>
                    <a:lnTo>
                      <a:pt x="8" y="97"/>
                    </a:lnTo>
                    <a:lnTo>
                      <a:pt x="5" y="91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1" y="59"/>
                    </a:lnTo>
                    <a:lnTo>
                      <a:pt x="3" y="53"/>
                    </a:lnTo>
                    <a:lnTo>
                      <a:pt x="5" y="46"/>
                    </a:lnTo>
                    <a:lnTo>
                      <a:pt x="8" y="41"/>
                    </a:lnTo>
                    <a:lnTo>
                      <a:pt x="13" y="35"/>
                    </a:lnTo>
                    <a:lnTo>
                      <a:pt x="17" y="30"/>
                    </a:lnTo>
                    <a:lnTo>
                      <a:pt x="24" y="24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3" y="11"/>
                    </a:lnTo>
                    <a:lnTo>
                      <a:pt x="51" y="8"/>
                    </a:lnTo>
                    <a:lnTo>
                      <a:pt x="60" y="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 flipH="1">
                <a:off x="2092320" y="1619280"/>
                <a:ext cx="2206800" cy="641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2023920" y="2254320"/>
                <a:ext cx="147960" cy="100080"/>
              </a:xfrm>
              <a:custGeom>
                <a:avLst/>
                <a:gdLst/>
                <a:ahLst/>
                <a:rect l="l" t="t" r="r" b="b"/>
                <a:pathLst>
                  <a:path w="188" h="125">
                    <a:moveTo>
                      <a:pt x="67" y="5"/>
                    </a:moveTo>
                    <a:lnTo>
                      <a:pt x="76" y="4"/>
                    </a:lnTo>
                    <a:lnTo>
                      <a:pt x="84" y="1"/>
                    </a:lnTo>
                    <a:lnTo>
                      <a:pt x="95" y="1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22" y="1"/>
                    </a:lnTo>
                    <a:lnTo>
                      <a:pt x="131" y="2"/>
                    </a:lnTo>
                    <a:lnTo>
                      <a:pt x="138" y="4"/>
                    </a:lnTo>
                    <a:lnTo>
                      <a:pt x="146" y="6"/>
                    </a:lnTo>
                    <a:lnTo>
                      <a:pt x="153" y="9"/>
                    </a:lnTo>
                    <a:lnTo>
                      <a:pt x="160" y="12"/>
                    </a:lnTo>
                    <a:lnTo>
                      <a:pt x="167" y="16"/>
                    </a:lnTo>
                    <a:lnTo>
                      <a:pt x="172" y="21"/>
                    </a:lnTo>
                    <a:lnTo>
                      <a:pt x="177" y="25"/>
                    </a:lnTo>
                    <a:lnTo>
                      <a:pt x="181" y="30"/>
                    </a:lnTo>
                    <a:lnTo>
                      <a:pt x="184" y="36"/>
                    </a:lnTo>
                    <a:lnTo>
                      <a:pt x="186" y="42"/>
                    </a:lnTo>
                    <a:lnTo>
                      <a:pt x="188" y="48"/>
                    </a:lnTo>
                    <a:lnTo>
                      <a:pt x="188" y="54"/>
                    </a:lnTo>
                    <a:lnTo>
                      <a:pt x="188" y="61"/>
                    </a:lnTo>
                    <a:lnTo>
                      <a:pt x="186" y="66"/>
                    </a:lnTo>
                    <a:lnTo>
                      <a:pt x="184" y="73"/>
                    </a:lnTo>
                    <a:lnTo>
                      <a:pt x="181" y="79"/>
                    </a:lnTo>
                    <a:lnTo>
                      <a:pt x="177" y="84"/>
                    </a:lnTo>
                    <a:lnTo>
                      <a:pt x="172" y="89"/>
                    </a:lnTo>
                    <a:lnTo>
                      <a:pt x="167" y="95"/>
                    </a:lnTo>
                    <a:lnTo>
                      <a:pt x="162" y="100"/>
                    </a:lnTo>
                    <a:lnTo>
                      <a:pt x="155" y="105"/>
                    </a:lnTo>
                    <a:lnTo>
                      <a:pt x="146" y="109"/>
                    </a:lnTo>
                    <a:lnTo>
                      <a:pt x="139" y="113"/>
                    </a:lnTo>
                    <a:lnTo>
                      <a:pt x="131" y="116"/>
                    </a:lnTo>
                    <a:lnTo>
                      <a:pt x="122" y="120"/>
                    </a:lnTo>
                    <a:lnTo>
                      <a:pt x="112" y="121"/>
                    </a:lnTo>
                    <a:lnTo>
                      <a:pt x="103" y="124"/>
                    </a:lnTo>
                    <a:lnTo>
                      <a:pt x="93" y="125"/>
                    </a:lnTo>
                    <a:lnTo>
                      <a:pt x="84" y="125"/>
                    </a:lnTo>
                    <a:lnTo>
                      <a:pt x="76" y="125"/>
                    </a:lnTo>
                    <a:lnTo>
                      <a:pt x="67" y="124"/>
                    </a:lnTo>
                    <a:lnTo>
                      <a:pt x="59" y="123"/>
                    </a:lnTo>
                    <a:lnTo>
                      <a:pt x="50" y="121"/>
                    </a:lnTo>
                    <a:lnTo>
                      <a:pt x="41" y="119"/>
                    </a:lnTo>
                    <a:lnTo>
                      <a:pt x="34" y="116"/>
                    </a:lnTo>
                    <a:lnTo>
                      <a:pt x="28" y="113"/>
                    </a:lnTo>
                    <a:lnTo>
                      <a:pt x="21" y="109"/>
                    </a:lnTo>
                    <a:lnTo>
                      <a:pt x="16" y="105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3" y="89"/>
                    </a:lnTo>
                    <a:lnTo>
                      <a:pt x="2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58"/>
                    </a:lnTo>
                    <a:lnTo>
                      <a:pt x="3" y="53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6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3" y="20"/>
                    </a:lnTo>
                    <a:lnTo>
                      <a:pt x="41" y="16"/>
                    </a:lnTo>
                    <a:lnTo>
                      <a:pt x="48" y="12"/>
                    </a:lnTo>
                    <a:lnTo>
                      <a:pt x="57" y="9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2023920" y="2254320"/>
                <a:ext cx="147960" cy="100080"/>
              </a:xfrm>
              <a:custGeom>
                <a:avLst/>
                <a:gdLst/>
                <a:ahLst/>
                <a:rect l="l" t="t" r="r" b="b"/>
                <a:pathLst>
                  <a:path w="188" h="125">
                    <a:moveTo>
                      <a:pt x="67" y="5"/>
                    </a:moveTo>
                    <a:lnTo>
                      <a:pt x="76" y="4"/>
                    </a:lnTo>
                    <a:lnTo>
                      <a:pt x="84" y="1"/>
                    </a:lnTo>
                    <a:lnTo>
                      <a:pt x="95" y="1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22" y="1"/>
                    </a:lnTo>
                    <a:lnTo>
                      <a:pt x="131" y="2"/>
                    </a:lnTo>
                    <a:lnTo>
                      <a:pt x="138" y="4"/>
                    </a:lnTo>
                    <a:lnTo>
                      <a:pt x="146" y="6"/>
                    </a:lnTo>
                    <a:lnTo>
                      <a:pt x="153" y="9"/>
                    </a:lnTo>
                    <a:lnTo>
                      <a:pt x="160" y="12"/>
                    </a:lnTo>
                    <a:lnTo>
                      <a:pt x="167" y="16"/>
                    </a:lnTo>
                    <a:lnTo>
                      <a:pt x="172" y="21"/>
                    </a:lnTo>
                    <a:lnTo>
                      <a:pt x="177" y="25"/>
                    </a:lnTo>
                    <a:lnTo>
                      <a:pt x="181" y="30"/>
                    </a:lnTo>
                    <a:lnTo>
                      <a:pt x="184" y="36"/>
                    </a:lnTo>
                    <a:lnTo>
                      <a:pt x="186" y="42"/>
                    </a:lnTo>
                    <a:lnTo>
                      <a:pt x="188" y="48"/>
                    </a:lnTo>
                    <a:lnTo>
                      <a:pt x="188" y="54"/>
                    </a:lnTo>
                    <a:lnTo>
                      <a:pt x="188" y="61"/>
                    </a:lnTo>
                    <a:lnTo>
                      <a:pt x="186" y="66"/>
                    </a:lnTo>
                    <a:lnTo>
                      <a:pt x="184" y="73"/>
                    </a:lnTo>
                    <a:lnTo>
                      <a:pt x="181" y="79"/>
                    </a:lnTo>
                    <a:lnTo>
                      <a:pt x="177" y="84"/>
                    </a:lnTo>
                    <a:lnTo>
                      <a:pt x="172" y="89"/>
                    </a:lnTo>
                    <a:lnTo>
                      <a:pt x="167" y="95"/>
                    </a:lnTo>
                    <a:lnTo>
                      <a:pt x="162" y="100"/>
                    </a:lnTo>
                    <a:lnTo>
                      <a:pt x="155" y="105"/>
                    </a:lnTo>
                    <a:lnTo>
                      <a:pt x="146" y="109"/>
                    </a:lnTo>
                    <a:lnTo>
                      <a:pt x="139" y="113"/>
                    </a:lnTo>
                    <a:lnTo>
                      <a:pt x="131" y="116"/>
                    </a:lnTo>
                    <a:lnTo>
                      <a:pt x="122" y="120"/>
                    </a:lnTo>
                    <a:lnTo>
                      <a:pt x="112" y="121"/>
                    </a:lnTo>
                    <a:lnTo>
                      <a:pt x="103" y="124"/>
                    </a:lnTo>
                    <a:lnTo>
                      <a:pt x="93" y="125"/>
                    </a:lnTo>
                    <a:lnTo>
                      <a:pt x="84" y="125"/>
                    </a:lnTo>
                    <a:lnTo>
                      <a:pt x="76" y="125"/>
                    </a:lnTo>
                    <a:lnTo>
                      <a:pt x="67" y="124"/>
                    </a:lnTo>
                    <a:lnTo>
                      <a:pt x="59" y="123"/>
                    </a:lnTo>
                    <a:lnTo>
                      <a:pt x="50" y="121"/>
                    </a:lnTo>
                    <a:lnTo>
                      <a:pt x="41" y="119"/>
                    </a:lnTo>
                    <a:lnTo>
                      <a:pt x="34" y="116"/>
                    </a:lnTo>
                    <a:lnTo>
                      <a:pt x="28" y="113"/>
                    </a:lnTo>
                    <a:lnTo>
                      <a:pt x="21" y="109"/>
                    </a:lnTo>
                    <a:lnTo>
                      <a:pt x="16" y="105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3" y="89"/>
                    </a:lnTo>
                    <a:lnTo>
                      <a:pt x="2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58"/>
                    </a:lnTo>
                    <a:lnTo>
                      <a:pt x="3" y="53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6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3" y="20"/>
                    </a:lnTo>
                    <a:lnTo>
                      <a:pt x="41" y="16"/>
                    </a:lnTo>
                    <a:lnTo>
                      <a:pt x="48" y="12"/>
                    </a:lnTo>
                    <a:lnTo>
                      <a:pt x="57" y="9"/>
                    </a:lnTo>
                    <a:lnTo>
                      <a:pt x="67" y="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3908520" y="2933640"/>
                <a:ext cx="153720" cy="1015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0" y="23"/>
                    </a:lnTo>
                    <a:lnTo>
                      <a:pt x="176" y="28"/>
                    </a:lnTo>
                    <a:lnTo>
                      <a:pt x="181" y="34"/>
                    </a:lnTo>
                    <a:lnTo>
                      <a:pt x="184" y="39"/>
                    </a:lnTo>
                    <a:lnTo>
                      <a:pt x="188" y="46"/>
                    </a:lnTo>
                    <a:lnTo>
                      <a:pt x="189" y="51"/>
                    </a:lnTo>
                    <a:lnTo>
                      <a:pt x="191" y="58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3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0" y="106"/>
                    </a:lnTo>
                    <a:lnTo>
                      <a:pt x="164" y="110"/>
                    </a:lnTo>
                    <a:lnTo>
                      <a:pt x="157" y="114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5" y="129"/>
                    </a:lnTo>
                    <a:lnTo>
                      <a:pt x="105" y="129"/>
                    </a:lnTo>
                    <a:lnTo>
                      <a:pt x="96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4" y="114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5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5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3908520" y="2933640"/>
                <a:ext cx="153720" cy="1015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0" y="23"/>
                    </a:lnTo>
                    <a:lnTo>
                      <a:pt x="176" y="28"/>
                    </a:lnTo>
                    <a:lnTo>
                      <a:pt x="181" y="34"/>
                    </a:lnTo>
                    <a:lnTo>
                      <a:pt x="184" y="39"/>
                    </a:lnTo>
                    <a:lnTo>
                      <a:pt x="188" y="46"/>
                    </a:lnTo>
                    <a:lnTo>
                      <a:pt x="189" y="51"/>
                    </a:lnTo>
                    <a:lnTo>
                      <a:pt x="191" y="58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3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0" y="106"/>
                    </a:lnTo>
                    <a:lnTo>
                      <a:pt x="164" y="110"/>
                    </a:lnTo>
                    <a:lnTo>
                      <a:pt x="157" y="114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5" y="129"/>
                    </a:lnTo>
                    <a:lnTo>
                      <a:pt x="105" y="129"/>
                    </a:lnTo>
                    <a:lnTo>
                      <a:pt x="96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4" y="114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5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5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 flipH="1">
                <a:off x="3117960" y="2940120"/>
                <a:ext cx="9093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3036960" y="2940120"/>
                <a:ext cx="144360" cy="1015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2"/>
                    </a:lnTo>
                    <a:lnTo>
                      <a:pt x="117" y="3"/>
                    </a:lnTo>
                    <a:lnTo>
                      <a:pt x="123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4"/>
                    </a:lnTo>
                    <a:lnTo>
                      <a:pt x="172" y="39"/>
                    </a:lnTo>
                    <a:lnTo>
                      <a:pt x="175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3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4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3" y="125"/>
                    </a:lnTo>
                    <a:lnTo>
                      <a:pt x="117" y="126"/>
                    </a:lnTo>
                    <a:lnTo>
                      <a:pt x="108" y="129"/>
                    </a:lnTo>
                    <a:lnTo>
                      <a:pt x="98" y="129"/>
                    </a:lnTo>
                    <a:lnTo>
                      <a:pt x="89" y="130"/>
                    </a:lnTo>
                    <a:lnTo>
                      <a:pt x="80" y="129"/>
                    </a:lnTo>
                    <a:lnTo>
                      <a:pt x="70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4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1"/>
                    </a:lnTo>
                    <a:lnTo>
                      <a:pt x="10" y="95"/>
                    </a:lnTo>
                    <a:lnTo>
                      <a:pt x="6" y="90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0" y="34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3036960" y="2940120"/>
                <a:ext cx="144360" cy="1015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2"/>
                    </a:lnTo>
                    <a:lnTo>
                      <a:pt x="117" y="3"/>
                    </a:lnTo>
                    <a:lnTo>
                      <a:pt x="123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4"/>
                    </a:lnTo>
                    <a:lnTo>
                      <a:pt x="172" y="39"/>
                    </a:lnTo>
                    <a:lnTo>
                      <a:pt x="175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3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4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3" y="125"/>
                    </a:lnTo>
                    <a:lnTo>
                      <a:pt x="117" y="126"/>
                    </a:lnTo>
                    <a:lnTo>
                      <a:pt x="108" y="129"/>
                    </a:lnTo>
                    <a:lnTo>
                      <a:pt x="98" y="129"/>
                    </a:lnTo>
                    <a:lnTo>
                      <a:pt x="89" y="130"/>
                    </a:lnTo>
                    <a:lnTo>
                      <a:pt x="80" y="129"/>
                    </a:lnTo>
                    <a:lnTo>
                      <a:pt x="70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4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1"/>
                    </a:lnTo>
                    <a:lnTo>
                      <a:pt x="10" y="95"/>
                    </a:lnTo>
                    <a:lnTo>
                      <a:pt x="6" y="90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0" y="34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5464080" y="317016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5464080" y="317016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 flipH="1">
                <a:off x="4673160" y="3176640"/>
                <a:ext cx="90828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45925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45925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4403880" y="3170160"/>
                <a:ext cx="15372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4403880" y="3170160"/>
                <a:ext cx="15372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 flipH="1">
                <a:off x="3613320" y="3176640"/>
                <a:ext cx="9079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35323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35323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5824440" y="566568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89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4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5" y="128"/>
                    </a:lnTo>
                    <a:lnTo>
                      <a:pt x="105" y="128"/>
                    </a:lnTo>
                    <a:lnTo>
                      <a:pt x="96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5824440" y="566568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89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4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5" y="128"/>
                    </a:lnTo>
                    <a:lnTo>
                      <a:pt x="105" y="128"/>
                    </a:lnTo>
                    <a:lnTo>
                      <a:pt x="96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 flipH="1">
                <a:off x="5032080" y="567216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4951440" y="5672160"/>
                <a:ext cx="144360" cy="1033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4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5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4951440" y="5672160"/>
                <a:ext cx="144360" cy="1033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4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5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312920"/>
                <a:ext cx="11858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6" name=""/>
              <p:cNvSpPr/>
              <p:nvPr/>
            </p:nvSpPr>
            <p:spPr>
              <a:xfrm>
                <a:off x="4457880" y="567216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2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4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2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8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8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4457880" y="567216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2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4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2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8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8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 flipH="1">
                <a:off x="3665160" y="567864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3584520" y="567864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6" y="45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4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3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3584520" y="567864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6" y="45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4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3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3718080"/>
                <a:ext cx="11858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2" name=""/>
              <p:cNvSpPr/>
              <p:nvPr/>
            </p:nvSpPr>
            <p:spPr>
              <a:xfrm>
                <a:off x="1365120" y="184644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1736640" y="1833480"/>
                <a:ext cx="101520" cy="179640"/>
              </a:xfrm>
              <a:custGeom>
                <a:avLst/>
                <a:gdLst/>
                <a:ahLst/>
                <a:rect l="l" t="t" r="r" b="b"/>
                <a:pathLst>
                  <a:path w="130" h="226">
                    <a:moveTo>
                      <a:pt x="87" y="0"/>
                    </a:moveTo>
                    <a:lnTo>
                      <a:pt x="87" y="142"/>
                    </a:lnTo>
                    <a:lnTo>
                      <a:pt x="44" y="142"/>
                    </a:lnTo>
                    <a:lnTo>
                      <a:pt x="44" y="0"/>
                    </a:lnTo>
                    <a:lnTo>
                      <a:pt x="87" y="0"/>
                    </a:lnTo>
                    <a:close/>
                    <a:moveTo>
                      <a:pt x="130" y="126"/>
                    </a:moveTo>
                    <a:lnTo>
                      <a:pt x="66" y="226"/>
                    </a:lnTo>
                    <a:lnTo>
                      <a:pt x="0" y="126"/>
                    </a:lnTo>
                    <a:lnTo>
                      <a:pt x="130" y="126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1851120" y="2000160"/>
                <a:ext cx="430200" cy="1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2208240" y="1992240"/>
                <a:ext cx="101520" cy="144360"/>
              </a:xfrm>
              <a:custGeom>
                <a:avLst/>
                <a:gdLst/>
                <a:ahLst/>
                <a:rect l="l" t="t" r="r" b="b"/>
                <a:pathLst>
                  <a:path w="130" h="180">
                    <a:moveTo>
                      <a:pt x="81" y="0"/>
                    </a:moveTo>
                    <a:lnTo>
                      <a:pt x="87" y="96"/>
                    </a:lnTo>
                    <a:lnTo>
                      <a:pt x="44" y="97"/>
                    </a:lnTo>
                    <a:lnTo>
                      <a:pt x="38" y="1"/>
                    </a:lnTo>
                    <a:lnTo>
                      <a:pt x="81" y="0"/>
                    </a:lnTo>
                    <a:close/>
                    <a:moveTo>
                      <a:pt x="130" y="77"/>
                    </a:moveTo>
                    <a:lnTo>
                      <a:pt x="71" y="180"/>
                    </a:lnTo>
                    <a:lnTo>
                      <a:pt x="0" y="81"/>
                    </a:lnTo>
                    <a:lnTo>
                      <a:pt x="130" y="77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 flipV="1">
                <a:off x="3900600" y="1550520"/>
                <a:ext cx="530280" cy="1018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4405320" y="1538280"/>
                <a:ext cx="142920" cy="211320"/>
              </a:xfrm>
              <a:custGeom>
                <a:avLst/>
                <a:gdLst/>
                <a:ahLst/>
                <a:rect l="l" t="t" r="r" b="b"/>
                <a:pathLst>
                  <a:path w="181" h="268">
                    <a:moveTo>
                      <a:pt x="40" y="0"/>
                    </a:moveTo>
                    <a:lnTo>
                      <a:pt x="151" y="185"/>
                    </a:lnTo>
                    <a:lnTo>
                      <a:pt x="114" y="199"/>
                    </a:lnTo>
                    <a:lnTo>
                      <a:pt x="0" y="15"/>
                    </a:lnTo>
                    <a:lnTo>
                      <a:pt x="40" y="0"/>
                    </a:lnTo>
                    <a:close/>
                    <a:moveTo>
                      <a:pt x="181" y="155"/>
                    </a:moveTo>
                    <a:lnTo>
                      <a:pt x="179" y="268"/>
                    </a:lnTo>
                    <a:lnTo>
                      <a:pt x="65" y="198"/>
                    </a:lnTo>
                    <a:lnTo>
                      <a:pt x="181" y="155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3800520" y="1955880"/>
                <a:ext cx="522360" cy="612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3759120" y="1968480"/>
                <a:ext cx="101520" cy="276120"/>
              </a:xfrm>
              <a:custGeom>
                <a:avLst/>
                <a:gdLst/>
                <a:ahLst/>
                <a:rect l="l" t="t" r="r" b="b"/>
                <a:pathLst>
                  <a:path w="129" h="349">
                    <a:moveTo>
                      <a:pt x="86" y="0"/>
                    </a:moveTo>
                    <a:lnTo>
                      <a:pt x="86" y="265"/>
                    </a:lnTo>
                    <a:lnTo>
                      <a:pt x="43" y="265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249"/>
                    </a:moveTo>
                    <a:lnTo>
                      <a:pt x="65" y="349"/>
                    </a:lnTo>
                    <a:lnTo>
                      <a:pt x="0" y="249"/>
                    </a:lnTo>
                    <a:lnTo>
                      <a:pt x="129" y="24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3776760" y="2786040"/>
                <a:ext cx="102960" cy="160200"/>
              </a:xfrm>
              <a:custGeom>
                <a:avLst/>
                <a:gdLst/>
                <a:ahLst/>
                <a:rect l="l" t="t" r="r" b="b"/>
                <a:pathLst>
                  <a:path w="129" h="202">
                    <a:moveTo>
                      <a:pt x="86" y="0"/>
                    </a:moveTo>
                    <a:lnTo>
                      <a:pt x="86" y="118"/>
                    </a:lnTo>
                    <a:lnTo>
                      <a:pt x="43" y="118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02"/>
                    </a:moveTo>
                    <a:lnTo>
                      <a:pt x="65" y="202"/>
                    </a:lnTo>
                    <a:lnTo>
                      <a:pt x="0" y="102"/>
                    </a:lnTo>
                    <a:lnTo>
                      <a:pt x="129" y="102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 flipH="1">
                <a:off x="3242880" y="1652760"/>
                <a:ext cx="9720" cy="12682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3243240" y="2863800"/>
                <a:ext cx="306360" cy="79560"/>
              </a:xfrm>
              <a:custGeom>
                <a:avLst/>
                <a:gdLst/>
                <a:ahLst/>
                <a:rect l="l" t="t" r="r" b="b"/>
                <a:pathLst>
                  <a:path w="385" h="100">
                    <a:moveTo>
                      <a:pt x="383" y="72"/>
                    </a:moveTo>
                    <a:lnTo>
                      <a:pt x="106" y="67"/>
                    </a:lnTo>
                    <a:lnTo>
                      <a:pt x="106" y="33"/>
                    </a:lnTo>
                    <a:lnTo>
                      <a:pt x="385" y="39"/>
                    </a:lnTo>
                    <a:lnTo>
                      <a:pt x="383" y="72"/>
                    </a:lnTo>
                    <a:close/>
                    <a:moveTo>
                      <a:pt x="127" y="100"/>
                    </a:moveTo>
                    <a:lnTo>
                      <a:pt x="0" y="48"/>
                    </a:lnTo>
                    <a:lnTo>
                      <a:pt x="130" y="0"/>
                    </a:lnTo>
                    <a:lnTo>
                      <a:pt x="127" y="10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3235320" y="1658880"/>
                <a:ext cx="341280" cy="138240"/>
              </a:xfrm>
              <a:custGeom>
                <a:avLst/>
                <a:gdLst/>
                <a:ahLst/>
                <a:rect l="l" t="t" r="r" b="b"/>
                <a:pathLst>
                  <a:path w="431" h="172">
                    <a:moveTo>
                      <a:pt x="19" y="0"/>
                    </a:moveTo>
                    <a:lnTo>
                      <a:pt x="341" y="119"/>
                    </a:lnTo>
                    <a:lnTo>
                      <a:pt x="324" y="148"/>
                    </a:lnTo>
                    <a:lnTo>
                      <a:pt x="0" y="31"/>
                    </a:lnTo>
                    <a:lnTo>
                      <a:pt x="19" y="0"/>
                    </a:lnTo>
                    <a:close/>
                    <a:moveTo>
                      <a:pt x="341" y="81"/>
                    </a:moveTo>
                    <a:lnTo>
                      <a:pt x="431" y="170"/>
                    </a:lnTo>
                    <a:lnTo>
                      <a:pt x="286" y="172"/>
                    </a:lnTo>
                    <a:lnTo>
                      <a:pt x="341" y="81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2536920" y="1908000"/>
                <a:ext cx="428400" cy="125640"/>
              </a:xfrm>
              <a:custGeom>
                <a:avLst/>
                <a:gdLst/>
                <a:ahLst/>
                <a:rect l="l" t="t" r="r" b="b"/>
                <a:pathLst>
                  <a:path w="539" h="158">
                    <a:moveTo>
                      <a:pt x="0" y="125"/>
                    </a:moveTo>
                    <a:lnTo>
                      <a:pt x="429" y="27"/>
                    </a:lnTo>
                    <a:lnTo>
                      <a:pt x="441" y="59"/>
                    </a:lnTo>
                    <a:lnTo>
                      <a:pt x="12" y="158"/>
                    </a:lnTo>
                    <a:lnTo>
                      <a:pt x="0" y="125"/>
                    </a:lnTo>
                    <a:close/>
                    <a:moveTo>
                      <a:pt x="396" y="0"/>
                    </a:moveTo>
                    <a:lnTo>
                      <a:pt x="539" y="20"/>
                    </a:lnTo>
                    <a:lnTo>
                      <a:pt x="433" y="9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4702320" y="2103480"/>
                <a:ext cx="101520" cy="1066680"/>
              </a:xfrm>
              <a:custGeom>
                <a:avLst/>
                <a:gdLst/>
                <a:ahLst/>
                <a:rect l="l" t="t" r="r" b="b"/>
                <a:pathLst>
                  <a:path w="129" h="1345">
                    <a:moveTo>
                      <a:pt x="86" y="0"/>
                    </a:moveTo>
                    <a:lnTo>
                      <a:pt x="86" y="1261"/>
                    </a:lnTo>
                    <a:lnTo>
                      <a:pt x="43" y="1261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244"/>
                    </a:moveTo>
                    <a:lnTo>
                      <a:pt x="65" y="1345"/>
                    </a:lnTo>
                    <a:lnTo>
                      <a:pt x="0" y="1244"/>
                    </a:lnTo>
                    <a:lnTo>
                      <a:pt x="129" y="124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4341960" y="2136600"/>
                <a:ext cx="102960" cy="1033560"/>
              </a:xfrm>
              <a:custGeom>
                <a:avLst/>
                <a:gdLst/>
                <a:ahLst/>
                <a:rect l="l" t="t" r="r" b="b"/>
                <a:pathLst>
                  <a:path w="129" h="1304">
                    <a:moveTo>
                      <a:pt x="86" y="0"/>
                    </a:moveTo>
                    <a:lnTo>
                      <a:pt x="86" y="1220"/>
                    </a:lnTo>
                    <a:lnTo>
                      <a:pt x="43" y="1220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203"/>
                    </a:moveTo>
                    <a:lnTo>
                      <a:pt x="65" y="1304"/>
                    </a:lnTo>
                    <a:lnTo>
                      <a:pt x="0" y="1203"/>
                    </a:lnTo>
                    <a:lnTo>
                      <a:pt x="129" y="1203"/>
                    </a:lnTo>
                    <a:close/>
                  </a:path>
                </a:pathLst>
              </a:custGeom>
              <a:solidFill>
                <a:srgbClr val="993300"/>
              </a:solidFill>
              <a:ln w="14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4743360" y="4363920"/>
                <a:ext cx="141480" cy="10332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52" y="8"/>
                    </a:moveTo>
                    <a:lnTo>
                      <a:pt x="60" y="5"/>
                    </a:lnTo>
                    <a:lnTo>
                      <a:pt x="69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2" y="1"/>
                    </a:lnTo>
                    <a:lnTo>
                      <a:pt x="121" y="2"/>
                    </a:lnTo>
                    <a:lnTo>
                      <a:pt x="128" y="4"/>
                    </a:lnTo>
                    <a:lnTo>
                      <a:pt x="136" y="6"/>
                    </a:lnTo>
                    <a:lnTo>
                      <a:pt x="143" y="10"/>
                    </a:lnTo>
                    <a:lnTo>
                      <a:pt x="150" y="13"/>
                    </a:lnTo>
                    <a:lnTo>
                      <a:pt x="155" y="18"/>
                    </a:lnTo>
                    <a:lnTo>
                      <a:pt x="162" y="22"/>
                    </a:lnTo>
                    <a:lnTo>
                      <a:pt x="165" y="28"/>
                    </a:lnTo>
                    <a:lnTo>
                      <a:pt x="171" y="33"/>
                    </a:lnTo>
                    <a:lnTo>
                      <a:pt x="174" y="40"/>
                    </a:lnTo>
                    <a:lnTo>
                      <a:pt x="176" y="46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5"/>
                    </a:lnTo>
                    <a:lnTo>
                      <a:pt x="178" y="72"/>
                    </a:lnTo>
                    <a:lnTo>
                      <a:pt x="176" y="77"/>
                    </a:lnTo>
                    <a:lnTo>
                      <a:pt x="174" y="84"/>
                    </a:lnTo>
                    <a:lnTo>
                      <a:pt x="171" y="89"/>
                    </a:lnTo>
                    <a:lnTo>
                      <a:pt x="165" y="96"/>
                    </a:lnTo>
                    <a:lnTo>
                      <a:pt x="162" y="101"/>
                    </a:lnTo>
                    <a:lnTo>
                      <a:pt x="157" y="106"/>
                    </a:lnTo>
                    <a:lnTo>
                      <a:pt x="150" y="110"/>
                    </a:lnTo>
                    <a:lnTo>
                      <a:pt x="143" y="116"/>
                    </a:lnTo>
                    <a:lnTo>
                      <a:pt x="136" y="120"/>
                    </a:lnTo>
                    <a:lnTo>
                      <a:pt x="128" y="123"/>
                    </a:lnTo>
                    <a:lnTo>
                      <a:pt x="119" y="127"/>
                    </a:lnTo>
                    <a:lnTo>
                      <a:pt x="110" y="128"/>
                    </a:lnTo>
                    <a:lnTo>
                      <a:pt x="102" y="129"/>
                    </a:lnTo>
                    <a:lnTo>
                      <a:pt x="93" y="131"/>
                    </a:lnTo>
                    <a:lnTo>
                      <a:pt x="85" y="131"/>
                    </a:lnTo>
                    <a:lnTo>
                      <a:pt x="76" y="131"/>
                    </a:lnTo>
                    <a:lnTo>
                      <a:pt x="67" y="131"/>
                    </a:lnTo>
                    <a:lnTo>
                      <a:pt x="59" y="128"/>
                    </a:lnTo>
                    <a:lnTo>
                      <a:pt x="52" y="127"/>
                    </a:lnTo>
                    <a:lnTo>
                      <a:pt x="45" y="124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4" y="113"/>
                    </a:lnTo>
                    <a:lnTo>
                      <a:pt x="19" y="108"/>
                    </a:lnTo>
                    <a:lnTo>
                      <a:pt x="14" y="102"/>
                    </a:lnTo>
                    <a:lnTo>
                      <a:pt x="9" y="97"/>
                    </a:lnTo>
                    <a:lnTo>
                      <a:pt x="5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4" y="53"/>
                    </a:lnTo>
                    <a:lnTo>
                      <a:pt x="5" y="46"/>
                    </a:lnTo>
                    <a:lnTo>
                      <a:pt x="9" y="41"/>
                    </a:lnTo>
                    <a:lnTo>
                      <a:pt x="14" y="34"/>
                    </a:lnTo>
                    <a:lnTo>
                      <a:pt x="17" y="29"/>
                    </a:lnTo>
                    <a:lnTo>
                      <a:pt x="24" y="24"/>
                    </a:lnTo>
                    <a:lnTo>
                      <a:pt x="29" y="20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2" y="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4743360" y="4363920"/>
                <a:ext cx="141480" cy="10332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52" y="8"/>
                    </a:moveTo>
                    <a:lnTo>
                      <a:pt x="60" y="5"/>
                    </a:lnTo>
                    <a:lnTo>
                      <a:pt x="69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2" y="1"/>
                    </a:lnTo>
                    <a:lnTo>
                      <a:pt x="121" y="2"/>
                    </a:lnTo>
                    <a:lnTo>
                      <a:pt x="128" y="4"/>
                    </a:lnTo>
                    <a:lnTo>
                      <a:pt x="136" y="6"/>
                    </a:lnTo>
                    <a:lnTo>
                      <a:pt x="143" y="10"/>
                    </a:lnTo>
                    <a:lnTo>
                      <a:pt x="150" y="13"/>
                    </a:lnTo>
                    <a:lnTo>
                      <a:pt x="155" y="18"/>
                    </a:lnTo>
                    <a:lnTo>
                      <a:pt x="162" y="22"/>
                    </a:lnTo>
                    <a:lnTo>
                      <a:pt x="165" y="28"/>
                    </a:lnTo>
                    <a:lnTo>
                      <a:pt x="171" y="33"/>
                    </a:lnTo>
                    <a:lnTo>
                      <a:pt x="174" y="40"/>
                    </a:lnTo>
                    <a:lnTo>
                      <a:pt x="176" y="46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5"/>
                    </a:lnTo>
                    <a:lnTo>
                      <a:pt x="178" y="72"/>
                    </a:lnTo>
                    <a:lnTo>
                      <a:pt x="176" y="77"/>
                    </a:lnTo>
                    <a:lnTo>
                      <a:pt x="174" y="84"/>
                    </a:lnTo>
                    <a:lnTo>
                      <a:pt x="171" y="89"/>
                    </a:lnTo>
                    <a:lnTo>
                      <a:pt x="165" y="96"/>
                    </a:lnTo>
                    <a:lnTo>
                      <a:pt x="162" y="101"/>
                    </a:lnTo>
                    <a:lnTo>
                      <a:pt x="157" y="106"/>
                    </a:lnTo>
                    <a:lnTo>
                      <a:pt x="150" y="110"/>
                    </a:lnTo>
                    <a:lnTo>
                      <a:pt x="143" y="116"/>
                    </a:lnTo>
                    <a:lnTo>
                      <a:pt x="136" y="120"/>
                    </a:lnTo>
                    <a:lnTo>
                      <a:pt x="128" y="123"/>
                    </a:lnTo>
                    <a:lnTo>
                      <a:pt x="119" y="127"/>
                    </a:lnTo>
                    <a:lnTo>
                      <a:pt x="110" y="128"/>
                    </a:lnTo>
                    <a:lnTo>
                      <a:pt x="102" y="129"/>
                    </a:lnTo>
                    <a:lnTo>
                      <a:pt x="93" y="131"/>
                    </a:lnTo>
                    <a:lnTo>
                      <a:pt x="85" y="131"/>
                    </a:lnTo>
                    <a:lnTo>
                      <a:pt x="76" y="131"/>
                    </a:lnTo>
                    <a:lnTo>
                      <a:pt x="67" y="131"/>
                    </a:lnTo>
                    <a:lnTo>
                      <a:pt x="59" y="128"/>
                    </a:lnTo>
                    <a:lnTo>
                      <a:pt x="52" y="127"/>
                    </a:lnTo>
                    <a:lnTo>
                      <a:pt x="45" y="124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4" y="113"/>
                    </a:lnTo>
                    <a:lnTo>
                      <a:pt x="19" y="108"/>
                    </a:lnTo>
                    <a:lnTo>
                      <a:pt x="14" y="102"/>
                    </a:lnTo>
                    <a:lnTo>
                      <a:pt x="9" y="97"/>
                    </a:lnTo>
                    <a:lnTo>
                      <a:pt x="5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4" y="53"/>
                    </a:lnTo>
                    <a:lnTo>
                      <a:pt x="5" y="46"/>
                    </a:lnTo>
                    <a:lnTo>
                      <a:pt x="9" y="41"/>
                    </a:lnTo>
                    <a:lnTo>
                      <a:pt x="14" y="34"/>
                    </a:lnTo>
                    <a:lnTo>
                      <a:pt x="17" y="29"/>
                    </a:lnTo>
                    <a:lnTo>
                      <a:pt x="24" y="24"/>
                    </a:lnTo>
                    <a:lnTo>
                      <a:pt x="29" y="20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2" y="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 flipH="1">
                <a:off x="2703600" y="4368960"/>
                <a:ext cx="2101680" cy="8269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2641680" y="5186520"/>
                <a:ext cx="147600" cy="102960"/>
              </a:xfrm>
              <a:custGeom>
                <a:avLst/>
                <a:gdLst/>
                <a:ahLst/>
                <a:rect l="l" t="t" r="r" b="b"/>
                <a:pathLst>
                  <a:path w="186" h="128">
                    <a:moveTo>
                      <a:pt x="57" y="11"/>
                    </a:moveTo>
                    <a:lnTo>
                      <a:pt x="65" y="7"/>
                    </a:lnTo>
                    <a:lnTo>
                      <a:pt x="76" y="4"/>
                    </a:lnTo>
                    <a:lnTo>
                      <a:pt x="84" y="3"/>
                    </a:lnTo>
                    <a:lnTo>
                      <a:pt x="93" y="1"/>
                    </a:lnTo>
                    <a:lnTo>
                      <a:pt x="102" y="0"/>
                    </a:lnTo>
                    <a:lnTo>
                      <a:pt x="110" y="0"/>
                    </a:lnTo>
                    <a:lnTo>
                      <a:pt x="119" y="1"/>
                    </a:lnTo>
                    <a:lnTo>
                      <a:pt x="127" y="3"/>
                    </a:lnTo>
                    <a:lnTo>
                      <a:pt x="136" y="4"/>
                    </a:lnTo>
                    <a:lnTo>
                      <a:pt x="143" y="5"/>
                    </a:lnTo>
                    <a:lnTo>
                      <a:pt x="151" y="8"/>
                    </a:lnTo>
                    <a:lnTo>
                      <a:pt x="158" y="12"/>
                    </a:lnTo>
                    <a:lnTo>
                      <a:pt x="164" y="16"/>
                    </a:lnTo>
                    <a:lnTo>
                      <a:pt x="169" y="20"/>
                    </a:lnTo>
                    <a:lnTo>
                      <a:pt x="174" y="25"/>
                    </a:lnTo>
                    <a:lnTo>
                      <a:pt x="179" y="31"/>
                    </a:lnTo>
                    <a:lnTo>
                      <a:pt x="181" y="36"/>
                    </a:lnTo>
                    <a:lnTo>
                      <a:pt x="184" y="41"/>
                    </a:lnTo>
                    <a:lnTo>
                      <a:pt x="184" y="48"/>
                    </a:lnTo>
                    <a:lnTo>
                      <a:pt x="186" y="55"/>
                    </a:lnTo>
                    <a:lnTo>
                      <a:pt x="184" y="60"/>
                    </a:lnTo>
                    <a:lnTo>
                      <a:pt x="184" y="67"/>
                    </a:lnTo>
                    <a:lnTo>
                      <a:pt x="181" y="72"/>
                    </a:lnTo>
                    <a:lnTo>
                      <a:pt x="177" y="79"/>
                    </a:lnTo>
                    <a:lnTo>
                      <a:pt x="174" y="84"/>
                    </a:lnTo>
                    <a:lnTo>
                      <a:pt x="170" y="91"/>
                    </a:lnTo>
                    <a:lnTo>
                      <a:pt x="164" y="96"/>
                    </a:lnTo>
                    <a:lnTo>
                      <a:pt x="158" y="102"/>
                    </a:lnTo>
                    <a:lnTo>
                      <a:pt x="151" y="106"/>
                    </a:lnTo>
                    <a:lnTo>
                      <a:pt x="145" y="111"/>
                    </a:lnTo>
                    <a:lnTo>
                      <a:pt x="136" y="115"/>
                    </a:lnTo>
                    <a:lnTo>
                      <a:pt x="127" y="119"/>
                    </a:lnTo>
                    <a:lnTo>
                      <a:pt x="119" y="122"/>
                    </a:lnTo>
                    <a:lnTo>
                      <a:pt x="110" y="124"/>
                    </a:lnTo>
                    <a:lnTo>
                      <a:pt x="100" y="126"/>
                    </a:lnTo>
                    <a:lnTo>
                      <a:pt x="91" y="127"/>
                    </a:lnTo>
                    <a:lnTo>
                      <a:pt x="83" y="128"/>
                    </a:lnTo>
                    <a:lnTo>
                      <a:pt x="74" y="128"/>
                    </a:lnTo>
                    <a:lnTo>
                      <a:pt x="65" y="127"/>
                    </a:lnTo>
                    <a:lnTo>
                      <a:pt x="57" y="127"/>
                    </a:lnTo>
                    <a:lnTo>
                      <a:pt x="48" y="124"/>
                    </a:lnTo>
                    <a:lnTo>
                      <a:pt x="41" y="123"/>
                    </a:lnTo>
                    <a:lnTo>
                      <a:pt x="33" y="120"/>
                    </a:lnTo>
                    <a:lnTo>
                      <a:pt x="28" y="116"/>
                    </a:lnTo>
                    <a:lnTo>
                      <a:pt x="21" y="112"/>
                    </a:lnTo>
                    <a:lnTo>
                      <a:pt x="15" y="108"/>
                    </a:lnTo>
                    <a:lnTo>
                      <a:pt x="10" y="103"/>
                    </a:lnTo>
                    <a:lnTo>
                      <a:pt x="7" y="98"/>
                    </a:lnTo>
                    <a:lnTo>
                      <a:pt x="3" y="92"/>
                    </a:lnTo>
                    <a:lnTo>
                      <a:pt x="2" y="87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2" y="61"/>
                    </a:lnTo>
                    <a:lnTo>
                      <a:pt x="3" y="56"/>
                    </a:lnTo>
                    <a:lnTo>
                      <a:pt x="7" y="49"/>
                    </a:lnTo>
                    <a:lnTo>
                      <a:pt x="10" y="44"/>
                    </a:lnTo>
                    <a:lnTo>
                      <a:pt x="15" y="39"/>
                    </a:lnTo>
                    <a:lnTo>
                      <a:pt x="21" y="32"/>
                    </a:lnTo>
                    <a:lnTo>
                      <a:pt x="26" y="28"/>
                    </a:lnTo>
                    <a:lnTo>
                      <a:pt x="33" y="23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2641680" y="5186520"/>
                <a:ext cx="147600" cy="102960"/>
              </a:xfrm>
              <a:custGeom>
                <a:avLst/>
                <a:gdLst/>
                <a:ahLst/>
                <a:rect l="l" t="t" r="r" b="b"/>
                <a:pathLst>
                  <a:path w="186" h="128">
                    <a:moveTo>
                      <a:pt x="57" y="11"/>
                    </a:moveTo>
                    <a:lnTo>
                      <a:pt x="65" y="7"/>
                    </a:lnTo>
                    <a:lnTo>
                      <a:pt x="76" y="4"/>
                    </a:lnTo>
                    <a:lnTo>
                      <a:pt x="84" y="3"/>
                    </a:lnTo>
                    <a:lnTo>
                      <a:pt x="93" y="1"/>
                    </a:lnTo>
                    <a:lnTo>
                      <a:pt x="102" y="0"/>
                    </a:lnTo>
                    <a:lnTo>
                      <a:pt x="110" y="0"/>
                    </a:lnTo>
                    <a:lnTo>
                      <a:pt x="119" y="1"/>
                    </a:lnTo>
                    <a:lnTo>
                      <a:pt x="127" y="3"/>
                    </a:lnTo>
                    <a:lnTo>
                      <a:pt x="136" y="4"/>
                    </a:lnTo>
                    <a:lnTo>
                      <a:pt x="143" y="5"/>
                    </a:lnTo>
                    <a:lnTo>
                      <a:pt x="151" y="8"/>
                    </a:lnTo>
                    <a:lnTo>
                      <a:pt x="158" y="12"/>
                    </a:lnTo>
                    <a:lnTo>
                      <a:pt x="164" y="16"/>
                    </a:lnTo>
                    <a:lnTo>
                      <a:pt x="169" y="20"/>
                    </a:lnTo>
                    <a:lnTo>
                      <a:pt x="174" y="25"/>
                    </a:lnTo>
                    <a:lnTo>
                      <a:pt x="179" y="31"/>
                    </a:lnTo>
                    <a:lnTo>
                      <a:pt x="181" y="36"/>
                    </a:lnTo>
                    <a:lnTo>
                      <a:pt x="184" y="41"/>
                    </a:lnTo>
                    <a:lnTo>
                      <a:pt x="184" y="48"/>
                    </a:lnTo>
                    <a:lnTo>
                      <a:pt x="186" y="55"/>
                    </a:lnTo>
                    <a:lnTo>
                      <a:pt x="184" y="60"/>
                    </a:lnTo>
                    <a:lnTo>
                      <a:pt x="184" y="67"/>
                    </a:lnTo>
                    <a:lnTo>
                      <a:pt x="181" y="72"/>
                    </a:lnTo>
                    <a:lnTo>
                      <a:pt x="177" y="79"/>
                    </a:lnTo>
                    <a:lnTo>
                      <a:pt x="174" y="84"/>
                    </a:lnTo>
                    <a:lnTo>
                      <a:pt x="170" y="91"/>
                    </a:lnTo>
                    <a:lnTo>
                      <a:pt x="164" y="96"/>
                    </a:lnTo>
                    <a:lnTo>
                      <a:pt x="158" y="102"/>
                    </a:lnTo>
                    <a:lnTo>
                      <a:pt x="151" y="106"/>
                    </a:lnTo>
                    <a:lnTo>
                      <a:pt x="145" y="111"/>
                    </a:lnTo>
                    <a:lnTo>
                      <a:pt x="136" y="115"/>
                    </a:lnTo>
                    <a:lnTo>
                      <a:pt x="127" y="119"/>
                    </a:lnTo>
                    <a:lnTo>
                      <a:pt x="119" y="122"/>
                    </a:lnTo>
                    <a:lnTo>
                      <a:pt x="110" y="124"/>
                    </a:lnTo>
                    <a:lnTo>
                      <a:pt x="100" y="126"/>
                    </a:lnTo>
                    <a:lnTo>
                      <a:pt x="91" y="127"/>
                    </a:lnTo>
                    <a:lnTo>
                      <a:pt x="83" y="128"/>
                    </a:lnTo>
                    <a:lnTo>
                      <a:pt x="74" y="128"/>
                    </a:lnTo>
                    <a:lnTo>
                      <a:pt x="65" y="127"/>
                    </a:lnTo>
                    <a:lnTo>
                      <a:pt x="57" y="127"/>
                    </a:lnTo>
                    <a:lnTo>
                      <a:pt x="48" y="124"/>
                    </a:lnTo>
                    <a:lnTo>
                      <a:pt x="41" y="123"/>
                    </a:lnTo>
                    <a:lnTo>
                      <a:pt x="33" y="120"/>
                    </a:lnTo>
                    <a:lnTo>
                      <a:pt x="28" y="116"/>
                    </a:lnTo>
                    <a:lnTo>
                      <a:pt x="21" y="112"/>
                    </a:lnTo>
                    <a:lnTo>
                      <a:pt x="15" y="108"/>
                    </a:lnTo>
                    <a:lnTo>
                      <a:pt x="10" y="103"/>
                    </a:lnTo>
                    <a:lnTo>
                      <a:pt x="7" y="98"/>
                    </a:lnTo>
                    <a:lnTo>
                      <a:pt x="3" y="92"/>
                    </a:lnTo>
                    <a:lnTo>
                      <a:pt x="2" y="87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2" y="61"/>
                    </a:lnTo>
                    <a:lnTo>
                      <a:pt x="3" y="56"/>
                    </a:lnTo>
                    <a:lnTo>
                      <a:pt x="7" y="49"/>
                    </a:lnTo>
                    <a:lnTo>
                      <a:pt x="10" y="44"/>
                    </a:lnTo>
                    <a:lnTo>
                      <a:pt x="15" y="39"/>
                    </a:lnTo>
                    <a:lnTo>
                      <a:pt x="21" y="32"/>
                    </a:lnTo>
                    <a:lnTo>
                      <a:pt x="26" y="28"/>
                    </a:lnTo>
                    <a:lnTo>
                      <a:pt x="33" y="23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7" y="1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1238400" y="4251240"/>
                <a:ext cx="431640" cy="1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1595520" y="4237200"/>
                <a:ext cx="102960" cy="136440"/>
              </a:xfrm>
              <a:custGeom>
                <a:avLst/>
                <a:gdLst/>
                <a:ahLst/>
                <a:rect l="l" t="t" r="r" b="b"/>
                <a:pathLst>
                  <a:path w="129" h="172">
                    <a:moveTo>
                      <a:pt x="81" y="0"/>
                    </a:moveTo>
                    <a:lnTo>
                      <a:pt x="88" y="87"/>
                    </a:lnTo>
                    <a:lnTo>
                      <a:pt x="45" y="89"/>
                    </a:lnTo>
                    <a:lnTo>
                      <a:pt x="38" y="2"/>
                    </a:lnTo>
                    <a:lnTo>
                      <a:pt x="81" y="0"/>
                    </a:lnTo>
                    <a:close/>
                    <a:moveTo>
                      <a:pt x="129" y="69"/>
                    </a:moveTo>
                    <a:lnTo>
                      <a:pt x="72" y="172"/>
                    </a:lnTo>
                    <a:lnTo>
                      <a:pt x="0" y="74"/>
                    </a:lnTo>
                    <a:lnTo>
                      <a:pt x="129" y="6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1768320" y="432288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2131920" y="4316400"/>
                <a:ext cx="101520" cy="217440"/>
              </a:xfrm>
              <a:custGeom>
                <a:avLst/>
                <a:gdLst/>
                <a:ahLst/>
                <a:rect l="l" t="t" r="r" b="b"/>
                <a:pathLst>
                  <a:path w="129" h="276">
                    <a:moveTo>
                      <a:pt x="86" y="0"/>
                    </a:moveTo>
                    <a:lnTo>
                      <a:pt x="86" y="192"/>
                    </a:lnTo>
                    <a:lnTo>
                      <a:pt x="43" y="192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75"/>
                    </a:moveTo>
                    <a:lnTo>
                      <a:pt x="65" y="276"/>
                    </a:lnTo>
                    <a:lnTo>
                      <a:pt x="0" y="175"/>
                    </a:lnTo>
                    <a:lnTo>
                      <a:pt x="129" y="175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2181240" y="4757760"/>
                <a:ext cx="101520" cy="220680"/>
              </a:xfrm>
              <a:custGeom>
                <a:avLst/>
                <a:gdLst/>
                <a:ahLst/>
                <a:rect l="l" t="t" r="r" b="b"/>
                <a:pathLst>
                  <a:path w="129" h="277">
                    <a:moveTo>
                      <a:pt x="93" y="1"/>
                    </a:moveTo>
                    <a:lnTo>
                      <a:pt x="84" y="194"/>
                    </a:lnTo>
                    <a:lnTo>
                      <a:pt x="41" y="192"/>
                    </a:lnTo>
                    <a:lnTo>
                      <a:pt x="50" y="0"/>
                    </a:lnTo>
                    <a:lnTo>
                      <a:pt x="93" y="1"/>
                    </a:lnTo>
                    <a:close/>
                    <a:moveTo>
                      <a:pt x="129" y="178"/>
                    </a:moveTo>
                    <a:lnTo>
                      <a:pt x="60" y="277"/>
                    </a:lnTo>
                    <a:lnTo>
                      <a:pt x="0" y="174"/>
                    </a:lnTo>
                    <a:lnTo>
                      <a:pt x="129" y="178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2543040" y="501012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8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5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2543040" y="501012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8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5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 flipH="1">
                <a:off x="1750680" y="501660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1670040" y="501660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1670040" y="501660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2425680" y="495144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2784600" y="4950000"/>
                <a:ext cx="101520" cy="144360"/>
              </a:xfrm>
              <a:custGeom>
                <a:avLst/>
                <a:gdLst/>
                <a:ahLst/>
                <a:rect l="l" t="t" r="r" b="b"/>
                <a:pathLst>
                  <a:path w="127" h="180">
                    <a:moveTo>
                      <a:pt x="90" y="1"/>
                    </a:moveTo>
                    <a:lnTo>
                      <a:pt x="84" y="97"/>
                    </a:lnTo>
                    <a:lnTo>
                      <a:pt x="41" y="96"/>
                    </a:lnTo>
                    <a:lnTo>
                      <a:pt x="47" y="0"/>
                    </a:lnTo>
                    <a:lnTo>
                      <a:pt x="90" y="1"/>
                    </a:lnTo>
                    <a:close/>
                    <a:moveTo>
                      <a:pt x="127" y="81"/>
                    </a:moveTo>
                    <a:lnTo>
                      <a:pt x="59" y="180"/>
                    </a:lnTo>
                    <a:lnTo>
                      <a:pt x="0" y="77"/>
                    </a:lnTo>
                    <a:lnTo>
                      <a:pt x="127" y="81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3129120" y="4729320"/>
                <a:ext cx="536400" cy="201600"/>
              </a:xfrm>
              <a:custGeom>
                <a:avLst/>
                <a:gdLst/>
                <a:ahLst/>
                <a:rect l="l" t="t" r="r" b="b"/>
                <a:pathLst>
                  <a:path w="677" h="254">
                    <a:moveTo>
                      <a:pt x="0" y="223"/>
                    </a:moveTo>
                    <a:lnTo>
                      <a:pt x="570" y="22"/>
                    </a:lnTo>
                    <a:lnTo>
                      <a:pt x="587" y="53"/>
                    </a:lnTo>
                    <a:lnTo>
                      <a:pt x="19" y="254"/>
                    </a:lnTo>
                    <a:lnTo>
                      <a:pt x="0" y="223"/>
                    </a:lnTo>
                    <a:close/>
                    <a:moveTo>
                      <a:pt x="532" y="0"/>
                    </a:moveTo>
                    <a:lnTo>
                      <a:pt x="677" y="4"/>
                    </a:lnTo>
                    <a:lnTo>
                      <a:pt x="585" y="91"/>
                    </a:lnTo>
                    <a:lnTo>
                      <a:pt x="532" y="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 flipV="1">
                <a:off x="4457880" y="4302000"/>
                <a:ext cx="404640" cy="136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4840200" y="4287960"/>
                <a:ext cx="282600" cy="284040"/>
              </a:xfrm>
              <a:custGeom>
                <a:avLst/>
                <a:gdLst/>
                <a:ahLst/>
                <a:rect l="l" t="t" r="r" b="b"/>
                <a:pathLst>
                  <a:path w="357" h="360">
                    <a:moveTo>
                      <a:pt x="35" y="0"/>
                    </a:moveTo>
                    <a:lnTo>
                      <a:pt x="309" y="282"/>
                    </a:lnTo>
                    <a:lnTo>
                      <a:pt x="274" y="302"/>
                    </a:lnTo>
                    <a:lnTo>
                      <a:pt x="0" y="20"/>
                    </a:lnTo>
                    <a:lnTo>
                      <a:pt x="35" y="0"/>
                    </a:lnTo>
                    <a:close/>
                    <a:moveTo>
                      <a:pt x="329" y="249"/>
                    </a:moveTo>
                    <a:lnTo>
                      <a:pt x="357" y="360"/>
                    </a:lnTo>
                    <a:lnTo>
                      <a:pt x="228" y="309"/>
                    </a:lnTo>
                    <a:lnTo>
                      <a:pt x="329" y="24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5195880" y="4875120"/>
                <a:ext cx="103320" cy="765360"/>
              </a:xfrm>
              <a:custGeom>
                <a:avLst/>
                <a:gdLst/>
                <a:ahLst/>
                <a:rect l="l" t="t" r="r" b="b"/>
                <a:pathLst>
                  <a:path w="129" h="964">
                    <a:moveTo>
                      <a:pt x="76" y="0"/>
                    </a:moveTo>
                    <a:lnTo>
                      <a:pt x="86" y="880"/>
                    </a:lnTo>
                    <a:lnTo>
                      <a:pt x="43" y="880"/>
                    </a:lnTo>
                    <a:lnTo>
                      <a:pt x="33" y="0"/>
                    </a:lnTo>
                    <a:lnTo>
                      <a:pt x="76" y="0"/>
                    </a:lnTo>
                    <a:close/>
                    <a:moveTo>
                      <a:pt x="129" y="862"/>
                    </a:moveTo>
                    <a:lnTo>
                      <a:pt x="65" y="964"/>
                    </a:lnTo>
                    <a:lnTo>
                      <a:pt x="0" y="864"/>
                    </a:lnTo>
                    <a:lnTo>
                      <a:pt x="129" y="862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4341960" y="551016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129" h="203">
                    <a:moveTo>
                      <a:pt x="86" y="0"/>
                    </a:moveTo>
                    <a:lnTo>
                      <a:pt x="86" y="119"/>
                    </a:lnTo>
                    <a:lnTo>
                      <a:pt x="43" y="119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03"/>
                    </a:moveTo>
                    <a:lnTo>
                      <a:pt x="65" y="203"/>
                    </a:lnTo>
                    <a:lnTo>
                      <a:pt x="0" y="103"/>
                    </a:lnTo>
                    <a:lnTo>
                      <a:pt x="129" y="103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 flipH="1">
                <a:off x="3792600" y="4527720"/>
                <a:ext cx="7920" cy="11318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3774960" y="4508640"/>
                <a:ext cx="277920" cy="110880"/>
              </a:xfrm>
              <a:custGeom>
                <a:avLst/>
                <a:gdLst/>
                <a:ahLst/>
                <a:rect l="l" t="t" r="r" b="b"/>
                <a:pathLst>
                  <a:path w="350" h="141">
                    <a:moveTo>
                      <a:pt x="19" y="0"/>
                    </a:moveTo>
                    <a:lnTo>
                      <a:pt x="260" y="87"/>
                    </a:lnTo>
                    <a:lnTo>
                      <a:pt x="243" y="118"/>
                    </a:lnTo>
                    <a:lnTo>
                      <a:pt x="0" y="31"/>
                    </a:lnTo>
                    <a:lnTo>
                      <a:pt x="19" y="0"/>
                    </a:lnTo>
                    <a:close/>
                    <a:moveTo>
                      <a:pt x="259" y="50"/>
                    </a:moveTo>
                    <a:lnTo>
                      <a:pt x="350" y="138"/>
                    </a:lnTo>
                    <a:lnTo>
                      <a:pt x="205" y="141"/>
                    </a:lnTo>
                    <a:lnTo>
                      <a:pt x="259" y="5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4278240" y="4797360"/>
                <a:ext cx="520920" cy="64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4235400" y="4784760"/>
                <a:ext cx="103320" cy="276120"/>
              </a:xfrm>
              <a:custGeom>
                <a:avLst/>
                <a:gdLst/>
                <a:ahLst/>
                <a:rect l="l" t="t" r="r" b="b"/>
                <a:pathLst>
                  <a:path w="130" h="348">
                    <a:moveTo>
                      <a:pt x="87" y="0"/>
                    </a:moveTo>
                    <a:lnTo>
                      <a:pt x="87" y="264"/>
                    </a:lnTo>
                    <a:lnTo>
                      <a:pt x="44" y="264"/>
                    </a:lnTo>
                    <a:lnTo>
                      <a:pt x="44" y="0"/>
                    </a:lnTo>
                    <a:lnTo>
                      <a:pt x="87" y="0"/>
                    </a:lnTo>
                    <a:close/>
                    <a:moveTo>
                      <a:pt x="130" y="248"/>
                    </a:moveTo>
                    <a:lnTo>
                      <a:pt x="66" y="348"/>
                    </a:lnTo>
                    <a:lnTo>
                      <a:pt x="0" y="248"/>
                    </a:lnTo>
                    <a:lnTo>
                      <a:pt x="130" y="248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6513480" y="3313080"/>
                <a:ext cx="1522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6513480" y="3311640"/>
                <a:ext cx="15228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6513480" y="3308400"/>
                <a:ext cx="15228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6513480" y="3305160"/>
                <a:ext cx="1522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6513480" y="3301920"/>
                <a:ext cx="152280" cy="180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6513480" y="3298680"/>
                <a:ext cx="152280" cy="50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6513480" y="3297240"/>
                <a:ext cx="15228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6513480" y="3295800"/>
                <a:ext cx="152280" cy="14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6513480" y="3290760"/>
                <a:ext cx="15228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6513480" y="3286080"/>
                <a:ext cx="1522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6513480" y="3286080"/>
                <a:ext cx="1522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6513480" y="3281400"/>
                <a:ext cx="15228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6513480" y="3278160"/>
                <a:ext cx="152280" cy="46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6513480" y="3276720"/>
                <a:ext cx="15228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6513480" y="3273480"/>
                <a:ext cx="1522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513480" y="3270240"/>
                <a:ext cx="1522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513480" y="3267000"/>
                <a:ext cx="152280" cy="32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6513480" y="3263760"/>
                <a:ext cx="15228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6513480" y="3260880"/>
                <a:ext cx="15228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6513480" y="3257640"/>
                <a:ext cx="152280" cy="32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6513480" y="3254400"/>
                <a:ext cx="15228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154" name=""/>
            <p:cNvGrpSpPr/>
            <p:nvPr/>
          </p:nvGrpSpPr>
          <p:grpSpPr>
            <a:xfrm>
              <a:off x="6513480" y="2938320"/>
              <a:ext cx="779400" cy="378000"/>
              <a:chOff x="6513480" y="2938320"/>
              <a:chExt cx="779400" cy="378000"/>
            </a:xfrm>
          </p:grpSpPr>
          <p:sp>
            <p:nvSpPr>
              <p:cNvPr id="11155" name=""/>
              <p:cNvSpPr/>
              <p:nvPr/>
            </p:nvSpPr>
            <p:spPr>
              <a:xfrm>
                <a:off x="6513480" y="3254400"/>
                <a:ext cx="15228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6513480" y="3249720"/>
                <a:ext cx="15228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6513480" y="3246480"/>
                <a:ext cx="15228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6513480" y="3244680"/>
                <a:ext cx="15228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6513480" y="3240000"/>
                <a:ext cx="15228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6513480" y="3236760"/>
                <a:ext cx="1522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6513480" y="3233880"/>
                <a:ext cx="152280" cy="14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6513480" y="3230640"/>
                <a:ext cx="15228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6513480" y="3227400"/>
                <a:ext cx="15228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6513480" y="3225960"/>
                <a:ext cx="15228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6513480" y="3220920"/>
                <a:ext cx="15228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6513480" y="3218040"/>
                <a:ext cx="15228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6513480" y="3218040"/>
                <a:ext cx="15228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6513480" y="3213000"/>
                <a:ext cx="1522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6513480" y="3209760"/>
                <a:ext cx="1522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6513480" y="3208320"/>
                <a:ext cx="15228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513480" y="3205080"/>
                <a:ext cx="1522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513480" y="3200400"/>
                <a:ext cx="1522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513480" y="3198960"/>
                <a:ext cx="152280" cy="288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6513480" y="3195720"/>
                <a:ext cx="1522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6513480" y="3192480"/>
                <a:ext cx="15228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6513480" y="3189240"/>
                <a:ext cx="15228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6513480" y="3186000"/>
                <a:ext cx="15228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6513480" y="3184560"/>
                <a:ext cx="15228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6513480" y="3182760"/>
                <a:ext cx="152280" cy="180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6513480" y="3178080"/>
                <a:ext cx="15228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6513480" y="3176640"/>
                <a:ext cx="152280" cy="14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6513480" y="3173400"/>
                <a:ext cx="1522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6513480" y="3168720"/>
                <a:ext cx="152280" cy="324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6513480" y="3166920"/>
                <a:ext cx="1522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6513480" y="3164040"/>
                <a:ext cx="152280" cy="28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6513480" y="3159000"/>
                <a:ext cx="15228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6513480" y="3157560"/>
                <a:ext cx="15228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6513480" y="3154320"/>
                <a:ext cx="1522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6513480" y="3151080"/>
                <a:ext cx="1522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6513480" y="3147840"/>
                <a:ext cx="15228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1" name=""/>
              <p:cNvSpPr/>
              <p:nvPr/>
            </p:nvSpPr>
            <p:spPr>
              <a:xfrm>
                <a:off x="6513480" y="3144960"/>
                <a:ext cx="15228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2" name=""/>
              <p:cNvSpPr/>
              <p:nvPr/>
            </p:nvSpPr>
            <p:spPr>
              <a:xfrm>
                <a:off x="6513480" y="3141720"/>
                <a:ext cx="15228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3" name=""/>
              <p:cNvSpPr/>
              <p:nvPr/>
            </p:nvSpPr>
            <p:spPr>
              <a:xfrm>
                <a:off x="6513480" y="3141720"/>
                <a:ext cx="15228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4" name=""/>
              <p:cNvSpPr/>
              <p:nvPr/>
            </p:nvSpPr>
            <p:spPr>
              <a:xfrm>
                <a:off x="6513480" y="3137040"/>
                <a:ext cx="15228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5" name=""/>
              <p:cNvSpPr/>
              <p:nvPr/>
            </p:nvSpPr>
            <p:spPr>
              <a:xfrm>
                <a:off x="6513480" y="3133800"/>
                <a:ext cx="15228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6" name=""/>
              <p:cNvSpPr/>
              <p:nvPr/>
            </p:nvSpPr>
            <p:spPr>
              <a:xfrm>
                <a:off x="6513480" y="3132000"/>
                <a:ext cx="1522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7" name=""/>
              <p:cNvSpPr/>
              <p:nvPr/>
            </p:nvSpPr>
            <p:spPr>
              <a:xfrm>
                <a:off x="6513480" y="3127320"/>
                <a:ext cx="1522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8" name=""/>
              <p:cNvSpPr/>
              <p:nvPr/>
            </p:nvSpPr>
            <p:spPr>
              <a:xfrm>
                <a:off x="6513480" y="3124080"/>
                <a:ext cx="15228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9" name=""/>
              <p:cNvSpPr/>
              <p:nvPr/>
            </p:nvSpPr>
            <p:spPr>
              <a:xfrm>
                <a:off x="6513480" y="3122640"/>
                <a:ext cx="1522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0" name=""/>
              <p:cNvSpPr/>
              <p:nvPr/>
            </p:nvSpPr>
            <p:spPr>
              <a:xfrm>
                <a:off x="6513480" y="3119400"/>
                <a:ext cx="1522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1" name=""/>
              <p:cNvSpPr/>
              <p:nvPr/>
            </p:nvSpPr>
            <p:spPr>
              <a:xfrm>
                <a:off x="6513480" y="3114720"/>
                <a:ext cx="1522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2" name=""/>
              <p:cNvSpPr/>
              <p:nvPr/>
            </p:nvSpPr>
            <p:spPr>
              <a:xfrm>
                <a:off x="6513480" y="3112920"/>
                <a:ext cx="1522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3" name=""/>
              <p:cNvSpPr/>
              <p:nvPr/>
            </p:nvSpPr>
            <p:spPr>
              <a:xfrm>
                <a:off x="6513480" y="3110040"/>
                <a:ext cx="152280" cy="28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4" name=""/>
              <p:cNvSpPr/>
              <p:nvPr/>
            </p:nvSpPr>
            <p:spPr>
              <a:xfrm>
                <a:off x="6513480" y="3106800"/>
                <a:ext cx="1522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5" name=""/>
              <p:cNvSpPr/>
              <p:nvPr/>
            </p:nvSpPr>
            <p:spPr>
              <a:xfrm>
                <a:off x="6513480" y="3105000"/>
                <a:ext cx="15228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6" name=""/>
              <p:cNvSpPr/>
              <p:nvPr/>
            </p:nvSpPr>
            <p:spPr>
              <a:xfrm>
                <a:off x="6513480" y="3100320"/>
                <a:ext cx="1522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7" name=""/>
              <p:cNvSpPr/>
              <p:nvPr/>
            </p:nvSpPr>
            <p:spPr>
              <a:xfrm>
                <a:off x="6513480" y="3097080"/>
                <a:ext cx="152280" cy="50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8" name=""/>
              <p:cNvSpPr/>
              <p:nvPr/>
            </p:nvSpPr>
            <p:spPr>
              <a:xfrm>
                <a:off x="6513480" y="3095640"/>
                <a:ext cx="1522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9" name=""/>
              <p:cNvSpPr/>
              <p:nvPr/>
            </p:nvSpPr>
            <p:spPr>
              <a:xfrm>
                <a:off x="6513480" y="3092400"/>
                <a:ext cx="152280" cy="46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0" name=""/>
              <p:cNvSpPr/>
              <p:nvPr/>
            </p:nvSpPr>
            <p:spPr>
              <a:xfrm>
                <a:off x="6513480" y="3087720"/>
                <a:ext cx="1522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1" name=""/>
              <p:cNvSpPr/>
              <p:nvPr/>
            </p:nvSpPr>
            <p:spPr>
              <a:xfrm>
                <a:off x="6513480" y="3087720"/>
                <a:ext cx="152280" cy="14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2" name=""/>
              <p:cNvSpPr/>
              <p:nvPr/>
            </p:nvSpPr>
            <p:spPr>
              <a:xfrm>
                <a:off x="6513480" y="3083040"/>
                <a:ext cx="152280" cy="324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3" name=""/>
              <p:cNvSpPr/>
              <p:nvPr/>
            </p:nvSpPr>
            <p:spPr>
              <a:xfrm>
                <a:off x="6513480" y="3081240"/>
                <a:ext cx="1522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4" name=""/>
              <p:cNvSpPr/>
              <p:nvPr/>
            </p:nvSpPr>
            <p:spPr>
              <a:xfrm>
                <a:off x="6513480" y="3078000"/>
                <a:ext cx="152280" cy="324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5" name=""/>
              <p:cNvSpPr/>
              <p:nvPr/>
            </p:nvSpPr>
            <p:spPr>
              <a:xfrm>
                <a:off x="6513480" y="3073320"/>
                <a:ext cx="15228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6" name=""/>
              <p:cNvSpPr/>
              <p:nvPr/>
            </p:nvSpPr>
            <p:spPr>
              <a:xfrm>
                <a:off x="6513480" y="3071880"/>
                <a:ext cx="15228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7" name=""/>
              <p:cNvSpPr/>
              <p:nvPr/>
            </p:nvSpPr>
            <p:spPr>
              <a:xfrm>
                <a:off x="6513480" y="3070080"/>
                <a:ext cx="152280" cy="180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8" name=""/>
              <p:cNvSpPr/>
              <p:nvPr/>
            </p:nvSpPr>
            <p:spPr>
              <a:xfrm>
                <a:off x="6513480" y="3065400"/>
                <a:ext cx="152280" cy="46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9" name=""/>
              <p:cNvSpPr/>
              <p:nvPr/>
            </p:nvSpPr>
            <p:spPr>
              <a:xfrm>
                <a:off x="6513480" y="3063960"/>
                <a:ext cx="15228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0" name=""/>
              <p:cNvSpPr/>
              <p:nvPr/>
            </p:nvSpPr>
            <p:spPr>
              <a:xfrm>
                <a:off x="6513480" y="3059280"/>
                <a:ext cx="152280" cy="28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1" name=""/>
              <p:cNvSpPr/>
              <p:nvPr/>
            </p:nvSpPr>
            <p:spPr>
              <a:xfrm>
                <a:off x="6513480" y="3056040"/>
                <a:ext cx="1522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2" name=""/>
              <p:cNvSpPr/>
              <p:nvPr/>
            </p:nvSpPr>
            <p:spPr>
              <a:xfrm>
                <a:off x="6513480" y="3056040"/>
                <a:ext cx="152280" cy="14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3" name=""/>
              <p:cNvSpPr/>
              <p:nvPr/>
            </p:nvSpPr>
            <p:spPr>
              <a:xfrm>
                <a:off x="6513480" y="3051000"/>
                <a:ext cx="15228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4" name=""/>
              <p:cNvSpPr/>
              <p:nvPr/>
            </p:nvSpPr>
            <p:spPr>
              <a:xfrm>
                <a:off x="6513480" y="3046320"/>
                <a:ext cx="1522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5" name=""/>
              <p:cNvSpPr/>
              <p:nvPr/>
            </p:nvSpPr>
            <p:spPr>
              <a:xfrm>
                <a:off x="6513480" y="3044880"/>
                <a:ext cx="15228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6" name=""/>
              <p:cNvSpPr/>
              <p:nvPr/>
            </p:nvSpPr>
            <p:spPr>
              <a:xfrm>
                <a:off x="6513480" y="3041640"/>
                <a:ext cx="1522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7" name=""/>
              <p:cNvSpPr/>
              <p:nvPr/>
            </p:nvSpPr>
            <p:spPr>
              <a:xfrm>
                <a:off x="6513480" y="3038400"/>
                <a:ext cx="1522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8" name=""/>
              <p:cNvSpPr/>
              <p:nvPr/>
            </p:nvSpPr>
            <p:spPr>
              <a:xfrm>
                <a:off x="6513480" y="3035160"/>
                <a:ext cx="152280" cy="180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9" name=""/>
              <p:cNvSpPr/>
              <p:nvPr/>
            </p:nvSpPr>
            <p:spPr>
              <a:xfrm>
                <a:off x="6513480" y="3032280"/>
                <a:ext cx="15228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0" name=""/>
              <p:cNvSpPr/>
              <p:nvPr/>
            </p:nvSpPr>
            <p:spPr>
              <a:xfrm>
                <a:off x="6513480" y="3030480"/>
                <a:ext cx="152280" cy="180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1" name=""/>
              <p:cNvSpPr/>
              <p:nvPr/>
            </p:nvSpPr>
            <p:spPr>
              <a:xfrm>
                <a:off x="6513480" y="3029040"/>
                <a:ext cx="15228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2" name=""/>
              <p:cNvSpPr/>
              <p:nvPr/>
            </p:nvSpPr>
            <p:spPr>
              <a:xfrm>
                <a:off x="6513480" y="3024360"/>
                <a:ext cx="1522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3" name=""/>
              <p:cNvSpPr/>
              <p:nvPr/>
            </p:nvSpPr>
            <p:spPr>
              <a:xfrm>
                <a:off x="6513480" y="3019320"/>
                <a:ext cx="1522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4" name=""/>
              <p:cNvSpPr/>
              <p:nvPr/>
            </p:nvSpPr>
            <p:spPr>
              <a:xfrm>
                <a:off x="6513480" y="3019320"/>
                <a:ext cx="152280" cy="180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5" name=""/>
              <p:cNvSpPr/>
              <p:nvPr/>
            </p:nvSpPr>
            <p:spPr>
              <a:xfrm>
                <a:off x="6513480" y="3014640"/>
                <a:ext cx="1522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6" name=""/>
              <p:cNvSpPr/>
              <p:nvPr/>
            </p:nvSpPr>
            <p:spPr>
              <a:xfrm>
                <a:off x="6513480" y="3011400"/>
                <a:ext cx="15228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7" name=""/>
              <p:cNvSpPr/>
              <p:nvPr/>
            </p:nvSpPr>
            <p:spPr>
              <a:xfrm>
                <a:off x="6513480" y="3009960"/>
                <a:ext cx="152280" cy="14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8" name=""/>
              <p:cNvSpPr/>
              <p:nvPr/>
            </p:nvSpPr>
            <p:spPr>
              <a:xfrm>
                <a:off x="6513480" y="3006720"/>
                <a:ext cx="15228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9" name=""/>
              <p:cNvSpPr/>
              <p:nvPr/>
            </p:nvSpPr>
            <p:spPr>
              <a:xfrm>
                <a:off x="6513480" y="3002040"/>
                <a:ext cx="15228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0" name=""/>
              <p:cNvSpPr/>
              <p:nvPr/>
            </p:nvSpPr>
            <p:spPr>
              <a:xfrm>
                <a:off x="6513480" y="3000240"/>
                <a:ext cx="15228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1" name=""/>
              <p:cNvSpPr/>
              <p:nvPr/>
            </p:nvSpPr>
            <p:spPr>
              <a:xfrm>
                <a:off x="6513480" y="2997360"/>
                <a:ext cx="152280" cy="28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2" name=""/>
              <p:cNvSpPr/>
              <p:nvPr/>
            </p:nvSpPr>
            <p:spPr>
              <a:xfrm>
                <a:off x="6513480" y="2994120"/>
                <a:ext cx="152280" cy="32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3" name=""/>
              <p:cNvSpPr/>
              <p:nvPr/>
            </p:nvSpPr>
            <p:spPr>
              <a:xfrm>
                <a:off x="6513480" y="2992320"/>
                <a:ext cx="152280" cy="180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4" name=""/>
              <p:cNvSpPr/>
              <p:nvPr/>
            </p:nvSpPr>
            <p:spPr>
              <a:xfrm>
                <a:off x="6513480" y="2987640"/>
                <a:ext cx="15228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5" name=""/>
              <p:cNvSpPr/>
              <p:nvPr/>
            </p:nvSpPr>
            <p:spPr>
              <a:xfrm>
                <a:off x="6513480" y="2987640"/>
                <a:ext cx="152280" cy="180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6" name=""/>
              <p:cNvSpPr/>
              <p:nvPr/>
            </p:nvSpPr>
            <p:spPr>
              <a:xfrm>
                <a:off x="6513480" y="2982960"/>
                <a:ext cx="152280" cy="32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7" name=""/>
              <p:cNvSpPr/>
              <p:nvPr/>
            </p:nvSpPr>
            <p:spPr>
              <a:xfrm>
                <a:off x="6513480" y="2979720"/>
                <a:ext cx="15228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8" name=""/>
              <p:cNvSpPr/>
              <p:nvPr/>
            </p:nvSpPr>
            <p:spPr>
              <a:xfrm>
                <a:off x="6513480" y="2978280"/>
                <a:ext cx="15228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9" name=""/>
              <p:cNvSpPr/>
              <p:nvPr/>
            </p:nvSpPr>
            <p:spPr>
              <a:xfrm>
                <a:off x="6513480" y="2973240"/>
                <a:ext cx="152280" cy="324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0" name=""/>
              <p:cNvSpPr/>
              <p:nvPr/>
            </p:nvSpPr>
            <p:spPr>
              <a:xfrm>
                <a:off x="6513480" y="2970360"/>
                <a:ext cx="152280" cy="46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1" name=""/>
              <p:cNvSpPr/>
              <p:nvPr/>
            </p:nvSpPr>
            <p:spPr>
              <a:xfrm>
                <a:off x="6513480" y="2968560"/>
                <a:ext cx="1522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2" name=""/>
              <p:cNvSpPr/>
              <p:nvPr/>
            </p:nvSpPr>
            <p:spPr>
              <a:xfrm>
                <a:off x="6513480" y="2965320"/>
                <a:ext cx="1522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3" name=""/>
              <p:cNvSpPr/>
              <p:nvPr/>
            </p:nvSpPr>
            <p:spPr>
              <a:xfrm>
                <a:off x="6513480" y="2960640"/>
                <a:ext cx="152280" cy="32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4" name=""/>
              <p:cNvSpPr/>
              <p:nvPr/>
            </p:nvSpPr>
            <p:spPr>
              <a:xfrm>
                <a:off x="6513480" y="2959200"/>
                <a:ext cx="15228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5" name=""/>
              <p:cNvSpPr/>
              <p:nvPr/>
            </p:nvSpPr>
            <p:spPr>
              <a:xfrm>
                <a:off x="6513480" y="2957400"/>
                <a:ext cx="15228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6" name=""/>
              <p:cNvSpPr/>
              <p:nvPr/>
            </p:nvSpPr>
            <p:spPr>
              <a:xfrm>
                <a:off x="6513480" y="2952720"/>
                <a:ext cx="15228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7" name=""/>
              <p:cNvSpPr/>
              <p:nvPr/>
            </p:nvSpPr>
            <p:spPr>
              <a:xfrm>
                <a:off x="6513480" y="2951280"/>
                <a:ext cx="152280" cy="14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8" name=""/>
              <p:cNvSpPr/>
              <p:nvPr/>
            </p:nvSpPr>
            <p:spPr>
              <a:xfrm>
                <a:off x="6513480" y="2946240"/>
                <a:ext cx="1522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9" name=""/>
              <p:cNvSpPr/>
              <p:nvPr/>
            </p:nvSpPr>
            <p:spPr>
              <a:xfrm>
                <a:off x="6513480" y="2943360"/>
                <a:ext cx="1522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0" name=""/>
              <p:cNvSpPr/>
              <p:nvPr/>
            </p:nvSpPr>
            <p:spPr>
              <a:xfrm>
                <a:off x="6513480" y="2941560"/>
                <a:ext cx="152280" cy="180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1" name=""/>
              <p:cNvSpPr/>
              <p:nvPr/>
            </p:nvSpPr>
            <p:spPr>
              <a:xfrm>
                <a:off x="6513480" y="2938320"/>
                <a:ext cx="15228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2" name=""/>
              <p:cNvSpPr/>
              <p:nvPr/>
            </p:nvSpPr>
            <p:spPr>
              <a:xfrm>
                <a:off x="6513480" y="2940120"/>
                <a:ext cx="149400" cy="376200"/>
              </a:xfrm>
              <a:custGeom>
                <a:avLst/>
                <a:gdLst/>
                <a:ahLst/>
                <a:rect l="l" t="t" r="r" b="b"/>
                <a:pathLst>
                  <a:path w="187" h="475">
                    <a:moveTo>
                      <a:pt x="0" y="240"/>
                    </a:moveTo>
                    <a:lnTo>
                      <a:pt x="94" y="475"/>
                    </a:lnTo>
                    <a:lnTo>
                      <a:pt x="187" y="240"/>
                    </a:lnTo>
                    <a:lnTo>
                      <a:pt x="94" y="0"/>
                    </a:lnTo>
                    <a:lnTo>
                      <a:pt x="0" y="24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3" name=""/>
              <p:cNvSpPr/>
              <p:nvPr/>
            </p:nvSpPr>
            <p:spPr>
              <a:xfrm>
                <a:off x="7121520" y="3270240"/>
                <a:ext cx="171360" cy="14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4" name=""/>
              <p:cNvSpPr/>
              <p:nvPr/>
            </p:nvSpPr>
            <p:spPr>
              <a:xfrm>
                <a:off x="7121520" y="3267000"/>
                <a:ext cx="17136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5" name=""/>
              <p:cNvSpPr/>
              <p:nvPr/>
            </p:nvSpPr>
            <p:spPr>
              <a:xfrm>
                <a:off x="7121520" y="3263760"/>
                <a:ext cx="171360" cy="32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6" name=""/>
              <p:cNvSpPr/>
              <p:nvPr/>
            </p:nvSpPr>
            <p:spPr>
              <a:xfrm>
                <a:off x="7121520" y="3262320"/>
                <a:ext cx="17136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7" name=""/>
              <p:cNvSpPr/>
              <p:nvPr/>
            </p:nvSpPr>
            <p:spPr>
              <a:xfrm>
                <a:off x="7121520" y="3259080"/>
                <a:ext cx="171360" cy="46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8" name=""/>
              <p:cNvSpPr/>
              <p:nvPr/>
            </p:nvSpPr>
            <p:spPr>
              <a:xfrm>
                <a:off x="7121520" y="3257640"/>
                <a:ext cx="171360" cy="14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9" name=""/>
              <p:cNvSpPr/>
              <p:nvPr/>
            </p:nvSpPr>
            <p:spPr>
              <a:xfrm>
                <a:off x="7121520" y="3255840"/>
                <a:ext cx="17136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0" name=""/>
              <p:cNvSpPr/>
              <p:nvPr/>
            </p:nvSpPr>
            <p:spPr>
              <a:xfrm>
                <a:off x="7121520" y="3251160"/>
                <a:ext cx="17136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1" name=""/>
              <p:cNvSpPr/>
              <p:nvPr/>
            </p:nvSpPr>
            <p:spPr>
              <a:xfrm>
                <a:off x="7121520" y="3251160"/>
                <a:ext cx="17136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2" name=""/>
              <p:cNvSpPr/>
              <p:nvPr/>
            </p:nvSpPr>
            <p:spPr>
              <a:xfrm>
                <a:off x="7121520" y="3249720"/>
                <a:ext cx="17136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3" name=""/>
              <p:cNvSpPr/>
              <p:nvPr/>
            </p:nvSpPr>
            <p:spPr>
              <a:xfrm>
                <a:off x="7121520" y="3244680"/>
                <a:ext cx="17136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4" name=""/>
              <p:cNvSpPr/>
              <p:nvPr/>
            </p:nvSpPr>
            <p:spPr>
              <a:xfrm>
                <a:off x="7121520" y="3243240"/>
                <a:ext cx="17136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5" name=""/>
              <p:cNvSpPr/>
              <p:nvPr/>
            </p:nvSpPr>
            <p:spPr>
              <a:xfrm>
                <a:off x="7121520" y="3241800"/>
                <a:ext cx="171360" cy="28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6" name=""/>
              <p:cNvSpPr/>
              <p:nvPr/>
            </p:nvSpPr>
            <p:spPr>
              <a:xfrm>
                <a:off x="7121520" y="3236760"/>
                <a:ext cx="171360" cy="50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7" name=""/>
              <p:cNvSpPr/>
              <p:nvPr/>
            </p:nvSpPr>
            <p:spPr>
              <a:xfrm>
                <a:off x="7121520" y="3235320"/>
                <a:ext cx="171360" cy="14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8" name=""/>
              <p:cNvSpPr/>
              <p:nvPr/>
            </p:nvSpPr>
            <p:spPr>
              <a:xfrm>
                <a:off x="7121520" y="3233880"/>
                <a:ext cx="171360" cy="28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9" name=""/>
              <p:cNvSpPr/>
              <p:nvPr/>
            </p:nvSpPr>
            <p:spPr>
              <a:xfrm>
                <a:off x="7121520" y="3230640"/>
                <a:ext cx="1713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0" name=""/>
              <p:cNvSpPr/>
              <p:nvPr/>
            </p:nvSpPr>
            <p:spPr>
              <a:xfrm>
                <a:off x="7121520" y="3228840"/>
                <a:ext cx="171360" cy="180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1" name=""/>
              <p:cNvSpPr/>
              <p:nvPr/>
            </p:nvSpPr>
            <p:spPr>
              <a:xfrm>
                <a:off x="7121520" y="3227400"/>
                <a:ext cx="17136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2" name=""/>
              <p:cNvSpPr/>
              <p:nvPr/>
            </p:nvSpPr>
            <p:spPr>
              <a:xfrm>
                <a:off x="7121520" y="3222720"/>
                <a:ext cx="1713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3" name=""/>
              <p:cNvSpPr/>
              <p:nvPr/>
            </p:nvSpPr>
            <p:spPr>
              <a:xfrm>
                <a:off x="7121520" y="3220920"/>
                <a:ext cx="17136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4" name=""/>
              <p:cNvSpPr/>
              <p:nvPr/>
            </p:nvSpPr>
            <p:spPr>
              <a:xfrm>
                <a:off x="7121520" y="3219480"/>
                <a:ext cx="17136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5" name=""/>
              <p:cNvSpPr/>
              <p:nvPr/>
            </p:nvSpPr>
            <p:spPr>
              <a:xfrm>
                <a:off x="7121520" y="3216240"/>
                <a:ext cx="1713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6" name=""/>
              <p:cNvSpPr/>
              <p:nvPr/>
            </p:nvSpPr>
            <p:spPr>
              <a:xfrm>
                <a:off x="7121520" y="3214800"/>
                <a:ext cx="17136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7" name=""/>
              <p:cNvSpPr/>
              <p:nvPr/>
            </p:nvSpPr>
            <p:spPr>
              <a:xfrm>
                <a:off x="7121520" y="3213000"/>
                <a:ext cx="17136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8" name=""/>
              <p:cNvSpPr/>
              <p:nvPr/>
            </p:nvSpPr>
            <p:spPr>
              <a:xfrm>
                <a:off x="7121520" y="3208320"/>
                <a:ext cx="171360" cy="324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9" name=""/>
              <p:cNvSpPr/>
              <p:nvPr/>
            </p:nvSpPr>
            <p:spPr>
              <a:xfrm>
                <a:off x="7121520" y="3208320"/>
                <a:ext cx="171360" cy="14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0" name=""/>
              <p:cNvSpPr/>
              <p:nvPr/>
            </p:nvSpPr>
            <p:spPr>
              <a:xfrm>
                <a:off x="7121520" y="3205080"/>
                <a:ext cx="17136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1" name=""/>
              <p:cNvSpPr/>
              <p:nvPr/>
            </p:nvSpPr>
            <p:spPr>
              <a:xfrm>
                <a:off x="7121520" y="3201840"/>
                <a:ext cx="17136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2" name=""/>
              <p:cNvSpPr/>
              <p:nvPr/>
            </p:nvSpPr>
            <p:spPr>
              <a:xfrm>
                <a:off x="7121520" y="3200400"/>
                <a:ext cx="17136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3" name=""/>
              <p:cNvSpPr/>
              <p:nvPr/>
            </p:nvSpPr>
            <p:spPr>
              <a:xfrm>
                <a:off x="7121520" y="3198960"/>
                <a:ext cx="17136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4" name=""/>
              <p:cNvSpPr/>
              <p:nvPr/>
            </p:nvSpPr>
            <p:spPr>
              <a:xfrm>
                <a:off x="7121520" y="3195720"/>
                <a:ext cx="171360" cy="1440"/>
              </a:xfrm>
              <a:prstGeom prst="rect">
                <a:avLst/>
              </a:prstGeom>
              <a:solidFill>
                <a:srgbClr val="b0b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5" name=""/>
              <p:cNvSpPr/>
              <p:nvPr/>
            </p:nvSpPr>
            <p:spPr>
              <a:xfrm>
                <a:off x="7121520" y="3192480"/>
                <a:ext cx="171360" cy="46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6" name=""/>
              <p:cNvSpPr/>
              <p:nvPr/>
            </p:nvSpPr>
            <p:spPr>
              <a:xfrm>
                <a:off x="7121520" y="3191040"/>
                <a:ext cx="17136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7" name=""/>
              <p:cNvSpPr/>
              <p:nvPr/>
            </p:nvSpPr>
            <p:spPr>
              <a:xfrm>
                <a:off x="7121520" y="3189240"/>
                <a:ext cx="171360" cy="180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8" name=""/>
              <p:cNvSpPr/>
              <p:nvPr/>
            </p:nvSpPr>
            <p:spPr>
              <a:xfrm>
                <a:off x="7121520" y="3186000"/>
                <a:ext cx="17136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9" name=""/>
              <p:cNvSpPr/>
              <p:nvPr/>
            </p:nvSpPr>
            <p:spPr>
              <a:xfrm>
                <a:off x="7121520" y="3184560"/>
                <a:ext cx="17136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0" name=""/>
              <p:cNvSpPr/>
              <p:nvPr/>
            </p:nvSpPr>
            <p:spPr>
              <a:xfrm>
                <a:off x="7121520" y="3182760"/>
                <a:ext cx="1713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1" name=""/>
              <p:cNvSpPr/>
              <p:nvPr/>
            </p:nvSpPr>
            <p:spPr>
              <a:xfrm>
                <a:off x="7121520" y="3179880"/>
                <a:ext cx="171360" cy="28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2" name=""/>
              <p:cNvSpPr/>
              <p:nvPr/>
            </p:nvSpPr>
            <p:spPr>
              <a:xfrm>
                <a:off x="7121520" y="3176640"/>
                <a:ext cx="171360" cy="14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3" name=""/>
              <p:cNvSpPr/>
              <p:nvPr/>
            </p:nvSpPr>
            <p:spPr>
              <a:xfrm>
                <a:off x="7121520" y="3176640"/>
                <a:ext cx="171360" cy="14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4" name=""/>
              <p:cNvSpPr/>
              <p:nvPr/>
            </p:nvSpPr>
            <p:spPr>
              <a:xfrm>
                <a:off x="7121520" y="3171960"/>
                <a:ext cx="17136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5" name=""/>
              <p:cNvSpPr/>
              <p:nvPr/>
            </p:nvSpPr>
            <p:spPr>
              <a:xfrm>
                <a:off x="7121520" y="3170160"/>
                <a:ext cx="17136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6" name=""/>
              <p:cNvSpPr/>
              <p:nvPr/>
            </p:nvSpPr>
            <p:spPr>
              <a:xfrm>
                <a:off x="7121520" y="3168720"/>
                <a:ext cx="171360" cy="14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7" name=""/>
              <p:cNvSpPr/>
              <p:nvPr/>
            </p:nvSpPr>
            <p:spPr>
              <a:xfrm>
                <a:off x="7121520" y="3164040"/>
                <a:ext cx="171360" cy="46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8" name=""/>
              <p:cNvSpPr/>
              <p:nvPr/>
            </p:nvSpPr>
            <p:spPr>
              <a:xfrm>
                <a:off x="7121520" y="3162240"/>
                <a:ext cx="171360" cy="180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9" name=""/>
              <p:cNvSpPr/>
              <p:nvPr/>
            </p:nvSpPr>
            <p:spPr>
              <a:xfrm>
                <a:off x="7121520" y="3160800"/>
                <a:ext cx="17136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0" name=""/>
              <p:cNvSpPr/>
              <p:nvPr/>
            </p:nvSpPr>
            <p:spPr>
              <a:xfrm>
                <a:off x="7121520" y="3157560"/>
                <a:ext cx="17136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1" name=""/>
              <p:cNvSpPr/>
              <p:nvPr/>
            </p:nvSpPr>
            <p:spPr>
              <a:xfrm>
                <a:off x="7121520" y="3156120"/>
                <a:ext cx="171360" cy="14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2" name=""/>
              <p:cNvSpPr/>
              <p:nvPr/>
            </p:nvSpPr>
            <p:spPr>
              <a:xfrm>
                <a:off x="7121520" y="3154320"/>
                <a:ext cx="1713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3" name=""/>
              <p:cNvSpPr/>
              <p:nvPr/>
            </p:nvSpPr>
            <p:spPr>
              <a:xfrm>
                <a:off x="7121520" y="3151080"/>
                <a:ext cx="1713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4" name=""/>
              <p:cNvSpPr/>
              <p:nvPr/>
            </p:nvSpPr>
            <p:spPr>
              <a:xfrm>
                <a:off x="7121520" y="3149640"/>
                <a:ext cx="171360" cy="14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5" name=""/>
              <p:cNvSpPr/>
              <p:nvPr/>
            </p:nvSpPr>
            <p:spPr>
              <a:xfrm>
                <a:off x="7121520" y="3147840"/>
                <a:ext cx="17136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6" name=""/>
              <p:cNvSpPr/>
              <p:nvPr/>
            </p:nvSpPr>
            <p:spPr>
              <a:xfrm>
                <a:off x="7121520" y="3143160"/>
                <a:ext cx="17136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7" name=""/>
              <p:cNvSpPr/>
              <p:nvPr/>
            </p:nvSpPr>
            <p:spPr>
              <a:xfrm>
                <a:off x="7121520" y="3141720"/>
                <a:ext cx="1713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8" name=""/>
              <p:cNvSpPr/>
              <p:nvPr/>
            </p:nvSpPr>
            <p:spPr>
              <a:xfrm>
                <a:off x="7121520" y="3139920"/>
                <a:ext cx="17136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9" name=""/>
              <p:cNvSpPr/>
              <p:nvPr/>
            </p:nvSpPr>
            <p:spPr>
              <a:xfrm>
                <a:off x="7121520" y="3135240"/>
                <a:ext cx="17136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0" name=""/>
              <p:cNvSpPr/>
              <p:nvPr/>
            </p:nvSpPr>
            <p:spPr>
              <a:xfrm>
                <a:off x="7121520" y="3135240"/>
                <a:ext cx="171360" cy="180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1" name=""/>
              <p:cNvSpPr/>
              <p:nvPr/>
            </p:nvSpPr>
            <p:spPr>
              <a:xfrm>
                <a:off x="7121520" y="3132000"/>
                <a:ext cx="17136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2" name=""/>
              <p:cNvSpPr/>
              <p:nvPr/>
            </p:nvSpPr>
            <p:spPr>
              <a:xfrm>
                <a:off x="7121520" y="3129120"/>
                <a:ext cx="17136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3" name=""/>
              <p:cNvSpPr/>
              <p:nvPr/>
            </p:nvSpPr>
            <p:spPr>
              <a:xfrm>
                <a:off x="7121520" y="3127320"/>
                <a:ext cx="1713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4" name=""/>
              <p:cNvSpPr/>
              <p:nvPr/>
            </p:nvSpPr>
            <p:spPr>
              <a:xfrm>
                <a:off x="7121520" y="3125880"/>
                <a:ext cx="1713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5" name=""/>
              <p:cNvSpPr/>
              <p:nvPr/>
            </p:nvSpPr>
            <p:spPr>
              <a:xfrm>
                <a:off x="7121520" y="3121200"/>
                <a:ext cx="17136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6" name=""/>
              <p:cNvSpPr/>
              <p:nvPr/>
            </p:nvSpPr>
            <p:spPr>
              <a:xfrm>
                <a:off x="7121520" y="311940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7" name=""/>
              <p:cNvSpPr/>
              <p:nvPr/>
            </p:nvSpPr>
            <p:spPr>
              <a:xfrm>
                <a:off x="7121520" y="3117960"/>
                <a:ext cx="1713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8" name=""/>
              <p:cNvSpPr/>
              <p:nvPr/>
            </p:nvSpPr>
            <p:spPr>
              <a:xfrm>
                <a:off x="7121520" y="311472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9" name=""/>
              <p:cNvSpPr/>
              <p:nvPr/>
            </p:nvSpPr>
            <p:spPr>
              <a:xfrm>
                <a:off x="7121520" y="311292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0" name=""/>
              <p:cNvSpPr/>
              <p:nvPr/>
            </p:nvSpPr>
            <p:spPr>
              <a:xfrm>
                <a:off x="7121520" y="3111480"/>
                <a:ext cx="17136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1" name=""/>
              <p:cNvSpPr/>
              <p:nvPr/>
            </p:nvSpPr>
            <p:spPr>
              <a:xfrm>
                <a:off x="7121520" y="3108240"/>
                <a:ext cx="17136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2" name=""/>
              <p:cNvSpPr/>
              <p:nvPr/>
            </p:nvSpPr>
            <p:spPr>
              <a:xfrm>
                <a:off x="7121520" y="3106800"/>
                <a:ext cx="171360" cy="14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3" name=""/>
              <p:cNvSpPr/>
              <p:nvPr/>
            </p:nvSpPr>
            <p:spPr>
              <a:xfrm>
                <a:off x="7121520" y="3103560"/>
                <a:ext cx="171360" cy="14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4" name=""/>
              <p:cNvSpPr/>
              <p:nvPr/>
            </p:nvSpPr>
            <p:spPr>
              <a:xfrm>
                <a:off x="7121520" y="3100320"/>
                <a:ext cx="171360" cy="46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5" name=""/>
              <p:cNvSpPr/>
              <p:nvPr/>
            </p:nvSpPr>
            <p:spPr>
              <a:xfrm>
                <a:off x="7121520" y="3098880"/>
                <a:ext cx="17136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6" name=""/>
              <p:cNvSpPr/>
              <p:nvPr/>
            </p:nvSpPr>
            <p:spPr>
              <a:xfrm>
                <a:off x="7121520" y="3097080"/>
                <a:ext cx="17136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7" name=""/>
              <p:cNvSpPr/>
              <p:nvPr/>
            </p:nvSpPr>
            <p:spPr>
              <a:xfrm>
                <a:off x="7121520" y="3094200"/>
                <a:ext cx="171360" cy="28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8" name=""/>
              <p:cNvSpPr/>
              <p:nvPr/>
            </p:nvSpPr>
            <p:spPr>
              <a:xfrm>
                <a:off x="7121520" y="3090960"/>
                <a:ext cx="1713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9" name=""/>
              <p:cNvSpPr/>
              <p:nvPr/>
            </p:nvSpPr>
            <p:spPr>
              <a:xfrm>
                <a:off x="7121520" y="3089160"/>
                <a:ext cx="171360" cy="180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0" name=""/>
              <p:cNvSpPr/>
              <p:nvPr/>
            </p:nvSpPr>
            <p:spPr>
              <a:xfrm>
                <a:off x="7121520" y="3086280"/>
                <a:ext cx="171360" cy="28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1" name=""/>
              <p:cNvSpPr/>
              <p:nvPr/>
            </p:nvSpPr>
            <p:spPr>
              <a:xfrm>
                <a:off x="7121520" y="3084480"/>
                <a:ext cx="1713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2" name=""/>
              <p:cNvSpPr/>
              <p:nvPr/>
            </p:nvSpPr>
            <p:spPr>
              <a:xfrm>
                <a:off x="7121520" y="3084480"/>
                <a:ext cx="171360" cy="180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3" name=""/>
              <p:cNvSpPr/>
              <p:nvPr/>
            </p:nvSpPr>
            <p:spPr>
              <a:xfrm>
                <a:off x="7121520" y="3079800"/>
                <a:ext cx="171360" cy="46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4" name=""/>
              <p:cNvSpPr/>
              <p:nvPr/>
            </p:nvSpPr>
            <p:spPr>
              <a:xfrm>
                <a:off x="7121520" y="3078000"/>
                <a:ext cx="171360" cy="180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5" name=""/>
              <p:cNvSpPr/>
              <p:nvPr/>
            </p:nvSpPr>
            <p:spPr>
              <a:xfrm>
                <a:off x="7121520" y="3076560"/>
                <a:ext cx="171360" cy="14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6" name=""/>
              <p:cNvSpPr/>
              <p:nvPr/>
            </p:nvSpPr>
            <p:spPr>
              <a:xfrm>
                <a:off x="7121520" y="3071880"/>
                <a:ext cx="171360" cy="46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7" name=""/>
              <p:cNvSpPr/>
              <p:nvPr/>
            </p:nvSpPr>
            <p:spPr>
              <a:xfrm>
                <a:off x="7121520" y="3070080"/>
                <a:ext cx="171360" cy="180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8" name=""/>
              <p:cNvSpPr/>
              <p:nvPr/>
            </p:nvSpPr>
            <p:spPr>
              <a:xfrm>
                <a:off x="7121520" y="3068640"/>
                <a:ext cx="1713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9" name=""/>
              <p:cNvSpPr/>
              <p:nvPr/>
            </p:nvSpPr>
            <p:spPr>
              <a:xfrm>
                <a:off x="7121520" y="3065400"/>
                <a:ext cx="1713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0" name=""/>
              <p:cNvSpPr/>
              <p:nvPr/>
            </p:nvSpPr>
            <p:spPr>
              <a:xfrm>
                <a:off x="7121520" y="3062160"/>
                <a:ext cx="171360" cy="180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1" name=""/>
              <p:cNvSpPr/>
              <p:nvPr/>
            </p:nvSpPr>
            <p:spPr>
              <a:xfrm>
                <a:off x="7121520" y="3062160"/>
                <a:ext cx="171360" cy="180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2" name=""/>
              <p:cNvSpPr/>
              <p:nvPr/>
            </p:nvSpPr>
            <p:spPr>
              <a:xfrm>
                <a:off x="7121520" y="3057480"/>
                <a:ext cx="171360" cy="324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3" name=""/>
              <p:cNvSpPr/>
              <p:nvPr/>
            </p:nvSpPr>
            <p:spPr>
              <a:xfrm>
                <a:off x="7121520" y="3056040"/>
                <a:ext cx="1713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4" name=""/>
              <p:cNvSpPr/>
              <p:nvPr/>
            </p:nvSpPr>
            <p:spPr>
              <a:xfrm>
                <a:off x="7121520" y="3054240"/>
                <a:ext cx="17136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355" name=""/>
            <p:cNvGrpSpPr/>
            <p:nvPr/>
          </p:nvGrpSpPr>
          <p:grpSpPr>
            <a:xfrm>
              <a:off x="6475320" y="2968560"/>
              <a:ext cx="817560" cy="333360"/>
              <a:chOff x="6475320" y="2968560"/>
              <a:chExt cx="817560" cy="333360"/>
            </a:xfrm>
          </p:grpSpPr>
          <p:sp>
            <p:nvSpPr>
              <p:cNvPr id="11356" name=""/>
              <p:cNvSpPr/>
              <p:nvPr/>
            </p:nvSpPr>
            <p:spPr>
              <a:xfrm>
                <a:off x="7121520" y="3052800"/>
                <a:ext cx="171360" cy="14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>
                <a:off x="7121520" y="3049560"/>
                <a:ext cx="1713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>
                <a:off x="7121520" y="3048120"/>
                <a:ext cx="17136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>
                <a:off x="7121520" y="3044880"/>
                <a:ext cx="171360" cy="3240"/>
              </a:xfrm>
              <a:prstGeom prst="rect">
                <a:avLst/>
              </a:prstGeom>
              <a:solidFill>
                <a:srgbClr val="b4b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>
                <a:off x="7121520" y="3041640"/>
                <a:ext cx="171360" cy="324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>
                <a:off x="7121520" y="3040200"/>
                <a:ext cx="17136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>
                <a:off x="7121520" y="3038400"/>
                <a:ext cx="171360" cy="180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>
                <a:off x="7121520" y="3035160"/>
                <a:ext cx="17136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>
                <a:off x="7121520" y="3032280"/>
                <a:ext cx="171360" cy="28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>
                <a:off x="7121520" y="3030480"/>
                <a:ext cx="171360" cy="180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>
                <a:off x="7121520" y="3027240"/>
                <a:ext cx="171360" cy="504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7121520" y="3025800"/>
                <a:ext cx="171360" cy="14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7121520" y="3022560"/>
                <a:ext cx="171360" cy="180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7121520" y="3019320"/>
                <a:ext cx="171360" cy="50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>
                <a:off x="7121520" y="3017880"/>
                <a:ext cx="17136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>
                <a:off x="7121520" y="3016080"/>
                <a:ext cx="171360" cy="180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>
                <a:off x="7121520" y="3013200"/>
                <a:ext cx="17136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>
                <a:off x="7121520" y="3011400"/>
                <a:ext cx="171360" cy="180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>
                <a:off x="7121520" y="3009960"/>
                <a:ext cx="17136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>
                <a:off x="7121520" y="3006720"/>
                <a:ext cx="1713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>
                <a:off x="7121520" y="3003480"/>
                <a:ext cx="171360" cy="180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>
                <a:off x="7121520" y="3003480"/>
                <a:ext cx="1713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>
                <a:off x="7121520" y="2998800"/>
                <a:ext cx="1713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7121520" y="2997360"/>
                <a:ext cx="171360" cy="14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7121520" y="2995560"/>
                <a:ext cx="17136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7121520" y="2990880"/>
                <a:ext cx="171360" cy="46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>
                <a:off x="7121520" y="2989440"/>
                <a:ext cx="17136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>
                <a:off x="7121520" y="2987640"/>
                <a:ext cx="171360" cy="32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>
                <a:off x="7121520" y="2986200"/>
                <a:ext cx="171360" cy="14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>
                <a:off x="7121520" y="2984400"/>
                <a:ext cx="17136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>
                <a:off x="7121520" y="2981160"/>
                <a:ext cx="17136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>
                <a:off x="7121520" y="2978280"/>
                <a:ext cx="171360" cy="28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>
                <a:off x="7121520" y="2976480"/>
                <a:ext cx="171360" cy="180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>
                <a:off x="7121520" y="2975040"/>
                <a:ext cx="171360" cy="14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>
                <a:off x="7121520" y="2970360"/>
                <a:ext cx="171360" cy="28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7121520" y="2968560"/>
                <a:ext cx="171360" cy="32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7121520" y="2970360"/>
                <a:ext cx="169920" cy="299880"/>
              </a:xfrm>
              <a:custGeom>
                <a:avLst/>
                <a:gdLst/>
                <a:ahLst/>
                <a:rect l="l" t="t" r="r" b="b"/>
                <a:pathLst>
                  <a:path w="213" h="378">
                    <a:moveTo>
                      <a:pt x="0" y="190"/>
                    </a:moveTo>
                    <a:lnTo>
                      <a:pt x="105" y="378"/>
                    </a:lnTo>
                    <a:lnTo>
                      <a:pt x="213" y="190"/>
                    </a:lnTo>
                    <a:lnTo>
                      <a:pt x="105" y="0"/>
                    </a:lnTo>
                    <a:lnTo>
                      <a:pt x="0" y="19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6475320" y="3193920"/>
                <a:ext cx="55800" cy="180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>
                <a:off x="6475320" y="3189240"/>
                <a:ext cx="5580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>
                <a:off x="6475320" y="3187800"/>
                <a:ext cx="55800" cy="14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>
                <a:off x="6475320" y="3184560"/>
                <a:ext cx="5580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>
                <a:off x="6475320" y="3182760"/>
                <a:ext cx="55800" cy="180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6475320" y="3179880"/>
                <a:ext cx="55800" cy="46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6475320" y="3178080"/>
                <a:ext cx="55800" cy="180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6475320" y="3176640"/>
                <a:ext cx="55800" cy="14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6475320" y="3173400"/>
                <a:ext cx="5580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6475320" y="3170160"/>
                <a:ext cx="55800" cy="324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6475320" y="3166920"/>
                <a:ext cx="55800" cy="324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6475320" y="3165480"/>
                <a:ext cx="5580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6475320" y="3164040"/>
                <a:ext cx="5580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6475320" y="3160800"/>
                <a:ext cx="5580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6475320" y="3157560"/>
                <a:ext cx="55800" cy="324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6475320" y="3156120"/>
                <a:ext cx="5580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6475320" y="3154320"/>
                <a:ext cx="5580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6475320" y="3149640"/>
                <a:ext cx="5580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6475320" y="3147840"/>
                <a:ext cx="558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6475320" y="3144960"/>
                <a:ext cx="55800" cy="288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6475320" y="3143160"/>
                <a:ext cx="5580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6475320" y="3139920"/>
                <a:ext cx="55800" cy="50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6475320" y="3138480"/>
                <a:ext cx="558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6475320" y="3137040"/>
                <a:ext cx="5580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6475320" y="3132000"/>
                <a:ext cx="5580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6475320" y="3130560"/>
                <a:ext cx="558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6475320" y="3127320"/>
                <a:ext cx="55800" cy="46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6475320" y="3125880"/>
                <a:ext cx="55800" cy="14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6475320" y="3122640"/>
                <a:ext cx="55800" cy="324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6475320" y="3121200"/>
                <a:ext cx="55800" cy="14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6475320" y="3116160"/>
                <a:ext cx="5580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6475320" y="3116160"/>
                <a:ext cx="5580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6475320" y="3112920"/>
                <a:ext cx="558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6475320" y="3110040"/>
                <a:ext cx="55800" cy="288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6475320" y="3108240"/>
                <a:ext cx="55800" cy="180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6475320" y="3103560"/>
                <a:ext cx="55800" cy="32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6475320" y="3103560"/>
                <a:ext cx="5580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6475320" y="3100320"/>
                <a:ext cx="55800" cy="324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6475320" y="3097080"/>
                <a:ext cx="55800" cy="180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6475320" y="3097080"/>
                <a:ext cx="55800" cy="180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6475320" y="3092400"/>
                <a:ext cx="55800" cy="46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>
                <a:off x="6475320" y="3090960"/>
                <a:ext cx="55800" cy="14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6475320" y="3087720"/>
                <a:ext cx="55800" cy="32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6475320" y="3084480"/>
                <a:ext cx="55800" cy="180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6475320" y="3081240"/>
                <a:ext cx="5580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6475320" y="3081240"/>
                <a:ext cx="5580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6475320" y="3076560"/>
                <a:ext cx="5580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6475320" y="3075120"/>
                <a:ext cx="5580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6475320" y="3076560"/>
                <a:ext cx="55800" cy="120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6627960" y="3298680"/>
                <a:ext cx="51264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6627960" y="3295800"/>
                <a:ext cx="51264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6627960" y="3292560"/>
                <a:ext cx="51264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6627960" y="3292560"/>
                <a:ext cx="51264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6627960" y="3287880"/>
                <a:ext cx="512640" cy="28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6627960" y="3284640"/>
                <a:ext cx="512640" cy="46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6627960" y="3282840"/>
                <a:ext cx="51264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6627960" y="3279600"/>
                <a:ext cx="512640" cy="32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6627960" y="3278160"/>
                <a:ext cx="512640" cy="14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6627960" y="3274920"/>
                <a:ext cx="5126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6627960" y="3270240"/>
                <a:ext cx="5126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6627960" y="3270240"/>
                <a:ext cx="512640" cy="14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6627960" y="3267000"/>
                <a:ext cx="5126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6627960" y="3262320"/>
                <a:ext cx="51264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6627960" y="3260880"/>
                <a:ext cx="512640" cy="288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6627960" y="3259080"/>
                <a:ext cx="512640" cy="180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6627960" y="3257640"/>
                <a:ext cx="512640" cy="14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6627960" y="3252960"/>
                <a:ext cx="512640" cy="28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6627960" y="3249720"/>
                <a:ext cx="512640" cy="46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6627960" y="3247920"/>
                <a:ext cx="51264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6627960" y="3244680"/>
                <a:ext cx="5126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6627960" y="3243240"/>
                <a:ext cx="51264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6627960" y="3238560"/>
                <a:ext cx="51264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6627960" y="3235320"/>
                <a:ext cx="51264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6627960" y="3233880"/>
                <a:ext cx="512640" cy="14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>
                <a:off x="6627960" y="3230640"/>
                <a:ext cx="51264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>
                <a:off x="6627960" y="3228840"/>
                <a:ext cx="512640" cy="180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>
                <a:off x="6627960" y="3224160"/>
                <a:ext cx="5126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>
                <a:off x="6627960" y="3220920"/>
                <a:ext cx="512640" cy="50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>
                <a:off x="6627960" y="3218040"/>
                <a:ext cx="512640" cy="28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>
                <a:off x="6627960" y="3214800"/>
                <a:ext cx="51264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>
                <a:off x="6627960" y="3211560"/>
                <a:ext cx="512640" cy="324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>
                <a:off x="6627960" y="3208320"/>
                <a:ext cx="5126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>
                <a:off x="6627960" y="3206880"/>
                <a:ext cx="5126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>
                <a:off x="6627960" y="3203640"/>
                <a:ext cx="51264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>
                <a:off x="6627960" y="3198960"/>
                <a:ext cx="512640" cy="28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>
                <a:off x="6627960" y="3198960"/>
                <a:ext cx="512640" cy="14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>
                <a:off x="6627960" y="3195720"/>
                <a:ext cx="51264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>
                <a:off x="6627960" y="3193920"/>
                <a:ext cx="512640" cy="180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>
                <a:off x="6627960" y="3189240"/>
                <a:ext cx="512640" cy="46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>
                <a:off x="6627960" y="3186000"/>
                <a:ext cx="5126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>
                <a:off x="6627960" y="3184560"/>
                <a:ext cx="51264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>
                <a:off x="6627960" y="3182760"/>
                <a:ext cx="512640" cy="180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>
                <a:off x="6627960" y="3179880"/>
                <a:ext cx="512640" cy="28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>
                <a:off x="6627960" y="3176640"/>
                <a:ext cx="512640" cy="32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>
                <a:off x="6627960" y="3173400"/>
                <a:ext cx="51264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>
                <a:off x="6627960" y="3170160"/>
                <a:ext cx="512640" cy="180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>
                <a:off x="6627960" y="3166920"/>
                <a:ext cx="5126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>
                <a:off x="6627960" y="3166920"/>
                <a:ext cx="51264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>
                <a:off x="6627960" y="3162240"/>
                <a:ext cx="5126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>
                <a:off x="6627960" y="3159000"/>
                <a:ext cx="51264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>
                <a:off x="6627960" y="3154320"/>
                <a:ext cx="5126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>
                <a:off x="6627960" y="3151080"/>
                <a:ext cx="5126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6627960" y="3149640"/>
                <a:ext cx="51264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6627960" y="3144960"/>
                <a:ext cx="51264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6627960" y="3144960"/>
                <a:ext cx="512640" cy="14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6627960" y="3141720"/>
                <a:ext cx="5126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6627960" y="3137040"/>
                <a:ext cx="51264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>
                <a:off x="6627960" y="3135240"/>
                <a:ext cx="5126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>
                <a:off x="6627960" y="3133800"/>
                <a:ext cx="5126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>
                <a:off x="6627960" y="3132000"/>
                <a:ext cx="51264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>
                <a:off x="6627960" y="3127320"/>
                <a:ext cx="5126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>
                <a:off x="6627960" y="3122640"/>
                <a:ext cx="5126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>
                <a:off x="6627960" y="3122640"/>
                <a:ext cx="5126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>
                <a:off x="6627960" y="3119400"/>
                <a:ext cx="5126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>
                <a:off x="6627960" y="3117960"/>
                <a:ext cx="5126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>
                <a:off x="6627960" y="3112920"/>
                <a:ext cx="5126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>
                <a:off x="6627960" y="3110040"/>
                <a:ext cx="51264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>
                <a:off x="6627960" y="3108240"/>
                <a:ext cx="51264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>
                <a:off x="6627960" y="3105000"/>
                <a:ext cx="51264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>
                <a:off x="6627960" y="3103560"/>
                <a:ext cx="51264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>
                <a:off x="6627960" y="3100320"/>
                <a:ext cx="5126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>
                <a:off x="6627960" y="3097080"/>
                <a:ext cx="51264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>
                <a:off x="6627960" y="3094200"/>
                <a:ext cx="512640" cy="14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>
                <a:off x="6627960" y="3090960"/>
                <a:ext cx="51264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>
                <a:off x="6627960" y="3087720"/>
                <a:ext cx="5126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>
                <a:off x="6627960" y="3087720"/>
                <a:ext cx="512640" cy="14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>
                <a:off x="6627960" y="3083040"/>
                <a:ext cx="5126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>
                <a:off x="6627960" y="3081240"/>
                <a:ext cx="512640" cy="180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>
                <a:off x="6627960" y="3078000"/>
                <a:ext cx="512640" cy="50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2" name=""/>
              <p:cNvSpPr/>
              <p:nvPr/>
            </p:nvSpPr>
            <p:spPr>
              <a:xfrm>
                <a:off x="6627960" y="3075120"/>
                <a:ext cx="512640" cy="28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3" name=""/>
              <p:cNvSpPr/>
              <p:nvPr/>
            </p:nvSpPr>
            <p:spPr>
              <a:xfrm>
                <a:off x="6627960" y="3073320"/>
                <a:ext cx="512640" cy="180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>
                <a:off x="6627960" y="3068640"/>
                <a:ext cx="5126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>
                <a:off x="6627960" y="3068640"/>
                <a:ext cx="51264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>
                <a:off x="6627960" y="3065400"/>
                <a:ext cx="5126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>
                <a:off x="6627960" y="3060720"/>
                <a:ext cx="51264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>
                <a:off x="6627960" y="3059280"/>
                <a:ext cx="51264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>
                <a:off x="6627960" y="3057480"/>
                <a:ext cx="512640" cy="180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>
                <a:off x="6627960" y="3056040"/>
                <a:ext cx="512640" cy="14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>
                <a:off x="6627960" y="3051000"/>
                <a:ext cx="512640" cy="50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>
                <a:off x="6627960" y="3046320"/>
                <a:ext cx="51264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>
                <a:off x="6627960" y="3044880"/>
                <a:ext cx="5126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>
                <a:off x="6627960" y="3041640"/>
                <a:ext cx="5126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>
                <a:off x="6627960" y="3041640"/>
                <a:ext cx="512640" cy="14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>
                <a:off x="6627960" y="3036960"/>
                <a:ext cx="512640" cy="324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>
                <a:off x="6627960" y="3033720"/>
                <a:ext cx="512640" cy="46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>
                <a:off x="6627960" y="3032280"/>
                <a:ext cx="51264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>
                <a:off x="6627960" y="3029040"/>
                <a:ext cx="51264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>
                <a:off x="6627960" y="3025800"/>
                <a:ext cx="5126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>
                <a:off x="6627960" y="3022560"/>
                <a:ext cx="512640" cy="180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>
                <a:off x="6627960" y="3019320"/>
                <a:ext cx="51264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>
                <a:off x="6627960" y="3019320"/>
                <a:ext cx="512640" cy="180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>
                <a:off x="6627960" y="3016080"/>
                <a:ext cx="51264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>
                <a:off x="6627960" y="3011400"/>
                <a:ext cx="51264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>
                <a:off x="6627960" y="3009960"/>
                <a:ext cx="5126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>
                <a:off x="6627960" y="3006720"/>
                <a:ext cx="5126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>
                <a:off x="6627960" y="3005280"/>
                <a:ext cx="512640" cy="14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>
                <a:off x="6627960" y="3002040"/>
                <a:ext cx="512640" cy="46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>
                <a:off x="6627960" y="2997360"/>
                <a:ext cx="512640" cy="28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>
                <a:off x="6627960" y="2997360"/>
                <a:ext cx="512640" cy="14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>
                <a:off x="6627960" y="2994120"/>
                <a:ext cx="512640" cy="32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>
                <a:off x="6627960" y="2992320"/>
                <a:ext cx="51264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>
                <a:off x="6627960" y="2987640"/>
                <a:ext cx="51264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5" name=""/>
              <p:cNvSpPr/>
              <p:nvPr/>
            </p:nvSpPr>
            <p:spPr>
              <a:xfrm>
                <a:off x="6627960" y="2984400"/>
                <a:ext cx="5126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556" name=""/>
            <p:cNvGrpSpPr/>
            <p:nvPr/>
          </p:nvGrpSpPr>
          <p:grpSpPr>
            <a:xfrm>
              <a:off x="6513480" y="2938320"/>
              <a:ext cx="627120" cy="379440"/>
              <a:chOff x="6513480" y="2938320"/>
              <a:chExt cx="627120" cy="379440"/>
            </a:xfrm>
          </p:grpSpPr>
          <p:sp>
            <p:nvSpPr>
              <p:cNvPr id="11557" name=""/>
              <p:cNvSpPr/>
              <p:nvPr/>
            </p:nvSpPr>
            <p:spPr>
              <a:xfrm>
                <a:off x="6627960" y="2982960"/>
                <a:ext cx="512640" cy="14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>
                <a:off x="6627960" y="2979720"/>
                <a:ext cx="5126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>
                <a:off x="6627960" y="2976480"/>
                <a:ext cx="5126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>
                <a:off x="6627960" y="2975040"/>
                <a:ext cx="512640" cy="14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>
                <a:off x="6627960" y="2971800"/>
                <a:ext cx="512640" cy="32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>
                <a:off x="6627960" y="2970360"/>
                <a:ext cx="51264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>
                <a:off x="6627960" y="2965320"/>
                <a:ext cx="51264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>
                <a:off x="6627960" y="2962440"/>
                <a:ext cx="512640" cy="46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>
                <a:off x="6627960" y="2960640"/>
                <a:ext cx="512640" cy="180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>
                <a:off x="6627960" y="2957400"/>
                <a:ext cx="51264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>
                <a:off x="6627960" y="2955960"/>
                <a:ext cx="51264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>
                <a:off x="6627960" y="2952720"/>
                <a:ext cx="51264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>
                <a:off x="6627960" y="2952720"/>
                <a:ext cx="512640" cy="3492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>
                <a:off x="6589800" y="3313080"/>
                <a:ext cx="3816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>
                <a:off x="6589800" y="3311640"/>
                <a:ext cx="3816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>
                <a:off x="6589800" y="3308400"/>
                <a:ext cx="3816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>
                <a:off x="6589800" y="3305160"/>
                <a:ext cx="3816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>
                <a:off x="6589800" y="3303720"/>
                <a:ext cx="38160" cy="14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>
                <a:off x="6589800" y="3300480"/>
                <a:ext cx="3816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>
                <a:off x="6589800" y="3295800"/>
                <a:ext cx="38160" cy="28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>
                <a:off x="6589800" y="3295800"/>
                <a:ext cx="38160" cy="14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>
                <a:off x="6589800" y="3290760"/>
                <a:ext cx="3816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>
                <a:off x="6589800" y="3286080"/>
                <a:ext cx="3816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>
                <a:off x="6589800" y="3282840"/>
                <a:ext cx="3816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>
                <a:off x="6589800" y="3282840"/>
                <a:ext cx="3816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>
                <a:off x="6589800" y="3279600"/>
                <a:ext cx="381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>
                <a:off x="6589800" y="3274920"/>
                <a:ext cx="3816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>
                <a:off x="6589800" y="3273480"/>
                <a:ext cx="3816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>
                <a:off x="6589800" y="3270240"/>
                <a:ext cx="3816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>
                <a:off x="6589800" y="3267000"/>
                <a:ext cx="381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>
                <a:off x="6589800" y="3263760"/>
                <a:ext cx="3816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>
                <a:off x="6589800" y="3260880"/>
                <a:ext cx="3816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>
                <a:off x="6589800" y="3259080"/>
                <a:ext cx="3816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>
                <a:off x="6589800" y="3257640"/>
                <a:ext cx="38160" cy="14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>
                <a:off x="6589800" y="3252960"/>
                <a:ext cx="3816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>
                <a:off x="6589800" y="3247920"/>
                <a:ext cx="381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>
                <a:off x="6589800" y="3247920"/>
                <a:ext cx="3816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>
                <a:off x="6589800" y="3243240"/>
                <a:ext cx="3816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>
                <a:off x="6589800" y="3240000"/>
                <a:ext cx="3816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>
                <a:off x="6589800" y="3236760"/>
                <a:ext cx="3816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>
                <a:off x="6589800" y="3235320"/>
                <a:ext cx="38160" cy="14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>
                <a:off x="6589800" y="3230640"/>
                <a:ext cx="3816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>
                <a:off x="6589800" y="3227400"/>
                <a:ext cx="3816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>
                <a:off x="6589800" y="3225960"/>
                <a:ext cx="3816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>
                <a:off x="6589800" y="3220920"/>
                <a:ext cx="3816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>
                <a:off x="6589800" y="3218040"/>
                <a:ext cx="3816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>
                <a:off x="6589800" y="3216240"/>
                <a:ext cx="3816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>
                <a:off x="6589800" y="3213000"/>
                <a:ext cx="381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>
                <a:off x="6589800" y="3209760"/>
                <a:ext cx="3816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>
                <a:off x="6589800" y="3208320"/>
                <a:ext cx="3816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>
                <a:off x="6589800" y="3205080"/>
                <a:ext cx="381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>
                <a:off x="6589800" y="3201840"/>
                <a:ext cx="3816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>
                <a:off x="6589800" y="3198960"/>
                <a:ext cx="3816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>
                <a:off x="6589800" y="3195720"/>
                <a:ext cx="3816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>
                <a:off x="6589800" y="3192480"/>
                <a:ext cx="381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>
                <a:off x="6589800" y="3189240"/>
                <a:ext cx="381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>
                <a:off x="6589800" y="3187800"/>
                <a:ext cx="38160" cy="14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>
                <a:off x="6589800" y="3182760"/>
                <a:ext cx="381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>
                <a:off x="6589800" y="3179880"/>
                <a:ext cx="38160" cy="468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>
                <a:off x="6589800" y="3178080"/>
                <a:ext cx="3816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>
                <a:off x="6589800" y="3174840"/>
                <a:ext cx="38160" cy="50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>
                <a:off x="6589800" y="3170160"/>
                <a:ext cx="3816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>
                <a:off x="6589800" y="3170160"/>
                <a:ext cx="381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>
                <a:off x="6589800" y="3166920"/>
                <a:ext cx="381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>
                <a:off x="6589800" y="3162240"/>
                <a:ext cx="3816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>
                <a:off x="6589800" y="3160800"/>
                <a:ext cx="381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>
                <a:off x="6589800" y="3157560"/>
                <a:ext cx="3816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>
                <a:off x="6589800" y="3154320"/>
                <a:ext cx="381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>
                <a:off x="6589800" y="3151080"/>
                <a:ext cx="3816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>
                <a:off x="6589800" y="3147840"/>
                <a:ext cx="3816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>
                <a:off x="6589800" y="3144960"/>
                <a:ext cx="3816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>
                <a:off x="6589800" y="3141720"/>
                <a:ext cx="3816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>
                <a:off x="6589800" y="3139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>
                <a:off x="6589800" y="3137040"/>
                <a:ext cx="3816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>
                <a:off x="6589800" y="313200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>
                <a:off x="6589800" y="3132000"/>
                <a:ext cx="3816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>
                <a:off x="6589800" y="3127320"/>
                <a:ext cx="381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>
                <a:off x="6589800" y="3125880"/>
                <a:ext cx="381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>
                <a:off x="6589800" y="312264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>
                <a:off x="6589800" y="311940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>
                <a:off x="6589800" y="3116160"/>
                <a:ext cx="381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>
                <a:off x="6589800" y="3112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>
                <a:off x="6589800" y="3110040"/>
                <a:ext cx="3816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>
                <a:off x="6589800" y="310680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>
                <a:off x="6589800" y="3105000"/>
                <a:ext cx="3816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>
                <a:off x="6589800" y="3100320"/>
                <a:ext cx="381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>
                <a:off x="6589800" y="3097080"/>
                <a:ext cx="381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>
                <a:off x="6589800" y="3094200"/>
                <a:ext cx="3816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>
                <a:off x="6589800" y="3092400"/>
                <a:ext cx="3816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>
                <a:off x="6589800" y="3089160"/>
                <a:ext cx="3816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>
                <a:off x="6589800" y="3084480"/>
                <a:ext cx="381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>
                <a:off x="6589800" y="3084480"/>
                <a:ext cx="381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>
                <a:off x="6589800" y="3081240"/>
                <a:ext cx="3816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>
                <a:off x="6589800" y="3078000"/>
                <a:ext cx="3816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6589800" y="3075120"/>
                <a:ext cx="38160" cy="288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6589800" y="3071880"/>
                <a:ext cx="3816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6589800" y="3068640"/>
                <a:ext cx="381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6589800" y="3065400"/>
                <a:ext cx="3816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>
                <a:off x="6589800" y="3062160"/>
                <a:ext cx="3816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>
                <a:off x="6589800" y="3060720"/>
                <a:ext cx="3816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>
                <a:off x="6589800" y="3059280"/>
                <a:ext cx="38160" cy="14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>
                <a:off x="6589800" y="3054240"/>
                <a:ext cx="3816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>
                <a:off x="6589800" y="3051000"/>
                <a:ext cx="3816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>
                <a:off x="6589800" y="3046320"/>
                <a:ext cx="381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>
                <a:off x="6589800" y="3044880"/>
                <a:ext cx="3816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>
                <a:off x="6589800" y="3041640"/>
                <a:ext cx="3816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>
                <a:off x="6589800" y="3038400"/>
                <a:ext cx="381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>
                <a:off x="6589800" y="3035160"/>
                <a:ext cx="3816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>
                <a:off x="6589800" y="3032280"/>
                <a:ext cx="3816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>
                <a:off x="6589800" y="3029040"/>
                <a:ext cx="3816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>
                <a:off x="6589800" y="3027240"/>
                <a:ext cx="3816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>
                <a:off x="6589800" y="3024360"/>
                <a:ext cx="3816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>
                <a:off x="6589800" y="3019320"/>
                <a:ext cx="3816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>
                <a:off x="6589800" y="3019320"/>
                <a:ext cx="38160" cy="180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>
                <a:off x="6589800" y="3014640"/>
                <a:ext cx="3816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>
                <a:off x="6589800" y="3011400"/>
                <a:ext cx="3816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>
                <a:off x="6589800" y="3009960"/>
                <a:ext cx="3816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>
                <a:off x="6589800" y="3006720"/>
                <a:ext cx="3816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>
                <a:off x="6589800" y="3003480"/>
                <a:ext cx="381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>
                <a:off x="6589800" y="2998800"/>
                <a:ext cx="381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>
                <a:off x="6589800" y="2997360"/>
                <a:ext cx="38160" cy="28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>
                <a:off x="6589800" y="2994120"/>
                <a:ext cx="381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>
                <a:off x="6589800" y="2990880"/>
                <a:ext cx="3816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>
                <a:off x="6589800" y="2989440"/>
                <a:ext cx="3816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>
                <a:off x="6589800" y="2986200"/>
                <a:ext cx="38160" cy="46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>
                <a:off x="6589800" y="2981160"/>
                <a:ext cx="3816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>
                <a:off x="6589800" y="2981160"/>
                <a:ext cx="381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>
                <a:off x="6589800" y="2976480"/>
                <a:ext cx="381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>
                <a:off x="6589800" y="2971800"/>
                <a:ext cx="381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>
                <a:off x="6589800" y="2971800"/>
                <a:ext cx="3816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>
                <a:off x="6589800" y="2968560"/>
                <a:ext cx="3816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>
                <a:off x="6589800" y="2965320"/>
                <a:ext cx="3816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>
                <a:off x="6589800" y="2962440"/>
                <a:ext cx="3816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>
                <a:off x="6589800" y="2959200"/>
                <a:ext cx="38160" cy="46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>
                <a:off x="6589800" y="2955960"/>
                <a:ext cx="3816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>
                <a:off x="6589800" y="2952720"/>
                <a:ext cx="3816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>
                <a:off x="6589800" y="2949480"/>
                <a:ext cx="3816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>
                <a:off x="6589800" y="2948040"/>
                <a:ext cx="38160" cy="14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>
                <a:off x="6589800" y="2943360"/>
                <a:ext cx="38160" cy="28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>
                <a:off x="6589800" y="2943360"/>
                <a:ext cx="38160" cy="14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>
                <a:off x="6589800" y="2938320"/>
                <a:ext cx="3816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>
                <a:off x="6589800" y="2938320"/>
                <a:ext cx="38160" cy="37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>
                <a:off x="6513480" y="3208320"/>
                <a:ext cx="38160" cy="14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>
                <a:off x="6513480" y="3205080"/>
                <a:ext cx="38160" cy="46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>
                <a:off x="6513480" y="3203640"/>
                <a:ext cx="38160" cy="14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>
                <a:off x="6513480" y="3201840"/>
                <a:ext cx="3816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>
                <a:off x="6513480" y="3198960"/>
                <a:ext cx="3816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>
                <a:off x="6513480" y="3195720"/>
                <a:ext cx="381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>
                <a:off x="6513480" y="3193920"/>
                <a:ext cx="38160" cy="180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>
                <a:off x="6513480" y="3191040"/>
                <a:ext cx="38160" cy="288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>
                <a:off x="6513480" y="3189240"/>
                <a:ext cx="38160" cy="180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>
                <a:off x="6513480" y="3189240"/>
                <a:ext cx="38160" cy="180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>
                <a:off x="6513480" y="3184560"/>
                <a:ext cx="38160" cy="468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>
                <a:off x="6513480" y="3182760"/>
                <a:ext cx="3816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>
                <a:off x="6513480" y="3181320"/>
                <a:ext cx="3816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>
                <a:off x="6513480" y="3176640"/>
                <a:ext cx="3816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>
                <a:off x="6513480" y="3174840"/>
                <a:ext cx="38160" cy="180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>
                <a:off x="6513480" y="3173400"/>
                <a:ext cx="38160" cy="32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>
                <a:off x="6513480" y="3170160"/>
                <a:ext cx="38160" cy="324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>
                <a:off x="6513480" y="3166920"/>
                <a:ext cx="38160" cy="180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>
                <a:off x="6513480" y="3166920"/>
                <a:ext cx="3816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>
                <a:off x="6513480" y="3162240"/>
                <a:ext cx="3816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>
                <a:off x="6513480" y="3160800"/>
                <a:ext cx="381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>
                <a:off x="6513480" y="3159000"/>
                <a:ext cx="3816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>
                <a:off x="6513480" y="3154320"/>
                <a:ext cx="38160" cy="32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>
                <a:off x="6513480" y="3154320"/>
                <a:ext cx="38160" cy="180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>
                <a:off x="6513480" y="3151080"/>
                <a:ext cx="3816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>
                <a:off x="6513480" y="3147840"/>
                <a:ext cx="3816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>
                <a:off x="6513480" y="3147840"/>
                <a:ext cx="38160" cy="180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>
                <a:off x="6513480" y="3144960"/>
                <a:ext cx="3816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>
                <a:off x="6513480" y="314172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>
                <a:off x="6513480" y="3139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>
                <a:off x="6513480" y="3138480"/>
                <a:ext cx="38160" cy="14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>
                <a:off x="6513480" y="3135240"/>
                <a:ext cx="3816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>
                <a:off x="6513480" y="3133800"/>
                <a:ext cx="381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>
                <a:off x="6513480" y="3130560"/>
                <a:ext cx="38160" cy="14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>
                <a:off x="6513480" y="3129120"/>
                <a:ext cx="3816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>
                <a:off x="6513480" y="312588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>
                <a:off x="6513480" y="3122640"/>
                <a:ext cx="381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>
                <a:off x="6513480" y="3121200"/>
                <a:ext cx="3816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>
                <a:off x="6513480" y="3117960"/>
                <a:ext cx="3816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>
                <a:off x="6513480" y="3116160"/>
                <a:ext cx="3816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>
                <a:off x="6513480" y="3114720"/>
                <a:ext cx="38160" cy="14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>
                <a:off x="6513480" y="3111480"/>
                <a:ext cx="38160" cy="46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>
                <a:off x="6513480" y="3110040"/>
                <a:ext cx="3816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>
                <a:off x="6513480" y="3108240"/>
                <a:ext cx="38160" cy="180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>
                <a:off x="6513480" y="3103560"/>
                <a:ext cx="38160" cy="46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>
                <a:off x="6513480" y="3102120"/>
                <a:ext cx="3816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>
                <a:off x="6513480" y="3100320"/>
                <a:ext cx="3816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>
                <a:off x="6513480" y="3097080"/>
                <a:ext cx="38160" cy="324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>
                <a:off x="6513480" y="3094200"/>
                <a:ext cx="38160" cy="14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>
                <a:off x="6513480" y="3094200"/>
                <a:ext cx="38160" cy="14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>
                <a:off x="6513480" y="3089160"/>
                <a:ext cx="38160" cy="324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>
                <a:off x="6513480" y="3087720"/>
                <a:ext cx="3816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>
                <a:off x="6513480" y="3086280"/>
                <a:ext cx="38160" cy="14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>
                <a:off x="6513480" y="3081240"/>
                <a:ext cx="38160" cy="324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>
                <a:off x="6513480" y="3081240"/>
                <a:ext cx="38160" cy="180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>
                <a:off x="6513480" y="3078000"/>
                <a:ext cx="3816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>
                <a:off x="6513480" y="3076560"/>
                <a:ext cx="38160" cy="144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6" name=""/>
              <p:cNvSpPr/>
              <p:nvPr/>
            </p:nvSpPr>
            <p:spPr>
              <a:xfrm>
                <a:off x="6513480" y="3075120"/>
                <a:ext cx="38160" cy="14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757" name=""/>
            <p:cNvGrpSpPr/>
            <p:nvPr/>
          </p:nvGrpSpPr>
          <p:grpSpPr>
            <a:xfrm>
              <a:off x="6399360" y="2938320"/>
              <a:ext cx="988920" cy="379440"/>
              <a:chOff x="6399360" y="2938320"/>
              <a:chExt cx="988920" cy="379440"/>
            </a:xfrm>
          </p:grpSpPr>
          <p:sp>
            <p:nvSpPr>
              <p:cNvPr id="11758" name=""/>
              <p:cNvSpPr/>
              <p:nvPr/>
            </p:nvSpPr>
            <p:spPr>
              <a:xfrm>
                <a:off x="6513480" y="3071880"/>
                <a:ext cx="381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9" name=""/>
              <p:cNvSpPr/>
              <p:nvPr/>
            </p:nvSpPr>
            <p:spPr>
              <a:xfrm>
                <a:off x="6513480" y="3068640"/>
                <a:ext cx="3816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0" name=""/>
              <p:cNvSpPr/>
              <p:nvPr/>
            </p:nvSpPr>
            <p:spPr>
              <a:xfrm>
                <a:off x="6513480" y="3067200"/>
                <a:ext cx="3816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1" name=""/>
              <p:cNvSpPr/>
              <p:nvPr/>
            </p:nvSpPr>
            <p:spPr>
              <a:xfrm>
                <a:off x="6513480" y="3065400"/>
                <a:ext cx="38160" cy="180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2" name=""/>
              <p:cNvSpPr/>
              <p:nvPr/>
            </p:nvSpPr>
            <p:spPr>
              <a:xfrm>
                <a:off x="6513480" y="3060720"/>
                <a:ext cx="38160" cy="324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3" name=""/>
              <p:cNvSpPr/>
              <p:nvPr/>
            </p:nvSpPr>
            <p:spPr>
              <a:xfrm>
                <a:off x="6513480" y="3059280"/>
                <a:ext cx="3816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4" name=""/>
              <p:cNvSpPr/>
              <p:nvPr/>
            </p:nvSpPr>
            <p:spPr>
              <a:xfrm>
                <a:off x="6513480" y="3059280"/>
                <a:ext cx="38160" cy="1522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5" name=""/>
              <p:cNvSpPr/>
              <p:nvPr/>
            </p:nvSpPr>
            <p:spPr>
              <a:xfrm>
                <a:off x="6684840" y="29988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96" h="58">
                    <a:moveTo>
                      <a:pt x="0" y="28"/>
                    </a:moveTo>
                    <a:lnTo>
                      <a:pt x="0" y="3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7" y="44"/>
                    </a:lnTo>
                    <a:lnTo>
                      <a:pt x="14" y="48"/>
                    </a:lnTo>
                    <a:lnTo>
                      <a:pt x="20" y="52"/>
                    </a:lnTo>
                    <a:lnTo>
                      <a:pt x="29" y="55"/>
                    </a:lnTo>
                    <a:lnTo>
                      <a:pt x="38" y="56"/>
                    </a:lnTo>
                    <a:lnTo>
                      <a:pt x="48" y="58"/>
                    </a:lnTo>
                    <a:lnTo>
                      <a:pt x="57" y="56"/>
                    </a:lnTo>
                    <a:lnTo>
                      <a:pt x="65" y="55"/>
                    </a:lnTo>
                    <a:lnTo>
                      <a:pt x="74" y="52"/>
                    </a:lnTo>
                    <a:lnTo>
                      <a:pt x="81" y="48"/>
                    </a:lnTo>
                    <a:lnTo>
                      <a:pt x="88" y="44"/>
                    </a:lnTo>
                    <a:lnTo>
                      <a:pt x="91" y="39"/>
                    </a:lnTo>
                    <a:lnTo>
                      <a:pt x="93" y="36"/>
                    </a:lnTo>
                    <a:lnTo>
                      <a:pt x="94" y="34"/>
                    </a:lnTo>
                    <a:lnTo>
                      <a:pt x="94" y="31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3"/>
                    </a:lnTo>
                    <a:lnTo>
                      <a:pt x="93" y="20"/>
                    </a:lnTo>
                    <a:lnTo>
                      <a:pt x="91" y="18"/>
                    </a:lnTo>
                    <a:lnTo>
                      <a:pt x="88" y="12"/>
                    </a:lnTo>
                    <a:lnTo>
                      <a:pt x="81" y="8"/>
                    </a:lnTo>
                    <a:lnTo>
                      <a:pt x="74" y="4"/>
                    </a:lnTo>
                    <a:lnTo>
                      <a:pt x="65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9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6" name=""/>
              <p:cNvSpPr/>
              <p:nvPr/>
            </p:nvSpPr>
            <p:spPr>
              <a:xfrm>
                <a:off x="6684840" y="29988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96" h="58">
                    <a:moveTo>
                      <a:pt x="0" y="28"/>
                    </a:moveTo>
                    <a:lnTo>
                      <a:pt x="0" y="3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7" y="44"/>
                    </a:lnTo>
                    <a:lnTo>
                      <a:pt x="14" y="48"/>
                    </a:lnTo>
                    <a:lnTo>
                      <a:pt x="20" y="52"/>
                    </a:lnTo>
                    <a:lnTo>
                      <a:pt x="29" y="55"/>
                    </a:lnTo>
                    <a:lnTo>
                      <a:pt x="38" y="56"/>
                    </a:lnTo>
                    <a:lnTo>
                      <a:pt x="48" y="58"/>
                    </a:lnTo>
                    <a:lnTo>
                      <a:pt x="57" y="56"/>
                    </a:lnTo>
                    <a:lnTo>
                      <a:pt x="65" y="55"/>
                    </a:lnTo>
                    <a:lnTo>
                      <a:pt x="74" y="52"/>
                    </a:lnTo>
                    <a:lnTo>
                      <a:pt x="81" y="48"/>
                    </a:lnTo>
                    <a:lnTo>
                      <a:pt x="88" y="44"/>
                    </a:lnTo>
                    <a:lnTo>
                      <a:pt x="91" y="39"/>
                    </a:lnTo>
                    <a:lnTo>
                      <a:pt x="93" y="36"/>
                    </a:lnTo>
                    <a:lnTo>
                      <a:pt x="94" y="34"/>
                    </a:lnTo>
                    <a:lnTo>
                      <a:pt x="94" y="31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3"/>
                    </a:lnTo>
                    <a:lnTo>
                      <a:pt x="93" y="20"/>
                    </a:lnTo>
                    <a:lnTo>
                      <a:pt x="91" y="18"/>
                    </a:lnTo>
                    <a:lnTo>
                      <a:pt x="88" y="12"/>
                    </a:lnTo>
                    <a:lnTo>
                      <a:pt x="81" y="8"/>
                    </a:lnTo>
                    <a:lnTo>
                      <a:pt x="74" y="4"/>
                    </a:lnTo>
                    <a:lnTo>
                      <a:pt x="65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9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7" name=""/>
              <p:cNvSpPr/>
              <p:nvPr/>
            </p:nvSpPr>
            <p:spPr>
              <a:xfrm>
                <a:off x="7140600" y="3313080"/>
                <a:ext cx="586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8" name=""/>
              <p:cNvSpPr/>
              <p:nvPr/>
            </p:nvSpPr>
            <p:spPr>
              <a:xfrm>
                <a:off x="7140600" y="3311640"/>
                <a:ext cx="5868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9" name=""/>
              <p:cNvSpPr/>
              <p:nvPr/>
            </p:nvSpPr>
            <p:spPr>
              <a:xfrm>
                <a:off x="7140600" y="3308400"/>
                <a:ext cx="5868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0" name=""/>
              <p:cNvSpPr/>
              <p:nvPr/>
            </p:nvSpPr>
            <p:spPr>
              <a:xfrm>
                <a:off x="7140600" y="3305160"/>
                <a:ext cx="586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1" name=""/>
              <p:cNvSpPr/>
              <p:nvPr/>
            </p:nvSpPr>
            <p:spPr>
              <a:xfrm>
                <a:off x="7140600" y="3303720"/>
                <a:ext cx="58680" cy="14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2" name=""/>
              <p:cNvSpPr/>
              <p:nvPr/>
            </p:nvSpPr>
            <p:spPr>
              <a:xfrm>
                <a:off x="7140600" y="3300480"/>
                <a:ext cx="5868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3" name=""/>
              <p:cNvSpPr/>
              <p:nvPr/>
            </p:nvSpPr>
            <p:spPr>
              <a:xfrm>
                <a:off x="7140600" y="3295800"/>
                <a:ext cx="58680" cy="28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4" name=""/>
              <p:cNvSpPr/>
              <p:nvPr/>
            </p:nvSpPr>
            <p:spPr>
              <a:xfrm>
                <a:off x="7140600" y="3295800"/>
                <a:ext cx="58680" cy="14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5" name=""/>
              <p:cNvSpPr/>
              <p:nvPr/>
            </p:nvSpPr>
            <p:spPr>
              <a:xfrm>
                <a:off x="7140600" y="3290760"/>
                <a:ext cx="5868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6" name=""/>
              <p:cNvSpPr/>
              <p:nvPr/>
            </p:nvSpPr>
            <p:spPr>
              <a:xfrm>
                <a:off x="7140600" y="3286080"/>
                <a:ext cx="5868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7" name=""/>
              <p:cNvSpPr/>
              <p:nvPr/>
            </p:nvSpPr>
            <p:spPr>
              <a:xfrm>
                <a:off x="7140600" y="3282840"/>
                <a:ext cx="5868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8" name=""/>
              <p:cNvSpPr/>
              <p:nvPr/>
            </p:nvSpPr>
            <p:spPr>
              <a:xfrm>
                <a:off x="7140600" y="3282840"/>
                <a:ext cx="5868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9" name=""/>
              <p:cNvSpPr/>
              <p:nvPr/>
            </p:nvSpPr>
            <p:spPr>
              <a:xfrm>
                <a:off x="7140600" y="3279600"/>
                <a:ext cx="5868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0" name=""/>
              <p:cNvSpPr/>
              <p:nvPr/>
            </p:nvSpPr>
            <p:spPr>
              <a:xfrm>
                <a:off x="7140600" y="3274920"/>
                <a:ext cx="5868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1" name=""/>
              <p:cNvSpPr/>
              <p:nvPr/>
            </p:nvSpPr>
            <p:spPr>
              <a:xfrm>
                <a:off x="7140600" y="3273480"/>
                <a:ext cx="5868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2" name=""/>
              <p:cNvSpPr/>
              <p:nvPr/>
            </p:nvSpPr>
            <p:spPr>
              <a:xfrm>
                <a:off x="7140600" y="3270240"/>
                <a:ext cx="586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3" name=""/>
              <p:cNvSpPr/>
              <p:nvPr/>
            </p:nvSpPr>
            <p:spPr>
              <a:xfrm>
                <a:off x="7140600" y="3267000"/>
                <a:ext cx="5868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4" name=""/>
              <p:cNvSpPr/>
              <p:nvPr/>
            </p:nvSpPr>
            <p:spPr>
              <a:xfrm>
                <a:off x="7140600" y="3263760"/>
                <a:ext cx="5868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5" name=""/>
              <p:cNvSpPr/>
              <p:nvPr/>
            </p:nvSpPr>
            <p:spPr>
              <a:xfrm>
                <a:off x="7140600" y="3260880"/>
                <a:ext cx="5868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6" name=""/>
              <p:cNvSpPr/>
              <p:nvPr/>
            </p:nvSpPr>
            <p:spPr>
              <a:xfrm>
                <a:off x="7140600" y="3259080"/>
                <a:ext cx="5868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7" name=""/>
              <p:cNvSpPr/>
              <p:nvPr/>
            </p:nvSpPr>
            <p:spPr>
              <a:xfrm>
                <a:off x="7140600" y="3257640"/>
                <a:ext cx="58680" cy="14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8" name=""/>
              <p:cNvSpPr/>
              <p:nvPr/>
            </p:nvSpPr>
            <p:spPr>
              <a:xfrm>
                <a:off x="7140600" y="3252960"/>
                <a:ext cx="5868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9" name=""/>
              <p:cNvSpPr/>
              <p:nvPr/>
            </p:nvSpPr>
            <p:spPr>
              <a:xfrm>
                <a:off x="7140600" y="3247920"/>
                <a:ext cx="5868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0" name=""/>
              <p:cNvSpPr/>
              <p:nvPr/>
            </p:nvSpPr>
            <p:spPr>
              <a:xfrm>
                <a:off x="7140600" y="3247920"/>
                <a:ext cx="5868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1" name=""/>
              <p:cNvSpPr/>
              <p:nvPr/>
            </p:nvSpPr>
            <p:spPr>
              <a:xfrm>
                <a:off x="7140600" y="3243240"/>
                <a:ext cx="5868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2" name=""/>
              <p:cNvSpPr/>
              <p:nvPr/>
            </p:nvSpPr>
            <p:spPr>
              <a:xfrm>
                <a:off x="7140600" y="3240000"/>
                <a:ext cx="5868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3" name=""/>
              <p:cNvSpPr/>
              <p:nvPr/>
            </p:nvSpPr>
            <p:spPr>
              <a:xfrm>
                <a:off x="7140600" y="3236760"/>
                <a:ext cx="586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4" name=""/>
              <p:cNvSpPr/>
              <p:nvPr/>
            </p:nvSpPr>
            <p:spPr>
              <a:xfrm>
                <a:off x="7140600" y="3235320"/>
                <a:ext cx="58680" cy="14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5" name=""/>
              <p:cNvSpPr/>
              <p:nvPr/>
            </p:nvSpPr>
            <p:spPr>
              <a:xfrm>
                <a:off x="7140600" y="3230640"/>
                <a:ext cx="586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6" name=""/>
              <p:cNvSpPr/>
              <p:nvPr/>
            </p:nvSpPr>
            <p:spPr>
              <a:xfrm>
                <a:off x="7140600" y="3227400"/>
                <a:ext cx="586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7" name=""/>
              <p:cNvSpPr/>
              <p:nvPr/>
            </p:nvSpPr>
            <p:spPr>
              <a:xfrm>
                <a:off x="7140600" y="3225960"/>
                <a:ext cx="5868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8" name=""/>
              <p:cNvSpPr/>
              <p:nvPr/>
            </p:nvSpPr>
            <p:spPr>
              <a:xfrm>
                <a:off x="7140600" y="3220920"/>
                <a:ext cx="5868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9" name=""/>
              <p:cNvSpPr/>
              <p:nvPr/>
            </p:nvSpPr>
            <p:spPr>
              <a:xfrm>
                <a:off x="7140600" y="3218040"/>
                <a:ext cx="5868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0" name=""/>
              <p:cNvSpPr/>
              <p:nvPr/>
            </p:nvSpPr>
            <p:spPr>
              <a:xfrm>
                <a:off x="7140600" y="3216240"/>
                <a:ext cx="586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1" name=""/>
              <p:cNvSpPr/>
              <p:nvPr/>
            </p:nvSpPr>
            <p:spPr>
              <a:xfrm>
                <a:off x="7140600" y="3213000"/>
                <a:ext cx="586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2" name=""/>
              <p:cNvSpPr/>
              <p:nvPr/>
            </p:nvSpPr>
            <p:spPr>
              <a:xfrm>
                <a:off x="7140600" y="3209760"/>
                <a:ext cx="586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3" name=""/>
              <p:cNvSpPr/>
              <p:nvPr/>
            </p:nvSpPr>
            <p:spPr>
              <a:xfrm>
                <a:off x="7140600" y="3208320"/>
                <a:ext cx="5868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4" name=""/>
              <p:cNvSpPr/>
              <p:nvPr/>
            </p:nvSpPr>
            <p:spPr>
              <a:xfrm>
                <a:off x="7140600" y="3205080"/>
                <a:ext cx="586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5" name=""/>
              <p:cNvSpPr/>
              <p:nvPr/>
            </p:nvSpPr>
            <p:spPr>
              <a:xfrm>
                <a:off x="7140600" y="3201840"/>
                <a:ext cx="586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6" name=""/>
              <p:cNvSpPr/>
              <p:nvPr/>
            </p:nvSpPr>
            <p:spPr>
              <a:xfrm>
                <a:off x="7140600" y="3198960"/>
                <a:ext cx="5868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7" name=""/>
              <p:cNvSpPr/>
              <p:nvPr/>
            </p:nvSpPr>
            <p:spPr>
              <a:xfrm>
                <a:off x="7140600" y="3195720"/>
                <a:ext cx="586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8" name=""/>
              <p:cNvSpPr/>
              <p:nvPr/>
            </p:nvSpPr>
            <p:spPr>
              <a:xfrm>
                <a:off x="7140600" y="3192480"/>
                <a:ext cx="5868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9" name=""/>
              <p:cNvSpPr/>
              <p:nvPr/>
            </p:nvSpPr>
            <p:spPr>
              <a:xfrm>
                <a:off x="7140600" y="3189240"/>
                <a:ext cx="5868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0" name=""/>
              <p:cNvSpPr/>
              <p:nvPr/>
            </p:nvSpPr>
            <p:spPr>
              <a:xfrm>
                <a:off x="7140600" y="3187800"/>
                <a:ext cx="58680" cy="14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1" name=""/>
              <p:cNvSpPr/>
              <p:nvPr/>
            </p:nvSpPr>
            <p:spPr>
              <a:xfrm>
                <a:off x="7140600" y="3182760"/>
                <a:ext cx="5868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2" name=""/>
              <p:cNvSpPr/>
              <p:nvPr/>
            </p:nvSpPr>
            <p:spPr>
              <a:xfrm>
                <a:off x="7140600" y="3179880"/>
                <a:ext cx="58680" cy="468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3" name=""/>
              <p:cNvSpPr/>
              <p:nvPr/>
            </p:nvSpPr>
            <p:spPr>
              <a:xfrm>
                <a:off x="7140600" y="3178080"/>
                <a:ext cx="5868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4" name=""/>
              <p:cNvSpPr/>
              <p:nvPr/>
            </p:nvSpPr>
            <p:spPr>
              <a:xfrm>
                <a:off x="7140600" y="3174840"/>
                <a:ext cx="58680" cy="50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5" name=""/>
              <p:cNvSpPr/>
              <p:nvPr/>
            </p:nvSpPr>
            <p:spPr>
              <a:xfrm>
                <a:off x="7140600" y="3170160"/>
                <a:ext cx="586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6" name=""/>
              <p:cNvSpPr/>
              <p:nvPr/>
            </p:nvSpPr>
            <p:spPr>
              <a:xfrm>
                <a:off x="7140600" y="3170160"/>
                <a:ext cx="5868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7" name=""/>
              <p:cNvSpPr/>
              <p:nvPr/>
            </p:nvSpPr>
            <p:spPr>
              <a:xfrm>
                <a:off x="7140600" y="3166920"/>
                <a:ext cx="586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8" name=""/>
              <p:cNvSpPr/>
              <p:nvPr/>
            </p:nvSpPr>
            <p:spPr>
              <a:xfrm>
                <a:off x="7140600" y="3162240"/>
                <a:ext cx="586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9" name=""/>
              <p:cNvSpPr/>
              <p:nvPr/>
            </p:nvSpPr>
            <p:spPr>
              <a:xfrm>
                <a:off x="7140600" y="3160800"/>
                <a:ext cx="5868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0" name=""/>
              <p:cNvSpPr/>
              <p:nvPr/>
            </p:nvSpPr>
            <p:spPr>
              <a:xfrm>
                <a:off x="7140600" y="3157560"/>
                <a:ext cx="5868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1" name=""/>
              <p:cNvSpPr/>
              <p:nvPr/>
            </p:nvSpPr>
            <p:spPr>
              <a:xfrm>
                <a:off x="7140600" y="3154320"/>
                <a:ext cx="586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2" name=""/>
              <p:cNvSpPr/>
              <p:nvPr/>
            </p:nvSpPr>
            <p:spPr>
              <a:xfrm>
                <a:off x="7140600" y="3151080"/>
                <a:ext cx="5868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3" name=""/>
              <p:cNvSpPr/>
              <p:nvPr/>
            </p:nvSpPr>
            <p:spPr>
              <a:xfrm>
                <a:off x="7140600" y="3147840"/>
                <a:ext cx="5868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4" name=""/>
              <p:cNvSpPr/>
              <p:nvPr/>
            </p:nvSpPr>
            <p:spPr>
              <a:xfrm>
                <a:off x="7140600" y="3144960"/>
                <a:ext cx="5868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5" name=""/>
              <p:cNvSpPr/>
              <p:nvPr/>
            </p:nvSpPr>
            <p:spPr>
              <a:xfrm>
                <a:off x="7140600" y="3141720"/>
                <a:ext cx="5868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6" name=""/>
              <p:cNvSpPr/>
              <p:nvPr/>
            </p:nvSpPr>
            <p:spPr>
              <a:xfrm>
                <a:off x="7140600" y="3139920"/>
                <a:ext cx="5868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7" name=""/>
              <p:cNvSpPr/>
              <p:nvPr/>
            </p:nvSpPr>
            <p:spPr>
              <a:xfrm>
                <a:off x="7140600" y="3137040"/>
                <a:ext cx="5868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8" name=""/>
              <p:cNvSpPr/>
              <p:nvPr/>
            </p:nvSpPr>
            <p:spPr>
              <a:xfrm>
                <a:off x="7140600" y="313200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9" name=""/>
              <p:cNvSpPr/>
              <p:nvPr/>
            </p:nvSpPr>
            <p:spPr>
              <a:xfrm>
                <a:off x="7140600" y="3132000"/>
                <a:ext cx="586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0" name=""/>
              <p:cNvSpPr/>
              <p:nvPr/>
            </p:nvSpPr>
            <p:spPr>
              <a:xfrm>
                <a:off x="7140600" y="3127320"/>
                <a:ext cx="5868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1" name=""/>
              <p:cNvSpPr/>
              <p:nvPr/>
            </p:nvSpPr>
            <p:spPr>
              <a:xfrm>
                <a:off x="7140600" y="3125880"/>
                <a:ext cx="586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2" name=""/>
              <p:cNvSpPr/>
              <p:nvPr/>
            </p:nvSpPr>
            <p:spPr>
              <a:xfrm>
                <a:off x="7140600" y="312264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3" name=""/>
              <p:cNvSpPr/>
              <p:nvPr/>
            </p:nvSpPr>
            <p:spPr>
              <a:xfrm>
                <a:off x="7140600" y="311940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4" name=""/>
              <p:cNvSpPr/>
              <p:nvPr/>
            </p:nvSpPr>
            <p:spPr>
              <a:xfrm>
                <a:off x="7140600" y="3116160"/>
                <a:ext cx="586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5" name=""/>
              <p:cNvSpPr/>
              <p:nvPr/>
            </p:nvSpPr>
            <p:spPr>
              <a:xfrm>
                <a:off x="7140600" y="3112920"/>
                <a:ext cx="5868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6" name=""/>
              <p:cNvSpPr/>
              <p:nvPr/>
            </p:nvSpPr>
            <p:spPr>
              <a:xfrm>
                <a:off x="7140600" y="3110040"/>
                <a:ext cx="5868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7" name=""/>
              <p:cNvSpPr/>
              <p:nvPr/>
            </p:nvSpPr>
            <p:spPr>
              <a:xfrm>
                <a:off x="7140600" y="3106800"/>
                <a:ext cx="586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8" name=""/>
              <p:cNvSpPr/>
              <p:nvPr/>
            </p:nvSpPr>
            <p:spPr>
              <a:xfrm>
                <a:off x="7140600" y="3105000"/>
                <a:ext cx="5868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9" name=""/>
              <p:cNvSpPr/>
              <p:nvPr/>
            </p:nvSpPr>
            <p:spPr>
              <a:xfrm>
                <a:off x="7140600" y="3100320"/>
                <a:ext cx="586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0" name=""/>
              <p:cNvSpPr/>
              <p:nvPr/>
            </p:nvSpPr>
            <p:spPr>
              <a:xfrm>
                <a:off x="7140600" y="3097080"/>
                <a:ext cx="586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1" name=""/>
              <p:cNvSpPr/>
              <p:nvPr/>
            </p:nvSpPr>
            <p:spPr>
              <a:xfrm>
                <a:off x="7140600" y="3094200"/>
                <a:ext cx="5868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2" name=""/>
              <p:cNvSpPr/>
              <p:nvPr/>
            </p:nvSpPr>
            <p:spPr>
              <a:xfrm>
                <a:off x="7140600" y="3092400"/>
                <a:ext cx="5868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3" name=""/>
              <p:cNvSpPr/>
              <p:nvPr/>
            </p:nvSpPr>
            <p:spPr>
              <a:xfrm>
                <a:off x="7140600" y="3089160"/>
                <a:ext cx="5868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4" name=""/>
              <p:cNvSpPr/>
              <p:nvPr/>
            </p:nvSpPr>
            <p:spPr>
              <a:xfrm>
                <a:off x="7140600" y="3084480"/>
                <a:ext cx="586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5" name=""/>
              <p:cNvSpPr/>
              <p:nvPr/>
            </p:nvSpPr>
            <p:spPr>
              <a:xfrm>
                <a:off x="7140600" y="3084480"/>
                <a:ext cx="5868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6" name=""/>
              <p:cNvSpPr/>
              <p:nvPr/>
            </p:nvSpPr>
            <p:spPr>
              <a:xfrm>
                <a:off x="7140600" y="3081240"/>
                <a:ext cx="586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7" name=""/>
              <p:cNvSpPr/>
              <p:nvPr/>
            </p:nvSpPr>
            <p:spPr>
              <a:xfrm>
                <a:off x="7140600" y="3078000"/>
                <a:ext cx="5868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8" name=""/>
              <p:cNvSpPr/>
              <p:nvPr/>
            </p:nvSpPr>
            <p:spPr>
              <a:xfrm>
                <a:off x="7140600" y="3075120"/>
                <a:ext cx="58680" cy="288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9" name=""/>
              <p:cNvSpPr/>
              <p:nvPr/>
            </p:nvSpPr>
            <p:spPr>
              <a:xfrm>
                <a:off x="7140600" y="3071880"/>
                <a:ext cx="5868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0" name=""/>
              <p:cNvSpPr/>
              <p:nvPr/>
            </p:nvSpPr>
            <p:spPr>
              <a:xfrm>
                <a:off x="7140600" y="3068640"/>
                <a:ext cx="5868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1" name=""/>
              <p:cNvSpPr/>
              <p:nvPr/>
            </p:nvSpPr>
            <p:spPr>
              <a:xfrm>
                <a:off x="7140600" y="3065400"/>
                <a:ext cx="5868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2" name=""/>
              <p:cNvSpPr/>
              <p:nvPr/>
            </p:nvSpPr>
            <p:spPr>
              <a:xfrm>
                <a:off x="7140600" y="3062160"/>
                <a:ext cx="5868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3" name=""/>
              <p:cNvSpPr/>
              <p:nvPr/>
            </p:nvSpPr>
            <p:spPr>
              <a:xfrm>
                <a:off x="7140600" y="3060720"/>
                <a:ext cx="5868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4" name=""/>
              <p:cNvSpPr/>
              <p:nvPr/>
            </p:nvSpPr>
            <p:spPr>
              <a:xfrm>
                <a:off x="7140600" y="3059280"/>
                <a:ext cx="58680" cy="14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5" name=""/>
              <p:cNvSpPr/>
              <p:nvPr/>
            </p:nvSpPr>
            <p:spPr>
              <a:xfrm>
                <a:off x="7140600" y="3054240"/>
                <a:ext cx="5868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6" name=""/>
              <p:cNvSpPr/>
              <p:nvPr/>
            </p:nvSpPr>
            <p:spPr>
              <a:xfrm>
                <a:off x="7140600" y="3051000"/>
                <a:ext cx="5868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7" name=""/>
              <p:cNvSpPr/>
              <p:nvPr/>
            </p:nvSpPr>
            <p:spPr>
              <a:xfrm>
                <a:off x="7140600" y="3046320"/>
                <a:ext cx="586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8" name=""/>
              <p:cNvSpPr/>
              <p:nvPr/>
            </p:nvSpPr>
            <p:spPr>
              <a:xfrm>
                <a:off x="7140600" y="3044880"/>
                <a:ext cx="5868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9" name=""/>
              <p:cNvSpPr/>
              <p:nvPr/>
            </p:nvSpPr>
            <p:spPr>
              <a:xfrm>
                <a:off x="7140600" y="3041640"/>
                <a:ext cx="586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0" name=""/>
              <p:cNvSpPr/>
              <p:nvPr/>
            </p:nvSpPr>
            <p:spPr>
              <a:xfrm>
                <a:off x="7140600" y="3038400"/>
                <a:ext cx="586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1" name=""/>
              <p:cNvSpPr/>
              <p:nvPr/>
            </p:nvSpPr>
            <p:spPr>
              <a:xfrm>
                <a:off x="7140600" y="3035160"/>
                <a:ext cx="586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2" name=""/>
              <p:cNvSpPr/>
              <p:nvPr/>
            </p:nvSpPr>
            <p:spPr>
              <a:xfrm>
                <a:off x="7140600" y="3032280"/>
                <a:ext cx="5868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3" name=""/>
              <p:cNvSpPr/>
              <p:nvPr/>
            </p:nvSpPr>
            <p:spPr>
              <a:xfrm>
                <a:off x="7140600" y="3029040"/>
                <a:ext cx="5868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4" name=""/>
              <p:cNvSpPr/>
              <p:nvPr/>
            </p:nvSpPr>
            <p:spPr>
              <a:xfrm>
                <a:off x="7140600" y="3027240"/>
                <a:ext cx="5868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5" name=""/>
              <p:cNvSpPr/>
              <p:nvPr/>
            </p:nvSpPr>
            <p:spPr>
              <a:xfrm>
                <a:off x="7140600" y="3024360"/>
                <a:ext cx="586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6" name=""/>
              <p:cNvSpPr/>
              <p:nvPr/>
            </p:nvSpPr>
            <p:spPr>
              <a:xfrm>
                <a:off x="7140600" y="3019320"/>
                <a:ext cx="586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7" name=""/>
              <p:cNvSpPr/>
              <p:nvPr/>
            </p:nvSpPr>
            <p:spPr>
              <a:xfrm>
                <a:off x="7140600" y="3019320"/>
                <a:ext cx="58680" cy="180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8" name=""/>
              <p:cNvSpPr/>
              <p:nvPr/>
            </p:nvSpPr>
            <p:spPr>
              <a:xfrm>
                <a:off x="7140600" y="3014640"/>
                <a:ext cx="586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9" name=""/>
              <p:cNvSpPr/>
              <p:nvPr/>
            </p:nvSpPr>
            <p:spPr>
              <a:xfrm>
                <a:off x="7140600" y="3011400"/>
                <a:ext cx="5868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0" name=""/>
              <p:cNvSpPr/>
              <p:nvPr/>
            </p:nvSpPr>
            <p:spPr>
              <a:xfrm>
                <a:off x="7140600" y="3009960"/>
                <a:ext cx="5868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1" name=""/>
              <p:cNvSpPr/>
              <p:nvPr/>
            </p:nvSpPr>
            <p:spPr>
              <a:xfrm>
                <a:off x="7140600" y="3006720"/>
                <a:ext cx="5868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2" name=""/>
              <p:cNvSpPr/>
              <p:nvPr/>
            </p:nvSpPr>
            <p:spPr>
              <a:xfrm>
                <a:off x="7140600" y="3003480"/>
                <a:ext cx="5868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3" name=""/>
              <p:cNvSpPr/>
              <p:nvPr/>
            </p:nvSpPr>
            <p:spPr>
              <a:xfrm>
                <a:off x="7140600" y="2998800"/>
                <a:ext cx="5868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4" name=""/>
              <p:cNvSpPr/>
              <p:nvPr/>
            </p:nvSpPr>
            <p:spPr>
              <a:xfrm>
                <a:off x="7140600" y="2997360"/>
                <a:ext cx="58680" cy="28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5" name=""/>
              <p:cNvSpPr/>
              <p:nvPr/>
            </p:nvSpPr>
            <p:spPr>
              <a:xfrm>
                <a:off x="7140600" y="2994120"/>
                <a:ext cx="5868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6" name=""/>
              <p:cNvSpPr/>
              <p:nvPr/>
            </p:nvSpPr>
            <p:spPr>
              <a:xfrm>
                <a:off x="7140600" y="2990880"/>
                <a:ext cx="5868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7" name=""/>
              <p:cNvSpPr/>
              <p:nvPr/>
            </p:nvSpPr>
            <p:spPr>
              <a:xfrm>
                <a:off x="7140600" y="2989440"/>
                <a:ext cx="5868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8" name=""/>
              <p:cNvSpPr/>
              <p:nvPr/>
            </p:nvSpPr>
            <p:spPr>
              <a:xfrm>
                <a:off x="7140600" y="2986200"/>
                <a:ext cx="58680" cy="46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9" name=""/>
              <p:cNvSpPr/>
              <p:nvPr/>
            </p:nvSpPr>
            <p:spPr>
              <a:xfrm>
                <a:off x="7140600" y="2981160"/>
                <a:ext cx="586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0" name=""/>
              <p:cNvSpPr/>
              <p:nvPr/>
            </p:nvSpPr>
            <p:spPr>
              <a:xfrm>
                <a:off x="7140600" y="2981160"/>
                <a:ext cx="5868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1" name=""/>
              <p:cNvSpPr/>
              <p:nvPr/>
            </p:nvSpPr>
            <p:spPr>
              <a:xfrm>
                <a:off x="7140600" y="2976480"/>
                <a:ext cx="5868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2" name=""/>
              <p:cNvSpPr/>
              <p:nvPr/>
            </p:nvSpPr>
            <p:spPr>
              <a:xfrm>
                <a:off x="7140600" y="2971800"/>
                <a:ext cx="5868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3" name=""/>
              <p:cNvSpPr/>
              <p:nvPr/>
            </p:nvSpPr>
            <p:spPr>
              <a:xfrm>
                <a:off x="7140600" y="2971800"/>
                <a:ext cx="5868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4" name=""/>
              <p:cNvSpPr/>
              <p:nvPr/>
            </p:nvSpPr>
            <p:spPr>
              <a:xfrm>
                <a:off x="7140600" y="2968560"/>
                <a:ext cx="5868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5" name=""/>
              <p:cNvSpPr/>
              <p:nvPr/>
            </p:nvSpPr>
            <p:spPr>
              <a:xfrm>
                <a:off x="7140600" y="2965320"/>
                <a:ext cx="5868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6" name=""/>
              <p:cNvSpPr/>
              <p:nvPr/>
            </p:nvSpPr>
            <p:spPr>
              <a:xfrm>
                <a:off x="7140600" y="2962440"/>
                <a:ext cx="5868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7" name=""/>
              <p:cNvSpPr/>
              <p:nvPr/>
            </p:nvSpPr>
            <p:spPr>
              <a:xfrm>
                <a:off x="7140600" y="2959200"/>
                <a:ext cx="58680" cy="46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8" name=""/>
              <p:cNvSpPr/>
              <p:nvPr/>
            </p:nvSpPr>
            <p:spPr>
              <a:xfrm>
                <a:off x="7140600" y="2955960"/>
                <a:ext cx="5868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9" name=""/>
              <p:cNvSpPr/>
              <p:nvPr/>
            </p:nvSpPr>
            <p:spPr>
              <a:xfrm>
                <a:off x="7140600" y="2952720"/>
                <a:ext cx="5868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0" name=""/>
              <p:cNvSpPr/>
              <p:nvPr/>
            </p:nvSpPr>
            <p:spPr>
              <a:xfrm>
                <a:off x="7140600" y="2949480"/>
                <a:ext cx="5868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1" name=""/>
              <p:cNvSpPr/>
              <p:nvPr/>
            </p:nvSpPr>
            <p:spPr>
              <a:xfrm>
                <a:off x="7140600" y="2948040"/>
                <a:ext cx="58680" cy="14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2" name=""/>
              <p:cNvSpPr/>
              <p:nvPr/>
            </p:nvSpPr>
            <p:spPr>
              <a:xfrm>
                <a:off x="7140600" y="2943360"/>
                <a:ext cx="58680" cy="28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3" name=""/>
              <p:cNvSpPr/>
              <p:nvPr/>
            </p:nvSpPr>
            <p:spPr>
              <a:xfrm>
                <a:off x="7140600" y="2943360"/>
                <a:ext cx="58680" cy="14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4" name=""/>
              <p:cNvSpPr/>
              <p:nvPr/>
            </p:nvSpPr>
            <p:spPr>
              <a:xfrm>
                <a:off x="7140600" y="2938320"/>
                <a:ext cx="5868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5" name=""/>
              <p:cNvSpPr/>
              <p:nvPr/>
            </p:nvSpPr>
            <p:spPr>
              <a:xfrm>
                <a:off x="7140600" y="2938320"/>
                <a:ext cx="58680" cy="37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6" name=""/>
              <p:cNvSpPr/>
              <p:nvPr/>
            </p:nvSpPr>
            <p:spPr>
              <a:xfrm>
                <a:off x="7256520" y="3075120"/>
                <a:ext cx="1440" cy="8892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7" name=""/>
              <p:cNvSpPr/>
              <p:nvPr/>
            </p:nvSpPr>
            <p:spPr>
              <a:xfrm>
                <a:off x="7257960" y="3075120"/>
                <a:ext cx="6480" cy="8892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8" name=""/>
              <p:cNvSpPr/>
              <p:nvPr/>
            </p:nvSpPr>
            <p:spPr>
              <a:xfrm>
                <a:off x="7264440" y="3075120"/>
                <a:ext cx="1440" cy="889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9" name=""/>
              <p:cNvSpPr/>
              <p:nvPr/>
            </p:nvSpPr>
            <p:spPr>
              <a:xfrm>
                <a:off x="7265880" y="3075120"/>
                <a:ext cx="3240" cy="8892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0" name=""/>
              <p:cNvSpPr/>
              <p:nvPr/>
            </p:nvSpPr>
            <p:spPr>
              <a:xfrm>
                <a:off x="7269120" y="3075120"/>
                <a:ext cx="3240" cy="88920"/>
              </a:xfrm>
              <a:prstGeom prst="rect">
                <a:avLst/>
              </a:prstGeom>
              <a:solidFill>
                <a:srgbClr val="b7b7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1" name=""/>
              <p:cNvSpPr/>
              <p:nvPr/>
            </p:nvSpPr>
            <p:spPr>
              <a:xfrm>
                <a:off x="7272360" y="3075120"/>
                <a:ext cx="4680" cy="8892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2" name=""/>
              <p:cNvSpPr/>
              <p:nvPr/>
            </p:nvSpPr>
            <p:spPr>
              <a:xfrm>
                <a:off x="7277040" y="3075120"/>
                <a:ext cx="1800" cy="8892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3" name=""/>
              <p:cNvSpPr/>
              <p:nvPr/>
            </p:nvSpPr>
            <p:spPr>
              <a:xfrm>
                <a:off x="7278840" y="3075120"/>
                <a:ext cx="6120" cy="889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4" name=""/>
              <p:cNvSpPr/>
              <p:nvPr/>
            </p:nvSpPr>
            <p:spPr>
              <a:xfrm>
                <a:off x="7284960" y="3075120"/>
                <a:ext cx="1800" cy="889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5" name=""/>
              <p:cNvSpPr/>
              <p:nvPr/>
            </p:nvSpPr>
            <p:spPr>
              <a:xfrm>
                <a:off x="7286760" y="3075120"/>
                <a:ext cx="4680" cy="8892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6" name=""/>
              <p:cNvSpPr/>
              <p:nvPr/>
            </p:nvSpPr>
            <p:spPr>
              <a:xfrm>
                <a:off x="7291440" y="3075120"/>
                <a:ext cx="3240" cy="889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7" name=""/>
              <p:cNvSpPr/>
              <p:nvPr/>
            </p:nvSpPr>
            <p:spPr>
              <a:xfrm>
                <a:off x="7294680" y="3075120"/>
                <a:ext cx="2880" cy="889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8" name=""/>
              <p:cNvSpPr/>
              <p:nvPr/>
            </p:nvSpPr>
            <p:spPr>
              <a:xfrm>
                <a:off x="7297560" y="3075120"/>
                <a:ext cx="1800" cy="8892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9" name=""/>
              <p:cNvSpPr/>
              <p:nvPr/>
            </p:nvSpPr>
            <p:spPr>
              <a:xfrm>
                <a:off x="7299360" y="3075120"/>
                <a:ext cx="4680" cy="8892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0" name=""/>
              <p:cNvSpPr/>
              <p:nvPr/>
            </p:nvSpPr>
            <p:spPr>
              <a:xfrm>
                <a:off x="7304040" y="3075120"/>
                <a:ext cx="3240" cy="88920"/>
              </a:xfrm>
              <a:prstGeom prst="rect">
                <a:avLst/>
              </a:prstGeom>
              <a:solidFill>
                <a:srgbClr val="8b8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1" name=""/>
              <p:cNvSpPr/>
              <p:nvPr/>
            </p:nvSpPr>
            <p:spPr>
              <a:xfrm>
                <a:off x="7307280" y="3075120"/>
                <a:ext cx="4680" cy="889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2" name=""/>
              <p:cNvSpPr/>
              <p:nvPr/>
            </p:nvSpPr>
            <p:spPr>
              <a:xfrm>
                <a:off x="7256520" y="3075120"/>
                <a:ext cx="55440" cy="903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3" name=""/>
              <p:cNvSpPr/>
              <p:nvPr/>
            </p:nvSpPr>
            <p:spPr>
              <a:xfrm>
                <a:off x="7273800" y="3160800"/>
                <a:ext cx="1144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4" name=""/>
              <p:cNvSpPr/>
              <p:nvPr/>
            </p:nvSpPr>
            <p:spPr>
              <a:xfrm>
                <a:off x="7273800" y="3159000"/>
                <a:ext cx="11448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5" name=""/>
              <p:cNvSpPr/>
              <p:nvPr/>
            </p:nvSpPr>
            <p:spPr>
              <a:xfrm>
                <a:off x="7273800" y="3156120"/>
                <a:ext cx="114480" cy="28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6" name=""/>
              <p:cNvSpPr/>
              <p:nvPr/>
            </p:nvSpPr>
            <p:spPr>
              <a:xfrm>
                <a:off x="7273800" y="3152880"/>
                <a:ext cx="1144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7" name=""/>
              <p:cNvSpPr/>
              <p:nvPr/>
            </p:nvSpPr>
            <p:spPr>
              <a:xfrm>
                <a:off x="7273800" y="3151080"/>
                <a:ext cx="114480" cy="32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8" name=""/>
              <p:cNvSpPr/>
              <p:nvPr/>
            </p:nvSpPr>
            <p:spPr>
              <a:xfrm>
                <a:off x="7273800" y="3147840"/>
                <a:ext cx="114480" cy="32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9" name=""/>
              <p:cNvSpPr/>
              <p:nvPr/>
            </p:nvSpPr>
            <p:spPr>
              <a:xfrm>
                <a:off x="7273800" y="3144960"/>
                <a:ext cx="114480" cy="28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0" name=""/>
              <p:cNvSpPr/>
              <p:nvPr/>
            </p:nvSpPr>
            <p:spPr>
              <a:xfrm>
                <a:off x="7273800" y="3143160"/>
                <a:ext cx="114480" cy="180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1" name=""/>
              <p:cNvSpPr/>
              <p:nvPr/>
            </p:nvSpPr>
            <p:spPr>
              <a:xfrm>
                <a:off x="7273800" y="3138480"/>
                <a:ext cx="114480" cy="32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2" name=""/>
              <p:cNvSpPr/>
              <p:nvPr/>
            </p:nvSpPr>
            <p:spPr>
              <a:xfrm>
                <a:off x="7273800" y="3135240"/>
                <a:ext cx="1144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3" name=""/>
              <p:cNvSpPr/>
              <p:nvPr/>
            </p:nvSpPr>
            <p:spPr>
              <a:xfrm>
                <a:off x="7273800" y="3135240"/>
                <a:ext cx="114480" cy="180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4" name=""/>
              <p:cNvSpPr/>
              <p:nvPr/>
            </p:nvSpPr>
            <p:spPr>
              <a:xfrm>
                <a:off x="7273800" y="3130560"/>
                <a:ext cx="114480" cy="324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5" name=""/>
              <p:cNvSpPr/>
              <p:nvPr/>
            </p:nvSpPr>
            <p:spPr>
              <a:xfrm>
                <a:off x="7273800" y="3127320"/>
                <a:ext cx="1144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6" name=""/>
              <p:cNvSpPr/>
              <p:nvPr/>
            </p:nvSpPr>
            <p:spPr>
              <a:xfrm>
                <a:off x="7273800" y="3125880"/>
                <a:ext cx="1144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7" name=""/>
              <p:cNvSpPr/>
              <p:nvPr/>
            </p:nvSpPr>
            <p:spPr>
              <a:xfrm>
                <a:off x="7273800" y="3122640"/>
                <a:ext cx="11448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8" name=""/>
              <p:cNvSpPr/>
              <p:nvPr/>
            </p:nvSpPr>
            <p:spPr>
              <a:xfrm>
                <a:off x="7273800" y="3121200"/>
                <a:ext cx="1144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9" name=""/>
              <p:cNvSpPr/>
              <p:nvPr/>
            </p:nvSpPr>
            <p:spPr>
              <a:xfrm>
                <a:off x="7273800" y="3116160"/>
                <a:ext cx="1144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0" name=""/>
              <p:cNvSpPr/>
              <p:nvPr/>
            </p:nvSpPr>
            <p:spPr>
              <a:xfrm>
                <a:off x="7273800" y="3112920"/>
                <a:ext cx="11448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1" name=""/>
              <p:cNvSpPr/>
              <p:nvPr/>
            </p:nvSpPr>
            <p:spPr>
              <a:xfrm>
                <a:off x="7273800" y="3112920"/>
                <a:ext cx="11448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2" name=""/>
              <p:cNvSpPr/>
              <p:nvPr/>
            </p:nvSpPr>
            <p:spPr>
              <a:xfrm>
                <a:off x="7273800" y="3108240"/>
                <a:ext cx="1144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3" name=""/>
              <p:cNvSpPr/>
              <p:nvPr/>
            </p:nvSpPr>
            <p:spPr>
              <a:xfrm>
                <a:off x="7273800" y="3105000"/>
                <a:ext cx="114480" cy="324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4" name=""/>
              <p:cNvSpPr/>
              <p:nvPr/>
            </p:nvSpPr>
            <p:spPr>
              <a:xfrm>
                <a:off x="7273800" y="3103560"/>
                <a:ext cx="114480" cy="14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5" name=""/>
              <p:cNvSpPr/>
              <p:nvPr/>
            </p:nvSpPr>
            <p:spPr>
              <a:xfrm>
                <a:off x="7273800" y="3100320"/>
                <a:ext cx="114480" cy="46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6" name=""/>
              <p:cNvSpPr/>
              <p:nvPr/>
            </p:nvSpPr>
            <p:spPr>
              <a:xfrm>
                <a:off x="7273800" y="3097080"/>
                <a:ext cx="114480" cy="32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7" name=""/>
              <p:cNvSpPr/>
              <p:nvPr/>
            </p:nvSpPr>
            <p:spPr>
              <a:xfrm>
                <a:off x="7273800" y="3095640"/>
                <a:ext cx="114480" cy="14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8" name=""/>
              <p:cNvSpPr/>
              <p:nvPr/>
            </p:nvSpPr>
            <p:spPr>
              <a:xfrm>
                <a:off x="7273800" y="3090960"/>
                <a:ext cx="1144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9" name=""/>
              <p:cNvSpPr/>
              <p:nvPr/>
            </p:nvSpPr>
            <p:spPr>
              <a:xfrm>
                <a:off x="7273800" y="3087720"/>
                <a:ext cx="114480" cy="32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0" name=""/>
              <p:cNvSpPr/>
              <p:nvPr/>
            </p:nvSpPr>
            <p:spPr>
              <a:xfrm>
                <a:off x="7273800" y="3087720"/>
                <a:ext cx="114480" cy="14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1" name=""/>
              <p:cNvSpPr/>
              <p:nvPr/>
            </p:nvSpPr>
            <p:spPr>
              <a:xfrm>
                <a:off x="7273800" y="3083040"/>
                <a:ext cx="1144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2" name=""/>
              <p:cNvSpPr/>
              <p:nvPr/>
            </p:nvSpPr>
            <p:spPr>
              <a:xfrm>
                <a:off x="7273800" y="3079800"/>
                <a:ext cx="1144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3" name=""/>
              <p:cNvSpPr/>
              <p:nvPr/>
            </p:nvSpPr>
            <p:spPr>
              <a:xfrm>
                <a:off x="7273800" y="3078000"/>
                <a:ext cx="11448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4" name=""/>
              <p:cNvSpPr/>
              <p:nvPr/>
            </p:nvSpPr>
            <p:spPr>
              <a:xfrm>
                <a:off x="7273800" y="3075120"/>
                <a:ext cx="1144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5" name=""/>
              <p:cNvSpPr/>
              <p:nvPr/>
            </p:nvSpPr>
            <p:spPr>
              <a:xfrm>
                <a:off x="7273800" y="3075120"/>
                <a:ext cx="114480" cy="903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6" name=""/>
              <p:cNvSpPr/>
              <p:nvPr/>
            </p:nvSpPr>
            <p:spPr>
              <a:xfrm>
                <a:off x="6399360" y="3208320"/>
                <a:ext cx="568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7" name=""/>
              <p:cNvSpPr/>
              <p:nvPr/>
            </p:nvSpPr>
            <p:spPr>
              <a:xfrm>
                <a:off x="6399360" y="3205080"/>
                <a:ext cx="5688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8" name=""/>
              <p:cNvSpPr/>
              <p:nvPr/>
            </p:nvSpPr>
            <p:spPr>
              <a:xfrm>
                <a:off x="6399360" y="3203640"/>
                <a:ext cx="56880" cy="14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9" name=""/>
              <p:cNvSpPr/>
              <p:nvPr/>
            </p:nvSpPr>
            <p:spPr>
              <a:xfrm>
                <a:off x="6399360" y="3200400"/>
                <a:ext cx="56880" cy="32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0" name=""/>
              <p:cNvSpPr/>
              <p:nvPr/>
            </p:nvSpPr>
            <p:spPr>
              <a:xfrm>
                <a:off x="6399360" y="3198960"/>
                <a:ext cx="5688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1" name=""/>
              <p:cNvSpPr/>
              <p:nvPr/>
            </p:nvSpPr>
            <p:spPr>
              <a:xfrm>
                <a:off x="6399360" y="3197160"/>
                <a:ext cx="568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2" name=""/>
              <p:cNvSpPr/>
              <p:nvPr/>
            </p:nvSpPr>
            <p:spPr>
              <a:xfrm>
                <a:off x="6399360" y="3192480"/>
                <a:ext cx="5688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3" name=""/>
              <p:cNvSpPr/>
              <p:nvPr/>
            </p:nvSpPr>
            <p:spPr>
              <a:xfrm>
                <a:off x="6399360" y="3192480"/>
                <a:ext cx="56880" cy="14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4" name=""/>
              <p:cNvSpPr/>
              <p:nvPr/>
            </p:nvSpPr>
            <p:spPr>
              <a:xfrm>
                <a:off x="6399360" y="3189240"/>
                <a:ext cx="56880" cy="324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5" name=""/>
              <p:cNvSpPr/>
              <p:nvPr/>
            </p:nvSpPr>
            <p:spPr>
              <a:xfrm>
                <a:off x="6399360" y="3186000"/>
                <a:ext cx="56880" cy="180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6" name=""/>
              <p:cNvSpPr/>
              <p:nvPr/>
            </p:nvSpPr>
            <p:spPr>
              <a:xfrm>
                <a:off x="6399360" y="3186000"/>
                <a:ext cx="56880" cy="180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7" name=""/>
              <p:cNvSpPr/>
              <p:nvPr/>
            </p:nvSpPr>
            <p:spPr>
              <a:xfrm>
                <a:off x="6399360" y="3181320"/>
                <a:ext cx="5688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958" name=""/>
            <p:cNvGrpSpPr/>
            <p:nvPr/>
          </p:nvGrpSpPr>
          <p:grpSpPr>
            <a:xfrm>
              <a:off x="6399360" y="3059280"/>
              <a:ext cx="1314360" cy="3111480"/>
              <a:chOff x="6399360" y="3059280"/>
              <a:chExt cx="1314360" cy="3111480"/>
            </a:xfrm>
          </p:grpSpPr>
          <p:sp>
            <p:nvSpPr>
              <p:cNvPr id="11959" name=""/>
              <p:cNvSpPr/>
              <p:nvPr/>
            </p:nvSpPr>
            <p:spPr>
              <a:xfrm>
                <a:off x="6399360" y="3179880"/>
                <a:ext cx="5688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0" name=""/>
              <p:cNvSpPr/>
              <p:nvPr/>
            </p:nvSpPr>
            <p:spPr>
              <a:xfrm>
                <a:off x="6399360" y="3176640"/>
                <a:ext cx="5688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1" name=""/>
              <p:cNvSpPr/>
              <p:nvPr/>
            </p:nvSpPr>
            <p:spPr>
              <a:xfrm>
                <a:off x="6399360" y="3174840"/>
                <a:ext cx="5688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2" name=""/>
              <p:cNvSpPr/>
              <p:nvPr/>
            </p:nvSpPr>
            <p:spPr>
              <a:xfrm>
                <a:off x="6399360" y="3173400"/>
                <a:ext cx="5688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3" name=""/>
              <p:cNvSpPr/>
              <p:nvPr/>
            </p:nvSpPr>
            <p:spPr>
              <a:xfrm>
                <a:off x="6399360" y="3170160"/>
                <a:ext cx="56880" cy="32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4" name=""/>
              <p:cNvSpPr/>
              <p:nvPr/>
            </p:nvSpPr>
            <p:spPr>
              <a:xfrm>
                <a:off x="6399360" y="3165480"/>
                <a:ext cx="56880" cy="46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5" name=""/>
              <p:cNvSpPr/>
              <p:nvPr/>
            </p:nvSpPr>
            <p:spPr>
              <a:xfrm>
                <a:off x="6399360" y="3164040"/>
                <a:ext cx="56880" cy="14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6" name=""/>
              <p:cNvSpPr/>
              <p:nvPr/>
            </p:nvSpPr>
            <p:spPr>
              <a:xfrm>
                <a:off x="6399360" y="3159000"/>
                <a:ext cx="56880" cy="324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7" name=""/>
              <p:cNvSpPr/>
              <p:nvPr/>
            </p:nvSpPr>
            <p:spPr>
              <a:xfrm>
                <a:off x="6399360" y="3157560"/>
                <a:ext cx="5688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8" name=""/>
              <p:cNvSpPr/>
              <p:nvPr/>
            </p:nvSpPr>
            <p:spPr>
              <a:xfrm>
                <a:off x="6399360" y="3154320"/>
                <a:ext cx="56880" cy="324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9" name=""/>
              <p:cNvSpPr/>
              <p:nvPr/>
            </p:nvSpPr>
            <p:spPr>
              <a:xfrm>
                <a:off x="6399360" y="3151080"/>
                <a:ext cx="5688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0" name=""/>
              <p:cNvSpPr/>
              <p:nvPr/>
            </p:nvSpPr>
            <p:spPr>
              <a:xfrm>
                <a:off x="6399360" y="3147840"/>
                <a:ext cx="568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1" name=""/>
              <p:cNvSpPr/>
              <p:nvPr/>
            </p:nvSpPr>
            <p:spPr>
              <a:xfrm>
                <a:off x="6399360" y="3146400"/>
                <a:ext cx="568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2" name=""/>
              <p:cNvSpPr/>
              <p:nvPr/>
            </p:nvSpPr>
            <p:spPr>
              <a:xfrm>
                <a:off x="6399360" y="3144960"/>
                <a:ext cx="5688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3" name=""/>
              <p:cNvSpPr/>
              <p:nvPr/>
            </p:nvSpPr>
            <p:spPr>
              <a:xfrm>
                <a:off x="6399360" y="3141720"/>
                <a:ext cx="568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4" name=""/>
              <p:cNvSpPr/>
              <p:nvPr/>
            </p:nvSpPr>
            <p:spPr>
              <a:xfrm>
                <a:off x="6399360" y="3139920"/>
                <a:ext cx="56880" cy="180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5" name=""/>
              <p:cNvSpPr/>
              <p:nvPr/>
            </p:nvSpPr>
            <p:spPr>
              <a:xfrm>
                <a:off x="6399360" y="3135240"/>
                <a:ext cx="56880" cy="32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>
                <a:off x="6399360" y="3135240"/>
                <a:ext cx="568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7" name=""/>
              <p:cNvSpPr/>
              <p:nvPr/>
            </p:nvSpPr>
            <p:spPr>
              <a:xfrm>
                <a:off x="6399360" y="3132000"/>
                <a:ext cx="568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8" name=""/>
              <p:cNvSpPr/>
              <p:nvPr/>
            </p:nvSpPr>
            <p:spPr>
              <a:xfrm>
                <a:off x="6399360" y="3129120"/>
                <a:ext cx="56880" cy="28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9" name=""/>
              <p:cNvSpPr/>
              <p:nvPr/>
            </p:nvSpPr>
            <p:spPr>
              <a:xfrm>
                <a:off x="6399360" y="3129120"/>
                <a:ext cx="56880" cy="14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0" name=""/>
              <p:cNvSpPr/>
              <p:nvPr/>
            </p:nvSpPr>
            <p:spPr>
              <a:xfrm>
                <a:off x="6399360" y="3124080"/>
                <a:ext cx="568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1" name=""/>
              <p:cNvSpPr/>
              <p:nvPr/>
            </p:nvSpPr>
            <p:spPr>
              <a:xfrm>
                <a:off x="6399360" y="3122640"/>
                <a:ext cx="568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2" name=""/>
              <p:cNvSpPr/>
              <p:nvPr/>
            </p:nvSpPr>
            <p:spPr>
              <a:xfrm>
                <a:off x="6399360" y="3121200"/>
                <a:ext cx="568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3" name=""/>
              <p:cNvSpPr/>
              <p:nvPr/>
            </p:nvSpPr>
            <p:spPr>
              <a:xfrm>
                <a:off x="6399360" y="3117960"/>
                <a:ext cx="568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4" name=""/>
              <p:cNvSpPr/>
              <p:nvPr/>
            </p:nvSpPr>
            <p:spPr>
              <a:xfrm>
                <a:off x="6399360" y="3116160"/>
                <a:ext cx="5688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5" name=""/>
              <p:cNvSpPr/>
              <p:nvPr/>
            </p:nvSpPr>
            <p:spPr>
              <a:xfrm>
                <a:off x="6399360" y="3112920"/>
                <a:ext cx="56880" cy="324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6" name=""/>
              <p:cNvSpPr/>
              <p:nvPr/>
            </p:nvSpPr>
            <p:spPr>
              <a:xfrm>
                <a:off x="6399360" y="3111480"/>
                <a:ext cx="5688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7" name=""/>
              <p:cNvSpPr/>
              <p:nvPr/>
            </p:nvSpPr>
            <p:spPr>
              <a:xfrm>
                <a:off x="6399360" y="3110040"/>
                <a:ext cx="56880" cy="14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8" name=""/>
              <p:cNvSpPr/>
              <p:nvPr/>
            </p:nvSpPr>
            <p:spPr>
              <a:xfrm>
                <a:off x="6399360" y="3106800"/>
                <a:ext cx="56880" cy="324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9" name=""/>
              <p:cNvSpPr/>
              <p:nvPr/>
            </p:nvSpPr>
            <p:spPr>
              <a:xfrm>
                <a:off x="6399360" y="3105000"/>
                <a:ext cx="56880" cy="180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0" name=""/>
              <p:cNvSpPr/>
              <p:nvPr/>
            </p:nvSpPr>
            <p:spPr>
              <a:xfrm>
                <a:off x="6399360" y="3100320"/>
                <a:ext cx="56880" cy="46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1" name=""/>
              <p:cNvSpPr/>
              <p:nvPr/>
            </p:nvSpPr>
            <p:spPr>
              <a:xfrm>
                <a:off x="6399360" y="3098880"/>
                <a:ext cx="56880" cy="144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2" name=""/>
              <p:cNvSpPr/>
              <p:nvPr/>
            </p:nvSpPr>
            <p:spPr>
              <a:xfrm>
                <a:off x="6399360" y="3097080"/>
                <a:ext cx="568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3" name=""/>
              <p:cNvSpPr/>
              <p:nvPr/>
            </p:nvSpPr>
            <p:spPr>
              <a:xfrm>
                <a:off x="6399360" y="3094200"/>
                <a:ext cx="5688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4" name=""/>
              <p:cNvSpPr/>
              <p:nvPr/>
            </p:nvSpPr>
            <p:spPr>
              <a:xfrm>
                <a:off x="6399360" y="3092400"/>
                <a:ext cx="5688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5" name=""/>
              <p:cNvSpPr/>
              <p:nvPr/>
            </p:nvSpPr>
            <p:spPr>
              <a:xfrm>
                <a:off x="6399360" y="3089160"/>
                <a:ext cx="56880" cy="504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6" name=""/>
              <p:cNvSpPr/>
              <p:nvPr/>
            </p:nvSpPr>
            <p:spPr>
              <a:xfrm>
                <a:off x="6399360" y="3087720"/>
                <a:ext cx="5688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7" name=""/>
              <p:cNvSpPr/>
              <p:nvPr/>
            </p:nvSpPr>
            <p:spPr>
              <a:xfrm>
                <a:off x="6399360" y="3084480"/>
                <a:ext cx="5688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8" name=""/>
              <p:cNvSpPr/>
              <p:nvPr/>
            </p:nvSpPr>
            <p:spPr>
              <a:xfrm>
                <a:off x="6399360" y="3083040"/>
                <a:ext cx="56880" cy="14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9" name=""/>
              <p:cNvSpPr/>
              <p:nvPr/>
            </p:nvSpPr>
            <p:spPr>
              <a:xfrm>
                <a:off x="6399360" y="3081240"/>
                <a:ext cx="56880" cy="180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0" name=""/>
              <p:cNvSpPr/>
              <p:nvPr/>
            </p:nvSpPr>
            <p:spPr>
              <a:xfrm>
                <a:off x="6399360" y="3078000"/>
                <a:ext cx="56880" cy="324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1" name=""/>
              <p:cNvSpPr/>
              <p:nvPr/>
            </p:nvSpPr>
            <p:spPr>
              <a:xfrm>
                <a:off x="6399360" y="3075120"/>
                <a:ext cx="56880" cy="14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2" name=""/>
              <p:cNvSpPr/>
              <p:nvPr/>
            </p:nvSpPr>
            <p:spPr>
              <a:xfrm>
                <a:off x="6399360" y="3071880"/>
                <a:ext cx="5688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3" name=""/>
              <p:cNvSpPr/>
              <p:nvPr/>
            </p:nvSpPr>
            <p:spPr>
              <a:xfrm>
                <a:off x="6399360" y="3071880"/>
                <a:ext cx="56880" cy="14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4" name=""/>
              <p:cNvSpPr/>
              <p:nvPr/>
            </p:nvSpPr>
            <p:spPr>
              <a:xfrm>
                <a:off x="6399360" y="3068640"/>
                <a:ext cx="5688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5" name=""/>
              <p:cNvSpPr/>
              <p:nvPr/>
            </p:nvSpPr>
            <p:spPr>
              <a:xfrm>
                <a:off x="6399360" y="3065400"/>
                <a:ext cx="56880" cy="32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6" name=""/>
              <p:cNvSpPr/>
              <p:nvPr/>
            </p:nvSpPr>
            <p:spPr>
              <a:xfrm>
                <a:off x="6399360" y="3063960"/>
                <a:ext cx="56880" cy="14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7" name=""/>
              <p:cNvSpPr/>
              <p:nvPr/>
            </p:nvSpPr>
            <p:spPr>
              <a:xfrm>
                <a:off x="6399360" y="3060720"/>
                <a:ext cx="5688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8" name=""/>
              <p:cNvSpPr/>
              <p:nvPr/>
            </p:nvSpPr>
            <p:spPr>
              <a:xfrm>
                <a:off x="6399360" y="3059280"/>
                <a:ext cx="56880" cy="28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9" name=""/>
              <p:cNvSpPr/>
              <p:nvPr/>
            </p:nvSpPr>
            <p:spPr>
              <a:xfrm>
                <a:off x="6399360" y="3059280"/>
                <a:ext cx="56880" cy="1522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0" name=""/>
              <p:cNvSpPr/>
              <p:nvPr/>
            </p:nvSpPr>
            <p:spPr>
              <a:xfrm>
                <a:off x="7148520" y="6165720"/>
                <a:ext cx="10944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1" name=""/>
              <p:cNvSpPr/>
              <p:nvPr/>
            </p:nvSpPr>
            <p:spPr>
              <a:xfrm>
                <a:off x="7148520" y="6162840"/>
                <a:ext cx="109440" cy="28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2" name=""/>
              <p:cNvSpPr/>
              <p:nvPr/>
            </p:nvSpPr>
            <p:spPr>
              <a:xfrm>
                <a:off x="7148520" y="6159600"/>
                <a:ext cx="10944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3" name=""/>
              <p:cNvSpPr/>
              <p:nvPr/>
            </p:nvSpPr>
            <p:spPr>
              <a:xfrm>
                <a:off x="7148520" y="6153120"/>
                <a:ext cx="1094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4" name=""/>
              <p:cNvSpPr/>
              <p:nvPr/>
            </p:nvSpPr>
            <p:spPr>
              <a:xfrm>
                <a:off x="7148520" y="6149880"/>
                <a:ext cx="109440" cy="32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5" name=""/>
              <p:cNvSpPr/>
              <p:nvPr/>
            </p:nvSpPr>
            <p:spPr>
              <a:xfrm>
                <a:off x="7148520" y="6143760"/>
                <a:ext cx="109440" cy="61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6" name=""/>
              <p:cNvSpPr/>
              <p:nvPr/>
            </p:nvSpPr>
            <p:spPr>
              <a:xfrm>
                <a:off x="7148520" y="6140520"/>
                <a:ext cx="10944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7" name=""/>
              <p:cNvSpPr/>
              <p:nvPr/>
            </p:nvSpPr>
            <p:spPr>
              <a:xfrm>
                <a:off x="7148520" y="6135840"/>
                <a:ext cx="109440" cy="28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8" name=""/>
              <p:cNvSpPr/>
              <p:nvPr/>
            </p:nvSpPr>
            <p:spPr>
              <a:xfrm>
                <a:off x="7148520" y="6127920"/>
                <a:ext cx="109440" cy="792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9" name=""/>
              <p:cNvSpPr/>
              <p:nvPr/>
            </p:nvSpPr>
            <p:spPr>
              <a:xfrm>
                <a:off x="7148520" y="6124680"/>
                <a:ext cx="109440" cy="46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0" name=""/>
              <p:cNvSpPr/>
              <p:nvPr/>
            </p:nvSpPr>
            <p:spPr>
              <a:xfrm>
                <a:off x="7148520" y="6121440"/>
                <a:ext cx="1094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1" name=""/>
              <p:cNvSpPr/>
              <p:nvPr/>
            </p:nvSpPr>
            <p:spPr>
              <a:xfrm>
                <a:off x="7148520" y="6114960"/>
                <a:ext cx="109440" cy="64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2" name=""/>
              <p:cNvSpPr/>
              <p:nvPr/>
            </p:nvSpPr>
            <p:spPr>
              <a:xfrm>
                <a:off x="7148520" y="6110280"/>
                <a:ext cx="109440" cy="64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3" name=""/>
              <p:cNvSpPr/>
              <p:nvPr/>
            </p:nvSpPr>
            <p:spPr>
              <a:xfrm>
                <a:off x="7148520" y="6108840"/>
                <a:ext cx="10944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4" name=""/>
              <p:cNvSpPr/>
              <p:nvPr/>
            </p:nvSpPr>
            <p:spPr>
              <a:xfrm>
                <a:off x="7148520" y="6102360"/>
                <a:ext cx="109440" cy="64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5" name=""/>
              <p:cNvSpPr/>
              <p:nvPr/>
            </p:nvSpPr>
            <p:spPr>
              <a:xfrm>
                <a:off x="7148520" y="6099120"/>
                <a:ext cx="1094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6" name=""/>
              <p:cNvSpPr/>
              <p:nvPr/>
            </p:nvSpPr>
            <p:spPr>
              <a:xfrm>
                <a:off x="7148520" y="6093000"/>
                <a:ext cx="109440" cy="612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7" name=""/>
              <p:cNvSpPr/>
              <p:nvPr/>
            </p:nvSpPr>
            <p:spPr>
              <a:xfrm>
                <a:off x="7148520" y="6087960"/>
                <a:ext cx="109440" cy="648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8" name=""/>
              <p:cNvSpPr/>
              <p:nvPr/>
            </p:nvSpPr>
            <p:spPr>
              <a:xfrm>
                <a:off x="7148520" y="6086520"/>
                <a:ext cx="10944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9" name=""/>
              <p:cNvSpPr/>
              <p:nvPr/>
            </p:nvSpPr>
            <p:spPr>
              <a:xfrm>
                <a:off x="7148520" y="6080040"/>
                <a:ext cx="109440" cy="648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0" name=""/>
              <p:cNvSpPr/>
              <p:nvPr/>
            </p:nvSpPr>
            <p:spPr>
              <a:xfrm>
                <a:off x="7148520" y="6075360"/>
                <a:ext cx="109440" cy="46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1" name=""/>
              <p:cNvSpPr/>
              <p:nvPr/>
            </p:nvSpPr>
            <p:spPr>
              <a:xfrm>
                <a:off x="7148520" y="6070680"/>
                <a:ext cx="1094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2" name=""/>
              <p:cNvSpPr/>
              <p:nvPr/>
            </p:nvSpPr>
            <p:spPr>
              <a:xfrm>
                <a:off x="7148520" y="6066000"/>
                <a:ext cx="109440" cy="46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3" name=""/>
              <p:cNvSpPr/>
              <p:nvPr/>
            </p:nvSpPr>
            <p:spPr>
              <a:xfrm>
                <a:off x="7148520" y="6060960"/>
                <a:ext cx="10944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4" name=""/>
              <p:cNvSpPr/>
              <p:nvPr/>
            </p:nvSpPr>
            <p:spPr>
              <a:xfrm>
                <a:off x="7148520" y="6056280"/>
                <a:ext cx="1094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5" name=""/>
              <p:cNvSpPr/>
              <p:nvPr/>
            </p:nvSpPr>
            <p:spPr>
              <a:xfrm>
                <a:off x="7148520" y="6051600"/>
                <a:ext cx="10944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6" name=""/>
              <p:cNvSpPr/>
              <p:nvPr/>
            </p:nvSpPr>
            <p:spPr>
              <a:xfrm>
                <a:off x="7148520" y="6045120"/>
                <a:ext cx="1094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7" name=""/>
              <p:cNvSpPr/>
              <p:nvPr/>
            </p:nvSpPr>
            <p:spPr>
              <a:xfrm>
                <a:off x="7148520" y="6043680"/>
                <a:ext cx="109440" cy="14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8" name=""/>
              <p:cNvSpPr/>
              <p:nvPr/>
            </p:nvSpPr>
            <p:spPr>
              <a:xfrm>
                <a:off x="7148520" y="6039000"/>
                <a:ext cx="109440" cy="612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9" name=""/>
              <p:cNvSpPr/>
              <p:nvPr/>
            </p:nvSpPr>
            <p:spPr>
              <a:xfrm>
                <a:off x="7148520" y="6032520"/>
                <a:ext cx="10944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0" name=""/>
              <p:cNvSpPr/>
              <p:nvPr/>
            </p:nvSpPr>
            <p:spPr>
              <a:xfrm>
                <a:off x="7148520" y="6029280"/>
                <a:ext cx="1094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1" name=""/>
              <p:cNvSpPr/>
              <p:nvPr/>
            </p:nvSpPr>
            <p:spPr>
              <a:xfrm>
                <a:off x="7148520" y="6026040"/>
                <a:ext cx="10944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2" name=""/>
              <p:cNvSpPr/>
              <p:nvPr/>
            </p:nvSpPr>
            <p:spPr>
              <a:xfrm>
                <a:off x="7148520" y="6019920"/>
                <a:ext cx="109440" cy="612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3" name=""/>
              <p:cNvSpPr/>
              <p:nvPr/>
            </p:nvSpPr>
            <p:spPr>
              <a:xfrm>
                <a:off x="7148520" y="6014880"/>
                <a:ext cx="1094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4" name=""/>
              <p:cNvSpPr/>
              <p:nvPr/>
            </p:nvSpPr>
            <p:spPr>
              <a:xfrm>
                <a:off x="7148520" y="6010200"/>
                <a:ext cx="109440" cy="46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5" name=""/>
              <p:cNvSpPr/>
              <p:nvPr/>
            </p:nvSpPr>
            <p:spPr>
              <a:xfrm>
                <a:off x="7148520" y="6004080"/>
                <a:ext cx="10944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6" name=""/>
              <p:cNvSpPr/>
              <p:nvPr/>
            </p:nvSpPr>
            <p:spPr>
              <a:xfrm>
                <a:off x="7148520" y="6000840"/>
                <a:ext cx="1094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7148520" y="5996160"/>
                <a:ext cx="109440" cy="61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>
                <a:off x="7148520" y="5991120"/>
                <a:ext cx="10944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7148520" y="5987880"/>
                <a:ext cx="1094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>
                <a:off x="7148520" y="5981760"/>
                <a:ext cx="10944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7148520" y="5977080"/>
                <a:ext cx="10944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>
                <a:off x="7148520" y="5972040"/>
                <a:ext cx="10944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7148520" y="5967360"/>
                <a:ext cx="109440" cy="46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>
                <a:off x="7148520" y="5964120"/>
                <a:ext cx="109440" cy="50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7148520" y="5959440"/>
                <a:ext cx="1094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>
                <a:off x="7148520" y="5954760"/>
                <a:ext cx="109440" cy="64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7148520" y="5951520"/>
                <a:ext cx="10944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>
                <a:off x="7148520" y="5945040"/>
                <a:ext cx="109440" cy="64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7148520" y="5942160"/>
                <a:ext cx="109440" cy="288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>
                <a:off x="7148520" y="5937120"/>
                <a:ext cx="1094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7148520" y="5929200"/>
                <a:ext cx="109440" cy="79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>
                <a:off x="7148520" y="5925960"/>
                <a:ext cx="109440" cy="50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7148520" y="5923080"/>
                <a:ext cx="109440" cy="28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>
                <a:off x="7148520" y="5916600"/>
                <a:ext cx="1094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7148520" y="5911920"/>
                <a:ext cx="10944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>
                <a:off x="7148520" y="5910120"/>
                <a:ext cx="10944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7148520" y="5904000"/>
                <a:ext cx="109440" cy="612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>
                <a:off x="7148520" y="5897520"/>
                <a:ext cx="10944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7148520" y="5894280"/>
                <a:ext cx="1094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>
                <a:off x="7148520" y="588960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7148520" y="5884920"/>
                <a:ext cx="109440" cy="61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>
                <a:off x="7148520" y="5880240"/>
                <a:ext cx="1094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7148520" y="5877000"/>
                <a:ext cx="1094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>
                <a:off x="7148520" y="5870520"/>
                <a:ext cx="1094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7148520" y="5869080"/>
                <a:ext cx="1094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>
                <a:off x="7148520" y="5862600"/>
                <a:ext cx="1094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7148520" y="585792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>
                <a:off x="7148520" y="585324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7148520" y="5850000"/>
                <a:ext cx="1094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>
                <a:off x="7148520" y="5843520"/>
                <a:ext cx="109440" cy="64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7148520" y="5838840"/>
                <a:ext cx="10944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>
                <a:off x="7148520" y="5834160"/>
                <a:ext cx="109440" cy="46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7148520" y="5827680"/>
                <a:ext cx="1094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>
                <a:off x="7148520" y="5826240"/>
                <a:ext cx="10944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7148520" y="5821200"/>
                <a:ext cx="109440" cy="64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>
                <a:off x="7148520" y="5815080"/>
                <a:ext cx="10944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7148520" y="5811840"/>
                <a:ext cx="1094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>
                <a:off x="7148520" y="5805360"/>
                <a:ext cx="109440" cy="648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7148520" y="5802480"/>
                <a:ext cx="109440" cy="28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>
                <a:off x="7148520" y="5797440"/>
                <a:ext cx="109440" cy="648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7148520" y="5792760"/>
                <a:ext cx="10944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>
                <a:off x="7148520" y="5789520"/>
                <a:ext cx="1094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7148520" y="5783400"/>
                <a:ext cx="109440" cy="612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>
                <a:off x="7148520" y="5778360"/>
                <a:ext cx="109440" cy="64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7148520" y="5773680"/>
                <a:ext cx="10944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>
                <a:off x="7148520" y="5769000"/>
                <a:ext cx="10944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7148520" y="5765760"/>
                <a:ext cx="10944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>
                <a:off x="7148520" y="5761080"/>
                <a:ext cx="1094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7148520" y="5756400"/>
                <a:ext cx="1094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7148520" y="5749920"/>
                <a:ext cx="1094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7148520" y="5746680"/>
                <a:ext cx="1094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7148520" y="5743440"/>
                <a:ext cx="10944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7148520" y="5734080"/>
                <a:ext cx="109440" cy="79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7148520" y="5734080"/>
                <a:ext cx="10944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7148520" y="5727600"/>
                <a:ext cx="10944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7148520" y="5721480"/>
                <a:ext cx="10944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7148520" y="5718240"/>
                <a:ext cx="1094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7148520" y="5713560"/>
                <a:ext cx="109440" cy="612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7148520" y="5708520"/>
                <a:ext cx="10944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7148520" y="5705640"/>
                <a:ext cx="109440" cy="28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7148520" y="5699160"/>
                <a:ext cx="1094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7148520" y="5694480"/>
                <a:ext cx="109440" cy="612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7148520" y="5692680"/>
                <a:ext cx="10944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7148520" y="5686560"/>
                <a:ext cx="109440" cy="612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7148520" y="5681520"/>
                <a:ext cx="109440" cy="50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7148520" y="5676840"/>
                <a:ext cx="1094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7148520" y="5672160"/>
                <a:ext cx="109440" cy="64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7148520" y="5665680"/>
                <a:ext cx="109440" cy="50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7148520" y="5662440"/>
                <a:ext cx="10944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>
                <a:off x="7148520" y="5659560"/>
                <a:ext cx="109440" cy="468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7148520" y="5654520"/>
                <a:ext cx="109440" cy="50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>
                <a:off x="7148520" y="5651640"/>
                <a:ext cx="109440" cy="288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7148520" y="5645160"/>
                <a:ext cx="109440" cy="64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>
                <a:off x="7148520" y="5640480"/>
                <a:ext cx="10944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5" name=""/>
              <p:cNvSpPr/>
              <p:nvPr/>
            </p:nvSpPr>
            <p:spPr>
              <a:xfrm>
                <a:off x="7148520" y="5635800"/>
                <a:ext cx="109440" cy="46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6" name=""/>
              <p:cNvSpPr/>
              <p:nvPr/>
            </p:nvSpPr>
            <p:spPr>
              <a:xfrm>
                <a:off x="7148520" y="5629320"/>
                <a:ext cx="109440" cy="64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7148520" y="5627520"/>
                <a:ext cx="10944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>
                <a:off x="7148520" y="5622840"/>
                <a:ext cx="1094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7148520" y="5616720"/>
                <a:ext cx="109440" cy="46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>
                <a:off x="7148520" y="5613480"/>
                <a:ext cx="10944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7148520" y="5607000"/>
                <a:ext cx="109440" cy="64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7148520" y="5602320"/>
                <a:ext cx="1094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7148520" y="5597640"/>
                <a:ext cx="109440" cy="32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7148520" y="5594400"/>
                <a:ext cx="10944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7148520" y="5587920"/>
                <a:ext cx="1094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7148520" y="5586480"/>
                <a:ext cx="10944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7148520" y="5580000"/>
                <a:ext cx="10944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7148520" y="5581800"/>
                <a:ext cx="109440" cy="588960"/>
              </a:xfrm>
              <a:custGeom>
                <a:avLst/>
                <a:gdLst/>
                <a:ahLst/>
                <a:rect l="l" t="t" r="r" b="b"/>
                <a:pathLst>
                  <a:path w="138" h="742">
                    <a:moveTo>
                      <a:pt x="0" y="375"/>
                    </a:moveTo>
                    <a:lnTo>
                      <a:pt x="69" y="742"/>
                    </a:lnTo>
                    <a:lnTo>
                      <a:pt x="138" y="375"/>
                    </a:lnTo>
                    <a:lnTo>
                      <a:pt x="69" y="0"/>
                    </a:lnTo>
                    <a:lnTo>
                      <a:pt x="0" y="375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7589880" y="6099120"/>
                <a:ext cx="123840" cy="180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7589880" y="6093000"/>
                <a:ext cx="123840" cy="612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7589880" y="6087960"/>
                <a:ext cx="123840" cy="32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7589880" y="6086520"/>
                <a:ext cx="12384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7589880" y="6081840"/>
                <a:ext cx="123840" cy="612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7589880" y="6080040"/>
                <a:ext cx="123840" cy="180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7589880" y="6075360"/>
                <a:ext cx="1238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7589880" y="6070680"/>
                <a:ext cx="1238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7589880" y="6067440"/>
                <a:ext cx="12384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7589880" y="6064200"/>
                <a:ext cx="12384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7589880" y="6059520"/>
                <a:ext cx="12384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7589880" y="6058080"/>
                <a:ext cx="12384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7589880" y="6053040"/>
                <a:ext cx="1238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7589880" y="6048360"/>
                <a:ext cx="12384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7589880" y="6045120"/>
                <a:ext cx="1238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>
                <a:off x="7589880" y="6041880"/>
                <a:ext cx="1238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7589880" y="6039000"/>
                <a:ext cx="123840" cy="28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>
                <a:off x="7589880" y="6033960"/>
                <a:ext cx="1238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7589880" y="6031080"/>
                <a:ext cx="12384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>
                <a:off x="7589880" y="6026040"/>
                <a:ext cx="123840" cy="50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159" name=""/>
            <p:cNvGrpSpPr/>
            <p:nvPr/>
          </p:nvGrpSpPr>
          <p:grpSpPr>
            <a:xfrm>
              <a:off x="7120080" y="5626080"/>
              <a:ext cx="593640" cy="522360"/>
              <a:chOff x="7120080" y="5626080"/>
              <a:chExt cx="593640" cy="522360"/>
            </a:xfrm>
          </p:grpSpPr>
          <p:sp>
            <p:nvSpPr>
              <p:cNvPr id="12160" name=""/>
              <p:cNvSpPr/>
              <p:nvPr/>
            </p:nvSpPr>
            <p:spPr>
              <a:xfrm>
                <a:off x="7589880" y="6022800"/>
                <a:ext cx="1238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7589880" y="6019920"/>
                <a:ext cx="123840" cy="28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>
                <a:off x="7589880" y="6016680"/>
                <a:ext cx="12384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7589880" y="6012000"/>
                <a:ext cx="123840" cy="28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>
                <a:off x="7589880" y="6008760"/>
                <a:ext cx="1238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7589880" y="6004080"/>
                <a:ext cx="123840" cy="468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>
                <a:off x="7589880" y="6000840"/>
                <a:ext cx="12384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7589880" y="5997600"/>
                <a:ext cx="1238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>
                <a:off x="7589880" y="5991120"/>
                <a:ext cx="12384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7589880" y="5987880"/>
                <a:ext cx="12384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>
                <a:off x="7589880" y="5985000"/>
                <a:ext cx="123840" cy="28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7589880" y="5985000"/>
                <a:ext cx="123840" cy="1440"/>
              </a:xfrm>
              <a:prstGeom prst="rect">
                <a:avLst/>
              </a:prstGeom>
              <a:solidFill>
                <a:srgbClr val="b0b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7589880" y="5978520"/>
                <a:ext cx="123840" cy="64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7589880" y="5975280"/>
                <a:ext cx="1238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7589880" y="5973840"/>
                <a:ext cx="1238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7589880" y="5967360"/>
                <a:ext cx="123840" cy="64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7589880" y="5964120"/>
                <a:ext cx="12384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7589880" y="5961240"/>
                <a:ext cx="123840" cy="28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>
                <a:off x="7589880" y="5954760"/>
                <a:ext cx="123840" cy="64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7589880" y="5952960"/>
                <a:ext cx="123840" cy="180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>
                <a:off x="7589880" y="5950080"/>
                <a:ext cx="123840" cy="28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7589880" y="5945040"/>
                <a:ext cx="12384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7589880" y="5942160"/>
                <a:ext cx="123840" cy="28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7589880" y="5938920"/>
                <a:ext cx="1238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7589880" y="5932440"/>
                <a:ext cx="123840" cy="64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7589880" y="5931000"/>
                <a:ext cx="123840" cy="14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7589880" y="5927760"/>
                <a:ext cx="12384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7589880" y="5923080"/>
                <a:ext cx="123840" cy="46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7589880" y="5919840"/>
                <a:ext cx="1238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7589880" y="5916600"/>
                <a:ext cx="1238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7589880" y="5913360"/>
                <a:ext cx="1238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7589880" y="5908680"/>
                <a:ext cx="12384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>
                <a:off x="7589880" y="5904000"/>
                <a:ext cx="1238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7589880" y="5900760"/>
                <a:ext cx="1238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>
                <a:off x="7589880" y="5897520"/>
                <a:ext cx="1238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7589880" y="5894280"/>
                <a:ext cx="12384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>
                <a:off x="7589880" y="5888160"/>
                <a:ext cx="123840" cy="612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7589880" y="5884920"/>
                <a:ext cx="12384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>
                <a:off x="7589880" y="5881680"/>
                <a:ext cx="1238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7589880" y="5878440"/>
                <a:ext cx="1238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>
                <a:off x="7589880" y="5875200"/>
                <a:ext cx="1238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7589880" y="5872320"/>
                <a:ext cx="1238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7589880" y="5865840"/>
                <a:ext cx="1238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7589880" y="586260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>
                <a:off x="7589880" y="585936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7589880" y="5854680"/>
                <a:ext cx="1238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>
                <a:off x="7589880" y="585144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7589880" y="5850000"/>
                <a:ext cx="1238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>
                <a:off x="7589880" y="5845320"/>
                <a:ext cx="123840" cy="612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7589880" y="5840280"/>
                <a:ext cx="1238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>
                <a:off x="7589880" y="5840280"/>
                <a:ext cx="123840" cy="180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7589880" y="5834160"/>
                <a:ext cx="123840" cy="612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>
                <a:off x="7589880" y="5829480"/>
                <a:ext cx="12384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7589880" y="5827680"/>
                <a:ext cx="12384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>
                <a:off x="7589880" y="5823000"/>
                <a:ext cx="12384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7589880" y="5818320"/>
                <a:ext cx="123840" cy="28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>
                <a:off x="7589880" y="5818320"/>
                <a:ext cx="123840" cy="14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7589880" y="5811840"/>
                <a:ext cx="12384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>
                <a:off x="7589880" y="5808600"/>
                <a:ext cx="1238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7589880" y="5805360"/>
                <a:ext cx="1238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>
                <a:off x="7589880" y="5799240"/>
                <a:ext cx="12384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7589880" y="5797440"/>
                <a:ext cx="123840" cy="180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>
                <a:off x="7589880" y="5794200"/>
                <a:ext cx="1238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7589880" y="5789520"/>
                <a:ext cx="123840" cy="64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>
                <a:off x="7589880" y="5786280"/>
                <a:ext cx="1238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7589880" y="5783400"/>
                <a:ext cx="123840" cy="28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>
                <a:off x="7589880" y="5776920"/>
                <a:ext cx="12384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7589880" y="5775480"/>
                <a:ext cx="123840" cy="14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>
                <a:off x="7589880" y="5772240"/>
                <a:ext cx="1238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7589880" y="5765760"/>
                <a:ext cx="123840" cy="64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>
                <a:off x="7589880" y="5762520"/>
                <a:ext cx="12384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>
                <a:off x="7589880" y="5759280"/>
                <a:ext cx="1238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>
                <a:off x="7589880" y="5754600"/>
                <a:ext cx="12384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>
                <a:off x="7589880" y="5751360"/>
                <a:ext cx="12384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>
                <a:off x="7589880" y="5748480"/>
                <a:ext cx="123840" cy="28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>
                <a:off x="7589880" y="5745240"/>
                <a:ext cx="123840" cy="3240"/>
              </a:xfrm>
              <a:prstGeom prst="rect">
                <a:avLst/>
              </a:prstGeom>
              <a:solidFill>
                <a:srgbClr val="b4b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>
                <a:off x="7589880" y="5742000"/>
                <a:ext cx="123840" cy="468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7589880" y="5737320"/>
                <a:ext cx="1238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7589880" y="5737320"/>
                <a:ext cx="12384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589880" y="5730840"/>
                <a:ext cx="12384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7589880" y="5726160"/>
                <a:ext cx="1238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>
                <a:off x="7589880" y="5724360"/>
                <a:ext cx="123840" cy="180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>
                <a:off x="7589880" y="5718240"/>
                <a:ext cx="123840" cy="612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>
                <a:off x="7589880" y="5715000"/>
                <a:ext cx="1238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>
                <a:off x="7589880" y="5713560"/>
                <a:ext cx="123840" cy="14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5" name=""/>
              <p:cNvSpPr/>
              <p:nvPr/>
            </p:nvSpPr>
            <p:spPr>
              <a:xfrm>
                <a:off x="7589880" y="5708520"/>
                <a:ext cx="1238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6" name=""/>
              <p:cNvSpPr/>
              <p:nvPr/>
            </p:nvSpPr>
            <p:spPr>
              <a:xfrm>
                <a:off x="7589880" y="5703840"/>
                <a:ext cx="1238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>
                <a:off x="7589880" y="5702400"/>
                <a:ext cx="1238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>
                <a:off x="7589880" y="5695920"/>
                <a:ext cx="123840" cy="64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>
                <a:off x="7589880" y="5694480"/>
                <a:ext cx="12384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>
                <a:off x="7589880" y="5691240"/>
                <a:ext cx="1238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7589880" y="5686560"/>
                <a:ext cx="12384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7589880" y="5683320"/>
                <a:ext cx="1238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589880" y="5680080"/>
                <a:ext cx="1238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7589880" y="5673600"/>
                <a:ext cx="12384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>
                <a:off x="7589880" y="5672160"/>
                <a:ext cx="123840" cy="14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>
                <a:off x="7589880" y="5667480"/>
                <a:ext cx="12384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>
                <a:off x="7589880" y="5662440"/>
                <a:ext cx="12384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>
                <a:off x="7589880" y="5661000"/>
                <a:ext cx="12384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>
                <a:off x="7589880" y="5657760"/>
                <a:ext cx="123840" cy="32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>
                <a:off x="7589880" y="5651640"/>
                <a:ext cx="1238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>
                <a:off x="7589880" y="5648400"/>
                <a:ext cx="1238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>
                <a:off x="7589880" y="5645160"/>
                <a:ext cx="12384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>
                <a:off x="7589880" y="5641920"/>
                <a:ext cx="123840" cy="46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7589880" y="5638680"/>
                <a:ext cx="123840" cy="32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>
                <a:off x="7589880" y="5635800"/>
                <a:ext cx="123840" cy="288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>
                <a:off x="7589880" y="5629320"/>
                <a:ext cx="123840" cy="64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>
                <a:off x="7589880" y="5626080"/>
                <a:ext cx="123840" cy="32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>
                <a:off x="7589880" y="5629320"/>
                <a:ext cx="122040" cy="469800"/>
              </a:xfrm>
              <a:custGeom>
                <a:avLst/>
                <a:gdLst/>
                <a:ahLst/>
                <a:rect l="l" t="t" r="r" b="b"/>
                <a:pathLst>
                  <a:path w="154" h="592">
                    <a:moveTo>
                      <a:pt x="0" y="298"/>
                    </a:moveTo>
                    <a:lnTo>
                      <a:pt x="75" y="592"/>
                    </a:lnTo>
                    <a:lnTo>
                      <a:pt x="154" y="298"/>
                    </a:lnTo>
                    <a:lnTo>
                      <a:pt x="75" y="0"/>
                    </a:lnTo>
                    <a:lnTo>
                      <a:pt x="0" y="298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>
                <a:off x="7120080" y="5978520"/>
                <a:ext cx="4104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>
                <a:off x="7120080" y="5972040"/>
                <a:ext cx="410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>
                <a:off x="7120080" y="5970600"/>
                <a:ext cx="41040" cy="14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>
                <a:off x="7120080" y="5964120"/>
                <a:ext cx="41040" cy="79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>
                <a:off x="7120080" y="5962680"/>
                <a:ext cx="41040" cy="144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7120080" y="5956200"/>
                <a:ext cx="41040" cy="64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7120080" y="5951520"/>
                <a:ext cx="410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>
                <a:off x="7120080" y="5951520"/>
                <a:ext cx="41040" cy="14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>
                <a:off x="7120080" y="5945040"/>
                <a:ext cx="41040" cy="64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>
                <a:off x="7120080" y="5942160"/>
                <a:ext cx="41040" cy="288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>
                <a:off x="7120080" y="5935680"/>
                <a:ext cx="41040" cy="648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>
                <a:off x="7120080" y="5932440"/>
                <a:ext cx="4104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>
                <a:off x="7120080" y="5929200"/>
                <a:ext cx="41040" cy="50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>
                <a:off x="7120080" y="5925960"/>
                <a:ext cx="4104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>
                <a:off x="7120080" y="5923080"/>
                <a:ext cx="41040" cy="288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>
                <a:off x="7120080" y="5918040"/>
                <a:ext cx="410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7120080" y="5915160"/>
                <a:ext cx="4104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7120080" y="5910120"/>
                <a:ext cx="41040" cy="50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7120080" y="5907240"/>
                <a:ext cx="4104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>
                <a:off x="7120080" y="5900760"/>
                <a:ext cx="41040" cy="648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>
                <a:off x="7120080" y="5899320"/>
                <a:ext cx="41040" cy="14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>
                <a:off x="7120080" y="5894280"/>
                <a:ext cx="41040" cy="64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>
                <a:off x="7120080" y="5891040"/>
                <a:ext cx="410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>
                <a:off x="7120080" y="5888160"/>
                <a:ext cx="410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>
                <a:off x="7120080" y="5881680"/>
                <a:ext cx="410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>
                <a:off x="7120080" y="58816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>
                <a:off x="7120080" y="5875200"/>
                <a:ext cx="41040" cy="64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>
                <a:off x="7120080" y="5870520"/>
                <a:ext cx="410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7120080" y="5867280"/>
                <a:ext cx="41040" cy="504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7120080" y="5862600"/>
                <a:ext cx="410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7120080" y="5857920"/>
                <a:ext cx="4104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>
                <a:off x="7120080" y="5854680"/>
                <a:ext cx="4104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>
                <a:off x="7120080" y="5851440"/>
                <a:ext cx="410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>
                <a:off x="7120080" y="5848200"/>
                <a:ext cx="41040" cy="504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>
                <a:off x="7120080" y="5843520"/>
                <a:ext cx="4104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>
                <a:off x="7120080" y="5838840"/>
                <a:ext cx="41040" cy="46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>
                <a:off x="7120080" y="5837400"/>
                <a:ext cx="41040" cy="288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>
                <a:off x="7120080" y="5830920"/>
                <a:ext cx="41040" cy="648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>
                <a:off x="7120080" y="5829480"/>
                <a:ext cx="41040" cy="144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>
                <a:off x="7120080" y="5824440"/>
                <a:ext cx="4104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7120080" y="5819760"/>
                <a:ext cx="41040" cy="64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7120080" y="5818320"/>
                <a:ext cx="41040" cy="14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7120080" y="5811840"/>
                <a:ext cx="41040" cy="64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7120080" y="5810400"/>
                <a:ext cx="41040" cy="144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7120080" y="5803920"/>
                <a:ext cx="41040" cy="64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7120080" y="5799240"/>
                <a:ext cx="410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7120080" y="5796000"/>
                <a:ext cx="4104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7120080" y="5792760"/>
                <a:ext cx="4104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7120080" y="5794200"/>
                <a:ext cx="4104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7229520" y="6141960"/>
                <a:ext cx="37476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7229520" y="6140520"/>
                <a:ext cx="37476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7229520" y="6134040"/>
                <a:ext cx="37476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7229520" y="6130800"/>
                <a:ext cx="374760" cy="32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7229520" y="6127920"/>
                <a:ext cx="374760" cy="28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7229520" y="6121440"/>
                <a:ext cx="374760" cy="64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7229520" y="6118200"/>
                <a:ext cx="37476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7229520" y="6113520"/>
                <a:ext cx="374760" cy="612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7229520" y="6111720"/>
                <a:ext cx="374760" cy="180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7229520" y="6105600"/>
                <a:ext cx="37476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7229520" y="6099120"/>
                <a:ext cx="37476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7229520" y="6095880"/>
                <a:ext cx="3747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7229520" y="6091200"/>
                <a:ext cx="37476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7229520" y="6086520"/>
                <a:ext cx="3747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7229520" y="6084720"/>
                <a:ext cx="3747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7229520" y="6078600"/>
                <a:ext cx="374760" cy="468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7229520" y="6075360"/>
                <a:ext cx="374760" cy="32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7229520" y="6072120"/>
                <a:ext cx="374760" cy="46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7229520" y="6066000"/>
                <a:ext cx="374760" cy="61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7229520" y="6060960"/>
                <a:ext cx="3747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7229520" y="6058080"/>
                <a:ext cx="374760" cy="46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7229520" y="6054840"/>
                <a:ext cx="3747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7229520" y="6051600"/>
                <a:ext cx="37476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7229520" y="6045120"/>
                <a:ext cx="37476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7229520" y="6040440"/>
                <a:ext cx="37476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7229520" y="6037200"/>
                <a:ext cx="37476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7229520" y="6032520"/>
                <a:ext cx="374760" cy="324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7229520" y="6029280"/>
                <a:ext cx="374760" cy="46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7229520" y="6022800"/>
                <a:ext cx="37476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7" name=""/>
              <p:cNvSpPr/>
              <p:nvPr/>
            </p:nvSpPr>
            <p:spPr>
              <a:xfrm>
                <a:off x="7229520" y="6021360"/>
                <a:ext cx="37476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8" name=""/>
              <p:cNvSpPr/>
              <p:nvPr/>
            </p:nvSpPr>
            <p:spPr>
              <a:xfrm>
                <a:off x="7229520" y="6014880"/>
                <a:ext cx="374760" cy="50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9" name=""/>
              <p:cNvSpPr/>
              <p:nvPr/>
            </p:nvSpPr>
            <p:spPr>
              <a:xfrm>
                <a:off x="7229520" y="6012000"/>
                <a:ext cx="374760" cy="28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>
                <a:off x="7229520" y="6008760"/>
                <a:ext cx="374760" cy="46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>
                <a:off x="7229520" y="6002280"/>
                <a:ext cx="374760" cy="46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7229520" y="5999040"/>
                <a:ext cx="3747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7229520" y="5994360"/>
                <a:ext cx="37476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7229520" y="5987880"/>
                <a:ext cx="374760" cy="64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7229520" y="5985000"/>
                <a:ext cx="374760" cy="288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6" name=""/>
              <p:cNvSpPr/>
              <p:nvPr/>
            </p:nvSpPr>
            <p:spPr>
              <a:xfrm>
                <a:off x="7229520" y="5981760"/>
                <a:ext cx="374760" cy="46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7" name=""/>
              <p:cNvSpPr/>
              <p:nvPr/>
            </p:nvSpPr>
            <p:spPr>
              <a:xfrm>
                <a:off x="7229520" y="5978520"/>
                <a:ext cx="37476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8" name=""/>
              <p:cNvSpPr/>
              <p:nvPr/>
            </p:nvSpPr>
            <p:spPr>
              <a:xfrm>
                <a:off x="7229520" y="5972040"/>
                <a:ext cx="374760" cy="64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>
                <a:off x="7229520" y="5969160"/>
                <a:ext cx="374760" cy="28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360" name=""/>
            <p:cNvGrpSpPr/>
            <p:nvPr/>
          </p:nvGrpSpPr>
          <p:grpSpPr>
            <a:xfrm>
              <a:off x="7202520" y="5603760"/>
              <a:ext cx="401760" cy="568440"/>
              <a:chOff x="7202520" y="5603760"/>
              <a:chExt cx="401760" cy="568440"/>
            </a:xfrm>
          </p:grpSpPr>
          <p:sp>
            <p:nvSpPr>
              <p:cNvPr id="12361" name=""/>
              <p:cNvSpPr/>
              <p:nvPr/>
            </p:nvSpPr>
            <p:spPr>
              <a:xfrm>
                <a:off x="7229520" y="5964120"/>
                <a:ext cx="3747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2" name=""/>
              <p:cNvSpPr/>
              <p:nvPr/>
            </p:nvSpPr>
            <p:spPr>
              <a:xfrm>
                <a:off x="7229520" y="5961240"/>
                <a:ext cx="374760" cy="28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3" name=""/>
              <p:cNvSpPr/>
              <p:nvPr/>
            </p:nvSpPr>
            <p:spPr>
              <a:xfrm>
                <a:off x="7229520" y="5956200"/>
                <a:ext cx="3747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4" name=""/>
              <p:cNvSpPr/>
              <p:nvPr/>
            </p:nvSpPr>
            <p:spPr>
              <a:xfrm>
                <a:off x="7229520" y="5952960"/>
                <a:ext cx="374760" cy="50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5" name=""/>
              <p:cNvSpPr/>
              <p:nvPr/>
            </p:nvSpPr>
            <p:spPr>
              <a:xfrm>
                <a:off x="7229520" y="5946840"/>
                <a:ext cx="374760" cy="612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6" name=""/>
              <p:cNvSpPr/>
              <p:nvPr/>
            </p:nvSpPr>
            <p:spPr>
              <a:xfrm>
                <a:off x="7229520" y="5942160"/>
                <a:ext cx="374760" cy="288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7" name=""/>
              <p:cNvSpPr/>
              <p:nvPr/>
            </p:nvSpPr>
            <p:spPr>
              <a:xfrm>
                <a:off x="7229520" y="5938920"/>
                <a:ext cx="37476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7229520" y="5935680"/>
                <a:ext cx="37476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7229520" y="5932440"/>
                <a:ext cx="3747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7229520" y="5925960"/>
                <a:ext cx="37476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7229520" y="5923080"/>
                <a:ext cx="374760" cy="28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2" name=""/>
              <p:cNvSpPr/>
              <p:nvPr/>
            </p:nvSpPr>
            <p:spPr>
              <a:xfrm>
                <a:off x="7229520" y="5916600"/>
                <a:ext cx="37476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3" name=""/>
              <p:cNvSpPr/>
              <p:nvPr/>
            </p:nvSpPr>
            <p:spPr>
              <a:xfrm>
                <a:off x="7229520" y="5911920"/>
                <a:ext cx="374760" cy="46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7229520" y="5908680"/>
                <a:ext cx="3747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>
                <a:off x="7229520" y="5904000"/>
                <a:ext cx="37476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7229520" y="5902200"/>
                <a:ext cx="37476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7229520" y="5896080"/>
                <a:ext cx="37476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7229520" y="5891040"/>
                <a:ext cx="374760" cy="50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7229520" y="5888160"/>
                <a:ext cx="37476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7229520" y="5884920"/>
                <a:ext cx="3747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7229520" y="5880240"/>
                <a:ext cx="37476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7229520" y="5875200"/>
                <a:ext cx="37476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7229520" y="5870520"/>
                <a:ext cx="3747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7229520" y="5865840"/>
                <a:ext cx="3747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5" name=""/>
              <p:cNvSpPr/>
              <p:nvPr/>
            </p:nvSpPr>
            <p:spPr>
              <a:xfrm>
                <a:off x="7229520" y="5862600"/>
                <a:ext cx="3747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7229520" y="5859360"/>
                <a:ext cx="3747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7" name=""/>
              <p:cNvSpPr/>
              <p:nvPr/>
            </p:nvSpPr>
            <p:spPr>
              <a:xfrm>
                <a:off x="7229520" y="5856120"/>
                <a:ext cx="3747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8" name=""/>
              <p:cNvSpPr/>
              <p:nvPr/>
            </p:nvSpPr>
            <p:spPr>
              <a:xfrm>
                <a:off x="7229520" y="5850000"/>
                <a:ext cx="37476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9" name=""/>
              <p:cNvSpPr/>
              <p:nvPr/>
            </p:nvSpPr>
            <p:spPr>
              <a:xfrm>
                <a:off x="7229520" y="5845320"/>
                <a:ext cx="37476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7229520" y="5842080"/>
                <a:ext cx="37476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7229520" y="5837400"/>
                <a:ext cx="37476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2" name=""/>
              <p:cNvSpPr/>
              <p:nvPr/>
            </p:nvSpPr>
            <p:spPr>
              <a:xfrm>
                <a:off x="7229520" y="5832360"/>
                <a:ext cx="374760" cy="50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3" name=""/>
              <p:cNvSpPr/>
              <p:nvPr/>
            </p:nvSpPr>
            <p:spPr>
              <a:xfrm>
                <a:off x="7229520" y="5827680"/>
                <a:ext cx="37476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4" name=""/>
              <p:cNvSpPr/>
              <p:nvPr/>
            </p:nvSpPr>
            <p:spPr>
              <a:xfrm>
                <a:off x="7229520" y="5824440"/>
                <a:ext cx="3747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5" name=""/>
              <p:cNvSpPr/>
              <p:nvPr/>
            </p:nvSpPr>
            <p:spPr>
              <a:xfrm>
                <a:off x="7229520" y="5818320"/>
                <a:ext cx="37476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6" name=""/>
              <p:cNvSpPr/>
              <p:nvPr/>
            </p:nvSpPr>
            <p:spPr>
              <a:xfrm>
                <a:off x="7229520" y="5815080"/>
                <a:ext cx="37476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7" name=""/>
              <p:cNvSpPr/>
              <p:nvPr/>
            </p:nvSpPr>
            <p:spPr>
              <a:xfrm>
                <a:off x="7229520" y="5811840"/>
                <a:ext cx="37476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8" name=""/>
              <p:cNvSpPr/>
              <p:nvPr/>
            </p:nvSpPr>
            <p:spPr>
              <a:xfrm>
                <a:off x="7229520" y="5805360"/>
                <a:ext cx="374760" cy="64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9" name=""/>
              <p:cNvSpPr/>
              <p:nvPr/>
            </p:nvSpPr>
            <p:spPr>
              <a:xfrm>
                <a:off x="7229520" y="5803920"/>
                <a:ext cx="374760" cy="144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0" name=""/>
              <p:cNvSpPr/>
              <p:nvPr/>
            </p:nvSpPr>
            <p:spPr>
              <a:xfrm>
                <a:off x="7229520" y="5799240"/>
                <a:ext cx="374760" cy="612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>
                <a:off x="7229520" y="5794200"/>
                <a:ext cx="374760" cy="50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7229520" y="5789520"/>
                <a:ext cx="3747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7229520" y="5784840"/>
                <a:ext cx="374760" cy="64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7229520" y="5783400"/>
                <a:ext cx="37476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7229520" y="5776920"/>
                <a:ext cx="37476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7229520" y="5773680"/>
                <a:ext cx="37476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7229520" y="5769000"/>
                <a:ext cx="37476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7229520" y="5765760"/>
                <a:ext cx="37476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7229520" y="5761080"/>
                <a:ext cx="374760" cy="32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7229520" y="5756400"/>
                <a:ext cx="374760" cy="612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1" name=""/>
              <p:cNvSpPr/>
              <p:nvPr/>
            </p:nvSpPr>
            <p:spPr>
              <a:xfrm>
                <a:off x="7229520" y="5751360"/>
                <a:ext cx="374760" cy="50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2" name=""/>
              <p:cNvSpPr/>
              <p:nvPr/>
            </p:nvSpPr>
            <p:spPr>
              <a:xfrm>
                <a:off x="7229520" y="5746680"/>
                <a:ext cx="3747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>
                <a:off x="7229520" y="5742000"/>
                <a:ext cx="374760" cy="46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>
                <a:off x="7229520" y="5740560"/>
                <a:ext cx="37476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5" name=""/>
              <p:cNvSpPr/>
              <p:nvPr/>
            </p:nvSpPr>
            <p:spPr>
              <a:xfrm>
                <a:off x="7229520" y="5734080"/>
                <a:ext cx="374760" cy="648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>
                <a:off x="7229520" y="5729400"/>
                <a:ext cx="374760" cy="46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7229520" y="5726160"/>
                <a:ext cx="37476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7229520" y="5721480"/>
                <a:ext cx="374760" cy="46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7229520" y="5715000"/>
                <a:ext cx="374760" cy="64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7229520" y="5715000"/>
                <a:ext cx="374760" cy="144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>
                <a:off x="7229520" y="5708520"/>
                <a:ext cx="37476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>
                <a:off x="7229520" y="5705640"/>
                <a:ext cx="374760" cy="14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>
                <a:off x="7229520" y="5700600"/>
                <a:ext cx="37476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>
                <a:off x="7229520" y="5695920"/>
                <a:ext cx="374760" cy="46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>
                <a:off x="7229520" y="5692680"/>
                <a:ext cx="3747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>
                <a:off x="7229520" y="5686560"/>
                <a:ext cx="374760" cy="612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>
                <a:off x="7229520" y="5684760"/>
                <a:ext cx="37476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>
                <a:off x="7229520" y="5680080"/>
                <a:ext cx="374760" cy="64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9" name=""/>
              <p:cNvSpPr/>
              <p:nvPr/>
            </p:nvSpPr>
            <p:spPr>
              <a:xfrm>
                <a:off x="7229520" y="5675400"/>
                <a:ext cx="374760" cy="46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>
                <a:off x="7229520" y="5670720"/>
                <a:ext cx="374760" cy="288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>
                <a:off x="7229520" y="5665680"/>
                <a:ext cx="374760" cy="50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>
                <a:off x="7229520" y="5664240"/>
                <a:ext cx="37476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>
                <a:off x="7229520" y="5657760"/>
                <a:ext cx="37476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>
                <a:off x="7229520" y="5654520"/>
                <a:ext cx="3747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>
                <a:off x="7229520" y="5649840"/>
                <a:ext cx="3747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>
                <a:off x="7229520" y="5645160"/>
                <a:ext cx="374760" cy="46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>
                <a:off x="7229520" y="5638680"/>
                <a:ext cx="374760" cy="64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>
                <a:off x="7229520" y="5635800"/>
                <a:ext cx="374760" cy="28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>
                <a:off x="7229520" y="5630760"/>
                <a:ext cx="374760" cy="50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>
                <a:off x="7229520" y="5627520"/>
                <a:ext cx="37476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>
                <a:off x="7229520" y="5624640"/>
                <a:ext cx="374760" cy="46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>
                <a:off x="7229520" y="5618160"/>
                <a:ext cx="374760" cy="64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>
                <a:off x="7229520" y="5616720"/>
                <a:ext cx="37476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>
                <a:off x="7229520" y="5610240"/>
                <a:ext cx="37476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>
                <a:off x="7229520" y="5607000"/>
                <a:ext cx="37476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6" name=""/>
              <p:cNvSpPr/>
              <p:nvPr/>
            </p:nvSpPr>
            <p:spPr>
              <a:xfrm>
                <a:off x="7229520" y="5603760"/>
                <a:ext cx="37476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7" name=""/>
              <p:cNvSpPr/>
              <p:nvPr/>
            </p:nvSpPr>
            <p:spPr>
              <a:xfrm>
                <a:off x="7229520" y="5603760"/>
                <a:ext cx="374760" cy="5461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>
                <a:off x="7202520" y="6167520"/>
                <a:ext cx="27000" cy="46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>
                <a:off x="7202520" y="6164280"/>
                <a:ext cx="2700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>
                <a:off x="7202520" y="6157800"/>
                <a:ext cx="2700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>
                <a:off x="7202520" y="6153120"/>
                <a:ext cx="2700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>
                <a:off x="7202520" y="6149880"/>
                <a:ext cx="27000" cy="180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>
                <a:off x="7202520" y="6145200"/>
                <a:ext cx="2700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4" name=""/>
              <p:cNvSpPr/>
              <p:nvPr/>
            </p:nvSpPr>
            <p:spPr>
              <a:xfrm>
                <a:off x="7202520" y="6138720"/>
                <a:ext cx="27000" cy="50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5" name=""/>
              <p:cNvSpPr/>
              <p:nvPr/>
            </p:nvSpPr>
            <p:spPr>
              <a:xfrm>
                <a:off x="7202520" y="6135840"/>
                <a:ext cx="27000" cy="288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>
                <a:off x="7202520" y="6130800"/>
                <a:ext cx="27000" cy="64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7202520" y="6126120"/>
                <a:ext cx="2700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7202520" y="6119640"/>
                <a:ext cx="2700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7202520" y="6116760"/>
                <a:ext cx="27000" cy="288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0" name=""/>
              <p:cNvSpPr/>
              <p:nvPr/>
            </p:nvSpPr>
            <p:spPr>
              <a:xfrm>
                <a:off x="7202520" y="6111720"/>
                <a:ext cx="27000" cy="64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1" name=""/>
              <p:cNvSpPr/>
              <p:nvPr/>
            </p:nvSpPr>
            <p:spPr>
              <a:xfrm>
                <a:off x="7202520" y="6107040"/>
                <a:ext cx="2700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>
                <a:off x="7202520" y="6102360"/>
                <a:ext cx="2700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3" name=""/>
              <p:cNvSpPr/>
              <p:nvPr/>
            </p:nvSpPr>
            <p:spPr>
              <a:xfrm>
                <a:off x="7202520" y="6097680"/>
                <a:ext cx="2700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4" name=""/>
              <p:cNvSpPr/>
              <p:nvPr/>
            </p:nvSpPr>
            <p:spPr>
              <a:xfrm>
                <a:off x="7202520" y="6093000"/>
                <a:ext cx="2700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>
                <a:off x="7202520" y="6087960"/>
                <a:ext cx="2700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6" name=""/>
              <p:cNvSpPr/>
              <p:nvPr/>
            </p:nvSpPr>
            <p:spPr>
              <a:xfrm>
                <a:off x="7202520" y="6084720"/>
                <a:ext cx="27000" cy="50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7" name=""/>
              <p:cNvSpPr/>
              <p:nvPr/>
            </p:nvSpPr>
            <p:spPr>
              <a:xfrm>
                <a:off x="7202520" y="6078600"/>
                <a:ext cx="2700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7202520" y="6075360"/>
                <a:ext cx="2700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7202520" y="6070680"/>
                <a:ext cx="2700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>
                <a:off x="7202520" y="6064200"/>
                <a:ext cx="2700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7202520" y="6060960"/>
                <a:ext cx="27000" cy="32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>
                <a:off x="7202520" y="6058080"/>
                <a:ext cx="27000" cy="468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7202520" y="6051600"/>
                <a:ext cx="2700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7202520" y="6045120"/>
                <a:ext cx="2700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7202520" y="6041880"/>
                <a:ext cx="27000" cy="32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>
                <a:off x="7202520" y="6039000"/>
                <a:ext cx="2700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>
                <a:off x="7202520" y="6032520"/>
                <a:ext cx="2700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>
                <a:off x="7202520" y="6029280"/>
                <a:ext cx="2700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>
                <a:off x="7202520" y="6022800"/>
                <a:ext cx="2700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>
                <a:off x="7202520" y="6018120"/>
                <a:ext cx="2700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>
                <a:off x="7202520" y="6016680"/>
                <a:ext cx="2700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>
                <a:off x="7202520" y="6010200"/>
                <a:ext cx="27000" cy="64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>
                <a:off x="7202520" y="6004080"/>
                <a:ext cx="2700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>
                <a:off x="7202520" y="6000840"/>
                <a:ext cx="2700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7202520" y="5997600"/>
                <a:ext cx="2700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6" name=""/>
              <p:cNvSpPr/>
              <p:nvPr/>
            </p:nvSpPr>
            <p:spPr>
              <a:xfrm>
                <a:off x="7202520" y="5991120"/>
                <a:ext cx="27000" cy="64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7" name=""/>
              <p:cNvSpPr/>
              <p:nvPr/>
            </p:nvSpPr>
            <p:spPr>
              <a:xfrm>
                <a:off x="7202520" y="5987880"/>
                <a:ext cx="2700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>
                <a:off x="7202520" y="5981760"/>
                <a:ext cx="2700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9" name=""/>
              <p:cNvSpPr/>
              <p:nvPr/>
            </p:nvSpPr>
            <p:spPr>
              <a:xfrm>
                <a:off x="7202520" y="5977080"/>
                <a:ext cx="2700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0" name=""/>
              <p:cNvSpPr/>
              <p:nvPr/>
            </p:nvSpPr>
            <p:spPr>
              <a:xfrm>
                <a:off x="7202520" y="5972040"/>
                <a:ext cx="2700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>
                <a:off x="7202520" y="5969160"/>
                <a:ext cx="2700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2" name=""/>
              <p:cNvSpPr/>
              <p:nvPr/>
            </p:nvSpPr>
            <p:spPr>
              <a:xfrm>
                <a:off x="7202520" y="5964120"/>
                <a:ext cx="27000" cy="50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3" name=""/>
              <p:cNvSpPr/>
              <p:nvPr/>
            </p:nvSpPr>
            <p:spPr>
              <a:xfrm>
                <a:off x="7202520" y="5958000"/>
                <a:ext cx="27000" cy="612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7202520" y="5956200"/>
                <a:ext cx="2700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5" name=""/>
              <p:cNvSpPr/>
              <p:nvPr/>
            </p:nvSpPr>
            <p:spPr>
              <a:xfrm>
                <a:off x="7202520" y="5950080"/>
                <a:ext cx="2700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6" name=""/>
              <p:cNvSpPr/>
              <p:nvPr/>
            </p:nvSpPr>
            <p:spPr>
              <a:xfrm>
                <a:off x="7202520" y="5945040"/>
                <a:ext cx="27000" cy="50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>
                <a:off x="7202520" y="5942160"/>
                <a:ext cx="2700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8" name=""/>
              <p:cNvSpPr/>
              <p:nvPr/>
            </p:nvSpPr>
            <p:spPr>
              <a:xfrm>
                <a:off x="7202520" y="5935680"/>
                <a:ext cx="2700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9" name=""/>
              <p:cNvSpPr/>
              <p:nvPr/>
            </p:nvSpPr>
            <p:spPr>
              <a:xfrm>
                <a:off x="7202520" y="5929200"/>
                <a:ext cx="2700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7202520" y="5925960"/>
                <a:ext cx="2700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1" name=""/>
              <p:cNvSpPr/>
              <p:nvPr/>
            </p:nvSpPr>
            <p:spPr>
              <a:xfrm>
                <a:off x="7202520" y="5923080"/>
                <a:ext cx="2700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2" name=""/>
              <p:cNvSpPr/>
              <p:nvPr/>
            </p:nvSpPr>
            <p:spPr>
              <a:xfrm>
                <a:off x="7202520" y="5916600"/>
                <a:ext cx="2700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>
                <a:off x="7202520" y="5915160"/>
                <a:ext cx="2700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>
                <a:off x="7202520" y="5908680"/>
                <a:ext cx="27000" cy="64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5" name=""/>
              <p:cNvSpPr/>
              <p:nvPr/>
            </p:nvSpPr>
            <p:spPr>
              <a:xfrm>
                <a:off x="7202520" y="590400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>
                <a:off x="7202520" y="5897520"/>
                <a:ext cx="2700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7" name=""/>
              <p:cNvSpPr/>
              <p:nvPr/>
            </p:nvSpPr>
            <p:spPr>
              <a:xfrm>
                <a:off x="7202520" y="5896080"/>
                <a:ext cx="270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8" name=""/>
              <p:cNvSpPr/>
              <p:nvPr/>
            </p:nvSpPr>
            <p:spPr>
              <a:xfrm>
                <a:off x="7202520" y="5889600"/>
                <a:ext cx="2700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7202520" y="5884920"/>
                <a:ext cx="2700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0" name=""/>
              <p:cNvSpPr/>
              <p:nvPr/>
            </p:nvSpPr>
            <p:spPr>
              <a:xfrm>
                <a:off x="7202520" y="5881680"/>
                <a:ext cx="270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1" name=""/>
              <p:cNvSpPr/>
              <p:nvPr/>
            </p:nvSpPr>
            <p:spPr>
              <a:xfrm>
                <a:off x="7202520" y="5875200"/>
                <a:ext cx="2700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2" name=""/>
              <p:cNvSpPr/>
              <p:nvPr/>
            </p:nvSpPr>
            <p:spPr>
              <a:xfrm>
                <a:off x="7202520" y="5872320"/>
                <a:ext cx="2700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3" name=""/>
              <p:cNvSpPr/>
              <p:nvPr/>
            </p:nvSpPr>
            <p:spPr>
              <a:xfrm>
                <a:off x="7202520" y="5867280"/>
                <a:ext cx="270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7202520" y="5862600"/>
                <a:ext cx="2700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5" name=""/>
              <p:cNvSpPr/>
              <p:nvPr/>
            </p:nvSpPr>
            <p:spPr>
              <a:xfrm>
                <a:off x="7202520" y="5856120"/>
                <a:ext cx="2700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6" name=""/>
              <p:cNvSpPr/>
              <p:nvPr/>
            </p:nvSpPr>
            <p:spPr>
              <a:xfrm>
                <a:off x="7202520" y="5854680"/>
                <a:ext cx="270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7202520" y="5850000"/>
                <a:ext cx="2700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8" name=""/>
              <p:cNvSpPr/>
              <p:nvPr/>
            </p:nvSpPr>
            <p:spPr>
              <a:xfrm>
                <a:off x="7202520" y="584352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9" name=""/>
              <p:cNvSpPr/>
              <p:nvPr/>
            </p:nvSpPr>
            <p:spPr>
              <a:xfrm>
                <a:off x="7202520" y="5840280"/>
                <a:ext cx="2700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7202520" y="5834160"/>
                <a:ext cx="2700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>
                <a:off x="7202520" y="5830920"/>
                <a:ext cx="2700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7202520" y="5824440"/>
                <a:ext cx="2700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7202520" y="5821200"/>
                <a:ext cx="2700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4" name=""/>
              <p:cNvSpPr/>
              <p:nvPr/>
            </p:nvSpPr>
            <p:spPr>
              <a:xfrm>
                <a:off x="7202520" y="5815080"/>
                <a:ext cx="2700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5" name=""/>
              <p:cNvSpPr/>
              <p:nvPr/>
            </p:nvSpPr>
            <p:spPr>
              <a:xfrm>
                <a:off x="7202520" y="5811840"/>
                <a:ext cx="2700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6" name=""/>
              <p:cNvSpPr/>
              <p:nvPr/>
            </p:nvSpPr>
            <p:spPr>
              <a:xfrm>
                <a:off x="7202520" y="5807160"/>
                <a:ext cx="270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7" name=""/>
              <p:cNvSpPr/>
              <p:nvPr/>
            </p:nvSpPr>
            <p:spPr>
              <a:xfrm>
                <a:off x="7202520" y="5802480"/>
                <a:ext cx="2700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8" name=""/>
              <p:cNvSpPr/>
              <p:nvPr/>
            </p:nvSpPr>
            <p:spPr>
              <a:xfrm>
                <a:off x="7202520" y="5796000"/>
                <a:ext cx="27000" cy="64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7202520" y="5792760"/>
                <a:ext cx="2700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>
                <a:off x="7202520" y="5789520"/>
                <a:ext cx="2700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7202520" y="5783400"/>
                <a:ext cx="27000" cy="612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2" name=""/>
              <p:cNvSpPr/>
              <p:nvPr/>
            </p:nvSpPr>
            <p:spPr>
              <a:xfrm>
                <a:off x="7202520" y="5780160"/>
                <a:ext cx="2700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3" name=""/>
              <p:cNvSpPr/>
              <p:nvPr/>
            </p:nvSpPr>
            <p:spPr>
              <a:xfrm>
                <a:off x="7202520" y="5773680"/>
                <a:ext cx="27000" cy="64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4" name=""/>
              <p:cNvSpPr/>
              <p:nvPr/>
            </p:nvSpPr>
            <p:spPr>
              <a:xfrm>
                <a:off x="7202520" y="5769000"/>
                <a:ext cx="2700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5" name=""/>
              <p:cNvSpPr/>
              <p:nvPr/>
            </p:nvSpPr>
            <p:spPr>
              <a:xfrm>
                <a:off x="7202520" y="5765760"/>
                <a:ext cx="27000" cy="32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7202520" y="5762520"/>
                <a:ext cx="2700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7202520" y="5756400"/>
                <a:ext cx="2700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7202520" y="5749920"/>
                <a:ext cx="2700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7202520" y="5746680"/>
                <a:ext cx="2700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7202520" y="5743440"/>
                <a:ext cx="2700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7202520" y="5737320"/>
                <a:ext cx="27000" cy="61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7202520" y="5732640"/>
                <a:ext cx="2700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7202520" y="5727600"/>
                <a:ext cx="27000" cy="50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>
                <a:off x="7202520" y="5721480"/>
                <a:ext cx="2700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7202520" y="5719680"/>
                <a:ext cx="2700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7202520" y="5715000"/>
                <a:ext cx="2700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7202520" y="5708520"/>
                <a:ext cx="2700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>
                <a:off x="7202520" y="5705640"/>
                <a:ext cx="27000" cy="288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7202520" y="5702400"/>
                <a:ext cx="2700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0" name=""/>
              <p:cNvSpPr/>
              <p:nvPr/>
            </p:nvSpPr>
            <p:spPr>
              <a:xfrm>
                <a:off x="7202520" y="5695920"/>
                <a:ext cx="2700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7202520" y="5691240"/>
                <a:ext cx="2700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7202520" y="5686560"/>
                <a:ext cx="2700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3" name=""/>
              <p:cNvSpPr/>
              <p:nvPr/>
            </p:nvSpPr>
            <p:spPr>
              <a:xfrm>
                <a:off x="7202520" y="5680080"/>
                <a:ext cx="2700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4" name=""/>
              <p:cNvSpPr/>
              <p:nvPr/>
            </p:nvSpPr>
            <p:spPr>
              <a:xfrm>
                <a:off x="7202520" y="5676840"/>
                <a:ext cx="2700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5" name=""/>
              <p:cNvSpPr/>
              <p:nvPr/>
            </p:nvSpPr>
            <p:spPr>
              <a:xfrm>
                <a:off x="7202520" y="5672160"/>
                <a:ext cx="2700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6" name=""/>
              <p:cNvSpPr/>
              <p:nvPr/>
            </p:nvSpPr>
            <p:spPr>
              <a:xfrm>
                <a:off x="7202520" y="5668920"/>
                <a:ext cx="2700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7" name=""/>
              <p:cNvSpPr/>
              <p:nvPr/>
            </p:nvSpPr>
            <p:spPr>
              <a:xfrm>
                <a:off x="7202520" y="5662440"/>
                <a:ext cx="27000" cy="64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8" name=""/>
              <p:cNvSpPr/>
              <p:nvPr/>
            </p:nvSpPr>
            <p:spPr>
              <a:xfrm>
                <a:off x="7202520" y="5661000"/>
                <a:ext cx="2700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9" name=""/>
              <p:cNvSpPr/>
              <p:nvPr/>
            </p:nvSpPr>
            <p:spPr>
              <a:xfrm>
                <a:off x="7202520" y="5654520"/>
                <a:ext cx="27000" cy="64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7202520" y="5649840"/>
                <a:ext cx="2700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561" name=""/>
            <p:cNvGrpSpPr/>
            <p:nvPr/>
          </p:nvGrpSpPr>
          <p:grpSpPr>
            <a:xfrm>
              <a:off x="7148520" y="5580000"/>
              <a:ext cx="496800" cy="593640"/>
              <a:chOff x="7148520" y="5580000"/>
              <a:chExt cx="496800" cy="593640"/>
            </a:xfrm>
          </p:grpSpPr>
          <p:sp>
            <p:nvSpPr>
              <p:cNvPr id="12562" name=""/>
              <p:cNvSpPr/>
              <p:nvPr/>
            </p:nvSpPr>
            <p:spPr>
              <a:xfrm>
                <a:off x="7202520" y="5645160"/>
                <a:ext cx="2700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7202520" y="5640480"/>
                <a:ext cx="27000" cy="612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7202520" y="5634000"/>
                <a:ext cx="2700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7202520" y="5630760"/>
                <a:ext cx="2700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7202520" y="5627520"/>
                <a:ext cx="2700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7202520" y="5621400"/>
                <a:ext cx="27000" cy="61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>
                <a:off x="7202520" y="5619600"/>
                <a:ext cx="2700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7202520" y="5613480"/>
                <a:ext cx="2700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7202520" y="5608800"/>
                <a:ext cx="27000" cy="46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7202520" y="5602320"/>
                <a:ext cx="2700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7202520" y="5597640"/>
                <a:ext cx="2700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7202520" y="5592600"/>
                <a:ext cx="27000" cy="50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4" name=""/>
              <p:cNvSpPr/>
              <p:nvPr/>
            </p:nvSpPr>
            <p:spPr>
              <a:xfrm>
                <a:off x="7202520" y="5589720"/>
                <a:ext cx="2700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5" name=""/>
              <p:cNvSpPr/>
              <p:nvPr/>
            </p:nvSpPr>
            <p:spPr>
              <a:xfrm>
                <a:off x="7202520" y="5584680"/>
                <a:ext cx="2700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6" name=""/>
              <p:cNvSpPr/>
              <p:nvPr/>
            </p:nvSpPr>
            <p:spPr>
              <a:xfrm>
                <a:off x="7202520" y="5580000"/>
                <a:ext cx="2700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>
                <a:off x="7202520" y="5581800"/>
                <a:ext cx="27000" cy="59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7148520" y="6004080"/>
                <a:ext cx="2700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7148520" y="5997600"/>
                <a:ext cx="27000" cy="64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7148520" y="5994360"/>
                <a:ext cx="2700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7148520" y="5992920"/>
                <a:ext cx="2700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7148520" y="5987880"/>
                <a:ext cx="27000" cy="64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7148520" y="5983200"/>
                <a:ext cx="2700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7148520" y="5981760"/>
                <a:ext cx="2700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7148520" y="5975280"/>
                <a:ext cx="27000" cy="648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>
                <a:off x="7148520" y="5973840"/>
                <a:ext cx="2700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7148520" y="5970600"/>
                <a:ext cx="27000" cy="324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>
                <a:off x="7148520" y="5964120"/>
                <a:ext cx="27000" cy="792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7148520" y="5962680"/>
                <a:ext cx="27000" cy="14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>
                <a:off x="7148520" y="5958000"/>
                <a:ext cx="270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7148520" y="5952960"/>
                <a:ext cx="270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>
                <a:off x="7148520" y="5951520"/>
                <a:ext cx="27000" cy="14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>
                <a:off x="7148520" y="5946840"/>
                <a:ext cx="27000" cy="32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7148520" y="5942160"/>
                <a:ext cx="27000" cy="612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>
                <a:off x="7148520" y="5938920"/>
                <a:ext cx="27000" cy="14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>
                <a:off x="7148520" y="5935680"/>
                <a:ext cx="2700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7148520" y="5931000"/>
                <a:ext cx="27000" cy="46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>
                <a:off x="7148520" y="5927760"/>
                <a:ext cx="270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7148520" y="5924520"/>
                <a:ext cx="2700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7148520" y="5921280"/>
                <a:ext cx="27000" cy="46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>
                <a:off x="7148520" y="5916600"/>
                <a:ext cx="2700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7148520" y="5913360"/>
                <a:ext cx="27000" cy="324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>
                <a:off x="7148520" y="5908680"/>
                <a:ext cx="2700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7148520" y="5905440"/>
                <a:ext cx="270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7148520" y="5902200"/>
                <a:ext cx="270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>
                <a:off x="7148520" y="589752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7148520" y="5894280"/>
                <a:ext cx="2700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7148520" y="5891040"/>
                <a:ext cx="27000" cy="32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>
                <a:off x="7148520" y="5889600"/>
                <a:ext cx="2700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7148520" y="5884920"/>
                <a:ext cx="27000" cy="61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7148520" y="5880240"/>
                <a:ext cx="27000" cy="28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>
                <a:off x="7148520" y="5878440"/>
                <a:ext cx="2700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7148520" y="5872320"/>
                <a:ext cx="27000" cy="612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7148520" y="5869080"/>
                <a:ext cx="270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>
                <a:off x="7148520" y="5867280"/>
                <a:ext cx="27000" cy="180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7148520" y="5859360"/>
                <a:ext cx="27000" cy="79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>
                <a:off x="7148520" y="5859360"/>
                <a:ext cx="2700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7148520" y="5856120"/>
                <a:ext cx="2700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9" name=""/>
              <p:cNvSpPr/>
              <p:nvPr/>
            </p:nvSpPr>
            <p:spPr>
              <a:xfrm>
                <a:off x="7148520" y="5850000"/>
                <a:ext cx="27000" cy="61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7148520" y="5848200"/>
                <a:ext cx="2700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7148520" y="5843520"/>
                <a:ext cx="270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>
                <a:off x="7148520" y="5838840"/>
                <a:ext cx="27000" cy="64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3" name=""/>
              <p:cNvSpPr/>
              <p:nvPr/>
            </p:nvSpPr>
            <p:spPr>
              <a:xfrm>
                <a:off x="7148520" y="5837400"/>
                <a:ext cx="2700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4" name=""/>
              <p:cNvSpPr/>
              <p:nvPr/>
            </p:nvSpPr>
            <p:spPr>
              <a:xfrm>
                <a:off x="7148520" y="5834160"/>
                <a:ext cx="2700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7148520" y="5827680"/>
                <a:ext cx="27000" cy="648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6" name=""/>
              <p:cNvSpPr/>
              <p:nvPr/>
            </p:nvSpPr>
            <p:spPr>
              <a:xfrm>
                <a:off x="7148520" y="5826240"/>
                <a:ext cx="27000" cy="14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7" name=""/>
              <p:cNvSpPr/>
              <p:nvPr/>
            </p:nvSpPr>
            <p:spPr>
              <a:xfrm>
                <a:off x="7148520" y="5821200"/>
                <a:ext cx="27000" cy="32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8" name=""/>
              <p:cNvSpPr/>
              <p:nvPr/>
            </p:nvSpPr>
            <p:spPr>
              <a:xfrm>
                <a:off x="7148520" y="5818320"/>
                <a:ext cx="2700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7148520" y="5815080"/>
                <a:ext cx="270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0" name=""/>
              <p:cNvSpPr/>
              <p:nvPr/>
            </p:nvSpPr>
            <p:spPr>
              <a:xfrm>
                <a:off x="7148520" y="5810400"/>
                <a:ext cx="27000" cy="288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1" name=""/>
              <p:cNvSpPr/>
              <p:nvPr/>
            </p:nvSpPr>
            <p:spPr>
              <a:xfrm>
                <a:off x="7148520" y="5807160"/>
                <a:ext cx="27000" cy="468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7148520" y="5802480"/>
                <a:ext cx="27000" cy="288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7148520" y="5799240"/>
                <a:ext cx="2700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7148520" y="5794200"/>
                <a:ext cx="27000" cy="504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7148520" y="5791320"/>
                <a:ext cx="27000" cy="288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7148520" y="5788080"/>
                <a:ext cx="2700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7148520" y="5784840"/>
                <a:ext cx="27000" cy="46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7148520" y="5780160"/>
                <a:ext cx="2700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7148520" y="5776920"/>
                <a:ext cx="2700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>
                <a:off x="7148520" y="5772240"/>
                <a:ext cx="27000" cy="46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7148520" y="5769000"/>
                <a:ext cx="2700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7148520" y="5769000"/>
                <a:ext cx="27000" cy="2379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>
                <a:off x="7272360" y="567360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69" h="89">
                    <a:moveTo>
                      <a:pt x="0" y="44"/>
                    </a:moveTo>
                    <a:lnTo>
                      <a:pt x="0" y="53"/>
                    </a:lnTo>
                    <a:lnTo>
                      <a:pt x="2" y="61"/>
                    </a:lnTo>
                    <a:lnTo>
                      <a:pt x="5" y="69"/>
                    </a:lnTo>
                    <a:lnTo>
                      <a:pt x="9" y="76"/>
                    </a:lnTo>
                    <a:lnTo>
                      <a:pt x="12" y="79"/>
                    </a:lnTo>
                    <a:lnTo>
                      <a:pt x="14" y="81"/>
                    </a:lnTo>
                    <a:lnTo>
                      <a:pt x="17" y="83"/>
                    </a:lnTo>
                    <a:lnTo>
                      <a:pt x="21" y="85"/>
                    </a:lnTo>
                    <a:lnTo>
                      <a:pt x="24" y="87"/>
                    </a:lnTo>
                    <a:lnTo>
                      <a:pt x="28" y="88"/>
                    </a:lnTo>
                    <a:lnTo>
                      <a:pt x="29" y="88"/>
                    </a:lnTo>
                    <a:lnTo>
                      <a:pt x="35" y="89"/>
                    </a:lnTo>
                    <a:lnTo>
                      <a:pt x="38" y="88"/>
                    </a:lnTo>
                    <a:lnTo>
                      <a:pt x="41" y="88"/>
                    </a:lnTo>
                    <a:lnTo>
                      <a:pt x="45" y="87"/>
                    </a:lnTo>
                    <a:lnTo>
                      <a:pt x="47" y="85"/>
                    </a:lnTo>
                    <a:lnTo>
                      <a:pt x="50" y="83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9" y="76"/>
                    </a:lnTo>
                    <a:lnTo>
                      <a:pt x="62" y="69"/>
                    </a:lnTo>
                    <a:lnTo>
                      <a:pt x="65" y="61"/>
                    </a:lnTo>
                    <a:lnTo>
                      <a:pt x="67" y="53"/>
                    </a:lnTo>
                    <a:lnTo>
                      <a:pt x="69" y="44"/>
                    </a:lnTo>
                    <a:lnTo>
                      <a:pt x="67" y="34"/>
                    </a:lnTo>
                    <a:lnTo>
                      <a:pt x="65" y="26"/>
                    </a:lnTo>
                    <a:lnTo>
                      <a:pt x="62" y="18"/>
                    </a:lnTo>
                    <a:lnTo>
                      <a:pt x="59" y="12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0" y="5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5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7272360" y="567360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69" h="89">
                    <a:moveTo>
                      <a:pt x="0" y="44"/>
                    </a:moveTo>
                    <a:lnTo>
                      <a:pt x="0" y="53"/>
                    </a:lnTo>
                    <a:lnTo>
                      <a:pt x="2" y="61"/>
                    </a:lnTo>
                    <a:lnTo>
                      <a:pt x="5" y="69"/>
                    </a:lnTo>
                    <a:lnTo>
                      <a:pt x="9" y="76"/>
                    </a:lnTo>
                    <a:lnTo>
                      <a:pt x="12" y="79"/>
                    </a:lnTo>
                    <a:lnTo>
                      <a:pt x="14" y="81"/>
                    </a:lnTo>
                    <a:lnTo>
                      <a:pt x="17" y="83"/>
                    </a:lnTo>
                    <a:lnTo>
                      <a:pt x="21" y="85"/>
                    </a:lnTo>
                    <a:lnTo>
                      <a:pt x="24" y="87"/>
                    </a:lnTo>
                    <a:lnTo>
                      <a:pt x="28" y="88"/>
                    </a:lnTo>
                    <a:lnTo>
                      <a:pt x="29" y="88"/>
                    </a:lnTo>
                    <a:lnTo>
                      <a:pt x="35" y="89"/>
                    </a:lnTo>
                    <a:lnTo>
                      <a:pt x="38" y="88"/>
                    </a:lnTo>
                    <a:lnTo>
                      <a:pt x="41" y="88"/>
                    </a:lnTo>
                    <a:lnTo>
                      <a:pt x="45" y="87"/>
                    </a:lnTo>
                    <a:lnTo>
                      <a:pt x="47" y="85"/>
                    </a:lnTo>
                    <a:lnTo>
                      <a:pt x="50" y="83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9" y="76"/>
                    </a:lnTo>
                    <a:lnTo>
                      <a:pt x="62" y="69"/>
                    </a:lnTo>
                    <a:lnTo>
                      <a:pt x="65" y="61"/>
                    </a:lnTo>
                    <a:lnTo>
                      <a:pt x="67" y="53"/>
                    </a:lnTo>
                    <a:lnTo>
                      <a:pt x="69" y="44"/>
                    </a:lnTo>
                    <a:lnTo>
                      <a:pt x="67" y="34"/>
                    </a:lnTo>
                    <a:lnTo>
                      <a:pt x="65" y="26"/>
                    </a:lnTo>
                    <a:lnTo>
                      <a:pt x="62" y="18"/>
                    </a:lnTo>
                    <a:lnTo>
                      <a:pt x="59" y="12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0" y="5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5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7604280" y="6167520"/>
                <a:ext cx="41040" cy="46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>
                <a:off x="7604280" y="6164280"/>
                <a:ext cx="4104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7" name=""/>
              <p:cNvSpPr/>
              <p:nvPr/>
            </p:nvSpPr>
            <p:spPr>
              <a:xfrm>
                <a:off x="7604280" y="6157800"/>
                <a:ext cx="410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8" name=""/>
              <p:cNvSpPr/>
              <p:nvPr/>
            </p:nvSpPr>
            <p:spPr>
              <a:xfrm>
                <a:off x="7604280" y="6153120"/>
                <a:ext cx="410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7604280" y="6149880"/>
                <a:ext cx="41040" cy="180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0" name=""/>
              <p:cNvSpPr/>
              <p:nvPr/>
            </p:nvSpPr>
            <p:spPr>
              <a:xfrm>
                <a:off x="7604280" y="6145200"/>
                <a:ext cx="410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1" name=""/>
              <p:cNvSpPr/>
              <p:nvPr/>
            </p:nvSpPr>
            <p:spPr>
              <a:xfrm>
                <a:off x="7604280" y="6138720"/>
                <a:ext cx="41040" cy="50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7604280" y="6135840"/>
                <a:ext cx="41040" cy="288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>
                <a:off x="7604280" y="6130800"/>
                <a:ext cx="41040" cy="64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4" name=""/>
              <p:cNvSpPr/>
              <p:nvPr/>
            </p:nvSpPr>
            <p:spPr>
              <a:xfrm>
                <a:off x="7604280" y="6126120"/>
                <a:ext cx="410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7604280" y="6119640"/>
                <a:ext cx="4104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7604280" y="6116760"/>
                <a:ext cx="41040" cy="288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7" name=""/>
              <p:cNvSpPr/>
              <p:nvPr/>
            </p:nvSpPr>
            <p:spPr>
              <a:xfrm>
                <a:off x="7604280" y="6111720"/>
                <a:ext cx="41040" cy="64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7604280" y="6107040"/>
                <a:ext cx="4104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7604280" y="6102360"/>
                <a:ext cx="410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7604280" y="6097680"/>
                <a:ext cx="4104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7604280" y="6093000"/>
                <a:ext cx="4104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2" name=""/>
              <p:cNvSpPr/>
              <p:nvPr/>
            </p:nvSpPr>
            <p:spPr>
              <a:xfrm>
                <a:off x="7604280" y="6087960"/>
                <a:ext cx="4104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>
                <a:off x="7604280" y="6084720"/>
                <a:ext cx="41040" cy="50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7604280" y="6078600"/>
                <a:ext cx="4104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7604280" y="6075360"/>
                <a:ext cx="4104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>
                <a:off x="7604280" y="6070680"/>
                <a:ext cx="4104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7" name=""/>
              <p:cNvSpPr/>
              <p:nvPr/>
            </p:nvSpPr>
            <p:spPr>
              <a:xfrm>
                <a:off x="7604280" y="6064200"/>
                <a:ext cx="410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8" name=""/>
              <p:cNvSpPr/>
              <p:nvPr/>
            </p:nvSpPr>
            <p:spPr>
              <a:xfrm>
                <a:off x="7604280" y="6060960"/>
                <a:ext cx="41040" cy="32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9" name=""/>
              <p:cNvSpPr/>
              <p:nvPr/>
            </p:nvSpPr>
            <p:spPr>
              <a:xfrm>
                <a:off x="7604280" y="6058080"/>
                <a:ext cx="41040" cy="468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7604280" y="6051600"/>
                <a:ext cx="4104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7604280" y="6045120"/>
                <a:ext cx="410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>
                <a:off x="7604280" y="6041880"/>
                <a:ext cx="41040" cy="32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7604280" y="6039000"/>
                <a:ext cx="4104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>
                <a:off x="7604280" y="6032520"/>
                <a:ext cx="4104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>
                <a:off x="7604280" y="6029280"/>
                <a:ext cx="4104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7604280" y="6022800"/>
                <a:ext cx="4104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>
                <a:off x="7604280" y="6018120"/>
                <a:ext cx="4104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>
                <a:off x="7604280" y="6016680"/>
                <a:ext cx="4104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9" name=""/>
              <p:cNvSpPr/>
              <p:nvPr/>
            </p:nvSpPr>
            <p:spPr>
              <a:xfrm>
                <a:off x="7604280" y="6010200"/>
                <a:ext cx="41040" cy="64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0" name=""/>
              <p:cNvSpPr/>
              <p:nvPr/>
            </p:nvSpPr>
            <p:spPr>
              <a:xfrm>
                <a:off x="7604280" y="6004080"/>
                <a:ext cx="4104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1" name=""/>
              <p:cNvSpPr/>
              <p:nvPr/>
            </p:nvSpPr>
            <p:spPr>
              <a:xfrm>
                <a:off x="7604280" y="6000840"/>
                <a:ext cx="4104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7604280" y="5997600"/>
                <a:ext cx="410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7604280" y="5991120"/>
                <a:ext cx="41040" cy="64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>
                <a:off x="7604280" y="5987880"/>
                <a:ext cx="4104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5" name=""/>
              <p:cNvSpPr/>
              <p:nvPr/>
            </p:nvSpPr>
            <p:spPr>
              <a:xfrm>
                <a:off x="7604280" y="5981760"/>
                <a:ext cx="4104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6" name=""/>
              <p:cNvSpPr/>
              <p:nvPr/>
            </p:nvSpPr>
            <p:spPr>
              <a:xfrm>
                <a:off x="7604280" y="5977080"/>
                <a:ext cx="4104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7" name=""/>
              <p:cNvSpPr/>
              <p:nvPr/>
            </p:nvSpPr>
            <p:spPr>
              <a:xfrm>
                <a:off x="7604280" y="5972040"/>
                <a:ext cx="4104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7604280" y="5969160"/>
                <a:ext cx="4104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7604280" y="5964120"/>
                <a:ext cx="41040" cy="50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0" name=""/>
              <p:cNvSpPr/>
              <p:nvPr/>
            </p:nvSpPr>
            <p:spPr>
              <a:xfrm>
                <a:off x="7604280" y="5958000"/>
                <a:ext cx="41040" cy="612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1" name=""/>
              <p:cNvSpPr/>
              <p:nvPr/>
            </p:nvSpPr>
            <p:spPr>
              <a:xfrm>
                <a:off x="7604280" y="5956200"/>
                <a:ext cx="4104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2" name=""/>
              <p:cNvSpPr/>
              <p:nvPr/>
            </p:nvSpPr>
            <p:spPr>
              <a:xfrm>
                <a:off x="7604280" y="5950080"/>
                <a:ext cx="4104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3" name=""/>
              <p:cNvSpPr/>
              <p:nvPr/>
            </p:nvSpPr>
            <p:spPr>
              <a:xfrm>
                <a:off x="7604280" y="5945040"/>
                <a:ext cx="41040" cy="50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4" name=""/>
              <p:cNvSpPr/>
              <p:nvPr/>
            </p:nvSpPr>
            <p:spPr>
              <a:xfrm>
                <a:off x="7604280" y="5942160"/>
                <a:ext cx="4104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5" name=""/>
              <p:cNvSpPr/>
              <p:nvPr/>
            </p:nvSpPr>
            <p:spPr>
              <a:xfrm>
                <a:off x="7604280" y="5935680"/>
                <a:ext cx="4104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6" name=""/>
              <p:cNvSpPr/>
              <p:nvPr/>
            </p:nvSpPr>
            <p:spPr>
              <a:xfrm>
                <a:off x="7604280" y="5929200"/>
                <a:ext cx="4104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>
                <a:off x="7604280" y="5925960"/>
                <a:ext cx="410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7604280" y="5923080"/>
                <a:ext cx="410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7604280" y="5916600"/>
                <a:ext cx="410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>
                <a:off x="7604280" y="5915160"/>
                <a:ext cx="4104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7604280" y="5908680"/>
                <a:ext cx="41040" cy="64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>
                <a:off x="7604280" y="5904000"/>
                <a:ext cx="4104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7604280" y="5897520"/>
                <a:ext cx="4104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>
                <a:off x="7604280" y="58960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5" name=""/>
              <p:cNvSpPr/>
              <p:nvPr/>
            </p:nvSpPr>
            <p:spPr>
              <a:xfrm>
                <a:off x="7604280" y="5889600"/>
                <a:ext cx="4104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6" name=""/>
              <p:cNvSpPr/>
              <p:nvPr/>
            </p:nvSpPr>
            <p:spPr>
              <a:xfrm>
                <a:off x="7604280" y="5884920"/>
                <a:ext cx="410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>
                <a:off x="7604280" y="5881680"/>
                <a:ext cx="410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8" name=""/>
              <p:cNvSpPr/>
              <p:nvPr/>
            </p:nvSpPr>
            <p:spPr>
              <a:xfrm>
                <a:off x="7604280" y="5875200"/>
                <a:ext cx="410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7604280" y="5872320"/>
                <a:ext cx="410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>
                <a:off x="7604280" y="5867280"/>
                <a:ext cx="410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7604280" y="5862600"/>
                <a:ext cx="410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>
                <a:off x="7604280" y="5856120"/>
                <a:ext cx="4104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7604280" y="58546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7604280" y="5850000"/>
                <a:ext cx="4104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5" name=""/>
              <p:cNvSpPr/>
              <p:nvPr/>
            </p:nvSpPr>
            <p:spPr>
              <a:xfrm>
                <a:off x="7604280" y="5843520"/>
                <a:ext cx="4104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6" name=""/>
              <p:cNvSpPr/>
              <p:nvPr/>
            </p:nvSpPr>
            <p:spPr>
              <a:xfrm>
                <a:off x="7604280" y="5840280"/>
                <a:ext cx="4104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7" name=""/>
              <p:cNvSpPr/>
              <p:nvPr/>
            </p:nvSpPr>
            <p:spPr>
              <a:xfrm>
                <a:off x="7604280" y="5834160"/>
                <a:ext cx="4104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>
                <a:off x="7604280" y="5830920"/>
                <a:ext cx="410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7604280" y="5824440"/>
                <a:ext cx="4104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7604280" y="5821200"/>
                <a:ext cx="410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7604280" y="5815080"/>
                <a:ext cx="4104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7604280" y="5811840"/>
                <a:ext cx="410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7604280" y="5807160"/>
                <a:ext cx="410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4" name=""/>
              <p:cNvSpPr/>
              <p:nvPr/>
            </p:nvSpPr>
            <p:spPr>
              <a:xfrm>
                <a:off x="7604280" y="5802480"/>
                <a:ext cx="4104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7604280" y="5796000"/>
                <a:ext cx="41040" cy="64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6" name=""/>
              <p:cNvSpPr/>
              <p:nvPr/>
            </p:nvSpPr>
            <p:spPr>
              <a:xfrm>
                <a:off x="7604280" y="5792760"/>
                <a:ext cx="4104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7" name=""/>
              <p:cNvSpPr/>
              <p:nvPr/>
            </p:nvSpPr>
            <p:spPr>
              <a:xfrm>
                <a:off x="7604280" y="5789520"/>
                <a:ext cx="410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8" name=""/>
              <p:cNvSpPr/>
              <p:nvPr/>
            </p:nvSpPr>
            <p:spPr>
              <a:xfrm>
                <a:off x="7604280" y="5783400"/>
                <a:ext cx="41040" cy="612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9" name=""/>
              <p:cNvSpPr/>
              <p:nvPr/>
            </p:nvSpPr>
            <p:spPr>
              <a:xfrm>
                <a:off x="7604280" y="5780160"/>
                <a:ext cx="4104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7604280" y="5773680"/>
                <a:ext cx="41040" cy="64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1" name=""/>
              <p:cNvSpPr/>
              <p:nvPr/>
            </p:nvSpPr>
            <p:spPr>
              <a:xfrm>
                <a:off x="7604280" y="5769000"/>
                <a:ext cx="4104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2" name=""/>
              <p:cNvSpPr/>
              <p:nvPr/>
            </p:nvSpPr>
            <p:spPr>
              <a:xfrm>
                <a:off x="7604280" y="5765760"/>
                <a:ext cx="41040" cy="32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7604280" y="5762520"/>
                <a:ext cx="410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7604280" y="5756400"/>
                <a:ext cx="410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5" name=""/>
              <p:cNvSpPr/>
              <p:nvPr/>
            </p:nvSpPr>
            <p:spPr>
              <a:xfrm>
                <a:off x="7604280" y="5749920"/>
                <a:ext cx="410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7604280" y="5746680"/>
                <a:ext cx="4104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>
                <a:off x="7604280" y="5743440"/>
                <a:ext cx="4104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>
                <a:off x="7604280" y="5737320"/>
                <a:ext cx="41040" cy="61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>
                <a:off x="7604280" y="5732640"/>
                <a:ext cx="4104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7604280" y="5727600"/>
                <a:ext cx="41040" cy="50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1" name=""/>
              <p:cNvSpPr/>
              <p:nvPr/>
            </p:nvSpPr>
            <p:spPr>
              <a:xfrm>
                <a:off x="7604280" y="5721480"/>
                <a:ext cx="4104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2" name=""/>
              <p:cNvSpPr/>
              <p:nvPr/>
            </p:nvSpPr>
            <p:spPr>
              <a:xfrm>
                <a:off x="7604280" y="5719680"/>
                <a:ext cx="4104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7604280" y="5715000"/>
                <a:ext cx="4104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>
                <a:off x="7604280" y="5708520"/>
                <a:ext cx="4104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>
                <a:off x="7604280" y="5705640"/>
                <a:ext cx="41040" cy="288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6" name=""/>
              <p:cNvSpPr/>
              <p:nvPr/>
            </p:nvSpPr>
            <p:spPr>
              <a:xfrm>
                <a:off x="7604280" y="5702400"/>
                <a:ext cx="4104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7" name=""/>
              <p:cNvSpPr/>
              <p:nvPr/>
            </p:nvSpPr>
            <p:spPr>
              <a:xfrm>
                <a:off x="7604280" y="5695920"/>
                <a:ext cx="4104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>
                <a:off x="7604280" y="5691240"/>
                <a:ext cx="4104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9" name=""/>
              <p:cNvSpPr/>
              <p:nvPr/>
            </p:nvSpPr>
            <p:spPr>
              <a:xfrm>
                <a:off x="7604280" y="5686560"/>
                <a:ext cx="4104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0" name=""/>
              <p:cNvSpPr/>
              <p:nvPr/>
            </p:nvSpPr>
            <p:spPr>
              <a:xfrm>
                <a:off x="7604280" y="5680080"/>
                <a:ext cx="410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1" name=""/>
              <p:cNvSpPr/>
              <p:nvPr/>
            </p:nvSpPr>
            <p:spPr>
              <a:xfrm>
                <a:off x="7604280" y="5676840"/>
                <a:ext cx="410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>
                <a:off x="7604280" y="5672160"/>
                <a:ext cx="4104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7604280" y="5668920"/>
                <a:ext cx="4104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4" name=""/>
              <p:cNvSpPr/>
              <p:nvPr/>
            </p:nvSpPr>
            <p:spPr>
              <a:xfrm>
                <a:off x="7604280" y="5662440"/>
                <a:ext cx="41040" cy="64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7604280" y="5661000"/>
                <a:ext cx="4104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6" name=""/>
              <p:cNvSpPr/>
              <p:nvPr/>
            </p:nvSpPr>
            <p:spPr>
              <a:xfrm>
                <a:off x="7604280" y="5654520"/>
                <a:ext cx="41040" cy="64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7" name=""/>
              <p:cNvSpPr/>
              <p:nvPr/>
            </p:nvSpPr>
            <p:spPr>
              <a:xfrm>
                <a:off x="7604280" y="5649840"/>
                <a:ext cx="4104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>
                <a:off x="7604280" y="5645160"/>
                <a:ext cx="410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7604280" y="5640480"/>
                <a:ext cx="41040" cy="612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>
                <a:off x="7604280" y="5634000"/>
                <a:ext cx="4104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1" name=""/>
              <p:cNvSpPr/>
              <p:nvPr/>
            </p:nvSpPr>
            <p:spPr>
              <a:xfrm>
                <a:off x="7604280" y="5630760"/>
                <a:ext cx="4104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762" name=""/>
            <p:cNvGrpSpPr/>
            <p:nvPr/>
          </p:nvGrpSpPr>
          <p:grpSpPr>
            <a:xfrm>
              <a:off x="1542960" y="2951280"/>
              <a:ext cx="6240600" cy="3222360"/>
              <a:chOff x="1542960" y="2951280"/>
              <a:chExt cx="6240600" cy="3222360"/>
            </a:xfrm>
          </p:grpSpPr>
          <p:sp>
            <p:nvSpPr>
              <p:cNvPr id="12763" name=""/>
              <p:cNvSpPr/>
              <p:nvPr/>
            </p:nvSpPr>
            <p:spPr>
              <a:xfrm>
                <a:off x="7604280" y="5627520"/>
                <a:ext cx="4104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>
                <a:off x="7604280" y="5621400"/>
                <a:ext cx="41040" cy="61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>
                <a:off x="7604280" y="5619600"/>
                <a:ext cx="4104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>
                <a:off x="7604280" y="5613480"/>
                <a:ext cx="410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7" name=""/>
              <p:cNvSpPr/>
              <p:nvPr/>
            </p:nvSpPr>
            <p:spPr>
              <a:xfrm>
                <a:off x="7604280" y="5608800"/>
                <a:ext cx="41040" cy="46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8" name=""/>
              <p:cNvSpPr/>
              <p:nvPr/>
            </p:nvSpPr>
            <p:spPr>
              <a:xfrm>
                <a:off x="7604280" y="5602320"/>
                <a:ext cx="410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>
                <a:off x="7604280" y="5597640"/>
                <a:ext cx="4104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0" name=""/>
              <p:cNvSpPr/>
              <p:nvPr/>
            </p:nvSpPr>
            <p:spPr>
              <a:xfrm>
                <a:off x="7604280" y="5592600"/>
                <a:ext cx="41040" cy="50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1" name=""/>
              <p:cNvSpPr/>
              <p:nvPr/>
            </p:nvSpPr>
            <p:spPr>
              <a:xfrm>
                <a:off x="7604280" y="5589720"/>
                <a:ext cx="4104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7604280" y="5584680"/>
                <a:ext cx="4104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3" name=""/>
              <p:cNvSpPr/>
              <p:nvPr/>
            </p:nvSpPr>
            <p:spPr>
              <a:xfrm>
                <a:off x="7604280" y="5580000"/>
                <a:ext cx="4104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4" name=""/>
              <p:cNvSpPr/>
              <p:nvPr/>
            </p:nvSpPr>
            <p:spPr>
              <a:xfrm>
                <a:off x="7604280" y="5581800"/>
                <a:ext cx="41040" cy="59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5" name=""/>
              <p:cNvSpPr/>
              <p:nvPr/>
            </p:nvSpPr>
            <p:spPr>
              <a:xfrm>
                <a:off x="7686720" y="5792760"/>
                <a:ext cx="1440" cy="14292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>
                <a:off x="7688160" y="5792760"/>
                <a:ext cx="3240" cy="14292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>
                <a:off x="7691400" y="5792760"/>
                <a:ext cx="1800" cy="1429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>
                <a:off x="7693200" y="5792760"/>
                <a:ext cx="4680" cy="14292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>
                <a:off x="7697880" y="5792760"/>
                <a:ext cx="1440" cy="142920"/>
              </a:xfrm>
              <a:prstGeom prst="rect">
                <a:avLst/>
              </a:prstGeom>
              <a:solidFill>
                <a:srgbClr val="b7b7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0" name=""/>
              <p:cNvSpPr/>
              <p:nvPr/>
            </p:nvSpPr>
            <p:spPr>
              <a:xfrm>
                <a:off x="7699320" y="5792760"/>
                <a:ext cx="3240" cy="14292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1" name=""/>
              <p:cNvSpPr/>
              <p:nvPr/>
            </p:nvSpPr>
            <p:spPr>
              <a:xfrm>
                <a:off x="7702560" y="5792760"/>
                <a:ext cx="1440" cy="14292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2" name=""/>
              <p:cNvSpPr/>
              <p:nvPr/>
            </p:nvSpPr>
            <p:spPr>
              <a:xfrm>
                <a:off x="7704000" y="5792760"/>
                <a:ext cx="5040" cy="1429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3" name=""/>
              <p:cNvSpPr/>
              <p:nvPr/>
            </p:nvSpPr>
            <p:spPr>
              <a:xfrm>
                <a:off x="7709040" y="5792760"/>
                <a:ext cx="1440" cy="1429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4" name=""/>
              <p:cNvSpPr/>
              <p:nvPr/>
            </p:nvSpPr>
            <p:spPr>
              <a:xfrm>
                <a:off x="7710480" y="5792760"/>
                <a:ext cx="1440" cy="14292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>
                <a:off x="7711920" y="5792760"/>
                <a:ext cx="3240" cy="1429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7715160" y="5792760"/>
                <a:ext cx="3240" cy="1429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>
                <a:off x="7718400" y="5792760"/>
                <a:ext cx="1440" cy="14292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>
                <a:off x="7719840" y="5792760"/>
                <a:ext cx="3240" cy="14292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>
                <a:off x="7723080" y="5792760"/>
                <a:ext cx="1800" cy="142920"/>
              </a:xfrm>
              <a:prstGeom prst="rect">
                <a:avLst/>
              </a:prstGeom>
              <a:solidFill>
                <a:srgbClr val="8b8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0" name=""/>
              <p:cNvSpPr/>
              <p:nvPr/>
            </p:nvSpPr>
            <p:spPr>
              <a:xfrm>
                <a:off x="7724880" y="5792760"/>
                <a:ext cx="4680" cy="1429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1" name=""/>
              <p:cNvSpPr/>
              <p:nvPr/>
            </p:nvSpPr>
            <p:spPr>
              <a:xfrm>
                <a:off x="7686720" y="5794200"/>
                <a:ext cx="42840" cy="1414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2" name=""/>
              <p:cNvSpPr/>
              <p:nvPr/>
            </p:nvSpPr>
            <p:spPr>
              <a:xfrm>
                <a:off x="7699320" y="5929200"/>
                <a:ext cx="842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3" name=""/>
              <p:cNvSpPr/>
              <p:nvPr/>
            </p:nvSpPr>
            <p:spPr>
              <a:xfrm>
                <a:off x="7699320" y="5925960"/>
                <a:ext cx="8424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4" name=""/>
              <p:cNvSpPr/>
              <p:nvPr/>
            </p:nvSpPr>
            <p:spPr>
              <a:xfrm>
                <a:off x="7699320" y="5921280"/>
                <a:ext cx="842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5" name=""/>
              <p:cNvSpPr/>
              <p:nvPr/>
            </p:nvSpPr>
            <p:spPr>
              <a:xfrm>
                <a:off x="7699320" y="5916600"/>
                <a:ext cx="8424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6" name=""/>
              <p:cNvSpPr/>
              <p:nvPr/>
            </p:nvSpPr>
            <p:spPr>
              <a:xfrm>
                <a:off x="7699320" y="5913360"/>
                <a:ext cx="84240" cy="32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>
                <a:off x="7699320" y="5907240"/>
                <a:ext cx="84240" cy="612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>
                <a:off x="7699320" y="5902200"/>
                <a:ext cx="842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9" name=""/>
              <p:cNvSpPr/>
              <p:nvPr/>
            </p:nvSpPr>
            <p:spPr>
              <a:xfrm>
                <a:off x="7699320" y="5897520"/>
                <a:ext cx="84240" cy="32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0" name=""/>
              <p:cNvSpPr/>
              <p:nvPr/>
            </p:nvSpPr>
            <p:spPr>
              <a:xfrm>
                <a:off x="7699320" y="5894280"/>
                <a:ext cx="84240" cy="50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1" name=""/>
              <p:cNvSpPr/>
              <p:nvPr/>
            </p:nvSpPr>
            <p:spPr>
              <a:xfrm>
                <a:off x="7699320" y="5891040"/>
                <a:ext cx="8424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2" name=""/>
              <p:cNvSpPr/>
              <p:nvPr/>
            </p:nvSpPr>
            <p:spPr>
              <a:xfrm>
                <a:off x="7699320" y="5886360"/>
                <a:ext cx="84240" cy="32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3" name=""/>
              <p:cNvSpPr/>
              <p:nvPr/>
            </p:nvSpPr>
            <p:spPr>
              <a:xfrm>
                <a:off x="7699320" y="5881680"/>
                <a:ext cx="84240" cy="648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4" name=""/>
              <p:cNvSpPr/>
              <p:nvPr/>
            </p:nvSpPr>
            <p:spPr>
              <a:xfrm>
                <a:off x="7699320" y="5877000"/>
                <a:ext cx="8424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>
                <a:off x="7699320" y="5872320"/>
                <a:ext cx="84240" cy="28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>
                <a:off x="7699320" y="5867280"/>
                <a:ext cx="84240" cy="50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7699320" y="5864400"/>
                <a:ext cx="842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>
                <a:off x="7699320" y="5859360"/>
                <a:ext cx="8424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7699320" y="5853240"/>
                <a:ext cx="84240" cy="612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>
                <a:off x="7699320" y="5850000"/>
                <a:ext cx="842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1" name=""/>
              <p:cNvSpPr/>
              <p:nvPr/>
            </p:nvSpPr>
            <p:spPr>
              <a:xfrm>
                <a:off x="7699320" y="5846760"/>
                <a:ext cx="8424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2" name=""/>
              <p:cNvSpPr/>
              <p:nvPr/>
            </p:nvSpPr>
            <p:spPr>
              <a:xfrm>
                <a:off x="7699320" y="5840280"/>
                <a:ext cx="84240" cy="648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>
                <a:off x="7699320" y="5838840"/>
                <a:ext cx="84240" cy="14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>
                <a:off x="7699320" y="5834160"/>
                <a:ext cx="842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>
                <a:off x="7699320" y="5827680"/>
                <a:ext cx="84240" cy="468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7699320" y="5826240"/>
                <a:ext cx="84240" cy="14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>
                <a:off x="7699320" y="5819760"/>
                <a:ext cx="842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7699320" y="5813280"/>
                <a:ext cx="84240" cy="50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9" name=""/>
              <p:cNvSpPr/>
              <p:nvPr/>
            </p:nvSpPr>
            <p:spPr>
              <a:xfrm>
                <a:off x="7699320" y="5810400"/>
                <a:ext cx="84240" cy="288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0" name=""/>
              <p:cNvSpPr/>
              <p:nvPr/>
            </p:nvSpPr>
            <p:spPr>
              <a:xfrm>
                <a:off x="7699320" y="5807160"/>
                <a:ext cx="8424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7699320" y="5800680"/>
                <a:ext cx="842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>
                <a:off x="7699320" y="5799240"/>
                <a:ext cx="84240" cy="144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7699320" y="5792760"/>
                <a:ext cx="842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7699320" y="5794200"/>
                <a:ext cx="84240" cy="1414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>
                <a:off x="7064280" y="6002280"/>
                <a:ext cx="4140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7064280" y="5999040"/>
                <a:ext cx="41400" cy="50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7064280" y="5994360"/>
                <a:ext cx="41400" cy="32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>
                <a:off x="7064280" y="5991120"/>
                <a:ext cx="41400" cy="50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7064280" y="5987880"/>
                <a:ext cx="4140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7064280" y="5985000"/>
                <a:ext cx="41400" cy="28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1" name=""/>
              <p:cNvSpPr/>
              <p:nvPr/>
            </p:nvSpPr>
            <p:spPr>
              <a:xfrm>
                <a:off x="7064280" y="5981760"/>
                <a:ext cx="4140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7064280" y="5977080"/>
                <a:ext cx="41400" cy="28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7064280" y="5972040"/>
                <a:ext cx="41400" cy="648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>
                <a:off x="7064280" y="5969160"/>
                <a:ext cx="41400" cy="144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7064280" y="5965920"/>
                <a:ext cx="4140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7064280" y="5962680"/>
                <a:ext cx="41400" cy="468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7" name=""/>
              <p:cNvSpPr/>
              <p:nvPr/>
            </p:nvSpPr>
            <p:spPr>
              <a:xfrm>
                <a:off x="7064280" y="5958000"/>
                <a:ext cx="414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7064280" y="5952960"/>
                <a:ext cx="414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7064280" y="5951520"/>
                <a:ext cx="41400" cy="144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>
                <a:off x="7064280" y="5948280"/>
                <a:ext cx="4140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7064280" y="5942160"/>
                <a:ext cx="41400" cy="612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7064280" y="5940360"/>
                <a:ext cx="41400" cy="180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7064280" y="5935680"/>
                <a:ext cx="41400" cy="64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4" name=""/>
              <p:cNvSpPr/>
              <p:nvPr/>
            </p:nvSpPr>
            <p:spPr>
              <a:xfrm>
                <a:off x="7064280" y="5931000"/>
                <a:ext cx="4140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>
                <a:off x="7064280" y="5927760"/>
                <a:ext cx="41400" cy="468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7064280" y="5923080"/>
                <a:ext cx="41400" cy="28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7064280" y="5923080"/>
                <a:ext cx="4140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8" name=""/>
              <p:cNvSpPr/>
              <p:nvPr/>
            </p:nvSpPr>
            <p:spPr>
              <a:xfrm>
                <a:off x="7064280" y="5916600"/>
                <a:ext cx="41400" cy="468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9" name=""/>
              <p:cNvSpPr/>
              <p:nvPr/>
            </p:nvSpPr>
            <p:spPr>
              <a:xfrm>
                <a:off x="7064280" y="5913360"/>
                <a:ext cx="414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7064280" y="5910120"/>
                <a:ext cx="4140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7064280" y="5905440"/>
                <a:ext cx="414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7064280" y="5902200"/>
                <a:ext cx="414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>
                <a:off x="7064280" y="5899320"/>
                <a:ext cx="414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7064280" y="5894280"/>
                <a:ext cx="4140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7064280" y="5889600"/>
                <a:ext cx="41400" cy="46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7064280" y="5886360"/>
                <a:ext cx="414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7064280" y="5884920"/>
                <a:ext cx="414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7064280" y="5878440"/>
                <a:ext cx="41400" cy="64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>
                <a:off x="7064280" y="5875200"/>
                <a:ext cx="4140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7064280" y="5872320"/>
                <a:ext cx="414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7064280" y="5869080"/>
                <a:ext cx="414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7064280" y="5865840"/>
                <a:ext cx="414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7064280" y="5862600"/>
                <a:ext cx="4140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7064280" y="5857920"/>
                <a:ext cx="414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7064280" y="5854680"/>
                <a:ext cx="41400" cy="468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>
                <a:off x="7064280" y="5850000"/>
                <a:ext cx="41400" cy="32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7064280" y="5846760"/>
                <a:ext cx="4140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8" name=""/>
              <p:cNvSpPr/>
              <p:nvPr/>
            </p:nvSpPr>
            <p:spPr>
              <a:xfrm>
                <a:off x="7064280" y="5843520"/>
                <a:ext cx="41400" cy="468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>
                <a:off x="7064280" y="5840280"/>
                <a:ext cx="4140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0" name=""/>
              <p:cNvSpPr/>
              <p:nvPr/>
            </p:nvSpPr>
            <p:spPr>
              <a:xfrm>
                <a:off x="7064280" y="5834160"/>
                <a:ext cx="41400" cy="612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1" name=""/>
              <p:cNvSpPr/>
              <p:nvPr/>
            </p:nvSpPr>
            <p:spPr>
              <a:xfrm>
                <a:off x="7064280" y="5832360"/>
                <a:ext cx="41400" cy="180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7064280" y="5829480"/>
                <a:ext cx="4140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3" name=""/>
              <p:cNvSpPr/>
              <p:nvPr/>
            </p:nvSpPr>
            <p:spPr>
              <a:xfrm>
                <a:off x="7064280" y="5824440"/>
                <a:ext cx="4140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7064280" y="5821200"/>
                <a:ext cx="4140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5" name=""/>
              <p:cNvSpPr/>
              <p:nvPr/>
            </p:nvSpPr>
            <p:spPr>
              <a:xfrm>
                <a:off x="7064280" y="5816520"/>
                <a:ext cx="414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6" name=""/>
              <p:cNvSpPr/>
              <p:nvPr/>
            </p:nvSpPr>
            <p:spPr>
              <a:xfrm>
                <a:off x="7064280" y="5815080"/>
                <a:ext cx="4140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7" name=""/>
              <p:cNvSpPr/>
              <p:nvPr/>
            </p:nvSpPr>
            <p:spPr>
              <a:xfrm>
                <a:off x="7064280" y="5808600"/>
                <a:ext cx="41400" cy="648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7064280" y="5805360"/>
                <a:ext cx="4140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9" name=""/>
              <p:cNvSpPr/>
              <p:nvPr/>
            </p:nvSpPr>
            <p:spPr>
              <a:xfrm>
                <a:off x="7064280" y="5803920"/>
                <a:ext cx="41400" cy="144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0" name=""/>
              <p:cNvSpPr/>
              <p:nvPr/>
            </p:nvSpPr>
            <p:spPr>
              <a:xfrm>
                <a:off x="7064280" y="5799240"/>
                <a:ext cx="41400" cy="612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7064280" y="5794200"/>
                <a:ext cx="41400" cy="32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7064280" y="5791320"/>
                <a:ext cx="41400" cy="468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7064280" y="5786280"/>
                <a:ext cx="4140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7064280" y="5783400"/>
                <a:ext cx="4140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7064280" y="5780160"/>
                <a:ext cx="41400" cy="468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6" name=""/>
              <p:cNvSpPr/>
              <p:nvPr/>
            </p:nvSpPr>
            <p:spPr>
              <a:xfrm>
                <a:off x="7064280" y="5776920"/>
                <a:ext cx="41400" cy="32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7" name=""/>
              <p:cNvSpPr/>
              <p:nvPr/>
            </p:nvSpPr>
            <p:spPr>
              <a:xfrm>
                <a:off x="7064280" y="5773680"/>
                <a:ext cx="4140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8" name=""/>
              <p:cNvSpPr/>
              <p:nvPr/>
            </p:nvSpPr>
            <p:spPr>
              <a:xfrm>
                <a:off x="7064280" y="5769000"/>
                <a:ext cx="4140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7064280" y="5769000"/>
                <a:ext cx="41400" cy="2379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0" name=""/>
              <p:cNvSpPr/>
              <p:nvPr/>
            </p:nvSpPr>
            <p:spPr>
              <a:xfrm>
                <a:off x="6838920" y="589752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9"/>
                    </a:lnTo>
                    <a:lnTo>
                      <a:pt x="181" y="34"/>
                    </a:lnTo>
                    <a:lnTo>
                      <a:pt x="185" y="39"/>
                    </a:lnTo>
                    <a:lnTo>
                      <a:pt x="188" y="46"/>
                    </a:lnTo>
                    <a:lnTo>
                      <a:pt x="190" y="51"/>
                    </a:lnTo>
                    <a:lnTo>
                      <a:pt x="191" y="58"/>
                    </a:lnTo>
                    <a:lnTo>
                      <a:pt x="193" y="65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5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6" y="129"/>
                    </a:lnTo>
                    <a:lnTo>
                      <a:pt x="105" y="129"/>
                    </a:lnTo>
                    <a:lnTo>
                      <a:pt x="97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1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1" y="34"/>
                    </a:lnTo>
                    <a:lnTo>
                      <a:pt x="16" y="29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1" name=""/>
              <p:cNvSpPr/>
              <p:nvPr/>
            </p:nvSpPr>
            <p:spPr>
              <a:xfrm>
                <a:off x="6838920" y="589752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9"/>
                    </a:lnTo>
                    <a:lnTo>
                      <a:pt x="181" y="34"/>
                    </a:lnTo>
                    <a:lnTo>
                      <a:pt x="185" y="39"/>
                    </a:lnTo>
                    <a:lnTo>
                      <a:pt x="188" y="46"/>
                    </a:lnTo>
                    <a:lnTo>
                      <a:pt x="190" y="51"/>
                    </a:lnTo>
                    <a:lnTo>
                      <a:pt x="191" y="58"/>
                    </a:lnTo>
                    <a:lnTo>
                      <a:pt x="193" y="65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5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6" y="129"/>
                    </a:lnTo>
                    <a:lnTo>
                      <a:pt x="105" y="129"/>
                    </a:lnTo>
                    <a:lnTo>
                      <a:pt x="97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1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1" y="34"/>
                    </a:lnTo>
                    <a:lnTo>
                      <a:pt x="16" y="29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 flipH="1">
                <a:off x="5795640" y="5897520"/>
                <a:ext cx="110628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5716440" y="5897520"/>
                <a:ext cx="142920" cy="10332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90" y="0"/>
                    </a:moveTo>
                    <a:lnTo>
                      <a:pt x="98" y="0"/>
                    </a:lnTo>
                    <a:lnTo>
                      <a:pt x="109" y="2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40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9"/>
                    </a:lnTo>
                    <a:lnTo>
                      <a:pt x="169" y="34"/>
                    </a:lnTo>
                    <a:lnTo>
                      <a:pt x="172" y="39"/>
                    </a:lnTo>
                    <a:lnTo>
                      <a:pt x="176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5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5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40" y="118"/>
                    </a:lnTo>
                    <a:lnTo>
                      <a:pt x="133" y="122"/>
                    </a:lnTo>
                    <a:lnTo>
                      <a:pt x="124" y="125"/>
                    </a:lnTo>
                    <a:lnTo>
                      <a:pt x="117" y="126"/>
                    </a:lnTo>
                    <a:lnTo>
                      <a:pt x="109" y="129"/>
                    </a:lnTo>
                    <a:lnTo>
                      <a:pt x="98" y="129"/>
                    </a:lnTo>
                    <a:lnTo>
                      <a:pt x="90" y="130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7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5716440" y="5897520"/>
                <a:ext cx="142920" cy="10332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90" y="0"/>
                    </a:moveTo>
                    <a:lnTo>
                      <a:pt x="98" y="0"/>
                    </a:lnTo>
                    <a:lnTo>
                      <a:pt x="109" y="2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40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9"/>
                    </a:lnTo>
                    <a:lnTo>
                      <a:pt x="169" y="34"/>
                    </a:lnTo>
                    <a:lnTo>
                      <a:pt x="172" y="39"/>
                    </a:lnTo>
                    <a:lnTo>
                      <a:pt x="176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5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5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40" y="118"/>
                    </a:lnTo>
                    <a:lnTo>
                      <a:pt x="133" y="122"/>
                    </a:lnTo>
                    <a:lnTo>
                      <a:pt x="124" y="125"/>
                    </a:lnTo>
                    <a:lnTo>
                      <a:pt x="117" y="126"/>
                    </a:lnTo>
                    <a:lnTo>
                      <a:pt x="109" y="129"/>
                    </a:lnTo>
                    <a:lnTo>
                      <a:pt x="98" y="129"/>
                    </a:lnTo>
                    <a:lnTo>
                      <a:pt x="90" y="130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7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5500800" y="5613480"/>
                <a:ext cx="557280" cy="14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5997600" y="5613480"/>
                <a:ext cx="101520" cy="218880"/>
              </a:xfrm>
              <a:custGeom>
                <a:avLst/>
                <a:gdLst/>
                <a:ahLst/>
                <a:rect l="l" t="t" r="r" b="b"/>
                <a:pathLst>
                  <a:path w="129" h="276">
                    <a:moveTo>
                      <a:pt x="86" y="0"/>
                    </a:moveTo>
                    <a:lnTo>
                      <a:pt x="86" y="192"/>
                    </a:lnTo>
                    <a:lnTo>
                      <a:pt x="43" y="192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76"/>
                    </a:moveTo>
                    <a:lnTo>
                      <a:pt x="65" y="276"/>
                    </a:lnTo>
                    <a:lnTo>
                      <a:pt x="0" y="176"/>
                    </a:lnTo>
                    <a:lnTo>
                      <a:pt x="129" y="17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6175440" y="5811840"/>
                <a:ext cx="834840" cy="79200"/>
              </a:xfrm>
              <a:custGeom>
                <a:avLst/>
                <a:gdLst/>
                <a:ahLst/>
                <a:rect l="l" t="t" r="r" b="b"/>
                <a:pathLst>
                  <a:path w="1052" h="101">
                    <a:moveTo>
                      <a:pt x="0" y="34"/>
                    </a:moveTo>
                    <a:lnTo>
                      <a:pt x="943" y="34"/>
                    </a:lnTo>
                    <a:lnTo>
                      <a:pt x="943" y="67"/>
                    </a:lnTo>
                    <a:lnTo>
                      <a:pt x="0" y="67"/>
                    </a:lnTo>
                    <a:lnTo>
                      <a:pt x="0" y="34"/>
                    </a:lnTo>
                    <a:close/>
                    <a:moveTo>
                      <a:pt x="922" y="0"/>
                    </a:moveTo>
                    <a:lnTo>
                      <a:pt x="1052" y="51"/>
                    </a:lnTo>
                    <a:lnTo>
                      <a:pt x="922" y="101"/>
                    </a:lnTo>
                    <a:lnTo>
                      <a:pt x="92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5078520" y="3086280"/>
                <a:ext cx="1187280" cy="79200"/>
              </a:xfrm>
              <a:custGeom>
                <a:avLst/>
                <a:gdLst/>
                <a:ahLst/>
                <a:rect l="l" t="t" r="r" b="b"/>
                <a:pathLst>
                  <a:path w="1496" h="100">
                    <a:moveTo>
                      <a:pt x="0" y="33"/>
                    </a:moveTo>
                    <a:lnTo>
                      <a:pt x="1388" y="33"/>
                    </a:lnTo>
                    <a:lnTo>
                      <a:pt x="1388" y="67"/>
                    </a:lnTo>
                    <a:lnTo>
                      <a:pt x="0" y="67"/>
                    </a:lnTo>
                    <a:lnTo>
                      <a:pt x="0" y="33"/>
                    </a:lnTo>
                    <a:close/>
                    <a:moveTo>
                      <a:pt x="1367" y="0"/>
                    </a:moveTo>
                    <a:lnTo>
                      <a:pt x="1496" y="51"/>
                    </a:lnTo>
                    <a:lnTo>
                      <a:pt x="1367" y="100"/>
                    </a:lnTo>
                    <a:lnTo>
                      <a:pt x="136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9" name=""/>
              <p:cNvSpPr/>
              <p:nvPr/>
            </p:nvSpPr>
            <p:spPr>
              <a:xfrm>
                <a:off x="2712960" y="3086280"/>
                <a:ext cx="1663920" cy="79200"/>
              </a:xfrm>
              <a:custGeom>
                <a:avLst/>
                <a:gdLst/>
                <a:ahLst/>
                <a:rect l="l" t="t" r="r" b="b"/>
                <a:pathLst>
                  <a:path w="2096" h="100">
                    <a:moveTo>
                      <a:pt x="2096" y="67"/>
                    </a:moveTo>
                    <a:lnTo>
                      <a:pt x="107" y="67"/>
                    </a:lnTo>
                    <a:lnTo>
                      <a:pt x="107" y="33"/>
                    </a:lnTo>
                    <a:lnTo>
                      <a:pt x="2096" y="33"/>
                    </a:lnTo>
                    <a:lnTo>
                      <a:pt x="2096" y="67"/>
                    </a:lnTo>
                    <a:close/>
                    <a:moveTo>
                      <a:pt x="130" y="100"/>
                    </a:moveTo>
                    <a:lnTo>
                      <a:pt x="0" y="51"/>
                    </a:lnTo>
                    <a:lnTo>
                      <a:pt x="130" y="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993300"/>
              </a:solidFill>
              <a:ln w="14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290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54120" y="2971800"/>
                <a:ext cx="1185840" cy="2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1" name=""/>
              <p:cNvSpPr/>
              <p:nvPr/>
            </p:nvSpPr>
            <p:spPr>
              <a:xfrm>
                <a:off x="1542960" y="2951280"/>
                <a:ext cx="63720" cy="468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>
                <a:off x="1542960" y="2955960"/>
                <a:ext cx="63720" cy="3240"/>
              </a:xfrm>
              <a:prstGeom prst="rect">
                <a:avLst/>
              </a:prstGeom>
              <a:solidFill>
                <a:srgbClr val="0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1542960" y="2959200"/>
                <a:ext cx="63720" cy="3240"/>
              </a:xfrm>
              <a:prstGeom prst="rect">
                <a:avLst/>
              </a:pr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1542960" y="2962440"/>
                <a:ext cx="63720" cy="4680"/>
              </a:xfrm>
              <a:prstGeom prst="rect">
                <a:avLst/>
              </a:prstGeom>
              <a:solidFill>
                <a:srgbClr val="00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1542960" y="2967120"/>
                <a:ext cx="63720" cy="1440"/>
              </a:xfrm>
              <a:prstGeom prst="rect">
                <a:avLst/>
              </a:prstGeom>
              <a:solidFill>
                <a:srgbClr val="0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6" name=""/>
              <p:cNvSpPr/>
              <p:nvPr/>
            </p:nvSpPr>
            <p:spPr>
              <a:xfrm>
                <a:off x="1542960" y="2968560"/>
                <a:ext cx="63720" cy="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7" name=""/>
              <p:cNvSpPr/>
              <p:nvPr/>
            </p:nvSpPr>
            <p:spPr>
              <a:xfrm>
                <a:off x="1542960" y="2971800"/>
                <a:ext cx="63720" cy="3240"/>
              </a:xfrm>
              <a:prstGeom prst="rect">
                <a:avLst/>
              </a:prstGeom>
              <a:solidFill>
                <a:srgbClr val="00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8" name=""/>
              <p:cNvSpPr/>
              <p:nvPr/>
            </p:nvSpPr>
            <p:spPr>
              <a:xfrm>
                <a:off x="1542960" y="2975040"/>
                <a:ext cx="63720" cy="3240"/>
              </a:xfrm>
              <a:prstGeom prst="rect">
                <a:avLst/>
              </a:prstGeom>
              <a:solidFill>
                <a:srgbClr val="0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1542960" y="2978280"/>
                <a:ext cx="637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1542960" y="2979720"/>
                <a:ext cx="63720" cy="14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>
                <a:off x="1542960" y="2981160"/>
                <a:ext cx="63720" cy="324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2" name=""/>
              <p:cNvSpPr/>
              <p:nvPr/>
            </p:nvSpPr>
            <p:spPr>
              <a:xfrm>
                <a:off x="1542960" y="2984400"/>
                <a:ext cx="63720" cy="180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3" name=""/>
              <p:cNvSpPr/>
              <p:nvPr/>
            </p:nvSpPr>
            <p:spPr>
              <a:xfrm>
                <a:off x="1542960" y="2986200"/>
                <a:ext cx="63720" cy="14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4" name=""/>
              <p:cNvSpPr/>
              <p:nvPr/>
            </p:nvSpPr>
            <p:spPr>
              <a:xfrm>
                <a:off x="1542960" y="2987640"/>
                <a:ext cx="637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5" name=""/>
              <p:cNvSpPr/>
              <p:nvPr/>
            </p:nvSpPr>
            <p:spPr>
              <a:xfrm>
                <a:off x="1542960" y="2989440"/>
                <a:ext cx="63720" cy="14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6" name=""/>
              <p:cNvSpPr/>
              <p:nvPr/>
            </p:nvSpPr>
            <p:spPr>
              <a:xfrm>
                <a:off x="1542960" y="2990880"/>
                <a:ext cx="637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1542960" y="2992320"/>
                <a:ext cx="63720" cy="1800"/>
              </a:xfrm>
              <a:prstGeom prst="rect">
                <a:avLst/>
              </a:prstGeom>
              <a:solidFill>
                <a:srgbClr val="00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1542960" y="2994120"/>
                <a:ext cx="63720" cy="3240"/>
              </a:xfrm>
              <a:prstGeom prst="rect">
                <a:avLst/>
              </a:prstGeom>
              <a:solidFill>
                <a:srgbClr val="00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>
                <a:off x="1542960" y="2997360"/>
                <a:ext cx="637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1542960" y="2998800"/>
                <a:ext cx="63720" cy="14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1542960" y="3000240"/>
                <a:ext cx="63720" cy="180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1542960" y="3002040"/>
                <a:ext cx="6372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1542960" y="3003480"/>
                <a:ext cx="637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1542960" y="3003480"/>
                <a:ext cx="63720" cy="32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1542960" y="3006720"/>
                <a:ext cx="63720" cy="144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1542960" y="3006720"/>
                <a:ext cx="637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1542960" y="3008160"/>
                <a:ext cx="63720" cy="1800"/>
              </a:xfrm>
              <a:prstGeom prst="rect">
                <a:avLst/>
              </a:prstGeom>
              <a:solidFill>
                <a:srgbClr val="00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>
                <a:off x="1542960" y="3009960"/>
                <a:ext cx="63720" cy="3240"/>
              </a:xfrm>
              <a:prstGeom prst="rect">
                <a:avLst/>
              </a:prstGeom>
              <a:solidFill>
                <a:srgbClr val="0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1542960" y="3013200"/>
                <a:ext cx="63720" cy="1440"/>
              </a:xfrm>
              <a:prstGeom prst="rect">
                <a:avLst/>
              </a:prstGeom>
              <a:solidFill>
                <a:srgbClr val="00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0" name=""/>
              <p:cNvSpPr/>
              <p:nvPr/>
            </p:nvSpPr>
            <p:spPr>
              <a:xfrm>
                <a:off x="1542960" y="3014640"/>
                <a:ext cx="63720" cy="144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1" name=""/>
              <p:cNvSpPr/>
              <p:nvPr/>
            </p:nvSpPr>
            <p:spPr>
              <a:xfrm>
                <a:off x="1542960" y="3016080"/>
                <a:ext cx="63720" cy="3240"/>
              </a:xfrm>
              <a:prstGeom prst="rect">
                <a:avLst/>
              </a:prstGeom>
              <a:solidFill>
                <a:srgbClr val="00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2" name=""/>
              <p:cNvSpPr/>
              <p:nvPr/>
            </p:nvSpPr>
            <p:spPr>
              <a:xfrm>
                <a:off x="1542960" y="3019320"/>
                <a:ext cx="63720" cy="1800"/>
              </a:xfrm>
              <a:prstGeom prst="rect">
                <a:avLst/>
              </a:prstGeom>
              <a:solidFill>
                <a:srgbClr val="00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1542960" y="3021120"/>
                <a:ext cx="63720" cy="1440"/>
              </a:xfrm>
              <a:prstGeom prst="rect">
                <a:avLst/>
              </a:pr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1542960" y="3022560"/>
                <a:ext cx="63720" cy="3240"/>
              </a:xfrm>
              <a:prstGeom prst="rect">
                <a:avLst/>
              </a:prstGeom>
              <a:solidFill>
                <a:srgbClr val="00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1542960" y="3025800"/>
                <a:ext cx="63720" cy="1440"/>
              </a:xfrm>
              <a:prstGeom prst="rect">
                <a:avLst/>
              </a:prstGeom>
              <a:solidFill>
                <a:srgbClr val="00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1542960" y="3027240"/>
                <a:ext cx="637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1542960" y="3029040"/>
                <a:ext cx="637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1542960" y="3030480"/>
                <a:ext cx="63720" cy="180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1542960" y="3032280"/>
                <a:ext cx="637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>
                <a:off x="1542960" y="3033720"/>
                <a:ext cx="63720" cy="14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1542960" y="3035160"/>
                <a:ext cx="63720" cy="32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2" name=""/>
              <p:cNvSpPr/>
              <p:nvPr/>
            </p:nvSpPr>
            <p:spPr>
              <a:xfrm>
                <a:off x="1542960" y="3038400"/>
                <a:ext cx="637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3" name=""/>
              <p:cNvSpPr/>
              <p:nvPr/>
            </p:nvSpPr>
            <p:spPr>
              <a:xfrm>
                <a:off x="1542960" y="3038400"/>
                <a:ext cx="63720" cy="3240"/>
              </a:xfrm>
              <a:prstGeom prst="rect">
                <a:avLst/>
              </a:prstGeom>
              <a:solidFill>
                <a:srgbClr val="0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4" name=""/>
              <p:cNvSpPr/>
              <p:nvPr/>
            </p:nvSpPr>
            <p:spPr>
              <a:xfrm>
                <a:off x="1542960" y="3041640"/>
                <a:ext cx="63720" cy="1440"/>
              </a:xfrm>
              <a:prstGeom prst="rect">
                <a:avLst/>
              </a:prstGeom>
              <a:solidFill>
                <a:srgbClr val="00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5" name=""/>
              <p:cNvSpPr/>
              <p:nvPr/>
            </p:nvSpPr>
            <p:spPr>
              <a:xfrm>
                <a:off x="1542960" y="3043080"/>
                <a:ext cx="63720" cy="1800"/>
              </a:xfrm>
              <a:prstGeom prst="rect">
                <a:avLst/>
              </a:prstGeom>
              <a:solidFill>
                <a:srgbClr val="0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1542960" y="3044880"/>
                <a:ext cx="63720" cy="324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1542960" y="3048120"/>
                <a:ext cx="637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1542960" y="3049560"/>
                <a:ext cx="637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1542960" y="3052800"/>
                <a:ext cx="63720" cy="14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1542960" y="3054240"/>
                <a:ext cx="63720" cy="180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1542960" y="3056040"/>
                <a:ext cx="637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1542960" y="3059280"/>
                <a:ext cx="637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1542960" y="3060720"/>
                <a:ext cx="63720" cy="468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>
                <a:off x="1542960" y="3065400"/>
                <a:ext cx="63720" cy="180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>
                <a:off x="1542960" y="3067200"/>
                <a:ext cx="637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>
                <a:off x="1542960" y="3068640"/>
                <a:ext cx="637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>
                <a:off x="1542960" y="3073320"/>
                <a:ext cx="637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>
                <a:off x="1542960" y="3076560"/>
                <a:ext cx="63720" cy="468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1542960" y="3081240"/>
                <a:ext cx="63720" cy="504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1542960" y="3086280"/>
                <a:ext cx="63720" cy="79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1542960" y="3094200"/>
                <a:ext cx="63720" cy="936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2" name=""/>
              <p:cNvSpPr/>
              <p:nvPr/>
            </p:nvSpPr>
            <p:spPr>
              <a:xfrm>
                <a:off x="1542960" y="3103560"/>
                <a:ext cx="63720" cy="12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963" name=""/>
            <p:cNvGrpSpPr/>
            <p:nvPr/>
          </p:nvGrpSpPr>
          <p:grpSpPr>
            <a:xfrm>
              <a:off x="1542960" y="2932200"/>
              <a:ext cx="1179720" cy="328680"/>
              <a:chOff x="1542960" y="2932200"/>
              <a:chExt cx="1179720" cy="328680"/>
            </a:xfrm>
          </p:grpSpPr>
          <p:sp>
            <p:nvSpPr>
              <p:cNvPr id="12964" name=""/>
              <p:cNvSpPr/>
              <p:nvPr/>
            </p:nvSpPr>
            <p:spPr>
              <a:xfrm>
                <a:off x="1542960" y="3116160"/>
                <a:ext cx="63720" cy="648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>
                <a:off x="1542960" y="3122640"/>
                <a:ext cx="63720" cy="648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1542960" y="3129120"/>
                <a:ext cx="63720" cy="468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1542960" y="3133800"/>
                <a:ext cx="63720" cy="324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1542960" y="3137040"/>
                <a:ext cx="63720" cy="288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1542960" y="3139920"/>
                <a:ext cx="63720" cy="504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1542960" y="3144960"/>
                <a:ext cx="637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1" name=""/>
              <p:cNvSpPr/>
              <p:nvPr/>
            </p:nvSpPr>
            <p:spPr>
              <a:xfrm>
                <a:off x="1542960" y="3146400"/>
                <a:ext cx="637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1542960" y="3149640"/>
                <a:ext cx="637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>
                <a:off x="1542960" y="3152880"/>
                <a:ext cx="637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1542960" y="3154320"/>
                <a:ext cx="637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5" name=""/>
              <p:cNvSpPr/>
              <p:nvPr/>
            </p:nvSpPr>
            <p:spPr>
              <a:xfrm>
                <a:off x="1542960" y="3157560"/>
                <a:ext cx="63720" cy="144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6" name=""/>
              <p:cNvSpPr/>
              <p:nvPr/>
            </p:nvSpPr>
            <p:spPr>
              <a:xfrm>
                <a:off x="1542960" y="3157560"/>
                <a:ext cx="63720" cy="32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1542960" y="3160800"/>
                <a:ext cx="637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1542960" y="3164040"/>
                <a:ext cx="637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1542960" y="3164040"/>
                <a:ext cx="63720" cy="2880"/>
              </a:xfrm>
              <a:prstGeom prst="rect">
                <a:avLst/>
              </a:prstGeom>
              <a:solidFill>
                <a:srgbClr val="00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1542960" y="3166920"/>
                <a:ext cx="63720" cy="1800"/>
              </a:xfrm>
              <a:prstGeom prst="rect">
                <a:avLst/>
              </a:prstGeom>
              <a:solidFill>
                <a:srgbClr val="00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1" name=""/>
              <p:cNvSpPr/>
              <p:nvPr/>
            </p:nvSpPr>
            <p:spPr>
              <a:xfrm>
                <a:off x="1542960" y="3168720"/>
                <a:ext cx="63720" cy="1440"/>
              </a:xfrm>
              <a:prstGeom prst="rect">
                <a:avLst/>
              </a:prstGeom>
              <a:solidFill>
                <a:srgbClr val="00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1542960" y="3170160"/>
                <a:ext cx="63720" cy="3240"/>
              </a:xfrm>
              <a:prstGeom prst="rect">
                <a:avLst/>
              </a:prstGeom>
              <a:solidFill>
                <a:srgbClr val="00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1542960" y="3173400"/>
                <a:ext cx="63720" cy="144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1542960" y="3174840"/>
                <a:ext cx="63720" cy="180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1542960" y="3176640"/>
                <a:ext cx="63720" cy="32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1542960" y="3179880"/>
                <a:ext cx="637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1542960" y="3179880"/>
                <a:ext cx="63720" cy="144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1542960" y="3181320"/>
                <a:ext cx="637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1542960" y="3182760"/>
                <a:ext cx="637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0" name=""/>
              <p:cNvSpPr/>
              <p:nvPr/>
            </p:nvSpPr>
            <p:spPr>
              <a:xfrm>
                <a:off x="1542960" y="3184560"/>
                <a:ext cx="63720" cy="1440"/>
              </a:xfrm>
              <a:prstGeom prst="rect">
                <a:avLst/>
              </a:prstGeom>
              <a:solidFill>
                <a:srgbClr val="00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1" name=""/>
              <p:cNvSpPr/>
              <p:nvPr/>
            </p:nvSpPr>
            <p:spPr>
              <a:xfrm>
                <a:off x="1542960" y="3186000"/>
                <a:ext cx="63720" cy="3240"/>
              </a:xfrm>
              <a:prstGeom prst="rect">
                <a:avLst/>
              </a:prstGeom>
              <a:solidFill>
                <a:srgbClr val="00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2" name=""/>
              <p:cNvSpPr/>
              <p:nvPr/>
            </p:nvSpPr>
            <p:spPr>
              <a:xfrm>
                <a:off x="1542960" y="3189240"/>
                <a:ext cx="63720" cy="1800"/>
              </a:xfrm>
              <a:prstGeom prst="rect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>
                <a:off x="1542960" y="3191040"/>
                <a:ext cx="63720" cy="1440"/>
              </a:xfrm>
              <a:prstGeom prst="rect">
                <a:avLst/>
              </a:prstGeom>
              <a:solidFill>
                <a:srgbClr val="00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1542960" y="3192480"/>
                <a:ext cx="63720" cy="324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>
                <a:off x="1542960" y="3195720"/>
                <a:ext cx="63720" cy="1440"/>
              </a:xfrm>
              <a:prstGeom prst="rect">
                <a:avLst/>
              </a:prstGeom>
              <a:solidFill>
                <a:srgbClr val="00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1542960" y="3197160"/>
                <a:ext cx="6372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>
                <a:off x="1542960" y="3198960"/>
                <a:ext cx="63720" cy="2880"/>
              </a:xfrm>
              <a:prstGeom prst="rect">
                <a:avLst/>
              </a:prstGeom>
              <a:solidFill>
                <a:srgbClr val="00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1542960" y="3201840"/>
                <a:ext cx="63720" cy="1800"/>
              </a:xfrm>
              <a:prstGeom prst="rect">
                <a:avLst/>
              </a:prstGeom>
              <a:solidFill>
                <a:srgbClr val="00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>
                <a:off x="1542960" y="3203640"/>
                <a:ext cx="637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1542960" y="3205080"/>
                <a:ext cx="637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1" name=""/>
              <p:cNvSpPr/>
              <p:nvPr/>
            </p:nvSpPr>
            <p:spPr>
              <a:xfrm>
                <a:off x="1542960" y="3206880"/>
                <a:ext cx="63720" cy="14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2" name=""/>
              <p:cNvSpPr/>
              <p:nvPr/>
            </p:nvSpPr>
            <p:spPr>
              <a:xfrm>
                <a:off x="1542960" y="3208320"/>
                <a:ext cx="63720" cy="144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3" name=""/>
              <p:cNvSpPr/>
              <p:nvPr/>
            </p:nvSpPr>
            <p:spPr>
              <a:xfrm>
                <a:off x="1542960" y="3208320"/>
                <a:ext cx="63720" cy="32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4" name=""/>
              <p:cNvSpPr/>
              <p:nvPr/>
            </p:nvSpPr>
            <p:spPr>
              <a:xfrm>
                <a:off x="1542960" y="3211560"/>
                <a:ext cx="63720" cy="144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1542960" y="3211560"/>
                <a:ext cx="63720" cy="32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>
                <a:off x="1542960" y="3214800"/>
                <a:ext cx="637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1542960" y="3214800"/>
                <a:ext cx="63720" cy="324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8" name=""/>
              <p:cNvSpPr/>
              <p:nvPr/>
            </p:nvSpPr>
            <p:spPr>
              <a:xfrm>
                <a:off x="1542960" y="3218040"/>
                <a:ext cx="63720" cy="1440"/>
              </a:xfrm>
              <a:prstGeom prst="rect">
                <a:avLst/>
              </a:prstGeom>
              <a:solidFill>
                <a:srgbClr val="00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1542960" y="3219480"/>
                <a:ext cx="637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>
                <a:off x="1542960" y="3220920"/>
                <a:ext cx="63720" cy="32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1542960" y="3224160"/>
                <a:ext cx="637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1542960" y="3224160"/>
                <a:ext cx="63720" cy="32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1542960" y="3227400"/>
                <a:ext cx="6372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1542960" y="3228840"/>
                <a:ext cx="63720" cy="180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1542960" y="3230640"/>
                <a:ext cx="63720" cy="32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>
                <a:off x="1542960" y="3233880"/>
                <a:ext cx="637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7" name=""/>
              <p:cNvSpPr/>
              <p:nvPr/>
            </p:nvSpPr>
            <p:spPr>
              <a:xfrm>
                <a:off x="1542960" y="3233880"/>
                <a:ext cx="63720" cy="2880"/>
              </a:xfrm>
              <a:prstGeom prst="rect">
                <a:avLst/>
              </a:prstGeom>
              <a:solidFill>
                <a:srgbClr val="00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8" name=""/>
              <p:cNvSpPr/>
              <p:nvPr/>
            </p:nvSpPr>
            <p:spPr>
              <a:xfrm>
                <a:off x="1542960" y="3236760"/>
                <a:ext cx="63720" cy="3240"/>
              </a:xfrm>
              <a:prstGeom prst="rect">
                <a:avLst/>
              </a:prstGeom>
              <a:solidFill>
                <a:srgbClr val="00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9" name=""/>
              <p:cNvSpPr/>
              <p:nvPr/>
            </p:nvSpPr>
            <p:spPr>
              <a:xfrm>
                <a:off x="1542960" y="3240000"/>
                <a:ext cx="63720" cy="3240"/>
              </a:xfrm>
              <a:prstGeom prst="rect">
                <a:avLst/>
              </a:prstGeom>
              <a:solidFill>
                <a:srgbClr val="00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0" name=""/>
              <p:cNvSpPr/>
              <p:nvPr/>
            </p:nvSpPr>
            <p:spPr>
              <a:xfrm>
                <a:off x="1542960" y="3243240"/>
                <a:ext cx="63720" cy="144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1" name=""/>
              <p:cNvSpPr/>
              <p:nvPr/>
            </p:nvSpPr>
            <p:spPr>
              <a:xfrm>
                <a:off x="1542960" y="3244680"/>
                <a:ext cx="63720" cy="504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1542960" y="3249720"/>
                <a:ext cx="63720" cy="3240"/>
              </a:xfrm>
              <a:prstGeom prst="rect">
                <a:avLst/>
              </a:prstGeom>
              <a:solidFill>
                <a:srgbClr val="00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>
                <a:off x="1542960" y="3252960"/>
                <a:ext cx="63720" cy="468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1542960" y="3257640"/>
                <a:ext cx="63720" cy="32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5" name=""/>
              <p:cNvSpPr/>
              <p:nvPr/>
            </p:nvSpPr>
            <p:spPr>
              <a:xfrm>
                <a:off x="1544760" y="2952720"/>
                <a:ext cx="63360" cy="3081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6" name=""/>
              <p:cNvSpPr/>
              <p:nvPr/>
            </p:nvSpPr>
            <p:spPr>
              <a:xfrm>
                <a:off x="2658960" y="2932200"/>
                <a:ext cx="61920" cy="468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7" name=""/>
              <p:cNvSpPr/>
              <p:nvPr/>
            </p:nvSpPr>
            <p:spPr>
              <a:xfrm>
                <a:off x="2658960" y="2936880"/>
                <a:ext cx="61920" cy="3240"/>
              </a:xfrm>
              <a:prstGeom prst="rect">
                <a:avLst/>
              </a:prstGeom>
              <a:solidFill>
                <a:srgbClr val="0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8" name=""/>
              <p:cNvSpPr/>
              <p:nvPr/>
            </p:nvSpPr>
            <p:spPr>
              <a:xfrm>
                <a:off x="2658960" y="2940120"/>
                <a:ext cx="61920" cy="3240"/>
              </a:xfrm>
              <a:prstGeom prst="rect">
                <a:avLst/>
              </a:pr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9" name=""/>
              <p:cNvSpPr/>
              <p:nvPr/>
            </p:nvSpPr>
            <p:spPr>
              <a:xfrm>
                <a:off x="2658960" y="2943360"/>
                <a:ext cx="61920" cy="4680"/>
              </a:xfrm>
              <a:prstGeom prst="rect">
                <a:avLst/>
              </a:prstGeom>
              <a:solidFill>
                <a:srgbClr val="00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>
                <a:off x="2658960" y="2948040"/>
                <a:ext cx="61920" cy="1440"/>
              </a:xfrm>
              <a:prstGeom prst="rect">
                <a:avLst/>
              </a:prstGeom>
              <a:solidFill>
                <a:srgbClr val="0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2658960" y="2949480"/>
                <a:ext cx="61920" cy="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>
                <a:off x="2658960" y="2952720"/>
                <a:ext cx="61920" cy="3240"/>
              </a:xfrm>
              <a:prstGeom prst="rect">
                <a:avLst/>
              </a:prstGeom>
              <a:solidFill>
                <a:srgbClr val="00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3" name=""/>
              <p:cNvSpPr/>
              <p:nvPr/>
            </p:nvSpPr>
            <p:spPr>
              <a:xfrm>
                <a:off x="2658960" y="2955960"/>
                <a:ext cx="61920" cy="3240"/>
              </a:xfrm>
              <a:prstGeom prst="rect">
                <a:avLst/>
              </a:prstGeom>
              <a:solidFill>
                <a:srgbClr val="0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4" name=""/>
              <p:cNvSpPr/>
              <p:nvPr/>
            </p:nvSpPr>
            <p:spPr>
              <a:xfrm>
                <a:off x="2658960" y="2959200"/>
                <a:ext cx="619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5" name=""/>
              <p:cNvSpPr/>
              <p:nvPr/>
            </p:nvSpPr>
            <p:spPr>
              <a:xfrm>
                <a:off x="2658960" y="2960640"/>
                <a:ext cx="61920" cy="180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6" name=""/>
              <p:cNvSpPr/>
              <p:nvPr/>
            </p:nvSpPr>
            <p:spPr>
              <a:xfrm>
                <a:off x="2658960" y="2962440"/>
                <a:ext cx="61920" cy="288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7" name=""/>
              <p:cNvSpPr/>
              <p:nvPr/>
            </p:nvSpPr>
            <p:spPr>
              <a:xfrm>
                <a:off x="2658960" y="2965320"/>
                <a:ext cx="61920" cy="180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8" name=""/>
              <p:cNvSpPr/>
              <p:nvPr/>
            </p:nvSpPr>
            <p:spPr>
              <a:xfrm>
                <a:off x="2658960" y="2967120"/>
                <a:ext cx="61920" cy="14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9" name=""/>
              <p:cNvSpPr/>
              <p:nvPr/>
            </p:nvSpPr>
            <p:spPr>
              <a:xfrm>
                <a:off x="2658960" y="2968560"/>
                <a:ext cx="619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0" name=""/>
              <p:cNvSpPr/>
              <p:nvPr/>
            </p:nvSpPr>
            <p:spPr>
              <a:xfrm>
                <a:off x="2658960" y="2970360"/>
                <a:ext cx="61920" cy="14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1" name=""/>
              <p:cNvSpPr/>
              <p:nvPr/>
            </p:nvSpPr>
            <p:spPr>
              <a:xfrm>
                <a:off x="2658960" y="2971800"/>
                <a:ext cx="619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2" name=""/>
              <p:cNvSpPr/>
              <p:nvPr/>
            </p:nvSpPr>
            <p:spPr>
              <a:xfrm>
                <a:off x="2658960" y="2973240"/>
                <a:ext cx="61920" cy="1800"/>
              </a:xfrm>
              <a:prstGeom prst="rect">
                <a:avLst/>
              </a:prstGeom>
              <a:solidFill>
                <a:srgbClr val="00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3" name=""/>
              <p:cNvSpPr/>
              <p:nvPr/>
            </p:nvSpPr>
            <p:spPr>
              <a:xfrm>
                <a:off x="2658960" y="2975040"/>
                <a:ext cx="61920" cy="3240"/>
              </a:xfrm>
              <a:prstGeom prst="rect">
                <a:avLst/>
              </a:prstGeom>
              <a:solidFill>
                <a:srgbClr val="00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2658960" y="2978280"/>
                <a:ext cx="619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5" name=""/>
              <p:cNvSpPr/>
              <p:nvPr/>
            </p:nvSpPr>
            <p:spPr>
              <a:xfrm>
                <a:off x="2658960" y="2979720"/>
                <a:ext cx="61920" cy="14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6" name=""/>
              <p:cNvSpPr/>
              <p:nvPr/>
            </p:nvSpPr>
            <p:spPr>
              <a:xfrm>
                <a:off x="2658960" y="2981160"/>
                <a:ext cx="61920" cy="180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7" name=""/>
              <p:cNvSpPr/>
              <p:nvPr/>
            </p:nvSpPr>
            <p:spPr>
              <a:xfrm>
                <a:off x="2658960" y="2982960"/>
                <a:ext cx="6192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8" name=""/>
              <p:cNvSpPr/>
              <p:nvPr/>
            </p:nvSpPr>
            <p:spPr>
              <a:xfrm>
                <a:off x="2658960" y="2984400"/>
                <a:ext cx="619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9" name=""/>
              <p:cNvSpPr/>
              <p:nvPr/>
            </p:nvSpPr>
            <p:spPr>
              <a:xfrm>
                <a:off x="2658960" y="2984400"/>
                <a:ext cx="61920" cy="32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0" name=""/>
              <p:cNvSpPr/>
              <p:nvPr/>
            </p:nvSpPr>
            <p:spPr>
              <a:xfrm>
                <a:off x="2658960" y="2987640"/>
                <a:ext cx="619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1" name=""/>
              <p:cNvSpPr/>
              <p:nvPr/>
            </p:nvSpPr>
            <p:spPr>
              <a:xfrm>
                <a:off x="2658960" y="2987640"/>
                <a:ext cx="61920" cy="180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2" name=""/>
              <p:cNvSpPr/>
              <p:nvPr/>
            </p:nvSpPr>
            <p:spPr>
              <a:xfrm>
                <a:off x="2658960" y="2989440"/>
                <a:ext cx="61920" cy="1440"/>
              </a:xfrm>
              <a:prstGeom prst="rect">
                <a:avLst/>
              </a:prstGeom>
              <a:solidFill>
                <a:srgbClr val="00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3" name=""/>
              <p:cNvSpPr/>
              <p:nvPr/>
            </p:nvSpPr>
            <p:spPr>
              <a:xfrm>
                <a:off x="2658960" y="2990880"/>
                <a:ext cx="61920" cy="3240"/>
              </a:xfrm>
              <a:prstGeom prst="rect">
                <a:avLst/>
              </a:prstGeom>
              <a:solidFill>
                <a:srgbClr val="0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4" name=""/>
              <p:cNvSpPr/>
              <p:nvPr/>
            </p:nvSpPr>
            <p:spPr>
              <a:xfrm>
                <a:off x="2658960" y="2994120"/>
                <a:ext cx="61920" cy="1440"/>
              </a:xfrm>
              <a:prstGeom prst="rect">
                <a:avLst/>
              </a:prstGeom>
              <a:solidFill>
                <a:srgbClr val="00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5" name=""/>
              <p:cNvSpPr/>
              <p:nvPr/>
            </p:nvSpPr>
            <p:spPr>
              <a:xfrm>
                <a:off x="2658960" y="2995560"/>
                <a:ext cx="61920" cy="180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6" name=""/>
              <p:cNvSpPr/>
              <p:nvPr/>
            </p:nvSpPr>
            <p:spPr>
              <a:xfrm>
                <a:off x="2658960" y="2997360"/>
                <a:ext cx="61920" cy="2880"/>
              </a:xfrm>
              <a:prstGeom prst="rect">
                <a:avLst/>
              </a:prstGeom>
              <a:solidFill>
                <a:srgbClr val="00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7" name=""/>
              <p:cNvSpPr/>
              <p:nvPr/>
            </p:nvSpPr>
            <p:spPr>
              <a:xfrm>
                <a:off x="2658960" y="3000240"/>
                <a:ext cx="61920" cy="1800"/>
              </a:xfrm>
              <a:prstGeom prst="rect">
                <a:avLst/>
              </a:prstGeom>
              <a:solidFill>
                <a:srgbClr val="00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8" name=""/>
              <p:cNvSpPr/>
              <p:nvPr/>
            </p:nvSpPr>
            <p:spPr>
              <a:xfrm>
                <a:off x="2658960" y="3002040"/>
                <a:ext cx="61920" cy="1440"/>
              </a:xfrm>
              <a:prstGeom prst="rect">
                <a:avLst/>
              </a:pr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9" name=""/>
              <p:cNvSpPr/>
              <p:nvPr/>
            </p:nvSpPr>
            <p:spPr>
              <a:xfrm>
                <a:off x="2658960" y="3003480"/>
                <a:ext cx="61920" cy="3240"/>
              </a:xfrm>
              <a:prstGeom prst="rect">
                <a:avLst/>
              </a:prstGeom>
              <a:solidFill>
                <a:srgbClr val="00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0" name=""/>
              <p:cNvSpPr/>
              <p:nvPr/>
            </p:nvSpPr>
            <p:spPr>
              <a:xfrm>
                <a:off x="2658960" y="3006720"/>
                <a:ext cx="61920" cy="1440"/>
              </a:xfrm>
              <a:prstGeom prst="rect">
                <a:avLst/>
              </a:prstGeom>
              <a:solidFill>
                <a:srgbClr val="00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1" name=""/>
              <p:cNvSpPr/>
              <p:nvPr/>
            </p:nvSpPr>
            <p:spPr>
              <a:xfrm>
                <a:off x="2658960" y="3008160"/>
                <a:ext cx="619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2" name=""/>
              <p:cNvSpPr/>
              <p:nvPr/>
            </p:nvSpPr>
            <p:spPr>
              <a:xfrm>
                <a:off x="2658960" y="3009960"/>
                <a:ext cx="619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3" name=""/>
              <p:cNvSpPr/>
              <p:nvPr/>
            </p:nvSpPr>
            <p:spPr>
              <a:xfrm>
                <a:off x="2658960" y="3011400"/>
                <a:ext cx="61920" cy="180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4" name=""/>
              <p:cNvSpPr/>
              <p:nvPr/>
            </p:nvSpPr>
            <p:spPr>
              <a:xfrm>
                <a:off x="2658960" y="3013200"/>
                <a:ext cx="619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5" name=""/>
              <p:cNvSpPr/>
              <p:nvPr/>
            </p:nvSpPr>
            <p:spPr>
              <a:xfrm>
                <a:off x="2658960" y="3014640"/>
                <a:ext cx="61920" cy="14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6" name=""/>
              <p:cNvSpPr/>
              <p:nvPr/>
            </p:nvSpPr>
            <p:spPr>
              <a:xfrm>
                <a:off x="2658960" y="3016080"/>
                <a:ext cx="61920" cy="32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7" name=""/>
              <p:cNvSpPr/>
              <p:nvPr/>
            </p:nvSpPr>
            <p:spPr>
              <a:xfrm>
                <a:off x="2658960" y="3019320"/>
                <a:ext cx="619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8" name=""/>
              <p:cNvSpPr/>
              <p:nvPr/>
            </p:nvSpPr>
            <p:spPr>
              <a:xfrm>
                <a:off x="2658960" y="3019320"/>
                <a:ext cx="61920" cy="3240"/>
              </a:xfrm>
              <a:prstGeom prst="rect">
                <a:avLst/>
              </a:prstGeom>
              <a:solidFill>
                <a:srgbClr val="0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9" name=""/>
              <p:cNvSpPr/>
              <p:nvPr/>
            </p:nvSpPr>
            <p:spPr>
              <a:xfrm>
                <a:off x="2658960" y="3022560"/>
                <a:ext cx="61920" cy="1800"/>
              </a:xfrm>
              <a:prstGeom prst="rect">
                <a:avLst/>
              </a:prstGeom>
              <a:solidFill>
                <a:srgbClr val="00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0" name=""/>
              <p:cNvSpPr/>
              <p:nvPr/>
            </p:nvSpPr>
            <p:spPr>
              <a:xfrm>
                <a:off x="2658960" y="3024360"/>
                <a:ext cx="61920" cy="1440"/>
              </a:xfrm>
              <a:prstGeom prst="rect">
                <a:avLst/>
              </a:prstGeom>
              <a:solidFill>
                <a:srgbClr val="0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1" name=""/>
              <p:cNvSpPr/>
              <p:nvPr/>
            </p:nvSpPr>
            <p:spPr>
              <a:xfrm>
                <a:off x="2658960" y="3025800"/>
                <a:ext cx="61920" cy="324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2" name=""/>
              <p:cNvSpPr/>
              <p:nvPr/>
            </p:nvSpPr>
            <p:spPr>
              <a:xfrm>
                <a:off x="2658960" y="3029040"/>
                <a:ext cx="619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3" name=""/>
              <p:cNvSpPr/>
              <p:nvPr/>
            </p:nvSpPr>
            <p:spPr>
              <a:xfrm>
                <a:off x="2658960" y="3030480"/>
                <a:ext cx="61920" cy="180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4" name=""/>
              <p:cNvSpPr/>
              <p:nvPr/>
            </p:nvSpPr>
            <p:spPr>
              <a:xfrm>
                <a:off x="2658960" y="3032280"/>
                <a:ext cx="61920" cy="288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5" name=""/>
              <p:cNvSpPr/>
              <p:nvPr/>
            </p:nvSpPr>
            <p:spPr>
              <a:xfrm>
                <a:off x="2658960" y="3035160"/>
                <a:ext cx="61920" cy="180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6" name=""/>
              <p:cNvSpPr/>
              <p:nvPr/>
            </p:nvSpPr>
            <p:spPr>
              <a:xfrm>
                <a:off x="2658960" y="3036960"/>
                <a:ext cx="61920" cy="14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7" name=""/>
              <p:cNvSpPr/>
              <p:nvPr/>
            </p:nvSpPr>
            <p:spPr>
              <a:xfrm>
                <a:off x="2658960" y="3038400"/>
                <a:ext cx="61920" cy="32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8" name=""/>
              <p:cNvSpPr/>
              <p:nvPr/>
            </p:nvSpPr>
            <p:spPr>
              <a:xfrm>
                <a:off x="2658960" y="3041640"/>
                <a:ext cx="619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9" name=""/>
              <p:cNvSpPr/>
              <p:nvPr/>
            </p:nvSpPr>
            <p:spPr>
              <a:xfrm>
                <a:off x="2658960" y="3044880"/>
                <a:ext cx="619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0" name=""/>
              <p:cNvSpPr/>
              <p:nvPr/>
            </p:nvSpPr>
            <p:spPr>
              <a:xfrm>
                <a:off x="2658960" y="3048120"/>
                <a:ext cx="619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1" name=""/>
              <p:cNvSpPr/>
              <p:nvPr/>
            </p:nvSpPr>
            <p:spPr>
              <a:xfrm>
                <a:off x="2658960" y="3049560"/>
                <a:ext cx="619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2" name=""/>
              <p:cNvSpPr/>
              <p:nvPr/>
            </p:nvSpPr>
            <p:spPr>
              <a:xfrm>
                <a:off x="2658960" y="3054240"/>
                <a:ext cx="619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3" name=""/>
              <p:cNvSpPr/>
              <p:nvPr/>
            </p:nvSpPr>
            <p:spPr>
              <a:xfrm>
                <a:off x="2658960" y="3057480"/>
                <a:ext cx="61920" cy="468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4" name=""/>
              <p:cNvSpPr/>
              <p:nvPr/>
            </p:nvSpPr>
            <p:spPr>
              <a:xfrm>
                <a:off x="2658960" y="3062160"/>
                <a:ext cx="61920" cy="504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5" name=""/>
              <p:cNvSpPr/>
              <p:nvPr/>
            </p:nvSpPr>
            <p:spPr>
              <a:xfrm>
                <a:off x="2658960" y="3067200"/>
                <a:ext cx="61920" cy="79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6" name=""/>
              <p:cNvSpPr/>
              <p:nvPr/>
            </p:nvSpPr>
            <p:spPr>
              <a:xfrm>
                <a:off x="2658960" y="3075120"/>
                <a:ext cx="61920" cy="936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7" name=""/>
              <p:cNvSpPr/>
              <p:nvPr/>
            </p:nvSpPr>
            <p:spPr>
              <a:xfrm>
                <a:off x="2658960" y="3084480"/>
                <a:ext cx="61920" cy="12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8" name=""/>
              <p:cNvSpPr/>
              <p:nvPr/>
            </p:nvSpPr>
            <p:spPr>
              <a:xfrm>
                <a:off x="2658960" y="3097080"/>
                <a:ext cx="61920" cy="648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9" name=""/>
              <p:cNvSpPr/>
              <p:nvPr/>
            </p:nvSpPr>
            <p:spPr>
              <a:xfrm>
                <a:off x="2658960" y="3103560"/>
                <a:ext cx="61920" cy="648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0" name=""/>
              <p:cNvSpPr/>
              <p:nvPr/>
            </p:nvSpPr>
            <p:spPr>
              <a:xfrm>
                <a:off x="2658960" y="3110040"/>
                <a:ext cx="61920" cy="468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1" name=""/>
              <p:cNvSpPr/>
              <p:nvPr/>
            </p:nvSpPr>
            <p:spPr>
              <a:xfrm>
                <a:off x="2658960" y="3114720"/>
                <a:ext cx="61920" cy="324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2" name=""/>
              <p:cNvSpPr/>
              <p:nvPr/>
            </p:nvSpPr>
            <p:spPr>
              <a:xfrm>
                <a:off x="2658960" y="3117960"/>
                <a:ext cx="619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3" name=""/>
              <p:cNvSpPr/>
              <p:nvPr/>
            </p:nvSpPr>
            <p:spPr>
              <a:xfrm>
                <a:off x="2658960" y="3121200"/>
                <a:ext cx="619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4" name=""/>
              <p:cNvSpPr/>
              <p:nvPr/>
            </p:nvSpPr>
            <p:spPr>
              <a:xfrm>
                <a:off x="2658960" y="3125880"/>
                <a:ext cx="619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5" name=""/>
              <p:cNvSpPr/>
              <p:nvPr/>
            </p:nvSpPr>
            <p:spPr>
              <a:xfrm>
                <a:off x="2658960" y="3127320"/>
                <a:ext cx="619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6" name=""/>
              <p:cNvSpPr/>
              <p:nvPr/>
            </p:nvSpPr>
            <p:spPr>
              <a:xfrm>
                <a:off x="2658960" y="3130560"/>
                <a:ext cx="619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7" name=""/>
              <p:cNvSpPr/>
              <p:nvPr/>
            </p:nvSpPr>
            <p:spPr>
              <a:xfrm>
                <a:off x="2658960" y="3133800"/>
                <a:ext cx="619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8" name=""/>
              <p:cNvSpPr/>
              <p:nvPr/>
            </p:nvSpPr>
            <p:spPr>
              <a:xfrm>
                <a:off x="2658960" y="3135240"/>
                <a:ext cx="619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9" name=""/>
              <p:cNvSpPr/>
              <p:nvPr/>
            </p:nvSpPr>
            <p:spPr>
              <a:xfrm>
                <a:off x="2658960" y="3138480"/>
                <a:ext cx="61920" cy="144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0" name=""/>
              <p:cNvSpPr/>
              <p:nvPr/>
            </p:nvSpPr>
            <p:spPr>
              <a:xfrm>
                <a:off x="2658960" y="3138480"/>
                <a:ext cx="61920" cy="32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1" name=""/>
              <p:cNvSpPr/>
              <p:nvPr/>
            </p:nvSpPr>
            <p:spPr>
              <a:xfrm>
                <a:off x="2658960" y="3141720"/>
                <a:ext cx="619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2" name=""/>
              <p:cNvSpPr/>
              <p:nvPr/>
            </p:nvSpPr>
            <p:spPr>
              <a:xfrm>
                <a:off x="2658960" y="3144960"/>
                <a:ext cx="619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3" name=""/>
              <p:cNvSpPr/>
              <p:nvPr/>
            </p:nvSpPr>
            <p:spPr>
              <a:xfrm>
                <a:off x="2658960" y="3144960"/>
                <a:ext cx="61920" cy="2880"/>
              </a:xfrm>
              <a:prstGeom prst="rect">
                <a:avLst/>
              </a:prstGeom>
              <a:solidFill>
                <a:srgbClr val="00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4" name=""/>
              <p:cNvSpPr/>
              <p:nvPr/>
            </p:nvSpPr>
            <p:spPr>
              <a:xfrm>
                <a:off x="2658960" y="3147840"/>
                <a:ext cx="61920" cy="1800"/>
              </a:xfrm>
              <a:prstGeom prst="rect">
                <a:avLst/>
              </a:prstGeom>
              <a:solidFill>
                <a:srgbClr val="00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5" name=""/>
              <p:cNvSpPr/>
              <p:nvPr/>
            </p:nvSpPr>
            <p:spPr>
              <a:xfrm>
                <a:off x="2658960" y="3149640"/>
                <a:ext cx="61920" cy="1440"/>
              </a:xfrm>
              <a:prstGeom prst="rect">
                <a:avLst/>
              </a:prstGeom>
              <a:solidFill>
                <a:srgbClr val="00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6" name=""/>
              <p:cNvSpPr/>
              <p:nvPr/>
            </p:nvSpPr>
            <p:spPr>
              <a:xfrm>
                <a:off x="2658960" y="3151080"/>
                <a:ext cx="61920" cy="3240"/>
              </a:xfrm>
              <a:prstGeom prst="rect">
                <a:avLst/>
              </a:prstGeom>
              <a:solidFill>
                <a:srgbClr val="00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7" name=""/>
              <p:cNvSpPr/>
              <p:nvPr/>
            </p:nvSpPr>
            <p:spPr>
              <a:xfrm>
                <a:off x="2658960" y="3154320"/>
                <a:ext cx="619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8" name=""/>
              <p:cNvSpPr/>
              <p:nvPr/>
            </p:nvSpPr>
            <p:spPr>
              <a:xfrm>
                <a:off x="2658960" y="3156120"/>
                <a:ext cx="61920" cy="14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9" name=""/>
              <p:cNvSpPr/>
              <p:nvPr/>
            </p:nvSpPr>
            <p:spPr>
              <a:xfrm>
                <a:off x="2658960" y="3157560"/>
                <a:ext cx="61920" cy="32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0" name=""/>
              <p:cNvSpPr/>
              <p:nvPr/>
            </p:nvSpPr>
            <p:spPr>
              <a:xfrm>
                <a:off x="2658960" y="3160800"/>
                <a:ext cx="619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1" name=""/>
              <p:cNvSpPr/>
              <p:nvPr/>
            </p:nvSpPr>
            <p:spPr>
              <a:xfrm>
                <a:off x="2658960" y="3160800"/>
                <a:ext cx="61920" cy="144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2" name=""/>
              <p:cNvSpPr/>
              <p:nvPr/>
            </p:nvSpPr>
            <p:spPr>
              <a:xfrm>
                <a:off x="2658960" y="3162240"/>
                <a:ext cx="61920" cy="180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3" name=""/>
              <p:cNvSpPr/>
              <p:nvPr/>
            </p:nvSpPr>
            <p:spPr>
              <a:xfrm>
                <a:off x="2658960" y="3164040"/>
                <a:ext cx="61920" cy="144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4" name=""/>
              <p:cNvSpPr/>
              <p:nvPr/>
            </p:nvSpPr>
            <p:spPr>
              <a:xfrm>
                <a:off x="2658960" y="3165480"/>
                <a:ext cx="61920" cy="1440"/>
              </a:xfrm>
              <a:prstGeom prst="rect">
                <a:avLst/>
              </a:prstGeom>
              <a:solidFill>
                <a:srgbClr val="00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5" name=""/>
              <p:cNvSpPr/>
              <p:nvPr/>
            </p:nvSpPr>
            <p:spPr>
              <a:xfrm>
                <a:off x="2658960" y="3166920"/>
                <a:ext cx="61920" cy="3240"/>
              </a:xfrm>
              <a:prstGeom prst="rect">
                <a:avLst/>
              </a:prstGeom>
              <a:solidFill>
                <a:srgbClr val="00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6" name=""/>
              <p:cNvSpPr/>
              <p:nvPr/>
            </p:nvSpPr>
            <p:spPr>
              <a:xfrm>
                <a:off x="2658960" y="3170160"/>
                <a:ext cx="61920" cy="1800"/>
              </a:xfrm>
              <a:prstGeom prst="rect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7" name=""/>
              <p:cNvSpPr/>
              <p:nvPr/>
            </p:nvSpPr>
            <p:spPr>
              <a:xfrm>
                <a:off x="2658960" y="3171960"/>
                <a:ext cx="61920" cy="1440"/>
              </a:xfrm>
              <a:prstGeom prst="rect">
                <a:avLst/>
              </a:prstGeom>
              <a:solidFill>
                <a:srgbClr val="00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8" name=""/>
              <p:cNvSpPr/>
              <p:nvPr/>
            </p:nvSpPr>
            <p:spPr>
              <a:xfrm>
                <a:off x="2658960" y="3173400"/>
                <a:ext cx="61920" cy="324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9" name=""/>
              <p:cNvSpPr/>
              <p:nvPr/>
            </p:nvSpPr>
            <p:spPr>
              <a:xfrm>
                <a:off x="2658960" y="3176640"/>
                <a:ext cx="61920" cy="1440"/>
              </a:xfrm>
              <a:prstGeom prst="rect">
                <a:avLst/>
              </a:prstGeom>
              <a:solidFill>
                <a:srgbClr val="00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0" name=""/>
              <p:cNvSpPr/>
              <p:nvPr/>
            </p:nvSpPr>
            <p:spPr>
              <a:xfrm>
                <a:off x="2658960" y="3178080"/>
                <a:ext cx="6192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1" name=""/>
              <p:cNvSpPr/>
              <p:nvPr/>
            </p:nvSpPr>
            <p:spPr>
              <a:xfrm>
                <a:off x="2658960" y="3179880"/>
                <a:ext cx="61920" cy="2880"/>
              </a:xfrm>
              <a:prstGeom prst="rect">
                <a:avLst/>
              </a:prstGeom>
              <a:solidFill>
                <a:srgbClr val="00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2" name=""/>
              <p:cNvSpPr/>
              <p:nvPr/>
            </p:nvSpPr>
            <p:spPr>
              <a:xfrm>
                <a:off x="2658960" y="3182760"/>
                <a:ext cx="61920" cy="1800"/>
              </a:xfrm>
              <a:prstGeom prst="rect">
                <a:avLst/>
              </a:prstGeom>
              <a:solidFill>
                <a:srgbClr val="00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3" name=""/>
              <p:cNvSpPr/>
              <p:nvPr/>
            </p:nvSpPr>
            <p:spPr>
              <a:xfrm>
                <a:off x="2658960" y="3184560"/>
                <a:ext cx="619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4" name=""/>
              <p:cNvSpPr/>
              <p:nvPr/>
            </p:nvSpPr>
            <p:spPr>
              <a:xfrm>
                <a:off x="2658960" y="3186000"/>
                <a:ext cx="619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5" name=""/>
              <p:cNvSpPr/>
              <p:nvPr/>
            </p:nvSpPr>
            <p:spPr>
              <a:xfrm>
                <a:off x="2658960" y="3187800"/>
                <a:ext cx="61920" cy="14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6" name=""/>
              <p:cNvSpPr/>
              <p:nvPr/>
            </p:nvSpPr>
            <p:spPr>
              <a:xfrm>
                <a:off x="2658960" y="3189240"/>
                <a:ext cx="619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7" name=""/>
              <p:cNvSpPr/>
              <p:nvPr/>
            </p:nvSpPr>
            <p:spPr>
              <a:xfrm>
                <a:off x="2658960" y="3189240"/>
                <a:ext cx="61920" cy="32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8" name=""/>
              <p:cNvSpPr/>
              <p:nvPr/>
            </p:nvSpPr>
            <p:spPr>
              <a:xfrm>
                <a:off x="2658960" y="3192480"/>
                <a:ext cx="61920" cy="144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9" name=""/>
              <p:cNvSpPr/>
              <p:nvPr/>
            </p:nvSpPr>
            <p:spPr>
              <a:xfrm>
                <a:off x="2658960" y="3192480"/>
                <a:ext cx="61920" cy="32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0" name=""/>
              <p:cNvSpPr/>
              <p:nvPr/>
            </p:nvSpPr>
            <p:spPr>
              <a:xfrm>
                <a:off x="2658960" y="3195720"/>
                <a:ext cx="619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1" name=""/>
              <p:cNvSpPr/>
              <p:nvPr/>
            </p:nvSpPr>
            <p:spPr>
              <a:xfrm>
                <a:off x="2658960" y="3195720"/>
                <a:ext cx="61920" cy="324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2" name=""/>
              <p:cNvSpPr/>
              <p:nvPr/>
            </p:nvSpPr>
            <p:spPr>
              <a:xfrm>
                <a:off x="2658960" y="3198960"/>
                <a:ext cx="61920" cy="1440"/>
              </a:xfrm>
              <a:prstGeom prst="rect">
                <a:avLst/>
              </a:prstGeom>
              <a:solidFill>
                <a:srgbClr val="00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3" name=""/>
              <p:cNvSpPr/>
              <p:nvPr/>
            </p:nvSpPr>
            <p:spPr>
              <a:xfrm>
                <a:off x="2658960" y="3200400"/>
                <a:ext cx="619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4" name=""/>
              <p:cNvSpPr/>
              <p:nvPr/>
            </p:nvSpPr>
            <p:spPr>
              <a:xfrm>
                <a:off x="2658960" y="3201840"/>
                <a:ext cx="61920" cy="32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5" name=""/>
              <p:cNvSpPr/>
              <p:nvPr/>
            </p:nvSpPr>
            <p:spPr>
              <a:xfrm>
                <a:off x="2658960" y="3205080"/>
                <a:ext cx="619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6" name=""/>
              <p:cNvSpPr/>
              <p:nvPr/>
            </p:nvSpPr>
            <p:spPr>
              <a:xfrm>
                <a:off x="2658960" y="3205080"/>
                <a:ext cx="61920" cy="32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7" name=""/>
              <p:cNvSpPr/>
              <p:nvPr/>
            </p:nvSpPr>
            <p:spPr>
              <a:xfrm>
                <a:off x="2658960" y="3208320"/>
                <a:ext cx="6192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8" name=""/>
              <p:cNvSpPr/>
              <p:nvPr/>
            </p:nvSpPr>
            <p:spPr>
              <a:xfrm>
                <a:off x="2658960" y="3209760"/>
                <a:ext cx="61920" cy="180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9" name=""/>
              <p:cNvSpPr/>
              <p:nvPr/>
            </p:nvSpPr>
            <p:spPr>
              <a:xfrm>
                <a:off x="2658960" y="3211560"/>
                <a:ext cx="61920" cy="32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0" name=""/>
              <p:cNvSpPr/>
              <p:nvPr/>
            </p:nvSpPr>
            <p:spPr>
              <a:xfrm>
                <a:off x="2658960" y="3214800"/>
                <a:ext cx="619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1" name=""/>
              <p:cNvSpPr/>
              <p:nvPr/>
            </p:nvSpPr>
            <p:spPr>
              <a:xfrm>
                <a:off x="2658960" y="3214800"/>
                <a:ext cx="61920" cy="3240"/>
              </a:xfrm>
              <a:prstGeom prst="rect">
                <a:avLst/>
              </a:prstGeom>
              <a:solidFill>
                <a:srgbClr val="00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2" name=""/>
              <p:cNvSpPr/>
              <p:nvPr/>
            </p:nvSpPr>
            <p:spPr>
              <a:xfrm>
                <a:off x="2658960" y="3218040"/>
                <a:ext cx="61920" cy="2880"/>
              </a:xfrm>
              <a:prstGeom prst="rect">
                <a:avLst/>
              </a:prstGeom>
              <a:solidFill>
                <a:srgbClr val="00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3" name=""/>
              <p:cNvSpPr/>
              <p:nvPr/>
            </p:nvSpPr>
            <p:spPr>
              <a:xfrm>
                <a:off x="2658960" y="3220920"/>
                <a:ext cx="61920" cy="3240"/>
              </a:xfrm>
              <a:prstGeom prst="rect">
                <a:avLst/>
              </a:prstGeom>
              <a:solidFill>
                <a:srgbClr val="00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4" name=""/>
              <p:cNvSpPr/>
              <p:nvPr/>
            </p:nvSpPr>
            <p:spPr>
              <a:xfrm>
                <a:off x="2658960" y="3224160"/>
                <a:ext cx="61920" cy="180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5" name=""/>
              <p:cNvSpPr/>
              <p:nvPr/>
            </p:nvSpPr>
            <p:spPr>
              <a:xfrm>
                <a:off x="2658960" y="3225960"/>
                <a:ext cx="61920" cy="468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6" name=""/>
              <p:cNvSpPr/>
              <p:nvPr/>
            </p:nvSpPr>
            <p:spPr>
              <a:xfrm>
                <a:off x="2658960" y="3230640"/>
                <a:ext cx="61920" cy="3240"/>
              </a:xfrm>
              <a:prstGeom prst="rect">
                <a:avLst/>
              </a:prstGeom>
              <a:solidFill>
                <a:srgbClr val="00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7" name=""/>
              <p:cNvSpPr/>
              <p:nvPr/>
            </p:nvSpPr>
            <p:spPr>
              <a:xfrm>
                <a:off x="2658960" y="3233880"/>
                <a:ext cx="61920" cy="288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8" name=""/>
              <p:cNvSpPr/>
              <p:nvPr/>
            </p:nvSpPr>
            <p:spPr>
              <a:xfrm>
                <a:off x="2658960" y="3236760"/>
                <a:ext cx="61920" cy="32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9" name=""/>
              <p:cNvSpPr/>
              <p:nvPr/>
            </p:nvSpPr>
            <p:spPr>
              <a:xfrm>
                <a:off x="2660760" y="2933640"/>
                <a:ext cx="61920" cy="3081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0" name=""/>
              <p:cNvSpPr/>
              <p:nvPr/>
            </p:nvSpPr>
            <p:spPr>
              <a:xfrm>
                <a:off x="1542960" y="3214800"/>
                <a:ext cx="1168560" cy="14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1" name=""/>
              <p:cNvSpPr/>
              <p:nvPr/>
            </p:nvSpPr>
            <p:spPr>
              <a:xfrm>
                <a:off x="1542960" y="3214800"/>
                <a:ext cx="1168560" cy="144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2" name=""/>
              <p:cNvSpPr/>
              <p:nvPr/>
            </p:nvSpPr>
            <p:spPr>
              <a:xfrm>
                <a:off x="1542960" y="3216240"/>
                <a:ext cx="1168560" cy="180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3" name=""/>
              <p:cNvSpPr/>
              <p:nvPr/>
            </p:nvSpPr>
            <p:spPr>
              <a:xfrm>
                <a:off x="1542960" y="3218040"/>
                <a:ext cx="1168560" cy="14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4" name=""/>
              <p:cNvSpPr/>
              <p:nvPr/>
            </p:nvSpPr>
            <p:spPr>
              <a:xfrm>
                <a:off x="1542960" y="3218040"/>
                <a:ext cx="1168560" cy="1440"/>
              </a:xfrm>
              <a:prstGeom prst="rect">
                <a:avLst/>
              </a:prstGeom>
              <a:solidFill>
                <a:srgbClr val="00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5" name=""/>
              <p:cNvSpPr/>
              <p:nvPr/>
            </p:nvSpPr>
            <p:spPr>
              <a:xfrm>
                <a:off x="1542960" y="3219480"/>
                <a:ext cx="116856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6" name=""/>
              <p:cNvSpPr/>
              <p:nvPr/>
            </p:nvSpPr>
            <p:spPr>
              <a:xfrm>
                <a:off x="1542960" y="3220920"/>
                <a:ext cx="1168560" cy="180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7" name=""/>
              <p:cNvSpPr/>
              <p:nvPr/>
            </p:nvSpPr>
            <p:spPr>
              <a:xfrm>
                <a:off x="1542960" y="3220920"/>
                <a:ext cx="1168560" cy="180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8" name=""/>
              <p:cNvSpPr/>
              <p:nvPr/>
            </p:nvSpPr>
            <p:spPr>
              <a:xfrm>
                <a:off x="1542960" y="3222720"/>
                <a:ext cx="116856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9" name=""/>
              <p:cNvSpPr/>
              <p:nvPr/>
            </p:nvSpPr>
            <p:spPr>
              <a:xfrm>
                <a:off x="1542960" y="3224160"/>
                <a:ext cx="1168560" cy="180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0" name=""/>
              <p:cNvSpPr/>
              <p:nvPr/>
            </p:nvSpPr>
            <p:spPr>
              <a:xfrm>
                <a:off x="1542960" y="3224160"/>
                <a:ext cx="116856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1" name=""/>
              <p:cNvSpPr/>
              <p:nvPr/>
            </p:nvSpPr>
            <p:spPr>
              <a:xfrm>
                <a:off x="1542960" y="3225960"/>
                <a:ext cx="1168560" cy="1440"/>
              </a:xfrm>
              <a:prstGeom prst="rect">
                <a:avLst/>
              </a:prstGeom>
              <a:solidFill>
                <a:srgbClr val="00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2" name=""/>
              <p:cNvSpPr/>
              <p:nvPr/>
            </p:nvSpPr>
            <p:spPr>
              <a:xfrm>
                <a:off x="1542960" y="3227400"/>
                <a:ext cx="1168560" cy="1440"/>
              </a:xfrm>
              <a:prstGeom prst="rect">
                <a:avLst/>
              </a:prstGeom>
              <a:solidFill>
                <a:srgbClr val="00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3" name=""/>
              <p:cNvSpPr/>
              <p:nvPr/>
            </p:nvSpPr>
            <p:spPr>
              <a:xfrm>
                <a:off x="1542960" y="3227400"/>
                <a:ext cx="1168560" cy="1440"/>
              </a:xfrm>
              <a:prstGeom prst="rect">
                <a:avLst/>
              </a:prstGeom>
              <a:solidFill>
                <a:srgbClr val="00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sp>
          <p:nvSpPr>
            <p:cNvPr id="13164" name=""/>
            <p:cNvSpPr/>
            <p:nvPr/>
          </p:nvSpPr>
          <p:spPr>
            <a:xfrm>
              <a:off x="1542960" y="3228840"/>
              <a:ext cx="1168560" cy="180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5" name=""/>
            <p:cNvSpPr/>
            <p:nvPr/>
          </p:nvSpPr>
          <p:spPr>
            <a:xfrm>
              <a:off x="1542960" y="3230640"/>
              <a:ext cx="1168560" cy="1440"/>
            </a:xfrm>
            <a:prstGeom prst="rect">
              <a:avLst/>
            </a:prstGeom>
            <a:solidFill>
              <a:srgbClr val="00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6" name=""/>
            <p:cNvSpPr/>
            <p:nvPr/>
          </p:nvSpPr>
          <p:spPr>
            <a:xfrm>
              <a:off x="1542960" y="3230640"/>
              <a:ext cx="1168560" cy="1440"/>
            </a:xfrm>
            <a:prstGeom prst="rect">
              <a:avLst/>
            </a:prstGeom>
            <a:solidFill>
              <a:srgbClr val="00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7" name=""/>
            <p:cNvSpPr/>
            <p:nvPr/>
          </p:nvSpPr>
          <p:spPr>
            <a:xfrm>
              <a:off x="1542960" y="3232080"/>
              <a:ext cx="1168560" cy="1800"/>
            </a:xfrm>
            <a:prstGeom prst="rect">
              <a:avLst/>
            </a:prstGeom>
            <a:solidFill>
              <a:srgbClr val="0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8" name=""/>
            <p:cNvSpPr/>
            <p:nvPr/>
          </p:nvSpPr>
          <p:spPr>
            <a:xfrm>
              <a:off x="1542960" y="3233880"/>
              <a:ext cx="1168560" cy="144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9" name=""/>
            <p:cNvSpPr/>
            <p:nvPr/>
          </p:nvSpPr>
          <p:spPr>
            <a:xfrm>
              <a:off x="1542960" y="3233880"/>
              <a:ext cx="1168560" cy="1440"/>
            </a:xfrm>
            <a:prstGeom prst="rect">
              <a:avLst/>
            </a:prstGeom>
            <a:solidFill>
              <a:srgbClr val="00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0" name=""/>
            <p:cNvSpPr/>
            <p:nvPr/>
          </p:nvSpPr>
          <p:spPr>
            <a:xfrm>
              <a:off x="1542960" y="3235320"/>
              <a:ext cx="1168560" cy="1440"/>
            </a:xfrm>
            <a:prstGeom prst="rect">
              <a:avLst/>
            </a:prstGeom>
            <a:solidFill>
              <a:srgbClr val="00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1" name=""/>
            <p:cNvSpPr/>
            <p:nvPr/>
          </p:nvSpPr>
          <p:spPr>
            <a:xfrm>
              <a:off x="1542960" y="3236760"/>
              <a:ext cx="1168560" cy="1800"/>
            </a:xfrm>
            <a:prstGeom prst="rect">
              <a:avLst/>
            </a:prstGeom>
            <a:solidFill>
              <a:srgbClr val="00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2" name=""/>
            <p:cNvSpPr/>
            <p:nvPr/>
          </p:nvSpPr>
          <p:spPr>
            <a:xfrm>
              <a:off x="1542960" y="3236760"/>
              <a:ext cx="1168560" cy="180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3" name=""/>
            <p:cNvSpPr/>
            <p:nvPr/>
          </p:nvSpPr>
          <p:spPr>
            <a:xfrm>
              <a:off x="1542960" y="3238560"/>
              <a:ext cx="1168560" cy="14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4" name=""/>
            <p:cNvSpPr/>
            <p:nvPr/>
          </p:nvSpPr>
          <p:spPr>
            <a:xfrm>
              <a:off x="1542960" y="3240000"/>
              <a:ext cx="1168560" cy="1800"/>
            </a:xfrm>
            <a:prstGeom prst="rect">
              <a:avLst/>
            </a:prstGeom>
            <a:solidFill>
              <a:srgbClr val="0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5" name=""/>
            <p:cNvSpPr/>
            <p:nvPr/>
          </p:nvSpPr>
          <p:spPr>
            <a:xfrm>
              <a:off x="1542960" y="3241800"/>
              <a:ext cx="1168560" cy="14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6" name=""/>
            <p:cNvSpPr/>
            <p:nvPr/>
          </p:nvSpPr>
          <p:spPr>
            <a:xfrm>
              <a:off x="1542960" y="3243240"/>
              <a:ext cx="1168560" cy="144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7" name=""/>
            <p:cNvSpPr/>
            <p:nvPr/>
          </p:nvSpPr>
          <p:spPr>
            <a:xfrm>
              <a:off x="1542960" y="3244680"/>
              <a:ext cx="1168560" cy="1800"/>
            </a:xfrm>
            <a:prstGeom prst="rect">
              <a:avLst/>
            </a:prstGeom>
            <a:solidFill>
              <a:srgbClr val="00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8" name=""/>
            <p:cNvSpPr/>
            <p:nvPr/>
          </p:nvSpPr>
          <p:spPr>
            <a:xfrm>
              <a:off x="1542960" y="3244680"/>
              <a:ext cx="1168560" cy="1800"/>
            </a:xfrm>
            <a:prstGeom prst="rect">
              <a:avLst/>
            </a:prstGeom>
            <a:solidFill>
              <a:srgbClr val="00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9" name=""/>
            <p:cNvSpPr/>
            <p:nvPr/>
          </p:nvSpPr>
          <p:spPr>
            <a:xfrm>
              <a:off x="1542960" y="3246480"/>
              <a:ext cx="1168560" cy="1440"/>
            </a:xfrm>
            <a:prstGeom prst="rect">
              <a:avLst/>
            </a:prstGeom>
            <a:solidFill>
              <a:srgbClr val="00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0" name=""/>
            <p:cNvSpPr/>
            <p:nvPr/>
          </p:nvSpPr>
          <p:spPr>
            <a:xfrm>
              <a:off x="1542960" y="3247920"/>
              <a:ext cx="1168560" cy="180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1" name=""/>
            <p:cNvSpPr/>
            <p:nvPr/>
          </p:nvSpPr>
          <p:spPr>
            <a:xfrm>
              <a:off x="1542960" y="3247920"/>
              <a:ext cx="1168560" cy="1800"/>
            </a:xfrm>
            <a:prstGeom prst="rect">
              <a:avLst/>
            </a:prstGeom>
            <a:solidFill>
              <a:srgbClr val="0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1542960" y="3249720"/>
              <a:ext cx="1168560" cy="1440"/>
            </a:xfrm>
            <a:prstGeom prst="rect">
              <a:avLst/>
            </a:prstGeom>
            <a:solidFill>
              <a:srgbClr val="00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1542960" y="3251160"/>
              <a:ext cx="1168560" cy="1800"/>
            </a:xfrm>
            <a:prstGeom prst="rect">
              <a:avLst/>
            </a:prstGeom>
            <a:solidFill>
              <a:srgbClr val="00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1542960" y="3251160"/>
              <a:ext cx="1168560" cy="180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5" name=""/>
            <p:cNvSpPr/>
            <p:nvPr/>
          </p:nvSpPr>
          <p:spPr>
            <a:xfrm>
              <a:off x="1542960" y="3252960"/>
              <a:ext cx="1168560" cy="1440"/>
            </a:xfrm>
            <a:prstGeom prst="rect">
              <a:avLst/>
            </a:prstGeom>
            <a:solidFill>
              <a:srgbClr val="00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1542960" y="3254400"/>
              <a:ext cx="1168560" cy="1440"/>
            </a:xfrm>
            <a:prstGeom prst="rect">
              <a:avLst/>
            </a:prstGeom>
            <a:solidFill>
              <a:srgbClr val="00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1542960" y="3254400"/>
              <a:ext cx="1168560" cy="1440"/>
            </a:xfrm>
            <a:prstGeom prst="rect">
              <a:avLst/>
            </a:prstGeom>
            <a:solidFill>
              <a:srgbClr val="00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1542960" y="3255840"/>
              <a:ext cx="1168560" cy="1800"/>
            </a:xfrm>
            <a:prstGeom prst="rect">
              <a:avLst/>
            </a:pr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9" name=""/>
            <p:cNvSpPr/>
            <p:nvPr/>
          </p:nvSpPr>
          <p:spPr>
            <a:xfrm>
              <a:off x="1542960" y="3257640"/>
              <a:ext cx="1168560" cy="1440"/>
            </a:xfrm>
            <a:prstGeom prst="rect">
              <a:avLst/>
            </a:prstGeom>
            <a:solidFill>
              <a:srgbClr val="00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0" name=""/>
            <p:cNvSpPr/>
            <p:nvPr/>
          </p:nvSpPr>
          <p:spPr>
            <a:xfrm>
              <a:off x="1542960" y="3257640"/>
              <a:ext cx="1168560" cy="1440"/>
            </a:xfrm>
            <a:prstGeom prst="rect">
              <a:avLst/>
            </a:prstGeom>
            <a:solidFill>
              <a:srgbClr val="00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1" name=""/>
            <p:cNvSpPr/>
            <p:nvPr/>
          </p:nvSpPr>
          <p:spPr>
            <a:xfrm>
              <a:off x="1542960" y="3259080"/>
              <a:ext cx="1168560" cy="1800"/>
            </a:xfrm>
            <a:prstGeom prst="rect">
              <a:avLst/>
            </a:prstGeom>
            <a:solidFill>
              <a:srgbClr val="00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2" name=""/>
            <p:cNvSpPr/>
            <p:nvPr/>
          </p:nvSpPr>
          <p:spPr>
            <a:xfrm>
              <a:off x="1542960" y="3260880"/>
              <a:ext cx="1168560" cy="1440"/>
            </a:xfrm>
            <a:prstGeom prst="rect">
              <a:avLst/>
            </a:prstGeom>
            <a:solidFill>
              <a:srgbClr val="00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3" name=""/>
            <p:cNvSpPr/>
            <p:nvPr/>
          </p:nvSpPr>
          <p:spPr>
            <a:xfrm>
              <a:off x="1542960" y="3260880"/>
              <a:ext cx="1168560" cy="1440"/>
            </a:xfrm>
            <a:prstGeom prst="rect">
              <a:avLst/>
            </a:prstGeom>
            <a:solidFill>
              <a:srgbClr val="00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4" name=""/>
            <p:cNvSpPr/>
            <p:nvPr/>
          </p:nvSpPr>
          <p:spPr>
            <a:xfrm>
              <a:off x="1542960" y="3262320"/>
              <a:ext cx="1168560" cy="1440"/>
            </a:xfrm>
            <a:prstGeom prst="rect">
              <a:avLst/>
            </a:prstGeom>
            <a:solidFill>
              <a:srgbClr val="00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5" name=""/>
            <p:cNvSpPr/>
            <p:nvPr/>
          </p:nvSpPr>
          <p:spPr>
            <a:xfrm>
              <a:off x="1542960" y="3263760"/>
              <a:ext cx="1168560" cy="18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6" name=""/>
            <p:cNvSpPr/>
            <p:nvPr/>
          </p:nvSpPr>
          <p:spPr>
            <a:xfrm>
              <a:off x="1542960" y="3263760"/>
              <a:ext cx="1168560" cy="1800"/>
            </a:xfrm>
            <a:prstGeom prst="rect">
              <a:avLst/>
            </a:prstGeom>
            <a:solidFill>
              <a:srgbClr val="00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7" name=""/>
            <p:cNvSpPr/>
            <p:nvPr/>
          </p:nvSpPr>
          <p:spPr>
            <a:xfrm>
              <a:off x="1542960" y="3265560"/>
              <a:ext cx="1168560" cy="1440"/>
            </a:xfrm>
            <a:prstGeom prst="rect">
              <a:avLst/>
            </a:prstGeom>
            <a:solidFill>
              <a:srgbClr val="00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8" name=""/>
            <p:cNvSpPr/>
            <p:nvPr/>
          </p:nvSpPr>
          <p:spPr>
            <a:xfrm>
              <a:off x="1544760" y="3214800"/>
              <a:ext cx="1168200" cy="5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9" name=""/>
            <p:cNvSpPr/>
            <p:nvPr/>
          </p:nvSpPr>
          <p:spPr>
            <a:xfrm>
              <a:off x="7054920" y="5286240"/>
              <a:ext cx="72864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7221960" y="52992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AG-1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6516720" y="2676600"/>
              <a:ext cx="72864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6697080" y="268920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LAS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1527120" y="2752560"/>
              <a:ext cx="12225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1706040" y="2763720"/>
              <a:ext cx="85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OLVA PEBBLES</a:t>
              </a:r>
              <a:endParaRPr b="0" lang="en-US" sz="8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314280" y="1974960"/>
              <a:ext cx="8794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505440" y="198756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EA-2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7" name=""/>
            <p:cNvSpPr/>
            <p:nvPr/>
          </p:nvSpPr>
          <p:spPr>
            <a:xfrm>
              <a:off x="366840" y="4379760"/>
              <a:ext cx="8809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8" name=""/>
            <p:cNvSpPr/>
            <p:nvPr/>
          </p:nvSpPr>
          <p:spPr>
            <a:xfrm>
              <a:off x="558000" y="439272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EA-1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9" name=""/>
            <p:cNvSpPr/>
            <p:nvPr/>
          </p:nvSpPr>
          <p:spPr>
            <a:xfrm>
              <a:off x="2290680" y="4289400"/>
              <a:ext cx="127656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0" name=""/>
            <p:cNvSpPr/>
            <p:nvPr/>
          </p:nvSpPr>
          <p:spPr>
            <a:xfrm>
              <a:off x="2290680" y="4289400"/>
              <a:ext cx="1276560" cy="155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1" name=""/>
            <p:cNvSpPr/>
            <p:nvPr/>
          </p:nvSpPr>
          <p:spPr>
            <a:xfrm>
              <a:off x="2471040" y="4295880"/>
              <a:ext cx="904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HANC. MANDIBULA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2" name=""/>
            <p:cNvSpPr/>
            <p:nvPr/>
          </p:nvSpPr>
          <p:spPr>
            <a:xfrm>
              <a:off x="2857680" y="5267160"/>
              <a:ext cx="8175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3" name=""/>
            <p:cNvSpPr/>
            <p:nvPr/>
          </p:nvSpPr>
          <p:spPr>
            <a:xfrm>
              <a:off x="2857680" y="5267160"/>
              <a:ext cx="81756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4" name=""/>
            <p:cNvSpPr/>
            <p:nvPr/>
          </p:nvSpPr>
          <p:spPr>
            <a:xfrm>
              <a:off x="2994120" y="5273640"/>
              <a:ext cx="58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O HP-300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5" name=""/>
            <p:cNvSpPr/>
            <p:nvPr/>
          </p:nvSpPr>
          <p:spPr>
            <a:xfrm>
              <a:off x="5527800" y="4354560"/>
              <a:ext cx="9064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6" name=""/>
            <p:cNvSpPr/>
            <p:nvPr/>
          </p:nvSpPr>
          <p:spPr>
            <a:xfrm>
              <a:off x="5527800" y="4354560"/>
              <a:ext cx="90648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7" name=""/>
            <p:cNvSpPr/>
            <p:nvPr/>
          </p:nvSpPr>
          <p:spPr>
            <a:xfrm>
              <a:off x="5670000" y="436104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ARNERO # 1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8" name=""/>
            <p:cNvSpPr/>
            <p:nvPr/>
          </p:nvSpPr>
          <p:spPr>
            <a:xfrm>
              <a:off x="6202440" y="5581800"/>
              <a:ext cx="65556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9" name=""/>
            <p:cNvSpPr/>
            <p:nvPr/>
          </p:nvSpPr>
          <p:spPr>
            <a:xfrm>
              <a:off x="6202440" y="5581800"/>
              <a:ext cx="655560" cy="155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0" name=""/>
            <p:cNvSpPr/>
            <p:nvPr/>
          </p:nvSpPr>
          <p:spPr>
            <a:xfrm>
              <a:off x="6315840" y="5587920"/>
              <a:ext cx="44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 % &lt; 1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1" name=""/>
            <p:cNvSpPr/>
            <p:nvPr/>
          </p:nvSpPr>
          <p:spPr>
            <a:xfrm>
              <a:off x="2336760" y="2398680"/>
              <a:ext cx="8175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2" name=""/>
            <p:cNvSpPr/>
            <p:nvPr/>
          </p:nvSpPr>
          <p:spPr>
            <a:xfrm>
              <a:off x="2336760" y="2398680"/>
              <a:ext cx="81756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3" name=""/>
            <p:cNvSpPr/>
            <p:nvPr/>
          </p:nvSpPr>
          <p:spPr>
            <a:xfrm>
              <a:off x="2473200" y="2405160"/>
              <a:ext cx="58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O HP-200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4" name=""/>
            <p:cNvSpPr/>
            <p:nvPr/>
          </p:nvSpPr>
          <p:spPr>
            <a:xfrm>
              <a:off x="5438880" y="1519200"/>
              <a:ext cx="1590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5" name=""/>
            <p:cNvSpPr/>
            <p:nvPr/>
          </p:nvSpPr>
          <p:spPr>
            <a:xfrm>
              <a:off x="5438880" y="1519200"/>
              <a:ext cx="1590480" cy="2556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6" name=""/>
            <p:cNvSpPr/>
            <p:nvPr/>
          </p:nvSpPr>
          <p:spPr>
            <a:xfrm>
              <a:off x="5650200" y="1525680"/>
              <a:ext cx="1114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ARNERO DOBLE MALLA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7" name=""/>
            <p:cNvSpPr/>
            <p:nvPr/>
          </p:nvSpPr>
          <p:spPr>
            <a:xfrm>
              <a:off x="5604840" y="1638360"/>
              <a:ext cx="794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/2 "   -  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8" name=""/>
            <p:cNvSpPr/>
            <p:nvPr/>
          </p:nvSpPr>
          <p:spPr>
            <a:xfrm>
              <a:off x="5329080" y="2901960"/>
              <a:ext cx="809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9" name=""/>
            <p:cNvSpPr/>
            <p:nvPr/>
          </p:nvSpPr>
          <p:spPr>
            <a:xfrm>
              <a:off x="5329080" y="2901960"/>
              <a:ext cx="80964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0" name=""/>
            <p:cNvSpPr/>
            <p:nvPr/>
          </p:nvSpPr>
          <p:spPr>
            <a:xfrm>
              <a:off x="5453640" y="2908440"/>
              <a:ext cx="51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 % &lt; 1/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1" name=""/>
            <p:cNvSpPr/>
            <p:nvPr/>
          </p:nvSpPr>
          <p:spPr>
            <a:xfrm>
              <a:off x="2847960" y="3182760"/>
              <a:ext cx="628560" cy="1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2" name=""/>
            <p:cNvSpPr/>
            <p:nvPr/>
          </p:nvSpPr>
          <p:spPr>
            <a:xfrm>
              <a:off x="2847960" y="3182760"/>
              <a:ext cx="628560" cy="155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3" name=""/>
            <p:cNvSpPr/>
            <p:nvPr/>
          </p:nvSpPr>
          <p:spPr>
            <a:xfrm>
              <a:off x="2962080" y="3189240"/>
              <a:ext cx="43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+ 1/2" -  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4" name=""/>
            <p:cNvSpPr/>
            <p:nvPr/>
          </p:nvSpPr>
          <p:spPr>
            <a:xfrm>
              <a:off x="2363760" y="3602160"/>
              <a:ext cx="461016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5" name=""/>
            <p:cNvSpPr/>
            <p:nvPr/>
          </p:nvSpPr>
          <p:spPr>
            <a:xfrm>
              <a:off x="2910960" y="3614760"/>
              <a:ext cx="3082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PLANTA PRECHANCADO INTERMEDIA</a:t>
              </a:r>
              <a:endParaRPr b="0" lang="en-US" sz="13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6" name=""/>
            <p:cNvSpPr/>
            <p:nvPr/>
          </p:nvSpPr>
          <p:spPr>
            <a:xfrm>
              <a:off x="4943520" y="2181240"/>
              <a:ext cx="331632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7" name=""/>
            <p:cNvSpPr/>
            <p:nvPr/>
          </p:nvSpPr>
          <p:spPr>
            <a:xfrm>
              <a:off x="5388120" y="2193840"/>
              <a:ext cx="238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PLANTA PRECHANCADO N°-1</a:t>
              </a:r>
              <a:endParaRPr b="0" lang="en-US" sz="13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pic>
        <p:nvPicPr>
          <p:cNvPr id="13238" name="SD_SCRN" descr=""/>
          <p:cNvPicPr/>
          <p:nvPr/>
        </p:nvPicPr>
        <p:blipFill>
          <a:blip r:embed="rId8"/>
          <a:stretch/>
        </p:blipFill>
        <p:spPr>
          <a:xfrm flipH="1" rot="20790000">
            <a:off x="4141080" y="1573200"/>
            <a:ext cx="1014480" cy="571680"/>
          </a:xfrm>
          <a:prstGeom prst="rect">
            <a:avLst/>
          </a:prstGeom>
          <a:ln w="0">
            <a:noFill/>
          </a:ln>
        </p:spPr>
      </p:pic>
      <p:pic>
        <p:nvPicPr>
          <p:cNvPr id="13239" name="SD_SCRN" descr=""/>
          <p:cNvPicPr/>
          <p:nvPr/>
        </p:nvPicPr>
        <p:blipFill>
          <a:blip r:embed="rId9"/>
          <a:stretch/>
        </p:blipFill>
        <p:spPr>
          <a:xfrm flipH="1" rot="20384400">
            <a:off x="4725720" y="4444920"/>
            <a:ext cx="792000" cy="49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58:29Z</dcterms:created>
  <dc:creator>jgarrid</dc:creator>
  <dc:description/>
  <dc:language>en-US</dc:language>
  <cp:lastModifiedBy>Aldo Casali</cp:lastModifiedBy>
  <dcterms:modified xsi:type="dcterms:W3CDTF">2006-11-28T14:15:00Z</dcterms:modified>
  <cp:revision>4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7489724</vt:r8>
  </property>
  <property fmtid="{D5CDD505-2E9C-101B-9397-08002B2CF9AE}" pid="3" name="_AuthorEmail">
    <vt:lpwstr>pnunez@anglochile.cl</vt:lpwstr>
  </property>
  <property fmtid="{D5CDD505-2E9C-101B-9397-08002B2CF9AE}" pid="4" name="_AuthorEmailDisplayName">
    <vt:lpwstr>Nunez S. Perla T.</vt:lpwstr>
  </property>
  <property fmtid="{D5CDD505-2E9C-101B-9397-08002B2CF9AE}" pid="5" name="_EmailSubject">
    <vt:lpwstr>Flowsheet Molienda</vt:lpwstr>
  </property>
  <property fmtid="{D5CDD505-2E9C-101B-9397-08002B2CF9AE}" pid="6" name="_PreviousAdHocReviewCycleID">
    <vt:r8>1226835440</vt:r8>
  </property>
  <property fmtid="{D5CDD505-2E9C-101B-9397-08002B2CF9AE}" pid="7" name="_ReviewingToolsShownOnce">
    <vt:lpwstr/>
  </property>
</Properties>
</file>