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6C0-5431-4B2C-ADDE-58768AD22C9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5.png"/><Relationship Id="rId17" Type="http://schemas.openxmlformats.org/officeDocument/2006/relationships/image" Target="../media/image13.wmf"/><Relationship Id="rId18" Type="http://schemas.openxmlformats.org/officeDocument/2006/relationships/image" Target="../media/image14.wm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6.png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5200" y="6502320"/>
            <a:ext cx="168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67276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333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glo Sans Light"/>
              </a:rPr>
              <a:t>DIAGRAMA DE FLUJOS CHANCADOR PRIMARIO – STOCK PILE</a:t>
            </a:r>
            <a:endParaRPr b="0" lang="en-US" sz="20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260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MOLIENDA SAG – MOLIENDA BOLA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84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285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87680" y="3144960"/>
            <a:ext cx="517320" cy="718920"/>
            <a:chOff x="1687680" y="3144960"/>
            <a:chExt cx="517320" cy="718920"/>
          </a:xfrm>
        </p:grpSpPr>
        <p:sp>
          <p:nvSpPr>
            <p:cNvPr id="486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95560" y="1052640"/>
            <a:ext cx="379440" cy="2539800"/>
            <a:chOff x="2095560" y="1052640"/>
            <a:chExt cx="379440" cy="2539800"/>
          </a:xfrm>
        </p:grpSpPr>
        <p:sp>
          <p:nvSpPr>
            <p:cNvPr id="687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888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076480" y="1165320"/>
            <a:ext cx="250920" cy="314280"/>
            <a:chOff x="2076480" y="1165320"/>
            <a:chExt cx="250920" cy="314280"/>
          </a:xfrm>
        </p:grpSpPr>
        <p:sp>
          <p:nvSpPr>
            <p:cNvPr id="1089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1290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1491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522440" y="1101240"/>
            <a:ext cx="7394400" cy="5328000"/>
            <a:chOff x="1522440" y="1101240"/>
            <a:chExt cx="7394400" cy="5328000"/>
          </a:xfrm>
        </p:grpSpPr>
        <p:sp>
          <p:nvSpPr>
            <p:cNvPr id="169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791" name="" descr=""/>
            <p:cNvPicPr/>
            <p:nvPr/>
          </p:nvPicPr>
          <p:blipFill>
            <a:blip r:embed="rId4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3" name="" descr=""/>
            <p:cNvPicPr/>
            <p:nvPr/>
          </p:nvPicPr>
          <p:blipFill>
            <a:blip r:embed="rId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6" name="" descr=""/>
            <p:cNvPicPr/>
            <p:nvPr/>
          </p:nvPicPr>
          <p:blipFill>
            <a:blip r:embed="rId6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14240" y="1946160"/>
            <a:ext cx="7328160" cy="3716280"/>
            <a:chOff x="714240" y="1946160"/>
            <a:chExt cx="7328160" cy="3716280"/>
          </a:xfrm>
        </p:grpSpPr>
        <p:sp>
          <p:nvSpPr>
            <p:cNvPr id="189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944" name="" descr=""/>
            <p:cNvPicPr/>
            <p:nvPr/>
          </p:nvPicPr>
          <p:blipFill>
            <a:blip r:embed="rId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5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782880" y="2287440"/>
            <a:ext cx="490680" cy="343080"/>
            <a:chOff x="3782880" y="2287440"/>
            <a:chExt cx="490680" cy="343080"/>
          </a:xfrm>
        </p:grpSpPr>
        <p:sp>
          <p:nvSpPr>
            <p:cNvPr id="2094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2295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2496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4437000" y="2768760"/>
            <a:ext cx="311040" cy="1871640"/>
            <a:chOff x="4437000" y="2768760"/>
            <a:chExt cx="311040" cy="1871640"/>
          </a:xfrm>
        </p:grpSpPr>
        <p:sp>
          <p:nvSpPr>
            <p:cNvPr id="2697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437000" y="4446720"/>
            <a:ext cx="1768680" cy="487080"/>
            <a:chOff x="4437000" y="4446720"/>
            <a:chExt cx="1768680" cy="487080"/>
          </a:xfrm>
        </p:grpSpPr>
        <p:sp>
          <p:nvSpPr>
            <p:cNvPr id="2898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915840" y="2054160"/>
            <a:ext cx="8001000" cy="4383000"/>
            <a:chOff x="915840" y="2054160"/>
            <a:chExt cx="8001000" cy="4383000"/>
          </a:xfrm>
        </p:grpSpPr>
        <p:sp>
          <p:nvSpPr>
            <p:cNvPr id="3099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9920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202440" y="4581360"/>
              <a:ext cx="324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205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08560" y="4581360"/>
              <a:ext cx="648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21504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218280" y="4581360"/>
              <a:ext cx="468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222960" y="4581360"/>
              <a:ext cx="324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22620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229440" y="4581360"/>
              <a:ext cx="324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232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5560" y="4581360"/>
              <a:ext cx="648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24204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99200" y="4581360"/>
              <a:ext cx="46080" cy="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87" name="" descr=""/>
            <p:cNvPicPr/>
            <p:nvPr/>
          </p:nvPicPr>
          <p:blipFill>
            <a:blip r:embed="rId8"/>
            <a:stretch/>
          </p:blipFill>
          <p:spPr>
            <a:xfrm>
              <a:off x="7804080" y="5856120"/>
              <a:ext cx="9018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8" name=""/>
            <p:cNvSpPr/>
            <p:nvPr/>
          </p:nvSpPr>
          <p:spPr>
            <a:xfrm>
              <a:off x="8521560" y="6281640"/>
              <a:ext cx="247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540640" y="63244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8572680" y="6300720"/>
              <a:ext cx="4752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809200" y="6300720"/>
              <a:ext cx="5364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572680" y="6391440"/>
              <a:ext cx="2840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724960" y="6211800"/>
              <a:ext cx="191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8530920" y="6291360"/>
              <a:ext cx="1839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99" name="" descr=""/>
            <p:cNvPicPr/>
            <p:nvPr/>
          </p:nvPicPr>
          <p:blipFill>
            <a:blip r:embed="rId9"/>
            <a:stretch/>
          </p:blipFill>
          <p:spPr>
            <a:xfrm>
              <a:off x="1962000" y="3833640"/>
              <a:ext cx="115740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0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932200" y="4278240"/>
              <a:ext cx="4752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170160" y="427824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2200" y="4367160"/>
              <a:ext cx="2858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87720" y="4189320"/>
              <a:ext cx="190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89360" y="4268880"/>
              <a:ext cx="1857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63760" y="3846600"/>
              <a:ext cx="7632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26" y="0"/>
                  </a:moveTo>
                  <a:lnTo>
                    <a:pt x="32" y="112"/>
                  </a:lnTo>
                  <a:lnTo>
                    <a:pt x="16" y="114"/>
                  </a:lnTo>
                  <a:lnTo>
                    <a:pt x="10" y="2"/>
                  </a:lnTo>
                  <a:lnTo>
                    <a:pt x="26" y="0"/>
                  </a:lnTo>
                  <a:close/>
                  <a:moveTo>
                    <a:pt x="48" y="106"/>
                  </a:moveTo>
                  <a:lnTo>
                    <a:pt x="24" y="147"/>
                  </a:lnTo>
                  <a:lnTo>
                    <a:pt x="0" y="108"/>
                  </a:lnTo>
                  <a:lnTo>
                    <a:pt x="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79600" y="3846600"/>
              <a:ext cx="34920" cy="18072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6" y="0"/>
                  </a:moveTo>
                  <a:lnTo>
                    <a:pt x="22" y="112"/>
                  </a:lnTo>
                  <a:lnTo>
                    <a:pt x="6" y="114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63760" y="40147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2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6720" y="3497400"/>
              <a:ext cx="82800" cy="43164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36" y="0"/>
                  </a:moveTo>
                  <a:lnTo>
                    <a:pt x="36" y="239"/>
                  </a:lnTo>
                  <a:lnTo>
                    <a:pt x="18" y="239"/>
                  </a:lnTo>
                  <a:lnTo>
                    <a:pt x="18" y="0"/>
                  </a:lnTo>
                  <a:lnTo>
                    <a:pt x="36" y="0"/>
                  </a:lnTo>
                  <a:close/>
                  <a:moveTo>
                    <a:pt x="52" y="231"/>
                  </a:moveTo>
                  <a:lnTo>
                    <a:pt x="28" y="272"/>
                  </a:lnTo>
                  <a:lnTo>
                    <a:pt x="0" y="231"/>
                  </a:lnTo>
                  <a:lnTo>
                    <a:pt x="52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65520" y="3497400"/>
              <a:ext cx="28440" cy="37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36720" y="3863880"/>
              <a:ext cx="82800" cy="65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28" y="41"/>
                  </a:lnTo>
                  <a:lnTo>
                    <a:pt x="0" y="0"/>
                  </a:ln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21640" y="5816520"/>
              <a:ext cx="79200" cy="593640"/>
            </a:xfrm>
            <a:custGeom>
              <a:avLst/>
              <a:gdLst/>
              <a:ahLst/>
              <a:rect l="l" t="t" r="r" b="b"/>
              <a:pathLst>
                <a:path w="50" h="374">
                  <a:moveTo>
                    <a:pt x="34" y="32"/>
                  </a:moveTo>
                  <a:lnTo>
                    <a:pt x="38" y="374"/>
                  </a:lnTo>
                  <a:lnTo>
                    <a:pt x="22" y="374"/>
                  </a:lnTo>
                  <a:lnTo>
                    <a:pt x="16" y="32"/>
                  </a:lnTo>
                  <a:lnTo>
                    <a:pt x="34" y="32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746840" y="5867280"/>
              <a:ext cx="34920" cy="542880"/>
            </a:xfrm>
            <a:custGeom>
              <a:avLst/>
              <a:gdLst/>
              <a:ahLst/>
              <a:rect l="l" t="t" r="r" b="b"/>
              <a:pathLst>
                <a:path w="22" h="342">
                  <a:moveTo>
                    <a:pt x="18" y="0"/>
                  </a:moveTo>
                  <a:lnTo>
                    <a:pt x="22" y="342"/>
                  </a:lnTo>
                  <a:lnTo>
                    <a:pt x="6" y="342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721640" y="58165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7749720" y="5827680"/>
              <a:ext cx="3603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78760" y="5821200"/>
              <a:ext cx="76320" cy="26208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32" y="0"/>
                  </a:moveTo>
                  <a:lnTo>
                    <a:pt x="32" y="130"/>
                  </a:lnTo>
                  <a:lnTo>
                    <a:pt x="16" y="130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4"/>
                  </a:moveTo>
                  <a:lnTo>
                    <a:pt x="24" y="165"/>
                  </a:lnTo>
                  <a:lnTo>
                    <a:pt x="0" y="124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04320" y="5821200"/>
              <a:ext cx="25200" cy="20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078760" y="60181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61360" y="5432400"/>
              <a:ext cx="81000" cy="615960"/>
            </a:xfrm>
            <a:custGeom>
              <a:avLst/>
              <a:gdLst/>
              <a:ahLst/>
              <a:rect l="l" t="t" r="r" b="b"/>
              <a:pathLst>
                <a:path w="51" h="388">
                  <a:moveTo>
                    <a:pt x="32" y="0"/>
                  </a:moveTo>
                  <a:lnTo>
                    <a:pt x="32" y="354"/>
                  </a:lnTo>
                  <a:lnTo>
                    <a:pt x="16" y="3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1" y="348"/>
                  </a:moveTo>
                  <a:lnTo>
                    <a:pt x="24" y="388"/>
                  </a:lnTo>
                  <a:lnTo>
                    <a:pt x="0" y="348"/>
                  </a:lnTo>
                  <a:lnTo>
                    <a:pt x="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86920" y="5432400"/>
              <a:ext cx="25200" cy="5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61360" y="598500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225" name="" descr=""/>
            <p:cNvPicPr/>
            <p:nvPr/>
          </p:nvPicPr>
          <p:blipFill>
            <a:blip r:embed="rId10"/>
            <a:stretch/>
          </p:blipFill>
          <p:spPr>
            <a:xfrm>
              <a:off x="2009880" y="5821200"/>
              <a:ext cx="11030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 flipH="1" flipV="1">
              <a:off x="2104920" y="5691240"/>
              <a:ext cx="3002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04920" y="564516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04920" y="5691240"/>
              <a:ext cx="60012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04920" y="559908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04920" y="5599080"/>
              <a:ext cx="18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2404800" y="5807160"/>
              <a:ext cx="29988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705040" y="571824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2925720" y="6265800"/>
              <a:ext cx="4464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160800" y="626580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925720" y="6354720"/>
              <a:ext cx="28260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0" y="6176880"/>
              <a:ext cx="1875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2879640" y="6257880"/>
              <a:ext cx="18576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1280" y="6272280"/>
              <a:ext cx="540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2133720" y="6272280"/>
              <a:ext cx="648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2139840" y="6364440"/>
              <a:ext cx="3254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2073240" y="6183360"/>
              <a:ext cx="217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03640" y="6262560"/>
              <a:ext cx="209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73480" y="5821200"/>
              <a:ext cx="79200" cy="23364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32" y="0"/>
                  </a:moveTo>
                  <a:lnTo>
                    <a:pt x="32" y="112"/>
                  </a:lnTo>
                  <a:lnTo>
                    <a:pt x="16" y="1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07"/>
                  </a:moveTo>
                  <a:lnTo>
                    <a:pt x="24" y="147"/>
                  </a:lnTo>
                  <a:lnTo>
                    <a:pt x="0" y="107"/>
                  </a:lnTo>
                  <a:lnTo>
                    <a:pt x="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98680" y="5821200"/>
              <a:ext cx="25560" cy="177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73480" y="59911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8120" y="5424480"/>
              <a:ext cx="76320" cy="547560"/>
            </a:xfrm>
            <a:custGeom>
              <a:avLst/>
              <a:gdLst/>
              <a:ahLst/>
              <a:rect l="l" t="t" r="r" b="b"/>
              <a:pathLst>
                <a:path w="48" h="345">
                  <a:moveTo>
                    <a:pt x="32" y="0"/>
                  </a:moveTo>
                  <a:lnTo>
                    <a:pt x="32" y="312"/>
                  </a:lnTo>
                  <a:lnTo>
                    <a:pt x="16" y="3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305"/>
                  </a:moveTo>
                  <a:lnTo>
                    <a:pt x="24" y="345"/>
                  </a:lnTo>
                  <a:lnTo>
                    <a:pt x="0" y="305"/>
                  </a:lnTo>
                  <a:lnTo>
                    <a:pt x="48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3680" y="5424480"/>
              <a:ext cx="2520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778120" y="59086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1882800" y="6186600"/>
              <a:ext cx="37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2149560" y="3708360"/>
              <a:ext cx="2426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49560" y="366228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49560" y="370836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49560" y="3616200"/>
              <a:ext cx="485640" cy="119160"/>
            </a:xfrm>
            <a:custGeom>
              <a:avLst/>
              <a:gdLst/>
              <a:ahLst/>
              <a:rect l="l" t="t" r="r" b="b"/>
              <a:pathLst>
                <a:path w="306" h="75">
                  <a:moveTo>
                    <a:pt x="0" y="0"/>
                  </a:moveTo>
                  <a:lnTo>
                    <a:pt x="306" y="75"/>
                  </a:lnTo>
                  <a:lnTo>
                    <a:pt x="306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49560" y="3616200"/>
              <a:ext cx="144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2391840" y="3824280"/>
              <a:ext cx="2430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635200" y="373536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15840" y="2054160"/>
              <a:ext cx="2829240" cy="85680"/>
            </a:xfrm>
            <a:custGeom>
              <a:avLst/>
              <a:gdLst/>
              <a:ahLst/>
              <a:rect l="l" t="t" r="r" b="b"/>
              <a:pathLst>
                <a:path w="1782" h="54">
                  <a:moveTo>
                    <a:pt x="0" y="14"/>
                  </a:moveTo>
                  <a:lnTo>
                    <a:pt x="1725" y="19"/>
                  </a:lnTo>
                  <a:lnTo>
                    <a:pt x="1725" y="37"/>
                  </a:lnTo>
                  <a:lnTo>
                    <a:pt x="0" y="31"/>
                  </a:lnTo>
                  <a:lnTo>
                    <a:pt x="0" y="14"/>
                  </a:lnTo>
                  <a:close/>
                  <a:moveTo>
                    <a:pt x="1715" y="0"/>
                  </a:moveTo>
                  <a:lnTo>
                    <a:pt x="1782" y="27"/>
                  </a:lnTo>
                  <a:lnTo>
                    <a:pt x="1715" y="54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15840" y="2076480"/>
              <a:ext cx="2738520" cy="3636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0"/>
                  </a:moveTo>
                  <a:lnTo>
                    <a:pt x="1725" y="5"/>
                  </a:lnTo>
                  <a:lnTo>
                    <a:pt x="1725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38520" y="2054160"/>
              <a:ext cx="10656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4506840" y="443088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4563720" y="2736720"/>
              <a:ext cx="593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68520" y="2647800"/>
              <a:ext cx="15433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56120" y="5052960"/>
              <a:ext cx="1343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2682720"/>
              <a:ext cx="1440" cy="281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618080" y="5500800"/>
              <a:ext cx="347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4617720" y="3613320"/>
              <a:ext cx="322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232680" y="5089680"/>
              <a:ext cx="79200" cy="29988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2" y="0"/>
                  </a:moveTo>
                  <a:lnTo>
                    <a:pt x="32" y="155"/>
                  </a:lnTo>
                  <a:lnTo>
                    <a:pt x="16" y="15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9"/>
                  </a:moveTo>
                  <a:lnTo>
                    <a:pt x="24" y="189"/>
                  </a:lnTo>
                  <a:lnTo>
                    <a:pt x="0" y="149"/>
                  </a:lnTo>
                  <a:lnTo>
                    <a:pt x="50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257880" y="5089680"/>
              <a:ext cx="25560" cy="245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32680" y="532620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24400" y="5494320"/>
              <a:ext cx="183960" cy="3636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116" y="17"/>
                  </a:moveTo>
                  <a:lnTo>
                    <a:pt x="22" y="17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7"/>
                  </a:lnTo>
                  <a:close/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59320" y="5506920"/>
              <a:ext cx="149040" cy="14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24400" y="549432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433760" y="3600360"/>
              <a:ext cx="184320" cy="3816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116" y="18"/>
                  </a:moveTo>
                  <a:lnTo>
                    <a:pt x="22" y="18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8"/>
                  </a:lnTo>
                  <a:close/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68680" y="3613320"/>
              <a:ext cx="149400" cy="1584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267080" y="1414440"/>
            <a:ext cx="847800" cy="2224080"/>
            <a:chOff x="4267080" y="1414440"/>
            <a:chExt cx="847800" cy="2224080"/>
          </a:xfrm>
        </p:grpSpPr>
        <p:sp>
          <p:nvSpPr>
            <p:cNvPr id="3300" name=""/>
            <p:cNvSpPr/>
            <p:nvPr/>
          </p:nvSpPr>
          <p:spPr>
            <a:xfrm>
              <a:off x="4433760" y="360036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301" name="" descr=""/>
            <p:cNvPicPr/>
            <p:nvPr/>
          </p:nvPicPr>
          <p:blipFill>
            <a:blip r:embed="rId11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2" name="" descr=""/>
            <p:cNvPicPr/>
            <p:nvPr/>
          </p:nvPicPr>
          <p:blipFill>
            <a:blip r:embed="rId12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3" name=""/>
            <p:cNvSpPr/>
            <p:nvPr/>
          </p:nvSpPr>
          <p:spPr>
            <a:xfrm>
              <a:off x="4267080" y="1639800"/>
              <a:ext cx="3240" cy="1238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270320" y="1639800"/>
              <a:ext cx="1800" cy="1238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70320" y="1639800"/>
              <a:ext cx="3240" cy="1238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73560" y="1639800"/>
              <a:ext cx="1440" cy="1238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73560" y="1639800"/>
              <a:ext cx="3240" cy="1238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276800" y="1639800"/>
              <a:ext cx="1440" cy="1238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276800" y="1639800"/>
              <a:ext cx="3240" cy="1238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0040" y="1639800"/>
              <a:ext cx="2880" cy="1238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282920" y="1639800"/>
              <a:ext cx="1800" cy="1238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82920" y="1639800"/>
              <a:ext cx="3240" cy="1238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286160" y="1639800"/>
              <a:ext cx="1800" cy="1238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86160" y="1639800"/>
              <a:ext cx="3240" cy="1238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289400" y="1639800"/>
              <a:ext cx="3240" cy="1238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292640" y="1639800"/>
              <a:ext cx="1440" cy="1238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292640" y="1639800"/>
              <a:ext cx="3240" cy="1238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295880" y="1639800"/>
              <a:ext cx="3240" cy="1238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299120" y="1639800"/>
              <a:ext cx="1440" cy="1238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299120" y="1639800"/>
              <a:ext cx="2880" cy="1238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302000" y="1639800"/>
              <a:ext cx="1800" cy="1238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302000" y="1639800"/>
              <a:ext cx="3240" cy="1238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305240" y="1639800"/>
              <a:ext cx="1800" cy="1238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305240" y="1639800"/>
              <a:ext cx="3240" cy="1238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308480" y="1639800"/>
              <a:ext cx="1440" cy="1238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308480" y="1639800"/>
              <a:ext cx="3240" cy="1238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311720" y="1639800"/>
              <a:ext cx="1440" cy="1238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311720" y="1639800"/>
              <a:ext cx="3240" cy="1238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314960" y="1639800"/>
              <a:ext cx="1440" cy="1238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314960" y="1639800"/>
              <a:ext cx="2880" cy="1238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317840" y="1639800"/>
              <a:ext cx="1800" cy="1238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7840" y="1639800"/>
              <a:ext cx="6480" cy="1238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324320" y="1639800"/>
              <a:ext cx="1440" cy="1238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324320" y="1639800"/>
              <a:ext cx="3240" cy="1238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327560" y="1639800"/>
              <a:ext cx="1440" cy="1238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327560" y="1639800"/>
              <a:ext cx="3240" cy="1238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330800" y="1639800"/>
              <a:ext cx="3240" cy="1238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334040" y="1639800"/>
              <a:ext cx="1440" cy="1238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334040" y="1639800"/>
              <a:ext cx="2880" cy="1238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336920" y="1639800"/>
              <a:ext cx="1800" cy="1238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336920" y="1639800"/>
              <a:ext cx="3240" cy="1238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340160" y="1639800"/>
              <a:ext cx="1800" cy="1238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4343400" y="1639800"/>
              <a:ext cx="1440" cy="1238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43400" y="1639800"/>
              <a:ext cx="3240" cy="1238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84800" y="1628640"/>
              <a:ext cx="288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387680" y="1628640"/>
              <a:ext cx="50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392720" y="1628640"/>
              <a:ext cx="32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395960" y="162864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98840" y="1628640"/>
              <a:ext cx="180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8840" y="1628640"/>
              <a:ext cx="648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05320" y="1628640"/>
              <a:ext cx="14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408560" y="162864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408560" y="162864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14680" y="1628640"/>
              <a:ext cx="32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79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4400" y="162864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427640" y="162864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430880" y="1628640"/>
              <a:ext cx="14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430880" y="162864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433760" y="1628640"/>
              <a:ext cx="180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33760" y="162864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43700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437000" y="162864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440240" y="162864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443480" y="162864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46720" y="162864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446720" y="1628640"/>
              <a:ext cx="288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449600" y="1628640"/>
              <a:ext cx="180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449600" y="162864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52840" y="162864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456080" y="162864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456080" y="162864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59320" y="1628640"/>
              <a:ext cx="14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59320" y="162864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462560" y="162864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465800" y="1628640"/>
              <a:ext cx="288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468680" y="1628640"/>
              <a:ext cx="180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468680" y="162864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471920" y="1628640"/>
              <a:ext cx="324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75160" y="162864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478400" y="1628640"/>
              <a:ext cx="14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481640" y="1628640"/>
              <a:ext cx="288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484520" y="1628640"/>
              <a:ext cx="180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84520" y="162864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491000" y="1628640"/>
              <a:ext cx="180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491000" y="162864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494240" y="162864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97480" y="1628640"/>
              <a:ext cx="32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00720" y="162864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500720" y="1628640"/>
              <a:ext cx="288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503600" y="1628640"/>
              <a:ext cx="180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03600" y="162864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506840" y="162864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510080" y="1628640"/>
              <a:ext cx="14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510080" y="162864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513320" y="162864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13320" y="162864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305240" y="162864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32" y="0"/>
                  </a:moveTo>
                  <a:lnTo>
                    <a:pt x="0" y="38"/>
                  </a:lnTo>
                  <a:lnTo>
                    <a:pt x="32" y="79"/>
                  </a:lnTo>
                  <a:lnTo>
                    <a:pt x="101" y="79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05240" y="165564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308480" y="165564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308480" y="1655640"/>
              <a:ext cx="32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311720" y="1655640"/>
              <a:ext cx="14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11720" y="165564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314960" y="1655640"/>
              <a:ext cx="14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314960" y="1655640"/>
              <a:ext cx="288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317840" y="1655640"/>
              <a:ext cx="180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31784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321080" y="165564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243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2432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27560" y="1655640"/>
              <a:ext cx="32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30800" y="1655640"/>
              <a:ext cx="14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3308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334040" y="1655640"/>
              <a:ext cx="288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336920" y="1655640"/>
              <a:ext cx="180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3369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4016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340160" y="165564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343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46640" y="1655640"/>
              <a:ext cx="14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346640" y="165564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349880" y="1655640"/>
              <a:ext cx="288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35276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4356000" y="1655640"/>
              <a:ext cx="648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362480" y="165564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365720" y="165564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368960" y="1655640"/>
              <a:ext cx="288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371840" y="1655640"/>
              <a:ext cx="180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7184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37508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375080" y="165564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81560" y="1655640"/>
              <a:ext cx="32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384800" y="1655640"/>
              <a:ext cx="288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387680" y="1655640"/>
              <a:ext cx="50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392720" y="165564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392720" y="1655640"/>
              <a:ext cx="32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98840" y="1655640"/>
              <a:ext cx="180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398840" y="1655640"/>
              <a:ext cx="32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40208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08560" y="1655640"/>
              <a:ext cx="14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408560" y="165564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411800" y="165564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1800" y="165564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14680" y="1655640"/>
              <a:ext cx="180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414680" y="165564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417920" y="165564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179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2116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424400" y="165564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424400" y="165564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27640" y="1655640"/>
              <a:ext cx="14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27640" y="165564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430880" y="165564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430880" y="165564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433760" y="165564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33760" y="165564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43700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40240" y="165564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40240" y="1655640"/>
              <a:ext cx="648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446720" y="165564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46720" y="1655640"/>
              <a:ext cx="288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4960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4960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90520" y="1506600"/>
            <a:ext cx="4227480" cy="485640"/>
            <a:chOff x="290520" y="1506600"/>
            <a:chExt cx="4227480" cy="485640"/>
          </a:xfrm>
        </p:grpSpPr>
        <p:sp>
          <p:nvSpPr>
            <p:cNvPr id="3501" name=""/>
            <p:cNvSpPr/>
            <p:nvPr/>
          </p:nvSpPr>
          <p:spPr>
            <a:xfrm>
              <a:off x="4452840" y="165564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456080" y="1655640"/>
              <a:ext cx="32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45932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2560" y="1655640"/>
              <a:ext cx="14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65800" y="1655640"/>
              <a:ext cx="28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46868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7192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471920" y="165564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475160" y="1655640"/>
              <a:ext cx="14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475160" y="165564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78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81640" y="1655640"/>
              <a:ext cx="288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8452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4845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4910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494240" y="165564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497480" y="165564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9748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5007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500720" y="1655640"/>
              <a:ext cx="288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06840" y="165564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10080" y="1655640"/>
              <a:ext cx="14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10080" y="165564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13320" y="165564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13320" y="165564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16560" y="1655640"/>
              <a:ext cx="14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305240" y="1655640"/>
              <a:ext cx="21132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4680" y="175428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98840" y="1506600"/>
              <a:ext cx="180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90520" y="187020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376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7000" y="1870200"/>
              <a:ext cx="14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120" y="1870200"/>
              <a:ext cx="180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03120" y="1870200"/>
              <a:ext cx="32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0636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09600" y="187020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12840" y="187020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16080" y="1870200"/>
              <a:ext cx="14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6080" y="187020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18960" y="1870200"/>
              <a:ext cx="32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2200" y="1870200"/>
              <a:ext cx="180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222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25440" y="187020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2544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868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1920" y="1870200"/>
              <a:ext cx="14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192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4800" y="187020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8040" y="1870200"/>
              <a:ext cx="180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8040" y="187020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1280" y="1870200"/>
              <a:ext cx="180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41280" y="187020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44520" y="1870200"/>
              <a:ext cx="14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44520" y="187020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47760" y="187020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100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1000" y="1870200"/>
              <a:ext cx="288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388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7120" y="187020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7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0360" y="1870200"/>
              <a:ext cx="14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60360" y="1870200"/>
              <a:ext cx="468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6504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5040" y="187020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8280" y="187020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71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74760" y="1870200"/>
              <a:ext cx="32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78000" y="1870200"/>
              <a:ext cx="288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880" y="187020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84120" y="187020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360" y="187020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7360" y="187020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9060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93840" y="1870200"/>
              <a:ext cx="288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9672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9960" y="187020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996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03200" y="1870200"/>
              <a:ext cx="14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3200" y="187020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0644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09680" y="1870200"/>
              <a:ext cx="14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680" y="1870200"/>
              <a:ext cx="32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920" y="1870200"/>
              <a:ext cx="288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1580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19040" y="187020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19040" y="187020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228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22280" y="187020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25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8760" y="187020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28760" y="1870200"/>
              <a:ext cx="288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1640" y="187020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34880" y="187020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8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41360" y="187020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4136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44600" y="1870200"/>
              <a:ext cx="144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44600" y="1870200"/>
              <a:ext cx="32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4784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7840" y="1870200"/>
              <a:ext cx="288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50720" y="1870200"/>
              <a:ext cx="180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50720" y="1870200"/>
              <a:ext cx="32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53960" y="187020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57200" y="1870200"/>
              <a:ext cx="14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57200" y="1870200"/>
              <a:ext cx="32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60440" y="187020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60440" y="187020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63680" y="187020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6368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66560" y="1870200"/>
              <a:ext cx="180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69800" y="1870200"/>
              <a:ext cx="180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98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73040" y="187020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6280" y="187020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520" y="187020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85640" y="1870200"/>
              <a:ext cx="180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85640" y="187020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88880" y="1870200"/>
              <a:ext cx="180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888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92120" y="187020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92120" y="1870200"/>
              <a:ext cx="64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98600" y="187020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986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01480" y="1870200"/>
              <a:ext cx="180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0148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520" y="1870200"/>
              <a:ext cx="214200" cy="12204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34" y="0"/>
                  </a:moveTo>
                  <a:lnTo>
                    <a:pt x="0" y="39"/>
                  </a:lnTo>
                  <a:lnTo>
                    <a:pt x="34" y="77"/>
                  </a:lnTo>
                  <a:lnTo>
                    <a:pt x="101" y="77"/>
                  </a:lnTo>
                  <a:lnTo>
                    <a:pt x="135" y="39"/>
                  </a:lnTo>
                  <a:lnTo>
                    <a:pt x="10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0520" y="1898640"/>
              <a:ext cx="324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376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7000" y="1898640"/>
              <a:ext cx="144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70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03120" y="1898640"/>
              <a:ext cx="180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03120" y="1898640"/>
              <a:ext cx="3240" cy="6660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0636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36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9600" y="1898640"/>
              <a:ext cx="14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09600" y="1898640"/>
              <a:ext cx="324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2840" y="1898640"/>
              <a:ext cx="324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16080" y="1898640"/>
              <a:ext cx="14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16080" y="1898640"/>
              <a:ext cx="288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18960" y="1898640"/>
              <a:ext cx="32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22200" y="1898640"/>
              <a:ext cx="1800" cy="6660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222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5440" y="1898640"/>
              <a:ext cx="144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2544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28680" y="1898640"/>
              <a:ext cx="324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3192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3480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38040" y="1898640"/>
              <a:ext cx="32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1280" y="1898640"/>
              <a:ext cx="180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44520" y="1898640"/>
              <a:ext cx="324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7760" y="1898640"/>
              <a:ext cx="324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5100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51000" y="1898640"/>
              <a:ext cx="288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5388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57120" y="1898640"/>
              <a:ext cx="180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60360" y="1898640"/>
              <a:ext cx="468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650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68280" y="1898640"/>
              <a:ext cx="144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68280" y="1898640"/>
              <a:ext cx="324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520" y="1898640"/>
              <a:ext cx="14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1520" y="1898640"/>
              <a:ext cx="648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92240" y="1204560"/>
            <a:ext cx="5987880" cy="2316600"/>
            <a:chOff x="192240" y="1204560"/>
            <a:chExt cx="5987880" cy="2316600"/>
          </a:xfrm>
        </p:grpSpPr>
        <p:sp>
          <p:nvSpPr>
            <p:cNvPr id="3702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000" y="1898640"/>
              <a:ext cx="288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088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088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7360" y="1898640"/>
              <a:ext cx="14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87360" y="1898640"/>
              <a:ext cx="32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060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3840" y="1898640"/>
              <a:ext cx="288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672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672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9996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9996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3200" y="1898640"/>
              <a:ext cx="144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3200" y="1898640"/>
              <a:ext cx="32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64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644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9680" y="1898640"/>
              <a:ext cx="14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09680" y="1898640"/>
              <a:ext cx="32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2920" y="1898640"/>
              <a:ext cx="14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2920" y="1898640"/>
              <a:ext cx="288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580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904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9040" y="1898640"/>
              <a:ext cx="324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2228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22280" y="1898640"/>
              <a:ext cx="32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25520" y="1898640"/>
              <a:ext cx="144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28760" y="1898640"/>
              <a:ext cx="288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31640" y="1898640"/>
              <a:ext cx="180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316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880" y="1898640"/>
              <a:ext cx="180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3488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8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360" y="1898640"/>
              <a:ext cx="144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44600" y="1898640"/>
              <a:ext cx="324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4784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47840" y="1898640"/>
              <a:ext cx="288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50720" y="1898640"/>
              <a:ext cx="180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0720" y="1898640"/>
              <a:ext cx="648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57200" y="1898640"/>
              <a:ext cx="14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57200" y="1898640"/>
              <a:ext cx="324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60440" y="1898640"/>
              <a:ext cx="14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6044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6368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66560" y="1898640"/>
              <a:ext cx="180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656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9800" y="1898640"/>
              <a:ext cx="180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98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3040" y="1898640"/>
              <a:ext cx="3240" cy="6660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6280" y="1898640"/>
              <a:ext cx="14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6280" y="1898640"/>
              <a:ext cx="324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9520" y="1898640"/>
              <a:ext cx="32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5640" y="1898640"/>
              <a:ext cx="32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888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9212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2120" y="1898640"/>
              <a:ext cx="324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536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98600" y="1898640"/>
              <a:ext cx="14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986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01480" y="1898640"/>
              <a:ext cx="180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0148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04720" y="1898640"/>
              <a:ext cx="180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90520" y="1898640"/>
              <a:ext cx="214200" cy="6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99960" y="1992240"/>
              <a:ext cx="3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84120" y="1698480"/>
              <a:ext cx="32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81" name="" descr=""/>
            <p:cNvPicPr/>
            <p:nvPr/>
          </p:nvPicPr>
          <p:blipFill>
            <a:blip r:embed="rId13"/>
            <a:stretch/>
          </p:blipFill>
          <p:spPr>
            <a:xfrm>
              <a:off x="396720" y="1595520"/>
              <a:ext cx="51300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2" name=""/>
            <p:cNvSpPr/>
            <p:nvPr/>
          </p:nvSpPr>
          <p:spPr>
            <a:xfrm>
              <a:off x="4398840" y="1511280"/>
              <a:ext cx="37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4197240" y="1855800"/>
              <a:ext cx="230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4206960" y="1456920"/>
              <a:ext cx="144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97240" y="1411200"/>
              <a:ext cx="559080" cy="95400"/>
            </a:xfrm>
            <a:custGeom>
              <a:avLst/>
              <a:gdLst/>
              <a:ahLst/>
              <a:rect l="l" t="t" r="r" b="b"/>
              <a:pathLst>
                <a:path w="352" h="60">
                  <a:moveTo>
                    <a:pt x="0" y="25"/>
                  </a:moveTo>
                  <a:lnTo>
                    <a:pt x="331" y="25"/>
                  </a:lnTo>
                  <a:lnTo>
                    <a:pt x="331" y="35"/>
                  </a:lnTo>
                  <a:lnTo>
                    <a:pt x="0" y="35"/>
                  </a:lnTo>
                  <a:lnTo>
                    <a:pt x="0" y="25"/>
                  </a:lnTo>
                  <a:close/>
                  <a:moveTo>
                    <a:pt x="321" y="0"/>
                  </a:moveTo>
                  <a:lnTo>
                    <a:pt x="352" y="31"/>
                  </a:lnTo>
                  <a:lnTo>
                    <a:pt x="321" y="6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97240" y="1450800"/>
              <a:ext cx="525600" cy="16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707000" y="1411200"/>
              <a:ext cx="4932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0" y="0"/>
                  </a:moveTo>
                  <a:lnTo>
                    <a:pt x="31" y="31"/>
                  </a:lnTo>
                  <a:lnTo>
                    <a:pt x="0" y="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57560" y="2041560"/>
              <a:ext cx="633600" cy="108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9" y="41"/>
                  </a:moveTo>
                  <a:lnTo>
                    <a:pt x="24" y="41"/>
                  </a:lnTo>
                  <a:lnTo>
                    <a:pt x="24" y="27"/>
                  </a:lnTo>
                  <a:lnTo>
                    <a:pt x="399" y="27"/>
                  </a:lnTo>
                  <a:lnTo>
                    <a:pt x="399" y="41"/>
                  </a:lnTo>
                  <a:close/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95720" y="2084400"/>
              <a:ext cx="595440" cy="2232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57560" y="2041560"/>
              <a:ext cx="50760" cy="10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755800" y="1204560"/>
              <a:ext cx="211140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794120" y="1204920"/>
              <a:ext cx="12708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32" y="130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130"/>
                  </a:lnTo>
                  <a:lnTo>
                    <a:pt x="32" y="130"/>
                  </a:lnTo>
                  <a:close/>
                  <a:moveTo>
                    <a:pt x="80" y="124"/>
                  </a:moveTo>
                  <a:lnTo>
                    <a:pt x="40" y="151"/>
                  </a:lnTo>
                  <a:lnTo>
                    <a:pt x="0" y="124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844880" y="1204920"/>
              <a:ext cx="25560" cy="20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794120" y="140184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40" y="27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1193760" y="1585800"/>
              <a:ext cx="763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193760" y="166212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 flipV="1">
              <a:off x="119340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8560" y="157644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35"/>
                  </a:move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123920" y="1542960"/>
              <a:ext cx="1555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23920" y="1720800"/>
              <a:ext cx="127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39760" y="1563840"/>
              <a:ext cx="18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8560" y="1631880"/>
              <a:ext cx="144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123920" y="169848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2392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H="1">
              <a:off x="1133640" y="16984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36520" y="169848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113616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113940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39760" y="169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93760" y="1643040"/>
              <a:ext cx="18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2392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23920" y="1560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39760" y="1560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3976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36520" y="156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3652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33640" y="156060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51000" y="16779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47760" y="1674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47760" y="167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47760" y="1668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44520" y="166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41280" y="166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41280" y="166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35160" y="166536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231920" y="166536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231920" y="16621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286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3000" y="1563840"/>
              <a:ext cx="14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240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320840" y="1661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317600" y="1665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314360" y="16653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1311120" y="1665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311120" y="16653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1308240" y="16686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1305000" y="16686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1305000" y="1671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305000" y="1674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305000" y="1677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87440" y="163188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51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51000" y="17575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05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276200" y="17575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305000" y="1720800"/>
              <a:ext cx="1270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8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43208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419120" y="1698480"/>
              <a:ext cx="1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1413000" y="1695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1413000" y="16984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413000" y="169848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415880" y="16984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 flipV="1">
              <a:off x="1415520" y="1698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70080" y="158580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39920" y="15764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85920" y="1585800"/>
              <a:ext cx="730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1327320" y="16621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9000" y="1643040"/>
              <a:ext cx="144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1275840" y="1542960"/>
              <a:ext cx="155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1275840" y="158580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133992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43208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1419120" y="156060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41588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41588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413000" y="15606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1413000" y="156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176040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836280" y="1539360"/>
              <a:ext cx="4302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85800" y="153360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7" y="6"/>
                  </a:moveTo>
                  <a:lnTo>
                    <a:pt x="31" y="56"/>
                  </a:lnTo>
                  <a:lnTo>
                    <a:pt x="24" y="50"/>
                  </a:lnTo>
                  <a:lnTo>
                    <a:pt x="89" y="0"/>
                  </a:lnTo>
                  <a:lnTo>
                    <a:pt x="97" y="6"/>
                  </a:lnTo>
                  <a:close/>
                  <a:moveTo>
                    <a:pt x="47" y="62"/>
                  </a:moveTo>
                  <a:lnTo>
                    <a:pt x="0" y="73"/>
                  </a:lnTo>
                  <a:lnTo>
                    <a:pt x="18" y="35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23960" y="153360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6"/>
                  </a:moveTo>
                  <a:lnTo>
                    <a:pt x="7" y="56"/>
                  </a:lnTo>
                  <a:lnTo>
                    <a:pt x="0" y="50"/>
                  </a:lnTo>
                  <a:lnTo>
                    <a:pt x="65" y="0"/>
                  </a:lnTo>
                  <a:lnTo>
                    <a:pt x="73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85800" y="158904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7" y="27"/>
                  </a:moveTo>
                  <a:lnTo>
                    <a:pt x="0" y="38"/>
                  </a:lnTo>
                  <a:lnTo>
                    <a:pt x="18" y="0"/>
                  </a:lnTo>
                  <a:lnTo>
                    <a:pt x="47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92240" y="2093760"/>
              <a:ext cx="210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92240" y="1622160"/>
              <a:ext cx="288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2240" y="1600200"/>
              <a:ext cx="395280" cy="58680"/>
            </a:xfrm>
            <a:custGeom>
              <a:avLst/>
              <a:gdLst/>
              <a:ahLst/>
              <a:rect l="l" t="t" r="r" b="b"/>
              <a:pathLst>
                <a:path w="249" h="37">
                  <a:moveTo>
                    <a:pt x="0" y="14"/>
                  </a:moveTo>
                  <a:lnTo>
                    <a:pt x="227" y="14"/>
                  </a:lnTo>
                  <a:lnTo>
                    <a:pt x="227" y="24"/>
                  </a:lnTo>
                  <a:lnTo>
                    <a:pt x="0" y="24"/>
                  </a:lnTo>
                  <a:lnTo>
                    <a:pt x="0" y="14"/>
                  </a:lnTo>
                  <a:close/>
                  <a:moveTo>
                    <a:pt x="219" y="0"/>
                  </a:moveTo>
                  <a:lnTo>
                    <a:pt x="249" y="20"/>
                  </a:lnTo>
                  <a:lnTo>
                    <a:pt x="219" y="3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92240" y="1622520"/>
              <a:ext cx="36036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39640" y="1600200"/>
              <a:ext cx="4788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0"/>
                  </a:moveTo>
                  <a:lnTo>
                    <a:pt x="30" y="20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84120" y="170496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09120" y="1778040"/>
              <a:ext cx="19080" cy="172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93640" y="346716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13"/>
                  </a:moveTo>
                  <a:lnTo>
                    <a:pt x="66" y="13"/>
                  </a:lnTo>
                  <a:lnTo>
                    <a:pt x="66" y="21"/>
                  </a:lnTo>
                  <a:lnTo>
                    <a:pt x="0" y="21"/>
                  </a:lnTo>
                  <a:lnTo>
                    <a:pt x="0" y="13"/>
                  </a:lnTo>
                  <a:close/>
                  <a:moveTo>
                    <a:pt x="58" y="0"/>
                  </a:moveTo>
                  <a:lnTo>
                    <a:pt x="87" y="17"/>
                  </a:lnTo>
                  <a:lnTo>
                    <a:pt x="58" y="3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93640" y="3487680"/>
              <a:ext cx="104760" cy="126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85800" y="34671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0"/>
                  </a:moveTo>
                  <a:lnTo>
                    <a:pt x="29" y="17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41280" y="1362240"/>
              <a:ext cx="69840" cy="1587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16" y="81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81"/>
                  </a:lnTo>
                  <a:lnTo>
                    <a:pt x="16" y="81"/>
                  </a:lnTo>
                  <a:close/>
                  <a:moveTo>
                    <a:pt x="44" y="75"/>
                  </a:moveTo>
                  <a:lnTo>
                    <a:pt x="22" y="100"/>
                  </a:lnTo>
                  <a:lnTo>
                    <a:pt x="0" y="75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66840" y="1362240"/>
              <a:ext cx="15840" cy="12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41280" y="148104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0"/>
                  </a:moveTo>
                  <a:lnTo>
                    <a:pt x="22" y="25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76200" y="1371600"/>
              <a:ext cx="47808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847880" y="1692360"/>
              <a:ext cx="8254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35440" y="170820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 PIL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79760" y="1652760"/>
              <a:ext cx="724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ANCADO 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034320" y="1652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066000" y="165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91160" y="1582560"/>
              <a:ext cx="3240" cy="5112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800600" y="1622520"/>
              <a:ext cx="114480" cy="995400"/>
            </a:xfrm>
            <a:custGeom>
              <a:avLst/>
              <a:gdLst/>
              <a:ahLst/>
              <a:rect l="l" t="t" r="r" b="b"/>
              <a:pathLst>
                <a:path w="72" h="627">
                  <a:moveTo>
                    <a:pt x="42" y="0"/>
                  </a:moveTo>
                  <a:lnTo>
                    <a:pt x="42" y="610"/>
                  </a:lnTo>
                  <a:lnTo>
                    <a:pt x="30" y="610"/>
                  </a:lnTo>
                  <a:lnTo>
                    <a:pt x="30" y="0"/>
                  </a:lnTo>
                  <a:lnTo>
                    <a:pt x="42" y="0"/>
                  </a:lnTo>
                  <a:close/>
                  <a:moveTo>
                    <a:pt x="72" y="602"/>
                  </a:moveTo>
                  <a:lnTo>
                    <a:pt x="36" y="627"/>
                  </a:lnTo>
                  <a:lnTo>
                    <a:pt x="0" y="602"/>
                  </a:lnTo>
                  <a:lnTo>
                    <a:pt x="72" y="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848120" y="1622520"/>
              <a:ext cx="19080" cy="968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800600" y="2577960"/>
              <a:ext cx="11448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36" y="25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411120" y="1157400"/>
            <a:ext cx="8524800" cy="4915800"/>
            <a:chOff x="411120" y="1157400"/>
            <a:chExt cx="8524800" cy="4915800"/>
          </a:xfrm>
        </p:grpSpPr>
        <p:sp>
          <p:nvSpPr>
            <p:cNvPr id="3903" name=""/>
            <p:cNvSpPr/>
            <p:nvPr/>
          </p:nvSpPr>
          <p:spPr>
            <a:xfrm>
              <a:off x="411120" y="130968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0440" y="1309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71840" y="130968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M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732760" y="11714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06400" y="39718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58760" y="397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8000" y="397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716120" y="59356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64880" y="5935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07720" y="593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11520" y="38131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11120" y="3813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053960" y="381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63060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03020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07448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15788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55784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0032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08080" y="3068640"/>
              <a:ext cx="79200" cy="392040"/>
            </a:xfrm>
            <a:custGeom>
              <a:avLst/>
              <a:gdLst/>
              <a:ahLst/>
              <a:rect l="l" t="t" r="r" b="b"/>
              <a:pathLst>
                <a:path w="50" h="247">
                  <a:moveTo>
                    <a:pt x="32" y="0"/>
                  </a:moveTo>
                  <a:lnTo>
                    <a:pt x="32" y="214"/>
                  </a:lnTo>
                  <a:lnTo>
                    <a:pt x="16" y="21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206"/>
                  </a:moveTo>
                  <a:lnTo>
                    <a:pt x="24" y="247"/>
                  </a:lnTo>
                  <a:lnTo>
                    <a:pt x="0" y="206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133640" y="3068640"/>
              <a:ext cx="25200" cy="33984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108080" y="339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425760"/>
              <a:ext cx="79200" cy="4604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34" y="0"/>
                  </a:moveTo>
                  <a:lnTo>
                    <a:pt x="34" y="257"/>
                  </a:lnTo>
                  <a:lnTo>
                    <a:pt x="16" y="257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247"/>
                  </a:moveTo>
                  <a:lnTo>
                    <a:pt x="26" y="290"/>
                  </a:lnTo>
                  <a:lnTo>
                    <a:pt x="0" y="247"/>
                  </a:lnTo>
                  <a:lnTo>
                    <a:pt x="50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20880" y="3425760"/>
              <a:ext cx="28800" cy="4078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695680" y="381780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0"/>
                  </a:moveTo>
                  <a:lnTo>
                    <a:pt x="26" y="43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5043600"/>
              <a:ext cx="79200" cy="288720"/>
            </a:xfrm>
            <a:custGeom>
              <a:avLst/>
              <a:gdLst/>
              <a:ahLst/>
              <a:rect l="l" t="t" r="r" b="b"/>
              <a:pathLst>
                <a:path w="50" h="182">
                  <a:moveTo>
                    <a:pt x="34" y="0"/>
                  </a:moveTo>
                  <a:lnTo>
                    <a:pt x="34" y="149"/>
                  </a:lnTo>
                  <a:lnTo>
                    <a:pt x="16" y="149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41"/>
                  </a:moveTo>
                  <a:lnTo>
                    <a:pt x="26" y="182"/>
                  </a:lnTo>
                  <a:lnTo>
                    <a:pt x="0" y="141"/>
                  </a:lnTo>
                  <a:lnTo>
                    <a:pt x="50" y="1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5680" y="5043600"/>
              <a:ext cx="28800" cy="2365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52671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2560" y="562932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7"/>
                  </a:lnTo>
                  <a:lnTo>
                    <a:pt x="16" y="14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39"/>
                  </a:moveTo>
                  <a:lnTo>
                    <a:pt x="24" y="181"/>
                  </a:lnTo>
                  <a:lnTo>
                    <a:pt x="0" y="139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778120" y="5629320"/>
              <a:ext cx="25560" cy="233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752560" y="58500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44000" y="5730840"/>
              <a:ext cx="7920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8"/>
                  </a:lnTo>
                  <a:lnTo>
                    <a:pt x="16" y="148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0"/>
                  </a:moveTo>
                  <a:lnTo>
                    <a:pt x="24" y="181"/>
                  </a:lnTo>
                  <a:lnTo>
                    <a:pt x="0" y="140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269200" y="5730840"/>
              <a:ext cx="25560" cy="2350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44000" y="59529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611600" y="5375160"/>
              <a:ext cx="173160" cy="637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09" y="27"/>
                  </a:moveTo>
                  <a:lnTo>
                    <a:pt x="38" y="27"/>
                  </a:lnTo>
                  <a:lnTo>
                    <a:pt x="38" y="13"/>
                  </a:lnTo>
                  <a:lnTo>
                    <a:pt x="109" y="13"/>
                  </a:lnTo>
                  <a:lnTo>
                    <a:pt x="109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672080" y="5396040"/>
              <a:ext cx="112680" cy="219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611600" y="5375160"/>
              <a:ext cx="7632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500720" y="3514680"/>
              <a:ext cx="293400" cy="684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9"/>
                  </a:moveTo>
                  <a:lnTo>
                    <a:pt x="40" y="29"/>
                  </a:lnTo>
                  <a:lnTo>
                    <a:pt x="40" y="14"/>
                  </a:lnTo>
                  <a:lnTo>
                    <a:pt x="185" y="14"/>
                  </a:lnTo>
                  <a:lnTo>
                    <a:pt x="185" y="29"/>
                  </a:lnTo>
                  <a:close/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564080" y="3537000"/>
              <a:ext cx="230040" cy="237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500720" y="35146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014880" y="5457960"/>
              <a:ext cx="541440" cy="63360"/>
            </a:xfrm>
            <a:custGeom>
              <a:avLst/>
              <a:gdLst/>
              <a:ahLst/>
              <a:rect l="l" t="t" r="r" b="b"/>
              <a:pathLst>
                <a:path w="341" h="40">
                  <a:moveTo>
                    <a:pt x="0" y="13"/>
                  </a:moveTo>
                  <a:lnTo>
                    <a:pt x="299" y="13"/>
                  </a:lnTo>
                  <a:lnTo>
                    <a:pt x="299" y="27"/>
                  </a:lnTo>
                  <a:lnTo>
                    <a:pt x="0" y="27"/>
                  </a:lnTo>
                  <a:lnTo>
                    <a:pt x="0" y="13"/>
                  </a:lnTo>
                  <a:close/>
                  <a:moveTo>
                    <a:pt x="291" y="0"/>
                  </a:moveTo>
                  <a:lnTo>
                    <a:pt x="341" y="21"/>
                  </a:lnTo>
                  <a:lnTo>
                    <a:pt x="291" y="4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014880" y="5478480"/>
              <a:ext cx="474840" cy="223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477120" y="54579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0"/>
                  </a:moveTo>
                  <a:lnTo>
                    <a:pt x="50" y="21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68560" y="2940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001880" y="49276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749680" y="33037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26240" y="5442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7120" y="2179800"/>
              <a:ext cx="74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599120" y="46306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115000" y="4630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14632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599120" y="252900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15000" y="2529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146320" y="25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604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911240" y="1855800"/>
              <a:ext cx="1584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8604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47176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28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496960" y="1855800"/>
              <a:ext cx="1908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47176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41680" y="539604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040040" y="5396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068480" y="539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05200" y="353376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305360" y="35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333440" y="3533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42400" y="3425760"/>
              <a:ext cx="214200" cy="842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18"/>
                  </a:moveTo>
                  <a:lnTo>
                    <a:pt x="81" y="18"/>
                  </a:lnTo>
                  <a:lnTo>
                    <a:pt x="81" y="35"/>
                  </a:lnTo>
                  <a:lnTo>
                    <a:pt x="0" y="35"/>
                  </a:lnTo>
                  <a:lnTo>
                    <a:pt x="0" y="18"/>
                  </a:lnTo>
                  <a:close/>
                  <a:moveTo>
                    <a:pt x="69" y="0"/>
                  </a:moveTo>
                  <a:lnTo>
                    <a:pt x="135" y="28"/>
                  </a:lnTo>
                  <a:lnTo>
                    <a:pt x="69" y="5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042400" y="3454560"/>
              <a:ext cx="12852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151840" y="34257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66" y="28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82600" y="3411360"/>
              <a:ext cx="47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SAJ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4104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1598760" y="4983120"/>
            <a:ext cx="6402240" cy="811080"/>
            <a:chOff x="1598760" y="4983120"/>
            <a:chExt cx="6402240" cy="811080"/>
          </a:xfrm>
        </p:grpSpPr>
        <p:sp>
          <p:nvSpPr>
            <p:cNvPr id="43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4" name="" descr=""/>
            <p:cNvPicPr/>
            <p:nvPr/>
          </p:nvPicPr>
          <p:blipFill>
            <a:blip r:embed="rId14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7" name="" descr=""/>
            <p:cNvPicPr/>
            <p:nvPr/>
          </p:nvPicPr>
          <p:blipFill>
            <a:blip r:embed="rId15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4506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507" name="" descr=""/>
            <p:cNvPicPr/>
            <p:nvPr/>
          </p:nvPicPr>
          <p:blipFill>
            <a:blip r:embed="rId16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8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0" name="" descr=""/>
            <p:cNvPicPr/>
            <p:nvPr/>
          </p:nvPicPr>
          <p:blipFill>
            <a:blip r:embed="rId17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1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3" name="" descr=""/>
            <p:cNvPicPr/>
            <p:nvPr/>
          </p:nvPicPr>
          <p:blipFill>
            <a:blip r:embed="rId18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4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1359000" y="3056040"/>
            <a:ext cx="6852960" cy="2652480"/>
            <a:chOff x="1359000" y="3056040"/>
            <a:chExt cx="6852960" cy="2652480"/>
          </a:xfrm>
        </p:grpSpPr>
        <p:sp>
          <p:nvSpPr>
            <p:cNvPr id="4707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713" name="" descr=""/>
            <p:cNvPicPr/>
            <p:nvPr/>
          </p:nvPicPr>
          <p:blipFill>
            <a:blip r:embed="rId19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4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1687680" y="1052640"/>
            <a:ext cx="695160" cy="2811240"/>
            <a:chOff x="1687680" y="1052640"/>
            <a:chExt cx="695160" cy="2811240"/>
          </a:xfrm>
        </p:grpSpPr>
        <p:sp>
          <p:nvSpPr>
            <p:cNvPr id="4908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1687680" y="1052640"/>
            <a:ext cx="750600" cy="2811240"/>
            <a:chOff x="1687680" y="1052640"/>
            <a:chExt cx="750600" cy="2811240"/>
          </a:xfrm>
        </p:grpSpPr>
        <p:sp>
          <p:nvSpPr>
            <p:cNvPr id="5109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2095560" y="1128240"/>
            <a:ext cx="379440" cy="259200"/>
            <a:chOff x="2095560" y="1128240"/>
            <a:chExt cx="379440" cy="259200"/>
          </a:xfrm>
        </p:grpSpPr>
        <p:sp>
          <p:nvSpPr>
            <p:cNvPr id="5310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2356920" y="1162080"/>
            <a:ext cx="118080" cy="225360"/>
            <a:chOff x="2356920" y="1162080"/>
            <a:chExt cx="118080" cy="225360"/>
          </a:xfrm>
        </p:grpSpPr>
        <p:sp>
          <p:nvSpPr>
            <p:cNvPr id="5511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712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912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9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2076480" y="1165320"/>
            <a:ext cx="244440" cy="171360"/>
            <a:chOff x="2076480" y="1165320"/>
            <a:chExt cx="244440" cy="171360"/>
          </a:xfrm>
        </p:grpSpPr>
        <p:sp>
          <p:nvSpPr>
            <p:cNvPr id="6114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3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1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5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3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7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1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314" name=""/>
          <p:cNvGrpSpPr/>
          <p:nvPr/>
        </p:nvGrpSpPr>
        <p:grpSpPr>
          <a:xfrm>
            <a:off x="2037960" y="1161720"/>
            <a:ext cx="282960" cy="228960"/>
            <a:chOff x="2037960" y="1161720"/>
            <a:chExt cx="282960" cy="228960"/>
          </a:xfrm>
        </p:grpSpPr>
        <p:sp>
          <p:nvSpPr>
            <p:cNvPr id="6315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7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3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3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1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5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1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1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5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6516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4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6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4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8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0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2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4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6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8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0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6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8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6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2038320" y="1098360"/>
            <a:ext cx="252360" cy="292320"/>
            <a:chOff x="2038320" y="1098360"/>
            <a:chExt cx="252360" cy="292320"/>
          </a:xfrm>
        </p:grpSpPr>
        <p:sp>
          <p:nvSpPr>
            <p:cNvPr id="671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1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5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5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2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691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118" name=""/>
          <p:cNvGrpSpPr/>
          <p:nvPr/>
        </p:nvGrpSpPr>
        <p:grpSpPr>
          <a:xfrm>
            <a:off x="1522440" y="1098720"/>
            <a:ext cx="2792520" cy="2619360"/>
            <a:chOff x="1522440" y="1098720"/>
            <a:chExt cx="2792520" cy="2619360"/>
          </a:xfrm>
        </p:grpSpPr>
        <p:sp>
          <p:nvSpPr>
            <p:cNvPr id="7119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4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6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8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0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2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2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2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6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0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2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4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11" name="" descr=""/>
            <p:cNvPicPr/>
            <p:nvPr/>
          </p:nvPicPr>
          <p:blipFill>
            <a:blip r:embed="rId20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14240" y="1104480"/>
            <a:ext cx="8202600" cy="5324760"/>
            <a:chOff x="714240" y="1104480"/>
            <a:chExt cx="8202600" cy="5324760"/>
          </a:xfrm>
        </p:grpSpPr>
        <p:sp>
          <p:nvSpPr>
            <p:cNvPr id="7320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4" name="" descr=""/>
            <p:cNvPicPr/>
            <p:nvPr/>
          </p:nvPicPr>
          <p:blipFill>
            <a:blip r:embed="rId21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7" name="" descr=""/>
            <p:cNvPicPr/>
            <p:nvPr/>
          </p:nvPicPr>
          <p:blipFill>
            <a:blip r:embed="rId22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4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3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3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7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1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714240" y="1184400"/>
            <a:ext cx="8202600" cy="5244840"/>
            <a:chOff x="714240" y="1184400"/>
            <a:chExt cx="8202600" cy="5244840"/>
          </a:xfrm>
        </p:grpSpPr>
        <p:sp>
          <p:nvSpPr>
            <p:cNvPr id="7521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37" name="" descr=""/>
            <p:cNvPicPr/>
            <p:nvPr/>
          </p:nvPicPr>
          <p:blipFill>
            <a:blip r:embed="rId23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8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49" name="" descr=""/>
            <p:cNvPicPr/>
            <p:nvPr/>
          </p:nvPicPr>
          <p:blipFill>
            <a:blip r:embed="rId24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0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52" name="" descr=""/>
            <p:cNvPicPr/>
            <p:nvPr/>
          </p:nvPicPr>
          <p:blipFill>
            <a:blip r:embed="rId2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7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9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3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4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8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9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0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9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689" name="" descr=""/>
            <p:cNvPicPr/>
            <p:nvPr/>
          </p:nvPicPr>
          <p:blipFill>
            <a:blip r:embed="rId26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0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721" name=""/>
          <p:cNvGrpSpPr/>
          <p:nvPr/>
        </p:nvGrpSpPr>
        <p:grpSpPr>
          <a:xfrm>
            <a:off x="723960" y="2057400"/>
            <a:ext cx="6615000" cy="3605040"/>
            <a:chOff x="723960" y="2057400"/>
            <a:chExt cx="6615000" cy="3605040"/>
          </a:xfrm>
        </p:grpSpPr>
        <p:sp>
          <p:nvSpPr>
            <p:cNvPr id="7722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898" name="" descr=""/>
            <p:cNvPicPr/>
            <p:nvPr/>
          </p:nvPicPr>
          <p:blipFill>
            <a:blip r:embed="rId2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9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3782880" y="2413080"/>
            <a:ext cx="222480" cy="122040"/>
            <a:chOff x="3782880" y="2413080"/>
            <a:chExt cx="222480" cy="122040"/>
          </a:xfrm>
        </p:grpSpPr>
        <p:sp>
          <p:nvSpPr>
            <p:cNvPr id="792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123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124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324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3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525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526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727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927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8928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128" name=""/>
          <p:cNvGrpSpPr/>
          <p:nvPr/>
        </p:nvGrpSpPr>
        <p:grpSpPr>
          <a:xfrm>
            <a:off x="3498840" y="2287440"/>
            <a:ext cx="1206360" cy="919440"/>
            <a:chOff x="3498840" y="2287440"/>
            <a:chExt cx="1206360" cy="919440"/>
          </a:xfrm>
        </p:grpSpPr>
        <p:sp>
          <p:nvSpPr>
            <p:cNvPr id="9129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329" name=""/>
          <p:cNvGrpSpPr/>
          <p:nvPr/>
        </p:nvGrpSpPr>
        <p:grpSpPr>
          <a:xfrm>
            <a:off x="4437000" y="2768760"/>
            <a:ext cx="311040" cy="2165040"/>
            <a:chOff x="4437000" y="2768760"/>
            <a:chExt cx="311040" cy="2165040"/>
          </a:xfrm>
        </p:grpSpPr>
        <p:sp>
          <p:nvSpPr>
            <p:cNvPr id="9330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4437000" y="2841480"/>
            <a:ext cx="311040" cy="2092320"/>
            <a:chOff x="4437000" y="2841480"/>
            <a:chExt cx="311040" cy="2092320"/>
          </a:xfrm>
        </p:grpSpPr>
        <p:sp>
          <p:nvSpPr>
            <p:cNvPr id="9531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456080" y="4446720"/>
            <a:ext cx="1785960" cy="487080"/>
            <a:chOff x="4456080" y="4446720"/>
            <a:chExt cx="1785960" cy="487080"/>
          </a:xfrm>
        </p:grpSpPr>
        <p:sp>
          <p:nvSpPr>
            <p:cNvPr id="9732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932" name=""/>
          <p:cNvGrpSpPr/>
          <p:nvPr/>
        </p:nvGrpSpPr>
        <p:grpSpPr>
          <a:xfrm>
            <a:off x="4456080" y="4446720"/>
            <a:ext cx="1785960" cy="496800"/>
            <a:chOff x="4456080" y="4446720"/>
            <a:chExt cx="1785960" cy="496800"/>
          </a:xfrm>
        </p:grpSpPr>
        <p:sp>
          <p:nvSpPr>
            <p:cNvPr id="993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sp>
        <p:nvSpPr>
          <p:cNvPr id="10133" name=""/>
          <p:cNvSpPr/>
          <p:nvPr/>
        </p:nvSpPr>
        <p:spPr>
          <a:xfrm>
            <a:off x="5270400" y="3327480"/>
            <a:ext cx="486000" cy="79200"/>
          </a:xfrm>
          <a:custGeom>
            <a:avLst/>
            <a:gdLst/>
            <a:ahLst/>
            <a:rect l="l" t="t" r="r" b="b"/>
            <a:pathLst>
              <a:path w="306" h="50">
                <a:moveTo>
                  <a:pt x="0" y="0"/>
                </a:moveTo>
                <a:lnTo>
                  <a:pt x="304" y="50"/>
                </a:lnTo>
                <a:lnTo>
                  <a:pt x="306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4" name="" descr=""/>
          <p:cNvPicPr/>
          <p:nvPr/>
        </p:nvPicPr>
        <p:blipFill>
          <a:blip r:embed="rId28"/>
          <a:stretch/>
        </p:blipFill>
        <p:spPr>
          <a:xfrm>
            <a:off x="4572000" y="1341360"/>
            <a:ext cx="552600" cy="343080"/>
          </a:xfrm>
          <a:prstGeom prst="rect">
            <a:avLst/>
          </a:prstGeom>
          <a:ln w="0">
            <a:noFill/>
          </a:ln>
        </p:spPr>
      </p:pic>
      <p:pic>
        <p:nvPicPr>
          <p:cNvPr id="10135" name="" descr=""/>
          <p:cNvPicPr/>
          <p:nvPr/>
        </p:nvPicPr>
        <p:blipFill>
          <a:blip r:embed="rId29"/>
          <a:stretch/>
        </p:blipFill>
        <p:spPr>
          <a:xfrm>
            <a:off x="324000" y="1628640"/>
            <a:ext cx="5522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6" name=""/>
          <p:cNvSpPr/>
          <p:nvPr/>
        </p:nvSpPr>
        <p:spPr>
          <a:xfrm>
            <a:off x="4643280" y="18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37" name=""/>
          <p:cNvSpPr/>
          <p:nvPr/>
        </p:nvSpPr>
        <p:spPr>
          <a:xfrm>
            <a:off x="442764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CHANCADO DE PEBBLE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>
            <a:off x="3841920" y="3938760"/>
            <a:ext cx="1017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orno Rajo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0" name=""/>
          <p:cNvSpPr/>
          <p:nvPr/>
        </p:nvSpPr>
        <p:spPr>
          <a:xfrm>
            <a:off x="1463760" y="389268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cceso            Mina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4910040" y="3497040"/>
            <a:ext cx="0" cy="32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2" name=""/>
          <p:cNvSpPr/>
          <p:nvPr/>
        </p:nvSpPr>
        <p:spPr>
          <a:xfrm>
            <a:off x="4570560" y="3319560"/>
            <a:ext cx="6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3" name=""/>
          <p:cNvSpPr/>
          <p:nvPr/>
        </p:nvSpPr>
        <p:spPr>
          <a:xfrm>
            <a:off x="2335320" y="3409920"/>
            <a:ext cx="61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ta              3700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4" name=""/>
          <p:cNvSpPr/>
          <p:nvPr/>
        </p:nvSpPr>
        <p:spPr>
          <a:xfrm>
            <a:off x="2730600" y="4670280"/>
            <a:ext cx="452160" cy="82800"/>
          </a:xfrm>
          <a:custGeom>
            <a:avLst/>
            <a:gdLst/>
            <a:ahLst/>
            <a:rect l="l" t="t" r="r" b="b"/>
            <a:pathLst>
              <a:path w="423" h="86">
                <a:moveTo>
                  <a:pt x="0" y="57"/>
                </a:moveTo>
                <a:cubicBezTo>
                  <a:pt x="13" y="62"/>
                  <a:pt x="45" y="82"/>
                  <a:pt x="81" y="84"/>
                </a:cubicBezTo>
                <a:cubicBezTo>
                  <a:pt x="117" y="86"/>
                  <a:pt x="178" y="77"/>
                  <a:pt x="216" y="66"/>
                </a:cubicBezTo>
                <a:cubicBezTo>
                  <a:pt x="254" y="55"/>
                  <a:pt x="275" y="29"/>
                  <a:pt x="309" y="18"/>
                </a:cubicBezTo>
                <a:cubicBezTo>
                  <a:pt x="343" y="7"/>
                  <a:pt x="399" y="4"/>
                  <a:pt x="423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5" name=""/>
          <p:cNvSpPr/>
          <p:nvPr/>
        </p:nvSpPr>
        <p:spPr>
          <a:xfrm>
            <a:off x="2533680" y="4740120"/>
            <a:ext cx="385560" cy="87480"/>
          </a:xfrm>
          <a:custGeom>
            <a:avLst/>
            <a:gdLst/>
            <a:ahLst/>
            <a:rect l="l" t="t" r="r" b="b"/>
            <a:pathLst>
              <a:path w="360" h="90">
                <a:moveTo>
                  <a:pt x="0" y="72"/>
                </a:moveTo>
                <a:cubicBezTo>
                  <a:pt x="27" y="73"/>
                  <a:pt x="108" y="90"/>
                  <a:pt x="168" y="78"/>
                </a:cubicBezTo>
                <a:cubicBezTo>
                  <a:pt x="228" y="66"/>
                  <a:pt x="320" y="16"/>
                  <a:pt x="360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6" name=""/>
          <p:cNvSpPr/>
          <p:nvPr/>
        </p:nvSpPr>
        <p:spPr>
          <a:xfrm>
            <a:off x="5435640" y="26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7" name=""/>
          <p:cNvSpPr/>
          <p:nvPr/>
        </p:nvSpPr>
        <p:spPr>
          <a:xfrm>
            <a:off x="3348000" y="33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PLANTAS DE PRECHANCADO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10148" name=""/>
          <p:cNvGrpSpPr/>
          <p:nvPr/>
        </p:nvGrpSpPr>
        <p:grpSpPr>
          <a:xfrm>
            <a:off x="250920" y="1312920"/>
            <a:ext cx="8008920" cy="4860720"/>
            <a:chOff x="250920" y="1312920"/>
            <a:chExt cx="8008920" cy="4860720"/>
          </a:xfrm>
        </p:grpSpPr>
        <p:grpSp>
          <p:nvGrpSpPr>
            <p:cNvPr id="10149" name=""/>
            <p:cNvGrpSpPr/>
            <p:nvPr/>
          </p:nvGrpSpPr>
          <p:grpSpPr>
            <a:xfrm>
              <a:off x="3498840" y="2259000"/>
              <a:ext cx="728640" cy="600120"/>
              <a:chOff x="3498840" y="2259000"/>
              <a:chExt cx="728640" cy="600120"/>
            </a:xfrm>
          </p:grpSpPr>
          <p:sp>
            <p:nvSpPr>
              <p:cNvPr id="10150" name=""/>
              <p:cNvSpPr/>
              <p:nvPr/>
            </p:nvSpPr>
            <p:spPr>
              <a:xfrm>
                <a:off x="3498840" y="228132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3503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3510000" y="22813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516480" y="228132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524400" y="228132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525840" y="228132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3530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3537000" y="227952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543480" y="227952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55140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554280" y="2279520"/>
                <a:ext cx="32040" cy="5781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3557520" y="227952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56724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3570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3575160" y="2278080"/>
                <a:ext cx="3816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3584520" y="227808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3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8" y="72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3584520" y="2278080"/>
                <a:ext cx="396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594240" y="22780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3597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602160" y="2278080"/>
                <a:ext cx="378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611520" y="227808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361332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362268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62592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362916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3638520" y="22780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3643200" y="22766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364968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3654360" y="227664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3656160" y="227664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366552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3670200" y="22766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36734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3681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36860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9252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697200" y="22748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700440" y="22748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3708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3713040" y="22748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720960" y="227484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3724200" y="227484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372888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3735360" y="227484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374184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3747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75120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75588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3762360" y="2273400"/>
                <a:ext cx="34920" cy="5760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376884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774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3780000" y="22716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3782880" y="227160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3790800" y="227160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79584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3800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380700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81168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381780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3822840" y="227160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827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383364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3838680" y="227160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3848040" y="227160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3849840" y="22701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3852720" y="227016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3860640" y="227016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3863880" y="227016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3873600" y="22701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3875040" y="227016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387972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3889440" y="226836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89088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900600" y="226836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390528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908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91644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39196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392256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39322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3935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3943440" y="226836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3948120" y="22683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39495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3959280" y="226692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3963960" y="22669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970440" y="22669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3976560" y="226692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83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987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3990960" y="22654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399744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03560" y="22654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06800" y="226548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014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01796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024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3056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03560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04172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04640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51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05756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062240" y="22636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6872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7340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8440" y="22636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086360" y="22636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89240" y="22622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22622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4100400" y="22622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4105440" y="226224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113360" y="22622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116240" y="226224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4125960" y="226044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127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133880" y="226044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140360" y="226044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4145040" y="226044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4148280" y="22604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154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160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416880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1720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4175280" y="2260440"/>
                <a:ext cx="3780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1846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187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4195800" y="22590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513240" y="2265480"/>
                <a:ext cx="696960" cy="585720"/>
              </a:xfrm>
              <a:custGeom>
                <a:avLst/>
                <a:gdLst/>
                <a:ahLst/>
                <a:rect l="l" t="t" r="r" b="b"/>
                <a:pathLst>
                  <a:path w="878" h="738">
                    <a:moveTo>
                      <a:pt x="199" y="14"/>
                    </a:moveTo>
                    <a:lnTo>
                      <a:pt x="0" y="380"/>
                    </a:lnTo>
                    <a:lnTo>
                      <a:pt x="236" y="738"/>
                    </a:lnTo>
                    <a:lnTo>
                      <a:pt x="680" y="725"/>
                    </a:lnTo>
                    <a:lnTo>
                      <a:pt x="878" y="353"/>
                    </a:lnTo>
                    <a:lnTo>
                      <a:pt x="642" y="0"/>
                    </a:lnTo>
                    <a:lnTo>
                      <a:pt x="199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351468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35179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35258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35305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353844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541680" y="2395440"/>
                <a:ext cx="468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3546360" y="2395440"/>
                <a:ext cx="648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3552840" y="2395440"/>
                <a:ext cx="468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355752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3562200" y="2395440"/>
                <a:ext cx="648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3568680" y="2395440"/>
                <a:ext cx="468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357336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358308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8452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358920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59892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360036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3610080" y="2395440"/>
                <a:ext cx="324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3613320" y="2395440"/>
                <a:ext cx="288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361620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362592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62916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363384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3643200" y="2395440"/>
                <a:ext cx="180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643200" y="2395440"/>
                <a:ext cx="1116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3654360" y="2395440"/>
                <a:ext cx="324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65760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66084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3670200" y="2395440"/>
                <a:ext cx="180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3672000" y="2395440"/>
                <a:ext cx="468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367668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368460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368784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3697200" y="2395440"/>
                <a:ext cx="468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3701880" y="2395440"/>
                <a:ext cx="180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70368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3713040" y="2395440"/>
                <a:ext cx="180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3714840" y="2395440"/>
                <a:ext cx="936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372420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372888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37321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374004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374508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374652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375588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37609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76704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772080" y="2395440"/>
                <a:ext cx="144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773520" y="2395440"/>
                <a:ext cx="936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378288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378936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7958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80052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3803760" y="2395440"/>
                <a:ext cx="79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381168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381636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3821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82752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383076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383868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384336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3848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385452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385920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3863880" y="2395440"/>
                <a:ext cx="64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87036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3875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388152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388620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389088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389880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1392120" y="1604880"/>
              <a:ext cx="4021200" cy="3165480"/>
              <a:chOff x="1392120" y="1604880"/>
              <a:chExt cx="4021200" cy="3165480"/>
            </a:xfrm>
          </p:grpSpPr>
          <p:sp>
            <p:nvSpPr>
              <p:cNvPr id="10351" name=""/>
              <p:cNvSpPr/>
              <p:nvPr/>
            </p:nvSpPr>
            <p:spPr>
              <a:xfrm>
                <a:off x="3902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390852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3913200" y="2395440"/>
                <a:ext cx="64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3919680" y="2395440"/>
                <a:ext cx="61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392580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39290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93372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394020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3946680" y="2395440"/>
                <a:ext cx="612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3952800" y="2395440"/>
                <a:ext cx="468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395748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39625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396864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397368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398304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398448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39895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399744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400068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4005360" y="2395440"/>
                <a:ext cx="612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4011480" y="2395440"/>
                <a:ext cx="504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401652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4025880" y="2395440"/>
                <a:ext cx="144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027320" y="2395440"/>
                <a:ext cx="504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403236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404172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404496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4052880" y="2395440"/>
                <a:ext cx="324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056120" y="2395440"/>
                <a:ext cx="324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936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06872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071960" y="2395440"/>
                <a:ext cx="468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076640" y="2395440"/>
                <a:ext cx="972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4086360" y="2395440"/>
                <a:ext cx="144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08636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09572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10040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410364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4113360" y="2395440"/>
                <a:ext cx="144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114800" y="2395440"/>
                <a:ext cx="468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11948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412920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13064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14036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14504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414648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156200" y="2395440"/>
                <a:ext cx="144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157640" y="2395440"/>
                <a:ext cx="972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16736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72040" y="2395440"/>
                <a:ext cx="144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73480" y="2395440"/>
                <a:ext cx="1116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184640" y="2395440"/>
                <a:ext cx="324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18788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1911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1990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2037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21164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514680" y="2395440"/>
                <a:ext cx="700200" cy="330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0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1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 flipH="1">
                <a:off x="1546200" y="2071800"/>
                <a:ext cx="5745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 flipH="1">
                <a:off x="1418760" y="4367160"/>
                <a:ext cx="574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1805040" y="451332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1805040" y="4514760"/>
                <a:ext cx="880920" cy="3240"/>
              </a:xfrm>
              <a:prstGeom prst="rect">
                <a:avLst/>
              </a:prstGeom>
              <a:solidFill>
                <a:srgbClr val="35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1805040" y="4518000"/>
                <a:ext cx="880920" cy="144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1805040" y="451944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1805040" y="452124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1805040" y="45226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805040" y="4524480"/>
                <a:ext cx="880920" cy="1440"/>
              </a:xfrm>
              <a:prstGeom prst="rect">
                <a:avLst/>
              </a:prstGeom>
              <a:solidFill>
                <a:srgbClr val="40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1805040" y="452592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1805040" y="452772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1805040" y="4529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1805040" y="4530600"/>
                <a:ext cx="880920" cy="180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1805040" y="4532400"/>
                <a:ext cx="880920" cy="1440"/>
              </a:xfrm>
              <a:prstGeom prst="rect">
                <a:avLst/>
              </a:pr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1805040" y="4533840"/>
                <a:ext cx="880920" cy="180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1805040" y="4535640"/>
                <a:ext cx="880920" cy="1440"/>
              </a:xfrm>
              <a:prstGeom prst="rect">
                <a:avLst/>
              </a:prstGeom>
              <a:solidFill>
                <a:srgbClr val="51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1805040" y="4537080"/>
                <a:ext cx="880920" cy="144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1805040" y="4538520"/>
                <a:ext cx="880920" cy="1800"/>
              </a:xfrm>
              <a:prstGeom prst="rect">
                <a:avLst/>
              </a:prstGeom>
              <a:solidFill>
                <a:srgbClr val="567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1805040" y="4540320"/>
                <a:ext cx="880920" cy="144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805040" y="4541760"/>
                <a:ext cx="880920" cy="1800"/>
              </a:xfrm>
              <a:prstGeom prst="rect">
                <a:avLst/>
              </a:prstGeom>
              <a:solidFill>
                <a:srgbClr val="5c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1805040" y="4543560"/>
                <a:ext cx="880920" cy="144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1805040" y="4545000"/>
                <a:ext cx="880920" cy="1440"/>
              </a:xfrm>
              <a:prstGeom prst="rect">
                <a:avLst/>
              </a:prstGeom>
              <a:solidFill>
                <a:srgbClr val="61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1805040" y="4546440"/>
                <a:ext cx="880920" cy="180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1805040" y="4548240"/>
                <a:ext cx="880920" cy="1440"/>
              </a:xfrm>
              <a:prstGeom prst="rect">
                <a:avLst/>
              </a:prstGeom>
              <a:solidFill>
                <a:srgbClr val="678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1805040" y="4549680"/>
                <a:ext cx="880920" cy="180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805040" y="455148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1805040" y="4554360"/>
                <a:ext cx="880920" cy="1800"/>
              </a:xfrm>
              <a:prstGeom prst="rect">
                <a:avLst/>
              </a:prstGeom>
              <a:solidFill>
                <a:srgbClr val="72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1805040" y="4556160"/>
                <a:ext cx="880920" cy="144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1805040" y="4557600"/>
                <a:ext cx="880920" cy="180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1805040" y="4560840"/>
                <a:ext cx="880920" cy="180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1805040" y="4564080"/>
                <a:ext cx="880920" cy="144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1805040" y="4567320"/>
                <a:ext cx="880920" cy="144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1805040" y="4570560"/>
                <a:ext cx="880920" cy="144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1805040" y="4573440"/>
                <a:ext cx="880920" cy="180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1805040" y="4576680"/>
                <a:ext cx="880920" cy="180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1805040" y="457992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1805040" y="4581360"/>
                <a:ext cx="880920" cy="180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1805040" y="4581360"/>
                <a:ext cx="880920" cy="3240"/>
              </a:xfrm>
              <a:prstGeom prst="rect">
                <a:avLst/>
              </a:prstGeom>
              <a:solidFill>
                <a:srgbClr val="a6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1805040" y="458460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1805040" y="4584600"/>
                <a:ext cx="880920" cy="3240"/>
              </a:xfrm>
              <a:prstGeom prst="rect">
                <a:avLst/>
              </a:prstGeom>
              <a:solidFill>
                <a:srgbClr val="a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1805040" y="45896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1805040" y="459108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1805040" y="4591080"/>
                <a:ext cx="880920" cy="3240"/>
              </a:xfrm>
              <a:prstGeom prst="rect">
                <a:avLst/>
              </a:prstGeom>
              <a:solidFill>
                <a:srgbClr val="b7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1805040" y="4595760"/>
                <a:ext cx="880920" cy="180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1805040" y="45975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1805040" y="4597560"/>
                <a:ext cx="880920" cy="2880"/>
              </a:xfrm>
              <a:prstGeom prst="rect">
                <a:avLst/>
              </a:prstGeom>
              <a:solidFill>
                <a:srgbClr val="c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1805040" y="460044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1805040" y="4600440"/>
                <a:ext cx="880920" cy="32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1805040" y="46036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1805040" y="460548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1805040" y="4606920"/>
                <a:ext cx="880920" cy="1440"/>
              </a:xfrm>
              <a:prstGeom prst="rect">
                <a:avLst/>
              </a:prstGeom>
              <a:solidFill>
                <a:srgbClr val="ce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1805040" y="4608360"/>
                <a:ext cx="880920" cy="180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1805040" y="4610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1805040" y="4611600"/>
                <a:ext cx="880920" cy="180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1805040" y="4613400"/>
                <a:ext cx="880920" cy="1440"/>
              </a:xfrm>
              <a:prstGeom prst="rect">
                <a:avLst/>
              </a:prstGeom>
              <a:solidFill>
                <a:srgbClr val="d7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1805040" y="4614840"/>
                <a:ext cx="880920" cy="3240"/>
              </a:xfrm>
              <a:prstGeom prst="rect">
                <a:avLst/>
              </a:prstGeom>
              <a:solidFill>
                <a:srgbClr val="da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1805040" y="4618080"/>
                <a:ext cx="880920" cy="1440"/>
              </a:xfrm>
              <a:prstGeom prst="rect">
                <a:avLst/>
              </a:prstGeom>
              <a:solidFill>
                <a:srgbClr val="dc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805040" y="4619520"/>
                <a:ext cx="880920" cy="1800"/>
              </a:xfrm>
              <a:prstGeom prst="rect">
                <a:avLst/>
              </a:prstGeom>
              <a:solidFill>
                <a:srgbClr val="df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805040" y="4621320"/>
                <a:ext cx="880920" cy="3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05040" y="4624560"/>
                <a:ext cx="880920" cy="1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1805040" y="4626000"/>
                <a:ext cx="88092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1805040" y="4627440"/>
                <a:ext cx="880920" cy="3240"/>
              </a:xfrm>
              <a:prstGeom prst="rect">
                <a:avLst/>
              </a:prstGeom>
              <a:solidFill>
                <a:srgbClr val="e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1805040" y="4630680"/>
                <a:ext cx="880920" cy="180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805040" y="4632480"/>
                <a:ext cx="880920" cy="288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1805040" y="4635360"/>
                <a:ext cx="880920" cy="1800"/>
              </a:xfrm>
              <a:prstGeom prst="rect">
                <a:avLst/>
              </a:prstGeom>
              <a:solidFill>
                <a:srgbClr val="ed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1805040" y="4637160"/>
                <a:ext cx="880920" cy="32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1805040" y="4640400"/>
                <a:ext cx="880920" cy="2880"/>
              </a:xfrm>
              <a:prstGeom prst="rect">
                <a:avLst/>
              </a:prstGeom>
              <a:solidFill>
                <a:srgbClr val="f1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1805040" y="4643280"/>
                <a:ext cx="880920" cy="32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1805040" y="4646520"/>
                <a:ext cx="880920" cy="3240"/>
              </a:xfrm>
              <a:prstGeom prst="rect">
                <a:avLst/>
              </a:prstGeom>
              <a:solidFill>
                <a:srgbClr val="f5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1805040" y="4649760"/>
                <a:ext cx="880920" cy="4680"/>
              </a:xfrm>
              <a:prstGeom prst="rect">
                <a:avLst/>
              </a:prstGeom>
              <a:solidFill>
                <a:srgbClr val="f7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1805040" y="4654440"/>
                <a:ext cx="880920" cy="324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805040" y="4657680"/>
                <a:ext cx="880920" cy="4680"/>
              </a:xfrm>
              <a:prstGeom prst="rect">
                <a:avLst/>
              </a:prstGeom>
              <a:solidFill>
                <a:srgbClr val="fa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805040" y="4662360"/>
                <a:ext cx="880920" cy="6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1805040" y="4668840"/>
                <a:ext cx="880920" cy="2052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1805040" y="4689360"/>
                <a:ext cx="880920" cy="5040"/>
              </a:xfrm>
              <a:prstGeom prst="rect">
                <a:avLst/>
              </a:prstGeom>
              <a:solidFill>
                <a:srgbClr val="fc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1805040" y="4694400"/>
                <a:ext cx="880920" cy="468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1805040" y="4699080"/>
                <a:ext cx="880920" cy="4680"/>
              </a:xfrm>
              <a:prstGeom prst="rect">
                <a:avLst/>
              </a:prstGeom>
              <a:solidFill>
                <a:srgbClr val="f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1805040" y="4703760"/>
                <a:ext cx="880920" cy="14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1805040" y="4705200"/>
                <a:ext cx="880920" cy="50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1805040" y="4710240"/>
                <a:ext cx="880920" cy="2880"/>
              </a:xfrm>
              <a:prstGeom prst="rect">
                <a:avLst/>
              </a:prstGeom>
              <a:solidFill>
                <a:srgbClr val="f4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1805040" y="4713120"/>
                <a:ext cx="880920" cy="3240"/>
              </a:xfrm>
              <a:prstGeom prst="rect">
                <a:avLst/>
              </a:prstGeom>
              <a:solidFill>
                <a:srgbClr val="f2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1805040" y="4716360"/>
                <a:ext cx="880920" cy="1800"/>
              </a:xfrm>
              <a:prstGeom prst="rect">
                <a:avLst/>
              </a:prstGeom>
              <a:solidFill>
                <a:srgbClr val="f0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1805040" y="4718160"/>
                <a:ext cx="880920" cy="1440"/>
              </a:xfrm>
              <a:prstGeom prst="rect">
                <a:avLst/>
              </a:prstGeom>
              <a:solidFill>
                <a:srgbClr val="ee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1805040" y="4719600"/>
                <a:ext cx="880920" cy="3240"/>
              </a:xfrm>
              <a:prstGeom prst="rect">
                <a:avLst/>
              </a:prstGeom>
              <a:solidFill>
                <a:srgbClr val="ec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1805040" y="4722840"/>
                <a:ext cx="880920" cy="324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1805040" y="4726080"/>
                <a:ext cx="880920" cy="1440"/>
              </a:xfrm>
              <a:prstGeom prst="rect">
                <a:avLst/>
              </a:prstGeom>
              <a:solidFill>
                <a:srgbClr val="e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805040" y="4727520"/>
                <a:ext cx="880920" cy="18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1805040" y="4729320"/>
                <a:ext cx="880920" cy="2880"/>
              </a:xfrm>
              <a:prstGeom prst="rect">
                <a:avLst/>
              </a:prstGeom>
              <a:solidFill>
                <a:srgbClr val="e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1805040" y="4732200"/>
                <a:ext cx="880920" cy="1800"/>
              </a:xfrm>
              <a:prstGeom prst="rect">
                <a:avLst/>
              </a:prstGeom>
              <a:solidFill>
                <a:srgbClr val="e2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1805040" y="4734000"/>
                <a:ext cx="880920" cy="1440"/>
              </a:xfrm>
              <a:prstGeom prst="rect">
                <a:avLst/>
              </a:prstGeom>
              <a:solidFill>
                <a:srgbClr val="e0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1805040" y="4735440"/>
                <a:ext cx="880920" cy="3240"/>
              </a:xfrm>
              <a:prstGeom prst="rect">
                <a:avLst/>
              </a:prstGeom>
              <a:solidFill>
                <a:srgbClr val="dd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1805040" y="4738680"/>
                <a:ext cx="880920" cy="1440"/>
              </a:xfrm>
              <a:prstGeom prst="rect">
                <a:avLst/>
              </a:prstGeom>
              <a:solidFill>
                <a:srgbClr val="db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1805040" y="4740120"/>
                <a:ext cx="880920" cy="1800"/>
              </a:xfrm>
              <a:prstGeom prst="rect">
                <a:avLst/>
              </a:prstGeom>
              <a:solidFill>
                <a:srgbClr val="d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1805040" y="4741920"/>
                <a:ext cx="880920" cy="324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805040" y="4746600"/>
                <a:ext cx="880920" cy="1440"/>
              </a:xfrm>
              <a:prstGeom prst="rect">
                <a:avLst/>
              </a:prstGeom>
              <a:solidFill>
                <a:srgbClr val="cf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1805040" y="4748040"/>
                <a:ext cx="880920" cy="32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1805040" y="47512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1805040" y="4753080"/>
                <a:ext cx="88092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1805040" y="475452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1805040" y="4754520"/>
                <a:ext cx="880920" cy="3240"/>
              </a:xfrm>
              <a:prstGeom prst="rect">
                <a:avLst/>
              </a:prstGeom>
              <a:solidFill>
                <a:srgbClr val="c3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1805040" y="4759200"/>
                <a:ext cx="880920" cy="180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1805040" y="476100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1805040" y="4761000"/>
                <a:ext cx="880920" cy="3240"/>
              </a:xfrm>
              <a:prstGeom prst="rect">
                <a:avLst/>
              </a:prstGeom>
              <a:solidFill>
                <a:srgbClr val="b8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5040" y="4765680"/>
                <a:ext cx="880920" cy="144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1805040" y="476712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1805040" y="4767120"/>
                <a:ext cx="880920" cy="3240"/>
              </a:xfrm>
              <a:prstGeom prst="rect">
                <a:avLst/>
              </a:prstGeom>
              <a:solidFill>
                <a:srgbClr val="ad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551" name=""/>
            <p:cNvGrpSpPr/>
            <p:nvPr/>
          </p:nvGrpSpPr>
          <p:grpSpPr>
            <a:xfrm>
              <a:off x="1797120" y="4506840"/>
              <a:ext cx="915840" cy="341280"/>
              <a:chOff x="1797120" y="4506840"/>
              <a:chExt cx="915840" cy="341280"/>
            </a:xfrm>
          </p:grpSpPr>
          <p:sp>
            <p:nvSpPr>
              <p:cNvPr id="10552" name=""/>
              <p:cNvSpPr/>
              <p:nvPr/>
            </p:nvSpPr>
            <p:spPr>
              <a:xfrm>
                <a:off x="1805040" y="477036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1805040" y="4770360"/>
                <a:ext cx="880920" cy="3240"/>
              </a:xfrm>
              <a:prstGeom prst="rect">
                <a:avLst/>
              </a:prstGeom>
              <a:solidFill>
                <a:srgbClr val="a7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1805040" y="4775040"/>
                <a:ext cx="880920" cy="180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688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62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5d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577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52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4d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1805040" y="4822920"/>
                <a:ext cx="880920" cy="3240"/>
              </a:xfrm>
              <a:prstGeom prst="rect">
                <a:avLst/>
              </a:prstGeom>
              <a:solidFill>
                <a:srgbClr val="4a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1805040" y="4829040"/>
                <a:ext cx="880920" cy="3240"/>
              </a:xfrm>
              <a:prstGeom prst="rect">
                <a:avLst/>
              </a:prstGeom>
              <a:solidFill>
                <a:srgbClr val="416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36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4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1806480" y="4514760"/>
                <a:ext cx="881280" cy="3272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1805040" y="4513320"/>
                <a:ext cx="89856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1805040" y="4516560"/>
                <a:ext cx="898560" cy="144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e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805040" y="451944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2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1805040" y="4522680"/>
                <a:ext cx="898560" cy="180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805040" y="4525920"/>
                <a:ext cx="898560" cy="180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4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805040" y="4529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805040" y="453240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805040" y="4535640"/>
                <a:ext cx="898560" cy="14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1805040" y="453852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1805040" y="4541760"/>
                <a:ext cx="89856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1805040" y="454356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1805040" y="454500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1805040" y="454824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1805040" y="4551480"/>
                <a:ext cx="89856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1805040" y="455436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1805040" y="4557600"/>
                <a:ext cx="898560" cy="1800"/>
              </a:xfrm>
              <a:prstGeom prst="rect">
                <a:avLst/>
              </a:prstGeom>
              <a:solidFill>
                <a:srgbClr val="b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1805040" y="4560840"/>
                <a:ext cx="898560" cy="180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7e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1805040" y="4564080"/>
                <a:ext cx="89856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5e7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1805040" y="456732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1805040" y="4570560"/>
                <a:ext cx="898560" cy="144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1797120" y="4506840"/>
                <a:ext cx="915840" cy="71640"/>
              </a:xfrm>
              <a:custGeom>
                <a:avLst/>
                <a:gdLst/>
                <a:ahLst/>
                <a:rect l="l" t="t" r="r" b="b"/>
                <a:pathLst>
                  <a:path w="1155" h="91">
                    <a:moveTo>
                      <a:pt x="1123" y="17"/>
                    </a:moveTo>
                    <a:lnTo>
                      <a:pt x="1123" y="17"/>
                    </a:lnTo>
                    <a:lnTo>
                      <a:pt x="1121" y="17"/>
                    </a:lnTo>
                    <a:lnTo>
                      <a:pt x="1119" y="16"/>
                    </a:lnTo>
                    <a:lnTo>
                      <a:pt x="1116" y="15"/>
                    </a:lnTo>
                    <a:lnTo>
                      <a:pt x="1112" y="12"/>
                    </a:lnTo>
                    <a:lnTo>
                      <a:pt x="1112" y="11"/>
                    </a:lnTo>
                    <a:lnTo>
                      <a:pt x="1112" y="9"/>
                    </a:lnTo>
                    <a:lnTo>
                      <a:pt x="1112" y="7"/>
                    </a:lnTo>
                    <a:lnTo>
                      <a:pt x="1112" y="5"/>
                    </a:lnTo>
                    <a:lnTo>
                      <a:pt x="1116" y="3"/>
                    </a:lnTo>
                    <a:lnTo>
                      <a:pt x="1119" y="1"/>
                    </a:lnTo>
                    <a:lnTo>
                      <a:pt x="1121" y="0"/>
                    </a:lnTo>
                    <a:lnTo>
                      <a:pt x="1123" y="0"/>
                    </a:lnTo>
                    <a:lnTo>
                      <a:pt x="1123" y="0"/>
                    </a:lnTo>
                    <a:lnTo>
                      <a:pt x="1125" y="0"/>
                    </a:lnTo>
                    <a:lnTo>
                      <a:pt x="1126" y="1"/>
                    </a:lnTo>
                    <a:lnTo>
                      <a:pt x="1130" y="3"/>
                    </a:lnTo>
                    <a:lnTo>
                      <a:pt x="1133" y="5"/>
                    </a:lnTo>
                    <a:lnTo>
                      <a:pt x="1133" y="7"/>
                    </a:lnTo>
                    <a:lnTo>
                      <a:pt x="1133" y="9"/>
                    </a:lnTo>
                    <a:lnTo>
                      <a:pt x="1133" y="11"/>
                    </a:lnTo>
                    <a:lnTo>
                      <a:pt x="1133" y="12"/>
                    </a:lnTo>
                    <a:lnTo>
                      <a:pt x="1130" y="15"/>
                    </a:lnTo>
                    <a:lnTo>
                      <a:pt x="1126" y="16"/>
                    </a:lnTo>
                    <a:lnTo>
                      <a:pt x="1125" y="17"/>
                    </a:lnTo>
                    <a:lnTo>
                      <a:pt x="1123" y="17"/>
                    </a:lnTo>
                    <a:lnTo>
                      <a:pt x="1123" y="17"/>
                    </a:lnTo>
                    <a:close/>
                    <a:moveTo>
                      <a:pt x="1080" y="17"/>
                    </a:moveTo>
                    <a:lnTo>
                      <a:pt x="1080" y="17"/>
                    </a:lnTo>
                    <a:lnTo>
                      <a:pt x="1078" y="17"/>
                    </a:lnTo>
                    <a:lnTo>
                      <a:pt x="1076" y="16"/>
                    </a:lnTo>
                    <a:lnTo>
                      <a:pt x="1073" y="15"/>
                    </a:lnTo>
                    <a:lnTo>
                      <a:pt x="1069" y="12"/>
                    </a:lnTo>
                    <a:lnTo>
                      <a:pt x="1069" y="11"/>
                    </a:lnTo>
                    <a:lnTo>
                      <a:pt x="1069" y="9"/>
                    </a:lnTo>
                    <a:lnTo>
                      <a:pt x="1069" y="7"/>
                    </a:lnTo>
                    <a:lnTo>
                      <a:pt x="1069" y="5"/>
                    </a:lnTo>
                    <a:lnTo>
                      <a:pt x="1073" y="3"/>
                    </a:lnTo>
                    <a:lnTo>
                      <a:pt x="1076" y="1"/>
                    </a:lnTo>
                    <a:lnTo>
                      <a:pt x="1078" y="0"/>
                    </a:lnTo>
                    <a:lnTo>
                      <a:pt x="1080" y="0"/>
                    </a:lnTo>
                    <a:lnTo>
                      <a:pt x="1080" y="0"/>
                    </a:lnTo>
                    <a:lnTo>
                      <a:pt x="1081" y="0"/>
                    </a:lnTo>
                    <a:lnTo>
                      <a:pt x="1083" y="1"/>
                    </a:lnTo>
                    <a:lnTo>
                      <a:pt x="1087" y="3"/>
                    </a:lnTo>
                    <a:lnTo>
                      <a:pt x="1090" y="5"/>
                    </a:lnTo>
                    <a:lnTo>
                      <a:pt x="1090" y="7"/>
                    </a:lnTo>
                    <a:lnTo>
                      <a:pt x="1090" y="9"/>
                    </a:lnTo>
                    <a:lnTo>
                      <a:pt x="1090" y="11"/>
                    </a:lnTo>
                    <a:lnTo>
                      <a:pt x="1090" y="12"/>
                    </a:lnTo>
                    <a:lnTo>
                      <a:pt x="1087" y="15"/>
                    </a:lnTo>
                    <a:lnTo>
                      <a:pt x="1083" y="16"/>
                    </a:lnTo>
                    <a:lnTo>
                      <a:pt x="1081" y="17"/>
                    </a:lnTo>
                    <a:lnTo>
                      <a:pt x="1080" y="17"/>
                    </a:lnTo>
                    <a:lnTo>
                      <a:pt x="1080" y="17"/>
                    </a:lnTo>
                    <a:close/>
                    <a:moveTo>
                      <a:pt x="1037" y="17"/>
                    </a:moveTo>
                    <a:lnTo>
                      <a:pt x="1037" y="17"/>
                    </a:lnTo>
                    <a:lnTo>
                      <a:pt x="1035" y="17"/>
                    </a:lnTo>
                    <a:lnTo>
                      <a:pt x="1033" y="16"/>
                    </a:lnTo>
                    <a:lnTo>
                      <a:pt x="1030" y="15"/>
                    </a:lnTo>
                    <a:lnTo>
                      <a:pt x="1026" y="12"/>
                    </a:lnTo>
                    <a:lnTo>
                      <a:pt x="1026" y="11"/>
                    </a:lnTo>
                    <a:lnTo>
                      <a:pt x="1026" y="9"/>
                    </a:lnTo>
                    <a:lnTo>
                      <a:pt x="1026" y="7"/>
                    </a:lnTo>
                    <a:lnTo>
                      <a:pt x="1026" y="5"/>
                    </a:lnTo>
                    <a:lnTo>
                      <a:pt x="1030" y="3"/>
                    </a:lnTo>
                    <a:lnTo>
                      <a:pt x="1033" y="1"/>
                    </a:lnTo>
                    <a:lnTo>
                      <a:pt x="1035" y="0"/>
                    </a:lnTo>
                    <a:lnTo>
                      <a:pt x="1037" y="0"/>
                    </a:lnTo>
                    <a:lnTo>
                      <a:pt x="1037" y="0"/>
                    </a:lnTo>
                    <a:lnTo>
                      <a:pt x="1038" y="0"/>
                    </a:lnTo>
                    <a:lnTo>
                      <a:pt x="1040" y="1"/>
                    </a:lnTo>
                    <a:lnTo>
                      <a:pt x="1044" y="3"/>
                    </a:lnTo>
                    <a:lnTo>
                      <a:pt x="1047" y="5"/>
                    </a:lnTo>
                    <a:lnTo>
                      <a:pt x="1047" y="7"/>
                    </a:lnTo>
                    <a:lnTo>
                      <a:pt x="1047" y="9"/>
                    </a:lnTo>
                    <a:lnTo>
                      <a:pt x="1047" y="11"/>
                    </a:lnTo>
                    <a:lnTo>
                      <a:pt x="1047" y="12"/>
                    </a:lnTo>
                    <a:lnTo>
                      <a:pt x="1044" y="15"/>
                    </a:lnTo>
                    <a:lnTo>
                      <a:pt x="1040" y="16"/>
                    </a:lnTo>
                    <a:lnTo>
                      <a:pt x="1038" y="17"/>
                    </a:lnTo>
                    <a:lnTo>
                      <a:pt x="1037" y="17"/>
                    </a:lnTo>
                    <a:lnTo>
                      <a:pt x="1037" y="17"/>
                    </a:lnTo>
                    <a:close/>
                    <a:moveTo>
                      <a:pt x="994" y="17"/>
                    </a:moveTo>
                    <a:lnTo>
                      <a:pt x="994" y="17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3" y="12"/>
                    </a:lnTo>
                    <a:lnTo>
                      <a:pt x="983" y="11"/>
                    </a:lnTo>
                    <a:lnTo>
                      <a:pt x="983" y="9"/>
                    </a:lnTo>
                    <a:lnTo>
                      <a:pt x="983" y="7"/>
                    </a:lnTo>
                    <a:lnTo>
                      <a:pt x="983" y="5"/>
                    </a:lnTo>
                    <a:lnTo>
                      <a:pt x="987" y="3"/>
                    </a:lnTo>
                    <a:lnTo>
                      <a:pt x="990" y="1"/>
                    </a:lnTo>
                    <a:lnTo>
                      <a:pt x="992" y="0"/>
                    </a:lnTo>
                    <a:lnTo>
                      <a:pt x="994" y="0"/>
                    </a:lnTo>
                    <a:lnTo>
                      <a:pt x="994" y="0"/>
                    </a:lnTo>
                    <a:lnTo>
                      <a:pt x="995" y="0"/>
                    </a:lnTo>
                    <a:lnTo>
                      <a:pt x="997" y="1"/>
                    </a:lnTo>
                    <a:lnTo>
                      <a:pt x="1001" y="3"/>
                    </a:lnTo>
                    <a:lnTo>
                      <a:pt x="1004" y="5"/>
                    </a:lnTo>
                    <a:lnTo>
                      <a:pt x="1004" y="7"/>
                    </a:lnTo>
                    <a:lnTo>
                      <a:pt x="1004" y="9"/>
                    </a:lnTo>
                    <a:lnTo>
                      <a:pt x="1004" y="11"/>
                    </a:lnTo>
                    <a:lnTo>
                      <a:pt x="1004" y="12"/>
                    </a:lnTo>
                    <a:lnTo>
                      <a:pt x="1001" y="15"/>
                    </a:lnTo>
                    <a:lnTo>
                      <a:pt x="997" y="16"/>
                    </a:lnTo>
                    <a:lnTo>
                      <a:pt x="995" y="17"/>
                    </a:lnTo>
                    <a:lnTo>
                      <a:pt x="994" y="17"/>
                    </a:lnTo>
                    <a:lnTo>
                      <a:pt x="994" y="17"/>
                    </a:lnTo>
                    <a:close/>
                    <a:moveTo>
                      <a:pt x="951" y="17"/>
                    </a:moveTo>
                    <a:lnTo>
                      <a:pt x="951" y="17"/>
                    </a:lnTo>
                    <a:lnTo>
                      <a:pt x="949" y="17"/>
                    </a:lnTo>
                    <a:lnTo>
                      <a:pt x="947" y="16"/>
                    </a:lnTo>
                    <a:lnTo>
                      <a:pt x="944" y="15"/>
                    </a:lnTo>
                    <a:lnTo>
                      <a:pt x="940" y="12"/>
                    </a:lnTo>
                    <a:lnTo>
                      <a:pt x="940" y="11"/>
                    </a:lnTo>
                    <a:lnTo>
                      <a:pt x="940" y="9"/>
                    </a:lnTo>
                    <a:lnTo>
                      <a:pt x="940" y="7"/>
                    </a:lnTo>
                    <a:lnTo>
                      <a:pt x="940" y="5"/>
                    </a:lnTo>
                    <a:lnTo>
                      <a:pt x="944" y="3"/>
                    </a:lnTo>
                    <a:lnTo>
                      <a:pt x="947" y="1"/>
                    </a:lnTo>
                    <a:lnTo>
                      <a:pt x="949" y="0"/>
                    </a:lnTo>
                    <a:lnTo>
                      <a:pt x="951" y="0"/>
                    </a:lnTo>
                    <a:lnTo>
                      <a:pt x="951" y="0"/>
                    </a:lnTo>
                    <a:lnTo>
                      <a:pt x="952" y="0"/>
                    </a:lnTo>
                    <a:lnTo>
                      <a:pt x="954" y="1"/>
                    </a:lnTo>
                    <a:lnTo>
                      <a:pt x="957" y="3"/>
                    </a:lnTo>
                    <a:lnTo>
                      <a:pt x="961" y="5"/>
                    </a:lnTo>
                    <a:lnTo>
                      <a:pt x="961" y="7"/>
                    </a:lnTo>
                    <a:lnTo>
                      <a:pt x="961" y="9"/>
                    </a:lnTo>
                    <a:lnTo>
                      <a:pt x="961" y="11"/>
                    </a:lnTo>
                    <a:lnTo>
                      <a:pt x="961" y="12"/>
                    </a:lnTo>
                    <a:lnTo>
                      <a:pt x="957" y="15"/>
                    </a:lnTo>
                    <a:lnTo>
                      <a:pt x="954" y="16"/>
                    </a:lnTo>
                    <a:lnTo>
                      <a:pt x="952" y="17"/>
                    </a:lnTo>
                    <a:lnTo>
                      <a:pt x="951" y="17"/>
                    </a:lnTo>
                    <a:lnTo>
                      <a:pt x="951" y="17"/>
                    </a:lnTo>
                    <a:close/>
                    <a:moveTo>
                      <a:pt x="908" y="17"/>
                    </a:moveTo>
                    <a:lnTo>
                      <a:pt x="908" y="17"/>
                    </a:lnTo>
                    <a:lnTo>
                      <a:pt x="906" y="17"/>
                    </a:lnTo>
                    <a:lnTo>
                      <a:pt x="904" y="16"/>
                    </a:lnTo>
                    <a:lnTo>
                      <a:pt x="901" y="15"/>
                    </a:lnTo>
                    <a:lnTo>
                      <a:pt x="897" y="12"/>
                    </a:lnTo>
                    <a:lnTo>
                      <a:pt x="897" y="11"/>
                    </a:lnTo>
                    <a:lnTo>
                      <a:pt x="897" y="9"/>
                    </a:lnTo>
                    <a:lnTo>
                      <a:pt x="897" y="7"/>
                    </a:lnTo>
                    <a:lnTo>
                      <a:pt x="897" y="5"/>
                    </a:lnTo>
                    <a:lnTo>
                      <a:pt x="901" y="3"/>
                    </a:lnTo>
                    <a:lnTo>
                      <a:pt x="904" y="1"/>
                    </a:lnTo>
                    <a:lnTo>
                      <a:pt x="906" y="0"/>
                    </a:lnTo>
                    <a:lnTo>
                      <a:pt x="908" y="0"/>
                    </a:lnTo>
                    <a:lnTo>
                      <a:pt x="908" y="0"/>
                    </a:lnTo>
                    <a:lnTo>
                      <a:pt x="909" y="0"/>
                    </a:lnTo>
                    <a:lnTo>
                      <a:pt x="911" y="1"/>
                    </a:lnTo>
                    <a:lnTo>
                      <a:pt x="914" y="3"/>
                    </a:lnTo>
                    <a:lnTo>
                      <a:pt x="918" y="5"/>
                    </a:lnTo>
                    <a:lnTo>
                      <a:pt x="918" y="7"/>
                    </a:lnTo>
                    <a:lnTo>
                      <a:pt x="918" y="9"/>
                    </a:lnTo>
                    <a:lnTo>
                      <a:pt x="918" y="11"/>
                    </a:lnTo>
                    <a:lnTo>
                      <a:pt x="918" y="12"/>
                    </a:lnTo>
                    <a:lnTo>
                      <a:pt x="914" y="15"/>
                    </a:lnTo>
                    <a:lnTo>
                      <a:pt x="911" y="16"/>
                    </a:lnTo>
                    <a:lnTo>
                      <a:pt x="909" y="17"/>
                    </a:lnTo>
                    <a:lnTo>
                      <a:pt x="908" y="17"/>
                    </a:lnTo>
                    <a:lnTo>
                      <a:pt x="908" y="17"/>
                    </a:lnTo>
                    <a:close/>
                    <a:moveTo>
                      <a:pt x="865" y="17"/>
                    </a:moveTo>
                    <a:lnTo>
                      <a:pt x="865" y="17"/>
                    </a:lnTo>
                    <a:lnTo>
                      <a:pt x="863" y="17"/>
                    </a:lnTo>
                    <a:lnTo>
                      <a:pt x="861" y="16"/>
                    </a:lnTo>
                    <a:lnTo>
                      <a:pt x="858" y="15"/>
                    </a:lnTo>
                    <a:lnTo>
                      <a:pt x="854" y="12"/>
                    </a:lnTo>
                    <a:lnTo>
                      <a:pt x="854" y="11"/>
                    </a:lnTo>
                    <a:lnTo>
                      <a:pt x="854" y="9"/>
                    </a:lnTo>
                    <a:lnTo>
                      <a:pt x="854" y="7"/>
                    </a:lnTo>
                    <a:lnTo>
                      <a:pt x="854" y="5"/>
                    </a:lnTo>
                    <a:lnTo>
                      <a:pt x="858" y="3"/>
                    </a:lnTo>
                    <a:lnTo>
                      <a:pt x="861" y="1"/>
                    </a:lnTo>
                    <a:lnTo>
                      <a:pt x="863" y="0"/>
                    </a:lnTo>
                    <a:lnTo>
                      <a:pt x="865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1"/>
                    </a:lnTo>
                    <a:lnTo>
                      <a:pt x="871" y="3"/>
                    </a:lnTo>
                    <a:lnTo>
                      <a:pt x="875" y="5"/>
                    </a:lnTo>
                    <a:lnTo>
                      <a:pt x="875" y="7"/>
                    </a:lnTo>
                    <a:lnTo>
                      <a:pt x="875" y="9"/>
                    </a:lnTo>
                    <a:lnTo>
                      <a:pt x="875" y="11"/>
                    </a:lnTo>
                    <a:lnTo>
                      <a:pt x="875" y="12"/>
                    </a:lnTo>
                    <a:lnTo>
                      <a:pt x="871" y="15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5" y="17"/>
                    </a:lnTo>
                    <a:lnTo>
                      <a:pt x="865" y="17"/>
                    </a:lnTo>
                    <a:close/>
                    <a:moveTo>
                      <a:pt x="821" y="17"/>
                    </a:moveTo>
                    <a:lnTo>
                      <a:pt x="821" y="17"/>
                    </a:lnTo>
                    <a:lnTo>
                      <a:pt x="820" y="17"/>
                    </a:lnTo>
                    <a:lnTo>
                      <a:pt x="818" y="16"/>
                    </a:lnTo>
                    <a:lnTo>
                      <a:pt x="815" y="15"/>
                    </a:lnTo>
                    <a:lnTo>
                      <a:pt x="811" y="12"/>
                    </a:lnTo>
                    <a:lnTo>
                      <a:pt x="811" y="11"/>
                    </a:lnTo>
                    <a:lnTo>
                      <a:pt x="811" y="9"/>
                    </a:lnTo>
                    <a:lnTo>
                      <a:pt x="811" y="7"/>
                    </a:lnTo>
                    <a:lnTo>
                      <a:pt x="811" y="5"/>
                    </a:lnTo>
                    <a:lnTo>
                      <a:pt x="815" y="3"/>
                    </a:lnTo>
                    <a:lnTo>
                      <a:pt x="818" y="1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5" y="1"/>
                    </a:lnTo>
                    <a:lnTo>
                      <a:pt x="828" y="3"/>
                    </a:lnTo>
                    <a:lnTo>
                      <a:pt x="832" y="5"/>
                    </a:lnTo>
                    <a:lnTo>
                      <a:pt x="832" y="7"/>
                    </a:lnTo>
                    <a:lnTo>
                      <a:pt x="832" y="9"/>
                    </a:lnTo>
                    <a:lnTo>
                      <a:pt x="832" y="11"/>
                    </a:lnTo>
                    <a:lnTo>
                      <a:pt x="832" y="12"/>
                    </a:lnTo>
                    <a:lnTo>
                      <a:pt x="828" y="15"/>
                    </a:lnTo>
                    <a:lnTo>
                      <a:pt x="825" y="16"/>
                    </a:lnTo>
                    <a:lnTo>
                      <a:pt x="823" y="17"/>
                    </a:lnTo>
                    <a:lnTo>
                      <a:pt x="821" y="17"/>
                    </a:lnTo>
                    <a:lnTo>
                      <a:pt x="821" y="17"/>
                    </a:lnTo>
                    <a:close/>
                    <a:moveTo>
                      <a:pt x="778" y="17"/>
                    </a:moveTo>
                    <a:lnTo>
                      <a:pt x="778" y="17"/>
                    </a:lnTo>
                    <a:lnTo>
                      <a:pt x="777" y="17"/>
                    </a:lnTo>
                    <a:lnTo>
                      <a:pt x="775" y="16"/>
                    </a:lnTo>
                    <a:lnTo>
                      <a:pt x="772" y="15"/>
                    </a:lnTo>
                    <a:lnTo>
                      <a:pt x="768" y="12"/>
                    </a:lnTo>
                    <a:lnTo>
                      <a:pt x="768" y="11"/>
                    </a:lnTo>
                    <a:lnTo>
                      <a:pt x="768" y="9"/>
                    </a:lnTo>
                    <a:lnTo>
                      <a:pt x="768" y="7"/>
                    </a:lnTo>
                    <a:lnTo>
                      <a:pt x="768" y="5"/>
                    </a:lnTo>
                    <a:lnTo>
                      <a:pt x="772" y="3"/>
                    </a:lnTo>
                    <a:lnTo>
                      <a:pt x="775" y="1"/>
                    </a:lnTo>
                    <a:lnTo>
                      <a:pt x="777" y="0"/>
                    </a:lnTo>
                    <a:lnTo>
                      <a:pt x="778" y="0"/>
                    </a:lnTo>
                    <a:lnTo>
                      <a:pt x="778" y="0"/>
                    </a:lnTo>
                    <a:lnTo>
                      <a:pt x="780" y="0"/>
                    </a:lnTo>
                    <a:lnTo>
                      <a:pt x="782" y="1"/>
                    </a:lnTo>
                    <a:lnTo>
                      <a:pt x="785" y="3"/>
                    </a:lnTo>
                    <a:lnTo>
                      <a:pt x="789" y="5"/>
                    </a:lnTo>
                    <a:lnTo>
                      <a:pt x="789" y="7"/>
                    </a:lnTo>
                    <a:lnTo>
                      <a:pt x="789" y="9"/>
                    </a:lnTo>
                    <a:lnTo>
                      <a:pt x="789" y="11"/>
                    </a:lnTo>
                    <a:lnTo>
                      <a:pt x="789" y="12"/>
                    </a:lnTo>
                    <a:lnTo>
                      <a:pt x="785" y="15"/>
                    </a:lnTo>
                    <a:lnTo>
                      <a:pt x="782" y="16"/>
                    </a:lnTo>
                    <a:lnTo>
                      <a:pt x="780" y="17"/>
                    </a:lnTo>
                    <a:lnTo>
                      <a:pt x="778" y="17"/>
                    </a:lnTo>
                    <a:lnTo>
                      <a:pt x="778" y="17"/>
                    </a:lnTo>
                    <a:close/>
                    <a:moveTo>
                      <a:pt x="735" y="17"/>
                    </a:moveTo>
                    <a:lnTo>
                      <a:pt x="735" y="17"/>
                    </a:lnTo>
                    <a:lnTo>
                      <a:pt x="734" y="17"/>
                    </a:lnTo>
                    <a:lnTo>
                      <a:pt x="730" y="16"/>
                    </a:lnTo>
                    <a:lnTo>
                      <a:pt x="729" y="15"/>
                    </a:lnTo>
                    <a:lnTo>
                      <a:pt x="725" y="12"/>
                    </a:lnTo>
                    <a:lnTo>
                      <a:pt x="725" y="11"/>
                    </a:lnTo>
                    <a:lnTo>
                      <a:pt x="725" y="9"/>
                    </a:lnTo>
                    <a:lnTo>
                      <a:pt x="725" y="7"/>
                    </a:lnTo>
                    <a:lnTo>
                      <a:pt x="725" y="5"/>
                    </a:lnTo>
                    <a:lnTo>
                      <a:pt x="729" y="3"/>
                    </a:lnTo>
                    <a:lnTo>
                      <a:pt x="730" y="1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5" y="0"/>
                    </a:lnTo>
                    <a:lnTo>
                      <a:pt x="737" y="0"/>
                    </a:lnTo>
                    <a:lnTo>
                      <a:pt x="739" y="1"/>
                    </a:lnTo>
                    <a:lnTo>
                      <a:pt x="742" y="3"/>
                    </a:lnTo>
                    <a:lnTo>
                      <a:pt x="746" y="5"/>
                    </a:lnTo>
                    <a:lnTo>
                      <a:pt x="746" y="7"/>
                    </a:lnTo>
                    <a:lnTo>
                      <a:pt x="746" y="9"/>
                    </a:lnTo>
                    <a:lnTo>
                      <a:pt x="746" y="11"/>
                    </a:lnTo>
                    <a:lnTo>
                      <a:pt x="746" y="12"/>
                    </a:lnTo>
                    <a:lnTo>
                      <a:pt x="742" y="15"/>
                    </a:lnTo>
                    <a:lnTo>
                      <a:pt x="739" y="16"/>
                    </a:lnTo>
                    <a:lnTo>
                      <a:pt x="737" y="17"/>
                    </a:lnTo>
                    <a:lnTo>
                      <a:pt x="735" y="17"/>
                    </a:lnTo>
                    <a:lnTo>
                      <a:pt x="735" y="17"/>
                    </a:lnTo>
                    <a:close/>
                    <a:moveTo>
                      <a:pt x="692" y="17"/>
                    </a:moveTo>
                    <a:lnTo>
                      <a:pt x="692" y="17"/>
                    </a:lnTo>
                    <a:lnTo>
                      <a:pt x="691" y="17"/>
                    </a:lnTo>
                    <a:lnTo>
                      <a:pt x="687" y="16"/>
                    </a:lnTo>
                    <a:lnTo>
                      <a:pt x="685" y="15"/>
                    </a:lnTo>
                    <a:lnTo>
                      <a:pt x="682" y="12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7"/>
                    </a:lnTo>
                    <a:lnTo>
                      <a:pt x="682" y="5"/>
                    </a:lnTo>
                    <a:lnTo>
                      <a:pt x="685" y="3"/>
                    </a:lnTo>
                    <a:lnTo>
                      <a:pt x="687" y="1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2" y="0"/>
                    </a:lnTo>
                    <a:lnTo>
                      <a:pt x="694" y="0"/>
                    </a:lnTo>
                    <a:lnTo>
                      <a:pt x="696" y="1"/>
                    </a:lnTo>
                    <a:lnTo>
                      <a:pt x="699" y="3"/>
                    </a:lnTo>
                    <a:lnTo>
                      <a:pt x="703" y="5"/>
                    </a:lnTo>
                    <a:lnTo>
                      <a:pt x="703" y="7"/>
                    </a:lnTo>
                    <a:lnTo>
                      <a:pt x="703" y="9"/>
                    </a:lnTo>
                    <a:lnTo>
                      <a:pt x="703" y="11"/>
                    </a:lnTo>
                    <a:lnTo>
                      <a:pt x="703" y="12"/>
                    </a:lnTo>
                    <a:lnTo>
                      <a:pt x="699" y="15"/>
                    </a:lnTo>
                    <a:lnTo>
                      <a:pt x="696" y="16"/>
                    </a:lnTo>
                    <a:lnTo>
                      <a:pt x="694" y="17"/>
                    </a:lnTo>
                    <a:lnTo>
                      <a:pt x="692" y="17"/>
                    </a:lnTo>
                    <a:lnTo>
                      <a:pt x="692" y="17"/>
                    </a:lnTo>
                    <a:close/>
                    <a:moveTo>
                      <a:pt x="649" y="17"/>
                    </a:moveTo>
                    <a:lnTo>
                      <a:pt x="649" y="17"/>
                    </a:lnTo>
                    <a:lnTo>
                      <a:pt x="648" y="17"/>
                    </a:lnTo>
                    <a:lnTo>
                      <a:pt x="644" y="16"/>
                    </a:lnTo>
                    <a:lnTo>
                      <a:pt x="642" y="15"/>
                    </a:lnTo>
                    <a:lnTo>
                      <a:pt x="639" y="12"/>
                    </a:lnTo>
                    <a:lnTo>
                      <a:pt x="639" y="11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9" y="5"/>
                    </a:lnTo>
                    <a:lnTo>
                      <a:pt x="642" y="3"/>
                    </a:lnTo>
                    <a:lnTo>
                      <a:pt x="644" y="1"/>
                    </a:lnTo>
                    <a:lnTo>
                      <a:pt x="648" y="0"/>
                    </a:lnTo>
                    <a:lnTo>
                      <a:pt x="649" y="0"/>
                    </a:lnTo>
                    <a:lnTo>
                      <a:pt x="649" y="0"/>
                    </a:lnTo>
                    <a:lnTo>
                      <a:pt x="651" y="0"/>
                    </a:lnTo>
                    <a:lnTo>
                      <a:pt x="653" y="1"/>
                    </a:lnTo>
                    <a:lnTo>
                      <a:pt x="656" y="3"/>
                    </a:lnTo>
                    <a:lnTo>
                      <a:pt x="660" y="5"/>
                    </a:lnTo>
                    <a:lnTo>
                      <a:pt x="660" y="7"/>
                    </a:lnTo>
                    <a:lnTo>
                      <a:pt x="660" y="9"/>
                    </a:lnTo>
                    <a:lnTo>
                      <a:pt x="660" y="11"/>
                    </a:lnTo>
                    <a:lnTo>
                      <a:pt x="660" y="12"/>
                    </a:lnTo>
                    <a:lnTo>
                      <a:pt x="656" y="15"/>
                    </a:lnTo>
                    <a:lnTo>
                      <a:pt x="653" y="16"/>
                    </a:lnTo>
                    <a:lnTo>
                      <a:pt x="651" y="17"/>
                    </a:lnTo>
                    <a:lnTo>
                      <a:pt x="649" y="17"/>
                    </a:lnTo>
                    <a:lnTo>
                      <a:pt x="649" y="17"/>
                    </a:lnTo>
                    <a:close/>
                    <a:moveTo>
                      <a:pt x="606" y="17"/>
                    </a:moveTo>
                    <a:lnTo>
                      <a:pt x="606" y="17"/>
                    </a:lnTo>
                    <a:lnTo>
                      <a:pt x="605" y="17"/>
                    </a:lnTo>
                    <a:lnTo>
                      <a:pt x="601" y="16"/>
                    </a:lnTo>
                    <a:lnTo>
                      <a:pt x="599" y="15"/>
                    </a:lnTo>
                    <a:lnTo>
                      <a:pt x="596" y="12"/>
                    </a:lnTo>
                    <a:lnTo>
                      <a:pt x="596" y="11"/>
                    </a:lnTo>
                    <a:lnTo>
                      <a:pt x="596" y="9"/>
                    </a:lnTo>
                    <a:lnTo>
                      <a:pt x="596" y="7"/>
                    </a:lnTo>
                    <a:lnTo>
                      <a:pt x="596" y="5"/>
                    </a:lnTo>
                    <a:lnTo>
                      <a:pt x="599" y="3"/>
                    </a:lnTo>
                    <a:lnTo>
                      <a:pt x="601" y="1"/>
                    </a:lnTo>
                    <a:lnTo>
                      <a:pt x="605" y="0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8" y="0"/>
                    </a:lnTo>
                    <a:lnTo>
                      <a:pt x="610" y="1"/>
                    </a:lnTo>
                    <a:lnTo>
                      <a:pt x="613" y="3"/>
                    </a:lnTo>
                    <a:lnTo>
                      <a:pt x="617" y="5"/>
                    </a:lnTo>
                    <a:lnTo>
                      <a:pt x="617" y="7"/>
                    </a:lnTo>
                    <a:lnTo>
                      <a:pt x="617" y="9"/>
                    </a:lnTo>
                    <a:lnTo>
                      <a:pt x="617" y="11"/>
                    </a:lnTo>
                    <a:lnTo>
                      <a:pt x="617" y="12"/>
                    </a:lnTo>
                    <a:lnTo>
                      <a:pt x="613" y="15"/>
                    </a:lnTo>
                    <a:lnTo>
                      <a:pt x="610" y="16"/>
                    </a:lnTo>
                    <a:lnTo>
                      <a:pt x="608" y="17"/>
                    </a:lnTo>
                    <a:lnTo>
                      <a:pt x="606" y="17"/>
                    </a:lnTo>
                    <a:lnTo>
                      <a:pt x="606" y="17"/>
                    </a:lnTo>
                    <a:close/>
                    <a:moveTo>
                      <a:pt x="563" y="17"/>
                    </a:moveTo>
                    <a:lnTo>
                      <a:pt x="563" y="17"/>
                    </a:lnTo>
                    <a:lnTo>
                      <a:pt x="562" y="17"/>
                    </a:lnTo>
                    <a:lnTo>
                      <a:pt x="558" y="16"/>
                    </a:lnTo>
                    <a:lnTo>
                      <a:pt x="555" y="15"/>
                    </a:lnTo>
                    <a:lnTo>
                      <a:pt x="553" y="12"/>
                    </a:lnTo>
                    <a:lnTo>
                      <a:pt x="553" y="11"/>
                    </a:lnTo>
                    <a:lnTo>
                      <a:pt x="553" y="9"/>
                    </a:lnTo>
                    <a:lnTo>
                      <a:pt x="553" y="7"/>
                    </a:lnTo>
                    <a:lnTo>
                      <a:pt x="553" y="5"/>
                    </a:lnTo>
                    <a:lnTo>
                      <a:pt x="555" y="3"/>
                    </a:lnTo>
                    <a:lnTo>
                      <a:pt x="558" y="1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5" y="0"/>
                    </a:lnTo>
                    <a:lnTo>
                      <a:pt x="567" y="1"/>
                    </a:lnTo>
                    <a:lnTo>
                      <a:pt x="570" y="3"/>
                    </a:lnTo>
                    <a:lnTo>
                      <a:pt x="574" y="5"/>
                    </a:lnTo>
                    <a:lnTo>
                      <a:pt x="574" y="7"/>
                    </a:lnTo>
                    <a:lnTo>
                      <a:pt x="574" y="9"/>
                    </a:lnTo>
                    <a:lnTo>
                      <a:pt x="574" y="11"/>
                    </a:lnTo>
                    <a:lnTo>
                      <a:pt x="574" y="12"/>
                    </a:lnTo>
                    <a:lnTo>
                      <a:pt x="570" y="15"/>
                    </a:lnTo>
                    <a:lnTo>
                      <a:pt x="567" y="16"/>
                    </a:lnTo>
                    <a:lnTo>
                      <a:pt x="565" y="17"/>
                    </a:lnTo>
                    <a:lnTo>
                      <a:pt x="563" y="17"/>
                    </a:lnTo>
                    <a:lnTo>
                      <a:pt x="563" y="17"/>
                    </a:lnTo>
                    <a:close/>
                    <a:moveTo>
                      <a:pt x="520" y="17"/>
                    </a:moveTo>
                    <a:lnTo>
                      <a:pt x="520" y="17"/>
                    </a:lnTo>
                    <a:lnTo>
                      <a:pt x="518" y="17"/>
                    </a:lnTo>
                    <a:lnTo>
                      <a:pt x="515" y="16"/>
                    </a:lnTo>
                    <a:lnTo>
                      <a:pt x="512" y="15"/>
                    </a:lnTo>
                    <a:lnTo>
                      <a:pt x="510" y="12"/>
                    </a:lnTo>
                    <a:lnTo>
                      <a:pt x="510" y="11"/>
                    </a:lnTo>
                    <a:lnTo>
                      <a:pt x="510" y="9"/>
                    </a:lnTo>
                    <a:lnTo>
                      <a:pt x="510" y="7"/>
                    </a:lnTo>
                    <a:lnTo>
                      <a:pt x="510" y="5"/>
                    </a:lnTo>
                    <a:lnTo>
                      <a:pt x="512" y="3"/>
                    </a:lnTo>
                    <a:lnTo>
                      <a:pt x="515" y="1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1"/>
                    </a:lnTo>
                    <a:lnTo>
                      <a:pt x="527" y="3"/>
                    </a:lnTo>
                    <a:lnTo>
                      <a:pt x="531" y="5"/>
                    </a:lnTo>
                    <a:lnTo>
                      <a:pt x="531" y="7"/>
                    </a:lnTo>
                    <a:lnTo>
                      <a:pt x="531" y="9"/>
                    </a:lnTo>
                    <a:lnTo>
                      <a:pt x="531" y="11"/>
                    </a:lnTo>
                    <a:lnTo>
                      <a:pt x="531" y="12"/>
                    </a:lnTo>
                    <a:lnTo>
                      <a:pt x="527" y="15"/>
                    </a:lnTo>
                    <a:lnTo>
                      <a:pt x="524" y="16"/>
                    </a:lnTo>
                    <a:lnTo>
                      <a:pt x="522" y="17"/>
                    </a:lnTo>
                    <a:lnTo>
                      <a:pt x="520" y="17"/>
                    </a:lnTo>
                    <a:lnTo>
                      <a:pt x="520" y="17"/>
                    </a:lnTo>
                    <a:close/>
                    <a:moveTo>
                      <a:pt x="477" y="17"/>
                    </a:moveTo>
                    <a:lnTo>
                      <a:pt x="477" y="17"/>
                    </a:lnTo>
                    <a:lnTo>
                      <a:pt x="475" y="17"/>
                    </a:lnTo>
                    <a:lnTo>
                      <a:pt x="472" y="16"/>
                    </a:lnTo>
                    <a:lnTo>
                      <a:pt x="469" y="15"/>
                    </a:lnTo>
                    <a:lnTo>
                      <a:pt x="467" y="12"/>
                    </a:lnTo>
                    <a:lnTo>
                      <a:pt x="467" y="11"/>
                    </a:lnTo>
                    <a:lnTo>
                      <a:pt x="467" y="9"/>
                    </a:lnTo>
                    <a:lnTo>
                      <a:pt x="467" y="7"/>
                    </a:lnTo>
                    <a:lnTo>
                      <a:pt x="467" y="5"/>
                    </a:lnTo>
                    <a:lnTo>
                      <a:pt x="469" y="3"/>
                    </a:lnTo>
                    <a:lnTo>
                      <a:pt x="472" y="1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79" y="0"/>
                    </a:lnTo>
                    <a:lnTo>
                      <a:pt x="481" y="1"/>
                    </a:lnTo>
                    <a:lnTo>
                      <a:pt x="484" y="3"/>
                    </a:lnTo>
                    <a:lnTo>
                      <a:pt x="487" y="5"/>
                    </a:lnTo>
                    <a:lnTo>
                      <a:pt x="487" y="7"/>
                    </a:lnTo>
                    <a:lnTo>
                      <a:pt x="487" y="9"/>
                    </a:lnTo>
                    <a:lnTo>
                      <a:pt x="487" y="11"/>
                    </a:lnTo>
                    <a:lnTo>
                      <a:pt x="487" y="12"/>
                    </a:lnTo>
                    <a:lnTo>
                      <a:pt x="484" y="15"/>
                    </a:lnTo>
                    <a:lnTo>
                      <a:pt x="481" y="16"/>
                    </a:lnTo>
                    <a:lnTo>
                      <a:pt x="479" y="17"/>
                    </a:lnTo>
                    <a:lnTo>
                      <a:pt x="477" y="17"/>
                    </a:lnTo>
                    <a:lnTo>
                      <a:pt x="477" y="17"/>
                    </a:lnTo>
                    <a:close/>
                    <a:moveTo>
                      <a:pt x="434" y="17"/>
                    </a:moveTo>
                    <a:lnTo>
                      <a:pt x="434" y="17"/>
                    </a:lnTo>
                    <a:lnTo>
                      <a:pt x="432" y="17"/>
                    </a:lnTo>
                    <a:lnTo>
                      <a:pt x="429" y="16"/>
                    </a:lnTo>
                    <a:lnTo>
                      <a:pt x="425" y="15"/>
                    </a:lnTo>
                    <a:lnTo>
                      <a:pt x="424" y="12"/>
                    </a:lnTo>
                    <a:lnTo>
                      <a:pt x="424" y="11"/>
                    </a:lnTo>
                    <a:lnTo>
                      <a:pt x="424" y="9"/>
                    </a:lnTo>
                    <a:lnTo>
                      <a:pt x="424" y="7"/>
                    </a:lnTo>
                    <a:lnTo>
                      <a:pt x="424" y="5"/>
                    </a:lnTo>
                    <a:lnTo>
                      <a:pt x="425" y="3"/>
                    </a:lnTo>
                    <a:lnTo>
                      <a:pt x="429" y="1"/>
                    </a:lnTo>
                    <a:lnTo>
                      <a:pt x="432" y="0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6" y="0"/>
                    </a:lnTo>
                    <a:lnTo>
                      <a:pt x="438" y="1"/>
                    </a:lnTo>
                    <a:lnTo>
                      <a:pt x="441" y="3"/>
                    </a:lnTo>
                    <a:lnTo>
                      <a:pt x="444" y="5"/>
                    </a:lnTo>
                    <a:lnTo>
                      <a:pt x="444" y="7"/>
                    </a:lnTo>
                    <a:lnTo>
                      <a:pt x="444" y="9"/>
                    </a:lnTo>
                    <a:lnTo>
                      <a:pt x="444" y="11"/>
                    </a:lnTo>
                    <a:lnTo>
                      <a:pt x="444" y="12"/>
                    </a:lnTo>
                    <a:lnTo>
                      <a:pt x="441" y="15"/>
                    </a:lnTo>
                    <a:lnTo>
                      <a:pt x="438" y="16"/>
                    </a:lnTo>
                    <a:lnTo>
                      <a:pt x="436" y="17"/>
                    </a:lnTo>
                    <a:lnTo>
                      <a:pt x="434" y="17"/>
                    </a:lnTo>
                    <a:lnTo>
                      <a:pt x="434" y="17"/>
                    </a:lnTo>
                    <a:close/>
                    <a:moveTo>
                      <a:pt x="391" y="17"/>
                    </a:moveTo>
                    <a:lnTo>
                      <a:pt x="391" y="17"/>
                    </a:lnTo>
                    <a:lnTo>
                      <a:pt x="389" y="17"/>
                    </a:lnTo>
                    <a:lnTo>
                      <a:pt x="386" y="16"/>
                    </a:lnTo>
                    <a:lnTo>
                      <a:pt x="382" y="15"/>
                    </a:lnTo>
                    <a:lnTo>
                      <a:pt x="381" y="12"/>
                    </a:lnTo>
                    <a:lnTo>
                      <a:pt x="381" y="11"/>
                    </a:lnTo>
                    <a:lnTo>
                      <a:pt x="381" y="9"/>
                    </a:lnTo>
                    <a:lnTo>
                      <a:pt x="381" y="7"/>
                    </a:lnTo>
                    <a:lnTo>
                      <a:pt x="381" y="5"/>
                    </a:lnTo>
                    <a:lnTo>
                      <a:pt x="382" y="3"/>
                    </a:lnTo>
                    <a:lnTo>
                      <a:pt x="386" y="1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5" y="1"/>
                    </a:lnTo>
                    <a:lnTo>
                      <a:pt x="398" y="3"/>
                    </a:lnTo>
                    <a:lnTo>
                      <a:pt x="401" y="5"/>
                    </a:lnTo>
                    <a:lnTo>
                      <a:pt x="401" y="7"/>
                    </a:lnTo>
                    <a:lnTo>
                      <a:pt x="401" y="9"/>
                    </a:lnTo>
                    <a:lnTo>
                      <a:pt x="401" y="11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6"/>
                    </a:lnTo>
                    <a:lnTo>
                      <a:pt x="393" y="17"/>
                    </a:lnTo>
                    <a:lnTo>
                      <a:pt x="391" y="17"/>
                    </a:lnTo>
                    <a:lnTo>
                      <a:pt x="391" y="17"/>
                    </a:lnTo>
                    <a:close/>
                    <a:moveTo>
                      <a:pt x="348" y="17"/>
                    </a:moveTo>
                    <a:lnTo>
                      <a:pt x="348" y="17"/>
                    </a:lnTo>
                    <a:lnTo>
                      <a:pt x="346" y="17"/>
                    </a:lnTo>
                    <a:lnTo>
                      <a:pt x="343" y="16"/>
                    </a:lnTo>
                    <a:lnTo>
                      <a:pt x="339" y="15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9" y="3"/>
                    </a:lnTo>
                    <a:lnTo>
                      <a:pt x="343" y="1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50" y="0"/>
                    </a:lnTo>
                    <a:lnTo>
                      <a:pt x="351" y="1"/>
                    </a:lnTo>
                    <a:lnTo>
                      <a:pt x="355" y="3"/>
                    </a:lnTo>
                    <a:lnTo>
                      <a:pt x="358" y="5"/>
                    </a:lnTo>
                    <a:lnTo>
                      <a:pt x="358" y="7"/>
                    </a:lnTo>
                    <a:lnTo>
                      <a:pt x="358" y="9"/>
                    </a:lnTo>
                    <a:lnTo>
                      <a:pt x="358" y="11"/>
                    </a:lnTo>
                    <a:lnTo>
                      <a:pt x="358" y="12"/>
                    </a:lnTo>
                    <a:lnTo>
                      <a:pt x="355" y="15"/>
                    </a:lnTo>
                    <a:lnTo>
                      <a:pt x="351" y="16"/>
                    </a:lnTo>
                    <a:lnTo>
                      <a:pt x="350" y="17"/>
                    </a:lnTo>
                    <a:lnTo>
                      <a:pt x="348" y="17"/>
                    </a:lnTo>
                    <a:lnTo>
                      <a:pt x="348" y="17"/>
                    </a:lnTo>
                    <a:close/>
                    <a:moveTo>
                      <a:pt x="305" y="17"/>
                    </a:moveTo>
                    <a:lnTo>
                      <a:pt x="305" y="17"/>
                    </a:lnTo>
                    <a:lnTo>
                      <a:pt x="303" y="17"/>
                    </a:lnTo>
                    <a:lnTo>
                      <a:pt x="300" y="16"/>
                    </a:lnTo>
                    <a:lnTo>
                      <a:pt x="296" y="15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95" y="9"/>
                    </a:lnTo>
                    <a:lnTo>
                      <a:pt x="295" y="7"/>
                    </a:lnTo>
                    <a:lnTo>
                      <a:pt x="295" y="5"/>
                    </a:lnTo>
                    <a:lnTo>
                      <a:pt x="296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12" y="3"/>
                    </a:lnTo>
                    <a:lnTo>
                      <a:pt x="315" y="5"/>
                    </a:lnTo>
                    <a:lnTo>
                      <a:pt x="315" y="7"/>
                    </a:lnTo>
                    <a:lnTo>
                      <a:pt x="315" y="9"/>
                    </a:lnTo>
                    <a:lnTo>
                      <a:pt x="315" y="11"/>
                    </a:lnTo>
                    <a:lnTo>
                      <a:pt x="315" y="12"/>
                    </a:lnTo>
                    <a:lnTo>
                      <a:pt x="312" y="15"/>
                    </a:lnTo>
                    <a:lnTo>
                      <a:pt x="308" y="16"/>
                    </a:lnTo>
                    <a:lnTo>
                      <a:pt x="307" y="17"/>
                    </a:lnTo>
                    <a:lnTo>
                      <a:pt x="305" y="17"/>
                    </a:lnTo>
                    <a:lnTo>
                      <a:pt x="305" y="17"/>
                    </a:lnTo>
                    <a:close/>
                    <a:moveTo>
                      <a:pt x="262" y="17"/>
                    </a:moveTo>
                    <a:lnTo>
                      <a:pt x="262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3" y="15"/>
                    </a:lnTo>
                    <a:lnTo>
                      <a:pt x="252" y="12"/>
                    </a:lnTo>
                    <a:lnTo>
                      <a:pt x="252" y="11"/>
                    </a:lnTo>
                    <a:lnTo>
                      <a:pt x="252" y="9"/>
                    </a:lnTo>
                    <a:lnTo>
                      <a:pt x="252" y="7"/>
                    </a:lnTo>
                    <a:lnTo>
                      <a:pt x="252" y="5"/>
                    </a:lnTo>
                    <a:lnTo>
                      <a:pt x="253" y="3"/>
                    </a:lnTo>
                    <a:lnTo>
                      <a:pt x="257" y="1"/>
                    </a:lnTo>
                    <a:lnTo>
                      <a:pt x="26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1"/>
                    </a:lnTo>
                    <a:lnTo>
                      <a:pt x="269" y="3"/>
                    </a:lnTo>
                    <a:lnTo>
                      <a:pt x="272" y="5"/>
                    </a:lnTo>
                    <a:lnTo>
                      <a:pt x="272" y="7"/>
                    </a:lnTo>
                    <a:lnTo>
                      <a:pt x="272" y="9"/>
                    </a:lnTo>
                    <a:lnTo>
                      <a:pt x="272" y="11"/>
                    </a:lnTo>
                    <a:lnTo>
                      <a:pt x="272" y="12"/>
                    </a:lnTo>
                    <a:lnTo>
                      <a:pt x="269" y="15"/>
                    </a:lnTo>
                    <a:lnTo>
                      <a:pt x="265" y="16"/>
                    </a:lnTo>
                    <a:lnTo>
                      <a:pt x="264" y="17"/>
                    </a:lnTo>
                    <a:lnTo>
                      <a:pt x="262" y="17"/>
                    </a:lnTo>
                    <a:lnTo>
                      <a:pt x="262" y="17"/>
                    </a:lnTo>
                    <a:close/>
                    <a:moveTo>
                      <a:pt x="219" y="17"/>
                    </a:moveTo>
                    <a:lnTo>
                      <a:pt x="219" y="17"/>
                    </a:lnTo>
                    <a:lnTo>
                      <a:pt x="217" y="17"/>
                    </a:lnTo>
                    <a:lnTo>
                      <a:pt x="214" y="16"/>
                    </a:lnTo>
                    <a:lnTo>
                      <a:pt x="210" y="15"/>
                    </a:lnTo>
                    <a:lnTo>
                      <a:pt x="209" y="12"/>
                    </a:lnTo>
                    <a:lnTo>
                      <a:pt x="209" y="11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9" y="5"/>
                    </a:lnTo>
                    <a:lnTo>
                      <a:pt x="210" y="3"/>
                    </a:lnTo>
                    <a:lnTo>
                      <a:pt x="214" y="1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9" y="5"/>
                    </a:lnTo>
                    <a:lnTo>
                      <a:pt x="229" y="7"/>
                    </a:lnTo>
                    <a:lnTo>
                      <a:pt x="229" y="9"/>
                    </a:lnTo>
                    <a:lnTo>
                      <a:pt x="229" y="11"/>
                    </a:lnTo>
                    <a:lnTo>
                      <a:pt x="229" y="12"/>
                    </a:lnTo>
                    <a:lnTo>
                      <a:pt x="226" y="15"/>
                    </a:lnTo>
                    <a:lnTo>
                      <a:pt x="222" y="16"/>
                    </a:lnTo>
                    <a:lnTo>
                      <a:pt x="221" y="17"/>
                    </a:lnTo>
                    <a:lnTo>
                      <a:pt x="219" y="17"/>
                    </a:lnTo>
                    <a:lnTo>
                      <a:pt x="219" y="17"/>
                    </a:lnTo>
                    <a:close/>
                    <a:moveTo>
                      <a:pt x="176" y="17"/>
                    </a:moveTo>
                    <a:lnTo>
                      <a:pt x="176" y="17"/>
                    </a:lnTo>
                    <a:lnTo>
                      <a:pt x="174" y="17"/>
                    </a:lnTo>
                    <a:lnTo>
                      <a:pt x="171" y="16"/>
                    </a:lnTo>
                    <a:lnTo>
                      <a:pt x="167" y="15"/>
                    </a:lnTo>
                    <a:lnTo>
                      <a:pt x="166" y="12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7" y="3"/>
                    </a:lnTo>
                    <a:lnTo>
                      <a:pt x="171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79" y="1"/>
                    </a:lnTo>
                    <a:lnTo>
                      <a:pt x="183" y="3"/>
                    </a:lnTo>
                    <a:lnTo>
                      <a:pt x="186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2"/>
                    </a:lnTo>
                    <a:lnTo>
                      <a:pt x="183" y="15"/>
                    </a:lnTo>
                    <a:lnTo>
                      <a:pt x="179" y="16"/>
                    </a:lnTo>
                    <a:lnTo>
                      <a:pt x="178" y="17"/>
                    </a:lnTo>
                    <a:lnTo>
                      <a:pt x="176" y="17"/>
                    </a:lnTo>
                    <a:lnTo>
                      <a:pt x="176" y="17"/>
                    </a:lnTo>
                    <a:close/>
                    <a:moveTo>
                      <a:pt x="133" y="17"/>
                    </a:moveTo>
                    <a:lnTo>
                      <a:pt x="133" y="17"/>
                    </a:lnTo>
                    <a:lnTo>
                      <a:pt x="129" y="17"/>
                    </a:lnTo>
                    <a:lnTo>
                      <a:pt x="128" y="16"/>
                    </a:lnTo>
                    <a:lnTo>
                      <a:pt x="124" y="15"/>
                    </a:lnTo>
                    <a:lnTo>
                      <a:pt x="122" y="12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4" y="3"/>
                    </a:lnTo>
                    <a:lnTo>
                      <a:pt x="128" y="1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40" y="3"/>
                    </a:lnTo>
                    <a:lnTo>
                      <a:pt x="143" y="5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3" y="12"/>
                    </a:lnTo>
                    <a:lnTo>
                      <a:pt x="140" y="15"/>
                    </a:lnTo>
                    <a:lnTo>
                      <a:pt x="136" y="16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7"/>
                    </a:lnTo>
                    <a:close/>
                    <a:moveTo>
                      <a:pt x="90" y="17"/>
                    </a:moveTo>
                    <a:lnTo>
                      <a:pt x="90" y="17"/>
                    </a:lnTo>
                    <a:lnTo>
                      <a:pt x="86" y="17"/>
                    </a:lnTo>
                    <a:lnTo>
                      <a:pt x="85" y="16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1" y="3"/>
                    </a:lnTo>
                    <a:lnTo>
                      <a:pt x="85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0" y="7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100" y="12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90" y="17"/>
                    </a:lnTo>
                    <a:lnTo>
                      <a:pt x="90" y="17"/>
                    </a:lnTo>
                    <a:close/>
                    <a:moveTo>
                      <a:pt x="47" y="17"/>
                    </a:moveTo>
                    <a:lnTo>
                      <a:pt x="47" y="17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50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  <a:moveTo>
                      <a:pt x="23" y="15"/>
                    </a:moveTo>
                    <a:lnTo>
                      <a:pt x="23" y="15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  <a:moveTo>
                      <a:pt x="23" y="48"/>
                    </a:moveTo>
                    <a:lnTo>
                      <a:pt x="23" y="48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5"/>
                    </a:lnTo>
                    <a:lnTo>
                      <a:pt x="16" y="56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6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7" y="41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9" y="43"/>
                    </a:lnTo>
                    <a:lnTo>
                      <a:pt x="21" y="45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  <a:moveTo>
                      <a:pt x="23" y="82"/>
                    </a:moveTo>
                    <a:lnTo>
                      <a:pt x="23" y="82"/>
                    </a:lnTo>
                    <a:lnTo>
                      <a:pt x="23" y="84"/>
                    </a:lnTo>
                    <a:lnTo>
                      <a:pt x="21" y="86"/>
                    </a:lnTo>
                    <a:lnTo>
                      <a:pt x="19" y="88"/>
                    </a:lnTo>
                    <a:lnTo>
                      <a:pt x="16" y="90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9" y="91"/>
                    </a:lnTo>
                    <a:lnTo>
                      <a:pt x="7" y="90"/>
                    </a:lnTo>
                    <a:lnTo>
                      <a:pt x="4" y="88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2" y="79"/>
                    </a:lnTo>
                    <a:lnTo>
                      <a:pt x="4" y="76"/>
                    </a:lnTo>
                    <a:lnTo>
                      <a:pt x="7" y="75"/>
                    </a:lnTo>
                    <a:lnTo>
                      <a:pt x="9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6" y="75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3" y="80"/>
                    </a:lnTo>
                    <a:lnTo>
                      <a:pt x="23" y="82"/>
                    </a:lnTo>
                    <a:lnTo>
                      <a:pt x="23" y="82"/>
                    </a:lnTo>
                    <a:close/>
                    <a:moveTo>
                      <a:pt x="54" y="74"/>
                    </a:moveTo>
                    <a:lnTo>
                      <a:pt x="54" y="74"/>
                    </a:lnTo>
                    <a:lnTo>
                      <a:pt x="57" y="74"/>
                    </a:lnTo>
                    <a:lnTo>
                      <a:pt x="59" y="75"/>
                    </a:lnTo>
                    <a:lnTo>
                      <a:pt x="62" y="76"/>
                    </a:lnTo>
                    <a:lnTo>
                      <a:pt x="64" y="79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6" y="84"/>
                    </a:lnTo>
                    <a:lnTo>
                      <a:pt x="64" y="86"/>
                    </a:lnTo>
                    <a:lnTo>
                      <a:pt x="62" y="88"/>
                    </a:lnTo>
                    <a:lnTo>
                      <a:pt x="59" y="90"/>
                    </a:lnTo>
                    <a:lnTo>
                      <a:pt x="57" y="91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5" y="86"/>
                    </a:lnTo>
                    <a:lnTo>
                      <a:pt x="43" y="84"/>
                    </a:lnTo>
                    <a:lnTo>
                      <a:pt x="43" y="83"/>
                    </a:lnTo>
                    <a:lnTo>
                      <a:pt x="43" y="80"/>
                    </a:lnTo>
                    <a:lnTo>
                      <a:pt x="45" y="79"/>
                    </a:lnTo>
                    <a:lnTo>
                      <a:pt x="47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4" y="74"/>
                    </a:lnTo>
                    <a:close/>
                    <a:moveTo>
                      <a:pt x="97" y="74"/>
                    </a:moveTo>
                    <a:lnTo>
                      <a:pt x="98" y="74"/>
                    </a:lnTo>
                    <a:lnTo>
                      <a:pt x="100" y="74"/>
                    </a:lnTo>
                    <a:lnTo>
                      <a:pt x="102" y="75"/>
                    </a:lnTo>
                    <a:lnTo>
                      <a:pt x="105" y="76"/>
                    </a:lnTo>
                    <a:lnTo>
                      <a:pt x="107" y="79"/>
                    </a:lnTo>
                    <a:lnTo>
                      <a:pt x="109" y="80"/>
                    </a:lnTo>
                    <a:lnTo>
                      <a:pt x="109" y="83"/>
                    </a:lnTo>
                    <a:lnTo>
                      <a:pt x="109" y="84"/>
                    </a:lnTo>
                    <a:lnTo>
                      <a:pt x="107" y="86"/>
                    </a:lnTo>
                    <a:lnTo>
                      <a:pt x="105" y="88"/>
                    </a:lnTo>
                    <a:lnTo>
                      <a:pt x="102" y="90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6"/>
                    </a:lnTo>
                    <a:lnTo>
                      <a:pt x="86" y="84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90" y="76"/>
                    </a:lnTo>
                    <a:lnTo>
                      <a:pt x="93" y="75"/>
                    </a:lnTo>
                    <a:lnTo>
                      <a:pt x="95" y="74"/>
                    </a:lnTo>
                    <a:lnTo>
                      <a:pt x="97" y="74"/>
                    </a:lnTo>
                    <a:lnTo>
                      <a:pt x="97" y="74"/>
                    </a:lnTo>
                    <a:close/>
                    <a:moveTo>
                      <a:pt x="141" y="74"/>
                    </a:moveTo>
                    <a:lnTo>
                      <a:pt x="141" y="74"/>
                    </a:lnTo>
                    <a:lnTo>
                      <a:pt x="143" y="74"/>
                    </a:lnTo>
                    <a:lnTo>
                      <a:pt x="145" y="75"/>
                    </a:lnTo>
                    <a:lnTo>
                      <a:pt x="148" y="76"/>
                    </a:lnTo>
                    <a:lnTo>
                      <a:pt x="150" y="79"/>
                    </a:lnTo>
                    <a:lnTo>
                      <a:pt x="152" y="80"/>
                    </a:lnTo>
                    <a:lnTo>
                      <a:pt x="152" y="83"/>
                    </a:lnTo>
                    <a:lnTo>
                      <a:pt x="152" y="84"/>
                    </a:lnTo>
                    <a:lnTo>
                      <a:pt x="150" y="86"/>
                    </a:lnTo>
                    <a:lnTo>
                      <a:pt x="148" y="88"/>
                    </a:lnTo>
                    <a:lnTo>
                      <a:pt x="145" y="90"/>
                    </a:lnTo>
                    <a:lnTo>
                      <a:pt x="143" y="91"/>
                    </a:lnTo>
                    <a:lnTo>
                      <a:pt x="141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0"/>
                    </a:lnTo>
                    <a:lnTo>
                      <a:pt x="133" y="88"/>
                    </a:lnTo>
                    <a:lnTo>
                      <a:pt x="131" y="86"/>
                    </a:lnTo>
                    <a:lnTo>
                      <a:pt x="129" y="84"/>
                    </a:lnTo>
                    <a:lnTo>
                      <a:pt x="129" y="83"/>
                    </a:lnTo>
                    <a:lnTo>
                      <a:pt x="129" y="80"/>
                    </a:lnTo>
                    <a:lnTo>
                      <a:pt x="131" y="79"/>
                    </a:lnTo>
                    <a:lnTo>
                      <a:pt x="133" y="76"/>
                    </a:lnTo>
                    <a:lnTo>
                      <a:pt x="136" y="75"/>
                    </a:lnTo>
                    <a:lnTo>
                      <a:pt x="138" y="74"/>
                    </a:lnTo>
                    <a:lnTo>
                      <a:pt x="141" y="74"/>
                    </a:lnTo>
                    <a:lnTo>
                      <a:pt x="141" y="74"/>
                    </a:lnTo>
                    <a:close/>
                    <a:moveTo>
                      <a:pt x="184" y="74"/>
                    </a:moveTo>
                    <a:lnTo>
                      <a:pt x="184" y="74"/>
                    </a:lnTo>
                    <a:lnTo>
                      <a:pt x="186" y="74"/>
                    </a:lnTo>
                    <a:lnTo>
                      <a:pt x="188" y="75"/>
                    </a:lnTo>
                    <a:lnTo>
                      <a:pt x="191" y="76"/>
                    </a:lnTo>
                    <a:lnTo>
                      <a:pt x="193" y="79"/>
                    </a:lnTo>
                    <a:lnTo>
                      <a:pt x="195" y="80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3" y="86"/>
                    </a:lnTo>
                    <a:lnTo>
                      <a:pt x="191" y="88"/>
                    </a:lnTo>
                    <a:lnTo>
                      <a:pt x="188" y="90"/>
                    </a:lnTo>
                    <a:lnTo>
                      <a:pt x="186" y="91"/>
                    </a:lnTo>
                    <a:lnTo>
                      <a:pt x="184" y="91"/>
                    </a:lnTo>
                    <a:lnTo>
                      <a:pt x="184" y="91"/>
                    </a:lnTo>
                    <a:lnTo>
                      <a:pt x="181" y="91"/>
                    </a:lnTo>
                    <a:lnTo>
                      <a:pt x="179" y="90"/>
                    </a:lnTo>
                    <a:lnTo>
                      <a:pt x="176" y="88"/>
                    </a:lnTo>
                    <a:lnTo>
                      <a:pt x="174" y="86"/>
                    </a:lnTo>
                    <a:lnTo>
                      <a:pt x="172" y="84"/>
                    </a:lnTo>
                    <a:lnTo>
                      <a:pt x="172" y="83"/>
                    </a:lnTo>
                    <a:lnTo>
                      <a:pt x="172" y="80"/>
                    </a:lnTo>
                    <a:lnTo>
                      <a:pt x="174" y="79"/>
                    </a:lnTo>
                    <a:lnTo>
                      <a:pt x="176" y="76"/>
                    </a:lnTo>
                    <a:lnTo>
                      <a:pt x="179" y="75"/>
                    </a:lnTo>
                    <a:lnTo>
                      <a:pt x="181" y="74"/>
                    </a:lnTo>
                    <a:lnTo>
                      <a:pt x="184" y="74"/>
                    </a:lnTo>
                    <a:lnTo>
                      <a:pt x="184" y="74"/>
                    </a:lnTo>
                    <a:close/>
                    <a:moveTo>
                      <a:pt x="228" y="74"/>
                    </a:moveTo>
                    <a:lnTo>
                      <a:pt x="228" y="74"/>
                    </a:lnTo>
                    <a:lnTo>
                      <a:pt x="229" y="74"/>
                    </a:lnTo>
                    <a:lnTo>
                      <a:pt x="231" y="75"/>
                    </a:lnTo>
                    <a:lnTo>
                      <a:pt x="234" y="76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38" y="83"/>
                    </a:lnTo>
                    <a:lnTo>
                      <a:pt x="238" y="84"/>
                    </a:lnTo>
                    <a:lnTo>
                      <a:pt x="236" y="86"/>
                    </a:lnTo>
                    <a:lnTo>
                      <a:pt x="234" y="88"/>
                    </a:lnTo>
                    <a:lnTo>
                      <a:pt x="231" y="90"/>
                    </a:lnTo>
                    <a:lnTo>
                      <a:pt x="229" y="91"/>
                    </a:lnTo>
                    <a:lnTo>
                      <a:pt x="228" y="91"/>
                    </a:lnTo>
                    <a:lnTo>
                      <a:pt x="228" y="91"/>
                    </a:lnTo>
                    <a:lnTo>
                      <a:pt x="224" y="91"/>
                    </a:lnTo>
                    <a:lnTo>
                      <a:pt x="222" y="90"/>
                    </a:lnTo>
                    <a:lnTo>
                      <a:pt x="219" y="88"/>
                    </a:lnTo>
                    <a:lnTo>
                      <a:pt x="217" y="86"/>
                    </a:lnTo>
                    <a:lnTo>
                      <a:pt x="215" y="84"/>
                    </a:lnTo>
                    <a:lnTo>
                      <a:pt x="215" y="83"/>
                    </a:lnTo>
                    <a:lnTo>
                      <a:pt x="215" y="80"/>
                    </a:lnTo>
                    <a:lnTo>
                      <a:pt x="217" y="79"/>
                    </a:lnTo>
                    <a:lnTo>
                      <a:pt x="219" y="76"/>
                    </a:lnTo>
                    <a:lnTo>
                      <a:pt x="222" y="75"/>
                    </a:lnTo>
                    <a:lnTo>
                      <a:pt x="224" y="74"/>
                    </a:lnTo>
                    <a:lnTo>
                      <a:pt x="228" y="74"/>
                    </a:lnTo>
                    <a:lnTo>
                      <a:pt x="228" y="74"/>
                    </a:lnTo>
                    <a:close/>
                    <a:moveTo>
                      <a:pt x="271" y="74"/>
                    </a:moveTo>
                    <a:lnTo>
                      <a:pt x="271" y="74"/>
                    </a:lnTo>
                    <a:lnTo>
                      <a:pt x="272" y="74"/>
                    </a:lnTo>
                    <a:lnTo>
                      <a:pt x="274" y="75"/>
                    </a:lnTo>
                    <a:lnTo>
                      <a:pt x="277" y="76"/>
                    </a:lnTo>
                    <a:lnTo>
                      <a:pt x="279" y="79"/>
                    </a:lnTo>
                    <a:lnTo>
                      <a:pt x="281" y="80"/>
                    </a:lnTo>
                    <a:lnTo>
                      <a:pt x="281" y="83"/>
                    </a:lnTo>
                    <a:lnTo>
                      <a:pt x="281" y="84"/>
                    </a:lnTo>
                    <a:lnTo>
                      <a:pt x="279" y="86"/>
                    </a:lnTo>
                    <a:lnTo>
                      <a:pt x="277" y="88"/>
                    </a:lnTo>
                    <a:lnTo>
                      <a:pt x="274" y="90"/>
                    </a:lnTo>
                    <a:lnTo>
                      <a:pt x="272" y="91"/>
                    </a:lnTo>
                    <a:lnTo>
                      <a:pt x="271" y="91"/>
                    </a:lnTo>
                    <a:lnTo>
                      <a:pt x="271" y="91"/>
                    </a:lnTo>
                    <a:lnTo>
                      <a:pt x="267" y="91"/>
                    </a:lnTo>
                    <a:lnTo>
                      <a:pt x="265" y="90"/>
                    </a:lnTo>
                    <a:lnTo>
                      <a:pt x="262" y="88"/>
                    </a:lnTo>
                    <a:lnTo>
                      <a:pt x="260" y="86"/>
                    </a:lnTo>
                    <a:lnTo>
                      <a:pt x="258" y="84"/>
                    </a:lnTo>
                    <a:lnTo>
                      <a:pt x="258" y="83"/>
                    </a:lnTo>
                    <a:lnTo>
                      <a:pt x="258" y="80"/>
                    </a:lnTo>
                    <a:lnTo>
                      <a:pt x="260" y="79"/>
                    </a:lnTo>
                    <a:lnTo>
                      <a:pt x="262" y="76"/>
                    </a:lnTo>
                    <a:lnTo>
                      <a:pt x="265" y="75"/>
                    </a:lnTo>
                    <a:lnTo>
                      <a:pt x="267" y="74"/>
                    </a:lnTo>
                    <a:lnTo>
                      <a:pt x="271" y="74"/>
                    </a:lnTo>
                    <a:lnTo>
                      <a:pt x="271" y="74"/>
                    </a:lnTo>
                    <a:close/>
                    <a:moveTo>
                      <a:pt x="314" y="74"/>
                    </a:moveTo>
                    <a:lnTo>
                      <a:pt x="314" y="74"/>
                    </a:lnTo>
                    <a:lnTo>
                      <a:pt x="315" y="74"/>
                    </a:lnTo>
                    <a:lnTo>
                      <a:pt x="317" y="75"/>
                    </a:lnTo>
                    <a:lnTo>
                      <a:pt x="320" y="76"/>
                    </a:lnTo>
                    <a:lnTo>
                      <a:pt x="322" y="79"/>
                    </a:lnTo>
                    <a:lnTo>
                      <a:pt x="324" y="80"/>
                    </a:lnTo>
                    <a:lnTo>
                      <a:pt x="324" y="83"/>
                    </a:lnTo>
                    <a:lnTo>
                      <a:pt x="324" y="84"/>
                    </a:lnTo>
                    <a:lnTo>
                      <a:pt x="322" y="86"/>
                    </a:lnTo>
                    <a:lnTo>
                      <a:pt x="320" y="88"/>
                    </a:lnTo>
                    <a:lnTo>
                      <a:pt x="317" y="90"/>
                    </a:lnTo>
                    <a:lnTo>
                      <a:pt x="315" y="91"/>
                    </a:lnTo>
                    <a:lnTo>
                      <a:pt x="314" y="91"/>
                    </a:lnTo>
                    <a:lnTo>
                      <a:pt x="314" y="91"/>
                    </a:lnTo>
                    <a:lnTo>
                      <a:pt x="310" y="91"/>
                    </a:lnTo>
                    <a:lnTo>
                      <a:pt x="308" y="90"/>
                    </a:lnTo>
                    <a:lnTo>
                      <a:pt x="305" y="88"/>
                    </a:lnTo>
                    <a:lnTo>
                      <a:pt x="303" y="86"/>
                    </a:lnTo>
                    <a:lnTo>
                      <a:pt x="302" y="84"/>
                    </a:lnTo>
                    <a:lnTo>
                      <a:pt x="302" y="83"/>
                    </a:lnTo>
                    <a:lnTo>
                      <a:pt x="302" y="80"/>
                    </a:lnTo>
                    <a:lnTo>
                      <a:pt x="303" y="79"/>
                    </a:lnTo>
                    <a:lnTo>
                      <a:pt x="305" y="76"/>
                    </a:lnTo>
                    <a:lnTo>
                      <a:pt x="308" y="75"/>
                    </a:lnTo>
                    <a:lnTo>
                      <a:pt x="310" y="74"/>
                    </a:lnTo>
                    <a:lnTo>
                      <a:pt x="314" y="74"/>
                    </a:lnTo>
                    <a:lnTo>
                      <a:pt x="314" y="74"/>
                    </a:lnTo>
                    <a:close/>
                    <a:moveTo>
                      <a:pt x="357" y="74"/>
                    </a:moveTo>
                    <a:lnTo>
                      <a:pt x="357" y="74"/>
                    </a:lnTo>
                    <a:lnTo>
                      <a:pt x="358" y="74"/>
                    </a:lnTo>
                    <a:lnTo>
                      <a:pt x="360" y="75"/>
                    </a:lnTo>
                    <a:lnTo>
                      <a:pt x="364" y="76"/>
                    </a:lnTo>
                    <a:lnTo>
                      <a:pt x="365" y="79"/>
                    </a:lnTo>
                    <a:lnTo>
                      <a:pt x="367" y="80"/>
                    </a:lnTo>
                    <a:lnTo>
                      <a:pt x="367" y="83"/>
                    </a:lnTo>
                    <a:lnTo>
                      <a:pt x="367" y="84"/>
                    </a:lnTo>
                    <a:lnTo>
                      <a:pt x="365" y="86"/>
                    </a:lnTo>
                    <a:lnTo>
                      <a:pt x="364" y="88"/>
                    </a:lnTo>
                    <a:lnTo>
                      <a:pt x="360" y="90"/>
                    </a:lnTo>
                    <a:lnTo>
                      <a:pt x="358" y="91"/>
                    </a:lnTo>
                    <a:lnTo>
                      <a:pt x="357" y="91"/>
                    </a:lnTo>
                    <a:lnTo>
                      <a:pt x="357" y="91"/>
                    </a:lnTo>
                    <a:lnTo>
                      <a:pt x="353" y="91"/>
                    </a:lnTo>
                    <a:lnTo>
                      <a:pt x="351" y="90"/>
                    </a:lnTo>
                    <a:lnTo>
                      <a:pt x="348" y="88"/>
                    </a:lnTo>
                    <a:lnTo>
                      <a:pt x="346" y="86"/>
                    </a:lnTo>
                    <a:lnTo>
                      <a:pt x="345" y="84"/>
                    </a:lnTo>
                    <a:lnTo>
                      <a:pt x="345" y="83"/>
                    </a:lnTo>
                    <a:lnTo>
                      <a:pt x="345" y="80"/>
                    </a:lnTo>
                    <a:lnTo>
                      <a:pt x="346" y="79"/>
                    </a:lnTo>
                    <a:lnTo>
                      <a:pt x="348" y="76"/>
                    </a:lnTo>
                    <a:lnTo>
                      <a:pt x="351" y="75"/>
                    </a:lnTo>
                    <a:lnTo>
                      <a:pt x="353" y="74"/>
                    </a:lnTo>
                    <a:lnTo>
                      <a:pt x="357" y="74"/>
                    </a:lnTo>
                    <a:lnTo>
                      <a:pt x="357" y="74"/>
                    </a:lnTo>
                    <a:close/>
                    <a:moveTo>
                      <a:pt x="400" y="74"/>
                    </a:moveTo>
                    <a:lnTo>
                      <a:pt x="400" y="74"/>
                    </a:lnTo>
                    <a:lnTo>
                      <a:pt x="401" y="74"/>
                    </a:lnTo>
                    <a:lnTo>
                      <a:pt x="403" y="75"/>
                    </a:lnTo>
                    <a:lnTo>
                      <a:pt x="407" y="76"/>
                    </a:lnTo>
                    <a:lnTo>
                      <a:pt x="408" y="79"/>
                    </a:lnTo>
                    <a:lnTo>
                      <a:pt x="410" y="80"/>
                    </a:lnTo>
                    <a:lnTo>
                      <a:pt x="410" y="83"/>
                    </a:lnTo>
                    <a:lnTo>
                      <a:pt x="410" y="84"/>
                    </a:lnTo>
                    <a:lnTo>
                      <a:pt x="408" y="86"/>
                    </a:lnTo>
                    <a:lnTo>
                      <a:pt x="407" y="88"/>
                    </a:lnTo>
                    <a:lnTo>
                      <a:pt x="403" y="90"/>
                    </a:lnTo>
                    <a:lnTo>
                      <a:pt x="401" y="91"/>
                    </a:lnTo>
                    <a:lnTo>
                      <a:pt x="400" y="91"/>
                    </a:lnTo>
                    <a:lnTo>
                      <a:pt x="400" y="91"/>
                    </a:lnTo>
                    <a:lnTo>
                      <a:pt x="396" y="91"/>
                    </a:lnTo>
                    <a:lnTo>
                      <a:pt x="395" y="90"/>
                    </a:lnTo>
                    <a:lnTo>
                      <a:pt x="391" y="88"/>
                    </a:lnTo>
                    <a:lnTo>
                      <a:pt x="389" y="86"/>
                    </a:lnTo>
                    <a:lnTo>
                      <a:pt x="388" y="84"/>
                    </a:lnTo>
                    <a:lnTo>
                      <a:pt x="388" y="83"/>
                    </a:lnTo>
                    <a:lnTo>
                      <a:pt x="388" y="80"/>
                    </a:lnTo>
                    <a:lnTo>
                      <a:pt x="389" y="79"/>
                    </a:lnTo>
                    <a:lnTo>
                      <a:pt x="391" y="76"/>
                    </a:lnTo>
                    <a:lnTo>
                      <a:pt x="395" y="75"/>
                    </a:lnTo>
                    <a:lnTo>
                      <a:pt x="396" y="74"/>
                    </a:lnTo>
                    <a:lnTo>
                      <a:pt x="400" y="74"/>
                    </a:lnTo>
                    <a:lnTo>
                      <a:pt x="400" y="74"/>
                    </a:lnTo>
                    <a:close/>
                    <a:moveTo>
                      <a:pt x="443" y="74"/>
                    </a:moveTo>
                    <a:lnTo>
                      <a:pt x="443" y="74"/>
                    </a:lnTo>
                    <a:lnTo>
                      <a:pt x="444" y="74"/>
                    </a:lnTo>
                    <a:lnTo>
                      <a:pt x="446" y="75"/>
                    </a:lnTo>
                    <a:lnTo>
                      <a:pt x="450" y="76"/>
                    </a:lnTo>
                    <a:lnTo>
                      <a:pt x="451" y="79"/>
                    </a:lnTo>
                    <a:lnTo>
                      <a:pt x="453" y="80"/>
                    </a:lnTo>
                    <a:lnTo>
                      <a:pt x="453" y="83"/>
                    </a:lnTo>
                    <a:lnTo>
                      <a:pt x="453" y="84"/>
                    </a:lnTo>
                    <a:lnTo>
                      <a:pt x="451" y="86"/>
                    </a:lnTo>
                    <a:lnTo>
                      <a:pt x="450" y="88"/>
                    </a:lnTo>
                    <a:lnTo>
                      <a:pt x="446" y="90"/>
                    </a:lnTo>
                    <a:lnTo>
                      <a:pt x="444" y="91"/>
                    </a:lnTo>
                    <a:lnTo>
                      <a:pt x="443" y="91"/>
                    </a:lnTo>
                    <a:lnTo>
                      <a:pt x="443" y="91"/>
                    </a:lnTo>
                    <a:lnTo>
                      <a:pt x="439" y="91"/>
                    </a:lnTo>
                    <a:lnTo>
                      <a:pt x="438" y="90"/>
                    </a:lnTo>
                    <a:lnTo>
                      <a:pt x="434" y="88"/>
                    </a:lnTo>
                    <a:lnTo>
                      <a:pt x="432" y="86"/>
                    </a:lnTo>
                    <a:lnTo>
                      <a:pt x="431" y="84"/>
                    </a:lnTo>
                    <a:lnTo>
                      <a:pt x="431" y="83"/>
                    </a:lnTo>
                    <a:lnTo>
                      <a:pt x="431" y="80"/>
                    </a:lnTo>
                    <a:lnTo>
                      <a:pt x="432" y="79"/>
                    </a:lnTo>
                    <a:lnTo>
                      <a:pt x="434" y="76"/>
                    </a:lnTo>
                    <a:lnTo>
                      <a:pt x="438" y="75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3" y="74"/>
                    </a:lnTo>
                    <a:close/>
                    <a:moveTo>
                      <a:pt x="486" y="74"/>
                    </a:moveTo>
                    <a:lnTo>
                      <a:pt x="486" y="74"/>
                    </a:lnTo>
                    <a:lnTo>
                      <a:pt x="487" y="74"/>
                    </a:lnTo>
                    <a:lnTo>
                      <a:pt x="489" y="75"/>
                    </a:lnTo>
                    <a:lnTo>
                      <a:pt x="493" y="76"/>
                    </a:lnTo>
                    <a:lnTo>
                      <a:pt x="494" y="79"/>
                    </a:lnTo>
                    <a:lnTo>
                      <a:pt x="496" y="80"/>
                    </a:lnTo>
                    <a:lnTo>
                      <a:pt x="496" y="83"/>
                    </a:lnTo>
                    <a:lnTo>
                      <a:pt x="496" y="84"/>
                    </a:lnTo>
                    <a:lnTo>
                      <a:pt x="494" y="86"/>
                    </a:lnTo>
                    <a:lnTo>
                      <a:pt x="493" y="88"/>
                    </a:lnTo>
                    <a:lnTo>
                      <a:pt x="489" y="90"/>
                    </a:lnTo>
                    <a:lnTo>
                      <a:pt x="487" y="91"/>
                    </a:lnTo>
                    <a:lnTo>
                      <a:pt x="486" y="91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1" y="90"/>
                    </a:lnTo>
                    <a:lnTo>
                      <a:pt x="477" y="88"/>
                    </a:lnTo>
                    <a:lnTo>
                      <a:pt x="475" y="86"/>
                    </a:lnTo>
                    <a:lnTo>
                      <a:pt x="474" y="84"/>
                    </a:lnTo>
                    <a:lnTo>
                      <a:pt x="474" y="83"/>
                    </a:lnTo>
                    <a:lnTo>
                      <a:pt x="474" y="80"/>
                    </a:lnTo>
                    <a:lnTo>
                      <a:pt x="475" y="79"/>
                    </a:lnTo>
                    <a:lnTo>
                      <a:pt x="477" y="76"/>
                    </a:lnTo>
                    <a:lnTo>
                      <a:pt x="481" y="75"/>
                    </a:lnTo>
                    <a:lnTo>
                      <a:pt x="482" y="74"/>
                    </a:lnTo>
                    <a:lnTo>
                      <a:pt x="486" y="74"/>
                    </a:lnTo>
                    <a:lnTo>
                      <a:pt x="486" y="74"/>
                    </a:lnTo>
                    <a:close/>
                    <a:moveTo>
                      <a:pt x="529" y="74"/>
                    </a:moveTo>
                    <a:lnTo>
                      <a:pt x="529" y="74"/>
                    </a:lnTo>
                    <a:lnTo>
                      <a:pt x="531" y="74"/>
                    </a:lnTo>
                    <a:lnTo>
                      <a:pt x="532" y="75"/>
                    </a:lnTo>
                    <a:lnTo>
                      <a:pt x="536" y="76"/>
                    </a:lnTo>
                    <a:lnTo>
                      <a:pt x="537" y="79"/>
                    </a:lnTo>
                    <a:lnTo>
                      <a:pt x="539" y="80"/>
                    </a:lnTo>
                    <a:lnTo>
                      <a:pt x="539" y="83"/>
                    </a:lnTo>
                    <a:lnTo>
                      <a:pt x="539" y="84"/>
                    </a:lnTo>
                    <a:lnTo>
                      <a:pt x="537" y="86"/>
                    </a:lnTo>
                    <a:lnTo>
                      <a:pt x="536" y="88"/>
                    </a:lnTo>
                    <a:lnTo>
                      <a:pt x="532" y="90"/>
                    </a:lnTo>
                    <a:lnTo>
                      <a:pt x="531" y="91"/>
                    </a:lnTo>
                    <a:lnTo>
                      <a:pt x="529" y="91"/>
                    </a:lnTo>
                    <a:lnTo>
                      <a:pt x="529" y="91"/>
                    </a:lnTo>
                    <a:lnTo>
                      <a:pt x="525" y="91"/>
                    </a:lnTo>
                    <a:lnTo>
                      <a:pt x="524" y="90"/>
                    </a:lnTo>
                    <a:lnTo>
                      <a:pt x="520" y="88"/>
                    </a:lnTo>
                    <a:lnTo>
                      <a:pt x="518" y="86"/>
                    </a:lnTo>
                    <a:lnTo>
                      <a:pt x="517" y="84"/>
                    </a:lnTo>
                    <a:lnTo>
                      <a:pt x="517" y="83"/>
                    </a:lnTo>
                    <a:lnTo>
                      <a:pt x="517" y="80"/>
                    </a:lnTo>
                    <a:lnTo>
                      <a:pt x="518" y="79"/>
                    </a:lnTo>
                    <a:lnTo>
                      <a:pt x="520" y="76"/>
                    </a:lnTo>
                    <a:lnTo>
                      <a:pt x="524" y="75"/>
                    </a:lnTo>
                    <a:lnTo>
                      <a:pt x="525" y="74"/>
                    </a:lnTo>
                    <a:lnTo>
                      <a:pt x="529" y="74"/>
                    </a:lnTo>
                    <a:lnTo>
                      <a:pt x="529" y="74"/>
                    </a:lnTo>
                    <a:close/>
                    <a:moveTo>
                      <a:pt x="572" y="74"/>
                    </a:moveTo>
                    <a:lnTo>
                      <a:pt x="572" y="74"/>
                    </a:lnTo>
                    <a:lnTo>
                      <a:pt x="574" y="74"/>
                    </a:lnTo>
                    <a:lnTo>
                      <a:pt x="575" y="75"/>
                    </a:lnTo>
                    <a:lnTo>
                      <a:pt x="579" y="76"/>
                    </a:lnTo>
                    <a:lnTo>
                      <a:pt x="580" y="79"/>
                    </a:lnTo>
                    <a:lnTo>
                      <a:pt x="582" y="80"/>
                    </a:lnTo>
                    <a:lnTo>
                      <a:pt x="582" y="83"/>
                    </a:lnTo>
                    <a:lnTo>
                      <a:pt x="582" y="84"/>
                    </a:lnTo>
                    <a:lnTo>
                      <a:pt x="580" y="86"/>
                    </a:lnTo>
                    <a:lnTo>
                      <a:pt x="579" y="88"/>
                    </a:lnTo>
                    <a:lnTo>
                      <a:pt x="575" y="90"/>
                    </a:lnTo>
                    <a:lnTo>
                      <a:pt x="574" y="91"/>
                    </a:lnTo>
                    <a:lnTo>
                      <a:pt x="572" y="91"/>
                    </a:lnTo>
                    <a:lnTo>
                      <a:pt x="572" y="91"/>
                    </a:lnTo>
                    <a:lnTo>
                      <a:pt x="568" y="91"/>
                    </a:lnTo>
                    <a:lnTo>
                      <a:pt x="567" y="90"/>
                    </a:lnTo>
                    <a:lnTo>
                      <a:pt x="563" y="88"/>
                    </a:lnTo>
                    <a:lnTo>
                      <a:pt x="562" y="86"/>
                    </a:lnTo>
                    <a:lnTo>
                      <a:pt x="562" y="84"/>
                    </a:lnTo>
                    <a:lnTo>
                      <a:pt x="560" y="83"/>
                    </a:lnTo>
                    <a:lnTo>
                      <a:pt x="562" y="80"/>
                    </a:lnTo>
                    <a:lnTo>
                      <a:pt x="562" y="79"/>
                    </a:lnTo>
                    <a:lnTo>
                      <a:pt x="563" y="76"/>
                    </a:lnTo>
                    <a:lnTo>
                      <a:pt x="567" y="75"/>
                    </a:lnTo>
                    <a:lnTo>
                      <a:pt x="568" y="74"/>
                    </a:lnTo>
                    <a:lnTo>
                      <a:pt x="572" y="74"/>
                    </a:lnTo>
                    <a:lnTo>
                      <a:pt x="572" y="74"/>
                    </a:lnTo>
                    <a:close/>
                    <a:moveTo>
                      <a:pt x="615" y="74"/>
                    </a:moveTo>
                    <a:lnTo>
                      <a:pt x="615" y="74"/>
                    </a:lnTo>
                    <a:lnTo>
                      <a:pt x="617" y="74"/>
                    </a:lnTo>
                    <a:lnTo>
                      <a:pt x="618" y="75"/>
                    </a:lnTo>
                    <a:lnTo>
                      <a:pt x="622" y="76"/>
                    </a:lnTo>
                    <a:lnTo>
                      <a:pt x="623" y="79"/>
                    </a:lnTo>
                    <a:lnTo>
                      <a:pt x="625" y="80"/>
                    </a:lnTo>
                    <a:lnTo>
                      <a:pt x="625" y="83"/>
                    </a:lnTo>
                    <a:lnTo>
                      <a:pt x="625" y="84"/>
                    </a:lnTo>
                    <a:lnTo>
                      <a:pt x="623" y="86"/>
                    </a:lnTo>
                    <a:lnTo>
                      <a:pt x="622" y="88"/>
                    </a:lnTo>
                    <a:lnTo>
                      <a:pt x="618" y="90"/>
                    </a:lnTo>
                    <a:lnTo>
                      <a:pt x="617" y="91"/>
                    </a:lnTo>
                    <a:lnTo>
                      <a:pt x="615" y="91"/>
                    </a:lnTo>
                    <a:lnTo>
                      <a:pt x="615" y="91"/>
                    </a:lnTo>
                    <a:lnTo>
                      <a:pt x="611" y="91"/>
                    </a:lnTo>
                    <a:lnTo>
                      <a:pt x="610" y="90"/>
                    </a:lnTo>
                    <a:lnTo>
                      <a:pt x="606" y="88"/>
                    </a:lnTo>
                    <a:lnTo>
                      <a:pt x="605" y="86"/>
                    </a:lnTo>
                    <a:lnTo>
                      <a:pt x="605" y="84"/>
                    </a:lnTo>
                    <a:lnTo>
                      <a:pt x="603" y="83"/>
                    </a:lnTo>
                    <a:lnTo>
                      <a:pt x="605" y="80"/>
                    </a:lnTo>
                    <a:lnTo>
                      <a:pt x="605" y="79"/>
                    </a:lnTo>
                    <a:lnTo>
                      <a:pt x="606" y="76"/>
                    </a:lnTo>
                    <a:lnTo>
                      <a:pt x="610" y="75"/>
                    </a:lnTo>
                    <a:lnTo>
                      <a:pt x="611" y="74"/>
                    </a:lnTo>
                    <a:lnTo>
                      <a:pt x="615" y="74"/>
                    </a:lnTo>
                    <a:lnTo>
                      <a:pt x="615" y="74"/>
                    </a:lnTo>
                    <a:close/>
                    <a:moveTo>
                      <a:pt x="658" y="74"/>
                    </a:moveTo>
                    <a:lnTo>
                      <a:pt x="658" y="74"/>
                    </a:lnTo>
                    <a:lnTo>
                      <a:pt x="660" y="74"/>
                    </a:lnTo>
                    <a:lnTo>
                      <a:pt x="661" y="75"/>
                    </a:lnTo>
                    <a:lnTo>
                      <a:pt x="665" y="76"/>
                    </a:lnTo>
                    <a:lnTo>
                      <a:pt x="667" y="79"/>
                    </a:lnTo>
                    <a:lnTo>
                      <a:pt x="668" y="80"/>
                    </a:lnTo>
                    <a:lnTo>
                      <a:pt x="668" y="83"/>
                    </a:lnTo>
                    <a:lnTo>
                      <a:pt x="668" y="84"/>
                    </a:lnTo>
                    <a:lnTo>
                      <a:pt x="667" y="86"/>
                    </a:lnTo>
                    <a:lnTo>
                      <a:pt x="665" y="88"/>
                    </a:lnTo>
                    <a:lnTo>
                      <a:pt x="661" y="90"/>
                    </a:lnTo>
                    <a:lnTo>
                      <a:pt x="660" y="91"/>
                    </a:lnTo>
                    <a:lnTo>
                      <a:pt x="658" y="91"/>
                    </a:lnTo>
                    <a:lnTo>
                      <a:pt x="658" y="91"/>
                    </a:lnTo>
                    <a:lnTo>
                      <a:pt x="654" y="91"/>
                    </a:lnTo>
                    <a:lnTo>
                      <a:pt x="653" y="90"/>
                    </a:lnTo>
                    <a:lnTo>
                      <a:pt x="649" y="88"/>
                    </a:lnTo>
                    <a:lnTo>
                      <a:pt x="648" y="86"/>
                    </a:lnTo>
                    <a:lnTo>
                      <a:pt x="648" y="84"/>
                    </a:lnTo>
                    <a:lnTo>
                      <a:pt x="646" y="83"/>
                    </a:lnTo>
                    <a:lnTo>
                      <a:pt x="648" y="80"/>
                    </a:lnTo>
                    <a:lnTo>
                      <a:pt x="648" y="79"/>
                    </a:lnTo>
                    <a:lnTo>
                      <a:pt x="649" y="76"/>
                    </a:lnTo>
                    <a:lnTo>
                      <a:pt x="653" y="75"/>
                    </a:lnTo>
                    <a:lnTo>
                      <a:pt x="654" y="74"/>
                    </a:lnTo>
                    <a:lnTo>
                      <a:pt x="658" y="74"/>
                    </a:lnTo>
                    <a:lnTo>
                      <a:pt x="658" y="74"/>
                    </a:lnTo>
                    <a:close/>
                    <a:moveTo>
                      <a:pt x="701" y="74"/>
                    </a:moveTo>
                    <a:lnTo>
                      <a:pt x="701" y="74"/>
                    </a:lnTo>
                    <a:lnTo>
                      <a:pt x="703" y="74"/>
                    </a:lnTo>
                    <a:lnTo>
                      <a:pt x="704" y="75"/>
                    </a:lnTo>
                    <a:lnTo>
                      <a:pt x="708" y="76"/>
                    </a:lnTo>
                    <a:lnTo>
                      <a:pt x="710" y="79"/>
                    </a:lnTo>
                    <a:lnTo>
                      <a:pt x="711" y="80"/>
                    </a:lnTo>
                    <a:lnTo>
                      <a:pt x="711" y="83"/>
                    </a:lnTo>
                    <a:lnTo>
                      <a:pt x="711" y="84"/>
                    </a:lnTo>
                    <a:lnTo>
                      <a:pt x="710" y="86"/>
                    </a:lnTo>
                    <a:lnTo>
                      <a:pt x="708" y="88"/>
                    </a:lnTo>
                    <a:lnTo>
                      <a:pt x="704" y="90"/>
                    </a:lnTo>
                    <a:lnTo>
                      <a:pt x="703" y="91"/>
                    </a:lnTo>
                    <a:lnTo>
                      <a:pt x="701" y="91"/>
                    </a:lnTo>
                    <a:lnTo>
                      <a:pt x="701" y="91"/>
                    </a:lnTo>
                    <a:lnTo>
                      <a:pt x="698" y="91"/>
                    </a:lnTo>
                    <a:lnTo>
                      <a:pt x="696" y="90"/>
                    </a:lnTo>
                    <a:lnTo>
                      <a:pt x="692" y="88"/>
                    </a:lnTo>
                    <a:lnTo>
                      <a:pt x="691" y="86"/>
                    </a:lnTo>
                    <a:lnTo>
                      <a:pt x="691" y="84"/>
                    </a:lnTo>
                    <a:lnTo>
                      <a:pt x="689" y="83"/>
                    </a:lnTo>
                    <a:lnTo>
                      <a:pt x="691" y="80"/>
                    </a:lnTo>
                    <a:lnTo>
                      <a:pt x="691" y="79"/>
                    </a:lnTo>
                    <a:lnTo>
                      <a:pt x="692" y="76"/>
                    </a:lnTo>
                    <a:lnTo>
                      <a:pt x="696" y="75"/>
                    </a:lnTo>
                    <a:lnTo>
                      <a:pt x="698" y="74"/>
                    </a:lnTo>
                    <a:lnTo>
                      <a:pt x="701" y="74"/>
                    </a:lnTo>
                    <a:lnTo>
                      <a:pt x="701" y="74"/>
                    </a:lnTo>
                    <a:close/>
                    <a:moveTo>
                      <a:pt x="744" y="74"/>
                    </a:moveTo>
                    <a:lnTo>
                      <a:pt x="744" y="74"/>
                    </a:lnTo>
                    <a:lnTo>
                      <a:pt x="746" y="74"/>
                    </a:lnTo>
                    <a:lnTo>
                      <a:pt x="747" y="75"/>
                    </a:lnTo>
                    <a:lnTo>
                      <a:pt x="751" y="76"/>
                    </a:lnTo>
                    <a:lnTo>
                      <a:pt x="753" y="79"/>
                    </a:lnTo>
                    <a:lnTo>
                      <a:pt x="754" y="80"/>
                    </a:lnTo>
                    <a:lnTo>
                      <a:pt x="754" y="83"/>
                    </a:lnTo>
                    <a:lnTo>
                      <a:pt x="754" y="84"/>
                    </a:lnTo>
                    <a:lnTo>
                      <a:pt x="753" y="86"/>
                    </a:lnTo>
                    <a:lnTo>
                      <a:pt x="751" y="88"/>
                    </a:lnTo>
                    <a:lnTo>
                      <a:pt x="747" y="90"/>
                    </a:lnTo>
                    <a:lnTo>
                      <a:pt x="746" y="91"/>
                    </a:lnTo>
                    <a:lnTo>
                      <a:pt x="744" y="91"/>
                    </a:lnTo>
                    <a:lnTo>
                      <a:pt x="744" y="91"/>
                    </a:lnTo>
                    <a:lnTo>
                      <a:pt x="741" y="91"/>
                    </a:lnTo>
                    <a:lnTo>
                      <a:pt x="739" y="90"/>
                    </a:lnTo>
                    <a:lnTo>
                      <a:pt x="735" y="88"/>
                    </a:lnTo>
                    <a:lnTo>
                      <a:pt x="734" y="86"/>
                    </a:lnTo>
                    <a:lnTo>
                      <a:pt x="734" y="84"/>
                    </a:lnTo>
                    <a:lnTo>
                      <a:pt x="732" y="83"/>
                    </a:lnTo>
                    <a:lnTo>
                      <a:pt x="734" y="80"/>
                    </a:lnTo>
                    <a:lnTo>
                      <a:pt x="734" y="79"/>
                    </a:lnTo>
                    <a:lnTo>
                      <a:pt x="735" y="76"/>
                    </a:lnTo>
                    <a:lnTo>
                      <a:pt x="739" y="75"/>
                    </a:lnTo>
                    <a:lnTo>
                      <a:pt x="741" y="74"/>
                    </a:lnTo>
                    <a:lnTo>
                      <a:pt x="744" y="74"/>
                    </a:lnTo>
                    <a:lnTo>
                      <a:pt x="744" y="74"/>
                    </a:lnTo>
                    <a:close/>
                    <a:moveTo>
                      <a:pt x="787" y="74"/>
                    </a:moveTo>
                    <a:lnTo>
                      <a:pt x="787" y="74"/>
                    </a:lnTo>
                    <a:lnTo>
                      <a:pt x="789" y="74"/>
                    </a:lnTo>
                    <a:lnTo>
                      <a:pt x="790" y="75"/>
                    </a:lnTo>
                    <a:lnTo>
                      <a:pt x="794" y="76"/>
                    </a:lnTo>
                    <a:lnTo>
                      <a:pt x="796" y="79"/>
                    </a:lnTo>
                    <a:lnTo>
                      <a:pt x="797" y="80"/>
                    </a:lnTo>
                    <a:lnTo>
                      <a:pt x="797" y="83"/>
                    </a:lnTo>
                    <a:lnTo>
                      <a:pt x="797" y="84"/>
                    </a:lnTo>
                    <a:lnTo>
                      <a:pt x="796" y="86"/>
                    </a:lnTo>
                    <a:lnTo>
                      <a:pt x="794" y="88"/>
                    </a:lnTo>
                    <a:lnTo>
                      <a:pt x="790" y="90"/>
                    </a:lnTo>
                    <a:lnTo>
                      <a:pt x="789" y="91"/>
                    </a:lnTo>
                    <a:lnTo>
                      <a:pt x="787" y="91"/>
                    </a:lnTo>
                    <a:lnTo>
                      <a:pt x="787" y="91"/>
                    </a:lnTo>
                    <a:lnTo>
                      <a:pt x="784" y="91"/>
                    </a:lnTo>
                    <a:lnTo>
                      <a:pt x="782" y="90"/>
                    </a:lnTo>
                    <a:lnTo>
                      <a:pt x="778" y="88"/>
                    </a:lnTo>
                    <a:lnTo>
                      <a:pt x="777" y="86"/>
                    </a:lnTo>
                    <a:lnTo>
                      <a:pt x="777" y="84"/>
                    </a:lnTo>
                    <a:lnTo>
                      <a:pt x="775" y="83"/>
                    </a:lnTo>
                    <a:lnTo>
                      <a:pt x="777" y="80"/>
                    </a:lnTo>
                    <a:lnTo>
                      <a:pt x="777" y="79"/>
                    </a:lnTo>
                    <a:lnTo>
                      <a:pt x="778" y="76"/>
                    </a:lnTo>
                    <a:lnTo>
                      <a:pt x="782" y="75"/>
                    </a:lnTo>
                    <a:lnTo>
                      <a:pt x="784" y="74"/>
                    </a:lnTo>
                    <a:lnTo>
                      <a:pt x="787" y="74"/>
                    </a:lnTo>
                    <a:lnTo>
                      <a:pt x="787" y="74"/>
                    </a:lnTo>
                    <a:close/>
                    <a:moveTo>
                      <a:pt x="830" y="74"/>
                    </a:moveTo>
                    <a:lnTo>
                      <a:pt x="830" y="74"/>
                    </a:lnTo>
                    <a:lnTo>
                      <a:pt x="832" y="74"/>
                    </a:lnTo>
                    <a:lnTo>
                      <a:pt x="834" y="75"/>
                    </a:lnTo>
                    <a:lnTo>
                      <a:pt x="837" y="76"/>
                    </a:lnTo>
                    <a:lnTo>
                      <a:pt x="839" y="79"/>
                    </a:lnTo>
                    <a:lnTo>
                      <a:pt x="840" y="80"/>
                    </a:lnTo>
                    <a:lnTo>
                      <a:pt x="840" y="83"/>
                    </a:lnTo>
                    <a:lnTo>
                      <a:pt x="840" y="84"/>
                    </a:lnTo>
                    <a:lnTo>
                      <a:pt x="839" y="86"/>
                    </a:lnTo>
                    <a:lnTo>
                      <a:pt x="837" y="88"/>
                    </a:lnTo>
                    <a:lnTo>
                      <a:pt x="834" y="90"/>
                    </a:lnTo>
                    <a:lnTo>
                      <a:pt x="832" y="91"/>
                    </a:lnTo>
                    <a:lnTo>
                      <a:pt x="830" y="91"/>
                    </a:lnTo>
                    <a:lnTo>
                      <a:pt x="830" y="91"/>
                    </a:lnTo>
                    <a:lnTo>
                      <a:pt x="827" y="91"/>
                    </a:lnTo>
                    <a:lnTo>
                      <a:pt x="825" y="90"/>
                    </a:lnTo>
                    <a:lnTo>
                      <a:pt x="821" y="88"/>
                    </a:lnTo>
                    <a:lnTo>
                      <a:pt x="820" y="86"/>
                    </a:lnTo>
                    <a:lnTo>
                      <a:pt x="820" y="84"/>
                    </a:lnTo>
                    <a:lnTo>
                      <a:pt x="818" y="83"/>
                    </a:lnTo>
                    <a:lnTo>
                      <a:pt x="820" y="80"/>
                    </a:lnTo>
                    <a:lnTo>
                      <a:pt x="820" y="79"/>
                    </a:lnTo>
                    <a:lnTo>
                      <a:pt x="821" y="76"/>
                    </a:lnTo>
                    <a:lnTo>
                      <a:pt x="825" y="75"/>
                    </a:lnTo>
                    <a:lnTo>
                      <a:pt x="827" y="74"/>
                    </a:lnTo>
                    <a:lnTo>
                      <a:pt x="830" y="74"/>
                    </a:lnTo>
                    <a:lnTo>
                      <a:pt x="830" y="74"/>
                    </a:lnTo>
                    <a:close/>
                    <a:moveTo>
                      <a:pt x="873" y="74"/>
                    </a:moveTo>
                    <a:lnTo>
                      <a:pt x="873" y="74"/>
                    </a:lnTo>
                    <a:lnTo>
                      <a:pt x="875" y="74"/>
                    </a:lnTo>
                    <a:lnTo>
                      <a:pt x="877" y="75"/>
                    </a:lnTo>
                    <a:lnTo>
                      <a:pt x="880" y="76"/>
                    </a:lnTo>
                    <a:lnTo>
                      <a:pt x="882" y="79"/>
                    </a:lnTo>
                    <a:lnTo>
                      <a:pt x="883" y="80"/>
                    </a:lnTo>
                    <a:lnTo>
                      <a:pt x="883" y="83"/>
                    </a:lnTo>
                    <a:lnTo>
                      <a:pt x="883" y="84"/>
                    </a:lnTo>
                    <a:lnTo>
                      <a:pt x="882" y="86"/>
                    </a:lnTo>
                    <a:lnTo>
                      <a:pt x="880" y="88"/>
                    </a:lnTo>
                    <a:lnTo>
                      <a:pt x="877" y="90"/>
                    </a:lnTo>
                    <a:lnTo>
                      <a:pt x="875" y="91"/>
                    </a:lnTo>
                    <a:lnTo>
                      <a:pt x="873" y="91"/>
                    </a:lnTo>
                    <a:lnTo>
                      <a:pt x="873" y="91"/>
                    </a:lnTo>
                    <a:lnTo>
                      <a:pt x="870" y="91"/>
                    </a:lnTo>
                    <a:lnTo>
                      <a:pt x="868" y="90"/>
                    </a:lnTo>
                    <a:lnTo>
                      <a:pt x="865" y="88"/>
                    </a:lnTo>
                    <a:lnTo>
                      <a:pt x="863" y="86"/>
                    </a:lnTo>
                    <a:lnTo>
                      <a:pt x="863" y="84"/>
                    </a:lnTo>
                    <a:lnTo>
                      <a:pt x="861" y="83"/>
                    </a:lnTo>
                    <a:lnTo>
                      <a:pt x="863" y="80"/>
                    </a:lnTo>
                    <a:lnTo>
                      <a:pt x="863" y="79"/>
                    </a:lnTo>
                    <a:lnTo>
                      <a:pt x="865" y="76"/>
                    </a:lnTo>
                    <a:lnTo>
                      <a:pt x="868" y="75"/>
                    </a:lnTo>
                    <a:lnTo>
                      <a:pt x="870" y="74"/>
                    </a:lnTo>
                    <a:lnTo>
                      <a:pt x="873" y="74"/>
                    </a:lnTo>
                    <a:lnTo>
                      <a:pt x="873" y="74"/>
                    </a:lnTo>
                    <a:close/>
                    <a:moveTo>
                      <a:pt x="916" y="74"/>
                    </a:moveTo>
                    <a:lnTo>
                      <a:pt x="916" y="74"/>
                    </a:lnTo>
                    <a:lnTo>
                      <a:pt x="918" y="74"/>
                    </a:lnTo>
                    <a:lnTo>
                      <a:pt x="920" y="75"/>
                    </a:lnTo>
                    <a:lnTo>
                      <a:pt x="923" y="76"/>
                    </a:lnTo>
                    <a:lnTo>
                      <a:pt x="925" y="79"/>
                    </a:lnTo>
                    <a:lnTo>
                      <a:pt x="927" y="80"/>
                    </a:lnTo>
                    <a:lnTo>
                      <a:pt x="927" y="83"/>
                    </a:lnTo>
                    <a:lnTo>
                      <a:pt x="927" y="84"/>
                    </a:lnTo>
                    <a:lnTo>
                      <a:pt x="925" y="86"/>
                    </a:lnTo>
                    <a:lnTo>
                      <a:pt x="923" y="88"/>
                    </a:lnTo>
                    <a:lnTo>
                      <a:pt x="920" y="90"/>
                    </a:lnTo>
                    <a:lnTo>
                      <a:pt x="918" y="91"/>
                    </a:lnTo>
                    <a:lnTo>
                      <a:pt x="916" y="91"/>
                    </a:lnTo>
                    <a:lnTo>
                      <a:pt x="916" y="91"/>
                    </a:lnTo>
                    <a:lnTo>
                      <a:pt x="913" y="91"/>
                    </a:lnTo>
                    <a:lnTo>
                      <a:pt x="911" y="90"/>
                    </a:lnTo>
                    <a:lnTo>
                      <a:pt x="908" y="88"/>
                    </a:lnTo>
                    <a:lnTo>
                      <a:pt x="906" y="86"/>
                    </a:lnTo>
                    <a:lnTo>
                      <a:pt x="906" y="84"/>
                    </a:lnTo>
                    <a:lnTo>
                      <a:pt x="904" y="83"/>
                    </a:lnTo>
                    <a:lnTo>
                      <a:pt x="906" y="80"/>
                    </a:lnTo>
                    <a:lnTo>
                      <a:pt x="906" y="79"/>
                    </a:lnTo>
                    <a:lnTo>
                      <a:pt x="908" y="76"/>
                    </a:lnTo>
                    <a:lnTo>
                      <a:pt x="911" y="75"/>
                    </a:lnTo>
                    <a:lnTo>
                      <a:pt x="913" y="74"/>
                    </a:lnTo>
                    <a:lnTo>
                      <a:pt x="916" y="74"/>
                    </a:lnTo>
                    <a:lnTo>
                      <a:pt x="916" y="74"/>
                    </a:lnTo>
                    <a:close/>
                    <a:moveTo>
                      <a:pt x="959" y="74"/>
                    </a:moveTo>
                    <a:lnTo>
                      <a:pt x="959" y="74"/>
                    </a:lnTo>
                    <a:lnTo>
                      <a:pt x="961" y="74"/>
                    </a:lnTo>
                    <a:lnTo>
                      <a:pt x="963" y="75"/>
                    </a:lnTo>
                    <a:lnTo>
                      <a:pt x="966" y="76"/>
                    </a:lnTo>
                    <a:lnTo>
                      <a:pt x="970" y="79"/>
                    </a:lnTo>
                    <a:lnTo>
                      <a:pt x="970" y="80"/>
                    </a:lnTo>
                    <a:lnTo>
                      <a:pt x="970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6" y="88"/>
                    </a:lnTo>
                    <a:lnTo>
                      <a:pt x="963" y="90"/>
                    </a:lnTo>
                    <a:lnTo>
                      <a:pt x="961" y="91"/>
                    </a:lnTo>
                    <a:lnTo>
                      <a:pt x="959" y="91"/>
                    </a:lnTo>
                    <a:lnTo>
                      <a:pt x="959" y="91"/>
                    </a:lnTo>
                    <a:lnTo>
                      <a:pt x="956" y="91"/>
                    </a:lnTo>
                    <a:lnTo>
                      <a:pt x="954" y="90"/>
                    </a:lnTo>
                    <a:lnTo>
                      <a:pt x="951" y="88"/>
                    </a:lnTo>
                    <a:lnTo>
                      <a:pt x="949" y="86"/>
                    </a:lnTo>
                    <a:lnTo>
                      <a:pt x="949" y="84"/>
                    </a:lnTo>
                    <a:lnTo>
                      <a:pt x="947" y="83"/>
                    </a:lnTo>
                    <a:lnTo>
                      <a:pt x="949" y="80"/>
                    </a:lnTo>
                    <a:lnTo>
                      <a:pt x="949" y="79"/>
                    </a:lnTo>
                    <a:lnTo>
                      <a:pt x="951" y="76"/>
                    </a:lnTo>
                    <a:lnTo>
                      <a:pt x="954" y="75"/>
                    </a:lnTo>
                    <a:lnTo>
                      <a:pt x="956" y="74"/>
                    </a:lnTo>
                    <a:lnTo>
                      <a:pt x="959" y="74"/>
                    </a:lnTo>
                    <a:lnTo>
                      <a:pt x="959" y="74"/>
                    </a:lnTo>
                    <a:close/>
                    <a:moveTo>
                      <a:pt x="1002" y="74"/>
                    </a:moveTo>
                    <a:lnTo>
                      <a:pt x="1002" y="74"/>
                    </a:lnTo>
                    <a:lnTo>
                      <a:pt x="1004" y="74"/>
                    </a:lnTo>
                    <a:lnTo>
                      <a:pt x="1006" y="75"/>
                    </a:lnTo>
                    <a:lnTo>
                      <a:pt x="1009" y="76"/>
                    </a:lnTo>
                    <a:lnTo>
                      <a:pt x="1013" y="79"/>
                    </a:lnTo>
                    <a:lnTo>
                      <a:pt x="1013" y="80"/>
                    </a:lnTo>
                    <a:lnTo>
                      <a:pt x="1013" y="83"/>
                    </a:lnTo>
                    <a:lnTo>
                      <a:pt x="1013" y="84"/>
                    </a:lnTo>
                    <a:lnTo>
                      <a:pt x="1013" y="86"/>
                    </a:lnTo>
                    <a:lnTo>
                      <a:pt x="1009" y="88"/>
                    </a:lnTo>
                    <a:lnTo>
                      <a:pt x="1006" y="90"/>
                    </a:lnTo>
                    <a:lnTo>
                      <a:pt x="1004" y="91"/>
                    </a:lnTo>
                    <a:lnTo>
                      <a:pt x="1002" y="91"/>
                    </a:lnTo>
                    <a:lnTo>
                      <a:pt x="1002" y="91"/>
                    </a:lnTo>
                    <a:lnTo>
                      <a:pt x="999" y="91"/>
                    </a:lnTo>
                    <a:lnTo>
                      <a:pt x="997" y="90"/>
                    </a:lnTo>
                    <a:lnTo>
                      <a:pt x="994" y="88"/>
                    </a:lnTo>
                    <a:lnTo>
                      <a:pt x="992" y="86"/>
                    </a:lnTo>
                    <a:lnTo>
                      <a:pt x="992" y="84"/>
                    </a:lnTo>
                    <a:lnTo>
                      <a:pt x="992" y="83"/>
                    </a:lnTo>
                    <a:lnTo>
                      <a:pt x="992" y="80"/>
                    </a:lnTo>
                    <a:lnTo>
                      <a:pt x="992" y="79"/>
                    </a:lnTo>
                    <a:lnTo>
                      <a:pt x="994" y="76"/>
                    </a:lnTo>
                    <a:lnTo>
                      <a:pt x="997" y="75"/>
                    </a:lnTo>
                    <a:lnTo>
                      <a:pt x="999" y="74"/>
                    </a:lnTo>
                    <a:lnTo>
                      <a:pt x="1002" y="74"/>
                    </a:lnTo>
                    <a:lnTo>
                      <a:pt x="1002" y="74"/>
                    </a:lnTo>
                    <a:close/>
                    <a:moveTo>
                      <a:pt x="1045" y="74"/>
                    </a:moveTo>
                    <a:lnTo>
                      <a:pt x="1045" y="74"/>
                    </a:lnTo>
                    <a:lnTo>
                      <a:pt x="1047" y="74"/>
                    </a:lnTo>
                    <a:lnTo>
                      <a:pt x="1049" y="75"/>
                    </a:lnTo>
                    <a:lnTo>
                      <a:pt x="1052" y="76"/>
                    </a:lnTo>
                    <a:lnTo>
                      <a:pt x="1056" y="79"/>
                    </a:lnTo>
                    <a:lnTo>
                      <a:pt x="1056" y="80"/>
                    </a:lnTo>
                    <a:lnTo>
                      <a:pt x="1056" y="83"/>
                    </a:lnTo>
                    <a:lnTo>
                      <a:pt x="1056" y="84"/>
                    </a:lnTo>
                    <a:lnTo>
                      <a:pt x="1056" y="86"/>
                    </a:lnTo>
                    <a:lnTo>
                      <a:pt x="1052" y="88"/>
                    </a:lnTo>
                    <a:lnTo>
                      <a:pt x="1049" y="90"/>
                    </a:lnTo>
                    <a:lnTo>
                      <a:pt x="1047" y="91"/>
                    </a:lnTo>
                    <a:lnTo>
                      <a:pt x="1045" y="91"/>
                    </a:lnTo>
                    <a:lnTo>
                      <a:pt x="1045" y="91"/>
                    </a:lnTo>
                    <a:lnTo>
                      <a:pt x="1042" y="91"/>
                    </a:lnTo>
                    <a:lnTo>
                      <a:pt x="1040" y="90"/>
                    </a:lnTo>
                    <a:lnTo>
                      <a:pt x="1037" y="88"/>
                    </a:lnTo>
                    <a:lnTo>
                      <a:pt x="1035" y="86"/>
                    </a:lnTo>
                    <a:lnTo>
                      <a:pt x="1035" y="84"/>
                    </a:lnTo>
                    <a:lnTo>
                      <a:pt x="1035" y="83"/>
                    </a:lnTo>
                    <a:lnTo>
                      <a:pt x="1035" y="80"/>
                    </a:lnTo>
                    <a:lnTo>
                      <a:pt x="1035" y="79"/>
                    </a:lnTo>
                    <a:lnTo>
                      <a:pt x="1037" y="76"/>
                    </a:lnTo>
                    <a:lnTo>
                      <a:pt x="1040" y="75"/>
                    </a:lnTo>
                    <a:lnTo>
                      <a:pt x="1042" y="74"/>
                    </a:lnTo>
                    <a:lnTo>
                      <a:pt x="1045" y="74"/>
                    </a:lnTo>
                    <a:lnTo>
                      <a:pt x="1045" y="74"/>
                    </a:lnTo>
                    <a:close/>
                    <a:moveTo>
                      <a:pt x="1088" y="74"/>
                    </a:moveTo>
                    <a:lnTo>
                      <a:pt x="1088" y="74"/>
                    </a:lnTo>
                    <a:lnTo>
                      <a:pt x="1090" y="74"/>
                    </a:lnTo>
                    <a:lnTo>
                      <a:pt x="1092" y="75"/>
                    </a:lnTo>
                    <a:lnTo>
                      <a:pt x="1095" y="76"/>
                    </a:lnTo>
                    <a:lnTo>
                      <a:pt x="1099" y="79"/>
                    </a:lnTo>
                    <a:lnTo>
                      <a:pt x="1099" y="80"/>
                    </a:lnTo>
                    <a:lnTo>
                      <a:pt x="1099" y="83"/>
                    </a:lnTo>
                    <a:lnTo>
                      <a:pt x="1099" y="84"/>
                    </a:lnTo>
                    <a:lnTo>
                      <a:pt x="1099" y="86"/>
                    </a:lnTo>
                    <a:lnTo>
                      <a:pt x="1095" y="88"/>
                    </a:lnTo>
                    <a:lnTo>
                      <a:pt x="1092" y="90"/>
                    </a:lnTo>
                    <a:lnTo>
                      <a:pt x="1090" y="91"/>
                    </a:lnTo>
                    <a:lnTo>
                      <a:pt x="1088" y="91"/>
                    </a:lnTo>
                    <a:lnTo>
                      <a:pt x="1088" y="91"/>
                    </a:lnTo>
                    <a:lnTo>
                      <a:pt x="1085" y="91"/>
                    </a:lnTo>
                    <a:lnTo>
                      <a:pt x="1083" y="90"/>
                    </a:lnTo>
                    <a:lnTo>
                      <a:pt x="1080" y="88"/>
                    </a:lnTo>
                    <a:lnTo>
                      <a:pt x="1078" y="86"/>
                    </a:lnTo>
                    <a:lnTo>
                      <a:pt x="1078" y="84"/>
                    </a:lnTo>
                    <a:lnTo>
                      <a:pt x="1078" y="83"/>
                    </a:lnTo>
                    <a:lnTo>
                      <a:pt x="1078" y="80"/>
                    </a:lnTo>
                    <a:lnTo>
                      <a:pt x="1078" y="79"/>
                    </a:lnTo>
                    <a:lnTo>
                      <a:pt x="1080" y="76"/>
                    </a:lnTo>
                    <a:lnTo>
                      <a:pt x="1083" y="75"/>
                    </a:lnTo>
                    <a:lnTo>
                      <a:pt x="1085" y="74"/>
                    </a:lnTo>
                    <a:lnTo>
                      <a:pt x="1088" y="74"/>
                    </a:lnTo>
                    <a:lnTo>
                      <a:pt x="1088" y="74"/>
                    </a:lnTo>
                    <a:close/>
                    <a:moveTo>
                      <a:pt x="1131" y="74"/>
                    </a:moveTo>
                    <a:lnTo>
                      <a:pt x="1131" y="74"/>
                    </a:lnTo>
                    <a:lnTo>
                      <a:pt x="1133" y="74"/>
                    </a:lnTo>
                    <a:lnTo>
                      <a:pt x="1135" y="75"/>
                    </a:lnTo>
                    <a:lnTo>
                      <a:pt x="1138" y="76"/>
                    </a:lnTo>
                    <a:lnTo>
                      <a:pt x="1142" y="79"/>
                    </a:lnTo>
                    <a:lnTo>
                      <a:pt x="1142" y="80"/>
                    </a:lnTo>
                    <a:lnTo>
                      <a:pt x="1142" y="83"/>
                    </a:lnTo>
                    <a:lnTo>
                      <a:pt x="1142" y="84"/>
                    </a:lnTo>
                    <a:lnTo>
                      <a:pt x="1142" y="86"/>
                    </a:lnTo>
                    <a:lnTo>
                      <a:pt x="1138" y="88"/>
                    </a:lnTo>
                    <a:lnTo>
                      <a:pt x="1135" y="90"/>
                    </a:lnTo>
                    <a:lnTo>
                      <a:pt x="1133" y="91"/>
                    </a:lnTo>
                    <a:lnTo>
                      <a:pt x="1131" y="91"/>
                    </a:lnTo>
                    <a:lnTo>
                      <a:pt x="1131" y="91"/>
                    </a:lnTo>
                    <a:lnTo>
                      <a:pt x="1128" y="91"/>
                    </a:lnTo>
                    <a:lnTo>
                      <a:pt x="1126" y="90"/>
                    </a:lnTo>
                    <a:lnTo>
                      <a:pt x="1123" y="88"/>
                    </a:lnTo>
                    <a:lnTo>
                      <a:pt x="1121" y="86"/>
                    </a:lnTo>
                    <a:lnTo>
                      <a:pt x="1121" y="84"/>
                    </a:lnTo>
                    <a:lnTo>
                      <a:pt x="1121" y="83"/>
                    </a:lnTo>
                    <a:lnTo>
                      <a:pt x="1121" y="80"/>
                    </a:lnTo>
                    <a:lnTo>
                      <a:pt x="1121" y="79"/>
                    </a:lnTo>
                    <a:lnTo>
                      <a:pt x="1123" y="76"/>
                    </a:lnTo>
                    <a:lnTo>
                      <a:pt x="1126" y="75"/>
                    </a:lnTo>
                    <a:lnTo>
                      <a:pt x="1128" y="74"/>
                    </a:lnTo>
                    <a:lnTo>
                      <a:pt x="1131" y="74"/>
                    </a:lnTo>
                    <a:lnTo>
                      <a:pt x="1131" y="74"/>
                    </a:lnTo>
                    <a:close/>
                    <a:moveTo>
                      <a:pt x="1133" y="59"/>
                    </a:moveTo>
                    <a:lnTo>
                      <a:pt x="1133" y="59"/>
                    </a:lnTo>
                    <a:lnTo>
                      <a:pt x="1133" y="57"/>
                    </a:lnTo>
                    <a:lnTo>
                      <a:pt x="1135" y="56"/>
                    </a:lnTo>
                    <a:lnTo>
                      <a:pt x="1137" y="53"/>
                    </a:lnTo>
                    <a:lnTo>
                      <a:pt x="1140" y="52"/>
                    </a:lnTo>
                    <a:lnTo>
                      <a:pt x="1142" y="51"/>
                    </a:lnTo>
                    <a:lnTo>
                      <a:pt x="1145" y="51"/>
                    </a:lnTo>
                    <a:lnTo>
                      <a:pt x="1147" y="51"/>
                    </a:lnTo>
                    <a:lnTo>
                      <a:pt x="1149" y="52"/>
                    </a:lnTo>
                    <a:lnTo>
                      <a:pt x="1152" y="53"/>
                    </a:lnTo>
                    <a:lnTo>
                      <a:pt x="1154" y="56"/>
                    </a:lnTo>
                    <a:lnTo>
                      <a:pt x="1155" y="57"/>
                    </a:lnTo>
                    <a:lnTo>
                      <a:pt x="1155" y="59"/>
                    </a:lnTo>
                    <a:lnTo>
                      <a:pt x="1155" y="59"/>
                    </a:lnTo>
                    <a:lnTo>
                      <a:pt x="1155" y="62"/>
                    </a:lnTo>
                    <a:lnTo>
                      <a:pt x="1154" y="63"/>
                    </a:lnTo>
                    <a:lnTo>
                      <a:pt x="1152" y="66"/>
                    </a:lnTo>
                    <a:lnTo>
                      <a:pt x="1149" y="67"/>
                    </a:lnTo>
                    <a:lnTo>
                      <a:pt x="1147" y="68"/>
                    </a:lnTo>
                    <a:lnTo>
                      <a:pt x="1145" y="68"/>
                    </a:lnTo>
                    <a:lnTo>
                      <a:pt x="1142" y="68"/>
                    </a:lnTo>
                    <a:lnTo>
                      <a:pt x="1140" y="67"/>
                    </a:lnTo>
                    <a:lnTo>
                      <a:pt x="1137" y="66"/>
                    </a:lnTo>
                    <a:lnTo>
                      <a:pt x="1135" y="63"/>
                    </a:lnTo>
                    <a:lnTo>
                      <a:pt x="1133" y="62"/>
                    </a:lnTo>
                    <a:lnTo>
                      <a:pt x="1133" y="59"/>
                    </a:lnTo>
                    <a:lnTo>
                      <a:pt x="1133" y="59"/>
                    </a:lnTo>
                    <a:close/>
                    <a:moveTo>
                      <a:pt x="1133" y="25"/>
                    </a:moveTo>
                    <a:lnTo>
                      <a:pt x="1133" y="25"/>
                    </a:lnTo>
                    <a:lnTo>
                      <a:pt x="1133" y="24"/>
                    </a:lnTo>
                    <a:lnTo>
                      <a:pt x="1135" y="23"/>
                    </a:lnTo>
                    <a:lnTo>
                      <a:pt x="1137" y="20"/>
                    </a:lnTo>
                    <a:lnTo>
                      <a:pt x="1140" y="19"/>
                    </a:lnTo>
                    <a:lnTo>
                      <a:pt x="1142" y="17"/>
                    </a:lnTo>
                    <a:lnTo>
                      <a:pt x="1145" y="17"/>
                    </a:lnTo>
                    <a:lnTo>
                      <a:pt x="1147" y="17"/>
                    </a:lnTo>
                    <a:lnTo>
                      <a:pt x="1149" y="19"/>
                    </a:lnTo>
                    <a:lnTo>
                      <a:pt x="1152" y="20"/>
                    </a:lnTo>
                    <a:lnTo>
                      <a:pt x="1154" y="23"/>
                    </a:lnTo>
                    <a:lnTo>
                      <a:pt x="1155" y="24"/>
                    </a:lnTo>
                    <a:lnTo>
                      <a:pt x="1155" y="25"/>
                    </a:lnTo>
                    <a:lnTo>
                      <a:pt x="1155" y="25"/>
                    </a:lnTo>
                    <a:lnTo>
                      <a:pt x="1155" y="28"/>
                    </a:lnTo>
                    <a:lnTo>
                      <a:pt x="1154" y="29"/>
                    </a:lnTo>
                    <a:lnTo>
                      <a:pt x="1152" y="32"/>
                    </a:lnTo>
                    <a:lnTo>
                      <a:pt x="1149" y="33"/>
                    </a:lnTo>
                    <a:lnTo>
                      <a:pt x="1147" y="35"/>
                    </a:lnTo>
                    <a:lnTo>
                      <a:pt x="1145" y="35"/>
                    </a:lnTo>
                    <a:lnTo>
                      <a:pt x="1142" y="35"/>
                    </a:lnTo>
                    <a:lnTo>
                      <a:pt x="1140" y="33"/>
                    </a:lnTo>
                    <a:lnTo>
                      <a:pt x="1137" y="32"/>
                    </a:lnTo>
                    <a:lnTo>
                      <a:pt x="1135" y="29"/>
                    </a:lnTo>
                    <a:lnTo>
                      <a:pt x="1133" y="28"/>
                    </a:lnTo>
                    <a:lnTo>
                      <a:pt x="1133" y="25"/>
                    </a:lnTo>
                    <a:lnTo>
                      <a:pt x="1133" y="2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805040" y="482436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805040" y="483084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a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797120" y="4770360"/>
                <a:ext cx="898560" cy="77760"/>
              </a:xfrm>
              <a:custGeom>
                <a:avLst/>
                <a:gdLst/>
                <a:ahLst/>
                <a:rect l="l" t="t" r="r" b="b"/>
                <a:pathLst>
                  <a:path w="1133" h="98">
                    <a:moveTo>
                      <a:pt x="1100" y="98"/>
                    </a:moveTo>
                    <a:lnTo>
                      <a:pt x="1100" y="98"/>
                    </a:lnTo>
                    <a:lnTo>
                      <a:pt x="1099" y="98"/>
                    </a:lnTo>
                    <a:lnTo>
                      <a:pt x="1097" y="96"/>
                    </a:lnTo>
                    <a:lnTo>
                      <a:pt x="1094" y="95"/>
                    </a:lnTo>
                    <a:lnTo>
                      <a:pt x="1090" y="92"/>
                    </a:lnTo>
                    <a:lnTo>
                      <a:pt x="1090" y="91"/>
                    </a:lnTo>
                    <a:lnTo>
                      <a:pt x="1090" y="89"/>
                    </a:lnTo>
                    <a:lnTo>
                      <a:pt x="1090" y="87"/>
                    </a:lnTo>
                    <a:lnTo>
                      <a:pt x="1090" y="85"/>
                    </a:lnTo>
                    <a:lnTo>
                      <a:pt x="1094" y="83"/>
                    </a:lnTo>
                    <a:lnTo>
                      <a:pt x="1097" y="81"/>
                    </a:lnTo>
                    <a:lnTo>
                      <a:pt x="1099" y="80"/>
                    </a:lnTo>
                    <a:lnTo>
                      <a:pt x="1100" y="80"/>
                    </a:lnTo>
                    <a:lnTo>
                      <a:pt x="1100" y="80"/>
                    </a:lnTo>
                    <a:lnTo>
                      <a:pt x="1102" y="80"/>
                    </a:lnTo>
                    <a:lnTo>
                      <a:pt x="1104" y="81"/>
                    </a:lnTo>
                    <a:lnTo>
                      <a:pt x="1107" y="83"/>
                    </a:lnTo>
                    <a:lnTo>
                      <a:pt x="1111" y="85"/>
                    </a:lnTo>
                    <a:lnTo>
                      <a:pt x="1111" y="87"/>
                    </a:lnTo>
                    <a:lnTo>
                      <a:pt x="1111" y="89"/>
                    </a:lnTo>
                    <a:lnTo>
                      <a:pt x="1111" y="91"/>
                    </a:lnTo>
                    <a:lnTo>
                      <a:pt x="1111" y="92"/>
                    </a:lnTo>
                    <a:lnTo>
                      <a:pt x="1107" y="95"/>
                    </a:lnTo>
                    <a:lnTo>
                      <a:pt x="1104" y="96"/>
                    </a:lnTo>
                    <a:lnTo>
                      <a:pt x="1102" y="98"/>
                    </a:lnTo>
                    <a:lnTo>
                      <a:pt x="1100" y="98"/>
                    </a:lnTo>
                    <a:lnTo>
                      <a:pt x="1100" y="98"/>
                    </a:lnTo>
                    <a:close/>
                    <a:moveTo>
                      <a:pt x="1057" y="98"/>
                    </a:moveTo>
                    <a:lnTo>
                      <a:pt x="1057" y="98"/>
                    </a:lnTo>
                    <a:lnTo>
                      <a:pt x="1056" y="98"/>
                    </a:lnTo>
                    <a:lnTo>
                      <a:pt x="1054" y="96"/>
                    </a:lnTo>
                    <a:lnTo>
                      <a:pt x="1050" y="95"/>
                    </a:lnTo>
                    <a:lnTo>
                      <a:pt x="1047" y="92"/>
                    </a:lnTo>
                    <a:lnTo>
                      <a:pt x="1047" y="91"/>
                    </a:lnTo>
                    <a:lnTo>
                      <a:pt x="1047" y="89"/>
                    </a:lnTo>
                    <a:lnTo>
                      <a:pt x="1047" y="87"/>
                    </a:lnTo>
                    <a:lnTo>
                      <a:pt x="1047" y="85"/>
                    </a:lnTo>
                    <a:lnTo>
                      <a:pt x="1050" y="83"/>
                    </a:lnTo>
                    <a:lnTo>
                      <a:pt x="1054" y="81"/>
                    </a:lnTo>
                    <a:lnTo>
                      <a:pt x="1056" y="80"/>
                    </a:lnTo>
                    <a:lnTo>
                      <a:pt x="1057" y="80"/>
                    </a:lnTo>
                    <a:lnTo>
                      <a:pt x="1057" y="80"/>
                    </a:lnTo>
                    <a:lnTo>
                      <a:pt x="1059" y="80"/>
                    </a:lnTo>
                    <a:lnTo>
                      <a:pt x="1061" y="81"/>
                    </a:lnTo>
                    <a:lnTo>
                      <a:pt x="1064" y="83"/>
                    </a:lnTo>
                    <a:lnTo>
                      <a:pt x="1068" y="85"/>
                    </a:lnTo>
                    <a:lnTo>
                      <a:pt x="1068" y="87"/>
                    </a:lnTo>
                    <a:lnTo>
                      <a:pt x="1068" y="89"/>
                    </a:lnTo>
                    <a:lnTo>
                      <a:pt x="1068" y="91"/>
                    </a:lnTo>
                    <a:lnTo>
                      <a:pt x="1068" y="92"/>
                    </a:lnTo>
                    <a:lnTo>
                      <a:pt x="1064" y="95"/>
                    </a:lnTo>
                    <a:lnTo>
                      <a:pt x="1061" y="96"/>
                    </a:lnTo>
                    <a:lnTo>
                      <a:pt x="1059" y="98"/>
                    </a:lnTo>
                    <a:lnTo>
                      <a:pt x="1057" y="98"/>
                    </a:lnTo>
                    <a:lnTo>
                      <a:pt x="1057" y="98"/>
                    </a:lnTo>
                    <a:close/>
                    <a:moveTo>
                      <a:pt x="1014" y="98"/>
                    </a:moveTo>
                    <a:lnTo>
                      <a:pt x="1014" y="98"/>
                    </a:lnTo>
                    <a:lnTo>
                      <a:pt x="1013" y="98"/>
                    </a:lnTo>
                    <a:lnTo>
                      <a:pt x="1011" y="96"/>
                    </a:lnTo>
                    <a:lnTo>
                      <a:pt x="1007" y="95"/>
                    </a:lnTo>
                    <a:lnTo>
                      <a:pt x="1004" y="92"/>
                    </a:lnTo>
                    <a:lnTo>
                      <a:pt x="1004" y="91"/>
                    </a:lnTo>
                    <a:lnTo>
                      <a:pt x="1004" y="89"/>
                    </a:lnTo>
                    <a:lnTo>
                      <a:pt x="1004" y="87"/>
                    </a:lnTo>
                    <a:lnTo>
                      <a:pt x="1004" y="85"/>
                    </a:lnTo>
                    <a:lnTo>
                      <a:pt x="1007" y="83"/>
                    </a:lnTo>
                    <a:lnTo>
                      <a:pt x="1011" y="81"/>
                    </a:lnTo>
                    <a:lnTo>
                      <a:pt x="1013" y="80"/>
                    </a:lnTo>
                    <a:lnTo>
                      <a:pt x="1014" y="80"/>
                    </a:lnTo>
                    <a:lnTo>
                      <a:pt x="1014" y="80"/>
                    </a:lnTo>
                    <a:lnTo>
                      <a:pt x="1016" y="80"/>
                    </a:lnTo>
                    <a:lnTo>
                      <a:pt x="1018" y="81"/>
                    </a:lnTo>
                    <a:lnTo>
                      <a:pt x="1021" y="83"/>
                    </a:lnTo>
                    <a:lnTo>
                      <a:pt x="1025" y="85"/>
                    </a:lnTo>
                    <a:lnTo>
                      <a:pt x="1025" y="87"/>
                    </a:lnTo>
                    <a:lnTo>
                      <a:pt x="1025" y="89"/>
                    </a:lnTo>
                    <a:lnTo>
                      <a:pt x="1025" y="91"/>
                    </a:lnTo>
                    <a:lnTo>
                      <a:pt x="1025" y="92"/>
                    </a:lnTo>
                    <a:lnTo>
                      <a:pt x="1021" y="95"/>
                    </a:lnTo>
                    <a:lnTo>
                      <a:pt x="1018" y="96"/>
                    </a:lnTo>
                    <a:lnTo>
                      <a:pt x="1016" y="98"/>
                    </a:lnTo>
                    <a:lnTo>
                      <a:pt x="1014" y="98"/>
                    </a:lnTo>
                    <a:lnTo>
                      <a:pt x="1014" y="98"/>
                    </a:lnTo>
                    <a:close/>
                    <a:moveTo>
                      <a:pt x="971" y="98"/>
                    </a:moveTo>
                    <a:lnTo>
                      <a:pt x="971" y="98"/>
                    </a:lnTo>
                    <a:lnTo>
                      <a:pt x="970" y="98"/>
                    </a:lnTo>
                    <a:lnTo>
                      <a:pt x="968" y="96"/>
                    </a:lnTo>
                    <a:lnTo>
                      <a:pt x="964" y="95"/>
                    </a:lnTo>
                    <a:lnTo>
                      <a:pt x="961" y="92"/>
                    </a:lnTo>
                    <a:lnTo>
                      <a:pt x="961" y="91"/>
                    </a:lnTo>
                    <a:lnTo>
                      <a:pt x="961" y="89"/>
                    </a:lnTo>
                    <a:lnTo>
                      <a:pt x="961" y="87"/>
                    </a:lnTo>
                    <a:lnTo>
                      <a:pt x="961" y="85"/>
                    </a:lnTo>
                    <a:lnTo>
                      <a:pt x="964" y="83"/>
                    </a:lnTo>
                    <a:lnTo>
                      <a:pt x="968" y="81"/>
                    </a:lnTo>
                    <a:lnTo>
                      <a:pt x="970" y="80"/>
                    </a:lnTo>
                    <a:lnTo>
                      <a:pt x="971" y="80"/>
                    </a:lnTo>
                    <a:lnTo>
                      <a:pt x="971" y="80"/>
                    </a:lnTo>
                    <a:lnTo>
                      <a:pt x="973" y="80"/>
                    </a:lnTo>
                    <a:lnTo>
                      <a:pt x="975" y="81"/>
                    </a:lnTo>
                    <a:lnTo>
                      <a:pt x="978" y="83"/>
                    </a:lnTo>
                    <a:lnTo>
                      <a:pt x="982" y="85"/>
                    </a:lnTo>
                    <a:lnTo>
                      <a:pt x="982" y="87"/>
                    </a:lnTo>
                    <a:lnTo>
                      <a:pt x="982" y="89"/>
                    </a:lnTo>
                    <a:lnTo>
                      <a:pt x="982" y="91"/>
                    </a:lnTo>
                    <a:lnTo>
                      <a:pt x="982" y="92"/>
                    </a:lnTo>
                    <a:lnTo>
                      <a:pt x="978" y="95"/>
                    </a:lnTo>
                    <a:lnTo>
                      <a:pt x="975" y="96"/>
                    </a:lnTo>
                    <a:lnTo>
                      <a:pt x="973" y="98"/>
                    </a:lnTo>
                    <a:lnTo>
                      <a:pt x="971" y="98"/>
                    </a:lnTo>
                    <a:lnTo>
                      <a:pt x="971" y="98"/>
                    </a:lnTo>
                    <a:close/>
                    <a:moveTo>
                      <a:pt x="928" y="98"/>
                    </a:moveTo>
                    <a:lnTo>
                      <a:pt x="928" y="98"/>
                    </a:lnTo>
                    <a:lnTo>
                      <a:pt x="927" y="98"/>
                    </a:lnTo>
                    <a:lnTo>
                      <a:pt x="925" y="96"/>
                    </a:lnTo>
                    <a:lnTo>
                      <a:pt x="921" y="95"/>
                    </a:lnTo>
                    <a:lnTo>
                      <a:pt x="918" y="92"/>
                    </a:lnTo>
                    <a:lnTo>
                      <a:pt x="918" y="91"/>
                    </a:lnTo>
                    <a:lnTo>
                      <a:pt x="918" y="89"/>
                    </a:lnTo>
                    <a:lnTo>
                      <a:pt x="918" y="87"/>
                    </a:lnTo>
                    <a:lnTo>
                      <a:pt x="918" y="85"/>
                    </a:lnTo>
                    <a:lnTo>
                      <a:pt x="921" y="83"/>
                    </a:lnTo>
                    <a:lnTo>
                      <a:pt x="925" y="81"/>
                    </a:lnTo>
                    <a:lnTo>
                      <a:pt x="927" y="8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0" y="80"/>
                    </a:lnTo>
                    <a:lnTo>
                      <a:pt x="932" y="81"/>
                    </a:lnTo>
                    <a:lnTo>
                      <a:pt x="935" y="83"/>
                    </a:lnTo>
                    <a:lnTo>
                      <a:pt x="939" y="85"/>
                    </a:lnTo>
                    <a:lnTo>
                      <a:pt x="939" y="87"/>
                    </a:lnTo>
                    <a:lnTo>
                      <a:pt x="939" y="89"/>
                    </a:lnTo>
                    <a:lnTo>
                      <a:pt x="939" y="91"/>
                    </a:lnTo>
                    <a:lnTo>
                      <a:pt x="939" y="92"/>
                    </a:lnTo>
                    <a:lnTo>
                      <a:pt x="935" y="95"/>
                    </a:lnTo>
                    <a:lnTo>
                      <a:pt x="932" y="96"/>
                    </a:lnTo>
                    <a:lnTo>
                      <a:pt x="930" y="98"/>
                    </a:lnTo>
                    <a:lnTo>
                      <a:pt x="928" y="98"/>
                    </a:lnTo>
                    <a:lnTo>
                      <a:pt x="928" y="98"/>
                    </a:lnTo>
                    <a:close/>
                    <a:moveTo>
                      <a:pt x="885" y="98"/>
                    </a:moveTo>
                    <a:lnTo>
                      <a:pt x="885" y="98"/>
                    </a:lnTo>
                    <a:lnTo>
                      <a:pt x="883" y="98"/>
                    </a:lnTo>
                    <a:lnTo>
                      <a:pt x="882" y="96"/>
                    </a:lnTo>
                    <a:lnTo>
                      <a:pt x="878" y="95"/>
                    </a:lnTo>
                    <a:lnTo>
                      <a:pt x="875" y="92"/>
                    </a:lnTo>
                    <a:lnTo>
                      <a:pt x="875" y="91"/>
                    </a:lnTo>
                    <a:lnTo>
                      <a:pt x="875" y="89"/>
                    </a:lnTo>
                    <a:lnTo>
                      <a:pt x="875" y="87"/>
                    </a:lnTo>
                    <a:lnTo>
                      <a:pt x="875" y="85"/>
                    </a:lnTo>
                    <a:lnTo>
                      <a:pt x="878" y="83"/>
                    </a:lnTo>
                    <a:lnTo>
                      <a:pt x="882" y="81"/>
                    </a:lnTo>
                    <a:lnTo>
                      <a:pt x="883" y="80"/>
                    </a:lnTo>
                    <a:lnTo>
                      <a:pt x="885" y="80"/>
                    </a:lnTo>
                    <a:lnTo>
                      <a:pt x="885" y="80"/>
                    </a:lnTo>
                    <a:lnTo>
                      <a:pt x="887" y="80"/>
                    </a:lnTo>
                    <a:lnTo>
                      <a:pt x="889" y="81"/>
                    </a:lnTo>
                    <a:lnTo>
                      <a:pt x="892" y="83"/>
                    </a:lnTo>
                    <a:lnTo>
                      <a:pt x="896" y="85"/>
                    </a:lnTo>
                    <a:lnTo>
                      <a:pt x="896" y="87"/>
                    </a:lnTo>
                    <a:lnTo>
                      <a:pt x="896" y="89"/>
                    </a:lnTo>
                    <a:lnTo>
                      <a:pt x="896" y="91"/>
                    </a:lnTo>
                    <a:lnTo>
                      <a:pt x="896" y="92"/>
                    </a:lnTo>
                    <a:lnTo>
                      <a:pt x="892" y="95"/>
                    </a:lnTo>
                    <a:lnTo>
                      <a:pt x="889" y="96"/>
                    </a:lnTo>
                    <a:lnTo>
                      <a:pt x="887" y="98"/>
                    </a:lnTo>
                    <a:lnTo>
                      <a:pt x="885" y="98"/>
                    </a:lnTo>
                    <a:lnTo>
                      <a:pt x="885" y="98"/>
                    </a:lnTo>
                    <a:close/>
                    <a:moveTo>
                      <a:pt x="842" y="98"/>
                    </a:moveTo>
                    <a:lnTo>
                      <a:pt x="842" y="98"/>
                    </a:lnTo>
                    <a:lnTo>
                      <a:pt x="840" y="98"/>
                    </a:lnTo>
                    <a:lnTo>
                      <a:pt x="839" y="96"/>
                    </a:lnTo>
                    <a:lnTo>
                      <a:pt x="835" y="95"/>
                    </a:lnTo>
                    <a:lnTo>
                      <a:pt x="832" y="92"/>
                    </a:lnTo>
                    <a:lnTo>
                      <a:pt x="832" y="91"/>
                    </a:lnTo>
                    <a:lnTo>
                      <a:pt x="832" y="89"/>
                    </a:lnTo>
                    <a:lnTo>
                      <a:pt x="832" y="87"/>
                    </a:lnTo>
                    <a:lnTo>
                      <a:pt x="832" y="85"/>
                    </a:lnTo>
                    <a:lnTo>
                      <a:pt x="835" y="83"/>
                    </a:lnTo>
                    <a:lnTo>
                      <a:pt x="839" y="81"/>
                    </a:lnTo>
                    <a:lnTo>
                      <a:pt x="840" y="80"/>
                    </a:lnTo>
                    <a:lnTo>
                      <a:pt x="842" y="80"/>
                    </a:lnTo>
                    <a:lnTo>
                      <a:pt x="842" y="80"/>
                    </a:lnTo>
                    <a:lnTo>
                      <a:pt x="844" y="80"/>
                    </a:lnTo>
                    <a:lnTo>
                      <a:pt x="846" y="81"/>
                    </a:lnTo>
                    <a:lnTo>
                      <a:pt x="849" y="83"/>
                    </a:lnTo>
                    <a:lnTo>
                      <a:pt x="852" y="85"/>
                    </a:lnTo>
                    <a:lnTo>
                      <a:pt x="852" y="87"/>
                    </a:lnTo>
                    <a:lnTo>
                      <a:pt x="852" y="89"/>
                    </a:lnTo>
                    <a:lnTo>
                      <a:pt x="852" y="91"/>
                    </a:lnTo>
                    <a:lnTo>
                      <a:pt x="852" y="92"/>
                    </a:lnTo>
                    <a:lnTo>
                      <a:pt x="849" y="95"/>
                    </a:lnTo>
                    <a:lnTo>
                      <a:pt x="846" y="96"/>
                    </a:lnTo>
                    <a:lnTo>
                      <a:pt x="844" y="98"/>
                    </a:lnTo>
                    <a:lnTo>
                      <a:pt x="842" y="98"/>
                    </a:lnTo>
                    <a:lnTo>
                      <a:pt x="842" y="98"/>
                    </a:lnTo>
                    <a:close/>
                    <a:moveTo>
                      <a:pt x="799" y="98"/>
                    </a:moveTo>
                    <a:lnTo>
                      <a:pt x="799" y="98"/>
                    </a:lnTo>
                    <a:lnTo>
                      <a:pt x="797" y="98"/>
                    </a:lnTo>
                    <a:lnTo>
                      <a:pt x="796" y="96"/>
                    </a:lnTo>
                    <a:lnTo>
                      <a:pt x="792" y="95"/>
                    </a:lnTo>
                    <a:lnTo>
                      <a:pt x="789" y="92"/>
                    </a:lnTo>
                    <a:lnTo>
                      <a:pt x="789" y="91"/>
                    </a:lnTo>
                    <a:lnTo>
                      <a:pt x="789" y="89"/>
                    </a:lnTo>
                    <a:lnTo>
                      <a:pt x="789" y="87"/>
                    </a:lnTo>
                    <a:lnTo>
                      <a:pt x="789" y="85"/>
                    </a:lnTo>
                    <a:lnTo>
                      <a:pt x="792" y="83"/>
                    </a:lnTo>
                    <a:lnTo>
                      <a:pt x="796" y="81"/>
                    </a:lnTo>
                    <a:lnTo>
                      <a:pt x="797" y="80"/>
                    </a:lnTo>
                    <a:lnTo>
                      <a:pt x="799" y="80"/>
                    </a:lnTo>
                    <a:lnTo>
                      <a:pt x="799" y="80"/>
                    </a:lnTo>
                    <a:lnTo>
                      <a:pt x="801" y="80"/>
                    </a:lnTo>
                    <a:lnTo>
                      <a:pt x="803" y="81"/>
                    </a:lnTo>
                    <a:lnTo>
                      <a:pt x="806" y="83"/>
                    </a:lnTo>
                    <a:lnTo>
                      <a:pt x="809" y="85"/>
                    </a:lnTo>
                    <a:lnTo>
                      <a:pt x="809" y="87"/>
                    </a:lnTo>
                    <a:lnTo>
                      <a:pt x="809" y="89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06" y="95"/>
                    </a:lnTo>
                    <a:lnTo>
                      <a:pt x="803" y="96"/>
                    </a:lnTo>
                    <a:lnTo>
                      <a:pt x="801" y="98"/>
                    </a:lnTo>
                    <a:lnTo>
                      <a:pt x="799" y="98"/>
                    </a:lnTo>
                    <a:lnTo>
                      <a:pt x="799" y="98"/>
                    </a:lnTo>
                    <a:close/>
                    <a:moveTo>
                      <a:pt x="756" y="98"/>
                    </a:moveTo>
                    <a:lnTo>
                      <a:pt x="756" y="98"/>
                    </a:lnTo>
                    <a:lnTo>
                      <a:pt x="754" y="98"/>
                    </a:lnTo>
                    <a:lnTo>
                      <a:pt x="753" y="96"/>
                    </a:lnTo>
                    <a:lnTo>
                      <a:pt x="749" y="95"/>
                    </a:lnTo>
                    <a:lnTo>
                      <a:pt x="746" y="92"/>
                    </a:lnTo>
                    <a:lnTo>
                      <a:pt x="746" y="91"/>
                    </a:lnTo>
                    <a:lnTo>
                      <a:pt x="746" y="89"/>
                    </a:lnTo>
                    <a:lnTo>
                      <a:pt x="746" y="87"/>
                    </a:lnTo>
                    <a:lnTo>
                      <a:pt x="746" y="85"/>
                    </a:lnTo>
                    <a:lnTo>
                      <a:pt x="749" y="83"/>
                    </a:lnTo>
                    <a:lnTo>
                      <a:pt x="753" y="81"/>
                    </a:lnTo>
                    <a:lnTo>
                      <a:pt x="754" y="80"/>
                    </a:lnTo>
                    <a:lnTo>
                      <a:pt x="756" y="80"/>
                    </a:lnTo>
                    <a:lnTo>
                      <a:pt x="756" y="80"/>
                    </a:lnTo>
                    <a:lnTo>
                      <a:pt x="758" y="80"/>
                    </a:lnTo>
                    <a:lnTo>
                      <a:pt x="760" y="81"/>
                    </a:lnTo>
                    <a:lnTo>
                      <a:pt x="763" y="83"/>
                    </a:lnTo>
                    <a:lnTo>
                      <a:pt x="766" y="85"/>
                    </a:lnTo>
                    <a:lnTo>
                      <a:pt x="766" y="87"/>
                    </a:lnTo>
                    <a:lnTo>
                      <a:pt x="766" y="89"/>
                    </a:lnTo>
                    <a:lnTo>
                      <a:pt x="766" y="91"/>
                    </a:lnTo>
                    <a:lnTo>
                      <a:pt x="766" y="92"/>
                    </a:lnTo>
                    <a:lnTo>
                      <a:pt x="763" y="95"/>
                    </a:lnTo>
                    <a:lnTo>
                      <a:pt x="760" y="96"/>
                    </a:lnTo>
                    <a:lnTo>
                      <a:pt x="758" y="98"/>
                    </a:lnTo>
                    <a:lnTo>
                      <a:pt x="756" y="98"/>
                    </a:lnTo>
                    <a:lnTo>
                      <a:pt x="756" y="98"/>
                    </a:lnTo>
                    <a:close/>
                    <a:moveTo>
                      <a:pt x="713" y="98"/>
                    </a:moveTo>
                    <a:lnTo>
                      <a:pt x="713" y="98"/>
                    </a:lnTo>
                    <a:lnTo>
                      <a:pt x="711" y="98"/>
                    </a:lnTo>
                    <a:lnTo>
                      <a:pt x="708" y="96"/>
                    </a:lnTo>
                    <a:lnTo>
                      <a:pt x="706" y="95"/>
                    </a:lnTo>
                    <a:lnTo>
                      <a:pt x="703" y="92"/>
                    </a:lnTo>
                    <a:lnTo>
                      <a:pt x="703" y="91"/>
                    </a:lnTo>
                    <a:lnTo>
                      <a:pt x="703" y="89"/>
                    </a:lnTo>
                    <a:lnTo>
                      <a:pt x="703" y="87"/>
                    </a:lnTo>
                    <a:lnTo>
                      <a:pt x="703" y="85"/>
                    </a:lnTo>
                    <a:lnTo>
                      <a:pt x="706" y="83"/>
                    </a:lnTo>
                    <a:lnTo>
                      <a:pt x="708" y="81"/>
                    </a:lnTo>
                    <a:lnTo>
                      <a:pt x="711" y="80"/>
                    </a:lnTo>
                    <a:lnTo>
                      <a:pt x="713" y="80"/>
                    </a:lnTo>
                    <a:lnTo>
                      <a:pt x="713" y="80"/>
                    </a:lnTo>
                    <a:lnTo>
                      <a:pt x="715" y="80"/>
                    </a:lnTo>
                    <a:lnTo>
                      <a:pt x="716" y="81"/>
                    </a:lnTo>
                    <a:lnTo>
                      <a:pt x="720" y="83"/>
                    </a:lnTo>
                    <a:lnTo>
                      <a:pt x="723" y="85"/>
                    </a:lnTo>
                    <a:lnTo>
                      <a:pt x="723" y="87"/>
                    </a:lnTo>
                    <a:lnTo>
                      <a:pt x="723" y="89"/>
                    </a:lnTo>
                    <a:lnTo>
                      <a:pt x="723" y="91"/>
                    </a:lnTo>
                    <a:lnTo>
                      <a:pt x="723" y="92"/>
                    </a:lnTo>
                    <a:lnTo>
                      <a:pt x="720" y="95"/>
                    </a:lnTo>
                    <a:lnTo>
                      <a:pt x="716" y="96"/>
                    </a:lnTo>
                    <a:lnTo>
                      <a:pt x="715" y="98"/>
                    </a:lnTo>
                    <a:lnTo>
                      <a:pt x="713" y="98"/>
                    </a:lnTo>
                    <a:lnTo>
                      <a:pt x="713" y="98"/>
                    </a:lnTo>
                    <a:close/>
                    <a:moveTo>
                      <a:pt x="670" y="98"/>
                    </a:moveTo>
                    <a:lnTo>
                      <a:pt x="670" y="98"/>
                    </a:lnTo>
                    <a:lnTo>
                      <a:pt x="668" y="98"/>
                    </a:lnTo>
                    <a:lnTo>
                      <a:pt x="665" y="96"/>
                    </a:lnTo>
                    <a:lnTo>
                      <a:pt x="663" y="95"/>
                    </a:lnTo>
                    <a:lnTo>
                      <a:pt x="660" y="92"/>
                    </a:lnTo>
                    <a:lnTo>
                      <a:pt x="660" y="91"/>
                    </a:lnTo>
                    <a:lnTo>
                      <a:pt x="660" y="89"/>
                    </a:lnTo>
                    <a:lnTo>
                      <a:pt x="660" y="87"/>
                    </a:lnTo>
                    <a:lnTo>
                      <a:pt x="660" y="85"/>
                    </a:lnTo>
                    <a:lnTo>
                      <a:pt x="663" y="83"/>
                    </a:lnTo>
                    <a:lnTo>
                      <a:pt x="665" y="81"/>
                    </a:lnTo>
                    <a:lnTo>
                      <a:pt x="668" y="80"/>
                    </a:lnTo>
                    <a:lnTo>
                      <a:pt x="670" y="80"/>
                    </a:lnTo>
                    <a:lnTo>
                      <a:pt x="670" y="80"/>
                    </a:lnTo>
                    <a:lnTo>
                      <a:pt x="672" y="80"/>
                    </a:lnTo>
                    <a:lnTo>
                      <a:pt x="673" y="81"/>
                    </a:lnTo>
                    <a:lnTo>
                      <a:pt x="677" y="83"/>
                    </a:lnTo>
                    <a:lnTo>
                      <a:pt x="680" y="85"/>
                    </a:lnTo>
                    <a:lnTo>
                      <a:pt x="680" y="87"/>
                    </a:lnTo>
                    <a:lnTo>
                      <a:pt x="680" y="89"/>
                    </a:lnTo>
                    <a:lnTo>
                      <a:pt x="680" y="91"/>
                    </a:lnTo>
                    <a:lnTo>
                      <a:pt x="680" y="92"/>
                    </a:lnTo>
                    <a:lnTo>
                      <a:pt x="677" y="95"/>
                    </a:lnTo>
                    <a:lnTo>
                      <a:pt x="673" y="96"/>
                    </a:lnTo>
                    <a:lnTo>
                      <a:pt x="672" y="98"/>
                    </a:lnTo>
                    <a:lnTo>
                      <a:pt x="670" y="98"/>
                    </a:lnTo>
                    <a:lnTo>
                      <a:pt x="670" y="98"/>
                    </a:lnTo>
                    <a:close/>
                    <a:moveTo>
                      <a:pt x="627" y="98"/>
                    </a:moveTo>
                    <a:lnTo>
                      <a:pt x="627" y="98"/>
                    </a:lnTo>
                    <a:lnTo>
                      <a:pt x="625" y="98"/>
                    </a:lnTo>
                    <a:lnTo>
                      <a:pt x="622" y="96"/>
                    </a:lnTo>
                    <a:lnTo>
                      <a:pt x="620" y="95"/>
                    </a:lnTo>
                    <a:lnTo>
                      <a:pt x="617" y="92"/>
                    </a:lnTo>
                    <a:lnTo>
                      <a:pt x="617" y="91"/>
                    </a:lnTo>
                    <a:lnTo>
                      <a:pt x="617" y="89"/>
                    </a:lnTo>
                    <a:lnTo>
                      <a:pt x="617" y="87"/>
                    </a:lnTo>
                    <a:lnTo>
                      <a:pt x="617" y="85"/>
                    </a:lnTo>
                    <a:lnTo>
                      <a:pt x="620" y="83"/>
                    </a:lnTo>
                    <a:lnTo>
                      <a:pt x="622" y="81"/>
                    </a:lnTo>
                    <a:lnTo>
                      <a:pt x="625" y="80"/>
                    </a:lnTo>
                    <a:lnTo>
                      <a:pt x="627" y="80"/>
                    </a:lnTo>
                    <a:lnTo>
                      <a:pt x="627" y="80"/>
                    </a:lnTo>
                    <a:lnTo>
                      <a:pt x="629" y="80"/>
                    </a:lnTo>
                    <a:lnTo>
                      <a:pt x="630" y="81"/>
                    </a:lnTo>
                    <a:lnTo>
                      <a:pt x="634" y="83"/>
                    </a:lnTo>
                    <a:lnTo>
                      <a:pt x="637" y="85"/>
                    </a:lnTo>
                    <a:lnTo>
                      <a:pt x="637" y="87"/>
                    </a:lnTo>
                    <a:lnTo>
                      <a:pt x="637" y="89"/>
                    </a:lnTo>
                    <a:lnTo>
                      <a:pt x="637" y="91"/>
                    </a:lnTo>
                    <a:lnTo>
                      <a:pt x="637" y="92"/>
                    </a:lnTo>
                    <a:lnTo>
                      <a:pt x="634" y="95"/>
                    </a:lnTo>
                    <a:lnTo>
                      <a:pt x="630" y="96"/>
                    </a:lnTo>
                    <a:lnTo>
                      <a:pt x="629" y="98"/>
                    </a:lnTo>
                    <a:lnTo>
                      <a:pt x="627" y="98"/>
                    </a:lnTo>
                    <a:lnTo>
                      <a:pt x="627" y="98"/>
                    </a:lnTo>
                    <a:close/>
                    <a:moveTo>
                      <a:pt x="584" y="98"/>
                    </a:moveTo>
                    <a:lnTo>
                      <a:pt x="584" y="98"/>
                    </a:lnTo>
                    <a:lnTo>
                      <a:pt x="582" y="98"/>
                    </a:lnTo>
                    <a:lnTo>
                      <a:pt x="579" y="96"/>
                    </a:lnTo>
                    <a:lnTo>
                      <a:pt x="577" y="95"/>
                    </a:lnTo>
                    <a:lnTo>
                      <a:pt x="574" y="92"/>
                    </a:lnTo>
                    <a:lnTo>
                      <a:pt x="574" y="91"/>
                    </a:lnTo>
                    <a:lnTo>
                      <a:pt x="574" y="89"/>
                    </a:lnTo>
                    <a:lnTo>
                      <a:pt x="574" y="87"/>
                    </a:lnTo>
                    <a:lnTo>
                      <a:pt x="574" y="85"/>
                    </a:lnTo>
                    <a:lnTo>
                      <a:pt x="577" y="83"/>
                    </a:lnTo>
                    <a:lnTo>
                      <a:pt x="579" y="81"/>
                    </a:lnTo>
                    <a:lnTo>
                      <a:pt x="582" y="80"/>
                    </a:lnTo>
                    <a:lnTo>
                      <a:pt x="584" y="80"/>
                    </a:lnTo>
                    <a:lnTo>
                      <a:pt x="584" y="80"/>
                    </a:lnTo>
                    <a:lnTo>
                      <a:pt x="586" y="80"/>
                    </a:lnTo>
                    <a:lnTo>
                      <a:pt x="587" y="81"/>
                    </a:lnTo>
                    <a:lnTo>
                      <a:pt x="591" y="83"/>
                    </a:lnTo>
                    <a:lnTo>
                      <a:pt x="594" y="85"/>
                    </a:lnTo>
                    <a:lnTo>
                      <a:pt x="594" y="87"/>
                    </a:lnTo>
                    <a:lnTo>
                      <a:pt x="594" y="89"/>
                    </a:lnTo>
                    <a:lnTo>
                      <a:pt x="594" y="91"/>
                    </a:lnTo>
                    <a:lnTo>
                      <a:pt x="594" y="92"/>
                    </a:lnTo>
                    <a:lnTo>
                      <a:pt x="591" y="95"/>
                    </a:lnTo>
                    <a:lnTo>
                      <a:pt x="587" y="96"/>
                    </a:lnTo>
                    <a:lnTo>
                      <a:pt x="586" y="98"/>
                    </a:lnTo>
                    <a:lnTo>
                      <a:pt x="584" y="98"/>
                    </a:lnTo>
                    <a:lnTo>
                      <a:pt x="584" y="98"/>
                    </a:lnTo>
                    <a:close/>
                    <a:moveTo>
                      <a:pt x="541" y="98"/>
                    </a:moveTo>
                    <a:lnTo>
                      <a:pt x="541" y="98"/>
                    </a:lnTo>
                    <a:lnTo>
                      <a:pt x="539" y="98"/>
                    </a:lnTo>
                    <a:lnTo>
                      <a:pt x="536" y="96"/>
                    </a:lnTo>
                    <a:lnTo>
                      <a:pt x="532" y="95"/>
                    </a:lnTo>
                    <a:lnTo>
                      <a:pt x="531" y="92"/>
                    </a:lnTo>
                    <a:lnTo>
                      <a:pt x="531" y="91"/>
                    </a:lnTo>
                    <a:lnTo>
                      <a:pt x="531" y="89"/>
                    </a:lnTo>
                    <a:lnTo>
                      <a:pt x="531" y="87"/>
                    </a:lnTo>
                    <a:lnTo>
                      <a:pt x="531" y="85"/>
                    </a:lnTo>
                    <a:lnTo>
                      <a:pt x="532" y="83"/>
                    </a:lnTo>
                    <a:lnTo>
                      <a:pt x="536" y="81"/>
                    </a:lnTo>
                    <a:lnTo>
                      <a:pt x="539" y="80"/>
                    </a:lnTo>
                    <a:lnTo>
                      <a:pt x="541" y="80"/>
                    </a:lnTo>
                    <a:lnTo>
                      <a:pt x="541" y="80"/>
                    </a:lnTo>
                    <a:lnTo>
                      <a:pt x="543" y="80"/>
                    </a:lnTo>
                    <a:lnTo>
                      <a:pt x="544" y="81"/>
                    </a:lnTo>
                    <a:lnTo>
                      <a:pt x="548" y="83"/>
                    </a:lnTo>
                    <a:lnTo>
                      <a:pt x="551" y="85"/>
                    </a:lnTo>
                    <a:lnTo>
                      <a:pt x="551" y="87"/>
                    </a:lnTo>
                    <a:lnTo>
                      <a:pt x="551" y="89"/>
                    </a:lnTo>
                    <a:lnTo>
                      <a:pt x="551" y="91"/>
                    </a:lnTo>
                    <a:lnTo>
                      <a:pt x="551" y="92"/>
                    </a:lnTo>
                    <a:lnTo>
                      <a:pt x="548" y="95"/>
                    </a:lnTo>
                    <a:lnTo>
                      <a:pt x="544" y="96"/>
                    </a:lnTo>
                    <a:lnTo>
                      <a:pt x="543" y="98"/>
                    </a:lnTo>
                    <a:lnTo>
                      <a:pt x="541" y="98"/>
                    </a:lnTo>
                    <a:lnTo>
                      <a:pt x="541" y="98"/>
                    </a:lnTo>
                    <a:close/>
                    <a:moveTo>
                      <a:pt x="498" y="98"/>
                    </a:moveTo>
                    <a:lnTo>
                      <a:pt x="498" y="98"/>
                    </a:lnTo>
                    <a:lnTo>
                      <a:pt x="496" y="98"/>
                    </a:lnTo>
                    <a:lnTo>
                      <a:pt x="493" y="96"/>
                    </a:lnTo>
                    <a:lnTo>
                      <a:pt x="489" y="95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7" y="89"/>
                    </a:lnTo>
                    <a:lnTo>
                      <a:pt x="487" y="87"/>
                    </a:lnTo>
                    <a:lnTo>
                      <a:pt x="487" y="85"/>
                    </a:lnTo>
                    <a:lnTo>
                      <a:pt x="489" y="83"/>
                    </a:lnTo>
                    <a:lnTo>
                      <a:pt x="493" y="81"/>
                    </a:lnTo>
                    <a:lnTo>
                      <a:pt x="496" y="80"/>
                    </a:lnTo>
                    <a:lnTo>
                      <a:pt x="498" y="80"/>
                    </a:lnTo>
                    <a:lnTo>
                      <a:pt x="498" y="80"/>
                    </a:lnTo>
                    <a:lnTo>
                      <a:pt x="500" y="80"/>
                    </a:lnTo>
                    <a:lnTo>
                      <a:pt x="501" y="81"/>
                    </a:lnTo>
                    <a:lnTo>
                      <a:pt x="505" y="83"/>
                    </a:lnTo>
                    <a:lnTo>
                      <a:pt x="508" y="85"/>
                    </a:lnTo>
                    <a:lnTo>
                      <a:pt x="508" y="87"/>
                    </a:lnTo>
                    <a:lnTo>
                      <a:pt x="508" y="89"/>
                    </a:lnTo>
                    <a:lnTo>
                      <a:pt x="508" y="91"/>
                    </a:lnTo>
                    <a:lnTo>
                      <a:pt x="508" y="92"/>
                    </a:lnTo>
                    <a:lnTo>
                      <a:pt x="505" y="95"/>
                    </a:lnTo>
                    <a:lnTo>
                      <a:pt x="501" y="96"/>
                    </a:lnTo>
                    <a:lnTo>
                      <a:pt x="500" y="98"/>
                    </a:lnTo>
                    <a:lnTo>
                      <a:pt x="498" y="98"/>
                    </a:lnTo>
                    <a:lnTo>
                      <a:pt x="498" y="98"/>
                    </a:lnTo>
                    <a:close/>
                    <a:moveTo>
                      <a:pt x="455" y="98"/>
                    </a:moveTo>
                    <a:lnTo>
                      <a:pt x="455" y="98"/>
                    </a:lnTo>
                    <a:lnTo>
                      <a:pt x="453" y="98"/>
                    </a:lnTo>
                    <a:lnTo>
                      <a:pt x="450" y="96"/>
                    </a:lnTo>
                    <a:lnTo>
                      <a:pt x="446" y="95"/>
                    </a:lnTo>
                    <a:lnTo>
                      <a:pt x="444" y="92"/>
                    </a:lnTo>
                    <a:lnTo>
                      <a:pt x="444" y="91"/>
                    </a:lnTo>
                    <a:lnTo>
                      <a:pt x="444" y="89"/>
                    </a:lnTo>
                    <a:lnTo>
                      <a:pt x="444" y="87"/>
                    </a:lnTo>
                    <a:lnTo>
                      <a:pt x="444" y="85"/>
                    </a:lnTo>
                    <a:lnTo>
                      <a:pt x="446" y="83"/>
                    </a:lnTo>
                    <a:lnTo>
                      <a:pt x="450" y="81"/>
                    </a:lnTo>
                    <a:lnTo>
                      <a:pt x="453" y="80"/>
                    </a:lnTo>
                    <a:lnTo>
                      <a:pt x="455" y="80"/>
                    </a:lnTo>
                    <a:lnTo>
                      <a:pt x="455" y="80"/>
                    </a:lnTo>
                    <a:lnTo>
                      <a:pt x="456" y="80"/>
                    </a:lnTo>
                    <a:lnTo>
                      <a:pt x="458" y="81"/>
                    </a:lnTo>
                    <a:lnTo>
                      <a:pt x="462" y="83"/>
                    </a:lnTo>
                    <a:lnTo>
                      <a:pt x="465" y="85"/>
                    </a:lnTo>
                    <a:lnTo>
                      <a:pt x="465" y="87"/>
                    </a:lnTo>
                    <a:lnTo>
                      <a:pt x="465" y="89"/>
                    </a:lnTo>
                    <a:lnTo>
                      <a:pt x="465" y="91"/>
                    </a:lnTo>
                    <a:lnTo>
                      <a:pt x="465" y="92"/>
                    </a:lnTo>
                    <a:lnTo>
                      <a:pt x="462" y="95"/>
                    </a:lnTo>
                    <a:lnTo>
                      <a:pt x="458" y="96"/>
                    </a:lnTo>
                    <a:lnTo>
                      <a:pt x="456" y="98"/>
                    </a:lnTo>
                    <a:lnTo>
                      <a:pt x="455" y="98"/>
                    </a:lnTo>
                    <a:lnTo>
                      <a:pt x="455" y="98"/>
                    </a:lnTo>
                    <a:close/>
                    <a:moveTo>
                      <a:pt x="412" y="98"/>
                    </a:moveTo>
                    <a:lnTo>
                      <a:pt x="412" y="98"/>
                    </a:lnTo>
                    <a:lnTo>
                      <a:pt x="410" y="98"/>
                    </a:lnTo>
                    <a:lnTo>
                      <a:pt x="407" y="96"/>
                    </a:lnTo>
                    <a:lnTo>
                      <a:pt x="403" y="95"/>
                    </a:lnTo>
                    <a:lnTo>
                      <a:pt x="401" y="92"/>
                    </a:lnTo>
                    <a:lnTo>
                      <a:pt x="401" y="91"/>
                    </a:lnTo>
                    <a:lnTo>
                      <a:pt x="401" y="89"/>
                    </a:lnTo>
                    <a:lnTo>
                      <a:pt x="401" y="87"/>
                    </a:lnTo>
                    <a:lnTo>
                      <a:pt x="401" y="85"/>
                    </a:lnTo>
                    <a:lnTo>
                      <a:pt x="403" y="83"/>
                    </a:lnTo>
                    <a:lnTo>
                      <a:pt x="407" y="81"/>
                    </a:lnTo>
                    <a:lnTo>
                      <a:pt x="410" y="80"/>
                    </a:lnTo>
                    <a:lnTo>
                      <a:pt x="412" y="80"/>
                    </a:lnTo>
                    <a:lnTo>
                      <a:pt x="412" y="80"/>
                    </a:lnTo>
                    <a:lnTo>
                      <a:pt x="413" y="80"/>
                    </a:lnTo>
                    <a:lnTo>
                      <a:pt x="415" y="81"/>
                    </a:lnTo>
                    <a:lnTo>
                      <a:pt x="419" y="83"/>
                    </a:lnTo>
                    <a:lnTo>
                      <a:pt x="422" y="85"/>
                    </a:lnTo>
                    <a:lnTo>
                      <a:pt x="422" y="87"/>
                    </a:lnTo>
                    <a:lnTo>
                      <a:pt x="422" y="89"/>
                    </a:lnTo>
                    <a:lnTo>
                      <a:pt x="422" y="91"/>
                    </a:lnTo>
                    <a:lnTo>
                      <a:pt x="422" y="92"/>
                    </a:lnTo>
                    <a:lnTo>
                      <a:pt x="419" y="95"/>
                    </a:lnTo>
                    <a:lnTo>
                      <a:pt x="415" y="96"/>
                    </a:lnTo>
                    <a:lnTo>
                      <a:pt x="413" y="98"/>
                    </a:lnTo>
                    <a:lnTo>
                      <a:pt x="412" y="98"/>
                    </a:lnTo>
                    <a:lnTo>
                      <a:pt x="412" y="98"/>
                    </a:lnTo>
                    <a:close/>
                    <a:moveTo>
                      <a:pt x="369" y="98"/>
                    </a:moveTo>
                    <a:lnTo>
                      <a:pt x="369" y="98"/>
                    </a:lnTo>
                    <a:lnTo>
                      <a:pt x="367" y="98"/>
                    </a:lnTo>
                    <a:lnTo>
                      <a:pt x="364" y="96"/>
                    </a:lnTo>
                    <a:lnTo>
                      <a:pt x="360" y="95"/>
                    </a:lnTo>
                    <a:lnTo>
                      <a:pt x="358" y="92"/>
                    </a:lnTo>
                    <a:lnTo>
                      <a:pt x="358" y="91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5"/>
                    </a:lnTo>
                    <a:lnTo>
                      <a:pt x="360" y="83"/>
                    </a:lnTo>
                    <a:lnTo>
                      <a:pt x="364" y="81"/>
                    </a:lnTo>
                    <a:lnTo>
                      <a:pt x="367" y="80"/>
                    </a:lnTo>
                    <a:lnTo>
                      <a:pt x="369" y="80"/>
                    </a:lnTo>
                    <a:lnTo>
                      <a:pt x="369" y="80"/>
                    </a:lnTo>
                    <a:lnTo>
                      <a:pt x="370" y="80"/>
                    </a:lnTo>
                    <a:lnTo>
                      <a:pt x="372" y="81"/>
                    </a:lnTo>
                    <a:lnTo>
                      <a:pt x="376" y="83"/>
                    </a:lnTo>
                    <a:lnTo>
                      <a:pt x="379" y="85"/>
                    </a:lnTo>
                    <a:lnTo>
                      <a:pt x="379" y="87"/>
                    </a:lnTo>
                    <a:lnTo>
                      <a:pt x="379" y="89"/>
                    </a:lnTo>
                    <a:lnTo>
                      <a:pt x="379" y="91"/>
                    </a:lnTo>
                    <a:lnTo>
                      <a:pt x="379" y="92"/>
                    </a:lnTo>
                    <a:lnTo>
                      <a:pt x="376" y="95"/>
                    </a:lnTo>
                    <a:lnTo>
                      <a:pt x="372" y="96"/>
                    </a:lnTo>
                    <a:lnTo>
                      <a:pt x="370" y="98"/>
                    </a:lnTo>
                    <a:lnTo>
                      <a:pt x="369" y="98"/>
                    </a:lnTo>
                    <a:lnTo>
                      <a:pt x="369" y="98"/>
                    </a:lnTo>
                    <a:close/>
                    <a:moveTo>
                      <a:pt x="326" y="98"/>
                    </a:moveTo>
                    <a:lnTo>
                      <a:pt x="326" y="98"/>
                    </a:lnTo>
                    <a:lnTo>
                      <a:pt x="324" y="98"/>
                    </a:lnTo>
                    <a:lnTo>
                      <a:pt x="320" y="96"/>
                    </a:lnTo>
                    <a:lnTo>
                      <a:pt x="317" y="95"/>
                    </a:lnTo>
                    <a:lnTo>
                      <a:pt x="315" y="92"/>
                    </a:lnTo>
                    <a:lnTo>
                      <a:pt x="315" y="91"/>
                    </a:lnTo>
                    <a:lnTo>
                      <a:pt x="315" y="89"/>
                    </a:lnTo>
                    <a:lnTo>
                      <a:pt x="315" y="87"/>
                    </a:lnTo>
                    <a:lnTo>
                      <a:pt x="315" y="85"/>
                    </a:lnTo>
                    <a:lnTo>
                      <a:pt x="317" y="83"/>
                    </a:lnTo>
                    <a:lnTo>
                      <a:pt x="320" y="81"/>
                    </a:lnTo>
                    <a:lnTo>
                      <a:pt x="324" y="80"/>
                    </a:lnTo>
                    <a:lnTo>
                      <a:pt x="326" y="80"/>
                    </a:lnTo>
                    <a:lnTo>
                      <a:pt x="326" y="80"/>
                    </a:lnTo>
                    <a:lnTo>
                      <a:pt x="327" y="80"/>
                    </a:lnTo>
                    <a:lnTo>
                      <a:pt x="329" y="81"/>
                    </a:lnTo>
                    <a:lnTo>
                      <a:pt x="333" y="83"/>
                    </a:lnTo>
                    <a:lnTo>
                      <a:pt x="336" y="85"/>
                    </a:lnTo>
                    <a:lnTo>
                      <a:pt x="336" y="87"/>
                    </a:lnTo>
                    <a:lnTo>
                      <a:pt x="336" y="89"/>
                    </a:lnTo>
                    <a:lnTo>
                      <a:pt x="336" y="91"/>
                    </a:lnTo>
                    <a:lnTo>
                      <a:pt x="336" y="92"/>
                    </a:lnTo>
                    <a:lnTo>
                      <a:pt x="333" y="95"/>
                    </a:lnTo>
                    <a:lnTo>
                      <a:pt x="329" y="96"/>
                    </a:lnTo>
                    <a:lnTo>
                      <a:pt x="327" y="98"/>
                    </a:lnTo>
                    <a:lnTo>
                      <a:pt x="326" y="98"/>
                    </a:lnTo>
                    <a:lnTo>
                      <a:pt x="326" y="98"/>
                    </a:lnTo>
                    <a:close/>
                    <a:moveTo>
                      <a:pt x="283" y="98"/>
                    </a:moveTo>
                    <a:lnTo>
                      <a:pt x="283" y="98"/>
                    </a:lnTo>
                    <a:lnTo>
                      <a:pt x="281" y="98"/>
                    </a:lnTo>
                    <a:lnTo>
                      <a:pt x="277" y="96"/>
                    </a:lnTo>
                    <a:lnTo>
                      <a:pt x="274" y="95"/>
                    </a:lnTo>
                    <a:lnTo>
                      <a:pt x="272" y="92"/>
                    </a:lnTo>
                    <a:lnTo>
                      <a:pt x="272" y="91"/>
                    </a:lnTo>
                    <a:lnTo>
                      <a:pt x="272" y="89"/>
                    </a:lnTo>
                    <a:lnTo>
                      <a:pt x="272" y="87"/>
                    </a:lnTo>
                    <a:lnTo>
                      <a:pt x="272" y="85"/>
                    </a:lnTo>
                    <a:lnTo>
                      <a:pt x="274" y="83"/>
                    </a:lnTo>
                    <a:lnTo>
                      <a:pt x="277" y="81"/>
                    </a:lnTo>
                    <a:lnTo>
                      <a:pt x="281" y="80"/>
                    </a:lnTo>
                    <a:lnTo>
                      <a:pt x="283" y="80"/>
                    </a:lnTo>
                    <a:lnTo>
                      <a:pt x="283" y="80"/>
                    </a:lnTo>
                    <a:lnTo>
                      <a:pt x="284" y="80"/>
                    </a:lnTo>
                    <a:lnTo>
                      <a:pt x="286" y="81"/>
                    </a:lnTo>
                    <a:lnTo>
                      <a:pt x="289" y="83"/>
                    </a:lnTo>
                    <a:lnTo>
                      <a:pt x="293" y="85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3" y="92"/>
                    </a:lnTo>
                    <a:lnTo>
                      <a:pt x="289" y="95"/>
                    </a:lnTo>
                    <a:lnTo>
                      <a:pt x="286" y="96"/>
                    </a:lnTo>
                    <a:lnTo>
                      <a:pt x="284" y="98"/>
                    </a:lnTo>
                    <a:lnTo>
                      <a:pt x="283" y="98"/>
                    </a:lnTo>
                    <a:lnTo>
                      <a:pt x="283" y="98"/>
                    </a:lnTo>
                    <a:close/>
                    <a:moveTo>
                      <a:pt x="240" y="98"/>
                    </a:moveTo>
                    <a:lnTo>
                      <a:pt x="240" y="98"/>
                    </a:lnTo>
                    <a:lnTo>
                      <a:pt x="238" y="98"/>
                    </a:lnTo>
                    <a:lnTo>
                      <a:pt x="234" y="96"/>
                    </a:lnTo>
                    <a:lnTo>
                      <a:pt x="231" y="95"/>
                    </a:lnTo>
                    <a:lnTo>
                      <a:pt x="229" y="92"/>
                    </a:lnTo>
                    <a:lnTo>
                      <a:pt x="229" y="91"/>
                    </a:lnTo>
                    <a:lnTo>
                      <a:pt x="229" y="89"/>
                    </a:lnTo>
                    <a:lnTo>
                      <a:pt x="229" y="87"/>
                    </a:lnTo>
                    <a:lnTo>
                      <a:pt x="229" y="85"/>
                    </a:lnTo>
                    <a:lnTo>
                      <a:pt x="231" y="83"/>
                    </a:lnTo>
                    <a:lnTo>
                      <a:pt x="234" y="81"/>
                    </a:lnTo>
                    <a:lnTo>
                      <a:pt x="238" y="80"/>
                    </a:lnTo>
                    <a:lnTo>
                      <a:pt x="240" y="80"/>
                    </a:lnTo>
                    <a:lnTo>
                      <a:pt x="240" y="80"/>
                    </a:lnTo>
                    <a:lnTo>
                      <a:pt x="241" y="80"/>
                    </a:lnTo>
                    <a:lnTo>
                      <a:pt x="243" y="81"/>
                    </a:lnTo>
                    <a:lnTo>
                      <a:pt x="246" y="83"/>
                    </a:lnTo>
                    <a:lnTo>
                      <a:pt x="250" y="85"/>
                    </a:lnTo>
                    <a:lnTo>
                      <a:pt x="250" y="87"/>
                    </a:lnTo>
                    <a:lnTo>
                      <a:pt x="250" y="89"/>
                    </a:lnTo>
                    <a:lnTo>
                      <a:pt x="250" y="91"/>
                    </a:lnTo>
                    <a:lnTo>
                      <a:pt x="250" y="92"/>
                    </a:lnTo>
                    <a:lnTo>
                      <a:pt x="246" y="95"/>
                    </a:lnTo>
                    <a:lnTo>
                      <a:pt x="243" y="96"/>
                    </a:lnTo>
                    <a:lnTo>
                      <a:pt x="241" y="98"/>
                    </a:lnTo>
                    <a:lnTo>
                      <a:pt x="240" y="98"/>
                    </a:lnTo>
                    <a:lnTo>
                      <a:pt x="240" y="98"/>
                    </a:lnTo>
                    <a:close/>
                    <a:moveTo>
                      <a:pt x="197" y="98"/>
                    </a:moveTo>
                    <a:lnTo>
                      <a:pt x="197" y="98"/>
                    </a:lnTo>
                    <a:lnTo>
                      <a:pt x="195" y="98"/>
                    </a:lnTo>
                    <a:lnTo>
                      <a:pt x="191" y="96"/>
                    </a:lnTo>
                    <a:lnTo>
                      <a:pt x="188" y="95"/>
                    </a:lnTo>
                    <a:lnTo>
                      <a:pt x="186" y="92"/>
                    </a:lnTo>
                    <a:lnTo>
                      <a:pt x="186" y="91"/>
                    </a:lnTo>
                    <a:lnTo>
                      <a:pt x="186" y="89"/>
                    </a:lnTo>
                    <a:lnTo>
                      <a:pt x="186" y="87"/>
                    </a:lnTo>
                    <a:lnTo>
                      <a:pt x="186" y="85"/>
                    </a:lnTo>
                    <a:lnTo>
                      <a:pt x="188" y="83"/>
                    </a:lnTo>
                    <a:lnTo>
                      <a:pt x="191" y="81"/>
                    </a:lnTo>
                    <a:lnTo>
                      <a:pt x="195" y="80"/>
                    </a:lnTo>
                    <a:lnTo>
                      <a:pt x="197" y="80"/>
                    </a:lnTo>
                    <a:lnTo>
                      <a:pt x="197" y="80"/>
                    </a:lnTo>
                    <a:lnTo>
                      <a:pt x="198" y="80"/>
                    </a:lnTo>
                    <a:lnTo>
                      <a:pt x="200" y="81"/>
                    </a:lnTo>
                    <a:lnTo>
                      <a:pt x="203" y="83"/>
                    </a:lnTo>
                    <a:lnTo>
                      <a:pt x="207" y="85"/>
                    </a:lnTo>
                    <a:lnTo>
                      <a:pt x="207" y="87"/>
                    </a:lnTo>
                    <a:lnTo>
                      <a:pt x="207" y="89"/>
                    </a:lnTo>
                    <a:lnTo>
                      <a:pt x="207" y="91"/>
                    </a:lnTo>
                    <a:lnTo>
                      <a:pt x="207" y="92"/>
                    </a:lnTo>
                    <a:lnTo>
                      <a:pt x="203" y="95"/>
                    </a:lnTo>
                    <a:lnTo>
                      <a:pt x="200" y="96"/>
                    </a:lnTo>
                    <a:lnTo>
                      <a:pt x="198" y="98"/>
                    </a:lnTo>
                    <a:lnTo>
                      <a:pt x="197" y="98"/>
                    </a:lnTo>
                    <a:lnTo>
                      <a:pt x="197" y="98"/>
                    </a:lnTo>
                    <a:close/>
                    <a:moveTo>
                      <a:pt x="153" y="98"/>
                    </a:moveTo>
                    <a:lnTo>
                      <a:pt x="153" y="98"/>
                    </a:lnTo>
                    <a:lnTo>
                      <a:pt x="152" y="98"/>
                    </a:lnTo>
                    <a:lnTo>
                      <a:pt x="148" y="96"/>
                    </a:lnTo>
                    <a:lnTo>
                      <a:pt x="145" y="95"/>
                    </a:lnTo>
                    <a:lnTo>
                      <a:pt x="143" y="92"/>
                    </a:lnTo>
                    <a:lnTo>
                      <a:pt x="143" y="91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5"/>
                    </a:lnTo>
                    <a:lnTo>
                      <a:pt x="145" y="83"/>
                    </a:lnTo>
                    <a:lnTo>
                      <a:pt x="148" y="81"/>
                    </a:lnTo>
                    <a:lnTo>
                      <a:pt x="152" y="80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155" y="80"/>
                    </a:lnTo>
                    <a:lnTo>
                      <a:pt x="157" y="81"/>
                    </a:lnTo>
                    <a:lnTo>
                      <a:pt x="160" y="83"/>
                    </a:lnTo>
                    <a:lnTo>
                      <a:pt x="164" y="85"/>
                    </a:lnTo>
                    <a:lnTo>
                      <a:pt x="164" y="87"/>
                    </a:lnTo>
                    <a:lnTo>
                      <a:pt x="164" y="89"/>
                    </a:lnTo>
                    <a:lnTo>
                      <a:pt x="164" y="91"/>
                    </a:lnTo>
                    <a:lnTo>
                      <a:pt x="164" y="92"/>
                    </a:lnTo>
                    <a:lnTo>
                      <a:pt x="160" y="95"/>
                    </a:lnTo>
                    <a:lnTo>
                      <a:pt x="157" y="96"/>
                    </a:lnTo>
                    <a:lnTo>
                      <a:pt x="155" y="98"/>
                    </a:lnTo>
                    <a:lnTo>
                      <a:pt x="153" y="98"/>
                    </a:lnTo>
                    <a:lnTo>
                      <a:pt x="153" y="98"/>
                    </a:lnTo>
                    <a:close/>
                    <a:moveTo>
                      <a:pt x="110" y="98"/>
                    </a:moveTo>
                    <a:lnTo>
                      <a:pt x="110" y="98"/>
                    </a:lnTo>
                    <a:lnTo>
                      <a:pt x="107" y="98"/>
                    </a:lnTo>
                    <a:lnTo>
                      <a:pt x="105" y="96"/>
                    </a:lnTo>
                    <a:lnTo>
                      <a:pt x="102" y="95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0" y="89"/>
                    </a:lnTo>
                    <a:lnTo>
                      <a:pt x="100" y="87"/>
                    </a:lnTo>
                    <a:lnTo>
                      <a:pt x="100" y="85"/>
                    </a:lnTo>
                    <a:lnTo>
                      <a:pt x="102" y="83"/>
                    </a:lnTo>
                    <a:lnTo>
                      <a:pt x="105" y="81"/>
                    </a:lnTo>
                    <a:lnTo>
                      <a:pt x="107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7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21" y="89"/>
                    </a:lnTo>
                    <a:lnTo>
                      <a:pt x="121" y="91"/>
                    </a:lnTo>
                    <a:lnTo>
                      <a:pt x="121" y="92"/>
                    </a:lnTo>
                    <a:lnTo>
                      <a:pt x="117" y="95"/>
                    </a:lnTo>
                    <a:lnTo>
                      <a:pt x="114" y="96"/>
                    </a:lnTo>
                    <a:lnTo>
                      <a:pt x="112" y="98"/>
                    </a:lnTo>
                    <a:lnTo>
                      <a:pt x="110" y="98"/>
                    </a:lnTo>
                    <a:lnTo>
                      <a:pt x="110" y="98"/>
                    </a:lnTo>
                    <a:close/>
                    <a:moveTo>
                      <a:pt x="67" y="98"/>
                    </a:moveTo>
                    <a:lnTo>
                      <a:pt x="67" y="98"/>
                    </a:lnTo>
                    <a:lnTo>
                      <a:pt x="64" y="98"/>
                    </a:lnTo>
                    <a:lnTo>
                      <a:pt x="62" y="96"/>
                    </a:lnTo>
                    <a:lnTo>
                      <a:pt x="59" y="95"/>
                    </a:lnTo>
                    <a:lnTo>
                      <a:pt x="57" y="92"/>
                    </a:lnTo>
                    <a:lnTo>
                      <a:pt x="57" y="91"/>
                    </a:lnTo>
                    <a:lnTo>
                      <a:pt x="57" y="89"/>
                    </a:lnTo>
                    <a:lnTo>
                      <a:pt x="57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1"/>
                    </a:lnTo>
                    <a:lnTo>
                      <a:pt x="64" y="80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9" y="80"/>
                    </a:lnTo>
                    <a:lnTo>
                      <a:pt x="71" y="81"/>
                    </a:lnTo>
                    <a:lnTo>
                      <a:pt x="74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9"/>
                    </a:lnTo>
                    <a:lnTo>
                      <a:pt x="78" y="91"/>
                    </a:lnTo>
                    <a:lnTo>
                      <a:pt x="78" y="92"/>
                    </a:lnTo>
                    <a:lnTo>
                      <a:pt x="74" y="95"/>
                    </a:lnTo>
                    <a:lnTo>
                      <a:pt x="71" y="96"/>
                    </a:lnTo>
                    <a:lnTo>
                      <a:pt x="69" y="98"/>
                    </a:lnTo>
                    <a:lnTo>
                      <a:pt x="67" y="98"/>
                    </a:lnTo>
                    <a:lnTo>
                      <a:pt x="67" y="98"/>
                    </a:lnTo>
                    <a:close/>
                    <a:moveTo>
                      <a:pt x="24" y="98"/>
                    </a:moveTo>
                    <a:lnTo>
                      <a:pt x="24" y="98"/>
                    </a:lnTo>
                    <a:lnTo>
                      <a:pt x="21" y="98"/>
                    </a:lnTo>
                    <a:lnTo>
                      <a:pt x="19" y="96"/>
                    </a:lnTo>
                    <a:lnTo>
                      <a:pt x="16" y="95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9" y="81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5" y="87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31" y="95"/>
                    </a:lnTo>
                    <a:lnTo>
                      <a:pt x="28" y="96"/>
                    </a:lnTo>
                    <a:lnTo>
                      <a:pt x="26" y="98"/>
                    </a:lnTo>
                    <a:lnTo>
                      <a:pt x="24" y="98"/>
                    </a:lnTo>
                    <a:lnTo>
                      <a:pt x="24" y="98"/>
                    </a:lnTo>
                    <a:close/>
                    <a:moveTo>
                      <a:pt x="0" y="65"/>
                    </a:move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4" y="59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9" y="59"/>
                    </a:lnTo>
                    <a:lnTo>
                      <a:pt x="21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7"/>
                    </a:lnTo>
                    <a:lnTo>
                      <a:pt x="21" y="68"/>
                    </a:lnTo>
                    <a:lnTo>
                      <a:pt x="19" y="71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4" y="71"/>
                    </a:lnTo>
                    <a:lnTo>
                      <a:pt x="2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  <a:moveTo>
                      <a:pt x="0" y="32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28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  <a:moveTo>
                      <a:pt x="67" y="0"/>
                    </a:moveTo>
                    <a:lnTo>
                      <a:pt x="67" y="0"/>
                    </a:lnTo>
                    <a:lnTo>
                      <a:pt x="71" y="0"/>
                    </a:lnTo>
                    <a:lnTo>
                      <a:pt x="73" y="1"/>
                    </a:lnTo>
                    <a:lnTo>
                      <a:pt x="76" y="3"/>
                    </a:lnTo>
                    <a:lnTo>
                      <a:pt x="78" y="5"/>
                    </a:lnTo>
                    <a:lnTo>
                      <a:pt x="79" y="7"/>
                    </a:lnTo>
                    <a:lnTo>
                      <a:pt x="79" y="9"/>
                    </a:lnTo>
                    <a:lnTo>
                      <a:pt x="79" y="11"/>
                    </a:lnTo>
                    <a:lnTo>
                      <a:pt x="78" y="12"/>
                    </a:lnTo>
                    <a:lnTo>
                      <a:pt x="76" y="15"/>
                    </a:lnTo>
                    <a:lnTo>
                      <a:pt x="73" y="16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6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  <a:moveTo>
                      <a:pt x="110" y="0"/>
                    </a:moveTo>
                    <a:lnTo>
                      <a:pt x="112" y="0"/>
                    </a:lnTo>
                    <a:lnTo>
                      <a:pt x="114" y="0"/>
                    </a:lnTo>
                    <a:lnTo>
                      <a:pt x="116" y="1"/>
                    </a:lnTo>
                    <a:lnTo>
                      <a:pt x="119" y="3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122" y="11"/>
                    </a:lnTo>
                    <a:lnTo>
                      <a:pt x="121" y="12"/>
                    </a:lnTo>
                    <a:lnTo>
                      <a:pt x="119" y="15"/>
                    </a:lnTo>
                    <a:lnTo>
                      <a:pt x="116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7" y="16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100" y="7"/>
                    </a:lnTo>
                    <a:lnTo>
                      <a:pt x="102" y="5"/>
                    </a:lnTo>
                    <a:lnTo>
                      <a:pt x="104" y="3"/>
                    </a:lnTo>
                    <a:lnTo>
                      <a:pt x="107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  <a:moveTo>
                      <a:pt x="155" y="0"/>
                    </a:moveTo>
                    <a:lnTo>
                      <a:pt x="155" y="0"/>
                    </a:lnTo>
                    <a:lnTo>
                      <a:pt x="157" y="0"/>
                    </a:lnTo>
                    <a:lnTo>
                      <a:pt x="159" y="1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6" y="7"/>
                    </a:lnTo>
                    <a:lnTo>
                      <a:pt x="166" y="9"/>
                    </a:lnTo>
                    <a:lnTo>
                      <a:pt x="166" y="11"/>
                    </a:lnTo>
                    <a:lnTo>
                      <a:pt x="164" y="12"/>
                    </a:lnTo>
                    <a:lnTo>
                      <a:pt x="162" y="15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7"/>
                    </a:lnTo>
                    <a:lnTo>
                      <a:pt x="155" y="17"/>
                    </a:lnTo>
                    <a:lnTo>
                      <a:pt x="152" y="17"/>
                    </a:lnTo>
                    <a:lnTo>
                      <a:pt x="150" y="16"/>
                    </a:lnTo>
                    <a:lnTo>
                      <a:pt x="147" y="15"/>
                    </a:lnTo>
                    <a:lnTo>
                      <a:pt x="145" y="12"/>
                    </a:lnTo>
                    <a:lnTo>
                      <a:pt x="143" y="11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45" y="5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2" y="0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  <a:moveTo>
                      <a:pt x="198" y="0"/>
                    </a:move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5" y="3"/>
                    </a:lnTo>
                    <a:lnTo>
                      <a:pt x="207" y="5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09" y="11"/>
                    </a:lnTo>
                    <a:lnTo>
                      <a:pt x="207" y="12"/>
                    </a:lnTo>
                    <a:lnTo>
                      <a:pt x="205" y="15"/>
                    </a:lnTo>
                    <a:lnTo>
                      <a:pt x="202" y="16"/>
                    </a:lnTo>
                    <a:lnTo>
                      <a:pt x="200" y="17"/>
                    </a:lnTo>
                    <a:lnTo>
                      <a:pt x="198" y="17"/>
                    </a:lnTo>
                    <a:lnTo>
                      <a:pt x="198" y="17"/>
                    </a:lnTo>
                    <a:lnTo>
                      <a:pt x="195" y="17"/>
                    </a:lnTo>
                    <a:lnTo>
                      <a:pt x="193" y="16"/>
                    </a:lnTo>
                    <a:lnTo>
                      <a:pt x="190" y="15"/>
                    </a:lnTo>
                    <a:lnTo>
                      <a:pt x="188" y="12"/>
                    </a:lnTo>
                    <a:lnTo>
                      <a:pt x="186" y="11"/>
                    </a:lnTo>
                    <a:lnTo>
                      <a:pt x="186" y="9"/>
                    </a:lnTo>
                    <a:lnTo>
                      <a:pt x="186" y="7"/>
                    </a:lnTo>
                    <a:lnTo>
                      <a:pt x="188" y="5"/>
                    </a:lnTo>
                    <a:lnTo>
                      <a:pt x="190" y="3"/>
                    </a:lnTo>
                    <a:lnTo>
                      <a:pt x="193" y="1"/>
                    </a:lnTo>
                    <a:lnTo>
                      <a:pt x="195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  <a:moveTo>
                      <a:pt x="241" y="0"/>
                    </a:moveTo>
                    <a:lnTo>
                      <a:pt x="241" y="0"/>
                    </a:lnTo>
                    <a:lnTo>
                      <a:pt x="243" y="0"/>
                    </a:lnTo>
                    <a:lnTo>
                      <a:pt x="245" y="1"/>
                    </a:lnTo>
                    <a:lnTo>
                      <a:pt x="248" y="3"/>
                    </a:lnTo>
                    <a:lnTo>
                      <a:pt x="250" y="5"/>
                    </a:lnTo>
                    <a:lnTo>
                      <a:pt x="252" y="7"/>
                    </a:lnTo>
                    <a:lnTo>
                      <a:pt x="252" y="9"/>
                    </a:lnTo>
                    <a:lnTo>
                      <a:pt x="252" y="11"/>
                    </a:lnTo>
                    <a:lnTo>
                      <a:pt x="250" y="12"/>
                    </a:lnTo>
                    <a:lnTo>
                      <a:pt x="248" y="15"/>
                    </a:lnTo>
                    <a:lnTo>
                      <a:pt x="245" y="16"/>
                    </a:lnTo>
                    <a:lnTo>
                      <a:pt x="243" y="17"/>
                    </a:lnTo>
                    <a:lnTo>
                      <a:pt x="241" y="17"/>
                    </a:lnTo>
                    <a:lnTo>
                      <a:pt x="241" y="17"/>
                    </a:lnTo>
                    <a:lnTo>
                      <a:pt x="238" y="17"/>
                    </a:lnTo>
                    <a:lnTo>
                      <a:pt x="236" y="16"/>
                    </a:lnTo>
                    <a:lnTo>
                      <a:pt x="233" y="15"/>
                    </a:lnTo>
                    <a:lnTo>
                      <a:pt x="231" y="12"/>
                    </a:lnTo>
                    <a:lnTo>
                      <a:pt x="229" y="11"/>
                    </a:lnTo>
                    <a:lnTo>
                      <a:pt x="229" y="9"/>
                    </a:lnTo>
                    <a:lnTo>
                      <a:pt x="229" y="7"/>
                    </a:lnTo>
                    <a:lnTo>
                      <a:pt x="231" y="5"/>
                    </a:lnTo>
                    <a:lnTo>
                      <a:pt x="233" y="3"/>
                    </a:lnTo>
                    <a:lnTo>
                      <a:pt x="236" y="1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1" y="0"/>
                    </a:lnTo>
                    <a:close/>
                    <a:moveTo>
                      <a:pt x="284" y="0"/>
                    </a:moveTo>
                    <a:lnTo>
                      <a:pt x="284" y="0"/>
                    </a:lnTo>
                    <a:lnTo>
                      <a:pt x="286" y="0"/>
                    </a:lnTo>
                    <a:lnTo>
                      <a:pt x="288" y="1"/>
                    </a:lnTo>
                    <a:lnTo>
                      <a:pt x="291" y="3"/>
                    </a:lnTo>
                    <a:lnTo>
                      <a:pt x="293" y="5"/>
                    </a:lnTo>
                    <a:lnTo>
                      <a:pt x="295" y="7"/>
                    </a:lnTo>
                    <a:lnTo>
                      <a:pt x="295" y="9"/>
                    </a:lnTo>
                    <a:lnTo>
                      <a:pt x="295" y="11"/>
                    </a:lnTo>
                    <a:lnTo>
                      <a:pt x="293" y="12"/>
                    </a:lnTo>
                    <a:lnTo>
                      <a:pt x="291" y="15"/>
                    </a:lnTo>
                    <a:lnTo>
                      <a:pt x="288" y="16"/>
                    </a:lnTo>
                    <a:lnTo>
                      <a:pt x="286" y="17"/>
                    </a:lnTo>
                    <a:lnTo>
                      <a:pt x="284" y="17"/>
                    </a:lnTo>
                    <a:lnTo>
                      <a:pt x="284" y="17"/>
                    </a:lnTo>
                    <a:lnTo>
                      <a:pt x="281" y="17"/>
                    </a:lnTo>
                    <a:lnTo>
                      <a:pt x="279" y="16"/>
                    </a:lnTo>
                    <a:lnTo>
                      <a:pt x="276" y="15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4" y="5"/>
                    </a:lnTo>
                    <a:lnTo>
                      <a:pt x="276" y="3"/>
                    </a:lnTo>
                    <a:lnTo>
                      <a:pt x="279" y="1"/>
                    </a:lnTo>
                    <a:lnTo>
                      <a:pt x="281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  <a:moveTo>
                      <a:pt x="327" y="0"/>
                    </a:moveTo>
                    <a:lnTo>
                      <a:pt x="327" y="0"/>
                    </a:lnTo>
                    <a:lnTo>
                      <a:pt x="329" y="0"/>
                    </a:lnTo>
                    <a:lnTo>
                      <a:pt x="331" y="1"/>
                    </a:lnTo>
                    <a:lnTo>
                      <a:pt x="334" y="3"/>
                    </a:lnTo>
                    <a:lnTo>
                      <a:pt x="336" y="5"/>
                    </a:lnTo>
                    <a:lnTo>
                      <a:pt x="338" y="7"/>
                    </a:lnTo>
                    <a:lnTo>
                      <a:pt x="338" y="9"/>
                    </a:lnTo>
                    <a:lnTo>
                      <a:pt x="338" y="11"/>
                    </a:lnTo>
                    <a:lnTo>
                      <a:pt x="336" y="12"/>
                    </a:lnTo>
                    <a:lnTo>
                      <a:pt x="334" y="15"/>
                    </a:lnTo>
                    <a:lnTo>
                      <a:pt x="331" y="16"/>
                    </a:lnTo>
                    <a:lnTo>
                      <a:pt x="329" y="17"/>
                    </a:lnTo>
                    <a:lnTo>
                      <a:pt x="327" y="17"/>
                    </a:lnTo>
                    <a:lnTo>
                      <a:pt x="327" y="17"/>
                    </a:lnTo>
                    <a:lnTo>
                      <a:pt x="324" y="17"/>
                    </a:lnTo>
                    <a:lnTo>
                      <a:pt x="322" y="16"/>
                    </a:lnTo>
                    <a:lnTo>
                      <a:pt x="319" y="15"/>
                    </a:lnTo>
                    <a:lnTo>
                      <a:pt x="317" y="12"/>
                    </a:lnTo>
                    <a:lnTo>
                      <a:pt x="315" y="11"/>
                    </a:lnTo>
                    <a:lnTo>
                      <a:pt x="315" y="9"/>
                    </a:lnTo>
                    <a:lnTo>
                      <a:pt x="315" y="7"/>
                    </a:lnTo>
                    <a:lnTo>
                      <a:pt x="317" y="5"/>
                    </a:lnTo>
                    <a:lnTo>
                      <a:pt x="319" y="3"/>
                    </a:lnTo>
                    <a:lnTo>
                      <a:pt x="322" y="1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  <a:moveTo>
                      <a:pt x="370" y="0"/>
                    </a:moveTo>
                    <a:lnTo>
                      <a:pt x="370" y="0"/>
                    </a:lnTo>
                    <a:lnTo>
                      <a:pt x="372" y="0"/>
                    </a:lnTo>
                    <a:lnTo>
                      <a:pt x="374" y="1"/>
                    </a:lnTo>
                    <a:lnTo>
                      <a:pt x="377" y="3"/>
                    </a:lnTo>
                    <a:lnTo>
                      <a:pt x="379" y="5"/>
                    </a:lnTo>
                    <a:lnTo>
                      <a:pt x="381" y="7"/>
                    </a:lnTo>
                    <a:lnTo>
                      <a:pt x="381" y="9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7" y="15"/>
                    </a:lnTo>
                    <a:lnTo>
                      <a:pt x="374" y="16"/>
                    </a:lnTo>
                    <a:lnTo>
                      <a:pt x="372" y="17"/>
                    </a:lnTo>
                    <a:lnTo>
                      <a:pt x="370" y="17"/>
                    </a:lnTo>
                    <a:lnTo>
                      <a:pt x="370" y="17"/>
                    </a:lnTo>
                    <a:lnTo>
                      <a:pt x="367" y="17"/>
                    </a:lnTo>
                    <a:lnTo>
                      <a:pt x="365" y="16"/>
                    </a:lnTo>
                    <a:lnTo>
                      <a:pt x="362" y="15"/>
                    </a:lnTo>
                    <a:lnTo>
                      <a:pt x="360" y="12"/>
                    </a:lnTo>
                    <a:lnTo>
                      <a:pt x="358" y="11"/>
                    </a:lnTo>
                    <a:lnTo>
                      <a:pt x="358" y="9"/>
                    </a:lnTo>
                    <a:lnTo>
                      <a:pt x="358" y="7"/>
                    </a:lnTo>
                    <a:lnTo>
                      <a:pt x="360" y="5"/>
                    </a:lnTo>
                    <a:lnTo>
                      <a:pt x="362" y="3"/>
                    </a:lnTo>
                    <a:lnTo>
                      <a:pt x="365" y="1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0" y="0"/>
                    </a:lnTo>
                    <a:close/>
                    <a:moveTo>
                      <a:pt x="413" y="0"/>
                    </a:moveTo>
                    <a:lnTo>
                      <a:pt x="413" y="0"/>
                    </a:lnTo>
                    <a:lnTo>
                      <a:pt x="415" y="0"/>
                    </a:lnTo>
                    <a:lnTo>
                      <a:pt x="417" y="1"/>
                    </a:lnTo>
                    <a:lnTo>
                      <a:pt x="420" y="3"/>
                    </a:lnTo>
                    <a:lnTo>
                      <a:pt x="422" y="5"/>
                    </a:lnTo>
                    <a:lnTo>
                      <a:pt x="424" y="7"/>
                    </a:lnTo>
                    <a:lnTo>
                      <a:pt x="424" y="9"/>
                    </a:lnTo>
                    <a:lnTo>
                      <a:pt x="424" y="11"/>
                    </a:lnTo>
                    <a:lnTo>
                      <a:pt x="422" y="12"/>
                    </a:lnTo>
                    <a:lnTo>
                      <a:pt x="420" y="15"/>
                    </a:lnTo>
                    <a:lnTo>
                      <a:pt x="417" y="16"/>
                    </a:lnTo>
                    <a:lnTo>
                      <a:pt x="415" y="17"/>
                    </a:lnTo>
                    <a:lnTo>
                      <a:pt x="413" y="17"/>
                    </a:lnTo>
                    <a:lnTo>
                      <a:pt x="413" y="17"/>
                    </a:lnTo>
                    <a:lnTo>
                      <a:pt x="410" y="17"/>
                    </a:lnTo>
                    <a:lnTo>
                      <a:pt x="408" y="16"/>
                    </a:lnTo>
                    <a:lnTo>
                      <a:pt x="405" y="15"/>
                    </a:lnTo>
                    <a:lnTo>
                      <a:pt x="403" y="12"/>
                    </a:lnTo>
                    <a:lnTo>
                      <a:pt x="401" y="11"/>
                    </a:lnTo>
                    <a:lnTo>
                      <a:pt x="401" y="9"/>
                    </a:lnTo>
                    <a:lnTo>
                      <a:pt x="401" y="7"/>
                    </a:lnTo>
                    <a:lnTo>
                      <a:pt x="403" y="5"/>
                    </a:lnTo>
                    <a:lnTo>
                      <a:pt x="405" y="3"/>
                    </a:lnTo>
                    <a:lnTo>
                      <a:pt x="408" y="1"/>
                    </a:lnTo>
                    <a:lnTo>
                      <a:pt x="410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  <a:moveTo>
                      <a:pt x="456" y="0"/>
                    </a:moveTo>
                    <a:lnTo>
                      <a:pt x="456" y="0"/>
                    </a:lnTo>
                    <a:lnTo>
                      <a:pt x="458" y="0"/>
                    </a:lnTo>
                    <a:lnTo>
                      <a:pt x="460" y="1"/>
                    </a:lnTo>
                    <a:lnTo>
                      <a:pt x="463" y="3"/>
                    </a:lnTo>
                    <a:lnTo>
                      <a:pt x="465" y="5"/>
                    </a:lnTo>
                    <a:lnTo>
                      <a:pt x="467" y="7"/>
                    </a:lnTo>
                    <a:lnTo>
                      <a:pt x="467" y="9"/>
                    </a:lnTo>
                    <a:lnTo>
                      <a:pt x="467" y="11"/>
                    </a:lnTo>
                    <a:lnTo>
                      <a:pt x="465" y="12"/>
                    </a:lnTo>
                    <a:lnTo>
                      <a:pt x="463" y="15"/>
                    </a:lnTo>
                    <a:lnTo>
                      <a:pt x="460" y="16"/>
                    </a:lnTo>
                    <a:lnTo>
                      <a:pt x="458" y="17"/>
                    </a:lnTo>
                    <a:lnTo>
                      <a:pt x="456" y="17"/>
                    </a:lnTo>
                    <a:lnTo>
                      <a:pt x="456" y="17"/>
                    </a:lnTo>
                    <a:lnTo>
                      <a:pt x="453" y="17"/>
                    </a:lnTo>
                    <a:lnTo>
                      <a:pt x="451" y="16"/>
                    </a:lnTo>
                    <a:lnTo>
                      <a:pt x="448" y="15"/>
                    </a:lnTo>
                    <a:lnTo>
                      <a:pt x="446" y="12"/>
                    </a:lnTo>
                    <a:lnTo>
                      <a:pt x="444" y="11"/>
                    </a:lnTo>
                    <a:lnTo>
                      <a:pt x="444" y="9"/>
                    </a:lnTo>
                    <a:lnTo>
                      <a:pt x="444" y="7"/>
                    </a:lnTo>
                    <a:lnTo>
                      <a:pt x="446" y="5"/>
                    </a:lnTo>
                    <a:lnTo>
                      <a:pt x="448" y="3"/>
                    </a:lnTo>
                    <a:lnTo>
                      <a:pt x="451" y="1"/>
                    </a:lnTo>
                    <a:lnTo>
                      <a:pt x="453" y="0"/>
                    </a:lnTo>
                    <a:lnTo>
                      <a:pt x="456" y="0"/>
                    </a:lnTo>
                    <a:lnTo>
                      <a:pt x="456" y="0"/>
                    </a:lnTo>
                    <a:close/>
                    <a:moveTo>
                      <a:pt x="500" y="0"/>
                    </a:moveTo>
                    <a:lnTo>
                      <a:pt x="500" y="0"/>
                    </a:lnTo>
                    <a:lnTo>
                      <a:pt x="501" y="0"/>
                    </a:lnTo>
                    <a:lnTo>
                      <a:pt x="503" y="1"/>
                    </a:lnTo>
                    <a:lnTo>
                      <a:pt x="506" y="3"/>
                    </a:lnTo>
                    <a:lnTo>
                      <a:pt x="508" y="5"/>
                    </a:lnTo>
                    <a:lnTo>
                      <a:pt x="510" y="7"/>
                    </a:lnTo>
                    <a:lnTo>
                      <a:pt x="510" y="9"/>
                    </a:lnTo>
                    <a:lnTo>
                      <a:pt x="510" y="11"/>
                    </a:lnTo>
                    <a:lnTo>
                      <a:pt x="508" y="12"/>
                    </a:lnTo>
                    <a:lnTo>
                      <a:pt x="506" y="15"/>
                    </a:lnTo>
                    <a:lnTo>
                      <a:pt x="503" y="16"/>
                    </a:lnTo>
                    <a:lnTo>
                      <a:pt x="501" y="17"/>
                    </a:lnTo>
                    <a:lnTo>
                      <a:pt x="500" y="17"/>
                    </a:lnTo>
                    <a:lnTo>
                      <a:pt x="500" y="17"/>
                    </a:lnTo>
                    <a:lnTo>
                      <a:pt x="496" y="17"/>
                    </a:lnTo>
                    <a:lnTo>
                      <a:pt x="494" y="16"/>
                    </a:lnTo>
                    <a:lnTo>
                      <a:pt x="491" y="15"/>
                    </a:lnTo>
                    <a:lnTo>
                      <a:pt x="489" y="12"/>
                    </a:lnTo>
                    <a:lnTo>
                      <a:pt x="487" y="11"/>
                    </a:lnTo>
                    <a:lnTo>
                      <a:pt x="487" y="9"/>
                    </a:lnTo>
                    <a:lnTo>
                      <a:pt x="487" y="7"/>
                    </a:lnTo>
                    <a:lnTo>
                      <a:pt x="489" y="5"/>
                    </a:lnTo>
                    <a:lnTo>
                      <a:pt x="491" y="3"/>
                    </a:lnTo>
                    <a:lnTo>
                      <a:pt x="494" y="1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  <a:moveTo>
                      <a:pt x="543" y="0"/>
                    </a:moveTo>
                    <a:lnTo>
                      <a:pt x="543" y="0"/>
                    </a:lnTo>
                    <a:lnTo>
                      <a:pt x="544" y="0"/>
                    </a:lnTo>
                    <a:lnTo>
                      <a:pt x="546" y="1"/>
                    </a:lnTo>
                    <a:lnTo>
                      <a:pt x="549" y="3"/>
                    </a:lnTo>
                    <a:lnTo>
                      <a:pt x="551" y="5"/>
                    </a:lnTo>
                    <a:lnTo>
                      <a:pt x="553" y="7"/>
                    </a:lnTo>
                    <a:lnTo>
                      <a:pt x="553" y="9"/>
                    </a:lnTo>
                    <a:lnTo>
                      <a:pt x="553" y="11"/>
                    </a:lnTo>
                    <a:lnTo>
                      <a:pt x="551" y="12"/>
                    </a:lnTo>
                    <a:lnTo>
                      <a:pt x="549" y="15"/>
                    </a:lnTo>
                    <a:lnTo>
                      <a:pt x="546" y="16"/>
                    </a:lnTo>
                    <a:lnTo>
                      <a:pt x="544" y="17"/>
                    </a:lnTo>
                    <a:lnTo>
                      <a:pt x="543" y="17"/>
                    </a:lnTo>
                    <a:lnTo>
                      <a:pt x="543" y="17"/>
                    </a:lnTo>
                    <a:lnTo>
                      <a:pt x="539" y="17"/>
                    </a:lnTo>
                    <a:lnTo>
                      <a:pt x="537" y="16"/>
                    </a:lnTo>
                    <a:lnTo>
                      <a:pt x="534" y="15"/>
                    </a:lnTo>
                    <a:lnTo>
                      <a:pt x="532" y="12"/>
                    </a:lnTo>
                    <a:lnTo>
                      <a:pt x="531" y="11"/>
                    </a:lnTo>
                    <a:lnTo>
                      <a:pt x="531" y="9"/>
                    </a:lnTo>
                    <a:lnTo>
                      <a:pt x="531" y="7"/>
                    </a:lnTo>
                    <a:lnTo>
                      <a:pt x="532" y="5"/>
                    </a:lnTo>
                    <a:lnTo>
                      <a:pt x="534" y="3"/>
                    </a:lnTo>
                    <a:lnTo>
                      <a:pt x="537" y="1"/>
                    </a:lnTo>
                    <a:lnTo>
                      <a:pt x="53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  <a:moveTo>
                      <a:pt x="586" y="0"/>
                    </a:moveTo>
                    <a:lnTo>
                      <a:pt x="586" y="0"/>
                    </a:lnTo>
                    <a:lnTo>
                      <a:pt x="587" y="0"/>
                    </a:lnTo>
                    <a:lnTo>
                      <a:pt x="589" y="1"/>
                    </a:lnTo>
                    <a:lnTo>
                      <a:pt x="593" y="3"/>
                    </a:lnTo>
                    <a:lnTo>
                      <a:pt x="594" y="5"/>
                    </a:lnTo>
                    <a:lnTo>
                      <a:pt x="596" y="7"/>
                    </a:lnTo>
                    <a:lnTo>
                      <a:pt x="596" y="9"/>
                    </a:lnTo>
                    <a:lnTo>
                      <a:pt x="596" y="11"/>
                    </a:lnTo>
                    <a:lnTo>
                      <a:pt x="594" y="12"/>
                    </a:lnTo>
                    <a:lnTo>
                      <a:pt x="593" y="15"/>
                    </a:lnTo>
                    <a:lnTo>
                      <a:pt x="589" y="16"/>
                    </a:lnTo>
                    <a:lnTo>
                      <a:pt x="587" y="17"/>
                    </a:lnTo>
                    <a:lnTo>
                      <a:pt x="586" y="17"/>
                    </a:lnTo>
                    <a:lnTo>
                      <a:pt x="586" y="17"/>
                    </a:lnTo>
                    <a:lnTo>
                      <a:pt x="582" y="17"/>
                    </a:lnTo>
                    <a:lnTo>
                      <a:pt x="580" y="16"/>
                    </a:lnTo>
                    <a:lnTo>
                      <a:pt x="577" y="15"/>
                    </a:lnTo>
                    <a:lnTo>
                      <a:pt x="575" y="12"/>
                    </a:lnTo>
                    <a:lnTo>
                      <a:pt x="575" y="11"/>
                    </a:lnTo>
                    <a:lnTo>
                      <a:pt x="574" y="9"/>
                    </a:lnTo>
                    <a:lnTo>
                      <a:pt x="575" y="7"/>
                    </a:lnTo>
                    <a:lnTo>
                      <a:pt x="575" y="5"/>
                    </a:lnTo>
                    <a:lnTo>
                      <a:pt x="577" y="3"/>
                    </a:lnTo>
                    <a:lnTo>
                      <a:pt x="580" y="1"/>
                    </a:lnTo>
                    <a:lnTo>
                      <a:pt x="582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  <a:moveTo>
                      <a:pt x="629" y="0"/>
                    </a:moveTo>
                    <a:lnTo>
                      <a:pt x="629" y="0"/>
                    </a:lnTo>
                    <a:lnTo>
                      <a:pt x="630" y="0"/>
                    </a:lnTo>
                    <a:lnTo>
                      <a:pt x="632" y="1"/>
                    </a:lnTo>
                    <a:lnTo>
                      <a:pt x="636" y="3"/>
                    </a:lnTo>
                    <a:lnTo>
                      <a:pt x="637" y="5"/>
                    </a:lnTo>
                    <a:lnTo>
                      <a:pt x="639" y="7"/>
                    </a:lnTo>
                    <a:lnTo>
                      <a:pt x="639" y="9"/>
                    </a:lnTo>
                    <a:lnTo>
                      <a:pt x="639" y="11"/>
                    </a:lnTo>
                    <a:lnTo>
                      <a:pt x="637" y="12"/>
                    </a:lnTo>
                    <a:lnTo>
                      <a:pt x="636" y="15"/>
                    </a:lnTo>
                    <a:lnTo>
                      <a:pt x="632" y="16"/>
                    </a:lnTo>
                    <a:lnTo>
                      <a:pt x="630" y="17"/>
                    </a:lnTo>
                    <a:lnTo>
                      <a:pt x="629" y="17"/>
                    </a:lnTo>
                    <a:lnTo>
                      <a:pt x="629" y="17"/>
                    </a:lnTo>
                    <a:lnTo>
                      <a:pt x="625" y="17"/>
                    </a:lnTo>
                    <a:lnTo>
                      <a:pt x="623" y="16"/>
                    </a:lnTo>
                    <a:lnTo>
                      <a:pt x="620" y="15"/>
                    </a:lnTo>
                    <a:lnTo>
                      <a:pt x="618" y="12"/>
                    </a:lnTo>
                    <a:lnTo>
                      <a:pt x="618" y="11"/>
                    </a:lnTo>
                    <a:lnTo>
                      <a:pt x="617" y="9"/>
                    </a:lnTo>
                    <a:lnTo>
                      <a:pt x="618" y="7"/>
                    </a:lnTo>
                    <a:lnTo>
                      <a:pt x="618" y="5"/>
                    </a:lnTo>
                    <a:lnTo>
                      <a:pt x="620" y="3"/>
                    </a:lnTo>
                    <a:lnTo>
                      <a:pt x="623" y="1"/>
                    </a:lnTo>
                    <a:lnTo>
                      <a:pt x="625" y="0"/>
                    </a:lnTo>
                    <a:lnTo>
                      <a:pt x="629" y="0"/>
                    </a:lnTo>
                    <a:lnTo>
                      <a:pt x="629" y="0"/>
                    </a:lnTo>
                    <a:close/>
                    <a:moveTo>
                      <a:pt x="672" y="0"/>
                    </a:moveTo>
                    <a:lnTo>
                      <a:pt x="672" y="0"/>
                    </a:lnTo>
                    <a:lnTo>
                      <a:pt x="673" y="0"/>
                    </a:lnTo>
                    <a:lnTo>
                      <a:pt x="675" y="1"/>
                    </a:lnTo>
                    <a:lnTo>
                      <a:pt x="679" y="3"/>
                    </a:lnTo>
                    <a:lnTo>
                      <a:pt x="680" y="5"/>
                    </a:lnTo>
                    <a:lnTo>
                      <a:pt x="682" y="7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80" y="12"/>
                    </a:lnTo>
                    <a:lnTo>
                      <a:pt x="679" y="15"/>
                    </a:lnTo>
                    <a:lnTo>
                      <a:pt x="675" y="16"/>
                    </a:lnTo>
                    <a:lnTo>
                      <a:pt x="673" y="17"/>
                    </a:lnTo>
                    <a:lnTo>
                      <a:pt x="672" y="17"/>
                    </a:lnTo>
                    <a:lnTo>
                      <a:pt x="672" y="17"/>
                    </a:lnTo>
                    <a:lnTo>
                      <a:pt x="668" y="17"/>
                    </a:lnTo>
                    <a:lnTo>
                      <a:pt x="667" y="16"/>
                    </a:lnTo>
                    <a:lnTo>
                      <a:pt x="663" y="15"/>
                    </a:lnTo>
                    <a:lnTo>
                      <a:pt x="661" y="12"/>
                    </a:lnTo>
                    <a:lnTo>
                      <a:pt x="661" y="11"/>
                    </a:lnTo>
                    <a:lnTo>
                      <a:pt x="660" y="9"/>
                    </a:lnTo>
                    <a:lnTo>
                      <a:pt x="661" y="7"/>
                    </a:lnTo>
                    <a:lnTo>
                      <a:pt x="661" y="5"/>
                    </a:lnTo>
                    <a:lnTo>
                      <a:pt x="663" y="3"/>
                    </a:lnTo>
                    <a:lnTo>
                      <a:pt x="667" y="1"/>
                    </a:lnTo>
                    <a:lnTo>
                      <a:pt x="668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715" y="0"/>
                    </a:moveTo>
                    <a:lnTo>
                      <a:pt x="715" y="0"/>
                    </a:lnTo>
                    <a:lnTo>
                      <a:pt x="716" y="0"/>
                    </a:lnTo>
                    <a:lnTo>
                      <a:pt x="718" y="1"/>
                    </a:lnTo>
                    <a:lnTo>
                      <a:pt x="722" y="3"/>
                    </a:lnTo>
                    <a:lnTo>
                      <a:pt x="723" y="5"/>
                    </a:lnTo>
                    <a:lnTo>
                      <a:pt x="725" y="7"/>
                    </a:lnTo>
                    <a:lnTo>
                      <a:pt x="725" y="9"/>
                    </a:lnTo>
                    <a:lnTo>
                      <a:pt x="725" y="11"/>
                    </a:lnTo>
                    <a:lnTo>
                      <a:pt x="723" y="12"/>
                    </a:lnTo>
                    <a:lnTo>
                      <a:pt x="722" y="15"/>
                    </a:lnTo>
                    <a:lnTo>
                      <a:pt x="718" y="16"/>
                    </a:lnTo>
                    <a:lnTo>
                      <a:pt x="716" y="17"/>
                    </a:lnTo>
                    <a:lnTo>
                      <a:pt x="715" y="17"/>
                    </a:lnTo>
                    <a:lnTo>
                      <a:pt x="715" y="17"/>
                    </a:lnTo>
                    <a:lnTo>
                      <a:pt x="711" y="17"/>
                    </a:lnTo>
                    <a:lnTo>
                      <a:pt x="710" y="16"/>
                    </a:lnTo>
                    <a:lnTo>
                      <a:pt x="706" y="15"/>
                    </a:lnTo>
                    <a:lnTo>
                      <a:pt x="704" y="12"/>
                    </a:lnTo>
                    <a:lnTo>
                      <a:pt x="704" y="11"/>
                    </a:lnTo>
                    <a:lnTo>
                      <a:pt x="703" y="9"/>
                    </a:lnTo>
                    <a:lnTo>
                      <a:pt x="704" y="7"/>
                    </a:lnTo>
                    <a:lnTo>
                      <a:pt x="704" y="5"/>
                    </a:lnTo>
                    <a:lnTo>
                      <a:pt x="706" y="3"/>
                    </a:lnTo>
                    <a:lnTo>
                      <a:pt x="710" y="1"/>
                    </a:lnTo>
                    <a:lnTo>
                      <a:pt x="711" y="0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  <a:moveTo>
                      <a:pt x="758" y="0"/>
                    </a:moveTo>
                    <a:lnTo>
                      <a:pt x="758" y="0"/>
                    </a:lnTo>
                    <a:lnTo>
                      <a:pt x="760" y="0"/>
                    </a:lnTo>
                    <a:lnTo>
                      <a:pt x="761" y="1"/>
                    </a:lnTo>
                    <a:lnTo>
                      <a:pt x="765" y="3"/>
                    </a:lnTo>
                    <a:lnTo>
                      <a:pt x="766" y="5"/>
                    </a:lnTo>
                    <a:lnTo>
                      <a:pt x="768" y="7"/>
                    </a:lnTo>
                    <a:lnTo>
                      <a:pt x="768" y="9"/>
                    </a:lnTo>
                    <a:lnTo>
                      <a:pt x="768" y="11"/>
                    </a:lnTo>
                    <a:lnTo>
                      <a:pt x="766" y="12"/>
                    </a:lnTo>
                    <a:lnTo>
                      <a:pt x="765" y="15"/>
                    </a:lnTo>
                    <a:lnTo>
                      <a:pt x="761" y="16"/>
                    </a:lnTo>
                    <a:lnTo>
                      <a:pt x="760" y="17"/>
                    </a:lnTo>
                    <a:lnTo>
                      <a:pt x="758" y="17"/>
                    </a:lnTo>
                    <a:lnTo>
                      <a:pt x="758" y="17"/>
                    </a:lnTo>
                    <a:lnTo>
                      <a:pt x="754" y="17"/>
                    </a:lnTo>
                    <a:lnTo>
                      <a:pt x="753" y="16"/>
                    </a:lnTo>
                    <a:lnTo>
                      <a:pt x="749" y="15"/>
                    </a:lnTo>
                    <a:lnTo>
                      <a:pt x="747" y="12"/>
                    </a:lnTo>
                    <a:lnTo>
                      <a:pt x="747" y="11"/>
                    </a:lnTo>
                    <a:lnTo>
                      <a:pt x="746" y="9"/>
                    </a:lnTo>
                    <a:lnTo>
                      <a:pt x="747" y="7"/>
                    </a:lnTo>
                    <a:lnTo>
                      <a:pt x="747" y="5"/>
                    </a:lnTo>
                    <a:lnTo>
                      <a:pt x="749" y="3"/>
                    </a:lnTo>
                    <a:lnTo>
                      <a:pt x="753" y="1"/>
                    </a:lnTo>
                    <a:lnTo>
                      <a:pt x="754" y="0"/>
                    </a:lnTo>
                    <a:lnTo>
                      <a:pt x="758" y="0"/>
                    </a:lnTo>
                    <a:lnTo>
                      <a:pt x="758" y="0"/>
                    </a:lnTo>
                    <a:close/>
                    <a:moveTo>
                      <a:pt x="801" y="0"/>
                    </a:moveTo>
                    <a:lnTo>
                      <a:pt x="801" y="0"/>
                    </a:lnTo>
                    <a:lnTo>
                      <a:pt x="803" y="0"/>
                    </a:lnTo>
                    <a:lnTo>
                      <a:pt x="804" y="1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1" y="9"/>
                    </a:lnTo>
                    <a:lnTo>
                      <a:pt x="811" y="11"/>
                    </a:lnTo>
                    <a:lnTo>
                      <a:pt x="809" y="12"/>
                    </a:lnTo>
                    <a:lnTo>
                      <a:pt x="808" y="15"/>
                    </a:lnTo>
                    <a:lnTo>
                      <a:pt x="804" y="16"/>
                    </a:lnTo>
                    <a:lnTo>
                      <a:pt x="803" y="17"/>
                    </a:lnTo>
                    <a:lnTo>
                      <a:pt x="801" y="17"/>
                    </a:lnTo>
                    <a:lnTo>
                      <a:pt x="801" y="17"/>
                    </a:lnTo>
                    <a:lnTo>
                      <a:pt x="797" y="17"/>
                    </a:lnTo>
                    <a:lnTo>
                      <a:pt x="796" y="16"/>
                    </a:lnTo>
                    <a:lnTo>
                      <a:pt x="792" y="15"/>
                    </a:lnTo>
                    <a:lnTo>
                      <a:pt x="790" y="12"/>
                    </a:lnTo>
                    <a:lnTo>
                      <a:pt x="790" y="11"/>
                    </a:lnTo>
                    <a:lnTo>
                      <a:pt x="789" y="9"/>
                    </a:lnTo>
                    <a:lnTo>
                      <a:pt x="790" y="7"/>
                    </a:lnTo>
                    <a:lnTo>
                      <a:pt x="790" y="5"/>
                    </a:lnTo>
                    <a:lnTo>
                      <a:pt x="792" y="3"/>
                    </a:lnTo>
                    <a:lnTo>
                      <a:pt x="796" y="1"/>
                    </a:lnTo>
                    <a:lnTo>
                      <a:pt x="797" y="0"/>
                    </a:lnTo>
                    <a:lnTo>
                      <a:pt x="801" y="0"/>
                    </a:lnTo>
                    <a:lnTo>
                      <a:pt x="801" y="0"/>
                    </a:lnTo>
                    <a:close/>
                    <a:moveTo>
                      <a:pt x="844" y="0"/>
                    </a:moveTo>
                    <a:lnTo>
                      <a:pt x="844" y="0"/>
                    </a:lnTo>
                    <a:lnTo>
                      <a:pt x="846" y="0"/>
                    </a:lnTo>
                    <a:lnTo>
                      <a:pt x="847" y="1"/>
                    </a:lnTo>
                    <a:lnTo>
                      <a:pt x="851" y="3"/>
                    </a:lnTo>
                    <a:lnTo>
                      <a:pt x="852" y="5"/>
                    </a:lnTo>
                    <a:lnTo>
                      <a:pt x="854" y="7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2" y="12"/>
                    </a:lnTo>
                    <a:lnTo>
                      <a:pt x="851" y="15"/>
                    </a:lnTo>
                    <a:lnTo>
                      <a:pt x="847" y="16"/>
                    </a:lnTo>
                    <a:lnTo>
                      <a:pt x="846" y="17"/>
                    </a:lnTo>
                    <a:lnTo>
                      <a:pt x="844" y="17"/>
                    </a:lnTo>
                    <a:lnTo>
                      <a:pt x="844" y="17"/>
                    </a:lnTo>
                    <a:lnTo>
                      <a:pt x="840" y="17"/>
                    </a:lnTo>
                    <a:lnTo>
                      <a:pt x="839" y="16"/>
                    </a:lnTo>
                    <a:lnTo>
                      <a:pt x="835" y="15"/>
                    </a:lnTo>
                    <a:lnTo>
                      <a:pt x="834" y="12"/>
                    </a:lnTo>
                    <a:lnTo>
                      <a:pt x="834" y="11"/>
                    </a:lnTo>
                    <a:lnTo>
                      <a:pt x="832" y="9"/>
                    </a:lnTo>
                    <a:lnTo>
                      <a:pt x="834" y="7"/>
                    </a:lnTo>
                    <a:lnTo>
                      <a:pt x="834" y="5"/>
                    </a:lnTo>
                    <a:lnTo>
                      <a:pt x="835" y="3"/>
                    </a:lnTo>
                    <a:lnTo>
                      <a:pt x="839" y="1"/>
                    </a:lnTo>
                    <a:lnTo>
                      <a:pt x="840" y="0"/>
                    </a:lnTo>
                    <a:lnTo>
                      <a:pt x="844" y="0"/>
                    </a:lnTo>
                    <a:lnTo>
                      <a:pt x="844" y="0"/>
                    </a:lnTo>
                    <a:close/>
                    <a:moveTo>
                      <a:pt x="887" y="0"/>
                    </a:moveTo>
                    <a:lnTo>
                      <a:pt x="887" y="0"/>
                    </a:lnTo>
                    <a:lnTo>
                      <a:pt x="889" y="0"/>
                    </a:lnTo>
                    <a:lnTo>
                      <a:pt x="890" y="1"/>
                    </a:lnTo>
                    <a:lnTo>
                      <a:pt x="894" y="3"/>
                    </a:lnTo>
                    <a:lnTo>
                      <a:pt x="896" y="5"/>
                    </a:lnTo>
                    <a:lnTo>
                      <a:pt x="897" y="7"/>
                    </a:lnTo>
                    <a:lnTo>
                      <a:pt x="897" y="9"/>
                    </a:lnTo>
                    <a:lnTo>
                      <a:pt x="897" y="11"/>
                    </a:lnTo>
                    <a:lnTo>
                      <a:pt x="896" y="12"/>
                    </a:lnTo>
                    <a:lnTo>
                      <a:pt x="894" y="15"/>
                    </a:lnTo>
                    <a:lnTo>
                      <a:pt x="890" y="16"/>
                    </a:lnTo>
                    <a:lnTo>
                      <a:pt x="889" y="17"/>
                    </a:lnTo>
                    <a:lnTo>
                      <a:pt x="887" y="17"/>
                    </a:lnTo>
                    <a:lnTo>
                      <a:pt x="887" y="17"/>
                    </a:lnTo>
                    <a:lnTo>
                      <a:pt x="883" y="17"/>
                    </a:lnTo>
                    <a:lnTo>
                      <a:pt x="882" y="16"/>
                    </a:lnTo>
                    <a:lnTo>
                      <a:pt x="878" y="15"/>
                    </a:lnTo>
                    <a:lnTo>
                      <a:pt x="877" y="12"/>
                    </a:lnTo>
                    <a:lnTo>
                      <a:pt x="877" y="11"/>
                    </a:lnTo>
                    <a:lnTo>
                      <a:pt x="875" y="9"/>
                    </a:lnTo>
                    <a:lnTo>
                      <a:pt x="877" y="7"/>
                    </a:lnTo>
                    <a:lnTo>
                      <a:pt x="877" y="5"/>
                    </a:lnTo>
                    <a:lnTo>
                      <a:pt x="878" y="3"/>
                    </a:lnTo>
                    <a:lnTo>
                      <a:pt x="882" y="1"/>
                    </a:lnTo>
                    <a:lnTo>
                      <a:pt x="883" y="0"/>
                    </a:lnTo>
                    <a:lnTo>
                      <a:pt x="887" y="0"/>
                    </a:lnTo>
                    <a:lnTo>
                      <a:pt x="887" y="0"/>
                    </a:lnTo>
                    <a:close/>
                    <a:moveTo>
                      <a:pt x="930" y="0"/>
                    </a:moveTo>
                    <a:lnTo>
                      <a:pt x="930" y="0"/>
                    </a:lnTo>
                    <a:lnTo>
                      <a:pt x="932" y="0"/>
                    </a:lnTo>
                    <a:lnTo>
                      <a:pt x="933" y="1"/>
                    </a:lnTo>
                    <a:lnTo>
                      <a:pt x="937" y="3"/>
                    </a:lnTo>
                    <a:lnTo>
                      <a:pt x="939" y="5"/>
                    </a:lnTo>
                    <a:lnTo>
                      <a:pt x="940" y="7"/>
                    </a:lnTo>
                    <a:lnTo>
                      <a:pt x="940" y="9"/>
                    </a:lnTo>
                    <a:lnTo>
                      <a:pt x="940" y="11"/>
                    </a:lnTo>
                    <a:lnTo>
                      <a:pt x="939" y="12"/>
                    </a:lnTo>
                    <a:lnTo>
                      <a:pt x="937" y="15"/>
                    </a:lnTo>
                    <a:lnTo>
                      <a:pt x="933" y="16"/>
                    </a:lnTo>
                    <a:lnTo>
                      <a:pt x="932" y="17"/>
                    </a:lnTo>
                    <a:lnTo>
                      <a:pt x="930" y="17"/>
                    </a:lnTo>
                    <a:lnTo>
                      <a:pt x="930" y="17"/>
                    </a:lnTo>
                    <a:lnTo>
                      <a:pt x="927" y="17"/>
                    </a:lnTo>
                    <a:lnTo>
                      <a:pt x="925" y="16"/>
                    </a:lnTo>
                    <a:lnTo>
                      <a:pt x="921" y="15"/>
                    </a:lnTo>
                    <a:lnTo>
                      <a:pt x="920" y="12"/>
                    </a:lnTo>
                    <a:lnTo>
                      <a:pt x="920" y="11"/>
                    </a:lnTo>
                    <a:lnTo>
                      <a:pt x="918" y="9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21" y="3"/>
                    </a:lnTo>
                    <a:lnTo>
                      <a:pt x="925" y="1"/>
                    </a:lnTo>
                    <a:lnTo>
                      <a:pt x="927" y="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  <a:moveTo>
                      <a:pt x="973" y="0"/>
                    </a:moveTo>
                    <a:lnTo>
                      <a:pt x="973" y="0"/>
                    </a:lnTo>
                    <a:lnTo>
                      <a:pt x="975" y="0"/>
                    </a:lnTo>
                    <a:lnTo>
                      <a:pt x="976" y="1"/>
                    </a:lnTo>
                    <a:lnTo>
                      <a:pt x="980" y="3"/>
                    </a:lnTo>
                    <a:lnTo>
                      <a:pt x="983" y="5"/>
                    </a:lnTo>
                    <a:lnTo>
                      <a:pt x="983" y="7"/>
                    </a:lnTo>
                    <a:lnTo>
                      <a:pt x="983" y="9"/>
                    </a:lnTo>
                    <a:lnTo>
                      <a:pt x="983" y="11"/>
                    </a:lnTo>
                    <a:lnTo>
                      <a:pt x="983" y="12"/>
                    </a:lnTo>
                    <a:lnTo>
                      <a:pt x="980" y="15"/>
                    </a:lnTo>
                    <a:lnTo>
                      <a:pt x="976" y="16"/>
                    </a:lnTo>
                    <a:lnTo>
                      <a:pt x="975" y="17"/>
                    </a:lnTo>
                    <a:lnTo>
                      <a:pt x="973" y="17"/>
                    </a:lnTo>
                    <a:lnTo>
                      <a:pt x="973" y="17"/>
                    </a:lnTo>
                    <a:lnTo>
                      <a:pt x="970" y="17"/>
                    </a:lnTo>
                    <a:lnTo>
                      <a:pt x="968" y="16"/>
                    </a:lnTo>
                    <a:lnTo>
                      <a:pt x="964" y="15"/>
                    </a:lnTo>
                    <a:lnTo>
                      <a:pt x="963" y="12"/>
                    </a:lnTo>
                    <a:lnTo>
                      <a:pt x="963" y="11"/>
                    </a:lnTo>
                    <a:lnTo>
                      <a:pt x="961" y="9"/>
                    </a:lnTo>
                    <a:lnTo>
                      <a:pt x="963" y="7"/>
                    </a:lnTo>
                    <a:lnTo>
                      <a:pt x="963" y="5"/>
                    </a:lnTo>
                    <a:lnTo>
                      <a:pt x="964" y="3"/>
                    </a:lnTo>
                    <a:lnTo>
                      <a:pt x="968" y="1"/>
                    </a:lnTo>
                    <a:lnTo>
                      <a:pt x="970" y="0"/>
                    </a:lnTo>
                    <a:lnTo>
                      <a:pt x="973" y="0"/>
                    </a:lnTo>
                    <a:lnTo>
                      <a:pt x="973" y="0"/>
                    </a:lnTo>
                    <a:close/>
                    <a:moveTo>
                      <a:pt x="1016" y="0"/>
                    </a:moveTo>
                    <a:lnTo>
                      <a:pt x="1016" y="0"/>
                    </a:lnTo>
                    <a:lnTo>
                      <a:pt x="1018" y="0"/>
                    </a:lnTo>
                    <a:lnTo>
                      <a:pt x="1019" y="1"/>
                    </a:lnTo>
                    <a:lnTo>
                      <a:pt x="1023" y="3"/>
                    </a:lnTo>
                    <a:lnTo>
                      <a:pt x="1026" y="5"/>
                    </a:lnTo>
                    <a:lnTo>
                      <a:pt x="1026" y="7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2"/>
                    </a:lnTo>
                    <a:lnTo>
                      <a:pt x="1023" y="15"/>
                    </a:lnTo>
                    <a:lnTo>
                      <a:pt x="1019" y="16"/>
                    </a:lnTo>
                    <a:lnTo>
                      <a:pt x="1018" y="17"/>
                    </a:lnTo>
                    <a:lnTo>
                      <a:pt x="1016" y="17"/>
                    </a:lnTo>
                    <a:lnTo>
                      <a:pt x="1016" y="17"/>
                    </a:lnTo>
                    <a:lnTo>
                      <a:pt x="1013" y="17"/>
                    </a:lnTo>
                    <a:lnTo>
                      <a:pt x="1011" y="16"/>
                    </a:lnTo>
                    <a:lnTo>
                      <a:pt x="1007" y="15"/>
                    </a:lnTo>
                    <a:lnTo>
                      <a:pt x="1006" y="12"/>
                    </a:lnTo>
                    <a:lnTo>
                      <a:pt x="1006" y="11"/>
                    </a:lnTo>
                    <a:lnTo>
                      <a:pt x="1006" y="9"/>
                    </a:lnTo>
                    <a:lnTo>
                      <a:pt x="1006" y="7"/>
                    </a:lnTo>
                    <a:lnTo>
                      <a:pt x="1006" y="5"/>
                    </a:lnTo>
                    <a:lnTo>
                      <a:pt x="1007" y="3"/>
                    </a:lnTo>
                    <a:lnTo>
                      <a:pt x="1011" y="1"/>
                    </a:lnTo>
                    <a:lnTo>
                      <a:pt x="1013" y="0"/>
                    </a:lnTo>
                    <a:lnTo>
                      <a:pt x="1016" y="0"/>
                    </a:lnTo>
                    <a:lnTo>
                      <a:pt x="1016" y="0"/>
                    </a:lnTo>
                    <a:close/>
                    <a:moveTo>
                      <a:pt x="1059" y="0"/>
                    </a:moveTo>
                    <a:lnTo>
                      <a:pt x="1059" y="0"/>
                    </a:lnTo>
                    <a:lnTo>
                      <a:pt x="1061" y="0"/>
                    </a:lnTo>
                    <a:lnTo>
                      <a:pt x="1063" y="1"/>
                    </a:lnTo>
                    <a:lnTo>
                      <a:pt x="1066" y="3"/>
                    </a:lnTo>
                    <a:lnTo>
                      <a:pt x="1069" y="5"/>
                    </a:lnTo>
                    <a:lnTo>
                      <a:pt x="1069" y="7"/>
                    </a:lnTo>
                    <a:lnTo>
                      <a:pt x="1069" y="9"/>
                    </a:lnTo>
                    <a:lnTo>
                      <a:pt x="1069" y="11"/>
                    </a:lnTo>
                    <a:lnTo>
                      <a:pt x="1069" y="12"/>
                    </a:lnTo>
                    <a:lnTo>
                      <a:pt x="1066" y="15"/>
                    </a:lnTo>
                    <a:lnTo>
                      <a:pt x="1063" y="16"/>
                    </a:lnTo>
                    <a:lnTo>
                      <a:pt x="1061" y="17"/>
                    </a:lnTo>
                    <a:lnTo>
                      <a:pt x="1059" y="17"/>
                    </a:lnTo>
                    <a:lnTo>
                      <a:pt x="1059" y="17"/>
                    </a:lnTo>
                    <a:lnTo>
                      <a:pt x="1056" y="17"/>
                    </a:lnTo>
                    <a:lnTo>
                      <a:pt x="1054" y="16"/>
                    </a:lnTo>
                    <a:lnTo>
                      <a:pt x="1050" y="15"/>
                    </a:lnTo>
                    <a:lnTo>
                      <a:pt x="1049" y="12"/>
                    </a:lnTo>
                    <a:lnTo>
                      <a:pt x="1049" y="11"/>
                    </a:lnTo>
                    <a:lnTo>
                      <a:pt x="1049" y="9"/>
                    </a:lnTo>
                    <a:lnTo>
                      <a:pt x="1049" y="7"/>
                    </a:lnTo>
                    <a:lnTo>
                      <a:pt x="1049" y="5"/>
                    </a:lnTo>
                    <a:lnTo>
                      <a:pt x="1050" y="3"/>
                    </a:lnTo>
                    <a:lnTo>
                      <a:pt x="1054" y="1"/>
                    </a:lnTo>
                    <a:lnTo>
                      <a:pt x="1056" y="0"/>
                    </a:lnTo>
                    <a:lnTo>
                      <a:pt x="1059" y="0"/>
                    </a:lnTo>
                    <a:lnTo>
                      <a:pt x="1059" y="0"/>
                    </a:lnTo>
                    <a:close/>
                    <a:moveTo>
                      <a:pt x="1102" y="0"/>
                    </a:moveTo>
                    <a:lnTo>
                      <a:pt x="1102" y="0"/>
                    </a:lnTo>
                    <a:lnTo>
                      <a:pt x="1104" y="0"/>
                    </a:lnTo>
                    <a:lnTo>
                      <a:pt x="1106" y="1"/>
                    </a:lnTo>
                    <a:lnTo>
                      <a:pt x="1109" y="3"/>
                    </a:lnTo>
                    <a:lnTo>
                      <a:pt x="1112" y="5"/>
                    </a:lnTo>
                    <a:lnTo>
                      <a:pt x="1112" y="7"/>
                    </a:lnTo>
                    <a:lnTo>
                      <a:pt x="1112" y="9"/>
                    </a:lnTo>
                    <a:lnTo>
                      <a:pt x="1112" y="11"/>
                    </a:lnTo>
                    <a:lnTo>
                      <a:pt x="1112" y="12"/>
                    </a:lnTo>
                    <a:lnTo>
                      <a:pt x="1109" y="15"/>
                    </a:lnTo>
                    <a:lnTo>
                      <a:pt x="1106" y="16"/>
                    </a:lnTo>
                    <a:lnTo>
                      <a:pt x="1104" y="17"/>
                    </a:lnTo>
                    <a:lnTo>
                      <a:pt x="1102" y="17"/>
                    </a:lnTo>
                    <a:lnTo>
                      <a:pt x="1102" y="17"/>
                    </a:lnTo>
                    <a:lnTo>
                      <a:pt x="1099" y="17"/>
                    </a:lnTo>
                    <a:lnTo>
                      <a:pt x="1097" y="16"/>
                    </a:lnTo>
                    <a:lnTo>
                      <a:pt x="1094" y="15"/>
                    </a:lnTo>
                    <a:lnTo>
                      <a:pt x="1092" y="12"/>
                    </a:lnTo>
                    <a:lnTo>
                      <a:pt x="1092" y="11"/>
                    </a:lnTo>
                    <a:lnTo>
                      <a:pt x="1092" y="9"/>
                    </a:lnTo>
                    <a:lnTo>
                      <a:pt x="1092" y="7"/>
                    </a:lnTo>
                    <a:lnTo>
                      <a:pt x="1092" y="5"/>
                    </a:lnTo>
                    <a:lnTo>
                      <a:pt x="1094" y="3"/>
                    </a:lnTo>
                    <a:lnTo>
                      <a:pt x="1097" y="1"/>
                    </a:lnTo>
                    <a:lnTo>
                      <a:pt x="1099" y="0"/>
                    </a:lnTo>
                    <a:lnTo>
                      <a:pt x="1102" y="0"/>
                    </a:lnTo>
                    <a:lnTo>
                      <a:pt x="1102" y="0"/>
                    </a:lnTo>
                    <a:close/>
                    <a:moveTo>
                      <a:pt x="1133" y="27"/>
                    </a:moveTo>
                    <a:lnTo>
                      <a:pt x="1133" y="27"/>
                    </a:lnTo>
                    <a:lnTo>
                      <a:pt x="1133" y="28"/>
                    </a:lnTo>
                    <a:lnTo>
                      <a:pt x="1131" y="29"/>
                    </a:lnTo>
                    <a:lnTo>
                      <a:pt x="1130" y="32"/>
                    </a:lnTo>
                    <a:lnTo>
                      <a:pt x="1126" y="35"/>
                    </a:lnTo>
                    <a:lnTo>
                      <a:pt x="1125" y="35"/>
                    </a:lnTo>
                    <a:lnTo>
                      <a:pt x="1123" y="35"/>
                    </a:lnTo>
                    <a:lnTo>
                      <a:pt x="1119" y="35"/>
                    </a:lnTo>
                    <a:lnTo>
                      <a:pt x="1118" y="35"/>
                    </a:lnTo>
                    <a:lnTo>
                      <a:pt x="1114" y="32"/>
                    </a:lnTo>
                    <a:lnTo>
                      <a:pt x="1112" y="29"/>
                    </a:lnTo>
                    <a:lnTo>
                      <a:pt x="1111" y="28"/>
                    </a:lnTo>
                    <a:lnTo>
                      <a:pt x="1111" y="27"/>
                    </a:lnTo>
                    <a:lnTo>
                      <a:pt x="1111" y="27"/>
                    </a:lnTo>
                    <a:lnTo>
                      <a:pt x="1111" y="24"/>
                    </a:lnTo>
                    <a:lnTo>
                      <a:pt x="1112" y="23"/>
                    </a:lnTo>
                    <a:lnTo>
                      <a:pt x="1114" y="20"/>
                    </a:lnTo>
                    <a:lnTo>
                      <a:pt x="1118" y="19"/>
                    </a:lnTo>
                    <a:lnTo>
                      <a:pt x="1119" y="19"/>
                    </a:lnTo>
                    <a:lnTo>
                      <a:pt x="1123" y="19"/>
                    </a:lnTo>
                    <a:lnTo>
                      <a:pt x="1125" y="19"/>
                    </a:lnTo>
                    <a:lnTo>
                      <a:pt x="1126" y="19"/>
                    </a:lnTo>
                    <a:lnTo>
                      <a:pt x="1130" y="20"/>
                    </a:lnTo>
                    <a:lnTo>
                      <a:pt x="1131" y="23"/>
                    </a:lnTo>
                    <a:lnTo>
                      <a:pt x="1133" y="24"/>
                    </a:lnTo>
                    <a:lnTo>
                      <a:pt x="1133" y="27"/>
                    </a:lnTo>
                    <a:lnTo>
                      <a:pt x="1133" y="27"/>
                    </a:lnTo>
                    <a:close/>
                    <a:moveTo>
                      <a:pt x="1133" y="60"/>
                    </a:moveTo>
                    <a:lnTo>
                      <a:pt x="1133" y="60"/>
                    </a:lnTo>
                    <a:lnTo>
                      <a:pt x="1133" y="61"/>
                    </a:lnTo>
                    <a:lnTo>
                      <a:pt x="1131" y="63"/>
                    </a:lnTo>
                    <a:lnTo>
                      <a:pt x="1130" y="65"/>
                    </a:lnTo>
                    <a:lnTo>
                      <a:pt x="1126" y="68"/>
                    </a:lnTo>
                    <a:lnTo>
                      <a:pt x="1125" y="68"/>
                    </a:lnTo>
                    <a:lnTo>
                      <a:pt x="1123" y="68"/>
                    </a:lnTo>
                    <a:lnTo>
                      <a:pt x="1119" y="68"/>
                    </a:lnTo>
                    <a:lnTo>
                      <a:pt x="1118" y="68"/>
                    </a:lnTo>
                    <a:lnTo>
                      <a:pt x="1114" y="65"/>
                    </a:lnTo>
                    <a:lnTo>
                      <a:pt x="1112" y="63"/>
                    </a:lnTo>
                    <a:lnTo>
                      <a:pt x="1111" y="61"/>
                    </a:lnTo>
                    <a:lnTo>
                      <a:pt x="1111" y="60"/>
                    </a:lnTo>
                    <a:lnTo>
                      <a:pt x="1111" y="60"/>
                    </a:lnTo>
                    <a:lnTo>
                      <a:pt x="1111" y="57"/>
                    </a:lnTo>
                    <a:lnTo>
                      <a:pt x="1112" y="56"/>
                    </a:lnTo>
                    <a:lnTo>
                      <a:pt x="1114" y="53"/>
                    </a:lnTo>
                    <a:lnTo>
                      <a:pt x="1118" y="52"/>
                    </a:lnTo>
                    <a:lnTo>
                      <a:pt x="1119" y="52"/>
                    </a:lnTo>
                    <a:lnTo>
                      <a:pt x="1123" y="52"/>
                    </a:lnTo>
                    <a:lnTo>
                      <a:pt x="1125" y="52"/>
                    </a:lnTo>
                    <a:lnTo>
                      <a:pt x="1126" y="52"/>
                    </a:lnTo>
                    <a:lnTo>
                      <a:pt x="1130" y="53"/>
                    </a:lnTo>
                    <a:lnTo>
                      <a:pt x="1131" y="56"/>
                    </a:lnTo>
                    <a:lnTo>
                      <a:pt x="1133" y="57"/>
                    </a:lnTo>
                    <a:lnTo>
                      <a:pt x="1133" y="60"/>
                    </a:lnTo>
                    <a:lnTo>
                      <a:pt x="1133" y="6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200808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260" y="0"/>
                    </a:move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200808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2008080" y="45226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930320" y="4575240"/>
                <a:ext cx="130320" cy="8100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102"/>
                    </a:moveTo>
                    <a:lnTo>
                      <a:pt x="164" y="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1801800" y="4522680"/>
                <a:ext cx="438120" cy="1800"/>
              </a:xfrm>
              <a:custGeom>
                <a:avLst/>
                <a:gdLst/>
                <a:ahLst/>
                <a:rect l="l" t="t" r="r" b="b"/>
                <a:pathLst>
                  <a:path w="553" h="0">
                    <a:moveTo>
                      <a:pt x="0" y="0"/>
                    </a:moveTo>
                    <a:lnTo>
                      <a:pt x="553" y="0"/>
                    </a:lnTo>
                    <a:lnTo>
                      <a:pt x="5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180180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0" y="0"/>
                    </a:moveTo>
                    <a:lnTo>
                      <a:pt x="455" y="0"/>
                    </a:lnTo>
                    <a:lnTo>
                      <a:pt x="4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85436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930320" y="4656240"/>
                <a:ext cx="180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801800" y="475452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180180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183996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184464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184788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1851120" y="475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85256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008080" y="467028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80180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1801800" y="454968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1852560" y="4552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851120" y="455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84788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8446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1839960" y="45496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16072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160720" y="4718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2" y="4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15748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151000" y="4711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146320" y="4710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7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141640" y="4707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7" y="2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752" name=""/>
            <p:cNvGrpSpPr/>
            <p:nvPr/>
          </p:nvGrpSpPr>
          <p:grpSpPr>
            <a:xfrm>
              <a:off x="1797120" y="4521240"/>
              <a:ext cx="2895480" cy="1036440"/>
              <a:chOff x="1797120" y="4521240"/>
              <a:chExt cx="2895480" cy="1036440"/>
            </a:xfrm>
          </p:grpSpPr>
          <p:sp>
            <p:nvSpPr>
              <p:cNvPr id="10753" name=""/>
              <p:cNvSpPr/>
              <p:nvPr/>
            </p:nvSpPr>
            <p:spPr>
              <a:xfrm>
                <a:off x="2131920" y="4705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124000" y="47037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1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1160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0" y="1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10672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09880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2260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367000" y="47005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3572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34936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341440" y="47037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335320" y="47052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327400" y="4707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322360" y="4710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317680" y="471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31444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13000" y="471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1300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544840" y="4656240"/>
                <a:ext cx="144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16216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16216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31300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23524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9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1156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4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67192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633760" y="47545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62080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622600" y="475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62260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2584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3052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21472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0" y="0"/>
                    </a:moveTo>
                    <a:lnTo>
                      <a:pt x="33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416320" y="457524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162" y="10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26044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0" y="0"/>
                    </a:moveTo>
                    <a:lnTo>
                      <a:pt x="260" y="102"/>
                    </a:lnTo>
                    <a:lnTo>
                      <a:pt x="26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37636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6" h="0">
                    <a:moveTo>
                      <a:pt x="11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467080" y="467028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35240" y="4522680"/>
                <a:ext cx="436680" cy="1800"/>
              </a:xfrm>
              <a:custGeom>
                <a:avLst/>
                <a:gdLst/>
                <a:ahLst/>
                <a:rect l="l" t="t" r="r" b="b"/>
                <a:pathLst>
                  <a:path w="551" h="0">
                    <a:moveTo>
                      <a:pt x="55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3524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33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416320" y="4522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67"/>
                    </a:moveTo>
                    <a:lnTo>
                      <a:pt x="66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67192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633760" y="45496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63052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625840" y="4549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6240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622600" y="455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622600" y="4552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4095720" y="51084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4098960" y="51084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10544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10832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114800" y="5106960"/>
                <a:ext cx="255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4116240" y="510696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12128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2596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413064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413712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41403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4145040" y="51069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4151160" y="510696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41529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4156200" y="510696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4164120" y="510696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4165560" y="51069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4173480" y="51069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175280" y="51055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179960" y="51055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4186080" y="51055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4187880" y="51055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4195800" y="51055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4200480" y="510552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4202280" y="510552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420840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4213080" y="510372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421812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22800" y="5103720"/>
                <a:ext cx="237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4222800" y="5103720"/>
                <a:ext cx="31680" cy="4510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423216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4235400" y="5103720"/>
                <a:ext cx="255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4237200" y="5103720"/>
                <a:ext cx="2988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424332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424800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4253040" y="51037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425772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4259160" y="51037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4267080" y="51037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4270320" y="51037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7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427680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28004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4282920" y="51022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42894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292640" y="51022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299120" y="51022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3020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305240" y="51022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431172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4314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432108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32432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329000" y="510048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433404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4338720" y="5100480"/>
                <a:ext cx="25200" cy="4510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4341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4348080" y="510048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351320" y="51004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3560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361040" y="51004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4363920" y="51004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43704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4373640" y="51004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437976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438156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38480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92720" y="509904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9416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402080" y="509904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440388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4408560" y="509904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4414680" y="509904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44164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4424400" y="509760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442908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44290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443880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4438800" y="509760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4443480" y="509760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4449600" y="509760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4451400" y="509760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4459320" y="50976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4464000" y="50976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4465800" y="509760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447192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76600" y="50976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48164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486320" y="50958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487760" y="509580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449568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44989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4505400" y="509580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450864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45115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451800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52124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452592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53060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45356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45403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454356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45482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45529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4557600" y="50943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456264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456732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457056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4576680" y="5094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457848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458460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4587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592520" y="50925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59756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602240" y="50925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460836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4611600" y="50925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4614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461952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24560" y="5091120"/>
                <a:ext cx="2664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4627440" y="509112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633920" y="509112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637160" y="509112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645080" y="50911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3" y="56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4646520" y="50911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5">
                    <a:moveTo>
                      <a:pt x="0" y="0"/>
                    </a:moveTo>
                    <a:lnTo>
                      <a:pt x="29" y="565"/>
                    </a:lnTo>
                    <a:lnTo>
                      <a:pt x="32" y="56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649760" y="509112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4657680" y="50911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1" y="56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659480" y="50911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4667400" y="5091120"/>
                <a:ext cx="25200" cy="447840"/>
              </a:xfrm>
              <a:custGeom>
                <a:avLst/>
                <a:gdLst/>
                <a:ahLst/>
                <a:rect l="l" t="t" r="r" b="b"/>
                <a:pathLst>
                  <a:path w="31" h="566">
                    <a:moveTo>
                      <a:pt x="0" y="0"/>
                    </a:moveTo>
                    <a:lnTo>
                      <a:pt x="29" y="566"/>
                    </a:lnTo>
                    <a:lnTo>
                      <a:pt x="31" y="566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105440" y="5095800"/>
                <a:ext cx="574560" cy="45576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163" y="11"/>
                    </a:moveTo>
                    <a:lnTo>
                      <a:pt x="0" y="295"/>
                    </a:lnTo>
                    <a:lnTo>
                      <a:pt x="193" y="575"/>
                    </a:lnTo>
                    <a:lnTo>
                      <a:pt x="558" y="563"/>
                    </a:lnTo>
                    <a:lnTo>
                      <a:pt x="723" y="274"/>
                    </a:lnTo>
                    <a:lnTo>
                      <a:pt x="528" y="0"/>
                    </a:lnTo>
                    <a:lnTo>
                      <a:pt x="163" y="11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4106880" y="5197320"/>
                <a:ext cx="468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411156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116240" y="5197320"/>
                <a:ext cx="504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121280" y="5197320"/>
                <a:ext cx="612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4127400" y="5197320"/>
                <a:ext cx="180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412920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4133880" y="5197320"/>
                <a:ext cx="468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4138560" y="5197320"/>
                <a:ext cx="468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414324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4146480" y="5197320"/>
                <a:ext cx="648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4152960" y="5197320"/>
                <a:ext cx="32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41562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16412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16556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1688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4176720" y="5197320"/>
                <a:ext cx="144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417816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4186080" y="5197320"/>
                <a:ext cx="180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4187880" y="5197320"/>
                <a:ext cx="46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19256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41990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20228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203720" y="5197320"/>
                <a:ext cx="936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2130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4213080" y="5197320"/>
                <a:ext cx="972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250920" y="1312920"/>
              <a:ext cx="6414840" cy="4468680"/>
              <a:chOff x="250920" y="1312920"/>
              <a:chExt cx="6414840" cy="4468680"/>
            </a:xfrm>
          </p:grpSpPr>
          <p:sp>
            <p:nvSpPr>
              <p:cNvPr id="10954" name=""/>
              <p:cNvSpPr/>
              <p:nvPr/>
            </p:nvSpPr>
            <p:spPr>
              <a:xfrm>
                <a:off x="4222800" y="5197320"/>
                <a:ext cx="144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4224240" y="5197320"/>
                <a:ext cx="324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22748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4233960" y="5197320"/>
                <a:ext cx="324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4237200" y="5197320"/>
                <a:ext cx="288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24008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248000" y="5197320"/>
                <a:ext cx="180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2498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425772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426096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262400" y="5197320"/>
                <a:ext cx="792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270320" y="5197320"/>
                <a:ext cx="180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72120" y="5197320"/>
                <a:ext cx="792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4280040" y="5197320"/>
                <a:ext cx="288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282920" y="5197320"/>
                <a:ext cx="180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284720" y="5197320"/>
                <a:ext cx="792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29264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29732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4299120" y="5197320"/>
                <a:ext cx="612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3052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4309920" y="5197320"/>
                <a:ext cx="504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31496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4319640" y="5197320"/>
                <a:ext cx="14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4321080" y="5197320"/>
                <a:ext cx="792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329000" y="5197320"/>
                <a:ext cx="324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33224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338720" y="5197320"/>
                <a:ext cx="324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4341960" y="5197320"/>
                <a:ext cx="28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4344840" y="5197320"/>
                <a:ext cx="648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435132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35456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359240" y="5197320"/>
                <a:ext cx="468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363920" y="5197320"/>
                <a:ext cx="504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36896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43736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4376880" y="5197320"/>
                <a:ext cx="288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4379760" y="5197320"/>
                <a:ext cx="648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386240" y="5197320"/>
                <a:ext cx="46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39092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4394160" y="5197320"/>
                <a:ext cx="64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440064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403880" y="5197320"/>
                <a:ext cx="612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41000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4132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441648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4421160" y="5197320"/>
                <a:ext cx="468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4425840" y="5197320"/>
                <a:ext cx="504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443088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443556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4438800" y="5197320"/>
                <a:ext cx="612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444920" y="5197320"/>
                <a:ext cx="46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449600" y="5197320"/>
                <a:ext cx="180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45140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4457880" y="5197320"/>
                <a:ext cx="288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460760" y="5197320"/>
                <a:ext cx="648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4467240" y="5197320"/>
                <a:ext cx="32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447048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4475160" y="5197320"/>
                <a:ext cx="468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4798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4484520" y="5197320"/>
                <a:ext cx="648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49100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49280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497480" y="5197320"/>
                <a:ext cx="468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4502160" y="5197320"/>
                <a:ext cx="468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4506840" y="5197320"/>
                <a:ext cx="324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4510080" y="5197320"/>
                <a:ext cx="648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4516560" y="5197320"/>
                <a:ext cx="288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4519440" y="5197320"/>
                <a:ext cx="828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452772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52916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5324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540320" y="5197320"/>
                <a:ext cx="144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454176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4549680" y="5197320"/>
                <a:ext cx="180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4551480" y="5197320"/>
                <a:ext cx="468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455616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4562640" y="5197320"/>
                <a:ext cx="288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4565520" y="5197320"/>
                <a:ext cx="180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567320" y="5197320"/>
                <a:ext cx="936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5766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576680" y="5197320"/>
                <a:ext cx="972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458640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45878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59108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597560" y="5197320"/>
                <a:ext cx="28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600440" y="5197320"/>
                <a:ext cx="324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60368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611600" y="5197320"/>
                <a:ext cx="180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6134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462132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62456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6260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3920" y="5197320"/>
                <a:ext cx="14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4635360" y="5197320"/>
                <a:ext cx="792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464328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646520" y="5197320"/>
                <a:ext cx="180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4648320" y="5197320"/>
                <a:ext cx="792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65624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660920" y="5197320"/>
                <a:ext cx="144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662360" y="5197320"/>
                <a:ext cx="648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4668840" y="5197320"/>
                <a:ext cx="468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467352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4678200" y="5197320"/>
                <a:ext cx="504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4106880" y="5197320"/>
                <a:ext cx="576360" cy="255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0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 flipH="1">
                <a:off x="2092320" y="1619280"/>
                <a:ext cx="2206800" cy="641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 flipH="1">
                <a:off x="3117960" y="2940120"/>
                <a:ext cx="9093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 flipH="1">
                <a:off x="4673160" y="3176640"/>
                <a:ext cx="9082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 flipH="1">
                <a:off x="3613320" y="3176640"/>
                <a:ext cx="907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 flipH="1">
                <a:off x="5032080" y="567216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31292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6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 flipH="1">
                <a:off x="3665160" y="567864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371808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2" name=""/>
              <p:cNvSpPr/>
              <p:nvPr/>
            </p:nvSpPr>
            <p:spPr>
              <a:xfrm>
                <a:off x="1365120" y="1846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736640" y="1833480"/>
                <a:ext cx="101520" cy="179640"/>
              </a:xfrm>
              <a:custGeom>
                <a:avLst/>
                <a:gdLst/>
                <a:ahLst/>
                <a:rect l="l" t="t" r="r" b="b"/>
                <a:pathLst>
                  <a:path w="130" h="226">
                    <a:moveTo>
                      <a:pt x="87" y="0"/>
                    </a:moveTo>
                    <a:lnTo>
                      <a:pt x="87" y="142"/>
                    </a:lnTo>
                    <a:lnTo>
                      <a:pt x="44" y="142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126"/>
                    </a:moveTo>
                    <a:lnTo>
                      <a:pt x="66" y="226"/>
                    </a:lnTo>
                    <a:lnTo>
                      <a:pt x="0" y="126"/>
                    </a:lnTo>
                    <a:lnTo>
                      <a:pt x="130" y="126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851120" y="2000160"/>
                <a:ext cx="43020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2208240" y="199224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30" h="180">
                    <a:moveTo>
                      <a:pt x="81" y="0"/>
                    </a:moveTo>
                    <a:lnTo>
                      <a:pt x="87" y="96"/>
                    </a:lnTo>
                    <a:lnTo>
                      <a:pt x="44" y="97"/>
                    </a:lnTo>
                    <a:lnTo>
                      <a:pt x="38" y="1"/>
                    </a:lnTo>
                    <a:lnTo>
                      <a:pt x="81" y="0"/>
                    </a:lnTo>
                    <a:close/>
                    <a:moveTo>
                      <a:pt x="130" y="77"/>
                    </a:moveTo>
                    <a:lnTo>
                      <a:pt x="71" y="180"/>
                    </a:lnTo>
                    <a:lnTo>
                      <a:pt x="0" y="81"/>
                    </a:lnTo>
                    <a:lnTo>
                      <a:pt x="130" y="77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 flipV="1">
                <a:off x="3900600" y="1550520"/>
                <a:ext cx="530280" cy="1018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405320" y="1538280"/>
                <a:ext cx="142920" cy="211320"/>
              </a:xfrm>
              <a:custGeom>
                <a:avLst/>
                <a:gdLst/>
                <a:ahLst/>
                <a:rect l="l" t="t" r="r" b="b"/>
                <a:pathLst>
                  <a:path w="181" h="268">
                    <a:moveTo>
                      <a:pt x="40" y="0"/>
                    </a:moveTo>
                    <a:lnTo>
                      <a:pt x="151" y="185"/>
                    </a:lnTo>
                    <a:lnTo>
                      <a:pt x="114" y="199"/>
                    </a:lnTo>
                    <a:lnTo>
                      <a:pt x="0" y="15"/>
                    </a:lnTo>
                    <a:lnTo>
                      <a:pt x="40" y="0"/>
                    </a:lnTo>
                    <a:close/>
                    <a:moveTo>
                      <a:pt x="181" y="155"/>
                    </a:moveTo>
                    <a:lnTo>
                      <a:pt x="179" y="268"/>
                    </a:lnTo>
                    <a:lnTo>
                      <a:pt x="65" y="198"/>
                    </a:lnTo>
                    <a:lnTo>
                      <a:pt x="181" y="15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3800520" y="1955880"/>
                <a:ext cx="522360" cy="612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3759120" y="1968480"/>
                <a:ext cx="101520" cy="276120"/>
              </a:xfrm>
              <a:custGeom>
                <a:avLst/>
                <a:gdLst/>
                <a:ahLst/>
                <a:rect l="l" t="t" r="r" b="b"/>
                <a:pathLst>
                  <a:path w="129" h="349">
                    <a:moveTo>
                      <a:pt x="86" y="0"/>
                    </a:moveTo>
                    <a:lnTo>
                      <a:pt x="86" y="265"/>
                    </a:lnTo>
                    <a:lnTo>
                      <a:pt x="43" y="265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249"/>
                    </a:moveTo>
                    <a:lnTo>
                      <a:pt x="65" y="349"/>
                    </a:lnTo>
                    <a:lnTo>
                      <a:pt x="0" y="249"/>
                    </a:lnTo>
                    <a:lnTo>
                      <a:pt x="1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3776760" y="278604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129" h="202">
                    <a:moveTo>
                      <a:pt x="86" y="0"/>
                    </a:moveTo>
                    <a:lnTo>
                      <a:pt x="86" y="118"/>
                    </a:lnTo>
                    <a:lnTo>
                      <a:pt x="43" y="118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2"/>
                    </a:moveTo>
                    <a:lnTo>
                      <a:pt x="65" y="202"/>
                    </a:lnTo>
                    <a:lnTo>
                      <a:pt x="0" y="102"/>
                    </a:lnTo>
                    <a:lnTo>
                      <a:pt x="129" y="102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 flipH="1">
                <a:off x="3242880" y="1652760"/>
                <a:ext cx="9720" cy="12682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3243240" y="2863800"/>
                <a:ext cx="306360" cy="79560"/>
              </a:xfrm>
              <a:custGeom>
                <a:avLst/>
                <a:gdLst/>
                <a:ahLst/>
                <a:rect l="l" t="t" r="r" b="b"/>
                <a:pathLst>
                  <a:path w="385" h="100">
                    <a:moveTo>
                      <a:pt x="383" y="72"/>
                    </a:moveTo>
                    <a:lnTo>
                      <a:pt x="106" y="67"/>
                    </a:lnTo>
                    <a:lnTo>
                      <a:pt x="106" y="33"/>
                    </a:lnTo>
                    <a:lnTo>
                      <a:pt x="385" y="39"/>
                    </a:lnTo>
                    <a:lnTo>
                      <a:pt x="383" y="72"/>
                    </a:lnTo>
                    <a:close/>
                    <a:moveTo>
                      <a:pt x="127" y="100"/>
                    </a:moveTo>
                    <a:lnTo>
                      <a:pt x="0" y="48"/>
                    </a:lnTo>
                    <a:lnTo>
                      <a:pt x="130" y="0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3235320" y="1658880"/>
                <a:ext cx="341280" cy="138240"/>
              </a:xfrm>
              <a:custGeom>
                <a:avLst/>
                <a:gdLst/>
                <a:ahLst/>
                <a:rect l="l" t="t" r="r" b="b"/>
                <a:pathLst>
                  <a:path w="431" h="172">
                    <a:moveTo>
                      <a:pt x="19" y="0"/>
                    </a:moveTo>
                    <a:lnTo>
                      <a:pt x="341" y="119"/>
                    </a:lnTo>
                    <a:lnTo>
                      <a:pt x="324" y="14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341" y="81"/>
                    </a:moveTo>
                    <a:lnTo>
                      <a:pt x="431" y="170"/>
                    </a:lnTo>
                    <a:lnTo>
                      <a:pt x="286" y="172"/>
                    </a:lnTo>
                    <a:lnTo>
                      <a:pt x="341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2536920" y="1908000"/>
                <a:ext cx="428400" cy="125640"/>
              </a:xfrm>
              <a:custGeom>
                <a:avLst/>
                <a:gdLst/>
                <a:ahLst/>
                <a:rect l="l" t="t" r="r" b="b"/>
                <a:pathLst>
                  <a:path w="539" h="158">
                    <a:moveTo>
                      <a:pt x="0" y="125"/>
                    </a:moveTo>
                    <a:lnTo>
                      <a:pt x="429" y="27"/>
                    </a:lnTo>
                    <a:lnTo>
                      <a:pt x="441" y="59"/>
                    </a:lnTo>
                    <a:lnTo>
                      <a:pt x="12" y="158"/>
                    </a:lnTo>
                    <a:lnTo>
                      <a:pt x="0" y="125"/>
                    </a:lnTo>
                    <a:close/>
                    <a:moveTo>
                      <a:pt x="396" y="0"/>
                    </a:moveTo>
                    <a:lnTo>
                      <a:pt x="539" y="20"/>
                    </a:lnTo>
                    <a:lnTo>
                      <a:pt x="433" y="9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4702320" y="2103480"/>
                <a:ext cx="101520" cy="1066680"/>
              </a:xfrm>
              <a:custGeom>
                <a:avLst/>
                <a:gdLst/>
                <a:ahLst/>
                <a:rect l="l" t="t" r="r" b="b"/>
                <a:pathLst>
                  <a:path w="129" h="1345">
                    <a:moveTo>
                      <a:pt x="86" y="0"/>
                    </a:moveTo>
                    <a:lnTo>
                      <a:pt x="86" y="1261"/>
                    </a:lnTo>
                    <a:lnTo>
                      <a:pt x="43" y="1261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44"/>
                    </a:moveTo>
                    <a:lnTo>
                      <a:pt x="65" y="1345"/>
                    </a:lnTo>
                    <a:lnTo>
                      <a:pt x="0" y="1244"/>
                    </a:lnTo>
                    <a:lnTo>
                      <a:pt x="129" y="1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4341960" y="2136600"/>
                <a:ext cx="102960" cy="1033560"/>
              </a:xfrm>
              <a:custGeom>
                <a:avLst/>
                <a:gdLst/>
                <a:ahLst/>
                <a:rect l="l" t="t" r="r" b="b"/>
                <a:pathLst>
                  <a:path w="129" h="1304">
                    <a:moveTo>
                      <a:pt x="86" y="0"/>
                    </a:moveTo>
                    <a:lnTo>
                      <a:pt x="86" y="1220"/>
                    </a:lnTo>
                    <a:lnTo>
                      <a:pt x="43" y="1220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03"/>
                    </a:moveTo>
                    <a:lnTo>
                      <a:pt x="65" y="1304"/>
                    </a:lnTo>
                    <a:lnTo>
                      <a:pt x="0" y="1203"/>
                    </a:lnTo>
                    <a:lnTo>
                      <a:pt x="129" y="1203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 flipH="1">
                <a:off x="2703600" y="4368960"/>
                <a:ext cx="2101680" cy="826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1238400" y="4251240"/>
                <a:ext cx="43164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1595520" y="42372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81" y="0"/>
                    </a:moveTo>
                    <a:lnTo>
                      <a:pt x="88" y="87"/>
                    </a:lnTo>
                    <a:lnTo>
                      <a:pt x="45" y="89"/>
                    </a:lnTo>
                    <a:lnTo>
                      <a:pt x="38" y="2"/>
                    </a:lnTo>
                    <a:lnTo>
                      <a:pt x="81" y="0"/>
                    </a:lnTo>
                    <a:close/>
                    <a:moveTo>
                      <a:pt x="129" y="69"/>
                    </a:moveTo>
                    <a:lnTo>
                      <a:pt x="72" y="172"/>
                    </a:lnTo>
                    <a:lnTo>
                      <a:pt x="0" y="74"/>
                    </a:lnTo>
                    <a:lnTo>
                      <a:pt x="129" y="6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1768320" y="432288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2131920" y="431640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5"/>
                    </a:moveTo>
                    <a:lnTo>
                      <a:pt x="65" y="276"/>
                    </a:lnTo>
                    <a:lnTo>
                      <a:pt x="0" y="175"/>
                    </a:lnTo>
                    <a:lnTo>
                      <a:pt x="129" y="17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2181240" y="4757760"/>
                <a:ext cx="101520" cy="220680"/>
              </a:xfrm>
              <a:custGeom>
                <a:avLst/>
                <a:gdLst/>
                <a:ahLst/>
                <a:rect l="l" t="t" r="r" b="b"/>
                <a:pathLst>
                  <a:path w="129" h="277">
                    <a:moveTo>
                      <a:pt x="93" y="1"/>
                    </a:moveTo>
                    <a:lnTo>
                      <a:pt x="84" y="194"/>
                    </a:lnTo>
                    <a:lnTo>
                      <a:pt x="41" y="192"/>
                    </a:lnTo>
                    <a:lnTo>
                      <a:pt x="50" y="0"/>
                    </a:lnTo>
                    <a:lnTo>
                      <a:pt x="93" y="1"/>
                    </a:lnTo>
                    <a:close/>
                    <a:moveTo>
                      <a:pt x="129" y="178"/>
                    </a:moveTo>
                    <a:lnTo>
                      <a:pt x="60" y="277"/>
                    </a:lnTo>
                    <a:lnTo>
                      <a:pt x="0" y="174"/>
                    </a:lnTo>
                    <a:lnTo>
                      <a:pt x="129" y="17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 flipH="1">
                <a:off x="1750680" y="501660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2425680" y="4951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2784600" y="495000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90" y="1"/>
                    </a:moveTo>
                    <a:lnTo>
                      <a:pt x="84" y="97"/>
                    </a:lnTo>
                    <a:lnTo>
                      <a:pt x="41" y="96"/>
                    </a:lnTo>
                    <a:lnTo>
                      <a:pt x="47" y="0"/>
                    </a:lnTo>
                    <a:lnTo>
                      <a:pt x="90" y="1"/>
                    </a:lnTo>
                    <a:close/>
                    <a:moveTo>
                      <a:pt x="127" y="81"/>
                    </a:moveTo>
                    <a:lnTo>
                      <a:pt x="59" y="180"/>
                    </a:lnTo>
                    <a:lnTo>
                      <a:pt x="0" y="77"/>
                    </a:lnTo>
                    <a:lnTo>
                      <a:pt x="127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3129120" y="4729320"/>
                <a:ext cx="536400" cy="201600"/>
              </a:xfrm>
              <a:custGeom>
                <a:avLst/>
                <a:gdLst/>
                <a:ahLst/>
                <a:rect l="l" t="t" r="r" b="b"/>
                <a:pathLst>
                  <a:path w="677" h="254">
                    <a:moveTo>
                      <a:pt x="0" y="223"/>
                    </a:moveTo>
                    <a:lnTo>
                      <a:pt x="570" y="22"/>
                    </a:lnTo>
                    <a:lnTo>
                      <a:pt x="587" y="53"/>
                    </a:lnTo>
                    <a:lnTo>
                      <a:pt x="19" y="254"/>
                    </a:lnTo>
                    <a:lnTo>
                      <a:pt x="0" y="223"/>
                    </a:lnTo>
                    <a:close/>
                    <a:moveTo>
                      <a:pt x="532" y="0"/>
                    </a:moveTo>
                    <a:lnTo>
                      <a:pt x="677" y="4"/>
                    </a:lnTo>
                    <a:lnTo>
                      <a:pt x="585" y="91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 flipV="1">
                <a:off x="4457880" y="4302000"/>
                <a:ext cx="404640" cy="136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4840200" y="4287960"/>
                <a:ext cx="282600" cy="284040"/>
              </a:xfrm>
              <a:custGeom>
                <a:avLst/>
                <a:gdLst/>
                <a:ahLst/>
                <a:rect l="l" t="t" r="r" b="b"/>
                <a:pathLst>
                  <a:path w="357" h="360">
                    <a:moveTo>
                      <a:pt x="35" y="0"/>
                    </a:moveTo>
                    <a:lnTo>
                      <a:pt x="309" y="282"/>
                    </a:lnTo>
                    <a:lnTo>
                      <a:pt x="274" y="302"/>
                    </a:lnTo>
                    <a:lnTo>
                      <a:pt x="0" y="20"/>
                    </a:lnTo>
                    <a:lnTo>
                      <a:pt x="35" y="0"/>
                    </a:lnTo>
                    <a:close/>
                    <a:moveTo>
                      <a:pt x="329" y="249"/>
                    </a:moveTo>
                    <a:lnTo>
                      <a:pt x="357" y="360"/>
                    </a:lnTo>
                    <a:lnTo>
                      <a:pt x="228" y="309"/>
                    </a:lnTo>
                    <a:lnTo>
                      <a:pt x="3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195880" y="4875120"/>
                <a:ext cx="103320" cy="765360"/>
              </a:xfrm>
              <a:custGeom>
                <a:avLst/>
                <a:gdLst/>
                <a:ahLst/>
                <a:rect l="l" t="t" r="r" b="b"/>
                <a:pathLst>
                  <a:path w="129" h="964">
                    <a:moveTo>
                      <a:pt x="76" y="0"/>
                    </a:moveTo>
                    <a:lnTo>
                      <a:pt x="86" y="880"/>
                    </a:lnTo>
                    <a:lnTo>
                      <a:pt x="43" y="880"/>
                    </a:lnTo>
                    <a:lnTo>
                      <a:pt x="33" y="0"/>
                    </a:lnTo>
                    <a:lnTo>
                      <a:pt x="76" y="0"/>
                    </a:lnTo>
                    <a:close/>
                    <a:moveTo>
                      <a:pt x="129" y="862"/>
                    </a:moveTo>
                    <a:lnTo>
                      <a:pt x="65" y="964"/>
                    </a:lnTo>
                    <a:lnTo>
                      <a:pt x="0" y="864"/>
                    </a:lnTo>
                    <a:lnTo>
                      <a:pt x="129" y="8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341960" y="551016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129" h="203">
                    <a:moveTo>
                      <a:pt x="86" y="0"/>
                    </a:moveTo>
                    <a:lnTo>
                      <a:pt x="86" y="119"/>
                    </a:lnTo>
                    <a:lnTo>
                      <a:pt x="43" y="119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3"/>
                    </a:moveTo>
                    <a:lnTo>
                      <a:pt x="65" y="203"/>
                    </a:lnTo>
                    <a:lnTo>
                      <a:pt x="0" y="103"/>
                    </a:lnTo>
                    <a:lnTo>
                      <a:pt x="129" y="103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 flipH="1">
                <a:off x="3792600" y="4527720"/>
                <a:ext cx="7920" cy="11318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3774960" y="4508640"/>
                <a:ext cx="277920" cy="11088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9" y="0"/>
                    </a:moveTo>
                    <a:lnTo>
                      <a:pt x="260" y="87"/>
                    </a:lnTo>
                    <a:lnTo>
                      <a:pt x="243" y="11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259" y="50"/>
                    </a:moveTo>
                    <a:lnTo>
                      <a:pt x="350" y="138"/>
                    </a:lnTo>
                    <a:lnTo>
                      <a:pt x="205" y="141"/>
                    </a:lnTo>
                    <a:lnTo>
                      <a:pt x="259" y="5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4278240" y="4797360"/>
                <a:ext cx="520920" cy="64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4235400" y="4784760"/>
                <a:ext cx="103320" cy="276120"/>
              </a:xfrm>
              <a:custGeom>
                <a:avLst/>
                <a:gdLst/>
                <a:ahLst/>
                <a:rect l="l" t="t" r="r" b="b"/>
                <a:pathLst>
                  <a:path w="130" h="348">
                    <a:moveTo>
                      <a:pt x="87" y="0"/>
                    </a:moveTo>
                    <a:lnTo>
                      <a:pt x="87" y="264"/>
                    </a:lnTo>
                    <a:lnTo>
                      <a:pt x="44" y="264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248"/>
                    </a:moveTo>
                    <a:lnTo>
                      <a:pt x="66" y="348"/>
                    </a:lnTo>
                    <a:lnTo>
                      <a:pt x="0" y="248"/>
                    </a:lnTo>
                    <a:lnTo>
                      <a:pt x="130" y="24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513480" y="3313080"/>
                <a:ext cx="1522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513480" y="3311640"/>
                <a:ext cx="15228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6513480" y="3308400"/>
                <a:ext cx="1522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513480" y="330516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6513480" y="3301920"/>
                <a:ext cx="152280" cy="180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6513480" y="3298680"/>
                <a:ext cx="152280" cy="50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6513480" y="3297240"/>
                <a:ext cx="15228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6513480" y="3295800"/>
                <a:ext cx="15228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6513480" y="3290760"/>
                <a:ext cx="1522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6513480" y="328608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6513480" y="328608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6513480" y="3281400"/>
                <a:ext cx="15228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6513480" y="3278160"/>
                <a:ext cx="15228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6513480" y="327672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6513480" y="3273480"/>
                <a:ext cx="1522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513480" y="3270240"/>
                <a:ext cx="1522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513480" y="3267000"/>
                <a:ext cx="15228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513480" y="326376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513480" y="3260880"/>
                <a:ext cx="15228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513480" y="325764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513480" y="3254400"/>
                <a:ext cx="15228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154" name=""/>
            <p:cNvGrpSpPr/>
            <p:nvPr/>
          </p:nvGrpSpPr>
          <p:grpSpPr>
            <a:xfrm>
              <a:off x="6513480" y="2938320"/>
              <a:ext cx="779400" cy="378000"/>
              <a:chOff x="6513480" y="2938320"/>
              <a:chExt cx="779400" cy="378000"/>
            </a:xfrm>
          </p:grpSpPr>
          <p:sp>
            <p:nvSpPr>
              <p:cNvPr id="11155" name=""/>
              <p:cNvSpPr/>
              <p:nvPr/>
            </p:nvSpPr>
            <p:spPr>
              <a:xfrm>
                <a:off x="6513480" y="3254400"/>
                <a:ext cx="15228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513480" y="324972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513480" y="3246480"/>
                <a:ext cx="15228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13480" y="3244680"/>
                <a:ext cx="15228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13480" y="3240000"/>
                <a:ext cx="1522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13480" y="323676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13480" y="3233880"/>
                <a:ext cx="15228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13480" y="3230640"/>
                <a:ext cx="15228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513480" y="3227400"/>
                <a:ext cx="15228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13480" y="322596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513480" y="3220920"/>
                <a:ext cx="1522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513480" y="3218040"/>
                <a:ext cx="1522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513480" y="3218040"/>
                <a:ext cx="15228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513480" y="32130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513480" y="320976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513480" y="320832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13480" y="320508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513480" y="3200400"/>
                <a:ext cx="1522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513480" y="3198960"/>
                <a:ext cx="152280" cy="288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513480" y="319572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513480" y="3192480"/>
                <a:ext cx="1522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513480" y="3189240"/>
                <a:ext cx="1522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513480" y="3186000"/>
                <a:ext cx="1522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513480" y="3184560"/>
                <a:ext cx="1522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513480" y="3182760"/>
                <a:ext cx="15228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513480" y="3178080"/>
                <a:ext cx="15228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513480" y="3176640"/>
                <a:ext cx="15228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513480" y="317340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513480" y="316872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513480" y="3166920"/>
                <a:ext cx="1522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513480" y="3164040"/>
                <a:ext cx="152280" cy="28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513480" y="3159000"/>
                <a:ext cx="1522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513480" y="3157560"/>
                <a:ext cx="1522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513480" y="3154320"/>
                <a:ext cx="1522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513480" y="315108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513480" y="314784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6513480" y="3144960"/>
                <a:ext cx="1522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6513480" y="3141720"/>
                <a:ext cx="15228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6513480" y="3141720"/>
                <a:ext cx="15228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513480" y="3137040"/>
                <a:ext cx="15228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513480" y="3133800"/>
                <a:ext cx="1522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513480" y="3132000"/>
                <a:ext cx="1522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513480" y="312732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6513480" y="3124080"/>
                <a:ext cx="15228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6513480" y="3122640"/>
                <a:ext cx="1522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6513480" y="311940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513480" y="31147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513480" y="31129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513480" y="3110040"/>
                <a:ext cx="152280" cy="28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6513480" y="3106800"/>
                <a:ext cx="1522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513480" y="310500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513480" y="310032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6513480" y="3097080"/>
                <a:ext cx="15228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6513480" y="3095640"/>
                <a:ext cx="1522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6513480" y="3092400"/>
                <a:ext cx="152280" cy="46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6513480" y="3087720"/>
                <a:ext cx="1522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6513480" y="3087720"/>
                <a:ext cx="152280" cy="14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513480" y="308304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6513480" y="308124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6513480" y="3078000"/>
                <a:ext cx="152280" cy="32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6513480" y="3073320"/>
                <a:ext cx="15228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6513480" y="3071880"/>
                <a:ext cx="1522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13480" y="3070080"/>
                <a:ext cx="152280" cy="180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513480" y="3065400"/>
                <a:ext cx="15228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513480" y="3063960"/>
                <a:ext cx="15228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6513480" y="3059280"/>
                <a:ext cx="15228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6513480" y="305604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6513480" y="3056040"/>
                <a:ext cx="15228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6513480" y="3051000"/>
                <a:ext cx="1522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6513480" y="304632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6513480" y="304488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6513480" y="304164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6513480" y="30384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6513480" y="3035160"/>
                <a:ext cx="152280" cy="180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6513480" y="3032280"/>
                <a:ext cx="1522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6513480" y="3030480"/>
                <a:ext cx="152280" cy="180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6513480" y="302904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513480" y="3024360"/>
                <a:ext cx="1522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513480" y="3019320"/>
                <a:ext cx="1522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6513480" y="3019320"/>
                <a:ext cx="152280" cy="180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513480" y="301464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13480" y="3011400"/>
                <a:ext cx="1522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6513480" y="3009960"/>
                <a:ext cx="15228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6513480" y="3006720"/>
                <a:ext cx="1522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513480" y="300204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6513480" y="3000240"/>
                <a:ext cx="1522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513480" y="2997360"/>
                <a:ext cx="152280" cy="28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6513480" y="299412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6513480" y="2992320"/>
                <a:ext cx="15228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513480" y="298764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513480" y="2987640"/>
                <a:ext cx="152280" cy="180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6513480" y="2982960"/>
                <a:ext cx="15228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6513480" y="2979720"/>
                <a:ext cx="15228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6513480" y="297828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6513480" y="2973240"/>
                <a:ext cx="152280" cy="324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6513480" y="2970360"/>
                <a:ext cx="152280" cy="46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6513480" y="296856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6513480" y="296532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6513480" y="2960640"/>
                <a:ext cx="152280" cy="32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6513480" y="2959200"/>
                <a:ext cx="15228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6513480" y="2957400"/>
                <a:ext cx="15228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6513480" y="2952720"/>
                <a:ext cx="1522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513480" y="2951280"/>
                <a:ext cx="152280" cy="14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6513480" y="294624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513480" y="2943360"/>
                <a:ext cx="1522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6513480" y="2941560"/>
                <a:ext cx="152280" cy="180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6513480" y="2938320"/>
                <a:ext cx="1522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513480" y="2940120"/>
                <a:ext cx="149400" cy="376200"/>
              </a:xfrm>
              <a:custGeom>
                <a:avLst/>
                <a:gdLst/>
                <a:ahLst/>
                <a:rect l="l" t="t" r="r" b="b"/>
                <a:pathLst>
                  <a:path w="187" h="475">
                    <a:moveTo>
                      <a:pt x="0" y="240"/>
                    </a:moveTo>
                    <a:lnTo>
                      <a:pt x="94" y="475"/>
                    </a:lnTo>
                    <a:lnTo>
                      <a:pt x="187" y="240"/>
                    </a:lnTo>
                    <a:lnTo>
                      <a:pt x="94" y="0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7121520" y="3270240"/>
                <a:ext cx="171360" cy="14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7121520" y="3267000"/>
                <a:ext cx="1713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7121520" y="3263760"/>
                <a:ext cx="17136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7121520" y="3262320"/>
                <a:ext cx="1713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7121520" y="3259080"/>
                <a:ext cx="17136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121520" y="3257640"/>
                <a:ext cx="171360" cy="14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121520" y="325584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7121520" y="3251160"/>
                <a:ext cx="17136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7121520" y="3251160"/>
                <a:ext cx="17136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7121520" y="324972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7121520" y="3244680"/>
                <a:ext cx="17136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7121520" y="3243240"/>
                <a:ext cx="1713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7121520" y="3241800"/>
                <a:ext cx="171360" cy="28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121520" y="3236760"/>
                <a:ext cx="171360" cy="50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7121520" y="3235320"/>
                <a:ext cx="171360" cy="14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7121520" y="3233880"/>
                <a:ext cx="171360" cy="28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7121520" y="323064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7121520" y="3228840"/>
                <a:ext cx="17136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7121520" y="3227400"/>
                <a:ext cx="17136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7121520" y="3222720"/>
                <a:ext cx="1713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121520" y="3220920"/>
                <a:ext cx="17136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7121520" y="32194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7121520" y="3216240"/>
                <a:ext cx="1713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7121520" y="3214800"/>
                <a:ext cx="1713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121520" y="3213000"/>
                <a:ext cx="17136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7121520" y="3208320"/>
                <a:ext cx="171360" cy="32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7121520" y="3208320"/>
                <a:ext cx="171360" cy="14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121520" y="3205080"/>
                <a:ext cx="17136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1520" y="320184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121520" y="3200400"/>
                <a:ext cx="1713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7121520" y="319896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7121520" y="3195720"/>
                <a:ext cx="17136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121520" y="3192480"/>
                <a:ext cx="1713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7121520" y="319104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121520" y="3189240"/>
                <a:ext cx="171360" cy="180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7121520" y="3186000"/>
                <a:ext cx="1713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7121520" y="3184560"/>
                <a:ext cx="1713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7121520" y="318276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7121520" y="3179880"/>
                <a:ext cx="171360" cy="28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7121520" y="3171960"/>
                <a:ext cx="17136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7121520" y="3170160"/>
                <a:ext cx="1713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7121520" y="3168720"/>
                <a:ext cx="17136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7121520" y="316404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7121520" y="3162240"/>
                <a:ext cx="17136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7121520" y="3160800"/>
                <a:ext cx="17136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121520" y="3157560"/>
                <a:ext cx="1713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7121520" y="3156120"/>
                <a:ext cx="171360" cy="14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7121520" y="315432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7121520" y="3151080"/>
                <a:ext cx="1713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7121520" y="3149640"/>
                <a:ext cx="17136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121520" y="3147840"/>
                <a:ext cx="1713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7121520" y="3143160"/>
                <a:ext cx="1713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7121520" y="3141720"/>
                <a:ext cx="1713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7121520" y="3139920"/>
                <a:ext cx="1713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7121520" y="3135240"/>
                <a:ext cx="1713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121520" y="3135240"/>
                <a:ext cx="17136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21520" y="3132000"/>
                <a:ext cx="17136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7121520" y="3129120"/>
                <a:ext cx="1713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121520" y="3127320"/>
                <a:ext cx="1713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7121520" y="312588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121520" y="3121200"/>
                <a:ext cx="1713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121520" y="311940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7121520" y="311796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121520" y="31147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121520" y="31129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121520" y="3111480"/>
                <a:ext cx="1713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121520" y="3108240"/>
                <a:ext cx="1713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121520" y="3106800"/>
                <a:ext cx="17136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121520" y="3103560"/>
                <a:ext cx="171360" cy="14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121520" y="3100320"/>
                <a:ext cx="171360" cy="46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121520" y="3098880"/>
                <a:ext cx="17136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121520" y="3097080"/>
                <a:ext cx="17136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121520" y="3094200"/>
                <a:ext cx="17136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121520" y="3090960"/>
                <a:ext cx="1713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121520" y="3089160"/>
                <a:ext cx="171360" cy="180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121520" y="3086280"/>
                <a:ext cx="171360" cy="28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121520" y="3079800"/>
                <a:ext cx="17136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121520" y="3078000"/>
                <a:ext cx="17136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121520" y="3076560"/>
                <a:ext cx="17136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121520" y="307188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121520" y="3070080"/>
                <a:ext cx="17136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121520" y="3068640"/>
                <a:ext cx="1713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121520" y="3065400"/>
                <a:ext cx="1713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121520" y="3057480"/>
                <a:ext cx="171360" cy="324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121520" y="305604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121520" y="3054240"/>
                <a:ext cx="1713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355" name=""/>
            <p:cNvGrpSpPr/>
            <p:nvPr/>
          </p:nvGrpSpPr>
          <p:grpSpPr>
            <a:xfrm>
              <a:off x="6475320" y="2968560"/>
              <a:ext cx="817560" cy="333360"/>
              <a:chOff x="6475320" y="2968560"/>
              <a:chExt cx="817560" cy="333360"/>
            </a:xfrm>
          </p:grpSpPr>
          <p:sp>
            <p:nvSpPr>
              <p:cNvPr id="11356" name=""/>
              <p:cNvSpPr/>
              <p:nvPr/>
            </p:nvSpPr>
            <p:spPr>
              <a:xfrm>
                <a:off x="7121520" y="3052800"/>
                <a:ext cx="17136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121520" y="3049560"/>
                <a:ext cx="1713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121520" y="304812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121520" y="3044880"/>
                <a:ext cx="17136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121520" y="3041640"/>
                <a:ext cx="17136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121520" y="304020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121520" y="3038400"/>
                <a:ext cx="171360" cy="180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121520" y="303516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121520" y="3032280"/>
                <a:ext cx="17136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121520" y="3030480"/>
                <a:ext cx="17136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121520" y="3027240"/>
                <a:ext cx="171360" cy="50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121520" y="3025800"/>
                <a:ext cx="17136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121520" y="3022560"/>
                <a:ext cx="171360" cy="180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121520" y="3019320"/>
                <a:ext cx="171360" cy="50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121520" y="30178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121520" y="3016080"/>
                <a:ext cx="17136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121520" y="3013200"/>
                <a:ext cx="17136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121520" y="3011400"/>
                <a:ext cx="17136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121520" y="3009960"/>
                <a:ext cx="17136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121520" y="300672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121520" y="2998800"/>
                <a:ext cx="1713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121520" y="2997360"/>
                <a:ext cx="17136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121520" y="2995560"/>
                <a:ext cx="1713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121520" y="2990880"/>
                <a:ext cx="1713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121520" y="298944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121520" y="2987640"/>
                <a:ext cx="17136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121520" y="2986200"/>
                <a:ext cx="17136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121520" y="298440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121520" y="2981160"/>
                <a:ext cx="17136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121520" y="2978280"/>
                <a:ext cx="171360" cy="28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121520" y="2976480"/>
                <a:ext cx="17136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121520" y="2975040"/>
                <a:ext cx="171360" cy="14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121520" y="2970360"/>
                <a:ext cx="17136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121520" y="2968560"/>
                <a:ext cx="17136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121520" y="2970360"/>
                <a:ext cx="169920" cy="299880"/>
              </a:xfrm>
              <a:custGeom>
                <a:avLst/>
                <a:gdLst/>
                <a:ahLst/>
                <a:rect l="l" t="t" r="r" b="b"/>
                <a:pathLst>
                  <a:path w="213" h="378">
                    <a:moveTo>
                      <a:pt x="0" y="190"/>
                    </a:moveTo>
                    <a:lnTo>
                      <a:pt x="105" y="378"/>
                    </a:lnTo>
                    <a:lnTo>
                      <a:pt x="213" y="190"/>
                    </a:lnTo>
                    <a:lnTo>
                      <a:pt x="105" y="0"/>
                    </a:lnTo>
                    <a:lnTo>
                      <a:pt x="0" y="19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6475320" y="3193920"/>
                <a:ext cx="55800" cy="180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6475320" y="3189240"/>
                <a:ext cx="5580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6475320" y="3187800"/>
                <a:ext cx="5580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6475320" y="318456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6475320" y="318276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475320" y="3179880"/>
                <a:ext cx="55800" cy="46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475320" y="3178080"/>
                <a:ext cx="5580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6475320" y="3176640"/>
                <a:ext cx="5580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6475320" y="3173400"/>
                <a:ext cx="5580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475320" y="3170160"/>
                <a:ext cx="55800" cy="32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6475320" y="31669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6475320" y="316548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6475320" y="3164040"/>
                <a:ext cx="558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475320" y="3160800"/>
                <a:ext cx="5580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6475320" y="3157560"/>
                <a:ext cx="55800" cy="32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6475320" y="3156120"/>
                <a:ext cx="5580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475320" y="315432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6475320" y="314964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6475320" y="3147840"/>
                <a:ext cx="558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6475320" y="3144960"/>
                <a:ext cx="55800" cy="28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6475320" y="3143160"/>
                <a:ext cx="5580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6475320" y="3139920"/>
                <a:ext cx="5580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6475320" y="313848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75320" y="3137040"/>
                <a:ext cx="558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6475320" y="3132000"/>
                <a:ext cx="5580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6475320" y="313056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6475320" y="3127320"/>
                <a:ext cx="55800" cy="46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6475320" y="3125880"/>
                <a:ext cx="5580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6475320" y="3122640"/>
                <a:ext cx="55800" cy="32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475320" y="3121200"/>
                <a:ext cx="5580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475320" y="311616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6475320" y="311616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6475320" y="3112920"/>
                <a:ext cx="558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475320" y="3110040"/>
                <a:ext cx="5580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6475320" y="3108240"/>
                <a:ext cx="55800" cy="180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475320" y="3103560"/>
                <a:ext cx="55800" cy="32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6475320" y="310356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6475320" y="31003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6475320" y="3092400"/>
                <a:ext cx="55800" cy="46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475320" y="3090960"/>
                <a:ext cx="5580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475320" y="3087720"/>
                <a:ext cx="558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475320" y="308448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475320" y="308124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6475320" y="3081240"/>
                <a:ext cx="5580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6475320" y="3076560"/>
                <a:ext cx="5580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6475320" y="3075120"/>
                <a:ext cx="558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6475320" y="3076560"/>
                <a:ext cx="55800" cy="120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627960" y="329868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627960" y="3295800"/>
                <a:ext cx="5126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6627960" y="329256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6627960" y="3292560"/>
                <a:ext cx="5126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6627960" y="3287880"/>
                <a:ext cx="51264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6627960" y="3284640"/>
                <a:ext cx="51264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27960" y="3282840"/>
                <a:ext cx="51264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627960" y="32796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6627960" y="327816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627960" y="327492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6627960" y="327024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627960" y="327024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6627960" y="32670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627960" y="3262320"/>
                <a:ext cx="5126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6627960" y="3260880"/>
                <a:ext cx="512640" cy="288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6627960" y="3259080"/>
                <a:ext cx="512640" cy="180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6627960" y="325764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6627960" y="32529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6627960" y="324972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6627960" y="3247920"/>
                <a:ext cx="51264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6627960" y="324468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6627960" y="3243240"/>
                <a:ext cx="51264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6627960" y="323856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6627960" y="3235320"/>
                <a:ext cx="5126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627960" y="3233880"/>
                <a:ext cx="51264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6627960" y="323064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6627960" y="322884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627960" y="322416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6627960" y="3220920"/>
                <a:ext cx="512640" cy="50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6627960" y="3218040"/>
                <a:ext cx="5126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6627960" y="3214800"/>
                <a:ext cx="5126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6627960" y="3211560"/>
                <a:ext cx="512640" cy="324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627960" y="320832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6627960" y="3206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6627960" y="3203640"/>
                <a:ext cx="5126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627960" y="3198960"/>
                <a:ext cx="512640" cy="28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627960" y="319896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627960" y="3195720"/>
                <a:ext cx="5126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6627960" y="3193920"/>
                <a:ext cx="512640" cy="180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6627960" y="3189240"/>
                <a:ext cx="512640" cy="46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6627960" y="31860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6627960" y="318456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6627960" y="3182760"/>
                <a:ext cx="51264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6627960" y="3179880"/>
                <a:ext cx="512640" cy="28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6627960" y="3176640"/>
                <a:ext cx="51264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6627960" y="3173400"/>
                <a:ext cx="5126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627960" y="317016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6627960" y="316692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6627960" y="3166920"/>
                <a:ext cx="51264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6627960" y="316224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6627960" y="3159000"/>
                <a:ext cx="51264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6627960" y="3154320"/>
                <a:ext cx="5126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6627960" y="315108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627960" y="3149640"/>
                <a:ext cx="5126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6627960" y="3144960"/>
                <a:ext cx="51264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627960" y="3144960"/>
                <a:ext cx="512640" cy="14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627960" y="3141720"/>
                <a:ext cx="5126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627960" y="3137040"/>
                <a:ext cx="51264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6627960" y="313524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6627960" y="313380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6627960" y="3132000"/>
                <a:ext cx="51264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6627960" y="3127320"/>
                <a:ext cx="5126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6627960" y="312264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627960" y="312264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6627960" y="311940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6627960" y="3117960"/>
                <a:ext cx="5126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6627960" y="311292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627960" y="3110040"/>
                <a:ext cx="51264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6627960" y="3108240"/>
                <a:ext cx="51264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627960" y="3105000"/>
                <a:ext cx="5126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6627960" y="3103560"/>
                <a:ext cx="5126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6627960" y="310032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627960" y="3097080"/>
                <a:ext cx="51264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6627960" y="3094200"/>
                <a:ext cx="512640" cy="14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6627960" y="3090960"/>
                <a:ext cx="51264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6627960" y="308772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627960" y="3087720"/>
                <a:ext cx="51264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6627960" y="308304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627960" y="308124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6627960" y="3078000"/>
                <a:ext cx="512640" cy="50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6627960" y="3075120"/>
                <a:ext cx="512640" cy="28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6627960" y="3073320"/>
                <a:ext cx="512640" cy="180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27960" y="3068640"/>
                <a:ext cx="5126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627960" y="306864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6627960" y="30654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6627960" y="3060720"/>
                <a:ext cx="5126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627960" y="3059280"/>
                <a:ext cx="51264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627960" y="3057480"/>
                <a:ext cx="512640" cy="180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27960" y="305604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6627960" y="3051000"/>
                <a:ext cx="512640" cy="50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6627960" y="3046320"/>
                <a:ext cx="51264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6627960" y="3044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627960" y="304164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6627960" y="3041640"/>
                <a:ext cx="512640" cy="14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27960" y="3036960"/>
                <a:ext cx="51264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6627960" y="3033720"/>
                <a:ext cx="51264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6627960" y="3032280"/>
                <a:ext cx="5126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627960" y="3029040"/>
                <a:ext cx="51264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6627960" y="302580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627960" y="302256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627960" y="301932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6627960" y="3019320"/>
                <a:ext cx="512640" cy="180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6627960" y="3016080"/>
                <a:ext cx="51264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6627960" y="301140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6627960" y="3009960"/>
                <a:ext cx="5126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627960" y="300672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6627960" y="3005280"/>
                <a:ext cx="512640" cy="14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6627960" y="300204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6627960" y="29973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6627960" y="299736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6627960" y="2994120"/>
                <a:ext cx="51264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6627960" y="2992320"/>
                <a:ext cx="51264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6627960" y="2987640"/>
                <a:ext cx="5126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6627960" y="29844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6513480" y="2938320"/>
              <a:ext cx="627120" cy="379440"/>
              <a:chOff x="6513480" y="2938320"/>
              <a:chExt cx="627120" cy="379440"/>
            </a:xfrm>
          </p:grpSpPr>
          <p:sp>
            <p:nvSpPr>
              <p:cNvPr id="11557" name=""/>
              <p:cNvSpPr/>
              <p:nvPr/>
            </p:nvSpPr>
            <p:spPr>
              <a:xfrm>
                <a:off x="6627960" y="298296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6627960" y="297972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627960" y="297648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627960" y="297504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6627960" y="29718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627960" y="2970360"/>
                <a:ext cx="51264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6627960" y="2965320"/>
                <a:ext cx="5126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6627960" y="2962440"/>
                <a:ext cx="512640" cy="46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627960" y="2960640"/>
                <a:ext cx="51264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6627960" y="295740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6627960" y="2955960"/>
                <a:ext cx="51264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6627960" y="295272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6627960" y="2952720"/>
                <a:ext cx="51264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6589800" y="3313080"/>
                <a:ext cx="381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6589800" y="3311640"/>
                <a:ext cx="3816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6589800" y="3308400"/>
                <a:ext cx="3816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589800" y="3305160"/>
                <a:ext cx="3816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6589800" y="3303720"/>
                <a:ext cx="3816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6589800" y="3300480"/>
                <a:ext cx="3816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6589800" y="3295800"/>
                <a:ext cx="3816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6589800" y="3295800"/>
                <a:ext cx="3816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6589800" y="3290760"/>
                <a:ext cx="3816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589800" y="328608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589800" y="328284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6589800" y="3282840"/>
                <a:ext cx="381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6589800" y="32796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6589800" y="3274920"/>
                <a:ext cx="3816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6589800" y="3273480"/>
                <a:ext cx="381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6589800" y="327024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6589800" y="3267000"/>
                <a:ext cx="381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6589800" y="326376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6589800" y="3260880"/>
                <a:ext cx="3816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589800" y="3259080"/>
                <a:ext cx="381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6589800" y="3257640"/>
                <a:ext cx="3816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6589800" y="3252960"/>
                <a:ext cx="3816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6589800" y="324792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589800" y="324792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6589800" y="3243240"/>
                <a:ext cx="3816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589800" y="3240000"/>
                <a:ext cx="381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589800" y="323676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589800" y="3235320"/>
                <a:ext cx="3816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6589800" y="323064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6589800" y="322740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89800" y="3225960"/>
                <a:ext cx="3816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6589800" y="3220920"/>
                <a:ext cx="3816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6589800" y="3218040"/>
                <a:ext cx="3816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6589800" y="321624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589800" y="32130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6589800" y="320976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6589800" y="320832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6589800" y="320508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6589800" y="3201840"/>
                <a:ext cx="381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6589800" y="3198960"/>
                <a:ext cx="3816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589800" y="3195720"/>
                <a:ext cx="381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6589800" y="319248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6589800" y="3189240"/>
                <a:ext cx="381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6589800" y="3187800"/>
                <a:ext cx="3816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6589800" y="318276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589800" y="3179880"/>
                <a:ext cx="3816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6589800" y="3178080"/>
                <a:ext cx="3816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6589800" y="3174840"/>
                <a:ext cx="3816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6589800" y="317016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6589800" y="317016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6589800" y="316692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6589800" y="31622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6589800" y="3160800"/>
                <a:ext cx="381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6589800" y="3157560"/>
                <a:ext cx="381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6589800" y="315432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6589800" y="3151080"/>
                <a:ext cx="381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589800" y="3147840"/>
                <a:ext cx="381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6589800" y="3144960"/>
                <a:ext cx="381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6589800" y="314172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658980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589800" y="3137040"/>
                <a:ext cx="381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6589800" y="31320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589800" y="313200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6589800" y="312732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6589800" y="3125880"/>
                <a:ext cx="381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6589800" y="312264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6589800" y="31194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6589800" y="3116160"/>
                <a:ext cx="381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589800" y="3112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589800" y="311004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6589800" y="310680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6589800" y="3105000"/>
                <a:ext cx="381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589800" y="310032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589800" y="309708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9800" y="3094200"/>
                <a:ext cx="381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589800" y="3092400"/>
                <a:ext cx="381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6589800" y="3089160"/>
                <a:ext cx="3816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6589800" y="308448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6589800" y="308448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6589800" y="308124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6589800" y="3078000"/>
                <a:ext cx="381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6589800" y="3075120"/>
                <a:ext cx="3816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589800" y="3071880"/>
                <a:ext cx="3816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589800" y="306864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6589800" y="3065400"/>
                <a:ext cx="3816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6589800" y="3062160"/>
                <a:ext cx="3816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6589800" y="3060720"/>
                <a:ext cx="3816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6589800" y="3059280"/>
                <a:ext cx="3816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6589800" y="3054240"/>
                <a:ext cx="3816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589800" y="3051000"/>
                <a:ext cx="3816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6589800" y="304632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6589800" y="304488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6589800" y="304164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589800" y="30384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89800" y="303516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6589800" y="3032280"/>
                <a:ext cx="381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6589800" y="3029040"/>
                <a:ext cx="3816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6589800" y="3027240"/>
                <a:ext cx="3816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6589800" y="302436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6589800" y="301932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6589800" y="3019320"/>
                <a:ext cx="3816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6589800" y="301464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6589800" y="3011400"/>
                <a:ext cx="3816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589800" y="3009960"/>
                <a:ext cx="381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6589800" y="3006720"/>
                <a:ext cx="381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6589800" y="300348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6589800" y="2998800"/>
                <a:ext cx="381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6589800" y="2997360"/>
                <a:ext cx="3816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6589800" y="2994120"/>
                <a:ext cx="381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6589800" y="2990880"/>
                <a:ext cx="3816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6589800" y="2989440"/>
                <a:ext cx="3816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6589800" y="2986200"/>
                <a:ext cx="3816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6589800" y="298116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6589800" y="2981160"/>
                <a:ext cx="381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589800" y="2976480"/>
                <a:ext cx="381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6589800" y="29718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589800" y="2971800"/>
                <a:ext cx="381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589800" y="296856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6589800" y="296532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6589800" y="2962440"/>
                <a:ext cx="3816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589800" y="2959200"/>
                <a:ext cx="3816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6589800" y="2955960"/>
                <a:ext cx="381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589800" y="2952720"/>
                <a:ext cx="3816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589800" y="2949480"/>
                <a:ext cx="3816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589800" y="2948040"/>
                <a:ext cx="3816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6589800" y="2943360"/>
                <a:ext cx="3816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6589800" y="2943360"/>
                <a:ext cx="3816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6589800" y="2938320"/>
                <a:ext cx="3816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89800" y="2938320"/>
                <a:ext cx="3816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6513480" y="3208320"/>
                <a:ext cx="38160" cy="14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513480" y="3205080"/>
                <a:ext cx="3816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6513480" y="3203640"/>
                <a:ext cx="38160" cy="14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513480" y="3201840"/>
                <a:ext cx="3816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513480" y="3198960"/>
                <a:ext cx="3816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6513480" y="319572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6513480" y="3193920"/>
                <a:ext cx="38160" cy="180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6513480" y="3191040"/>
                <a:ext cx="38160" cy="28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13480" y="3184560"/>
                <a:ext cx="3816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13480" y="318276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6513480" y="3181320"/>
                <a:ext cx="3816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6513480" y="3176640"/>
                <a:ext cx="3816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13480" y="3174840"/>
                <a:ext cx="38160" cy="180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513480" y="3173400"/>
                <a:ext cx="3816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6513480" y="317016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6513480" y="3162240"/>
                <a:ext cx="3816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513480" y="316080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513480" y="3159000"/>
                <a:ext cx="381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513480" y="3154320"/>
                <a:ext cx="3816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6513480" y="3154320"/>
                <a:ext cx="38160" cy="180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513480" y="315108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13480" y="31478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513480" y="3147840"/>
                <a:ext cx="3816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6513480" y="3144960"/>
                <a:ext cx="381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513480" y="314172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651348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513480" y="313848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513480" y="313524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13480" y="313380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513480" y="313056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6513480" y="3129120"/>
                <a:ext cx="381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6513480" y="312588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6513480" y="312264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6513480" y="3121200"/>
                <a:ext cx="3816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6513480" y="3117960"/>
                <a:ext cx="3816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6513480" y="311616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6513480" y="3114720"/>
                <a:ext cx="3816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6513480" y="3111480"/>
                <a:ext cx="3816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513480" y="3110040"/>
                <a:ext cx="381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6513480" y="3108240"/>
                <a:ext cx="38160" cy="180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6513480" y="3103560"/>
                <a:ext cx="3816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6513480" y="3102120"/>
                <a:ext cx="381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6513480" y="3100320"/>
                <a:ext cx="381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513480" y="309708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13480" y="3089160"/>
                <a:ext cx="38160" cy="32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513480" y="3087720"/>
                <a:ext cx="3816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6513480" y="3086280"/>
                <a:ext cx="3816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6513480" y="3081240"/>
                <a:ext cx="38160" cy="324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6513480" y="3081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6513480" y="307800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6513480" y="3076560"/>
                <a:ext cx="38160" cy="14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6513480" y="3075120"/>
                <a:ext cx="38160" cy="14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6399360" y="2938320"/>
              <a:ext cx="988920" cy="379440"/>
              <a:chOff x="6399360" y="2938320"/>
              <a:chExt cx="988920" cy="379440"/>
            </a:xfrm>
          </p:grpSpPr>
          <p:sp>
            <p:nvSpPr>
              <p:cNvPr id="11758" name=""/>
              <p:cNvSpPr/>
              <p:nvPr/>
            </p:nvSpPr>
            <p:spPr>
              <a:xfrm>
                <a:off x="6513480" y="307188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6513480" y="3068640"/>
                <a:ext cx="3816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6513480" y="3067200"/>
                <a:ext cx="381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6513480" y="3065400"/>
                <a:ext cx="38160" cy="180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6513480" y="3060720"/>
                <a:ext cx="38160" cy="324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6513480" y="3059280"/>
                <a:ext cx="3816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6513480" y="3059280"/>
                <a:ext cx="3816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140600" y="3313080"/>
                <a:ext cx="586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140600" y="3311640"/>
                <a:ext cx="5868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140600" y="3308400"/>
                <a:ext cx="586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140600" y="3305160"/>
                <a:ext cx="586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140600" y="3303720"/>
                <a:ext cx="5868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140600" y="3300480"/>
                <a:ext cx="586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140600" y="3295800"/>
                <a:ext cx="5868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140600" y="3295800"/>
                <a:ext cx="5868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140600" y="3290760"/>
                <a:ext cx="586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140600" y="328608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140600" y="328284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140600" y="3282840"/>
                <a:ext cx="5868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140600" y="32796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140600" y="3274920"/>
                <a:ext cx="5868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140600" y="3273480"/>
                <a:ext cx="5868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140600" y="327024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140600" y="3267000"/>
                <a:ext cx="5868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140600" y="3263760"/>
                <a:ext cx="5868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140600" y="3260880"/>
                <a:ext cx="5868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140600" y="3259080"/>
                <a:ext cx="5868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140600" y="3257640"/>
                <a:ext cx="5868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140600" y="3252960"/>
                <a:ext cx="5868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140600" y="324792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140600" y="3247920"/>
                <a:ext cx="5868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140600" y="3243240"/>
                <a:ext cx="5868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140600" y="3240000"/>
                <a:ext cx="586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140600" y="323676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140600" y="3235320"/>
                <a:ext cx="5868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140600" y="323064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140600" y="322740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140600" y="3225960"/>
                <a:ext cx="5868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140600" y="3220920"/>
                <a:ext cx="586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140600" y="3218040"/>
                <a:ext cx="586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140600" y="321624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140600" y="32130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140600" y="320976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140600" y="320832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140600" y="320508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140600" y="3201840"/>
                <a:ext cx="586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140600" y="3198960"/>
                <a:ext cx="5868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140600" y="3195720"/>
                <a:ext cx="586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140600" y="3192480"/>
                <a:ext cx="586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140600" y="3189240"/>
                <a:ext cx="586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140600" y="3187800"/>
                <a:ext cx="5868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140600" y="318276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140600" y="3179880"/>
                <a:ext cx="5868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140600" y="3178080"/>
                <a:ext cx="5868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140600" y="3174840"/>
                <a:ext cx="5868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140600" y="317016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140600" y="317016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140600" y="316692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140600" y="3162240"/>
                <a:ext cx="586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140600" y="3160800"/>
                <a:ext cx="586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140600" y="3157560"/>
                <a:ext cx="586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140600" y="315432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140600" y="3151080"/>
                <a:ext cx="5868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140600" y="3147840"/>
                <a:ext cx="5868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140600" y="3144960"/>
                <a:ext cx="586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140600" y="314172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140600" y="3139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140600" y="3137040"/>
                <a:ext cx="5868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0600" y="31320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140600" y="3132000"/>
                <a:ext cx="586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140600" y="3127320"/>
                <a:ext cx="586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140600" y="3125880"/>
                <a:ext cx="586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140600" y="312264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140600" y="31194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140600" y="3116160"/>
                <a:ext cx="586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140600" y="3112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140600" y="311004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140600" y="3106800"/>
                <a:ext cx="586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140600" y="3105000"/>
                <a:ext cx="5868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140600" y="3100320"/>
                <a:ext cx="586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140600" y="309708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140600" y="3094200"/>
                <a:ext cx="5868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140600" y="3092400"/>
                <a:ext cx="5868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140600" y="3089160"/>
                <a:ext cx="5868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140600" y="308448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140600" y="308448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140600" y="308124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140600" y="3078000"/>
                <a:ext cx="5868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140600" y="3075120"/>
                <a:ext cx="5868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140600" y="3071880"/>
                <a:ext cx="586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140600" y="306864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140600" y="3065400"/>
                <a:ext cx="5868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140600" y="3062160"/>
                <a:ext cx="5868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140600" y="3060720"/>
                <a:ext cx="5868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140600" y="3059280"/>
                <a:ext cx="5868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140600" y="3054240"/>
                <a:ext cx="5868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140600" y="3051000"/>
                <a:ext cx="586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0600" y="304632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140600" y="304488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140600" y="304164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40600" y="30384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140600" y="303516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140600" y="3032280"/>
                <a:ext cx="586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140600" y="3029040"/>
                <a:ext cx="586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140600" y="3027240"/>
                <a:ext cx="5868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140600" y="302436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140600" y="301932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140600" y="3019320"/>
                <a:ext cx="5868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140600" y="301464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140600" y="3011400"/>
                <a:ext cx="586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140600" y="3009960"/>
                <a:ext cx="5868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140600" y="3006720"/>
                <a:ext cx="586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140600" y="300348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140600" y="2998800"/>
                <a:ext cx="586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140600" y="2997360"/>
                <a:ext cx="5868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140600" y="2994120"/>
                <a:ext cx="5868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140600" y="2990880"/>
                <a:ext cx="5868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140600" y="2989440"/>
                <a:ext cx="5868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140600" y="2986200"/>
                <a:ext cx="5868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140600" y="298116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140600" y="2981160"/>
                <a:ext cx="5868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140600" y="2976480"/>
                <a:ext cx="5868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140600" y="29718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140600" y="2971800"/>
                <a:ext cx="5868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140600" y="296856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140600" y="296532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140600" y="2962440"/>
                <a:ext cx="5868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140600" y="2959200"/>
                <a:ext cx="5868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140600" y="2955960"/>
                <a:ext cx="5868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140600" y="2952720"/>
                <a:ext cx="5868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140600" y="2949480"/>
                <a:ext cx="5868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140600" y="2948040"/>
                <a:ext cx="5868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140600" y="2943360"/>
                <a:ext cx="5868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140600" y="2943360"/>
                <a:ext cx="5868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140600" y="2938320"/>
                <a:ext cx="586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140600" y="2938320"/>
                <a:ext cx="5868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256520" y="3075120"/>
                <a:ext cx="1440" cy="88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257960" y="3075120"/>
                <a:ext cx="6480" cy="88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264440" y="3075120"/>
                <a:ext cx="1440" cy="88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265880" y="3075120"/>
                <a:ext cx="3240" cy="88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269120" y="3075120"/>
                <a:ext cx="3240" cy="88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272360" y="3075120"/>
                <a:ext cx="4680" cy="88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277040" y="3075120"/>
                <a:ext cx="1800" cy="88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278840" y="3075120"/>
                <a:ext cx="6120" cy="88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284960" y="3075120"/>
                <a:ext cx="1800" cy="88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286760" y="3075120"/>
                <a:ext cx="4680" cy="88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291440" y="3075120"/>
                <a:ext cx="3240" cy="88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294680" y="3075120"/>
                <a:ext cx="2880" cy="88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297560" y="3075120"/>
                <a:ext cx="1800" cy="88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299360" y="3075120"/>
                <a:ext cx="4680" cy="88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304040" y="3075120"/>
                <a:ext cx="3240" cy="88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307280" y="3075120"/>
                <a:ext cx="4680" cy="88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256520" y="3075120"/>
                <a:ext cx="5544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273800" y="316080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273800" y="3159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273800" y="3156120"/>
                <a:ext cx="114480" cy="28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73800" y="315288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273800" y="3151080"/>
                <a:ext cx="11448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273800" y="314784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273800" y="3144960"/>
                <a:ext cx="114480" cy="28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273800" y="3143160"/>
                <a:ext cx="114480" cy="180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273800" y="31384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273800" y="3135240"/>
                <a:ext cx="1144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273800" y="3135240"/>
                <a:ext cx="114480" cy="180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273800" y="313056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7273800" y="312732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273800" y="3125880"/>
                <a:ext cx="1144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73800" y="312264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273800" y="3121200"/>
                <a:ext cx="1144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273800" y="3116160"/>
                <a:ext cx="1144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273800" y="311292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273800" y="3112920"/>
                <a:ext cx="11448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273800" y="310824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273800" y="310500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273800" y="3103560"/>
                <a:ext cx="11448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273800" y="3100320"/>
                <a:ext cx="11448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273800" y="30970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273800" y="3095640"/>
                <a:ext cx="11448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273800" y="3090960"/>
                <a:ext cx="1144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273800" y="308772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273800" y="3087720"/>
                <a:ext cx="114480" cy="14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273800" y="308304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273800" y="3079800"/>
                <a:ext cx="1144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273800" y="3078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273800" y="307512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273800" y="3075120"/>
                <a:ext cx="11448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399360" y="3208320"/>
                <a:ext cx="568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6399360" y="320508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399360" y="320364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6399360" y="3200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6399360" y="3198960"/>
                <a:ext cx="5688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399360" y="3197160"/>
                <a:ext cx="568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6399360" y="31924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399360" y="319248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399360" y="318924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6399360" y="318132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958" name=""/>
            <p:cNvGrpSpPr/>
            <p:nvPr/>
          </p:nvGrpSpPr>
          <p:grpSpPr>
            <a:xfrm>
              <a:off x="6399360" y="3059280"/>
              <a:ext cx="1314360" cy="3111480"/>
              <a:chOff x="6399360" y="3059280"/>
              <a:chExt cx="1314360" cy="3111480"/>
            </a:xfrm>
          </p:grpSpPr>
          <p:sp>
            <p:nvSpPr>
              <p:cNvPr id="11959" name=""/>
              <p:cNvSpPr/>
              <p:nvPr/>
            </p:nvSpPr>
            <p:spPr>
              <a:xfrm>
                <a:off x="6399360" y="317988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99360" y="3176640"/>
                <a:ext cx="5688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6399360" y="317484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6399360" y="3173400"/>
                <a:ext cx="5688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6399360" y="3170160"/>
                <a:ext cx="56880" cy="32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6399360" y="316548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399360" y="3164040"/>
                <a:ext cx="56880" cy="14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399360" y="31590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399360" y="3157560"/>
                <a:ext cx="568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399360" y="31543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399360" y="315108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399360" y="314784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6399360" y="31464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6399360" y="3144960"/>
                <a:ext cx="5688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6399360" y="314172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399360" y="3139920"/>
                <a:ext cx="56880" cy="180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6399360" y="3135240"/>
                <a:ext cx="5688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399360" y="313524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399360" y="313200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399360" y="3129120"/>
                <a:ext cx="5688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6399360" y="3129120"/>
                <a:ext cx="5688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399360" y="312408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399360" y="3122640"/>
                <a:ext cx="568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399360" y="31212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399360" y="311796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6399360" y="311616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6399360" y="31129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6399360" y="3111480"/>
                <a:ext cx="568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6399360" y="3110040"/>
                <a:ext cx="5688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99360" y="31068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6399360" y="3105000"/>
                <a:ext cx="56880" cy="180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6399360" y="310032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399360" y="3098880"/>
                <a:ext cx="56880" cy="144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6399360" y="3097080"/>
                <a:ext cx="568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6399360" y="3094200"/>
                <a:ext cx="568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6399360" y="309240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399360" y="3089160"/>
                <a:ext cx="56880" cy="50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6399360" y="308772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6399360" y="308448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6399360" y="3083040"/>
                <a:ext cx="56880" cy="14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399360" y="308124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6399360" y="307800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399360" y="307512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399360" y="30718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6399360" y="3071880"/>
                <a:ext cx="56880" cy="14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6399360" y="3068640"/>
                <a:ext cx="5688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399360" y="3065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6399360" y="306396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399360" y="306072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6399360" y="3059280"/>
                <a:ext cx="56880" cy="28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6399360" y="3059280"/>
                <a:ext cx="5688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148520" y="6165720"/>
                <a:ext cx="10944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148520" y="6162840"/>
                <a:ext cx="10944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8520" y="6159600"/>
                <a:ext cx="1094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148520" y="6153120"/>
                <a:ext cx="1094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148520" y="614988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148520" y="6143760"/>
                <a:ext cx="109440" cy="61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148520" y="6140520"/>
                <a:ext cx="10944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148520" y="6135840"/>
                <a:ext cx="109440" cy="28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148520" y="6127920"/>
                <a:ext cx="109440" cy="792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148520" y="6124680"/>
                <a:ext cx="109440" cy="46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148520" y="6121440"/>
                <a:ext cx="1094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148520" y="611496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148520" y="6110280"/>
                <a:ext cx="109440" cy="64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148520" y="6108840"/>
                <a:ext cx="10944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148520" y="61023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148520" y="6099120"/>
                <a:ext cx="1094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148520" y="6093000"/>
                <a:ext cx="109440" cy="612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148520" y="6087960"/>
                <a:ext cx="109440" cy="64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148520" y="6086520"/>
                <a:ext cx="1094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148520" y="6080040"/>
                <a:ext cx="109440" cy="648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148520" y="6075360"/>
                <a:ext cx="10944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148520" y="607068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148520" y="6066000"/>
                <a:ext cx="10944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148520" y="6060960"/>
                <a:ext cx="10944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148520" y="6056280"/>
                <a:ext cx="1094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148520" y="6051600"/>
                <a:ext cx="10944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148520" y="604512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148520" y="6043680"/>
                <a:ext cx="10944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148520" y="6039000"/>
                <a:ext cx="109440" cy="612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148520" y="6032520"/>
                <a:ext cx="10944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148520" y="602928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148520" y="6026040"/>
                <a:ext cx="1094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148520" y="6019920"/>
                <a:ext cx="10944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148520" y="6014880"/>
                <a:ext cx="1094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148520" y="6010200"/>
                <a:ext cx="109440" cy="46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148520" y="6004080"/>
                <a:ext cx="1094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48520" y="600084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148520" y="5996160"/>
                <a:ext cx="109440" cy="61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148520" y="5991120"/>
                <a:ext cx="10944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148520" y="59878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48520" y="5981760"/>
                <a:ext cx="1094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148520" y="5977080"/>
                <a:ext cx="1094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148520" y="597204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148520" y="5967360"/>
                <a:ext cx="10944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148520" y="5964120"/>
                <a:ext cx="109440" cy="50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148520" y="595944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148520" y="5954760"/>
                <a:ext cx="109440" cy="64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148520" y="5951520"/>
                <a:ext cx="10944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148520" y="5945040"/>
                <a:ext cx="10944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148520" y="5942160"/>
                <a:ext cx="109440" cy="28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48520" y="593712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148520" y="5929200"/>
                <a:ext cx="10944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148520" y="5925960"/>
                <a:ext cx="109440" cy="50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148520" y="5923080"/>
                <a:ext cx="10944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148520" y="591660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148520" y="5911920"/>
                <a:ext cx="1094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148520" y="5910120"/>
                <a:ext cx="10944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148520" y="5904000"/>
                <a:ext cx="10944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148520" y="5897520"/>
                <a:ext cx="1094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148520" y="5894280"/>
                <a:ext cx="1094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148520" y="588960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148520" y="5884920"/>
                <a:ext cx="10944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148520" y="5880240"/>
                <a:ext cx="1094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148520" y="5877000"/>
                <a:ext cx="1094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148520" y="587052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148520" y="5869080"/>
                <a:ext cx="1094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148520" y="586260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148520" y="585792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148520" y="585324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148520" y="5850000"/>
                <a:ext cx="1094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148520" y="5843520"/>
                <a:ext cx="109440" cy="64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148520" y="5838840"/>
                <a:ext cx="10944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148520" y="5834160"/>
                <a:ext cx="109440" cy="46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148520" y="582768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148520" y="5826240"/>
                <a:ext cx="10944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148520" y="5821200"/>
                <a:ext cx="109440" cy="64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148520" y="5815080"/>
                <a:ext cx="1094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148520" y="581184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148520" y="5805360"/>
                <a:ext cx="109440" cy="64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148520" y="5802480"/>
                <a:ext cx="109440" cy="28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148520" y="5797440"/>
                <a:ext cx="109440" cy="64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148520" y="5792760"/>
                <a:ext cx="1094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148520" y="578952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148520" y="5783400"/>
                <a:ext cx="109440" cy="612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148520" y="5778360"/>
                <a:ext cx="10944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148520" y="577368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148520" y="5769000"/>
                <a:ext cx="1094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148520" y="5765760"/>
                <a:ext cx="1094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148520" y="57610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148520" y="5756400"/>
                <a:ext cx="1094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148520" y="5749920"/>
                <a:ext cx="1094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148520" y="574668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148520" y="5743440"/>
                <a:ext cx="1094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148520" y="5734080"/>
                <a:ext cx="109440" cy="79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148520" y="5734080"/>
                <a:ext cx="10944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148520" y="5727600"/>
                <a:ext cx="1094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148520" y="5721480"/>
                <a:ext cx="1094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148520" y="571824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148520" y="5713560"/>
                <a:ext cx="109440" cy="612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148520" y="5708520"/>
                <a:ext cx="1094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148520" y="5705640"/>
                <a:ext cx="10944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148520" y="569916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148520" y="5694480"/>
                <a:ext cx="109440" cy="612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148520" y="5692680"/>
                <a:ext cx="10944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148520" y="5686560"/>
                <a:ext cx="109440" cy="612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148520" y="5681520"/>
                <a:ext cx="109440" cy="50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148520" y="567684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48520" y="5672160"/>
                <a:ext cx="109440" cy="64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148520" y="5665680"/>
                <a:ext cx="109440" cy="50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148520" y="5662440"/>
                <a:ext cx="10944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148520" y="5659560"/>
                <a:ext cx="109440" cy="46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148520" y="5654520"/>
                <a:ext cx="109440" cy="50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148520" y="5651640"/>
                <a:ext cx="109440" cy="28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148520" y="56451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148520" y="5640480"/>
                <a:ext cx="1094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7148520" y="5635800"/>
                <a:ext cx="10944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7148520" y="562932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148520" y="5627520"/>
                <a:ext cx="10944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148520" y="5622840"/>
                <a:ext cx="1094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148520" y="5616720"/>
                <a:ext cx="109440" cy="46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148520" y="5613480"/>
                <a:ext cx="10944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148520" y="5607000"/>
                <a:ext cx="109440" cy="64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148520" y="5602320"/>
                <a:ext cx="1094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148520" y="559764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148520" y="5594400"/>
                <a:ext cx="1094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148520" y="5587920"/>
                <a:ext cx="1094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148520" y="5586480"/>
                <a:ext cx="1094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148520" y="5580000"/>
                <a:ext cx="1094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148520" y="5581800"/>
                <a:ext cx="109440" cy="588960"/>
              </a:xfrm>
              <a:custGeom>
                <a:avLst/>
                <a:gdLst/>
                <a:ahLst/>
                <a:rect l="l" t="t" r="r" b="b"/>
                <a:pathLst>
                  <a:path w="138" h="742">
                    <a:moveTo>
                      <a:pt x="0" y="375"/>
                    </a:moveTo>
                    <a:lnTo>
                      <a:pt x="69" y="742"/>
                    </a:lnTo>
                    <a:lnTo>
                      <a:pt x="138" y="375"/>
                    </a:lnTo>
                    <a:lnTo>
                      <a:pt x="69" y="0"/>
                    </a:lnTo>
                    <a:lnTo>
                      <a:pt x="0" y="37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589880" y="6099120"/>
                <a:ext cx="123840" cy="180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589880" y="6093000"/>
                <a:ext cx="123840" cy="612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589880" y="6087960"/>
                <a:ext cx="12384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589880" y="6086520"/>
                <a:ext cx="1238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589880" y="6081840"/>
                <a:ext cx="123840" cy="612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589880" y="6080040"/>
                <a:ext cx="123840" cy="180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589880" y="607536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589880" y="607068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589880" y="6067440"/>
                <a:ext cx="12384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589880" y="6064200"/>
                <a:ext cx="12384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589880" y="605952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589880" y="6058080"/>
                <a:ext cx="12384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589880" y="6053040"/>
                <a:ext cx="1238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589880" y="604836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589880" y="604512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589880" y="604188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589880" y="6039000"/>
                <a:ext cx="123840" cy="28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589880" y="603396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589880" y="6031080"/>
                <a:ext cx="12384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589880" y="6026040"/>
                <a:ext cx="123840" cy="50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7120080" y="5626080"/>
              <a:ext cx="593640" cy="522360"/>
              <a:chOff x="7120080" y="5626080"/>
              <a:chExt cx="593640" cy="522360"/>
            </a:xfrm>
          </p:grpSpPr>
          <p:sp>
            <p:nvSpPr>
              <p:cNvPr id="12160" name=""/>
              <p:cNvSpPr/>
              <p:nvPr/>
            </p:nvSpPr>
            <p:spPr>
              <a:xfrm>
                <a:off x="7589880" y="60228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589880" y="6019920"/>
                <a:ext cx="123840" cy="28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589880" y="6016680"/>
                <a:ext cx="12384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589880" y="6012000"/>
                <a:ext cx="123840" cy="28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589880" y="600876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589880" y="6004080"/>
                <a:ext cx="123840" cy="468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589880" y="6000840"/>
                <a:ext cx="1238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589880" y="599760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589880" y="599112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589880" y="5987880"/>
                <a:ext cx="12384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589880" y="5985000"/>
                <a:ext cx="1238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589880" y="5985000"/>
                <a:ext cx="12384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589880" y="5978520"/>
                <a:ext cx="123840" cy="64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589880" y="5975280"/>
                <a:ext cx="1238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589880" y="5973840"/>
                <a:ext cx="1238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589880" y="5967360"/>
                <a:ext cx="123840" cy="64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89880" y="5964120"/>
                <a:ext cx="12384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589880" y="5961240"/>
                <a:ext cx="123840" cy="28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589880" y="5954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589880" y="5952960"/>
                <a:ext cx="12384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589880" y="5950080"/>
                <a:ext cx="123840" cy="28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589880" y="594504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589880" y="594216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589880" y="593892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589880" y="593244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589880" y="5931000"/>
                <a:ext cx="12384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589880" y="5927760"/>
                <a:ext cx="12384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589880" y="5923080"/>
                <a:ext cx="12384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589880" y="591984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589880" y="5916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589880" y="5913360"/>
                <a:ext cx="1238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589880" y="5908680"/>
                <a:ext cx="1238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589880" y="5904000"/>
                <a:ext cx="1238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589880" y="5900760"/>
                <a:ext cx="1238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589880" y="5897520"/>
                <a:ext cx="1238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589880" y="5894280"/>
                <a:ext cx="1238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589880" y="5888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589880" y="5884920"/>
                <a:ext cx="12384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589880" y="58816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589880" y="5878440"/>
                <a:ext cx="1238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589880" y="5875200"/>
                <a:ext cx="1238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589880" y="5872320"/>
                <a:ext cx="1238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589880" y="5865840"/>
                <a:ext cx="1238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589880" y="586260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589880" y="585936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589880" y="5854680"/>
                <a:ext cx="1238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589880" y="585144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589880" y="5850000"/>
                <a:ext cx="1238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589880" y="5845320"/>
                <a:ext cx="123840" cy="612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589880" y="58402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589880" y="5840280"/>
                <a:ext cx="12384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589880" y="5834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589880" y="5829480"/>
                <a:ext cx="12384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589880" y="5827680"/>
                <a:ext cx="12384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589880" y="5823000"/>
                <a:ext cx="1238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589880" y="5818320"/>
                <a:ext cx="12384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589880" y="5818320"/>
                <a:ext cx="12384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589880" y="5811840"/>
                <a:ext cx="1238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589880" y="5808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589880" y="580536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589880" y="5799240"/>
                <a:ext cx="1238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589880" y="5797440"/>
                <a:ext cx="12384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589880" y="5794200"/>
                <a:ext cx="1238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589880" y="578952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589880" y="578628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589880" y="578340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589880" y="577692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589880" y="5775480"/>
                <a:ext cx="12384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589880" y="5772240"/>
                <a:ext cx="1238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589880" y="5765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589880" y="5762520"/>
                <a:ext cx="12384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589880" y="5759280"/>
                <a:ext cx="1238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589880" y="5754600"/>
                <a:ext cx="1238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589880" y="5751360"/>
                <a:ext cx="12384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589880" y="5748480"/>
                <a:ext cx="123840" cy="28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589880" y="5745240"/>
                <a:ext cx="12384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589880" y="5742000"/>
                <a:ext cx="123840" cy="46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589880" y="5737320"/>
                <a:ext cx="1238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589880" y="5737320"/>
                <a:ext cx="1238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589880" y="573084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589880" y="572616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589880" y="5724360"/>
                <a:ext cx="12384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589880" y="5718240"/>
                <a:ext cx="123840" cy="612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589880" y="571500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589880" y="5713560"/>
                <a:ext cx="123840" cy="14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589880" y="5708520"/>
                <a:ext cx="1238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589880" y="5703840"/>
                <a:ext cx="1238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589880" y="57024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589880" y="5695920"/>
                <a:ext cx="123840" cy="64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589880" y="5694480"/>
                <a:ext cx="1238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589880" y="569124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589880" y="5686560"/>
                <a:ext cx="1238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589880" y="568332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589880" y="568008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589880" y="567360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589880" y="5672160"/>
                <a:ext cx="12384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589880" y="5667480"/>
                <a:ext cx="1238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589880" y="566244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589880" y="5661000"/>
                <a:ext cx="12384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589880" y="5657760"/>
                <a:ext cx="12384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589880" y="565164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589880" y="564840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589880" y="5645160"/>
                <a:ext cx="1238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589880" y="5641920"/>
                <a:ext cx="12384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589880" y="5638680"/>
                <a:ext cx="12384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589880" y="5635800"/>
                <a:ext cx="123840" cy="288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589880" y="5629320"/>
                <a:ext cx="123840" cy="64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589880" y="5626080"/>
                <a:ext cx="12384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589880" y="5629320"/>
                <a:ext cx="122040" cy="469800"/>
              </a:xfrm>
              <a:custGeom>
                <a:avLst/>
                <a:gdLst/>
                <a:ahLst/>
                <a:rect l="l" t="t" r="r" b="b"/>
                <a:pathLst>
                  <a:path w="154" h="592">
                    <a:moveTo>
                      <a:pt x="0" y="298"/>
                    </a:moveTo>
                    <a:lnTo>
                      <a:pt x="75" y="592"/>
                    </a:lnTo>
                    <a:lnTo>
                      <a:pt x="154" y="298"/>
                    </a:lnTo>
                    <a:lnTo>
                      <a:pt x="75" y="0"/>
                    </a:lnTo>
                    <a:lnTo>
                      <a:pt x="0" y="298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120080" y="597852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120080" y="597204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120080" y="5970600"/>
                <a:ext cx="4104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120080" y="5964120"/>
                <a:ext cx="41040" cy="79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120080" y="596268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120080" y="595620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120080" y="5951520"/>
                <a:ext cx="410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120080" y="5951520"/>
                <a:ext cx="4104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120080" y="5945040"/>
                <a:ext cx="41040" cy="64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120080" y="5942160"/>
                <a:ext cx="41040" cy="288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20080" y="593568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120080" y="593244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20080" y="5929200"/>
                <a:ext cx="41040" cy="50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120080" y="592596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120080" y="5923080"/>
                <a:ext cx="4104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120080" y="59180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120080" y="5915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120080" y="5910120"/>
                <a:ext cx="41040" cy="50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120080" y="590724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120080" y="5900760"/>
                <a:ext cx="41040" cy="64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120080" y="5899320"/>
                <a:ext cx="4104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120080" y="589428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120080" y="5891040"/>
                <a:ext cx="410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120080" y="588816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120080" y="588168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120080" y="5881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120080" y="587520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120080" y="58705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120080" y="5867280"/>
                <a:ext cx="41040" cy="50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120080" y="586260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120080" y="5857920"/>
                <a:ext cx="410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120080" y="585468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120080" y="58514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120080" y="5848200"/>
                <a:ext cx="41040" cy="50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120080" y="584352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120080" y="5838840"/>
                <a:ext cx="41040" cy="46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120080" y="5837400"/>
                <a:ext cx="41040" cy="288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120080" y="583092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120080" y="5829480"/>
                <a:ext cx="41040" cy="14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120080" y="5824440"/>
                <a:ext cx="4104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120080" y="5819760"/>
                <a:ext cx="41040" cy="64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120080" y="5818320"/>
                <a:ext cx="4104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120080" y="581184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120080" y="581040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120080" y="5803920"/>
                <a:ext cx="4104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120080" y="5799240"/>
                <a:ext cx="410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120080" y="5796000"/>
                <a:ext cx="410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120080" y="579276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120080" y="5794200"/>
                <a:ext cx="4104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229520" y="6141960"/>
                <a:ext cx="37476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229520" y="6140520"/>
                <a:ext cx="37476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229520" y="61340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229520" y="6130800"/>
                <a:ext cx="37476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229520" y="6127920"/>
                <a:ext cx="37476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229520" y="6121440"/>
                <a:ext cx="374760" cy="64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229520" y="6118200"/>
                <a:ext cx="3747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229520" y="6113520"/>
                <a:ext cx="374760" cy="612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7229520" y="6111720"/>
                <a:ext cx="374760" cy="180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7229520" y="6105600"/>
                <a:ext cx="37476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7229520" y="6099120"/>
                <a:ext cx="37476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7229520" y="609588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7229520" y="6091200"/>
                <a:ext cx="37476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7229520" y="6086520"/>
                <a:ext cx="3747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229520" y="6084720"/>
                <a:ext cx="3747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7229520" y="6078600"/>
                <a:ext cx="374760" cy="46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7229520" y="6075360"/>
                <a:ext cx="37476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7229520" y="607212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7229520" y="6066000"/>
                <a:ext cx="374760" cy="61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7229520" y="6060960"/>
                <a:ext cx="3747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7229520" y="6058080"/>
                <a:ext cx="37476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7229520" y="605484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7229520" y="6051600"/>
                <a:ext cx="37476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7229520" y="604512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7229520" y="6040440"/>
                <a:ext cx="3747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229520" y="6037200"/>
                <a:ext cx="3747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7229520" y="6032520"/>
                <a:ext cx="374760" cy="32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7229520" y="6029280"/>
                <a:ext cx="374760" cy="46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7229520" y="6022800"/>
                <a:ext cx="37476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7229520" y="6021360"/>
                <a:ext cx="3747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229520" y="6014880"/>
                <a:ext cx="374760" cy="50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7229520" y="6012000"/>
                <a:ext cx="374760" cy="28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7229520" y="6008760"/>
                <a:ext cx="3747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7229520" y="600228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7229520" y="599904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7229520" y="5994360"/>
                <a:ext cx="37476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7229520" y="5987880"/>
                <a:ext cx="37476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7229520" y="5985000"/>
                <a:ext cx="374760" cy="288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7229520" y="5981760"/>
                <a:ext cx="37476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7229520" y="597852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7229520" y="5972040"/>
                <a:ext cx="374760" cy="64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7229520" y="5969160"/>
                <a:ext cx="37476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360" name=""/>
            <p:cNvGrpSpPr/>
            <p:nvPr/>
          </p:nvGrpSpPr>
          <p:grpSpPr>
            <a:xfrm>
              <a:off x="7202520" y="5603760"/>
              <a:ext cx="401760" cy="568440"/>
              <a:chOff x="7202520" y="5603760"/>
              <a:chExt cx="401760" cy="568440"/>
            </a:xfrm>
          </p:grpSpPr>
          <p:sp>
            <p:nvSpPr>
              <p:cNvPr id="12361" name=""/>
              <p:cNvSpPr/>
              <p:nvPr/>
            </p:nvSpPr>
            <p:spPr>
              <a:xfrm>
                <a:off x="7229520" y="5964120"/>
                <a:ext cx="3747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7229520" y="5961240"/>
                <a:ext cx="37476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7229520" y="595620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7229520" y="595296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7229520" y="59468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7229520" y="5942160"/>
                <a:ext cx="374760" cy="28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7229520" y="5938920"/>
                <a:ext cx="37476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7229520" y="593568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7229520" y="5932440"/>
                <a:ext cx="3747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7229520" y="5925960"/>
                <a:ext cx="37476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229520" y="5923080"/>
                <a:ext cx="37476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7229520" y="5916600"/>
                <a:ext cx="37476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7229520" y="5911920"/>
                <a:ext cx="374760" cy="46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7229520" y="5908680"/>
                <a:ext cx="3747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7229520" y="590400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7229520" y="5902200"/>
                <a:ext cx="3747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7229520" y="589608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7229520" y="5891040"/>
                <a:ext cx="374760" cy="50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7229520" y="5888160"/>
                <a:ext cx="3747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7229520" y="588492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7229520" y="5880240"/>
                <a:ext cx="3747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7229520" y="5875200"/>
                <a:ext cx="37476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7229520" y="587052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7229520" y="586584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7229520" y="586260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7229520" y="585936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7229520" y="585612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7229520" y="585000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7229520" y="5845320"/>
                <a:ext cx="3747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7229520" y="584208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7229520" y="5837400"/>
                <a:ext cx="3747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7229520" y="5832360"/>
                <a:ext cx="37476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7229520" y="5827680"/>
                <a:ext cx="3747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7229520" y="5824440"/>
                <a:ext cx="3747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7229520" y="5818320"/>
                <a:ext cx="37476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7229520" y="5815080"/>
                <a:ext cx="37476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7229520" y="581184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7229520" y="5805360"/>
                <a:ext cx="37476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7229520" y="5803920"/>
                <a:ext cx="374760" cy="14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7229520" y="57992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229520" y="579420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7229520" y="578952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7229520" y="5784840"/>
                <a:ext cx="37476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7229520" y="5783400"/>
                <a:ext cx="3747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7229520" y="5776920"/>
                <a:ext cx="37476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7229520" y="5773680"/>
                <a:ext cx="3747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7229520" y="576900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7229520" y="5765760"/>
                <a:ext cx="3747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7229520" y="5761080"/>
                <a:ext cx="374760" cy="32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7229520" y="5756400"/>
                <a:ext cx="37476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7229520" y="5751360"/>
                <a:ext cx="374760" cy="50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7229520" y="574668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7229520" y="574200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7229520" y="5740560"/>
                <a:ext cx="3747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7229520" y="5734080"/>
                <a:ext cx="374760" cy="64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7229520" y="5729400"/>
                <a:ext cx="37476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7229520" y="5726160"/>
                <a:ext cx="37476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7229520" y="5721480"/>
                <a:ext cx="374760" cy="46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7229520" y="5715000"/>
                <a:ext cx="374760" cy="64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7229520" y="5715000"/>
                <a:ext cx="374760" cy="14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7229520" y="5708520"/>
                <a:ext cx="37476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7229520" y="5705640"/>
                <a:ext cx="37476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7229520" y="570060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7229520" y="5695920"/>
                <a:ext cx="37476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7229520" y="569268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7229520" y="5686560"/>
                <a:ext cx="374760" cy="612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7229520" y="5684760"/>
                <a:ext cx="3747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7229520" y="5680080"/>
                <a:ext cx="374760" cy="64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7229520" y="567540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7229520" y="5670720"/>
                <a:ext cx="374760" cy="288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7229520" y="5665680"/>
                <a:ext cx="374760" cy="50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7229520" y="5664240"/>
                <a:ext cx="3747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7229520" y="5657760"/>
                <a:ext cx="37476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7229520" y="5654520"/>
                <a:ext cx="3747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7229520" y="564984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7229520" y="5645160"/>
                <a:ext cx="3747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7229520" y="5638680"/>
                <a:ext cx="37476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7229520" y="5635800"/>
                <a:ext cx="374760" cy="28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7229520" y="5630760"/>
                <a:ext cx="374760" cy="50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7229520" y="5627520"/>
                <a:ext cx="3747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7229520" y="5624640"/>
                <a:ext cx="37476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7229520" y="5618160"/>
                <a:ext cx="374760" cy="64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7229520" y="5616720"/>
                <a:ext cx="3747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229520" y="56102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7229520" y="5607000"/>
                <a:ext cx="3747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7229520" y="5603760"/>
                <a:ext cx="3747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7229520" y="5603760"/>
                <a:ext cx="374760" cy="546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7202520" y="6167520"/>
                <a:ext cx="2700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7202520" y="61642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7202520" y="6157800"/>
                <a:ext cx="2700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7202520" y="6153120"/>
                <a:ext cx="2700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7202520" y="6149880"/>
                <a:ext cx="2700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7202520" y="614520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7202520" y="6138720"/>
                <a:ext cx="2700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7202520" y="6135840"/>
                <a:ext cx="2700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7202520" y="6130800"/>
                <a:ext cx="2700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7202520" y="6126120"/>
                <a:ext cx="2700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7202520" y="611964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7202520" y="6116760"/>
                <a:ext cx="2700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7202520" y="6111720"/>
                <a:ext cx="2700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7202520" y="6107040"/>
                <a:ext cx="2700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7202520" y="61023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7202520" y="609768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7202520" y="6093000"/>
                <a:ext cx="2700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7202520" y="608796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7202520" y="6084720"/>
                <a:ext cx="2700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7202520" y="607860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7202520" y="60753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202520" y="6070680"/>
                <a:ext cx="2700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7202520" y="606420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7202520" y="6060960"/>
                <a:ext cx="2700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7202520" y="6058080"/>
                <a:ext cx="2700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7202520" y="605160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7202520" y="6045120"/>
                <a:ext cx="2700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7202520" y="6041880"/>
                <a:ext cx="2700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7202520" y="6039000"/>
                <a:ext cx="2700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202520" y="603252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7202520" y="6029280"/>
                <a:ext cx="270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7202520" y="6022800"/>
                <a:ext cx="270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7202520" y="6018120"/>
                <a:ext cx="2700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7202520" y="6016680"/>
                <a:ext cx="270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7202520" y="6010200"/>
                <a:ext cx="2700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7202520" y="6004080"/>
                <a:ext cx="2700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7202520" y="600084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7202520" y="599760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7202520" y="5991120"/>
                <a:ext cx="2700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7202520" y="5987880"/>
                <a:ext cx="2700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7202520" y="5981760"/>
                <a:ext cx="2700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7202520" y="5977080"/>
                <a:ext cx="2700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7202520" y="5972040"/>
                <a:ext cx="2700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7202520" y="5969160"/>
                <a:ext cx="2700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7202520" y="5964120"/>
                <a:ext cx="2700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7202520" y="5958000"/>
                <a:ext cx="2700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7202520" y="5956200"/>
                <a:ext cx="2700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7202520" y="5950080"/>
                <a:ext cx="2700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7202520" y="5945040"/>
                <a:ext cx="2700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7202520" y="5942160"/>
                <a:ext cx="2700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7202520" y="5935680"/>
                <a:ext cx="2700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7202520" y="5929200"/>
                <a:ext cx="2700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7202520" y="592596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7202520" y="5923080"/>
                <a:ext cx="2700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7202520" y="5916600"/>
                <a:ext cx="2700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7202520" y="5915160"/>
                <a:ext cx="2700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7202520" y="5908680"/>
                <a:ext cx="2700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7202520" y="590400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7202520" y="5897520"/>
                <a:ext cx="2700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7202520" y="58960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7202520" y="588960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7202520" y="588492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7202520" y="58816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7202520" y="5875200"/>
                <a:ext cx="2700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7202520" y="5872320"/>
                <a:ext cx="2700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7202520" y="58672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7202520" y="586260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7202520" y="585612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7202520" y="58546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7202520" y="5850000"/>
                <a:ext cx="2700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7202520" y="5843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7202520" y="5840280"/>
                <a:ext cx="2700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7202520" y="5834160"/>
                <a:ext cx="2700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7202520" y="5830920"/>
                <a:ext cx="2700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7202520" y="5824440"/>
                <a:ext cx="2700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7202520" y="582120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7202520" y="5815080"/>
                <a:ext cx="2700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7202520" y="5811840"/>
                <a:ext cx="2700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7202520" y="5807160"/>
                <a:ext cx="270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7202520" y="5802480"/>
                <a:ext cx="2700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7202520" y="5796000"/>
                <a:ext cx="2700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7202520" y="5792760"/>
                <a:ext cx="2700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7202520" y="5789520"/>
                <a:ext cx="2700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7202520" y="5783400"/>
                <a:ext cx="2700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7202520" y="5780160"/>
                <a:ext cx="2700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7202520" y="5773680"/>
                <a:ext cx="2700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7202520" y="5769000"/>
                <a:ext cx="2700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7202520" y="5765760"/>
                <a:ext cx="2700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202520" y="5762520"/>
                <a:ext cx="2700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202520" y="5756400"/>
                <a:ext cx="2700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7202520" y="574992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7202520" y="574668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7202520" y="5743440"/>
                <a:ext cx="2700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7202520" y="5737320"/>
                <a:ext cx="2700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7202520" y="5732640"/>
                <a:ext cx="270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7202520" y="5727600"/>
                <a:ext cx="2700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7202520" y="5721480"/>
                <a:ext cx="2700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7202520" y="5719680"/>
                <a:ext cx="2700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7202520" y="571500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7202520" y="5708520"/>
                <a:ext cx="2700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202520" y="5705640"/>
                <a:ext cx="2700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202520" y="5702400"/>
                <a:ext cx="2700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7202520" y="569592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7202520" y="5691240"/>
                <a:ext cx="2700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7202520" y="5686560"/>
                <a:ext cx="2700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7202520" y="568008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7202520" y="5676840"/>
                <a:ext cx="2700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7202520" y="56721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7202520" y="566892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7202520" y="5662440"/>
                <a:ext cx="2700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7202520" y="566100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7202520" y="5654520"/>
                <a:ext cx="2700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202520" y="564984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561" name=""/>
            <p:cNvGrpSpPr/>
            <p:nvPr/>
          </p:nvGrpSpPr>
          <p:grpSpPr>
            <a:xfrm>
              <a:off x="7148520" y="5580000"/>
              <a:ext cx="496800" cy="593640"/>
              <a:chOff x="7148520" y="5580000"/>
              <a:chExt cx="496800" cy="593640"/>
            </a:xfrm>
          </p:grpSpPr>
          <p:sp>
            <p:nvSpPr>
              <p:cNvPr id="12562" name=""/>
              <p:cNvSpPr/>
              <p:nvPr/>
            </p:nvSpPr>
            <p:spPr>
              <a:xfrm>
                <a:off x="7202520" y="56451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7202520" y="5640480"/>
                <a:ext cx="2700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7202520" y="5634000"/>
                <a:ext cx="2700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7202520" y="5630760"/>
                <a:ext cx="2700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7202520" y="562752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7202520" y="5621400"/>
                <a:ext cx="2700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7202520" y="5619600"/>
                <a:ext cx="2700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7202520" y="5613480"/>
                <a:ext cx="2700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7202520" y="5608800"/>
                <a:ext cx="2700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7202520" y="560232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202520" y="5597640"/>
                <a:ext cx="2700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202520" y="5592600"/>
                <a:ext cx="2700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7202520" y="5589720"/>
                <a:ext cx="2700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7202520" y="55846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7202520" y="5580000"/>
                <a:ext cx="2700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7202520" y="5581800"/>
                <a:ext cx="2700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7148520" y="6004080"/>
                <a:ext cx="270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7148520" y="5997600"/>
                <a:ext cx="27000" cy="64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7148520" y="599436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7148520" y="5992920"/>
                <a:ext cx="2700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7148520" y="5987880"/>
                <a:ext cx="27000" cy="64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7148520" y="598320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7148520" y="5981760"/>
                <a:ext cx="270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7148520" y="5975280"/>
                <a:ext cx="27000" cy="64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7148520" y="597384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7148520" y="5970600"/>
                <a:ext cx="27000" cy="324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7148520" y="5964120"/>
                <a:ext cx="27000" cy="792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7148520" y="5962680"/>
                <a:ext cx="2700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7148520" y="595800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7148520" y="5952960"/>
                <a:ext cx="270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7148520" y="5951520"/>
                <a:ext cx="2700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7148520" y="5946840"/>
                <a:ext cx="2700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7148520" y="5942160"/>
                <a:ext cx="27000" cy="612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7148520" y="5938920"/>
                <a:ext cx="2700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7148520" y="5935680"/>
                <a:ext cx="2700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7148520" y="5931000"/>
                <a:ext cx="2700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7148520" y="592776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7148520" y="5924520"/>
                <a:ext cx="2700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7148520" y="5921280"/>
                <a:ext cx="2700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7148520" y="591660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7148520" y="5913360"/>
                <a:ext cx="27000" cy="324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7148520" y="5908680"/>
                <a:ext cx="2700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7148520" y="5905440"/>
                <a:ext cx="270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48520" y="590220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7148520" y="5897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7148520" y="589428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7148520" y="5891040"/>
                <a:ext cx="2700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7148520" y="5889600"/>
                <a:ext cx="270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7148520" y="5884920"/>
                <a:ext cx="2700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7148520" y="5880240"/>
                <a:ext cx="2700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7148520" y="587844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7148520" y="5872320"/>
                <a:ext cx="2700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7148520" y="586908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7148520" y="5867280"/>
                <a:ext cx="2700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7148520" y="5859360"/>
                <a:ext cx="2700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7148520" y="5859360"/>
                <a:ext cx="2700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7148520" y="585612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7148520" y="5850000"/>
                <a:ext cx="27000" cy="61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7148520" y="5848200"/>
                <a:ext cx="2700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7148520" y="584352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7148520" y="5838840"/>
                <a:ext cx="27000" cy="64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7148520" y="5837400"/>
                <a:ext cx="2700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7148520" y="5834160"/>
                <a:ext cx="2700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7148520" y="5827680"/>
                <a:ext cx="27000" cy="648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7148520" y="5826240"/>
                <a:ext cx="2700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7148520" y="5821200"/>
                <a:ext cx="27000" cy="32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7148520" y="5818320"/>
                <a:ext cx="2700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7148520" y="581508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48520" y="5810400"/>
                <a:ext cx="27000" cy="288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7148520" y="5807160"/>
                <a:ext cx="2700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7148520" y="5802480"/>
                <a:ext cx="27000" cy="288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7148520" y="579924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7148520" y="5794200"/>
                <a:ext cx="27000" cy="50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7148520" y="5791320"/>
                <a:ext cx="27000" cy="28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148520" y="578808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7148520" y="5784840"/>
                <a:ext cx="27000" cy="46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7148520" y="5780160"/>
                <a:ext cx="2700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7148520" y="577692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7148520" y="5772240"/>
                <a:ext cx="2700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7148520" y="5769000"/>
                <a:ext cx="2700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7148520" y="5769000"/>
                <a:ext cx="270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7604280" y="6167520"/>
                <a:ext cx="4104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7604280" y="61642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7604280" y="6157800"/>
                <a:ext cx="410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7604280" y="615312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7604280" y="6149880"/>
                <a:ext cx="4104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7604280" y="614520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7604280" y="6138720"/>
                <a:ext cx="4104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7604280" y="6135840"/>
                <a:ext cx="4104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7604280" y="6130800"/>
                <a:ext cx="4104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7604280" y="6126120"/>
                <a:ext cx="410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7604280" y="611964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7604280" y="6116760"/>
                <a:ext cx="4104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7604280" y="6111720"/>
                <a:ext cx="4104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7604280" y="6107040"/>
                <a:ext cx="410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7604280" y="61023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7604280" y="609768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7604280" y="6093000"/>
                <a:ext cx="410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7604280" y="6087960"/>
                <a:ext cx="4104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7604280" y="6084720"/>
                <a:ext cx="4104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7604280" y="607860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7604280" y="60753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7604280" y="6070680"/>
                <a:ext cx="4104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7604280" y="606420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7604280" y="6060960"/>
                <a:ext cx="4104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7604280" y="6058080"/>
                <a:ext cx="4104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7604280" y="605160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7604280" y="6045120"/>
                <a:ext cx="410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7604280" y="6041880"/>
                <a:ext cx="4104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7604280" y="6039000"/>
                <a:ext cx="4104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7604280" y="603252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7604280" y="602928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7604280" y="6022800"/>
                <a:ext cx="4104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604280" y="6018120"/>
                <a:ext cx="410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604280" y="6016680"/>
                <a:ext cx="4104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7604280" y="6010200"/>
                <a:ext cx="4104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7604280" y="6004080"/>
                <a:ext cx="410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7604280" y="600084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7604280" y="599760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7604280" y="5991120"/>
                <a:ext cx="4104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7604280" y="5987880"/>
                <a:ext cx="4104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7604280" y="5981760"/>
                <a:ext cx="410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7604280" y="5977080"/>
                <a:ext cx="410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7604280" y="5972040"/>
                <a:ext cx="4104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7604280" y="5969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7604280" y="5964120"/>
                <a:ext cx="4104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7604280" y="5958000"/>
                <a:ext cx="4104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7604280" y="5956200"/>
                <a:ext cx="4104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7604280" y="5950080"/>
                <a:ext cx="410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7604280" y="5945040"/>
                <a:ext cx="4104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7604280" y="594216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7604280" y="5935680"/>
                <a:ext cx="410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7604280" y="5929200"/>
                <a:ext cx="4104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7604280" y="592596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7604280" y="5923080"/>
                <a:ext cx="410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7604280" y="5916600"/>
                <a:ext cx="410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7604280" y="5915160"/>
                <a:ext cx="410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7604280" y="5908680"/>
                <a:ext cx="4104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7604280" y="590400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7604280" y="5897520"/>
                <a:ext cx="410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7604280" y="58960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7604280" y="588960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7604280" y="588492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604280" y="58816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7604280" y="587520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7604280" y="587232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7604280" y="58672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7604280" y="586260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7604280" y="585612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7604280" y="5854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7604280" y="5850000"/>
                <a:ext cx="4104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7604280" y="584352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7604280" y="5840280"/>
                <a:ext cx="410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7604280" y="5834160"/>
                <a:ext cx="410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7604280" y="58309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7604280" y="5824440"/>
                <a:ext cx="410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7604280" y="582120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7604280" y="5815080"/>
                <a:ext cx="4104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7604280" y="5811840"/>
                <a:ext cx="410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7604280" y="580716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7604280" y="5802480"/>
                <a:ext cx="4104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7604280" y="5796000"/>
                <a:ext cx="4104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7604280" y="5792760"/>
                <a:ext cx="410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7604280" y="5789520"/>
                <a:ext cx="410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7604280" y="5783400"/>
                <a:ext cx="4104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7604280" y="578016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7604280" y="5773680"/>
                <a:ext cx="4104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7604280" y="5769000"/>
                <a:ext cx="410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7604280" y="5765760"/>
                <a:ext cx="4104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7604280" y="5762520"/>
                <a:ext cx="410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7604280" y="5756400"/>
                <a:ext cx="410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7604280" y="574992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7604280" y="574668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7604280" y="5743440"/>
                <a:ext cx="410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7604280" y="5737320"/>
                <a:ext cx="4104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7604280" y="5732640"/>
                <a:ext cx="4104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7604280" y="5727600"/>
                <a:ext cx="4104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7604280" y="5721480"/>
                <a:ext cx="410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7604280" y="5719680"/>
                <a:ext cx="4104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7604280" y="571500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7604280" y="5708520"/>
                <a:ext cx="410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7604280" y="5705640"/>
                <a:ext cx="4104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7604280" y="5702400"/>
                <a:ext cx="410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7604280" y="569592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7604280" y="5691240"/>
                <a:ext cx="4104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7604280" y="5686560"/>
                <a:ext cx="410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7604280" y="568008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7604280" y="5676840"/>
                <a:ext cx="410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7604280" y="56721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7604280" y="566892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7604280" y="5662440"/>
                <a:ext cx="4104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7604280" y="5661000"/>
                <a:ext cx="4104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7604280" y="5654520"/>
                <a:ext cx="4104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7604280" y="564984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7604280" y="56451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7604280" y="5640480"/>
                <a:ext cx="4104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7604280" y="5634000"/>
                <a:ext cx="4104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7604280" y="5630760"/>
                <a:ext cx="410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762" name=""/>
            <p:cNvGrpSpPr/>
            <p:nvPr/>
          </p:nvGrpSpPr>
          <p:grpSpPr>
            <a:xfrm>
              <a:off x="1542960" y="2951280"/>
              <a:ext cx="6240600" cy="3222360"/>
              <a:chOff x="1542960" y="2951280"/>
              <a:chExt cx="6240600" cy="3222360"/>
            </a:xfrm>
          </p:grpSpPr>
          <p:sp>
            <p:nvSpPr>
              <p:cNvPr id="12763" name=""/>
              <p:cNvSpPr/>
              <p:nvPr/>
            </p:nvSpPr>
            <p:spPr>
              <a:xfrm>
                <a:off x="7604280" y="562752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7604280" y="5621400"/>
                <a:ext cx="4104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7604280" y="5619600"/>
                <a:ext cx="4104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7604280" y="5613480"/>
                <a:ext cx="410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7604280" y="5608800"/>
                <a:ext cx="4104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7604280" y="560232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7604280" y="5597640"/>
                <a:ext cx="4104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7604280" y="5592600"/>
                <a:ext cx="4104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7604280" y="5589720"/>
                <a:ext cx="410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7604280" y="55846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7604280" y="5580000"/>
                <a:ext cx="410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7604280" y="5581800"/>
                <a:ext cx="4104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7686720" y="5792760"/>
                <a:ext cx="1440" cy="142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7688160" y="5792760"/>
                <a:ext cx="3240" cy="142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7691400" y="5792760"/>
                <a:ext cx="1800" cy="142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7693200" y="5792760"/>
                <a:ext cx="4680" cy="142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7697880" y="5792760"/>
                <a:ext cx="1440" cy="142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7699320" y="5792760"/>
                <a:ext cx="3240" cy="142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7702560" y="5792760"/>
                <a:ext cx="1440" cy="142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7704000" y="5792760"/>
                <a:ext cx="5040" cy="142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7709040" y="5792760"/>
                <a:ext cx="1440" cy="142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7710480" y="5792760"/>
                <a:ext cx="1440" cy="142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7711920" y="5792760"/>
                <a:ext cx="3240" cy="142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7715160" y="5792760"/>
                <a:ext cx="3240" cy="142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7718400" y="5792760"/>
                <a:ext cx="1440" cy="142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7719840" y="5792760"/>
                <a:ext cx="3240" cy="142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7723080" y="5792760"/>
                <a:ext cx="1800" cy="142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7724880" y="5792760"/>
                <a:ext cx="4680" cy="142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7686720" y="5794200"/>
                <a:ext cx="428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7699320" y="592920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7699320" y="5925960"/>
                <a:ext cx="8424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7699320" y="59212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7699320" y="591660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7699320" y="5913360"/>
                <a:ext cx="8424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7699320" y="5907240"/>
                <a:ext cx="84240" cy="612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7699320" y="590220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7699320" y="5897520"/>
                <a:ext cx="84240" cy="32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7699320" y="5894280"/>
                <a:ext cx="84240" cy="50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7699320" y="5891040"/>
                <a:ext cx="842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7699320" y="5886360"/>
                <a:ext cx="84240" cy="32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7699320" y="58816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7699320" y="587700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7699320" y="5872320"/>
                <a:ext cx="84240" cy="28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7699320" y="5867280"/>
                <a:ext cx="8424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7699320" y="5864400"/>
                <a:ext cx="842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7699320" y="5859360"/>
                <a:ext cx="8424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7699320" y="5853240"/>
                <a:ext cx="84240" cy="612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7699320" y="5850000"/>
                <a:ext cx="842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7699320" y="584676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7699320" y="58402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7699320" y="5838840"/>
                <a:ext cx="8424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7699320" y="5834160"/>
                <a:ext cx="842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7699320" y="5827680"/>
                <a:ext cx="84240" cy="468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7699320" y="5826240"/>
                <a:ext cx="8424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7699320" y="581976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7699320" y="5813280"/>
                <a:ext cx="84240" cy="50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7699320" y="5810400"/>
                <a:ext cx="84240" cy="288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7699320" y="580716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7699320" y="58006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7699320" y="5799240"/>
                <a:ext cx="84240" cy="144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7699320" y="579276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7699320" y="5794200"/>
                <a:ext cx="842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7064280" y="600228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7064280" y="5999040"/>
                <a:ext cx="41400" cy="50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7064280" y="599436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7064280" y="5991120"/>
                <a:ext cx="41400" cy="50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7064280" y="5987880"/>
                <a:ext cx="4140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7064280" y="5985000"/>
                <a:ext cx="41400" cy="28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7064280" y="5981760"/>
                <a:ext cx="414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7064280" y="5977080"/>
                <a:ext cx="41400" cy="28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7064280" y="5972040"/>
                <a:ext cx="41400" cy="648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7064280" y="596916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7064280" y="596592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7064280" y="5962680"/>
                <a:ext cx="41400" cy="46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7064280" y="5958000"/>
                <a:ext cx="414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7064280" y="595296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7064280" y="5951520"/>
                <a:ext cx="41400" cy="144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064280" y="5948280"/>
                <a:ext cx="414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064280" y="5942160"/>
                <a:ext cx="4140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7064280" y="5940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7064280" y="5935680"/>
                <a:ext cx="4140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7064280" y="593100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7064280" y="592776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7064280" y="5923080"/>
                <a:ext cx="4140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7064280" y="5923080"/>
                <a:ext cx="4140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064280" y="591660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064280" y="591336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7064280" y="591012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7064280" y="59054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7064280" y="590220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7064280" y="5899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7064280" y="589428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7064280" y="5889600"/>
                <a:ext cx="41400" cy="46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064280" y="588636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064280" y="588492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7064280" y="5878440"/>
                <a:ext cx="41400" cy="64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7064280" y="587520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7064280" y="5872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7064280" y="586908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7064280" y="58658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7064280" y="586260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064280" y="585792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064280" y="585468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7064280" y="5850000"/>
                <a:ext cx="41400" cy="32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7064280" y="5846760"/>
                <a:ext cx="4140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7064280" y="584352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7064280" y="584028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7064280" y="5834160"/>
                <a:ext cx="4140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7064280" y="5832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7064280" y="5829480"/>
                <a:ext cx="414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7064280" y="5824440"/>
                <a:ext cx="414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7064280" y="5821200"/>
                <a:ext cx="4140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7064280" y="581652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7064280" y="5815080"/>
                <a:ext cx="4140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7064280" y="5808600"/>
                <a:ext cx="41400" cy="64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7064280" y="580536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7064280" y="580392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7064280" y="5799240"/>
                <a:ext cx="41400" cy="612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7064280" y="5794200"/>
                <a:ext cx="414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7064280" y="5791320"/>
                <a:ext cx="41400" cy="46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7064280" y="5786280"/>
                <a:ext cx="4140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7064280" y="5783400"/>
                <a:ext cx="4140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7064280" y="5780160"/>
                <a:ext cx="41400" cy="468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7064280" y="577692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7064280" y="5773680"/>
                <a:ext cx="4140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7064280" y="576900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7064280" y="5769000"/>
                <a:ext cx="414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H="1">
                <a:off x="5795640" y="5897520"/>
                <a:ext cx="11062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5500800" y="5613480"/>
                <a:ext cx="557280" cy="14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5997600" y="56134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6"/>
                    </a:moveTo>
                    <a:lnTo>
                      <a:pt x="65" y="276"/>
                    </a:lnTo>
                    <a:lnTo>
                      <a:pt x="0" y="17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6175440" y="5811840"/>
                <a:ext cx="834840" cy="79200"/>
              </a:xfrm>
              <a:custGeom>
                <a:avLst/>
                <a:gdLst/>
                <a:ahLst/>
                <a:rect l="l" t="t" r="r" b="b"/>
                <a:pathLst>
                  <a:path w="1052" h="101">
                    <a:moveTo>
                      <a:pt x="0" y="34"/>
                    </a:moveTo>
                    <a:lnTo>
                      <a:pt x="943" y="34"/>
                    </a:lnTo>
                    <a:lnTo>
                      <a:pt x="943" y="67"/>
                    </a:lnTo>
                    <a:lnTo>
                      <a:pt x="0" y="67"/>
                    </a:lnTo>
                    <a:lnTo>
                      <a:pt x="0" y="34"/>
                    </a:lnTo>
                    <a:close/>
                    <a:moveTo>
                      <a:pt x="922" y="0"/>
                    </a:moveTo>
                    <a:lnTo>
                      <a:pt x="1052" y="51"/>
                    </a:lnTo>
                    <a:lnTo>
                      <a:pt x="922" y="101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5078520" y="3086280"/>
                <a:ext cx="1187280" cy="79200"/>
              </a:xfrm>
              <a:custGeom>
                <a:avLst/>
                <a:gdLst/>
                <a:ahLst/>
                <a:rect l="l" t="t" r="r" b="b"/>
                <a:pathLst>
                  <a:path w="1496" h="100">
                    <a:moveTo>
                      <a:pt x="0" y="33"/>
                    </a:moveTo>
                    <a:lnTo>
                      <a:pt x="1388" y="33"/>
                    </a:lnTo>
                    <a:lnTo>
                      <a:pt x="1388" y="67"/>
                    </a:lnTo>
                    <a:lnTo>
                      <a:pt x="0" y="67"/>
                    </a:lnTo>
                    <a:lnTo>
                      <a:pt x="0" y="33"/>
                    </a:lnTo>
                    <a:close/>
                    <a:moveTo>
                      <a:pt x="1367" y="0"/>
                    </a:moveTo>
                    <a:lnTo>
                      <a:pt x="1496" y="51"/>
                    </a:lnTo>
                    <a:lnTo>
                      <a:pt x="1367" y="100"/>
                    </a:lnTo>
                    <a:lnTo>
                      <a:pt x="13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712960" y="3086280"/>
                <a:ext cx="1663920" cy="79200"/>
              </a:xfrm>
              <a:custGeom>
                <a:avLst/>
                <a:gdLst/>
                <a:ahLst/>
                <a:rect l="l" t="t" r="r" b="b"/>
                <a:pathLst>
                  <a:path w="2096" h="100">
                    <a:moveTo>
                      <a:pt x="2096" y="67"/>
                    </a:moveTo>
                    <a:lnTo>
                      <a:pt x="107" y="67"/>
                    </a:lnTo>
                    <a:lnTo>
                      <a:pt x="107" y="33"/>
                    </a:lnTo>
                    <a:lnTo>
                      <a:pt x="2096" y="33"/>
                    </a:lnTo>
                    <a:lnTo>
                      <a:pt x="2096" y="67"/>
                    </a:lnTo>
                    <a:close/>
                    <a:moveTo>
                      <a:pt x="130" y="100"/>
                    </a:moveTo>
                    <a:lnTo>
                      <a:pt x="0" y="51"/>
                    </a:lnTo>
                    <a:lnTo>
                      <a:pt x="130" y="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29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4120" y="2971800"/>
                <a:ext cx="118584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1" name=""/>
              <p:cNvSpPr/>
              <p:nvPr/>
            </p:nvSpPr>
            <p:spPr>
              <a:xfrm>
                <a:off x="1542960" y="2951280"/>
                <a:ext cx="637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1542960" y="2955960"/>
                <a:ext cx="637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1542960" y="2959200"/>
                <a:ext cx="637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1542960" y="2962440"/>
                <a:ext cx="637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1542960" y="2967120"/>
                <a:ext cx="637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1542960" y="2968560"/>
                <a:ext cx="637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1542960" y="2971800"/>
                <a:ext cx="637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1542960" y="2975040"/>
                <a:ext cx="637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1542960" y="29782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1542960" y="2979720"/>
                <a:ext cx="63720" cy="14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1542960" y="2981160"/>
                <a:ext cx="63720" cy="324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1542960" y="2984400"/>
                <a:ext cx="637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1542960" y="2986200"/>
                <a:ext cx="637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1542960" y="298764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1542960" y="2989440"/>
                <a:ext cx="637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1542960" y="29908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1542960" y="2992320"/>
                <a:ext cx="637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1542960" y="2994120"/>
                <a:ext cx="637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1542960" y="299736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1542960" y="2998800"/>
                <a:ext cx="637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1542960" y="3000240"/>
                <a:ext cx="637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1542960" y="3002040"/>
                <a:ext cx="637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1542960" y="3003480"/>
                <a:ext cx="637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1542960" y="3003480"/>
                <a:ext cx="637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1542960" y="3008160"/>
                <a:ext cx="63720" cy="180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1542960" y="3009960"/>
                <a:ext cx="637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1542960" y="3013200"/>
                <a:ext cx="637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1542960" y="3014640"/>
                <a:ext cx="63720" cy="144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1542960" y="3016080"/>
                <a:ext cx="63720" cy="324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1542960" y="3019320"/>
                <a:ext cx="637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1542960" y="3021120"/>
                <a:ext cx="637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1542960" y="3022560"/>
                <a:ext cx="637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1542960" y="3025800"/>
                <a:ext cx="637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1542960" y="302724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1542960" y="302904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1542960" y="3030480"/>
                <a:ext cx="637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1542960" y="30322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1542960" y="3033720"/>
                <a:ext cx="637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1542960" y="3035160"/>
                <a:ext cx="637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1542960" y="3038400"/>
                <a:ext cx="637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1542960" y="3038400"/>
                <a:ext cx="637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1542960" y="3041640"/>
                <a:ext cx="63720" cy="144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1542960" y="3043080"/>
                <a:ext cx="63720" cy="180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1542960" y="3044880"/>
                <a:ext cx="637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1542960" y="304812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1542960" y="304956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1542960" y="3052800"/>
                <a:ext cx="63720" cy="14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1542960" y="3054240"/>
                <a:ext cx="637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1542960" y="305604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1542960" y="30592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1542960" y="3060720"/>
                <a:ext cx="63720" cy="468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1542960" y="3065400"/>
                <a:ext cx="63720" cy="180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1542960" y="306720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1542960" y="3068640"/>
                <a:ext cx="637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1542960" y="3073320"/>
                <a:ext cx="637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1542960" y="3076560"/>
                <a:ext cx="637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1542960" y="3081240"/>
                <a:ext cx="637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1542960" y="3086280"/>
                <a:ext cx="637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1542960" y="3094200"/>
                <a:ext cx="637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1542960" y="3103560"/>
                <a:ext cx="637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963" name=""/>
            <p:cNvGrpSpPr/>
            <p:nvPr/>
          </p:nvGrpSpPr>
          <p:grpSpPr>
            <a:xfrm>
              <a:off x="1542960" y="2932200"/>
              <a:ext cx="1179720" cy="328680"/>
              <a:chOff x="1542960" y="2932200"/>
              <a:chExt cx="1179720" cy="328680"/>
            </a:xfrm>
          </p:grpSpPr>
          <p:sp>
            <p:nvSpPr>
              <p:cNvPr id="12964" name=""/>
              <p:cNvSpPr/>
              <p:nvPr/>
            </p:nvSpPr>
            <p:spPr>
              <a:xfrm>
                <a:off x="1542960" y="3116160"/>
                <a:ext cx="637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1542960" y="3122640"/>
                <a:ext cx="637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1542960" y="3129120"/>
                <a:ext cx="637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1542960" y="3133800"/>
                <a:ext cx="637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1542960" y="3137040"/>
                <a:ext cx="63720" cy="288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1542960" y="3139920"/>
                <a:ext cx="63720" cy="504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1542960" y="314496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1542960" y="3146400"/>
                <a:ext cx="637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1542960" y="3149640"/>
                <a:ext cx="637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1542960" y="31528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1542960" y="315432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1542960" y="3157560"/>
                <a:ext cx="637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1542960" y="3157560"/>
                <a:ext cx="637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1542960" y="316080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1542960" y="316404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1542960" y="3164040"/>
                <a:ext cx="637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1542960" y="3166920"/>
                <a:ext cx="637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1542960" y="3168720"/>
                <a:ext cx="637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1542960" y="3170160"/>
                <a:ext cx="637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1542960" y="3173400"/>
                <a:ext cx="63720" cy="144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1542960" y="3174840"/>
                <a:ext cx="63720" cy="180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1542960" y="3176640"/>
                <a:ext cx="637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1542960" y="318132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1542960" y="318276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1542960" y="3184560"/>
                <a:ext cx="637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1542960" y="3186000"/>
                <a:ext cx="637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1542960" y="3189240"/>
                <a:ext cx="637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1542960" y="3191040"/>
                <a:ext cx="637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1542960" y="3192480"/>
                <a:ext cx="637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1542960" y="3195720"/>
                <a:ext cx="637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1542960" y="3197160"/>
                <a:ext cx="637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1542960" y="3198960"/>
                <a:ext cx="637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1542960" y="3201840"/>
                <a:ext cx="637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1542960" y="320364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1542960" y="3205080"/>
                <a:ext cx="637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1542960" y="3206880"/>
                <a:ext cx="637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1542960" y="3208320"/>
                <a:ext cx="63720" cy="144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1542960" y="3208320"/>
                <a:ext cx="637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1542960" y="3211560"/>
                <a:ext cx="637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1542960" y="3211560"/>
                <a:ext cx="637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1542960" y="321480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1542960" y="3214800"/>
                <a:ext cx="637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1542960" y="3218040"/>
                <a:ext cx="637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1542960" y="32194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1542960" y="3220920"/>
                <a:ext cx="637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1542960" y="322416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1542960" y="3224160"/>
                <a:ext cx="637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542960" y="3227400"/>
                <a:ext cx="637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542960" y="3228840"/>
                <a:ext cx="637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542960" y="3230640"/>
                <a:ext cx="637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1542960" y="32338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1542960" y="3233880"/>
                <a:ext cx="63720" cy="288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1542960" y="3236760"/>
                <a:ext cx="63720" cy="324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1542960" y="3240000"/>
                <a:ext cx="637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1542960" y="3243240"/>
                <a:ext cx="63720" cy="144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1542960" y="3244680"/>
                <a:ext cx="63720" cy="504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542960" y="3249720"/>
                <a:ext cx="637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542960" y="3252960"/>
                <a:ext cx="63720" cy="46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542960" y="3257640"/>
                <a:ext cx="637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1544760" y="2952720"/>
                <a:ext cx="6336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2658960" y="2932200"/>
                <a:ext cx="619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2658960" y="2936880"/>
                <a:ext cx="619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2658960" y="2940120"/>
                <a:ext cx="619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2658960" y="2943360"/>
                <a:ext cx="619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58960" y="2948040"/>
                <a:ext cx="619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58960" y="2949480"/>
                <a:ext cx="619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58960" y="2952720"/>
                <a:ext cx="619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658960" y="2955960"/>
                <a:ext cx="619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2658960" y="29592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2658960" y="2960640"/>
                <a:ext cx="61920" cy="180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2658960" y="2962440"/>
                <a:ext cx="61920" cy="288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2658960" y="2965320"/>
                <a:ext cx="619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2658960" y="2967120"/>
                <a:ext cx="619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2658960" y="296856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2658960" y="2970360"/>
                <a:ext cx="619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2658960" y="29718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2658960" y="2973240"/>
                <a:ext cx="619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2658960" y="2975040"/>
                <a:ext cx="619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2658960" y="297828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2658960" y="2979720"/>
                <a:ext cx="619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2658960" y="2981160"/>
                <a:ext cx="619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2658960" y="2982960"/>
                <a:ext cx="619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2658960" y="298440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9" name=""/>
              <p:cNvSpPr/>
              <p:nvPr/>
            </p:nvSpPr>
            <p:spPr>
              <a:xfrm>
                <a:off x="2658960" y="2984400"/>
                <a:ext cx="619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0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2658960" y="2989440"/>
                <a:ext cx="61920" cy="144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2658960" y="2990880"/>
                <a:ext cx="619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2658960" y="2994120"/>
                <a:ext cx="619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2658960" y="2995560"/>
                <a:ext cx="61920" cy="1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2658960" y="2997360"/>
                <a:ext cx="61920" cy="288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2658960" y="3000240"/>
                <a:ext cx="619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2658960" y="3002040"/>
                <a:ext cx="619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2658960" y="3003480"/>
                <a:ext cx="619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2658960" y="3006720"/>
                <a:ext cx="619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2658960" y="3008160"/>
                <a:ext cx="619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2658960" y="3009960"/>
                <a:ext cx="619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2658960" y="3011400"/>
                <a:ext cx="619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2658960" y="30132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2658960" y="3014640"/>
                <a:ext cx="619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6" name=""/>
              <p:cNvSpPr/>
              <p:nvPr/>
            </p:nvSpPr>
            <p:spPr>
              <a:xfrm>
                <a:off x="2658960" y="3016080"/>
                <a:ext cx="619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7" name=""/>
              <p:cNvSpPr/>
              <p:nvPr/>
            </p:nvSpPr>
            <p:spPr>
              <a:xfrm>
                <a:off x="2658960" y="3019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2658960" y="3019320"/>
                <a:ext cx="619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2658960" y="3022560"/>
                <a:ext cx="61920" cy="180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2658960" y="3024360"/>
                <a:ext cx="61920" cy="144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2658960" y="3025800"/>
                <a:ext cx="619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2658960" y="302904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2658960" y="3030480"/>
                <a:ext cx="61920" cy="180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2658960" y="3032280"/>
                <a:ext cx="61920" cy="288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2658960" y="3035160"/>
                <a:ext cx="619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2658960" y="3036960"/>
                <a:ext cx="61920" cy="14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2658960" y="3038400"/>
                <a:ext cx="61920" cy="32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658960" y="304164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658960" y="304488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658960" y="304812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2658960" y="304956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2658960" y="305424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2658960" y="3057480"/>
                <a:ext cx="619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2658960" y="3062160"/>
                <a:ext cx="619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5" name=""/>
              <p:cNvSpPr/>
              <p:nvPr/>
            </p:nvSpPr>
            <p:spPr>
              <a:xfrm>
                <a:off x="2658960" y="3067200"/>
                <a:ext cx="619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6" name=""/>
              <p:cNvSpPr/>
              <p:nvPr/>
            </p:nvSpPr>
            <p:spPr>
              <a:xfrm>
                <a:off x="2658960" y="3075120"/>
                <a:ext cx="619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7" name=""/>
              <p:cNvSpPr/>
              <p:nvPr/>
            </p:nvSpPr>
            <p:spPr>
              <a:xfrm>
                <a:off x="2658960" y="3084480"/>
                <a:ext cx="619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2658960" y="3097080"/>
                <a:ext cx="619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658960" y="3103560"/>
                <a:ext cx="619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658960" y="3110040"/>
                <a:ext cx="619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658960" y="3114720"/>
                <a:ext cx="619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2658960" y="311796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2658960" y="312120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4" name=""/>
              <p:cNvSpPr/>
              <p:nvPr/>
            </p:nvSpPr>
            <p:spPr>
              <a:xfrm>
                <a:off x="2658960" y="312588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5" name=""/>
              <p:cNvSpPr/>
              <p:nvPr/>
            </p:nvSpPr>
            <p:spPr>
              <a:xfrm>
                <a:off x="2658960" y="312732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2658960" y="313056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2658960" y="3133800"/>
                <a:ext cx="619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2658960" y="3135240"/>
                <a:ext cx="619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2658960" y="3138480"/>
                <a:ext cx="619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2658960" y="3138480"/>
                <a:ext cx="619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2658960" y="3141720"/>
                <a:ext cx="619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2658960" y="314496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3" name=""/>
              <p:cNvSpPr/>
              <p:nvPr/>
            </p:nvSpPr>
            <p:spPr>
              <a:xfrm>
                <a:off x="2658960" y="3144960"/>
                <a:ext cx="619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4" name=""/>
              <p:cNvSpPr/>
              <p:nvPr/>
            </p:nvSpPr>
            <p:spPr>
              <a:xfrm>
                <a:off x="2658960" y="3147840"/>
                <a:ext cx="619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2658960" y="3149640"/>
                <a:ext cx="619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2658960" y="3151080"/>
                <a:ext cx="619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2658960" y="3154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8" name=""/>
              <p:cNvSpPr/>
              <p:nvPr/>
            </p:nvSpPr>
            <p:spPr>
              <a:xfrm>
                <a:off x="2658960" y="3156120"/>
                <a:ext cx="61920" cy="14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9" name=""/>
              <p:cNvSpPr/>
              <p:nvPr/>
            </p:nvSpPr>
            <p:spPr>
              <a:xfrm>
                <a:off x="2658960" y="3157560"/>
                <a:ext cx="619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0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1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2" name=""/>
              <p:cNvSpPr/>
              <p:nvPr/>
            </p:nvSpPr>
            <p:spPr>
              <a:xfrm>
                <a:off x="2658960" y="3162240"/>
                <a:ext cx="61920" cy="180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3" name=""/>
              <p:cNvSpPr/>
              <p:nvPr/>
            </p:nvSpPr>
            <p:spPr>
              <a:xfrm>
                <a:off x="2658960" y="3164040"/>
                <a:ext cx="61920" cy="144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4" name=""/>
              <p:cNvSpPr/>
              <p:nvPr/>
            </p:nvSpPr>
            <p:spPr>
              <a:xfrm>
                <a:off x="2658960" y="3165480"/>
                <a:ext cx="619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5" name=""/>
              <p:cNvSpPr/>
              <p:nvPr/>
            </p:nvSpPr>
            <p:spPr>
              <a:xfrm>
                <a:off x="2658960" y="3166920"/>
                <a:ext cx="619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>
                <a:off x="2658960" y="3170160"/>
                <a:ext cx="619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7" name=""/>
              <p:cNvSpPr/>
              <p:nvPr/>
            </p:nvSpPr>
            <p:spPr>
              <a:xfrm>
                <a:off x="2658960" y="3171960"/>
                <a:ext cx="619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8" name=""/>
              <p:cNvSpPr/>
              <p:nvPr/>
            </p:nvSpPr>
            <p:spPr>
              <a:xfrm>
                <a:off x="2658960" y="3173400"/>
                <a:ext cx="619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2658960" y="3176640"/>
                <a:ext cx="619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0" name=""/>
              <p:cNvSpPr/>
              <p:nvPr/>
            </p:nvSpPr>
            <p:spPr>
              <a:xfrm>
                <a:off x="2658960" y="3178080"/>
                <a:ext cx="619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2658960" y="3179880"/>
                <a:ext cx="619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2658960" y="3182760"/>
                <a:ext cx="619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2658960" y="3184560"/>
                <a:ext cx="619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4" name=""/>
              <p:cNvSpPr/>
              <p:nvPr/>
            </p:nvSpPr>
            <p:spPr>
              <a:xfrm>
                <a:off x="2658960" y="318600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5" name=""/>
              <p:cNvSpPr/>
              <p:nvPr/>
            </p:nvSpPr>
            <p:spPr>
              <a:xfrm>
                <a:off x="2658960" y="3187800"/>
                <a:ext cx="619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6" name=""/>
              <p:cNvSpPr/>
              <p:nvPr/>
            </p:nvSpPr>
            <p:spPr>
              <a:xfrm>
                <a:off x="2658960" y="318924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2658960" y="3189240"/>
                <a:ext cx="619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8" name=""/>
              <p:cNvSpPr/>
              <p:nvPr/>
            </p:nvSpPr>
            <p:spPr>
              <a:xfrm>
                <a:off x="2658960" y="3192480"/>
                <a:ext cx="619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9" name=""/>
              <p:cNvSpPr/>
              <p:nvPr/>
            </p:nvSpPr>
            <p:spPr>
              <a:xfrm>
                <a:off x="2658960" y="3192480"/>
                <a:ext cx="619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2658960" y="319572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2658960" y="3195720"/>
                <a:ext cx="619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2658960" y="3198960"/>
                <a:ext cx="619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3" name=""/>
              <p:cNvSpPr/>
              <p:nvPr/>
            </p:nvSpPr>
            <p:spPr>
              <a:xfrm>
                <a:off x="2658960" y="32004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2658960" y="3201840"/>
                <a:ext cx="619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2658960" y="320508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2658960" y="3205080"/>
                <a:ext cx="619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7" name=""/>
              <p:cNvSpPr/>
              <p:nvPr/>
            </p:nvSpPr>
            <p:spPr>
              <a:xfrm>
                <a:off x="2658960" y="3208320"/>
                <a:ext cx="619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8" name=""/>
              <p:cNvSpPr/>
              <p:nvPr/>
            </p:nvSpPr>
            <p:spPr>
              <a:xfrm>
                <a:off x="2658960" y="3209760"/>
                <a:ext cx="619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>
                <a:off x="2658960" y="3211560"/>
                <a:ext cx="619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2658960" y="32148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2658960" y="3214800"/>
                <a:ext cx="61920" cy="324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2" name=""/>
              <p:cNvSpPr/>
              <p:nvPr/>
            </p:nvSpPr>
            <p:spPr>
              <a:xfrm>
                <a:off x="2658960" y="3218040"/>
                <a:ext cx="61920" cy="288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2658960" y="3220920"/>
                <a:ext cx="619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2658960" y="3224160"/>
                <a:ext cx="61920" cy="18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2658960" y="3225960"/>
                <a:ext cx="61920" cy="468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6" name=""/>
              <p:cNvSpPr/>
              <p:nvPr/>
            </p:nvSpPr>
            <p:spPr>
              <a:xfrm>
                <a:off x="2658960" y="3230640"/>
                <a:ext cx="619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2658960" y="3233880"/>
                <a:ext cx="61920" cy="28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8" name=""/>
              <p:cNvSpPr/>
              <p:nvPr/>
            </p:nvSpPr>
            <p:spPr>
              <a:xfrm>
                <a:off x="2658960" y="3236760"/>
                <a:ext cx="619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9" name=""/>
              <p:cNvSpPr/>
              <p:nvPr/>
            </p:nvSpPr>
            <p:spPr>
              <a:xfrm>
                <a:off x="2660760" y="2933640"/>
                <a:ext cx="6192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0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1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2" name=""/>
              <p:cNvSpPr/>
              <p:nvPr/>
            </p:nvSpPr>
            <p:spPr>
              <a:xfrm>
                <a:off x="1542960" y="3216240"/>
                <a:ext cx="1168560" cy="1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3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4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5" name=""/>
              <p:cNvSpPr/>
              <p:nvPr/>
            </p:nvSpPr>
            <p:spPr>
              <a:xfrm>
                <a:off x="1542960" y="3219480"/>
                <a:ext cx="116856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6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7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8" name=""/>
              <p:cNvSpPr/>
              <p:nvPr/>
            </p:nvSpPr>
            <p:spPr>
              <a:xfrm>
                <a:off x="1542960" y="3222720"/>
                <a:ext cx="116856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9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0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1" name=""/>
              <p:cNvSpPr/>
              <p:nvPr/>
            </p:nvSpPr>
            <p:spPr>
              <a:xfrm>
                <a:off x="1542960" y="3225960"/>
                <a:ext cx="1168560" cy="1440"/>
              </a:xfrm>
              <a:prstGeom prst="rect">
                <a:avLst/>
              </a:prstGeom>
              <a:solidFill>
                <a:srgbClr val="00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2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3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sp>
          <p:nvSpPr>
            <p:cNvPr id="13164" name=""/>
            <p:cNvSpPr/>
            <p:nvPr/>
          </p:nvSpPr>
          <p:spPr>
            <a:xfrm>
              <a:off x="1542960" y="322884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1542960" y="323208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542960" y="3235320"/>
              <a:ext cx="1168560" cy="144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1542960" y="323856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1542960" y="3240000"/>
              <a:ext cx="1168560" cy="180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1542960" y="324180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1542960" y="3243240"/>
              <a:ext cx="1168560" cy="144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1542960" y="32464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1542960" y="324972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1542960" y="3252960"/>
              <a:ext cx="1168560" cy="1440"/>
            </a:xfrm>
            <a:prstGeom prst="rect">
              <a:avLst/>
            </a:prstGeom>
            <a:solidFill>
              <a:srgbClr val="0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1542960" y="3255840"/>
              <a:ext cx="1168560" cy="180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1542960" y="3259080"/>
              <a:ext cx="1168560" cy="1800"/>
            </a:xfrm>
            <a:prstGeom prst="rect">
              <a:avLst/>
            </a:pr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1542960" y="3262320"/>
              <a:ext cx="1168560" cy="1440"/>
            </a:xfrm>
            <a:prstGeom prst="rect">
              <a:avLst/>
            </a:prstGeom>
            <a:solidFill>
              <a:srgbClr val="00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1542960" y="3265560"/>
              <a:ext cx="1168560" cy="1440"/>
            </a:xfrm>
            <a:prstGeom prst="rect">
              <a:avLst/>
            </a:prstGeom>
            <a:solidFill>
              <a:srgbClr val="00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1544760" y="3214800"/>
              <a:ext cx="1168200" cy="5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7054920" y="5286240"/>
              <a:ext cx="7286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7221960" y="52992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AG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6516720" y="2676600"/>
              <a:ext cx="72864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6697080" y="26892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LAS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1527120" y="2752560"/>
              <a:ext cx="12225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1706040" y="276372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8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314280" y="1974960"/>
              <a:ext cx="8794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05440" y="19875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2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366840" y="4379760"/>
              <a:ext cx="8809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558000" y="43927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2471040" y="429588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HANC. MANDIBU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2994120" y="527364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3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70000" y="43610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#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315840" y="5587920"/>
              <a:ext cx="44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2473200" y="240516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2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4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5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6" name=""/>
            <p:cNvSpPr/>
            <p:nvPr/>
          </p:nvSpPr>
          <p:spPr>
            <a:xfrm>
              <a:off x="5650200" y="152568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DOBLE MAL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7" name=""/>
            <p:cNvSpPr/>
            <p:nvPr/>
          </p:nvSpPr>
          <p:spPr>
            <a:xfrm>
              <a:off x="5604840" y="1638360"/>
              <a:ext cx="79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2 "  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8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9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0" name=""/>
            <p:cNvSpPr/>
            <p:nvPr/>
          </p:nvSpPr>
          <p:spPr>
            <a:xfrm>
              <a:off x="5453640" y="290844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/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1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2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3" name=""/>
            <p:cNvSpPr/>
            <p:nvPr/>
          </p:nvSpPr>
          <p:spPr>
            <a:xfrm>
              <a:off x="2962080" y="3189240"/>
              <a:ext cx="43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+ 1/2"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4" name=""/>
            <p:cNvSpPr/>
            <p:nvPr/>
          </p:nvSpPr>
          <p:spPr>
            <a:xfrm>
              <a:off x="2363760" y="3602160"/>
              <a:ext cx="46101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5" name=""/>
            <p:cNvSpPr/>
            <p:nvPr/>
          </p:nvSpPr>
          <p:spPr>
            <a:xfrm>
              <a:off x="2910960" y="3614760"/>
              <a:ext cx="308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INTERMEDIA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6" name=""/>
            <p:cNvSpPr/>
            <p:nvPr/>
          </p:nvSpPr>
          <p:spPr>
            <a:xfrm>
              <a:off x="4943520" y="2181240"/>
              <a:ext cx="3316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7" name=""/>
            <p:cNvSpPr/>
            <p:nvPr/>
          </p:nvSpPr>
          <p:spPr>
            <a:xfrm>
              <a:off x="5388120" y="2193840"/>
              <a:ext cx="238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N°-1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pic>
        <p:nvPicPr>
          <p:cNvPr id="13238" name="SD_SCRN" descr=""/>
          <p:cNvPicPr/>
          <p:nvPr/>
        </p:nvPicPr>
        <p:blipFill>
          <a:blip r:embed="rId8"/>
          <a:stretch/>
        </p:blipFill>
        <p:spPr>
          <a:xfrm flipH="1" rot="20790000">
            <a:off x="4141080" y="1573200"/>
            <a:ext cx="1014480" cy="571680"/>
          </a:xfrm>
          <a:prstGeom prst="rect">
            <a:avLst/>
          </a:prstGeom>
          <a:ln w="0">
            <a:noFill/>
          </a:ln>
        </p:spPr>
      </p:pic>
      <p:pic>
        <p:nvPicPr>
          <p:cNvPr id="13239" name="SD_SCRN" descr=""/>
          <p:cNvPicPr/>
          <p:nvPr/>
        </p:nvPicPr>
        <p:blipFill>
          <a:blip r:embed="rId9"/>
          <a:stretch/>
        </p:blipFill>
        <p:spPr>
          <a:xfrm flipH="1" rot="20384400">
            <a:off x="4725720" y="4444920"/>
            <a:ext cx="792000" cy="4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58:29Z</dcterms:created>
  <dc:creator>jgarrid</dc:creator>
  <dc:description/>
  <dc:language>en-US</dc:language>
  <cp:lastModifiedBy>Aldo Casali</cp:lastModifiedBy>
  <dcterms:modified xsi:type="dcterms:W3CDTF">2006-11-28T14:15:00Z</dcterms:modified>
  <cp:revision>4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489724</vt:r8>
  </property>
  <property fmtid="{D5CDD505-2E9C-101B-9397-08002B2CF9AE}" pid="3" name="_AuthorEmail">
    <vt:lpwstr>pnunez@anglochile.cl</vt:lpwstr>
  </property>
  <property fmtid="{D5CDD505-2E9C-101B-9397-08002B2CF9AE}" pid="4" name="_AuthorEmailDisplayName">
    <vt:lpwstr>Nunez S. Perla T.</vt:lpwstr>
  </property>
  <property fmtid="{D5CDD505-2E9C-101B-9397-08002B2CF9AE}" pid="5" name="_EmailSubject">
    <vt:lpwstr>Flowsheet Molienda</vt:lpwstr>
  </property>
  <property fmtid="{D5CDD505-2E9C-101B-9397-08002B2CF9AE}" pid="6" name="_PreviousAdHocReviewCycleID">
    <vt:r8>1226835440</vt:r8>
  </property>
  <property fmtid="{D5CDD505-2E9C-101B-9397-08002B2CF9AE}" pid="7" name="_ReviewingToolsShownOnce">
    <vt:lpwstr/>
  </property>
</Properties>
</file>