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DED-F6A8-40EE-A961-477B32EC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BC8-8BAF-4398-A241-B9BFE8D0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036-93C7-4322-A93D-8FC85E1B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7F2-25C8-44CC-B08A-DFF6B55C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83C6-5318-4E32-A534-00C02577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5096-3A9B-43DD-A4F8-978DA883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8E64-45CD-45FA-B150-E0D38CB0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FADB-D81B-4BF2-AC6B-6F983E19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DFB2-B4F8-476D-90E8-2A7C0FF9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18D1-E3EA-4FFB-B82D-8C22D8D2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2BEC-E11C-4833-9704-327ADB97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374-4F89-4317-B190-D197B3B0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57FB-B01D-449D-B919-A2A441BC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84EF-6D0B-4920-B095-96011D99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4D05-7A47-4423-81C5-E73CD7E9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E52C-E148-47F8-B5B9-B14AD2AE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D6BB-AA93-4B7F-B29D-C0A7391D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0F3-4780-4309-9EE1-6EBE2BC5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8FF-8CAD-42AD-B44A-C2F4839C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DE0-34E7-43C8-A0F1-8758103C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D12-6137-47CB-A26B-2391A54C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554-9C08-465E-B336-D93ABD69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19B-EC22-4A2F-968E-6551A287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8C9-DE19-4901-9F61-5A7BBDD1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9EA3-43CF-4926-A2B5-4A975A1B0B09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8286-0825-4690-A3BA-BCE764E535B2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owsheet Planta El Cob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91380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21:08:33Z</dcterms:created>
  <dc:creator>Azolas Alvarez</dc:creator>
  <dc:description/>
  <dc:language>en-US</dc:language>
  <cp:lastModifiedBy>Aldo Casali</cp:lastModifiedBy>
  <dcterms:modified xsi:type="dcterms:W3CDTF">2008-05-15T22:39:20Z</dcterms:modified>
  <cp:revision>15</cp:revision>
  <dc:subject/>
  <dc:title>Universidad de Chile Facultad de Ciencias Físicas y Matemáticas Departamento de Ingeniería Civil de Minas  Minera Sur Andes Ltda., Anglo American Chile</dc:title>
</cp:coreProperties>
</file>