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080-4D9D-4D48-A139-F10D8381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5C7-1902-46B1-82D4-C1C2133C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F3F-DDCF-443F-AC47-6B885B34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FD44-EC93-4A28-936D-EC847C44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4386-CDB5-4304-A5A8-605F9AF3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C40F-26E3-432E-9EA5-73B24A0F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E7DA-6B92-4329-904A-A249D4CD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4A47-22F9-4831-B68A-F7ABC676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F35A-367B-4A9F-A057-43951715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B927-A9AA-4BDF-A48B-22FA8F5B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E70A-44A5-4C19-9983-CC2E850A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013-E92E-43C2-9DB6-0258DB57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B3E9-5E3D-4B7A-B5FA-074824E9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8B6E-6186-4F4A-9FF7-D0DAEACD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F075-7034-403A-A599-501C4E7D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FF07-8EE5-4937-BF0A-78B3668A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4C04-4B68-422E-9C64-B0702D4C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C04-47D9-439C-B7EE-869EC6CB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B82-ABBB-409D-9549-4CCF8D11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0381-1D4D-47D2-9B53-FCD3491F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FA05-9BE9-4094-A537-7AC280DC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14E-83D7-48EB-851C-BCA26D3B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1E9-5A22-461B-85B6-DCC06C0F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EF28-C6DD-4D8D-9B50-C180F7ED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CA37-B31F-4797-B1B2-327C375C64D5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78EB-FB56-4824-9B2A-44D0A2DA2873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owsheet Planta El Cob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691380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21:08:33Z</dcterms:created>
  <dc:creator>Azolas Alvarez</dc:creator>
  <dc:description/>
  <dc:language>en-US</dc:language>
  <cp:lastModifiedBy>Aldo Casali</cp:lastModifiedBy>
  <dcterms:modified xsi:type="dcterms:W3CDTF">2008-05-15T22:39:20Z</dcterms:modified>
  <cp:revision>15</cp:revision>
  <dc:subject/>
  <dc:title>Universidad de Chile Facultad de Ciencias Físicas y Matemáticas Departamento de Ingeniería Civil de Minas  Minera Sur Andes Ltda., Anglo American Chile</dc:title>
</cp:coreProperties>
</file>