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DD0-B58C-4E5B-89F5-0A0F1CDE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ECD-35D0-461C-A573-2077051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F3C-597A-4D85-94B3-8CC3DC8D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C5E-6EE6-45D2-BE6A-75C5F72C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0B09-8E36-466E-8031-53F55A30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FBD0-16CA-4389-AC66-A5EC42B4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D39-7361-40FF-8243-621629B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E03-43CD-4DE2-A340-0CD34775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2819-7581-4848-9265-9210469B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76B-5D16-4EC6-A5A5-B3071FE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302-AE41-40F3-96BD-5B6EB56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7D4-84C2-4099-82F0-DAC5B02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AE98-6271-47AB-8A4C-4DD1FF90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A41F-6924-4689-9949-EBA4471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04E-84CF-46C0-B144-BA96FAE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6202-FD9C-4042-B9B3-CA24ADF5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A007-2BEC-47F7-B62A-C852CDA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390-608B-4DDC-BAB6-73E74715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DD4-1B4D-43FE-BE49-8245A6E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562-ABD8-4C7D-85DF-A48082E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45E-F151-4550-A08F-8EB08D6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217-A895-46C6-BB7E-52A6AEAA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358-48EF-4B0B-9012-86AD199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5D0-DBB0-4B05-BDAD-B0C43BB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F798-9DCF-4D7F-AAC4-D95E574A826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54C5-2ADB-400E-A761-BC280A5A17D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owsheet Planta El Co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9138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21:08:33Z</dcterms:created>
  <dc:creator>Azolas Alvarez</dc:creator>
  <dc:description/>
  <dc:language>en-US</dc:language>
  <cp:lastModifiedBy>Aldo Casali</cp:lastModifiedBy>
  <dcterms:modified xsi:type="dcterms:W3CDTF">2008-05-15T22:39:20Z</dcterms:modified>
  <cp:revision>15</cp:revision>
  <dc:subject/>
  <dc:title>Universidad de Chile Facultad de Ciencias Físicas y Matemáticas Departamento de Ingeniería Civil de Minas  Minera Sur Andes Ltda., Anglo American Chile</dc:title>
</cp:coreProperties>
</file>