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88240" cy="1001700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17000"/>
              <a:gd name="textAreaBottom" fmla="*/ 10016640 h 10017000"/>
            </a:gdLst>
            <a:ahLst/>
            <a:rect l="textAreaLeft" t="textAreaTop" r="textAreaRight" b="textAreaBottom"/>
            <a:pathLst>
              <a:path w="21600" h="31411">
                <a:moveTo>
                  <a:pt x="5" y="0"/>
                </a:moveTo>
                <a:arcTo wR="5" hR="5" stAng="16200000" swAng="-5400000"/>
                <a:lnTo>
                  <a:pt x="0" y="31406"/>
                </a:lnTo>
                <a:arcTo wR="5" hR="5" stAng="10800000" swAng="-5400000"/>
                <a:lnTo>
                  <a:pt x="21595" y="314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88240" cy="1001700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17000"/>
              <a:gd name="textAreaBottom" fmla="*/ 10016640 h 10017000"/>
            </a:gdLst>
            <a:ahLst/>
            <a:rect l="textAreaLeft" t="textAreaTop" r="textAreaRight" b="textAreaBottom"/>
            <a:pathLst>
              <a:path w="21600" h="31411">
                <a:moveTo>
                  <a:pt x="5" y="0"/>
                </a:moveTo>
                <a:arcTo wR="5" hR="5" stAng="16200000" swAng="-5400000"/>
                <a:lnTo>
                  <a:pt x="0" y="31406"/>
                </a:lnTo>
                <a:arcTo wR="5" hR="5" stAng="10800000" swAng="-5400000"/>
                <a:lnTo>
                  <a:pt x="21595" y="314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1920"/>
            <a:ext cx="20459880" cy="153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504720" y="4729320"/>
            <a:ext cx="58802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-360" y="-7737840"/>
            <a:ext cx="360" cy="169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33192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-10228320" y="331920"/>
            <a:ext cx="20459880" cy="153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10228320" y="331920"/>
            <a:ext cx="20459880" cy="153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-10228320" y="331920"/>
            <a:ext cx="20459880" cy="153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33192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33192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33192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3192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33192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3192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38160" y="762120"/>
            <a:ext cx="5008680" cy="37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504720" y="4728960"/>
            <a:ext cx="58816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53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8960" y="4192200"/>
            <a:ext cx="7653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0800" y="198072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960" y="419220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70800" y="419220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2464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6640" y="1980720"/>
            <a:ext cx="2464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464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48960" y="4192200"/>
            <a:ext cx="2464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6640" y="4192200"/>
            <a:ext cx="2464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4192200"/>
            <a:ext cx="2464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48960" y="1980720"/>
            <a:ext cx="76532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532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3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0800" y="1980720"/>
            <a:ext cx="373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49960" cy="65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0800" y="1980720"/>
            <a:ext cx="373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8960" y="419220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48960" y="1980720"/>
            <a:ext cx="76532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3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0800" y="198072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0800" y="419220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0800" y="198072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92200"/>
            <a:ext cx="7653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53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48960" y="4192200"/>
            <a:ext cx="7653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0800" y="198072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8960" y="419220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0800" y="419220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2464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6640" y="1980720"/>
            <a:ext cx="2464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980720"/>
            <a:ext cx="2464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48960" y="4192200"/>
            <a:ext cx="2464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6640" y="4192200"/>
            <a:ext cx="2464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4192200"/>
            <a:ext cx="2464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532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3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70800" y="1980720"/>
            <a:ext cx="373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49960" cy="65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0800" y="1980720"/>
            <a:ext cx="373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48960" y="419220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3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0800" y="198072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70800" y="419220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0800" y="1980720"/>
            <a:ext cx="373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48960" y="4192200"/>
            <a:ext cx="7653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oundRect">
            <a:avLst>
              <a:gd name="adj" fmla="val 1560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oundRect">
            <a:avLst>
              <a:gd name="adj" fmla="val 1560"/>
            </a:avLst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561960"/>
            <a:ext cx="154080" cy="1066680"/>
          </a:xfrm>
          <a:custGeom>
            <a:avLst/>
            <a:gdLst/>
            <a:ahLst/>
            <a:rect l="l" t="t" r="r" b="b"/>
            <a:pathLst>
              <a:path w="428" h="2964">
                <a:moveTo>
                  <a:pt x="427" y="2963"/>
                </a:moveTo>
                <a:lnTo>
                  <a:pt x="0" y="2963"/>
                </a:lnTo>
                <a:lnTo>
                  <a:pt x="0" y="0"/>
                </a:lnTo>
                <a:lnTo>
                  <a:pt x="427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424" h="2982">
                <a:moveTo>
                  <a:pt x="0" y="0"/>
                </a:moveTo>
                <a:lnTo>
                  <a:pt x="423" y="0"/>
                </a:lnTo>
                <a:lnTo>
                  <a:pt x="423" y="2981"/>
                </a:lnTo>
                <a:lnTo>
                  <a:pt x="0" y="2981"/>
                </a:lnTo>
              </a:path>
            </a:pathLst>
          </a:custGeom>
          <a:noFill/>
          <a:ln w="7632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48960" y="1980720"/>
            <a:ext cx="76532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0920" indent="-43488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5920" indent="-398520"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73280" indent="-38268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62080" indent="-38736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62080" indent="-387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62080" indent="-387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914400"/>
            <a:ext cx="8679960" cy="2508120"/>
            <a:chOff x="0" y="914400"/>
            <a:chExt cx="8679960" cy="2508120"/>
          </a:xfrm>
        </p:grpSpPr>
        <p:sp>
          <p:nvSpPr>
            <p:cNvPr id="43" name=""/>
            <p:cNvSpPr/>
            <p:nvPr/>
          </p:nvSpPr>
          <p:spPr>
            <a:xfrm>
              <a:off x="228240" y="914400"/>
              <a:ext cx="2513880" cy="250812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675800"/>
              <a:ext cx="4721760" cy="1141920"/>
            </a:xfrm>
            <a:prstGeom prst="roundRect">
              <a:avLst>
                <a:gd name="adj" fmla="val 139"/>
              </a:avLst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58200" y="1675800"/>
              <a:ext cx="4721760" cy="1141920"/>
            </a:xfrm>
            <a:prstGeom prst="roundRect">
              <a:avLst>
                <a:gd name="adj" fmla="val 1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9120" y="1523160"/>
              <a:ext cx="228240" cy="1446840"/>
            </a:xfrm>
            <a:custGeom>
              <a:avLst/>
              <a:gdLst/>
              <a:ahLst/>
              <a:rect l="l" t="t" r="r" b="b"/>
              <a:pathLst>
                <a:path w="636" h="4022">
                  <a:moveTo>
                    <a:pt x="635" y="4021"/>
                  </a:moveTo>
                  <a:lnTo>
                    <a:pt x="0" y="4021"/>
                  </a:lnTo>
                  <a:lnTo>
                    <a:pt x="0" y="0"/>
                  </a:lnTo>
                  <a:lnTo>
                    <a:pt x="635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40440" y="1209240"/>
              <a:ext cx="261720" cy="1369080"/>
            </a:xfrm>
            <a:custGeom>
              <a:avLst/>
              <a:gdLst/>
              <a:ahLst/>
              <a:rect l="l" t="t" r="r" b="b"/>
              <a:pathLst>
                <a:path w="728" h="3807">
                  <a:moveTo>
                    <a:pt x="0" y="0"/>
                  </a:moveTo>
                  <a:lnTo>
                    <a:pt x="727" y="0"/>
                  </a:lnTo>
                  <a:lnTo>
                    <a:pt x="727" y="3806"/>
                  </a:lnTo>
                  <a:lnTo>
                    <a:pt x="0" y="3806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1442880"/>
            <a:ext cx="70786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120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9560" indent="-439560"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0920" indent="-43488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5920" indent="-398520"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73280" indent="-38268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62080" indent="-38736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62080" indent="-387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62080" indent="-387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56A –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8960" y="38862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292929"/>
                </a:solidFill>
                <a:latin typeface="Arial"/>
              </a:rPr>
              <a:t>Unione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5105520"/>
            <a:ext cx="62481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Profesor: Roberto Corval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Gentileza de Felipe Figueroa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Correcciones: William Vidal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erzas Resul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647960"/>
            <a:ext cx="3927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 fuerza resultante en el perno 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 fuerza resultante en la unión 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73480" y="4616280"/>
                <a:ext cx="467208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44800" y="1643040"/>
            <a:ext cx="2693880" cy="27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114800" y="5607000"/>
                <a:ext cx="48132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de Car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6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 fracción de la carga P soportada por el perno está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800440" y="3124080"/>
                <a:ext cx="293364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954000" y="5334120"/>
            <a:ext cx="7656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Arial Unicode MS"/>
              </a:rPr>
              <a:t>El perno se diseña en función de la carga F</a:t>
            </a:r>
            <a:r>
              <a:rPr b="0" lang="en-US" sz="3200" spc="-1" strike="noStrike" baseline="-25000">
                <a:solidFill>
                  <a:srgbClr val="292929"/>
                </a:solidFill>
                <a:latin typeface="Arial"/>
                <a:ea typeface="Arial Unicode MS"/>
              </a:rPr>
              <a:t>b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644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idez del P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362320" y="2743200"/>
                <a:ext cx="3429000" cy="34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Parte Con Hilo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Parte Sin Hilo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25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5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43080"/>
                <a:tab algn="l" pos="793800"/>
                <a:tab algn="l" pos="1241280"/>
                <a:tab algn="l" pos="1690560"/>
                <a:tab algn="l" pos="2139840"/>
                <a:tab algn="l" pos="2589120"/>
                <a:tab algn="l" pos="3038400"/>
                <a:tab algn="l" pos="3487680"/>
                <a:tab algn="l" pos="3936960"/>
                <a:tab algn="l" pos="4386240"/>
                <a:tab algn="l" pos="4835520"/>
                <a:tab algn="l" pos="5284800"/>
                <a:tab algn="l" pos="5734080"/>
                <a:tab algn="l" pos="6183360"/>
                <a:tab algn="l" pos="6632640"/>
                <a:tab algn="l" pos="7081920"/>
                <a:tab algn="l" pos="7531200"/>
                <a:tab algn="l" pos="7980480"/>
                <a:tab algn="l" pos="8429760"/>
                <a:tab algn="l" pos="887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igidez del perno está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644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idez De Los Ele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5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ay una distribución de la carga en los elementos unidos, denominada cono de presión de Rotsche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3851280"/>
            <a:ext cx="78753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644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idez de los Ele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59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l ángulo del cono se toma igual a 30º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 rigidez de un elemento esta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229280" y="3254400"/>
                <a:ext cx="72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143000" y="3809880"/>
                <a:ext cx="675180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4680000" y="5759280"/>
            <a:ext cx="37796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= agar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 = diám.arandela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 = diám.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idez de los Ele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38080" y="2050920"/>
                <a:ext cx="7696440" cy="33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es el diámetro inicial del con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 general es igual a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es el ángulo del cono, se toma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emento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idez de 2 Elementos Idén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4880" indent="-4348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 se consideran solo dos elementos a unir, de igual material y espesor, espalda con espalda y asumimos que d</a:t>
            </a:r>
            <a:r>
              <a:rPr b="0" lang="en-US" sz="3200" spc="-1" strike="noStrike" baseline="-25000">
                <a:solidFill>
                  <a:srgbClr val="292929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=1.5d obtenemos qu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14400" y="4114800"/>
                <a:ext cx="8113680" cy="21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7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7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7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idez de 2 Elementos Idén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ambién para este caso se puede utilizar la regresió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514600" y="3124080"/>
                <a:ext cx="38098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43000" y="4495680"/>
            <a:ext cx="6705720" cy="20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carga y Par de 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51465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un tornillo apretado con un torque T, su precarga está dada p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3657600"/>
                <a:ext cx="5257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3240360" cy="4145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3520" y="4521240"/>
            <a:ext cx="487656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carga y Par de 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l término es parentesis cuadrado se denomina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coeficiente de par de torsión, K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80060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7288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de Prue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76564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esfuerzo de prueba S</a:t>
            </a:r>
            <a:r>
              <a:rPr b="0" i="1" lang="en-US" sz="2800" spc="-1" strike="noStrike" baseline="-25000">
                <a:solidFill>
                  <a:srgbClr val="292929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 define como el esfuerzo aplicado sobre el perno que garantiza que no habrá fluencia con un 99% de certeza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 fracción de la carga de prueba utilizada por la precarga se denomina como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20760" y="4800600"/>
                <a:ext cx="3989520" cy="17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de Prue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6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 fracción del esfuerzo de prueba que siente el perno está dado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295280" y="3657600"/>
                <a:ext cx="650268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de Prue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6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 ecuación de diseño para cargas estáticas queda com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20800" y="3306600"/>
                <a:ext cx="5100840" cy="19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6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 sabe que la resistencia a la fatiga de una probeta sometida a un ensayo de tensión con viga rotativa esta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33520" y="4262400"/>
                <a:ext cx="81532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6</m:t>
                                  </m:r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UT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,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8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{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4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a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74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UTS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4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a</m:t>
                            </m:r>
                          </m:e>
                        </m:d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6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ra una geometría y tipo de carga determinada, la resistencia a la fatiga está dada por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782720" y="4084560"/>
                <a:ext cx="54244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6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ra pernos, la resistencia a la fatiga corregida está tabulad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800100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6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ra una carga oscilante podemos definir las cantidade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838080" y="3233880"/>
                <a:ext cx="7467840" cy="27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P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i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6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criterios de falla utilizados para estos casos so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0920" indent="-43488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oodma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0920" indent="-43488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SME Elíptico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905120" y="3505320"/>
                <a:ext cx="205740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76520" y="5029200"/>
                <a:ext cx="3154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i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6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spejando el factor de seguridad para fatiga en Goodman, sabiendo qu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9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 obtiene qu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362320" y="3048120"/>
                <a:ext cx="16761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4603680"/>
                <a:ext cx="310500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sca métrica M y M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gura 8-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1670040"/>
            <a:ext cx="7391520" cy="62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ámetros del P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vance,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: cuanto se mueve axialmente el perno después de un giro de 360º. Cuando hay solo un hilo l=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9560" indent="-4395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so,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Distancia entre dos cuerdas adyacent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9560" indent="-4395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Área de Esfuerzo de Tensión,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i="1" lang="en-US" sz="3200" spc="-1" strike="noStrike" baseline="-33000">
                <a:solidFill>
                  <a:srgbClr val="292929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: área equivalente para un ensayo de tracción de un perno sin hil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49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sideraciones de lar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532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843" t="0" r="829" b="0"/>
          <a:stretch/>
        </p:blipFill>
        <p:spPr>
          <a:xfrm>
            <a:off x="144360" y="1930320"/>
            <a:ext cx="882036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ámetros del P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06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rgo zona con hilo, L</a:t>
            </a:r>
            <a:r>
              <a:rPr b="0" lang="en-US" sz="2800" spc="-1" strike="noStrike" baseline="-33000">
                <a:solidFill>
                  <a:srgbClr val="292929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392120" y="2849400"/>
                <a:ext cx="6553440" cy="236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L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  <m:r>
                                <m:t xml:space="preserve">∧</m:t>
                              </m:r>
                              <m:r>
                                <m:t xml:space="preserve">D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8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125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L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D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L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012680" y="5403960"/>
            <a:ext cx="6996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80920" indent="-434880">
              <a:lnSpc>
                <a:spcPct val="93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"/>
              <a:tabLst>
                <a:tab algn="l" pos="88092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8647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Arial Unicode MS"/>
              </a:rPr>
              <a:t>Todas las medidas están en mm. (Serie M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Arial Unicode MS"/>
              </a:rPr>
              <a:t>‏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Arial Unicode MS"/>
              </a:rPr>
              <a:t> (pág. 640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  <a:ea typeface="Arial Unicode MS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5920" indent="-39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092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8647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  <a:tab algn="l" pos="1078056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n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s roscas (o hilos) para la serie métrica se denominan escribiendo el diámetro y el paso en milímetros, en ese ord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9560" indent="-4395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j: M8x1.25 =&gt; d=8[mm], p=1.25[mm]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álisis de Fuerz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06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l perno proporciona una fuerza para mantener la unión debido a su elongación. Dicha elongación es causada por el apriete de és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9560" indent="-43956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a fuerza causada por esta elongación se conoce como </a:t>
            </a:r>
            <a:r>
              <a:rPr b="0" i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precarga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, o F</a:t>
            </a:r>
            <a:r>
              <a:rPr b="0" lang="en-US" sz="2400" spc="-1" strike="noStrike" baseline="-33000">
                <a:solidFill>
                  <a:srgbClr val="292929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9560" indent="-43956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a precarga está presente después del apriete, sin importar que no hayan fuerzas externas aplicadas a la unió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3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álisis de Fuerz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447920" y="2076480"/>
                <a:ext cx="266544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694240" cy="270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859280" y="5400720"/>
            <a:ext cx="25210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_b =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_m = e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boratorio</cp:lastModifiedBy>
  <dcterms:modified xsi:type="dcterms:W3CDTF">2009-08-18T22:41:56Z</dcterms:modified>
  <cp:revision>2</cp:revision>
  <dc:subject/>
  <dc:title>ME56A – Diseño de Elementos de Máquinas</dc:title>
</cp:coreProperties>
</file>