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C08-3A96-4B53-8C7F-AAD94783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466-868F-4AA0-99AE-100F5150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BCD-2732-42CE-9FC2-618E9980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B3C-F501-4097-A878-3E1D5FC5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342-F806-4604-A4C1-6ABF729E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558-E065-414A-8804-6D90826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039-3175-40E1-B9C5-980EE938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03B-3F1F-4CB4-88DC-73FB8970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29F-5648-4050-A8B2-D76A59BC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C1F-BB12-4EFA-9A7A-A55A32E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B22-A08A-4A13-9E47-0512422B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D6A-538C-499B-BB72-1F2A3AB9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F298-62A5-4EE4-95A2-F62F52B77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, 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Estát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0512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Estática Neces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267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6200" y="5181480"/>
            <a:ext cx="4041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actor de seguridad est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ímite de velo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212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rod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00" y="176040"/>
            <a:ext cx="81993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32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600200"/>
            <a:ext cx="31240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981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2096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4382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954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124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276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4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954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6668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4382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981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096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352680"/>
            <a:ext cx="37339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2819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600" y="23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3760" y="1143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3080" y="1087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371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7000" y="10875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7680" y="1371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46960" y="18018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a s) =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47600" y="2522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reyn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408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880" y="27925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.89 · 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789280"/>
            <a:ext cx="9907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8120" y="338148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25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080" y="3408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32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0320" y="3706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703680"/>
            <a:ext cx="381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3256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8120" y="4108320"/>
            <a:ext cx="222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/s)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(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0480" y="471816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71816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0400" y="48006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718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50990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09580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471816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7720" y="48290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56325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638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5721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38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560" y="601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601668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56386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2280" y="5749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3927600"/>
            <a:ext cx="401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/dy : gradiente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       : Viscosidad absoluta en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Viscosidad absoluta en (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cinemática (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ensidad (kg/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        : Segundos Say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Ley de Pet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3040" y="1265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1320" y="12952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16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7800" y="16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96960"/>
            <a:ext cx="246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r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400" y="1600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15969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8680" y="140184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0" y="223524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082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0" y="2540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36920"/>
            <a:ext cx="1295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5892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2082960"/>
            <a:ext cx="152280" cy="838080"/>
          </a:xfrm>
          <a:custGeom>
            <a:avLst/>
            <a:gdLst>
              <a:gd name="textAreaLeft" fmla="*/ 0 w 152280"/>
              <a:gd name="textAreaRight" fmla="*/ 10692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2286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l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488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5113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7400" y="3151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f 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00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r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f l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0200" y="3174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342900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425760"/>
            <a:ext cx="838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920" y="3809880"/>
            <a:ext cx="470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U       : velocidad perif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        : espesor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bricación Hidr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8480" y="160020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73280"/>
            <a:ext cx="152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3760" y="16765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749600"/>
            <a:ext cx="152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132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6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88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7226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14479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447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371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1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30481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1200"/>
            <a:ext cx="152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7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63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8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0942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195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8195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809880"/>
            <a:ext cx="57909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 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Número característico o de de Sommer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686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ición del 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8120" y="281952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7920" y="582480"/>
            <a:ext cx="716256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lujo de lu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2895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c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68560"/>
            <a:ext cx="6858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ión máxima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s para cojinetes de desl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029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4240" y="1000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B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3160" y="100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Rod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05756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85040" y="289548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cilín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esfér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cón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: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: cónic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: cónicos de contacto 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400" y="10008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2952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19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2193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990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5146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438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4382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52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940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819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8160" y="2362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42760" y="3484440"/>
            <a:ext cx="64350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: duración nominal en millones de revol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: duración nominal en horas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pacidad de carga dinámica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exponente empírico (p=3 rodamientos de bola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=10/3 rodamientos de rodil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velocidad constante de rotación,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120" y="100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ciones típ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251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3429000"/>
            <a:ext cx="44539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rad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ax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Cons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Fluctu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2160" y="166356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4479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...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051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572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920" y="154944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9080" y="244152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209680"/>
            <a:ext cx="17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2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4880" y="259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590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4572000"/>
            <a:ext cx="160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(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10T12:26:09Z</dcterms:modified>
  <cp:revision>151</cp:revision>
  <dc:subject/>
  <dc:title>Sin título de diapositiva</dc:title>
</cp:coreProperties>
</file>