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5939-4D0F-49B6-ABD1-F137F37A1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09FA-8202-4515-B775-58FEDEF0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197F-9C51-4C05-812C-E48CD6992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1831-1DC5-497E-B69A-9D092532E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893C-ACC2-4494-9389-10D6B537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80FB-E3BA-4E5C-8D4B-975F8E6C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157F-6D20-4903-ACFF-F9CD341A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A9BC-687B-4FBE-99D8-DF710E42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BD8A-7B7D-4975-8D73-B9809C8F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9838-6A94-47FB-ABBD-17198D88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79E2-735F-4E5A-A7B3-6DDCE070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9145-5792-469A-93E9-CB27FB92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C858-A6A1-48A2-BE9D-919D69679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7480" y="2819520"/>
            <a:ext cx="24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SOR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228600" y="990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 =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221120" y="755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44800" y="1371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19320" y="1289160"/>
            <a:ext cx="30456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677600" y="99072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86000" y="704880"/>
            <a:ext cx="106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0.8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ut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438280" y="129528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86000" y="1289160"/>
            <a:ext cx="91440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76720" y="10666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64320" y="755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88000" y="1371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62520" y="1289160"/>
            <a:ext cx="30456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420800" y="99072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029200" y="7048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8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3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181480" y="1295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3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29200" y="1289160"/>
            <a:ext cx="121932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1066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- 0.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4920" y="2133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991800" y="213372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600200" y="1847880"/>
            <a:ext cx="1523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(0.8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ut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752480" y="243828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600200" y="2432160"/>
            <a:ext cx="121932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971800" y="2133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430080" y="220968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038480" y="19242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0.8 ·134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91120" y="2514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3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38480" y="2508120"/>
            <a:ext cx="121932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48640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2.7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0880" y="312408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10 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N 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62320" y="31240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10 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.764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N 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-0.21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58.6 kp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23880" y="3981600"/>
            <a:ext cx="106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600200" y="4572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23880" y="4565520"/>
            <a:ext cx="53352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09680" y="4267080"/>
            <a:ext cx="10670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?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648320" y="4133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72428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648320" y="4718160"/>
            <a:ext cx="53316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562720" y="4343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&gt;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34.9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18720" y="100080"/>
            <a:ext cx="33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sortes Helicoid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962520" cy="2616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95680" y="685800"/>
            <a:ext cx="4114800" cy="2573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2360" y="4002120"/>
            <a:ext cx="1293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6040" y="3809880"/>
            <a:ext cx="5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1280" y="4419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43434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11120" y="41148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92360" y="3809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92360" y="4419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43434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16960" y="438948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2920" y="499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49230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55200" y="472428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17160" y="4389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6800" y="499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07320" y="4694400"/>
            <a:ext cx="8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49230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89960" y="4389480"/>
            <a:ext cx="7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5760" y="4923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34320" y="48466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02600" y="464832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0" y="5562720"/>
            <a:ext cx="64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1640" y="54100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1080" y="601992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59436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6720" y="57150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7960" y="5410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07760" y="601992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76520" y="5943600"/>
            <a:ext cx="47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84680" y="5745240"/>
            <a:ext cx="73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88040" y="571500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920" y="54100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97880" y="5943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96080" y="5943600"/>
            <a:ext cx="471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50400" y="5562720"/>
            <a:ext cx="988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= K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12040" y="54100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8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41480" y="601992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5943600"/>
            <a:ext cx="6145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7160" y="5486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16800" y="594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59960" y="571500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C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59436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6600" y="6400800"/>
            <a:ext cx="629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: Factor de multiplicación de esfuerzo c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37200" y="3200400"/>
            <a:ext cx="581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) corte por torsión;  b) corte di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) resultante corte directo y to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) resultante corte directo torsión y curv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659400" y="457200"/>
            <a:ext cx="9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26440" y="3049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55880" y="9144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24280" y="838080"/>
            <a:ext cx="6145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59760" y="1808280"/>
            <a:ext cx="69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68880" y="16002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C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2920" y="22161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C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54320" y="19051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06960" y="16002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6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11880" y="2209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4120" y="2133720"/>
            <a:ext cx="47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2895480"/>
            <a:ext cx="885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7680" y="2660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27120" y="3276720"/>
            <a:ext cx="452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880" y="31939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14600" y="304812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 =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51400" y="4343400"/>
            <a:ext cx="629532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  : Factor de corrección de Wh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: Factor de multiplicación de esfuerzo c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Efecto de curvatu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09040" y="228600"/>
            <a:ext cx="47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formación de resortes helicoid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1447920"/>
            <a:ext cx="914400" cy="1447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209680"/>
            <a:ext cx="464832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52680" y="1447920"/>
            <a:ext cx="1447920" cy="144756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14800" y="1143000"/>
            <a:ext cx="0" cy="259092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762120" y="9907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676520" y="9907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11430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28600" y="14479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8600" y="2895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447920"/>
            <a:ext cx="0" cy="1447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657600" y="2209680"/>
            <a:ext cx="4572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819520" y="22096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819520" y="27432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22096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2209680"/>
            <a:ext cx="9144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19920" y="22096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0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1800" y="7621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2133720"/>
            <a:ext cx="7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25720" y="21337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148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249960" y="1119240"/>
            <a:ext cx="3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4360" y="1841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8520" y="175896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30840" y="15303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12440" y="122544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66280" y="1835280"/>
            <a:ext cx="8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010280" y="1758960"/>
            <a:ext cx="471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22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0" y="2971800"/>
            <a:ext cx="703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35400" y="35053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10280" y="3422520"/>
            <a:ext cx="53352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91320" y="42609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77120" y="3956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6F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38040" y="457200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448956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68580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Gir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25120" y="2438280"/>
            <a:ext cx="26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sviación Angul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39400" y="35053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flex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4373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30600" y="4730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464832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7440" y="44197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14600" y="4114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46483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30960" y="4114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75520" y="464832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52960" y="5334120"/>
            <a:ext cx="28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nstante del resor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86200" y="5943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61722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28360" y="571500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19720" y="61722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442880" y="228600"/>
            <a:ext cx="52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rgas de Fatiga en resortes helicoid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29200" y="838080"/>
            <a:ext cx="136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-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9728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88400" y="1143000"/>
            <a:ext cx="85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438280" y="137160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53640" y="838080"/>
            <a:ext cx="139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2172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15000" y="1143000"/>
            <a:ext cx="896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562720" y="13716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2286000"/>
            <a:ext cx="13050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50160" y="2133720"/>
            <a:ext cx="87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22160" y="27432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2666880"/>
            <a:ext cx="61416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24280" y="2286000"/>
            <a:ext cx="13050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05720" y="2133720"/>
            <a:ext cx="91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74840" y="27432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3600" y="2666880"/>
            <a:ext cx="6145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42200" y="3505320"/>
            <a:ext cx="22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alla por tors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267080"/>
            <a:ext cx="13050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S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57600" y="4267080"/>
            <a:ext cx="30481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= S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742560" y="30492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520" y="609480"/>
            <a:ext cx="4152240" cy="38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DAT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Resorte helicoidal de compres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Diámetro exterior: </a:t>
            </a:r>
            <a:r>
              <a:rPr b="0" i="1" lang="es-ES_tradnl" sz="2200" spc="-1" strike="noStrike">
                <a:solidFill>
                  <a:srgbClr val="ff9900"/>
                </a:solidFill>
                <a:latin typeface="Times New Roman"/>
              </a:rPr>
              <a:t>D</a:t>
            </a:r>
            <a:r>
              <a:rPr b="0" i="1" lang="es-ES_tradnl" sz="2200" spc="-1" strike="noStrike" baseline="-25000">
                <a:solidFill>
                  <a:srgbClr val="ff9900"/>
                </a:solidFill>
                <a:latin typeface="Times New Roman"/>
              </a:rPr>
              <a:t>e</a:t>
            </a:r>
            <a:r>
              <a:rPr b="0" i="1" lang="es-ES_tradnl" sz="2200" spc="-1" strike="noStrike">
                <a:solidFill>
                  <a:srgbClr val="ff9900"/>
                </a:solidFill>
                <a:latin typeface="Times New Roman"/>
              </a:rPr>
              <a:t>= 9/16 pul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ff9900"/>
                </a:solidFill>
                <a:latin typeface="Times New Roman"/>
              </a:rPr>
              <a:t>Diámetro alambre: </a:t>
            </a: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 d = 0.091 pul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Longitud libre: L = 3 1/8 pul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Número de espiras activas: 2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Precarga: Fi = 10 l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Carga máxima: Fmax = 50 l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Extremos esmeril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Vida finita : 50 · 10</a:t>
            </a:r>
            <a:r>
              <a:rPr b="0" i="1" lang="es-CL" sz="2200" spc="-1" strike="noStrike" baseline="30000">
                <a:solidFill>
                  <a:srgbClr val="ff9900"/>
                </a:solidFill>
                <a:latin typeface="Times New Roman"/>
              </a:rPr>
              <a:t>3</a:t>
            </a: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 cic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Confiabilidad : 99%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160020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29400" y="182880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29400" y="205740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29400" y="228600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29400" y="251460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29400" y="274320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05720" y="1295280"/>
            <a:ext cx="0" cy="213372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24680" y="182880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924680" y="205740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924680" y="228600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924680" y="251460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924680" y="274320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24680" y="297180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001000" y="1219320"/>
            <a:ext cx="1440" cy="243828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391520" y="762120"/>
            <a:ext cx="0" cy="3962160"/>
          </a:xfrm>
          <a:prstGeom prst="line">
            <a:avLst/>
          </a:prstGeom>
          <a:ln w="93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29400" y="2895480"/>
            <a:ext cx="0" cy="1219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077320" y="2971800"/>
            <a:ext cx="0" cy="1219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629400" y="3886200"/>
            <a:ext cx="144792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001000" y="1828800"/>
            <a:ext cx="5335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001000" y="1981080"/>
            <a:ext cx="5335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81880" y="1295280"/>
            <a:ext cx="0" cy="5335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8381880" y="1980720"/>
            <a:ext cx="0" cy="3812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8368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42960" y="3809880"/>
            <a:ext cx="47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05720" y="175248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05720" y="182880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05720" y="198108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05720" y="205740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05720" y="220968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228600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05720" y="243828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05720" y="251460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705720" y="266688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05720" y="274320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05720" y="289548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705720" y="160020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05720" y="16002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7238880" y="1600200"/>
            <a:ext cx="7621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705720" y="312408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705720" y="3048120"/>
            <a:ext cx="8380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40440" y="441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400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30960" y="464832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4876920"/>
            <a:ext cx="304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02200" y="441972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47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02200" y="48769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0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97280" y="464832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76720" y="48769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705720" y="762120"/>
            <a:ext cx="0" cy="7617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001000" y="838080"/>
            <a:ext cx="0" cy="7621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05720" y="11430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088760" y="609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92920" y="464832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5.1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12680" y="5821200"/>
            <a:ext cx="73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16040" y="579132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49920" y="5486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25880" y="6019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6019920"/>
            <a:ext cx="471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59400" y="574524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039920" y="571500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3800" y="54100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97480" y="59436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5.1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648320" y="5943600"/>
            <a:ext cx="47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59600" y="571500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1.0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329200" y="838080"/>
            <a:ext cx="136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-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9728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88400" y="1143000"/>
            <a:ext cx="85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438280" y="137160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68520" y="838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50 -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5012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88000" y="114300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19720" y="13716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29560" y="2133720"/>
            <a:ext cx="146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+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97280" y="274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90920" y="2438280"/>
            <a:ext cx="896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438280" y="266688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268880" y="213372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50+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50120" y="274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8000" y="243828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19720" y="2666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11520" y="11430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20 lb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35560" y="24382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30 lb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3809880"/>
            <a:ext cx="13050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88400" y="3657600"/>
            <a:ext cx="87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760040" y="426708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28800" y="4191120"/>
            <a:ext cx="6145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92720" y="396252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1.09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38960" y="3733920"/>
            <a:ext cx="190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 · 20 ·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47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17440" y="4343400"/>
            <a:ext cx="135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·0.091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86200" y="42670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22920" y="3962520"/>
            <a:ext cx="22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34.9 · 10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psi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9480" y="5257800"/>
            <a:ext cx="13050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88400" y="5105520"/>
            <a:ext cx="87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60040" y="57150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28800" y="5638680"/>
            <a:ext cx="6145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592720" y="541008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1.09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738960" y="5181480"/>
            <a:ext cx="190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 · 30 ·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47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17440" y="5791320"/>
            <a:ext cx="135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·0.091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86200" y="57150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22920" y="5410080"/>
            <a:ext cx="22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52.4 · 10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psi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514600" y="2133720"/>
            <a:ext cx="885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54480" y="1898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283920" y="2514600"/>
            <a:ext cx="452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52680" y="243216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040640" y="218448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497480" y="1898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21160" y="25146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.0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495680" y="243216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21480" y="609480"/>
            <a:ext cx="69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82880" y="3747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C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06920" y="990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C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81080" y="9079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668320" y="6793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20960" y="37476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6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5880" y="984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8120" y="907920"/>
            <a:ext cx="4712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83080" y="63324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63600" y="37476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 ·5.19 -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907920"/>
            <a:ext cx="12952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1520" y="6858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4160" y="3808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6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16440" y="990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5.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91320" y="914400"/>
            <a:ext cx="47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3600" y="99072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 ·5.19 -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02600" y="685800"/>
            <a:ext cx="9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1.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259600" y="220968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1.1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895480" y="3429000"/>
            <a:ext cx="281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se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= 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· 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· S´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09680" y="40384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= 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52480" y="5181480"/>
            <a:ext cx="5181840" cy="579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0.814 ·0.843 · 45 = 30.9 kp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95680" y="40384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= 1/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833760" y="457200"/>
            <a:ext cx="39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álculo a fatiga con vida fini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23880" y="1066680"/>
            <a:ext cx="3124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logS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= b logN +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85800" y="2286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 =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8320" y="2050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0200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76520" y="2584440"/>
            <a:ext cx="30456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134800" y="228600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43200" y="2000160"/>
            <a:ext cx="106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0.8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ut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259092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584440"/>
            <a:ext cx="9144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19720" y="2286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106600" y="228600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15000" y="2000160"/>
            <a:ext cx="1523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(0.8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ut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867280" y="259092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15000" y="2584440"/>
            <a:ext cx="121932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666880" y="3352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681640" y="383544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s-CL" sz="2800" spc="-1" strike="noStrike" baseline="30000">
                <a:solidFill>
                  <a:srgbClr val="ffff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767240" y="3559320"/>
            <a:ext cx="1072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i="1" lang="es-CL" sz="3200" spc="-1" strike="noStrike" baseline="-25000">
                <a:solidFill>
                  <a:srgbClr val="ffff00"/>
                </a:solidFill>
                <a:latin typeface="Times New Roman"/>
              </a:rPr>
              <a:t>ut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=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743200" y="3886200"/>
            <a:ext cx="30492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38680" y="32767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=  1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38680" y="39625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=  0.1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733920" y="3657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Tab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57800" y="3429000"/>
            <a:ext cx="304920" cy="10666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44956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1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971800" y="50007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0.091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</a:rPr>
              <a:t>0.1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072160" y="4724280"/>
            <a:ext cx="1072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Times New Roman"/>
              </a:rPr>
              <a:t>ut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971800" y="502920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96760" y="4724280"/>
            <a:ext cx="179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278 kps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476360" y="5638680"/>
            <a:ext cx="5601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Times New Roman"/>
              </a:rPr>
              <a:t>su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0.6 · 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u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1.6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·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278 = 167  kps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06668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= 10</a:t>
            </a:r>
            <a:r>
              <a:rPr b="0" i="1" lang="es-CL" sz="2800" spc="-1" strike="noStrike" baseline="30000">
                <a:solidFill>
                  <a:srgbClr val="ffff00"/>
                </a:solidFill>
                <a:latin typeface="Times New Roman"/>
              </a:rPr>
              <a:t>c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N</a:t>
            </a:r>
            <a:r>
              <a:rPr b="0" i="1" lang="es-CL" sz="2800" spc="-1" strike="noStrike" baseline="30000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724280" y="12952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2-09-11T15:43:51Z</dcterms:modified>
  <cp:revision>100</cp:revision>
  <dc:subject/>
  <dc:title>Sin título de diapositiva</dc:title>
</cp:coreProperties>
</file>