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7F8-C631-4CCA-9B24-6D53B95B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145-3045-4D70-B1A2-F671A645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AED-F142-46A8-ACEE-39CB42D0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B71-CD99-43B8-9471-87B9E597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321-3623-416E-9A58-9E4C36A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EF3-DAC4-4B6F-B3E1-DD5884B8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CD7-7A5B-44BF-9494-74F43189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F94-92FD-4F77-8630-1D2C0E67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7ED-5679-411D-BCB8-24D7B57A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AAA-7495-4FF2-93DD-3460AC88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718-CCE3-43EE-8D62-3D4CF97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800-9FBE-415C-A529-1345B8D5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3B86-2498-4B71-8A9B-5367BD6EA39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5280" y="281952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FRENOS Y EMBRA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57480" y="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CINTA O B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ENOS%20CINTA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344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 + dP)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 - P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5410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/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868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05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715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181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715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180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562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6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257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36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91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43200" y="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TAGUES 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RENOS%20DISCO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1880" y="1905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880" y="2133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r dr= 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84160" y="1676520"/>
            <a:ext cx="8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7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141760" y="2133720"/>
            <a:ext cx="62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1240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6960" y="3276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f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r= 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007120" y="2971800"/>
            <a:ext cx="9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30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066160" y="3429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83640" y="3816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5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46640" y="42670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9920" y="392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724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12520" y="44956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73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69760" y="4952880"/>
            <a:ext cx="621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8280" y="468936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3440" y="5187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5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646440" y="56386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4960" y="51465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800" y="56386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54720" y="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RAGUES C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RENOS%20CONICO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1828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1752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1360" y="1981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d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7840" y="2895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7840" y="3124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026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2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4920" y="2743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859080" y="3124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200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0280" y="2930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886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4880" y="36576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6836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91320" y="37749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105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076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076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 d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868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404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636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4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346280" y="4952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20440" y="53341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4200" y="495288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68360" y="53341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3240" y="5070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12952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514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50280" y="22860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014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24640" y="2514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191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396252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2880" y="43434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0040" y="407988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7800" y="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FR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RENOS%20MA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201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6800" y="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EMBR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EMBRAGUES%20MA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484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RENOS%20CLSIF" descr=""/>
          <p:cNvPicPr/>
          <p:nvPr/>
        </p:nvPicPr>
        <p:blipFill>
          <a:blip r:embed="rId1"/>
          <a:stretch/>
        </p:blipFill>
        <p:spPr>
          <a:xfrm>
            <a:off x="1123920" y="1033560"/>
            <a:ext cx="72579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ENOS%20CLASI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181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ENOS%20CLAS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97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3720" y="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SIS EST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ENOS%20ANALISIS%20EST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276720" cy="322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30680" y="7272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ribución de 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8880" y="1447920"/>
            <a:ext cx="9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68760" y="20574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quilibrio est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2920" y="2666880"/>
            <a:ext cx="13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120" y="3346560"/>
            <a:ext cx="37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b – N ·b+f ·N ·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7280" y="3809880"/>
            <a:ext cx="18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(b – f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6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343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257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867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1814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79132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952880"/>
            <a:ext cx="388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resión en cualquier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re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superfici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0"/>
            <a:ext cx="76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I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NOS%20ZAP%20INT" descr=""/>
          <p:cNvPicPr/>
          <p:nvPr/>
        </p:nvPicPr>
        <p:blipFill>
          <a:blip r:embed="rId1"/>
          <a:stretch/>
        </p:blipFill>
        <p:spPr>
          <a:xfrm>
            <a:off x="0" y="609480"/>
            <a:ext cx="426708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4160" y="609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113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2240" y="6159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149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057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752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9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 sen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3429000"/>
            <a:ext cx="18288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94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638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172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172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4267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114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r – a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952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1880" y="5181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5791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019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r 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5943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43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47920" y="1676160"/>
            <a:ext cx="838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3716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–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71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600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295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+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600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3429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-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4876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4440" y="5105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029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58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943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440" y="6172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3244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913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029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½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8769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0199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4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867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485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3960" y="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RENOS%20ZAP%20EXT" descr=""/>
          <p:cNvPicPr/>
          <p:nvPr/>
        </p:nvPicPr>
        <p:blipFill>
          <a:blip r:embed="rId1"/>
          <a:stretch/>
        </p:blipFill>
        <p:spPr>
          <a:xfrm>
            <a:off x="0" y="685800"/>
            <a:ext cx="435924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838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1295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57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752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286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981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-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-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867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3960" y="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IME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RENOS%20ZAP%20EXT%20SIMETR" descr=""/>
          <p:cNvPicPr/>
          <p:nvPr/>
        </p:nvPicPr>
        <p:blipFill>
          <a:blip r:embed="rId1"/>
          <a:stretch/>
        </p:blipFill>
        <p:spPr>
          <a:xfrm>
            <a:off x="0" y="914400"/>
            <a:ext cx="5410080" cy="367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280" y="2362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628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438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a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r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41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a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7242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3T12:41:10Z</dcterms:modified>
  <cp:revision>192</cp:revision>
  <dc:subject/>
  <dc:title>Sin título de diapositiva</dc:title>
</cp:coreProperties>
</file>