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774-EC11-4AE8-BE12-D0A8083D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3A6-879F-471A-86AE-1F77DB36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3F1-2261-487E-A0BC-92406A91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18E-230C-4BBF-AD87-0B8EE296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3F6-5A29-4059-A129-A841D923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DCF-E905-4EF7-806E-1D052E3C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922-F22D-4ACD-8594-663BDB4C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9BC-9907-456E-AD92-FB573251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BEC-22CA-4AF1-81E9-A188D632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865-8882-4E01-A4AD-B568049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10B-B1F4-4409-8086-66FF9985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5E8-0088-4F2A-9057-8F0D3F28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2162-CC8F-4E3D-BEEB-DCA67D56CC8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040" y="281952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fDiente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800600" cy="2900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9000" y="4191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3997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8840" y="445464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8840" y="445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680" y="426708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40384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6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495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7680" y="419112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600" y="525780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029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48640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6280" y="6178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x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640080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440" y="61722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6600" y="6094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concentración de esfuerz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174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6080" y="15238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289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7463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746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6668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H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590920"/>
            <a:ext cx="75960" cy="685800"/>
          </a:xfrm>
          <a:custGeom>
            <a:avLst/>
            <a:gdLst>
              <a:gd name="textAreaLeft" fmla="*/ 22320 w 75960"/>
              <a:gd name="textAreaRight" fmla="*/ 7632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971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5909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24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6080" y="27432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733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 0.34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267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0.316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876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 0.29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8680" y="59436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70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(b –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165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/2) + b -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165720"/>
            <a:ext cx="1752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0480" y="5943600"/>
            <a:ext cx="195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fi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8040" y="6094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factor dinám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58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2040" y="354636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297180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0481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40384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 +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66688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acFormaLewis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668840" cy="6019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24800" y="2286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70360" y="2286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geométrico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actGeometrico%20J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324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590920"/>
            <a:ext cx="5181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superfi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50040" y="609480"/>
            <a:ext cx="323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Superficie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FactorSuperficie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771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53280" y="609480"/>
            <a:ext cx="29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amaño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Factortamaño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248520" cy="253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7280" y="1752480"/>
            <a:ext cx="380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ara P &gt; 12 dientes/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74720" y="2324160"/>
          <a:ext cx="5641920" cy="29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324160"/>
                    <a:ext cx="5641920" cy="2900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48960" y="609480"/>
            <a:ext cx="36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fiabilidad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52200" y="609480"/>
            <a:ext cx="359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emperatura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720" y="3200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2860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7360" y="304812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5.8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4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7360" y="403848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3.2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8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7360" y="2133720"/>
            <a:ext cx="15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4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50 ºC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5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40 ºF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1020 º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3623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87240" y="10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3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1760" y="137160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lelos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6200" y="106668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1400" y="2819520"/>
            <a:ext cx="36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ortan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4360" y="457200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perpendicul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99120" y="571500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en cualquier 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6200" y="160020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6920" y="22096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28195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6920" y="33526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esp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2520" y="411480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rnillo sin-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960" y="51814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ip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5715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447920"/>
            <a:ext cx="457200" cy="464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14300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36232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1911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57150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609480"/>
            <a:ext cx="53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centración de Esfuerzos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4600" y="2030400"/>
            <a:ext cx="58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 Concentración de Esfuerzos está considerada en 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actor geométric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8862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88620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156120" y="1000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tig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6640" y="15238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7524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1040" y="14479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4200" y="2590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9720" y="3581280"/>
            <a:ext cx="521892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eng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relación de du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L%20y%20CR%20E%20Rectos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5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00080" y="0"/>
            <a:ext cx="683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duración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 y  Factor de confiabilidad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280" y="3276720"/>
            <a:ext cx="4402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relación de dureza,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granajes rectos :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6840" y="4876920"/>
            <a:ext cx="3592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temperatura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&lt; 250 ºF  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E%20Rectos%20Fact%20Sobrecarg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E%20Rectos%20Fact%20DistCarga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1640" y="10008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lección del tipo de Engra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elección%20Engranajes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efEngranajes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63904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200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92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efEngrane" descr=""/>
          <p:cNvPicPr/>
          <p:nvPr/>
        </p:nvPicPr>
        <p:blipFill>
          <a:blip r:embed="rId1"/>
          <a:stretch/>
        </p:blipFill>
        <p:spPr>
          <a:xfrm>
            <a:off x="609480" y="930240"/>
            <a:ext cx="7848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ccionDientes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45840" y="100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omenclaturaEng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2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15600" y="10008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920" y="8380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73440" y="64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110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3440" y="110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3280" y="879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1430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080" y="17240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7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875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8380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diamet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8920" y="87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ód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75896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cir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9240" y="17524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9600" y="17524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p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0120" y="33526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adio circunferenci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276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r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120" y="40384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720" y="40449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 b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800" y="2666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666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1960" y="4648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rco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9600" y="5410080"/>
            <a:ext cx="7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7160" y="567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07160" y="5216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07160" y="567360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2120" y="53690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elación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360" y="601992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ngitud de la línea de acción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019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zas%20EngRectos%201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71612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Fzas%20EngRectos%202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21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Fzas%20EngRectos%203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28972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4197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rga transmit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0" y="49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02920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2578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0292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1400" y="5791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638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d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08T19:29:33Z</dcterms:modified>
  <cp:revision>152</cp:revision>
  <dc:subject/>
  <dc:title>Sin título de diapositiva</dc:title>
</cp:coreProperties>
</file>