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301-DB22-4304-8157-B4CE3C90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EC4-7A4A-40BC-AD55-4E387D1D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75C-C7A1-4524-B3F6-9B465E58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AEF-FF1B-4304-B217-B26D0CAA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04B-0A29-488D-B85E-BB0971DB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673-3C47-456F-ACEF-AE702BD3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35D-E8EB-44C4-B024-DF0BFD3A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301-2879-4BBA-B14F-FE239826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780-7F56-4ABE-B714-A98C08AD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414-2762-4149-A59A-951F3842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1E0-B28C-40C5-BFCD-BA6D2CF8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28D-325D-4E20-A472-D92ED8B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C2B7-FC5D-45AB-A460-5178F19030B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%20Rectos%20Fact%20DistCarga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U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E%20HelicCrzados%20Sesgo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3930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4495680"/>
            <a:ext cx="24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680" y="556272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79744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7913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9760" y="4495680"/>
            <a:ext cx="3821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entre e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ángulo hélice engranaj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%20HelicParal%20Ralaciones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782040" cy="340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60" y="4267080"/>
            <a:ext cx="36918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la hé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6520" y="4267080"/>
            <a:ext cx="467172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virtual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79240" y="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68880" y="1143000"/>
            <a:ext cx="171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60960" y="220968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9520" y="19051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6240" y="2438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438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7640" y="3505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5480" y="32004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37339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8680" y="4343400"/>
            <a:ext cx="9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9760" y="4876920"/>
            <a:ext cx="89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4876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8520" y="57913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6760" y="6019920"/>
            <a:ext cx="9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9144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%20HelicParal%20Fuerzas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3774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4120" y="16002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6668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3429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41911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8520" y="54864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7760" y="525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6760" y="5715000"/>
            <a:ext cx="167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57150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9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1240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7760" y="28195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276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89548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3429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480" y="3886200"/>
            <a:ext cx="163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343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886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02440" y="4343400"/>
            <a:ext cx="103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343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920" y="5070600"/>
            <a:ext cx="87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05720" y="480060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334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0.95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3341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760" y="60958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Z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55000" y="6054840"/>
            <a:ext cx="205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6240" y="60199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8720" y="601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%20HelicParal%20Nomenc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E%20HelicParal%20FactorJ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%20HelicParal%20CH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3:49:35Z</dcterms:modified>
  <cp:revision>159</cp:revision>
  <dc:subject/>
  <dc:title>Sin título de diapositiva</dc:title>
</cp:coreProperties>
</file>