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170-5CD6-4B23-978F-9BA9F649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1E9-9CC3-4935-9F95-A643120E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EB4-4EC4-4E63-B6F1-65B1B8E2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183-94C0-45B6-806E-51C52C9B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4FE-B1D3-4015-BDCC-29C29C75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A63-CF9E-4183-B394-0CE5CCBB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6EF1-E9C7-417E-B2AA-59A2BDC0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416-E1C9-4C1B-A6D9-E49D4A66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523-AD2B-4605-994D-3D2A453D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FB2-8465-46D2-99F2-E0B06FFA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E068-3911-4C80-B6C9-6B39F547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30CE-FDE4-44E8-9B60-0436D3BD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B799-F28F-4533-91AA-D5B1D9CF0D6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5240" y="2819520"/>
            <a:ext cx="61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RANSMISION POR COR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orreas%20CapacidadPot" descr=""/>
          <p:cNvPicPr/>
          <p:nvPr/>
        </p:nvPicPr>
        <p:blipFill>
          <a:blip r:embed="rId1"/>
          <a:stretch/>
        </p:blipFill>
        <p:spPr>
          <a:xfrm>
            <a:off x="1371600" y="0"/>
            <a:ext cx="6413400" cy="82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orreas%20DiamPrimMin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3904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rreas%20Dimensiones" descr=""/>
          <p:cNvPicPr/>
          <p:nvPr/>
        </p:nvPicPr>
        <p:blipFill>
          <a:blip r:embed="rId1"/>
          <a:stretch/>
        </p:blipFill>
        <p:spPr>
          <a:xfrm>
            <a:off x="1219320" y="0"/>
            <a:ext cx="6918120" cy="903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rreas%20DimenPoleas" descr=""/>
          <p:cNvPicPr/>
          <p:nvPr/>
        </p:nvPicPr>
        <p:blipFill>
          <a:blip r:embed="rId1"/>
          <a:stretch/>
        </p:blipFill>
        <p:spPr>
          <a:xfrm>
            <a:off x="1319040" y="536400"/>
            <a:ext cx="6504120" cy="57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Correas%20FacCorrArcContacto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1722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rreas%20FacCorrLongitud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411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rreas%20FacDiamMenor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086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07720" y="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omenclatura y Expresiones Funda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6680" y="650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69680" y="38088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9680" y="91440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9144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1360" y="3429000"/>
            <a:ext cx="7059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: relación de 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: longitud primitiva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primitivo de la POLEA mayor (accion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primitivo de la polea menor (motri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: distanci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: arco de contacto de correa en 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: velocidad lineal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velocidad angular de la po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24640" y="650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50680" y="38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5032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914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8520" y="190512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2 C + 1.57 (D+d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13600" y="160020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5720" y="213372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2760" y="19051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= 180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40680" y="16765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505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22096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5200" y="28195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0.00314 D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3240" y="0"/>
            <a:ext cx="81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rocedimiento de diseño y selección de transm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4840" y="1523880"/>
            <a:ext cx="5880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Datos requeri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 a transmi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ipo 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motr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a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ipo de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dicione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ancia aproximad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43240" y="533520"/>
            <a:ext cx="729576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Procedi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stimación de un Factor de Servicio, 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potencia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iseñ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S ·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o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 la sección de la correa, en base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relación de veloc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95840" y="49942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88840" y="472428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88840" y="525780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52578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rreas%20FacServ" descr=""/>
          <p:cNvPicPr/>
          <p:nvPr/>
        </p:nvPicPr>
        <p:blipFill>
          <a:blip r:embed="rId1"/>
          <a:stretch/>
        </p:blipFill>
        <p:spPr>
          <a:xfrm>
            <a:off x="838080" y="0"/>
            <a:ext cx="7410600" cy="965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2000" y="609480"/>
            <a:ext cx="71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diámetro de poleas en funció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spacio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72160" y="20224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784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74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22860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0920" y="2743200"/>
            <a:ext cx="642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longitud primitiva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3280" y="403848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2 C + 1.57 (D+d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8360" y="373392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40480" y="426708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42670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8360" y="762120"/>
            <a:ext cx="765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lección de la longitud primitiva estándar y cálcu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a nueva distancia entre cen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43760" y="266688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2880" y="228600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- 1.57 (D+d)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66520" y="2133720"/>
            <a:ext cx="9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9152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37080" y="25146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51080" y="289548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44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520" y="3429000"/>
            <a:ext cx="89726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Diámetro de la polea menor, 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 función de la velocidad angular y cálculo del diámetro ef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61120" y="5257800"/>
            <a:ext cx="14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480" y="-228600"/>
            <a:ext cx="61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velocidad lineal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9160" y="914400"/>
            <a:ext cx="335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0.0314 ·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00" y="1143000"/>
            <a:ext cx="8691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 la capacidad de potencia,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corrección del arco de contacto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 función de (D-d)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4680" y="2362320"/>
            <a:ext cx="9126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corrección de la longitud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en fu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l tamaño y sección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9000" y="3200400"/>
            <a:ext cx="81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l factor de corrección longitud-arco de cont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01240" y="4114800"/>
            <a:ext cx="159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4680" y="42670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capacidad corregida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08080" y="5181480"/>
            <a:ext cx="21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P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r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 ·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1440" y="5334120"/>
            <a:ext cx="55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número de corre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76880" y="6172200"/>
            <a:ext cx="255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=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iseñ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/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orreas%20SelecSecc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AN</cp:lastModifiedBy>
  <dcterms:modified xsi:type="dcterms:W3CDTF">2002-06-18T12:30:24Z</dcterms:modified>
  <cp:revision>176</cp:revision>
  <dc:subject/>
  <dc:title>Sin título de diapositiva</dc:title>
</cp:coreProperties>
</file>