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B0A-CF88-48E7-8F2C-01A32A3A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173-C2CF-4947-AA14-EB9A0E7C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10E-6B5D-4A9A-BAF6-92E61DDF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EE6-C350-4AB6-A5FE-3D069BBB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704-0271-4D6A-AE57-F9E6DF05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8F8-FE00-46C4-ABDA-68EA1197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B0B-3CBF-45EC-AE49-5BFBBC46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75D-4FA5-46E8-8DB5-A13C3FBC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CF2-CC75-42FC-8397-3C06D6F4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20E-D50F-4A03-A08C-E4158097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999-EB8A-48FF-9402-06C5FC3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BC6-4FBE-4E73-BE89-FFBF8DBC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9FD-2DBF-4233-8675-12780520A1D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7360" y="281952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RBOLES DE TRANSM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1200" y="3808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aga Est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27080" y="22096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5160" y="1828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167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752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1752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012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2120" y="8524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66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9040" y="8380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20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15000" y="838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n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74440" y="4191120"/>
            <a:ext cx="15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66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114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26400" y="3809880"/>
            <a:ext cx="25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192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330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36576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3733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7339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3581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17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41008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02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1148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9040" y="17524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1752480"/>
            <a:ext cx="838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13716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13716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3640" y="1219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52760" y="380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ati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44792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9720" y="18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4479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920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1640" y="358128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20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81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32004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2004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696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510552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1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6002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2000" y="1447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8380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14479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9907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624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44792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9907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292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838080"/>
            <a:ext cx="75960" cy="106704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8380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416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9200" y="8380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732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7760" y="3049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esfuerzo cosrtante máxim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096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209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796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30481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32004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256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6576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2004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92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30481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4012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095880" y="30481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364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7080" y="50292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5740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44197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5720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48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45720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4012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4419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41972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136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476400" y="441972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452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86728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6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5160" y="22860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máxima energía de distorsió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020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2000" y="243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828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2438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981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292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1828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828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416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019200" y="1828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9907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990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7080" y="3962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33526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053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484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242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505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1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35268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33526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136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476400" y="33526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452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33412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44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28000" y="1000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iseño a carga es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9440" y="1219320"/>
            <a:ext cx="76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400" y="14479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normal de 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6120" y="27432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de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4267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Cortante Máxi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48640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3080" y="58672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79132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419112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9625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120" y="457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1911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1911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191120"/>
            <a:ext cx="137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2360" y="406728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114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6720" y="545796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7800" y="560376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56272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72560" y="91440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4280" y="24382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360" y="20574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9810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1240" y="34290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4280" y="49528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76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5360" y="4572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343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T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12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4080" y="5335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ódigo A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8520" y="1805040"/>
            <a:ext cx="5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7760" y="1523880"/>
            <a:ext cx="138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371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1066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3716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5040" y="1143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8360" y="152388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89548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onde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 el menor valor en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666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01640" y="2590920"/>
            <a:ext cx="163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3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01640" y="3200400"/>
            <a:ext cx="18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18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3818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ipo de carg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Fij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repentin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rotatori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establ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liger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fuert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.0-3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48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8960" y="11430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alter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6480" y="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constante y flexión alter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1932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800" y="25146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me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2040" y="3809880"/>
            <a:ext cx="80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sumiendo que la resistencia a la fatiga por flexión no se ve afec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or la existencia de esfuerzo medio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510552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4876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06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105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1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7640" y="5486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1055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1055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22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2200" y="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étodo de Sodelbe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71600"/>
            <a:ext cx="121932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685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051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193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066320" y="2663640"/>
            <a:ext cx="838440" cy="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0" y="19051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85800"/>
            <a:ext cx="85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3000" y="9144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3320" y="2108160"/>
            <a:ext cx="642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3880" y="2286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4640" y="21337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s 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457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80760" y="1523880"/>
            <a:ext cx="2057400" cy="76212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14840" y="1502640"/>
            <a:ext cx="1203480" cy="48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0574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788800" y="1089720"/>
            <a:ext cx="315720" cy="770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43800" y="152352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666160"/>
            <a:ext cx="1143000" cy="1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129492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990720" cy="3812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01000" y="1676520"/>
            <a:ext cx="91440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43440" y="2652480"/>
            <a:ext cx="114480" cy="38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8921880" y="1689120"/>
            <a:ext cx="171000" cy="3358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538760" y="1544760"/>
            <a:ext cx="270000" cy="63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43800" y="2209680"/>
            <a:ext cx="304920" cy="15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762120"/>
            <a:ext cx="685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1981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990720"/>
            <a:ext cx="762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209680"/>
            <a:ext cx="533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676520"/>
            <a:ext cx="5331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4120" y="347652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cuación de equilib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86200"/>
            <a:ext cx="5257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7736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5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8640" y="5154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5078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800600"/>
            <a:ext cx="121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518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080" y="5127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051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77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en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w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34600">
            <a:off x="2702520" y="4840560"/>
            <a:ext cx="274680" cy="1717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44640 h 1717920"/>
              <a:gd name="textAreaBottom" fmla="*/ 1673280 h 171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134600">
            <a:off x="5118840" y="4472280"/>
            <a:ext cx="274680" cy="24382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94360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94360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81240" y="316080"/>
            <a:ext cx="0" cy="4295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043520"/>
            <a:ext cx="81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488960" y="1515960"/>
            <a:ext cx="5540040" cy="505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3" y="1"/>
                </a:moveTo>
                <a:arcTo wR="10800" hR="10800" stAng="-5345085" swAng="5345085"/>
                <a:lnTo>
                  <a:pt x="10800" y="10800"/>
                </a:lnTo>
                <a:close/>
              </a:path>
              <a:path fill="none" w="21600" h="21600">
                <a:moveTo>
                  <a:pt x="10973" y="1"/>
                </a:moveTo>
                <a:arcTo wR="10800" hR="10800" stAng="-5345085" swAng="5345085"/>
              </a:path>
            </a:pathLst>
          </a:cu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1240" y="1136520"/>
            <a:ext cx="5678280" cy="297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1240" y="820800"/>
            <a:ext cx="6162480" cy="3222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97760" y="404352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8960" y="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200" y="5684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05840" y="4043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1440" y="36640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90º, 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5080" y="1263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19840" y="56844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5440" y="990720"/>
            <a:ext cx="47304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79440"/>
            <a:ext cx="21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35640" y="3160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75160" y="820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35640" y="75888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9520" y="504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43720" y="379440"/>
            <a:ext cx="69840" cy="757080"/>
          </a:xfrm>
          <a:custGeom>
            <a:avLst/>
            <a:gdLst>
              <a:gd name="textAreaLeft" fmla="*/ 0 w 69840"/>
              <a:gd name="textAreaRight" fmla="*/ 4896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7920" y="379440"/>
            <a:ext cx="69840" cy="757080"/>
          </a:xfrm>
          <a:custGeom>
            <a:avLst/>
            <a:gdLst>
              <a:gd name="textAreaLeft" fmla="*/ 20520 w 69840"/>
              <a:gd name="textAreaRight" fmla="*/ 6984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4043520"/>
            <a:ext cx="0" cy="63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1240" y="4359240"/>
            <a:ext cx="277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6840" y="151596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4920" y="1515960"/>
            <a:ext cx="0" cy="252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5280" y="44863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1400" y="48006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35280" y="480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3367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000" y="26528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720" y="2652840"/>
            <a:ext cx="41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440" y="16430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67600" y="157968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447920"/>
            <a:ext cx="68040" cy="758880"/>
          </a:xfrm>
          <a:custGeom>
            <a:avLst/>
            <a:gdLst>
              <a:gd name="textAreaLeft" fmla="*/ 0 w 68040"/>
              <a:gd name="textAreaRight" fmla="*/ 4788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67600" y="1452600"/>
            <a:ext cx="68040" cy="758880"/>
          </a:xfrm>
          <a:custGeom>
            <a:avLst/>
            <a:gdLst>
              <a:gd name="textAreaLeft" fmla="*/ 19800 w 68040"/>
              <a:gd name="textAreaRight" fmla="*/ 6840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9680" y="13906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29200" y="1895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183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29000" y="504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3400" y="5867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5791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57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867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410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764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5867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5410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432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5257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257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56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90600" y="5257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5280" y="3049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y Flexión altern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2680" y="29718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64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3623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3623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52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102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804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680" y="13716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 (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Westinghouse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9718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0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3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240" y="42670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257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9000" y="5638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5562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50292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181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9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5181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36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0292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502920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308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085880" y="50292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5562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6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9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660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13840" y="304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600200"/>
            <a:ext cx="41911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990720"/>
            <a:ext cx="15238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295280"/>
            <a:ext cx="15228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1371600"/>
            <a:ext cx="38124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1295280"/>
            <a:ext cx="15264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1371600"/>
            <a:ext cx="380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1447920"/>
            <a:ext cx="7632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1523880"/>
            <a:ext cx="609480" cy="152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114300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13372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209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1066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1905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7524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2743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2743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1520" y="24382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2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5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604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5000" y="23623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24382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1447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809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90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876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900400">
            <a:off x="3493080" y="3613680"/>
            <a:ext cx="30384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rot="12699600">
            <a:off x="5269680" y="3613320"/>
            <a:ext cx="30456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624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8360" y="4419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5333760"/>
            <a:ext cx="121932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4120"/>
            <a:ext cx="99036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24280" y="5943600"/>
            <a:ext cx="68580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3920" y="41148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68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840" y="3048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1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4640" y="31240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9560" y="411480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42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85360" y="380988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80988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= 330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3080" y="68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1066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8880" y="1066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438280" y="3200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34640" y="51055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4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3124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4000" y="3505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5000" y="632448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92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09-12T15:09:12Z</dcterms:modified>
  <cp:revision>132</cp:revision>
  <dc:subject/>
  <dc:title>Sin título de diapositiva</dc:title>
</cp:coreProperties>
</file>