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4F4A-E411-43F0-BC13-915FB011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9AE7-6B71-4DB5-8D7C-47EEEBCE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CCB4-FD7B-466C-96FB-B48EA0BA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3016-52BD-4B0B-B37E-63C150DC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78FD-990C-46D4-A555-ACD2DA31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9EA0-382F-4403-801D-FDDD585C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BA40-B8B8-462A-BF6D-7B88FE27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35E9-4802-4D19-A60B-E7E435DE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D428-B330-460F-97FD-287BEC7E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C580-A980-4593-95B4-801F44E5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8166-15A4-4166-B66A-EC8A7C5D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7468-5152-410F-9DFC-BF5A1C18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C44F-B4E6-499D-AAEE-B58DD10E8EDF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2819520"/>
            <a:ext cx="61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JES HELICOID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PARALE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E%20Rectos%20Fact%20DistCarga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53452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676520" y="2819520"/>
            <a:ext cx="61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JES HELICOID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CRUZ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E%20HelicCrzados%20Sesgo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3930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4495680"/>
            <a:ext cx="245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±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680" y="556272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5334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579744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57913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9760" y="4495680"/>
            <a:ext cx="38214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entre e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ángulo hélice engranaje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 : diámetro de p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: número de 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paso diametral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448080" y="1000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E%20HelicParal%20Ralaciones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6782040" cy="3409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60" y="4267080"/>
            <a:ext cx="369180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paso circular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paso circular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paso circular ax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la hél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paso diametral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66520" y="4267080"/>
            <a:ext cx="467172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paso diametral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presión plano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presión plano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número de 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`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número virtual de 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79240" y="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Re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68880" y="1143000"/>
            <a:ext cx="171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60960" y="2209680"/>
            <a:ext cx="69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49520" y="190512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16240" y="243828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4382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37640" y="350532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25480" y="320040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2920" y="373392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37339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8680" y="4343400"/>
            <a:ext cx="97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9760" y="4876920"/>
            <a:ext cx="89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48769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8520" y="5791320"/>
            <a:ext cx="7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`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6708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46760" y="6019920"/>
            <a:ext cx="9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60199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970000" y="10008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Fuer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91440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W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E%20HelicParal%20Fuerzas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4038480" cy="3774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34120" y="160020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W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266688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W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342900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10080" y="419112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8520" y="548640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7760" y="525780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46760" y="5715000"/>
            <a:ext cx="167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571500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62840" y="100080"/>
            <a:ext cx="38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sfuerzos sobre el d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3920" y="76212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5335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10666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9907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9810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14600" y="1752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09680" y="228600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22096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60400" y="175248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18288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312408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7760" y="281952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3352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78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32767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289548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3429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4114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I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480" y="3886200"/>
            <a:ext cx="163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4343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3434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388620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02440" y="4343400"/>
            <a:ext cx="103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43434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3920" y="5070600"/>
            <a:ext cx="87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05720" y="480060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5334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0.95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53341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0760" y="60958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Z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6019920"/>
            <a:ext cx="2438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a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r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6095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6019920"/>
            <a:ext cx="2438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a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r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6095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55000" y="6054840"/>
            <a:ext cx="205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6240" y="601992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8720" y="60199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E%20HelicParal%20Nomenc" descr=""/>
          <p:cNvPicPr/>
          <p:nvPr/>
        </p:nvPicPr>
        <p:blipFill>
          <a:blip r:embed="rId1"/>
          <a:stretch/>
        </p:blipFill>
        <p:spPr>
          <a:xfrm>
            <a:off x="3886200" y="1143000"/>
            <a:ext cx="52578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E%20HelicParal%20FactorJ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991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84120" y="10008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álculo a la Fati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68580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5720" y="17524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151776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19810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1981080"/>
            <a:ext cx="9144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20120" y="167652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90720" y="99072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E%20HelicParal%20NomencResist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655308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E%20HelicParal%20CH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010280" cy="52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743200" y="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Factor de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1447920"/>
            <a:ext cx="281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3200400"/>
            <a:ext cx="7162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seguridad para el cálculo de engran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Factor de sobre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Factor de distribución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   : Factor de seguridad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1-10-10T13:49:35Z</dcterms:modified>
  <cp:revision>159</cp:revision>
  <dc:subject/>
  <dc:title>Sin título de diapositiva</dc:title>
</cp:coreProperties>
</file>