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430-5067-4B66-89CA-6489E4D8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F1B-26D2-4ABF-9FF2-F5C75654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786-F226-40F1-B3AE-556B9819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C02-4695-462B-B767-CE549DAE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08B-06A6-4E63-8EDD-E71683E3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05B-01E7-43E5-9A4B-C6E5FDAD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626-8136-47C0-A8D0-5BE1291E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20A-CEC1-4841-B39A-A5EE0F8E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86D-4ACF-497B-9C24-6C3CA938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B9C-B69E-4402-9CA3-91BEAD7D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C01-E453-4C2A-AC8D-0A53AB91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2DF-96D1-4827-8FBA-FD56F482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C0A3-B437-4958-B0EC-C169B623265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7360" y="281952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RBOLES DE TRANSM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1200" y="3808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aga Est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05120" y="1828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27080" y="22096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95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5160" y="18288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90920" y="16765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1752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581280" y="1752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16002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0120" y="1523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62120" y="8524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66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9040" y="838080"/>
            <a:ext cx="14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0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= 20 kp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15000" y="838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n = 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954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74440" y="4191120"/>
            <a:ext cx="15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66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41148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26400" y="3809880"/>
            <a:ext cx="25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192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330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38280" y="36576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3733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7339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3581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1720" y="3429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41008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02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11480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1219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89040" y="17524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05520" y="1752480"/>
            <a:ext cx="838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13716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5880" y="13716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3640" y="1219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52760" y="3808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atig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1447920"/>
            <a:ext cx="106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19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9720" y="183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752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1447920"/>
            <a:ext cx="609840" cy="609480"/>
          </a:xfrm>
          <a:prstGeom prst="rightArrow">
            <a:avLst>
              <a:gd name="adj1" fmla="val 50000"/>
              <a:gd name="adj2" fmla="val 2501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8120" y="3048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920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1640" y="358128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· 20 · 10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812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3200400"/>
            <a:ext cx="76320" cy="977760"/>
          </a:xfrm>
          <a:custGeom>
            <a:avLst/>
            <a:gdLst>
              <a:gd name="textAreaLeft" fmla="*/ 22320 w 76320"/>
              <a:gd name="textAreaRight" fmla="*/ 7632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3200400"/>
            <a:ext cx="76320" cy="977760"/>
          </a:xfrm>
          <a:custGeom>
            <a:avLst/>
            <a:gdLst>
              <a:gd name="textAreaLeft" fmla="*/ 0 w 76320"/>
              <a:gd name="textAreaRight" fmla="*/ 53640 w 76320"/>
              <a:gd name="textAreaTop" fmla="*/ 40680 h 977760"/>
              <a:gd name="textAreaBottom" fmla="*/ 937080 h 9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696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124080" y="510552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1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60020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2000" y="1447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1371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8380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144792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9907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624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44792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137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9907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05520" y="99072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2920" y="76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838080"/>
            <a:ext cx="75960" cy="106704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10080" y="8380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416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019200" y="8380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7320" y="762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7760" y="304920"/>
            <a:ext cx="50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esfuerzo cosrtante máxim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14600" y="22096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22096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3276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46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796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9092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30481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8128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81280" y="36576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32004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480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256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6576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32004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32004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9240" y="2971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2680" y="30481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30481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4012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095880" y="30481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3640" y="2971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4648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7080" y="50292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57400" y="4952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8800" y="44197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457200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484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2428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242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49528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45720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8680" y="45720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4012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44197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441972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2136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476400" y="441972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54520" y="4343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5867280"/>
            <a:ext cx="19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26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605160" y="228600"/>
            <a:ext cx="53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Sodelberg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(máxima energía de distorsió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0020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92000" y="2438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1460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1828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900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624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2438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2362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1981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1981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82920" y="175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1828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1828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6416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019200" y="1828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9907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990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577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810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 ·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7080" y="39625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57400" y="38862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33526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6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26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50532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70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484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2428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9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24280" y="3886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5053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35053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40120" y="3276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3352680"/>
            <a:ext cx="76320" cy="106704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3352680"/>
            <a:ext cx="152640" cy="106704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7040"/>
              <a:gd name="textAreaBottom" fmla="*/ 102276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2136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476400" y="3352680"/>
            <a:ext cx="152280" cy="106704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54520" y="3276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5334120"/>
            <a:ext cx="1981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d = 1.44 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28000" y="10008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iseño a carga est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9440" y="1219320"/>
            <a:ext cx="76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5400" y="1447920"/>
            <a:ext cx="35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normal de Fl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6120" y="274320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de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42670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Cortante Máxi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48640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3080" y="58672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579132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4191120"/>
            <a:ext cx="1066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á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9625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120" y="457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41911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41911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2240" y="4038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191120"/>
            <a:ext cx="1371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12360" y="4067280"/>
            <a:ext cx="5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1148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6720" y="5457960"/>
            <a:ext cx="4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7800" y="560376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562720"/>
            <a:ext cx="1219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72560" y="914400"/>
            <a:ext cx="46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84280" y="24382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362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2360" y="20574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 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19051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9810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981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18288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7320" y="1752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1240" y="342900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572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84280" y="495288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8769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75360" y="45720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441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434340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64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T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73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44956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4956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120" y="4267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4080" y="5335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ódigo AS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523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8520" y="1805040"/>
            <a:ext cx="543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18288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7760" y="1523880"/>
            <a:ext cx="138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13716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295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520" y="1066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137160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5040" y="1143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8360" y="1523880"/>
            <a:ext cx="10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895480"/>
            <a:ext cx="487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onde</a:t>
            </a: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es el menor valor en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26668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01640" y="2590920"/>
            <a:ext cx="163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3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01640" y="3200400"/>
            <a:ext cx="180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 0.18 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114800"/>
            <a:ext cx="83818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ipo de carga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Fij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repentina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Eje rotatorio: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gradual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arga establ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ligero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2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0-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mpacto fuerte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2.0-3.0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1.5-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48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98960" y="11430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altern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6480" y="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constante y flexión altern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219320"/>
            <a:ext cx="80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9760" y="16002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1523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800" y="25146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fuerzo med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8575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56080" y="2971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2040" y="3809880"/>
            <a:ext cx="807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sumiendo que la resistencia a la fatiga por flexión no se ve afec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or la existencia de esfuerzo medio por 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510552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4876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060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410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105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51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7640" y="5486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864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510552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5105520"/>
            <a:ext cx="76320" cy="83808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22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2200" y="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étodo de Sodelbe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1371600"/>
            <a:ext cx="121932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23880" y="685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90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9051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193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2120" y="1523520"/>
            <a:ext cx="0" cy="838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066320" y="2663640"/>
            <a:ext cx="838440" cy="7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0" y="1905120"/>
            <a:ext cx="83808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685800"/>
            <a:ext cx="85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3000" y="9144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43320" y="2108160"/>
            <a:ext cx="642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32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3880" y="2286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2362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4640" y="21337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os w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400" y="457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80760" y="1523880"/>
            <a:ext cx="2057400" cy="762120"/>
          </a:xfrm>
          <a:prstGeom prst="rtTriangl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14840" y="1502640"/>
            <a:ext cx="1203480" cy="48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205740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788800" y="1089720"/>
            <a:ext cx="315720" cy="770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543800" y="1523520"/>
            <a:ext cx="1440" cy="838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2666160"/>
            <a:ext cx="1143000" cy="1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129492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2666520"/>
            <a:ext cx="990720" cy="38124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01000" y="1676520"/>
            <a:ext cx="91440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743440" y="2652480"/>
            <a:ext cx="114480" cy="38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8921880" y="1689120"/>
            <a:ext cx="171000" cy="33588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538760" y="1544760"/>
            <a:ext cx="270000" cy="631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543800" y="2209680"/>
            <a:ext cx="304920" cy="152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762120"/>
            <a:ext cx="685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1981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990720"/>
            <a:ext cx="7621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209680"/>
            <a:ext cx="533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676520"/>
            <a:ext cx="5331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1752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14120" y="3476520"/>
            <a:ext cx="27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00"/>
                </a:solidFill>
                <a:latin typeface="Arial"/>
              </a:rPr>
              <a:t>Ecuación de equilib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886200"/>
            <a:ext cx="52578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sen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sen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2000" spc="-1" strike="noStrike" baseline="-25000">
                <a:solidFill>
                  <a:srgbClr val="ffffff"/>
                </a:solidFill>
                <a:latin typeface="Times New Roman"/>
              </a:rPr>
              <a:t>xy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cos</a:t>
            </a:r>
            <a:r>
              <a:rPr b="0" i="1" lang="es-CL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7736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5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8640" y="5154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5078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4800600"/>
            <a:ext cx="121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518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0080" y="512748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0515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773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en 2 </a:t>
            </a:r>
            <a:r>
              <a:rPr b="0" i="1" lang="es-C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cos w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134600">
            <a:off x="2702520" y="4840560"/>
            <a:ext cx="274680" cy="1717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44640 h 1717920"/>
              <a:gd name="textAreaBottom" fmla="*/ 1673280 h 171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134600">
            <a:off x="5118840" y="4472280"/>
            <a:ext cx="274680" cy="2438280"/>
          </a:xfrm>
          <a:custGeom>
            <a:avLst/>
            <a:gdLst>
              <a:gd name="textAreaLeft" fmla="*/ 175680 w 274680"/>
              <a:gd name="textAreaRight" fmla="*/ 275040 w 2746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5"/>
                </a:lnTo>
                <a:cubicBezTo>
                  <a:pt x="10800" y="10345"/>
                  <a:pt x="5400" y="11245"/>
                  <a:pt x="0" y="11245"/>
                </a:cubicBezTo>
                <a:cubicBezTo>
                  <a:pt x="5400" y="11245"/>
                  <a:pt x="10800" y="12145"/>
                  <a:pt x="10800" y="1304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5943600"/>
            <a:ext cx="1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594360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81240" y="316080"/>
            <a:ext cx="0" cy="4295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043520"/>
            <a:ext cx="8101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1488960" y="1515960"/>
            <a:ext cx="5540040" cy="505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73" y="1"/>
                </a:moveTo>
                <a:arcTo wR="10800" hR="10800" stAng="-5345085" swAng="5345085"/>
                <a:lnTo>
                  <a:pt x="10800" y="10800"/>
                </a:lnTo>
                <a:close/>
              </a:path>
              <a:path fill="none" w="21600" h="21600">
                <a:moveTo>
                  <a:pt x="10973" y="1"/>
                </a:moveTo>
                <a:arcTo wR="10800" hR="10800" stAng="-5345085" swAng="5345085"/>
              </a:path>
            </a:pathLst>
          </a:cu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81240" y="1136520"/>
            <a:ext cx="5678280" cy="297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1240" y="820800"/>
            <a:ext cx="6162480" cy="3222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97760" y="404352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8960" y="0"/>
            <a:ext cx="9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200" y="56844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05840" y="4043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51440" y="36640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90º, 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5080" y="126360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19840" y="56844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5440" y="990720"/>
            <a:ext cx="473040" cy="1600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79440"/>
            <a:ext cx="21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m 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s-CL" sz="40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i="1" lang="es-CL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es-CL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35640" y="3160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75160" y="8208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35640" y="75888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9520" y="50472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43720" y="379440"/>
            <a:ext cx="69840" cy="757080"/>
          </a:xfrm>
          <a:custGeom>
            <a:avLst/>
            <a:gdLst>
              <a:gd name="textAreaLeft" fmla="*/ 0 w 69840"/>
              <a:gd name="textAreaRight" fmla="*/ 4896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27920" y="379440"/>
            <a:ext cx="69840" cy="757080"/>
          </a:xfrm>
          <a:custGeom>
            <a:avLst/>
            <a:gdLst>
              <a:gd name="textAreaLeft" fmla="*/ 20520 w 69840"/>
              <a:gd name="textAreaRight" fmla="*/ 69840 w 698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51440" y="4043520"/>
            <a:ext cx="0" cy="63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1240" y="4359240"/>
            <a:ext cx="2770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26840" y="151596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34920" y="1515960"/>
            <a:ext cx="0" cy="2527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35280" y="4486320"/>
            <a:ext cx="6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1400" y="48006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35280" y="480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33676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000" y="26528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1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720" y="2652840"/>
            <a:ext cx="41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1440" y="16430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= 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67600" y="1579680"/>
            <a:ext cx="7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0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1447920"/>
            <a:ext cx="68040" cy="758880"/>
          </a:xfrm>
          <a:custGeom>
            <a:avLst/>
            <a:gdLst>
              <a:gd name="textAreaLeft" fmla="*/ 0 w 68040"/>
              <a:gd name="textAreaRight" fmla="*/ 4788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67600" y="1452600"/>
            <a:ext cx="68040" cy="758880"/>
          </a:xfrm>
          <a:custGeom>
            <a:avLst/>
            <a:gdLst>
              <a:gd name="textAreaLeft" fmla="*/ 19800 w 68040"/>
              <a:gd name="textAreaRight" fmla="*/ 68400 w 68040"/>
              <a:gd name="textAreaTop" fmla="*/ 31320 h 758880"/>
              <a:gd name="textAreaBottom" fmla="*/ 727560 h 75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89680" y="139068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29200" y="1895400"/>
            <a:ext cx="6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9680" y="1832040"/>
            <a:ext cx="554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29000" y="504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16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3400" y="5867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5791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52578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58672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54100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764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58672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5791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54100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5410080"/>
            <a:ext cx="75960" cy="83844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4320" y="51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52578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5257800"/>
            <a:ext cx="152640" cy="1066680"/>
          </a:xfrm>
          <a:custGeom>
            <a:avLst/>
            <a:gdLst>
              <a:gd name="textAreaLeft" fmla="*/ 0 w 152640"/>
              <a:gd name="textAreaRight" fmla="*/ 107280 w 15264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56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790600" y="52578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8720" y="51814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5280" y="30492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orsión y Flexión altern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590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3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2680" y="29718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895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7640" y="236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971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5146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514600"/>
            <a:ext cx="75960" cy="838080"/>
          </a:xfrm>
          <a:custGeom>
            <a:avLst/>
            <a:gdLst>
              <a:gd name="textAreaLeft" fmla="*/ 0 w 75960"/>
              <a:gd name="textAreaRight" fmla="*/ 5328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73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236232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36232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452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0102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8040" y="228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680" y="137160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Máximo Esfuerzo de Corte (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</a:rPr>
              <a:t>Westinghouse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2320" y="297180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2362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2895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0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360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297180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30640" y="2743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6240" y="426708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Teoría de la energía de distor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257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48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9000" y="5638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5562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50292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51814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3960" y="50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832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5181480"/>
            <a:ext cx="75960" cy="83844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5181480"/>
            <a:ext cx="76320" cy="838440"/>
          </a:xfrm>
          <a:custGeom>
            <a:avLst/>
            <a:gdLst>
              <a:gd name="textAreaLeft" fmla="*/ 0 w 76320"/>
              <a:gd name="textAreaRight" fmla="*/ 5364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3640" y="495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029200"/>
            <a:ext cx="75960" cy="1066680"/>
          </a:xfrm>
          <a:custGeom>
            <a:avLst/>
            <a:gdLst>
              <a:gd name="textAreaLeft" fmla="*/ 22320 w 75960"/>
              <a:gd name="textAreaRight" fmla="*/ 76320 w 7596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5029200"/>
            <a:ext cx="152280" cy="1066680"/>
          </a:xfrm>
          <a:custGeom>
            <a:avLst/>
            <a:gdLst>
              <a:gd name="textAreaLeft" fmla="*/ 0 w 152280"/>
              <a:gd name="textAreaRight" fmla="*/ 106920 w 15228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308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085880" y="5029200"/>
            <a:ext cx="152280" cy="1066680"/>
          </a:xfrm>
          <a:custGeom>
            <a:avLst/>
            <a:gdLst>
              <a:gd name="textAreaLeft" fmla="*/ 96840 w 152280"/>
              <a:gd name="textAreaRight" fmla="*/ 1522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55627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5638680"/>
            <a:ext cx="50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5562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6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992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105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5638680"/>
            <a:ext cx="5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06600" y="5410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13840" y="304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600200"/>
            <a:ext cx="419112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990720"/>
            <a:ext cx="1523880" cy="129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1295280"/>
            <a:ext cx="15228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1371600"/>
            <a:ext cx="38124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1295280"/>
            <a:ext cx="152640" cy="609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1371600"/>
            <a:ext cx="3808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29200" y="1447920"/>
            <a:ext cx="76320" cy="304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05520" y="1523880"/>
            <a:ext cx="609480" cy="152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1371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13716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114300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2133720"/>
            <a:ext cx="152388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209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10666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38280" y="1905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19810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23623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1905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17524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71800" y="27432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27432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437920" y="2743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21520" y="243828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82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572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6040" y="2438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45000" y="2362320"/>
            <a:ext cx="33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2920" y="243828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05520" y="14479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17524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1447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7712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80988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5943600"/>
            <a:ext cx="3276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590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876920" y="38095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3124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8900400">
            <a:off x="3493080" y="3613680"/>
            <a:ext cx="30384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rot="12699600">
            <a:off x="5269680" y="3613320"/>
            <a:ext cx="304560" cy="30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9489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948942"/>
              </a:path>
            </a:pathLst>
          </a:custGeom>
          <a:noFill/>
          <a:ln w="93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4572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0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16240" y="4495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8360" y="44197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514600" y="5333760"/>
            <a:ext cx="121932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5334120"/>
            <a:ext cx="99036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724280" y="5943600"/>
            <a:ext cx="685800" cy="533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3920" y="41148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68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4840" y="3048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1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4640" y="31240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0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9560" y="411480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420 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85360" y="3809880"/>
            <a:ext cx="36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809880"/>
            <a:ext cx="1752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= 330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3080" y="6858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1066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58880" y="1066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438280" y="32000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34640" y="51055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204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31240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4000" y="35053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5000" y="632448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1920 lb·pul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09-12T15:09:12Z</dcterms:modified>
  <cp:revision>132</cp:revision>
  <dc:subject/>
  <dc:title>Sin título de diapositiva</dc:title>
</cp:coreProperties>
</file>