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D67-4481-4DFF-BFD1-9FC64EE6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71A-B75E-464A-8DCC-134C406A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9B5-A748-4A7F-8272-E9A36333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910-9B79-4013-AE68-A8700F9C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12D-4434-4812-8489-EBC87C0E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92A-334B-422B-94A4-47ADB161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CDF-FDA1-4586-87FF-2F842BBA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2B3-23E6-468E-9438-90D98790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5DF-FC63-45AC-B294-707F37B8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12F-E6D3-49DD-BC5B-A769B512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972-30B2-4442-B3F3-E760B20A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C7B-FEBA-4313-80B0-6B0F2A6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B71F-959E-4EFF-ADBF-A288CD2D255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2920" y="281952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ORNILLO SIN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infin%20Fact%20Km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2924280"/>
          </a:xfrm>
          <a:prstGeom prst="rect">
            <a:avLst/>
          </a:prstGeom>
          <a:ln w="0">
            <a:noFill/>
          </a:ln>
        </p:spPr>
      </p:pic>
      <p:pic>
        <p:nvPicPr>
          <p:cNvPr id="126" name="Sinfin%20Fact%20Kv" descr=""/>
          <p:cNvPicPr/>
          <p:nvPr/>
        </p:nvPicPr>
        <p:blipFill>
          <a:blip r:embed="rId2"/>
          <a:stretch/>
        </p:blipFill>
        <p:spPr>
          <a:xfrm>
            <a:off x="1447920" y="3181320"/>
            <a:ext cx="6172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59480" y="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1295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92440" y="12952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295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480" y="1295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514600"/>
            <a:ext cx="64008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nfin%20Relaciones" descr=""/>
          <p:cNvPicPr/>
          <p:nvPr/>
        </p:nvPicPr>
        <p:blipFill>
          <a:blip r:embed="rId1"/>
          <a:stretch/>
        </p:blipFill>
        <p:spPr>
          <a:xfrm>
            <a:off x="0" y="457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5640" y="114300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45120" y="236232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914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9840" y="327672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640" y="4032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2670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120" y="5305320"/>
            <a:ext cx="3452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dientes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entradas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0840" y="5305320"/>
            <a:ext cx="3723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6320" y="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gulos de presión de avance y alturas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infin%20AngAvance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2296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infin%20Fzas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95040" y="45720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5200" y="91440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5120" y="1371600"/>
            <a:ext cx="27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0240" y="206388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39320" y="259092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8240" y="3124080"/>
            <a:ext cx="22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6920" y="3886200"/>
            <a:ext cx="5304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: fuerza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omponentes ortogonales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5400" y="45720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1240" y="167652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0600" y="213372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50160" y="2590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6160" y="357516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0800" y="3276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6360" y="3809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38098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5880" y="487692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5680" y="457200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44960" y="510552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510552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3720" y="152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Ren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0666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4600" y="83808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600" y="129528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286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8480" y="2050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514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520" y="2514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828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1148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8006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1814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267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0958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8148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81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" y="5181120"/>
            <a:ext cx="13716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257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257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744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86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040" y="4648320"/>
            <a:ext cx="4551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infin%20Rend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14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5400" y="107316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2120" y="167652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7652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09680"/>
            <a:ext cx="6400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ancho de car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: factor d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tamaño y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infin%20Fact%20y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562720" cy="2257200"/>
          </a:xfrm>
          <a:prstGeom prst="rect">
            <a:avLst/>
          </a:prstGeom>
          <a:ln w="0">
            <a:noFill/>
          </a:ln>
        </p:spPr>
      </p:pic>
      <p:pic>
        <p:nvPicPr>
          <p:cNvPr id="124" name="Sinfin%20Fact%20ks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81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5:59:35Z</dcterms:modified>
  <cp:revision>160</cp:revision>
  <dc:subject/>
  <dc:title>Sin título de diapositiva</dc:title>
</cp:coreProperties>
</file>