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595-D5C9-4992-9C94-B113FC01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574-63D3-49FC-A392-128A73CC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1F0-CF80-481F-9DCD-7B4ACE73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F39-0972-4004-BEE8-280FA642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A99-F76C-47D6-925A-B55BC2D2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E55-E845-485F-BBF3-5B3A682B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37B-C9D0-4B05-A597-908218CE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463-88F8-41FD-98CF-36F9647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785-EAF2-46E5-B020-56FE5A5F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D5A-B7AA-4490-876D-942A8E2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095-6C22-4738-B04F-C44F3CB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E30-2295-4A58-803F-23D3061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1F1-C328-4BAF-A811-C4414A620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3:18:49Z</dcterms:created>
  <dc:creator>Roberto Corvalán Paiva</dc:creator>
  <dc:description/>
  <dc:language>en-US</dc:language>
  <cp:lastModifiedBy>Roberto Corvalán Paiva</cp:lastModifiedBy>
  <dcterms:modified xsi:type="dcterms:W3CDTF">2002-08-21T13:59:08Z</dcterms:modified>
  <cp:revision>4</cp:revision>
  <dc:subject/>
  <dc:title>Diapositiva 1</dc:title>
</cp:coreProperties>
</file>