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4BED-FB32-4483-B06B-8212657E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BBF8-B216-48A7-9234-53D7573D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610B-965C-48A9-A9EB-3FB6F396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F870-8D17-49C2-9811-F83B0B97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EE4B-B8E7-4E02-8378-EFE5111B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978C-CF06-4ED9-80E5-5043F339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C6AF-53D0-4DE3-879F-F4E9051D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62DD-0015-42A6-991D-4CD41C6C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3D8F-756E-4F91-90C6-EFBF43D9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AB21-A4F8-4A1B-9397-6638807C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1208-E2DD-4B55-8B40-3C3F340A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6A7E-7FBB-4AC1-912D-65541549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4196-6616-4291-822A-D569E6A374B9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2819520"/>
            <a:ext cx="61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HELICOID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PARALE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E%20Rectos%20Fact%20DistCarga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53452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76520" y="2819520"/>
            <a:ext cx="61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HELICOID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CRUZ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E%20HelicCrzados%20Sesgo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3930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4495680"/>
            <a:ext cx="245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680" y="556272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579744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57913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9760" y="4495680"/>
            <a:ext cx="38214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entre e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ángulo hélice engranaj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: diámetro de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: número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aso diametral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448080" y="1000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E%20HelicParal%20Ralaciones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782040" cy="3409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60" y="4267080"/>
            <a:ext cx="369180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circular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circular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circular 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la hé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diametral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66520" y="4267080"/>
            <a:ext cx="467172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paso diametral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presión plano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presión plano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número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`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número virtual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79240" y="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68880" y="1143000"/>
            <a:ext cx="171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60960" y="2209680"/>
            <a:ext cx="69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9520" y="190512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16240" y="24382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438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37640" y="350532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25480" y="320040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2920" y="373392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3733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8680" y="4343400"/>
            <a:ext cx="97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9760" y="4876920"/>
            <a:ext cx="89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4876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8520" y="579132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`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46760" y="6019920"/>
            <a:ext cx="9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6019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970000" y="10008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91440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E%20HelicParal%20Fuerzas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038480" cy="3774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4120" y="160020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26668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34290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419112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8520" y="548640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7760" y="525780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46760" y="5715000"/>
            <a:ext cx="167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57150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62840" y="100080"/>
            <a:ext cx="38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sfuerzos sobre el 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920" y="76212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5335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1066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9907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9810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1752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22860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22096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60400" y="175248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18288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31240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7760" y="281952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78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32767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289548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3429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114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I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480" y="3886200"/>
            <a:ext cx="163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4343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3434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38862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02440" y="4343400"/>
            <a:ext cx="103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43434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3920" y="5070600"/>
            <a:ext cx="87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05720" y="480060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5334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0.95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53341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0760" y="60958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Z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6019920"/>
            <a:ext cx="2438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a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r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6095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6019920"/>
            <a:ext cx="2438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a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r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6095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55000" y="6054840"/>
            <a:ext cx="205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6240" y="60199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8720" y="6019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E%20HelicParal%20Nomenc" descr=""/>
          <p:cNvPicPr/>
          <p:nvPr/>
        </p:nvPicPr>
        <p:blipFill>
          <a:blip r:embed="rId1"/>
          <a:stretch/>
        </p:blipFill>
        <p:spPr>
          <a:xfrm>
            <a:off x="3886200" y="1143000"/>
            <a:ext cx="52578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E%20HelicParal%20FactorJ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991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84120" y="1000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álculo a la Fati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68580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5720" y="17524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151776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19810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198108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20120" y="16765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90720" y="9907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E%20HelicParal%20NomencResist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655308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E%20HelicParal%20CH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1028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743200" y="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1447920"/>
            <a:ext cx="281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3200400"/>
            <a:ext cx="7162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seguridad para el cálculo de engran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Factor de sob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Factor de distribución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   : Factor de seguridad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10-10T13:49:35Z</dcterms:modified>
  <cp:revision>159</cp:revision>
  <dc:subject/>
  <dc:title>Sin título de diapositiva</dc:title>
</cp:coreProperties>
</file>