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2205-2273-4905-87C3-4120B0EC8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5128-BD2D-41F5-A614-B0AFA098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E78C-4CD1-4EE4-95C1-26DD5730B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6223-2C64-436B-BAEF-5DE8EEEBC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5C0A-2637-41DA-94AE-C73D7345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195C-1D46-4D88-8B5C-2AA023EF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740C-DB49-483C-BCA0-244C57D4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BC5A-7559-47BC-B1E4-C1A94365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59E5-A854-43F4-955D-09C6E03D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98BF-0462-4BC6-833E-EE0826BE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5981-090B-42F4-A30E-91BD8613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8458-A599-49FB-BC32-D0857EED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BE3C-A736-4216-BE18-3FC0D398500F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160" y="2819520"/>
            <a:ext cx="635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RESISTENCIA DE MATER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APLICADA AL DISEÑ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220840" y="380880"/>
            <a:ext cx="4223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Factor de Confiabilidad </a:t>
            </a:r>
            <a:r>
              <a:rPr b="0" i="1" lang="es-CL" sz="2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64320" y="1219320"/>
            <a:ext cx="225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1 - 0.08 z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38480" y="2050920"/>
            <a:ext cx="175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-(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274320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MS LineDraw"/>
                <a:ea typeface="MS LineDraw"/>
              </a:rPr>
              <a:t>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s-CL" sz="2800" spc="-1" strike="noStrike">
                <a:solidFill>
                  <a:srgbClr val="ffffff"/>
                </a:solidFill>
                <a:latin typeface="MS LineDraw"/>
                <a:ea typeface="MS LineDraw"/>
              </a:rPr>
              <a:t>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MS LineDraw"/>
                <a:ea typeface="MS LineDraw"/>
              </a:rPr>
              <a:t>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28195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38480" y="26668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0368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84400" y="2438280"/>
            <a:ext cx="750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r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19440" y="3759120"/>
            <a:ext cx="6365520" cy="22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: media de las resist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: media de los esfuerz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MS LineDraw"/>
                <a:ea typeface="MS LineDraw"/>
              </a:rPr>
              <a:t>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: desviación estándar de las resist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MS LineDraw"/>
                <a:ea typeface="MS LineDraw"/>
              </a:rPr>
              <a:t>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MS LineDraw"/>
                <a:ea typeface="MS LineDraw"/>
              </a:rPr>
              <a:t>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: desviación estándar de las resist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1676520" y="1523880"/>
          <a:ext cx="5638680" cy="290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523880"/>
                    <a:ext cx="5638680" cy="29037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23000" y="380880"/>
            <a:ext cx="421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Factor de Temperatura </a:t>
            </a:r>
            <a:r>
              <a:rPr b="0" i="1" lang="es-CL" sz="2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2743200"/>
            <a:ext cx="87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60680" y="316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16760" y="2209680"/>
            <a:ext cx="5892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 T</a:t>
            </a:r>
            <a:r>
              <a:rPr b="0" i="1" lang="es-CL" sz="28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840º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1-5.8·10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·(T-450)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 450ºC &lt; T </a:t>
            </a:r>
            <a:r>
              <a:rPr b="0" i="1" lang="es-CL" sz="28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550º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57400" y="2133720"/>
            <a:ext cx="152280" cy="1828800"/>
          </a:xfrm>
          <a:custGeom>
            <a:avLst/>
            <a:gdLst>
              <a:gd name="textAreaLeft" fmla="*/ 97200 w 152280"/>
              <a:gd name="textAreaRight" fmla="*/ 152640 w 1522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307160" y="533520"/>
            <a:ext cx="6650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Factor de Concentración de Esfuerzos </a:t>
            </a:r>
            <a:r>
              <a:rPr b="0" i="1" lang="es-CL" sz="2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81520" y="137160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21160" y="1066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73200" y="1676520"/>
            <a:ext cx="474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1120" y="16002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30720" y="2590920"/>
            <a:ext cx="802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60160" y="2362320"/>
            <a:ext cx="43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Límite indurancia sin enta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2895480"/>
            <a:ext cx="4114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60160" y="2895480"/>
            <a:ext cx="43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Límite indurancia sin enta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8520" y="3962520"/>
            <a:ext cx="6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q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49520" y="3657600"/>
            <a:ext cx="86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9520" y="4191120"/>
            <a:ext cx="86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41911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5320" y="4952880"/>
            <a:ext cx="709956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q : sensibilidad al enta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: factor teórico de concentración de esfuerz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591280" y="304920"/>
            <a:ext cx="358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Esfuerzos fluctu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838080"/>
            <a:ext cx="0" cy="198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2209680"/>
            <a:ext cx="2819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2590920"/>
            <a:ext cx="0" cy="19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3505320"/>
            <a:ext cx="2819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90720" y="4572000"/>
            <a:ext cx="0" cy="19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5181480"/>
            <a:ext cx="2819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1193760"/>
            <a:ext cx="2514600" cy="1359000"/>
          </a:xfrm>
          <a:custGeom>
            <a:avLst/>
            <a:gdLst/>
            <a:ahLst/>
            <a:rect l="l" t="t" r="r" b="b"/>
            <a:pathLst>
              <a:path w="1584" h="856">
                <a:moveTo>
                  <a:pt x="0" y="352"/>
                </a:moveTo>
                <a:cubicBezTo>
                  <a:pt x="48" y="304"/>
                  <a:pt x="96" y="256"/>
                  <a:pt x="144" y="208"/>
                </a:cubicBezTo>
                <a:cubicBezTo>
                  <a:pt x="192" y="160"/>
                  <a:pt x="240" y="96"/>
                  <a:pt x="288" y="64"/>
                </a:cubicBezTo>
                <a:cubicBezTo>
                  <a:pt x="336" y="32"/>
                  <a:pt x="392" y="0"/>
                  <a:pt x="432" y="16"/>
                </a:cubicBezTo>
                <a:cubicBezTo>
                  <a:pt x="472" y="32"/>
                  <a:pt x="504" y="112"/>
                  <a:pt x="528" y="160"/>
                </a:cubicBezTo>
                <a:cubicBezTo>
                  <a:pt x="552" y="208"/>
                  <a:pt x="560" y="256"/>
                  <a:pt x="576" y="304"/>
                </a:cubicBezTo>
                <a:cubicBezTo>
                  <a:pt x="592" y="352"/>
                  <a:pt x="608" y="408"/>
                  <a:pt x="624" y="448"/>
                </a:cubicBezTo>
                <a:cubicBezTo>
                  <a:pt x="640" y="488"/>
                  <a:pt x="656" y="504"/>
                  <a:pt x="672" y="544"/>
                </a:cubicBezTo>
                <a:cubicBezTo>
                  <a:pt x="688" y="584"/>
                  <a:pt x="688" y="640"/>
                  <a:pt x="720" y="688"/>
                </a:cubicBezTo>
                <a:cubicBezTo>
                  <a:pt x="752" y="736"/>
                  <a:pt x="816" y="808"/>
                  <a:pt x="864" y="832"/>
                </a:cubicBezTo>
                <a:cubicBezTo>
                  <a:pt x="912" y="856"/>
                  <a:pt x="968" y="840"/>
                  <a:pt x="1008" y="832"/>
                </a:cubicBezTo>
                <a:cubicBezTo>
                  <a:pt x="1048" y="824"/>
                  <a:pt x="1072" y="832"/>
                  <a:pt x="1104" y="784"/>
                </a:cubicBezTo>
                <a:cubicBezTo>
                  <a:pt x="1136" y="736"/>
                  <a:pt x="1160" y="608"/>
                  <a:pt x="1200" y="544"/>
                </a:cubicBezTo>
                <a:cubicBezTo>
                  <a:pt x="1240" y="480"/>
                  <a:pt x="1312" y="448"/>
                  <a:pt x="1344" y="400"/>
                </a:cubicBezTo>
                <a:cubicBezTo>
                  <a:pt x="1376" y="352"/>
                  <a:pt x="1368" y="304"/>
                  <a:pt x="1392" y="256"/>
                </a:cubicBezTo>
                <a:cubicBezTo>
                  <a:pt x="1416" y="208"/>
                  <a:pt x="1456" y="152"/>
                  <a:pt x="1488" y="112"/>
                </a:cubicBezTo>
                <a:cubicBezTo>
                  <a:pt x="1520" y="72"/>
                  <a:pt x="1552" y="44"/>
                  <a:pt x="1584" y="1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2946240"/>
            <a:ext cx="2895480" cy="1206720"/>
          </a:xfrm>
          <a:custGeom>
            <a:avLst/>
            <a:gdLst/>
            <a:ahLst/>
            <a:rect l="l" t="t" r="r" b="b"/>
            <a:pathLst>
              <a:path w="1824" h="760">
                <a:moveTo>
                  <a:pt x="0" y="640"/>
                </a:moveTo>
                <a:cubicBezTo>
                  <a:pt x="44" y="560"/>
                  <a:pt x="88" y="480"/>
                  <a:pt x="144" y="400"/>
                </a:cubicBezTo>
                <a:cubicBezTo>
                  <a:pt x="200" y="320"/>
                  <a:pt x="272" y="200"/>
                  <a:pt x="336" y="160"/>
                </a:cubicBezTo>
                <a:cubicBezTo>
                  <a:pt x="400" y="120"/>
                  <a:pt x="464" y="96"/>
                  <a:pt x="528" y="160"/>
                </a:cubicBezTo>
                <a:cubicBezTo>
                  <a:pt x="592" y="224"/>
                  <a:pt x="680" y="464"/>
                  <a:pt x="720" y="544"/>
                </a:cubicBezTo>
                <a:cubicBezTo>
                  <a:pt x="760" y="624"/>
                  <a:pt x="736" y="608"/>
                  <a:pt x="768" y="640"/>
                </a:cubicBezTo>
                <a:cubicBezTo>
                  <a:pt x="800" y="672"/>
                  <a:pt x="872" y="720"/>
                  <a:pt x="912" y="736"/>
                </a:cubicBezTo>
                <a:cubicBezTo>
                  <a:pt x="952" y="752"/>
                  <a:pt x="968" y="760"/>
                  <a:pt x="1008" y="736"/>
                </a:cubicBezTo>
                <a:cubicBezTo>
                  <a:pt x="1048" y="712"/>
                  <a:pt x="1096" y="680"/>
                  <a:pt x="1152" y="592"/>
                </a:cubicBezTo>
                <a:cubicBezTo>
                  <a:pt x="1208" y="504"/>
                  <a:pt x="1296" y="296"/>
                  <a:pt x="1344" y="208"/>
                </a:cubicBezTo>
                <a:cubicBezTo>
                  <a:pt x="1392" y="120"/>
                  <a:pt x="1392" y="96"/>
                  <a:pt x="1440" y="64"/>
                </a:cubicBezTo>
                <a:cubicBezTo>
                  <a:pt x="1488" y="32"/>
                  <a:pt x="1584" y="0"/>
                  <a:pt x="1632" y="16"/>
                </a:cubicBezTo>
                <a:cubicBezTo>
                  <a:pt x="1680" y="32"/>
                  <a:pt x="1696" y="128"/>
                  <a:pt x="1728" y="160"/>
                </a:cubicBezTo>
                <a:cubicBezTo>
                  <a:pt x="1760" y="192"/>
                  <a:pt x="1816" y="200"/>
                  <a:pt x="1824" y="20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4673520"/>
            <a:ext cx="2895480" cy="1473120"/>
          </a:xfrm>
          <a:custGeom>
            <a:avLst/>
            <a:gdLst/>
            <a:ahLst/>
            <a:rect l="l" t="t" r="r" b="b"/>
            <a:pathLst>
              <a:path w="1824" h="928">
                <a:moveTo>
                  <a:pt x="0" y="512"/>
                </a:moveTo>
                <a:cubicBezTo>
                  <a:pt x="8" y="452"/>
                  <a:pt x="16" y="392"/>
                  <a:pt x="48" y="320"/>
                </a:cubicBezTo>
                <a:cubicBezTo>
                  <a:pt x="80" y="248"/>
                  <a:pt x="152" y="96"/>
                  <a:pt x="192" y="80"/>
                </a:cubicBezTo>
                <a:cubicBezTo>
                  <a:pt x="232" y="64"/>
                  <a:pt x="264" y="184"/>
                  <a:pt x="288" y="224"/>
                </a:cubicBezTo>
                <a:cubicBezTo>
                  <a:pt x="312" y="264"/>
                  <a:pt x="304" y="280"/>
                  <a:pt x="336" y="320"/>
                </a:cubicBezTo>
                <a:cubicBezTo>
                  <a:pt x="368" y="360"/>
                  <a:pt x="440" y="472"/>
                  <a:pt x="480" y="464"/>
                </a:cubicBezTo>
                <a:cubicBezTo>
                  <a:pt x="520" y="456"/>
                  <a:pt x="544" y="336"/>
                  <a:pt x="576" y="272"/>
                </a:cubicBezTo>
                <a:cubicBezTo>
                  <a:pt x="608" y="208"/>
                  <a:pt x="640" y="120"/>
                  <a:pt x="672" y="80"/>
                </a:cubicBezTo>
                <a:cubicBezTo>
                  <a:pt x="704" y="40"/>
                  <a:pt x="744" y="24"/>
                  <a:pt x="768" y="32"/>
                </a:cubicBezTo>
                <a:cubicBezTo>
                  <a:pt x="792" y="40"/>
                  <a:pt x="768" y="0"/>
                  <a:pt x="816" y="128"/>
                </a:cubicBezTo>
                <a:cubicBezTo>
                  <a:pt x="864" y="256"/>
                  <a:pt x="992" y="672"/>
                  <a:pt x="1056" y="800"/>
                </a:cubicBezTo>
                <a:cubicBezTo>
                  <a:pt x="1120" y="928"/>
                  <a:pt x="1160" y="904"/>
                  <a:pt x="1200" y="896"/>
                </a:cubicBezTo>
                <a:cubicBezTo>
                  <a:pt x="1240" y="888"/>
                  <a:pt x="1264" y="784"/>
                  <a:pt x="1296" y="752"/>
                </a:cubicBezTo>
                <a:cubicBezTo>
                  <a:pt x="1328" y="720"/>
                  <a:pt x="1368" y="696"/>
                  <a:pt x="1392" y="704"/>
                </a:cubicBezTo>
                <a:cubicBezTo>
                  <a:pt x="1416" y="712"/>
                  <a:pt x="1424" y="768"/>
                  <a:pt x="1440" y="800"/>
                </a:cubicBezTo>
                <a:cubicBezTo>
                  <a:pt x="1456" y="832"/>
                  <a:pt x="1456" y="880"/>
                  <a:pt x="1488" y="896"/>
                </a:cubicBezTo>
                <a:cubicBezTo>
                  <a:pt x="1520" y="912"/>
                  <a:pt x="1600" y="920"/>
                  <a:pt x="1632" y="896"/>
                </a:cubicBezTo>
                <a:cubicBezTo>
                  <a:pt x="1664" y="872"/>
                  <a:pt x="1648" y="880"/>
                  <a:pt x="1680" y="752"/>
                </a:cubicBezTo>
                <a:cubicBezTo>
                  <a:pt x="1712" y="624"/>
                  <a:pt x="1768" y="376"/>
                  <a:pt x="1824" y="12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81480" y="1219320"/>
            <a:ext cx="0" cy="5181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81480" y="220968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81480" y="3505320"/>
            <a:ext cx="2819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81480" y="5105520"/>
            <a:ext cx="2819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91320" y="990720"/>
            <a:ext cx="2057400" cy="888840"/>
          </a:xfrm>
          <a:custGeom>
            <a:avLst/>
            <a:gdLst/>
            <a:ahLst/>
            <a:rect l="l" t="t" r="r" b="b"/>
            <a:pathLst>
              <a:path w="1536" h="752">
                <a:moveTo>
                  <a:pt x="0" y="440"/>
                </a:moveTo>
                <a:cubicBezTo>
                  <a:pt x="48" y="308"/>
                  <a:pt x="96" y="176"/>
                  <a:pt x="144" y="104"/>
                </a:cubicBezTo>
                <a:cubicBezTo>
                  <a:pt x="192" y="32"/>
                  <a:pt x="240" y="8"/>
                  <a:pt x="288" y="8"/>
                </a:cubicBezTo>
                <a:cubicBezTo>
                  <a:pt x="336" y="8"/>
                  <a:pt x="384" y="40"/>
                  <a:pt x="432" y="104"/>
                </a:cubicBezTo>
                <a:cubicBezTo>
                  <a:pt x="480" y="168"/>
                  <a:pt x="528" y="296"/>
                  <a:pt x="576" y="392"/>
                </a:cubicBezTo>
                <a:cubicBezTo>
                  <a:pt x="624" y="488"/>
                  <a:pt x="664" y="624"/>
                  <a:pt x="720" y="680"/>
                </a:cubicBezTo>
                <a:cubicBezTo>
                  <a:pt x="776" y="736"/>
                  <a:pt x="864" y="752"/>
                  <a:pt x="912" y="728"/>
                </a:cubicBezTo>
                <a:cubicBezTo>
                  <a:pt x="960" y="704"/>
                  <a:pt x="976" y="616"/>
                  <a:pt x="1008" y="536"/>
                </a:cubicBezTo>
                <a:cubicBezTo>
                  <a:pt x="1040" y="456"/>
                  <a:pt x="1080" y="320"/>
                  <a:pt x="1104" y="248"/>
                </a:cubicBezTo>
                <a:cubicBezTo>
                  <a:pt x="1128" y="176"/>
                  <a:pt x="1128" y="144"/>
                  <a:pt x="1152" y="104"/>
                </a:cubicBezTo>
                <a:cubicBezTo>
                  <a:pt x="1176" y="64"/>
                  <a:pt x="1216" y="16"/>
                  <a:pt x="1248" y="8"/>
                </a:cubicBezTo>
                <a:cubicBezTo>
                  <a:pt x="1280" y="0"/>
                  <a:pt x="1312" y="16"/>
                  <a:pt x="1344" y="56"/>
                </a:cubicBezTo>
                <a:cubicBezTo>
                  <a:pt x="1376" y="96"/>
                  <a:pt x="1408" y="168"/>
                  <a:pt x="1440" y="248"/>
                </a:cubicBezTo>
                <a:cubicBezTo>
                  <a:pt x="1472" y="328"/>
                  <a:pt x="1520" y="488"/>
                  <a:pt x="1536" y="53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2590920"/>
            <a:ext cx="2057400" cy="888840"/>
          </a:xfrm>
          <a:custGeom>
            <a:avLst/>
            <a:gdLst/>
            <a:ahLst/>
            <a:rect l="l" t="t" r="r" b="b"/>
            <a:pathLst>
              <a:path w="1536" h="752">
                <a:moveTo>
                  <a:pt x="0" y="440"/>
                </a:moveTo>
                <a:cubicBezTo>
                  <a:pt x="48" y="308"/>
                  <a:pt x="96" y="176"/>
                  <a:pt x="144" y="104"/>
                </a:cubicBezTo>
                <a:cubicBezTo>
                  <a:pt x="192" y="32"/>
                  <a:pt x="240" y="8"/>
                  <a:pt x="288" y="8"/>
                </a:cubicBezTo>
                <a:cubicBezTo>
                  <a:pt x="336" y="8"/>
                  <a:pt x="384" y="40"/>
                  <a:pt x="432" y="104"/>
                </a:cubicBezTo>
                <a:cubicBezTo>
                  <a:pt x="480" y="168"/>
                  <a:pt x="528" y="296"/>
                  <a:pt x="576" y="392"/>
                </a:cubicBezTo>
                <a:cubicBezTo>
                  <a:pt x="624" y="488"/>
                  <a:pt x="664" y="624"/>
                  <a:pt x="720" y="680"/>
                </a:cubicBezTo>
                <a:cubicBezTo>
                  <a:pt x="776" y="736"/>
                  <a:pt x="864" y="752"/>
                  <a:pt x="912" y="728"/>
                </a:cubicBezTo>
                <a:cubicBezTo>
                  <a:pt x="960" y="704"/>
                  <a:pt x="976" y="616"/>
                  <a:pt x="1008" y="536"/>
                </a:cubicBezTo>
                <a:cubicBezTo>
                  <a:pt x="1040" y="456"/>
                  <a:pt x="1080" y="320"/>
                  <a:pt x="1104" y="248"/>
                </a:cubicBezTo>
                <a:cubicBezTo>
                  <a:pt x="1128" y="176"/>
                  <a:pt x="1128" y="144"/>
                  <a:pt x="1152" y="104"/>
                </a:cubicBezTo>
                <a:cubicBezTo>
                  <a:pt x="1176" y="64"/>
                  <a:pt x="1216" y="16"/>
                  <a:pt x="1248" y="8"/>
                </a:cubicBezTo>
                <a:cubicBezTo>
                  <a:pt x="1280" y="0"/>
                  <a:pt x="1312" y="16"/>
                  <a:pt x="1344" y="56"/>
                </a:cubicBezTo>
                <a:cubicBezTo>
                  <a:pt x="1376" y="96"/>
                  <a:pt x="1408" y="168"/>
                  <a:pt x="1440" y="248"/>
                </a:cubicBezTo>
                <a:cubicBezTo>
                  <a:pt x="1472" y="328"/>
                  <a:pt x="1520" y="488"/>
                  <a:pt x="1536" y="53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638680" y="4648320"/>
            <a:ext cx="2057400" cy="888840"/>
          </a:xfrm>
          <a:custGeom>
            <a:avLst/>
            <a:gdLst/>
            <a:ahLst/>
            <a:rect l="l" t="t" r="r" b="b"/>
            <a:pathLst>
              <a:path w="1536" h="752">
                <a:moveTo>
                  <a:pt x="0" y="440"/>
                </a:moveTo>
                <a:cubicBezTo>
                  <a:pt x="48" y="308"/>
                  <a:pt x="96" y="176"/>
                  <a:pt x="144" y="104"/>
                </a:cubicBezTo>
                <a:cubicBezTo>
                  <a:pt x="192" y="32"/>
                  <a:pt x="240" y="8"/>
                  <a:pt x="288" y="8"/>
                </a:cubicBezTo>
                <a:cubicBezTo>
                  <a:pt x="336" y="8"/>
                  <a:pt x="384" y="40"/>
                  <a:pt x="432" y="104"/>
                </a:cubicBezTo>
                <a:cubicBezTo>
                  <a:pt x="480" y="168"/>
                  <a:pt x="528" y="296"/>
                  <a:pt x="576" y="392"/>
                </a:cubicBezTo>
                <a:cubicBezTo>
                  <a:pt x="624" y="488"/>
                  <a:pt x="664" y="624"/>
                  <a:pt x="720" y="680"/>
                </a:cubicBezTo>
                <a:cubicBezTo>
                  <a:pt x="776" y="736"/>
                  <a:pt x="864" y="752"/>
                  <a:pt x="912" y="728"/>
                </a:cubicBezTo>
                <a:cubicBezTo>
                  <a:pt x="960" y="704"/>
                  <a:pt x="976" y="616"/>
                  <a:pt x="1008" y="536"/>
                </a:cubicBezTo>
                <a:cubicBezTo>
                  <a:pt x="1040" y="456"/>
                  <a:pt x="1080" y="320"/>
                  <a:pt x="1104" y="248"/>
                </a:cubicBezTo>
                <a:cubicBezTo>
                  <a:pt x="1128" y="176"/>
                  <a:pt x="1128" y="144"/>
                  <a:pt x="1152" y="104"/>
                </a:cubicBezTo>
                <a:cubicBezTo>
                  <a:pt x="1176" y="64"/>
                  <a:pt x="1216" y="16"/>
                  <a:pt x="1248" y="8"/>
                </a:cubicBezTo>
                <a:cubicBezTo>
                  <a:pt x="1280" y="0"/>
                  <a:pt x="1312" y="16"/>
                  <a:pt x="1344" y="56"/>
                </a:cubicBezTo>
                <a:cubicBezTo>
                  <a:pt x="1376" y="96"/>
                  <a:pt x="1408" y="168"/>
                  <a:pt x="1440" y="248"/>
                </a:cubicBezTo>
                <a:cubicBezTo>
                  <a:pt x="1472" y="328"/>
                  <a:pt x="1520" y="488"/>
                  <a:pt x="1536" y="53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754880" y="1295280"/>
            <a:ext cx="73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238880" y="1752480"/>
            <a:ext cx="760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1600200"/>
            <a:ext cx="838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715440" y="838080"/>
            <a:ext cx="499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085240" y="1143000"/>
            <a:ext cx="476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10080" y="99072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9907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934320" y="190512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38880" y="1905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152388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990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72200" y="15238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467480" y="9907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153280" y="9907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86400" y="304812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43800" y="251460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238880" y="396252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975760" y="30492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Diagrama S-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1371600"/>
            <a:ext cx="6324480" cy="358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71600" y="2057400"/>
            <a:ext cx="152388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895480" y="2438280"/>
            <a:ext cx="2667240" cy="1676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62720" y="411480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3880" y="20574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2286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09680" y="2133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362320" y="2286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14600" y="2438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19520" y="24382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24382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26668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05320" y="27432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28954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8954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62520" y="31240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31240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43400" y="3276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95680" y="3429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35812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752480" y="20574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09680" y="2133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362320" y="2286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90920" y="2362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43200" y="23623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057400" y="2133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24080" y="25909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76720" y="27432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81480" y="36576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81480" y="39625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15000" y="3886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91320" y="40384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172200" y="39625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39625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41148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41911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81680" y="41148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162920" y="40384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91520" y="41911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8120" y="1371600"/>
            <a:ext cx="0" cy="358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1371600"/>
            <a:ext cx="0" cy="358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71600" y="1828800"/>
            <a:ext cx="41148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86400" y="182880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437560" y="1447920"/>
            <a:ext cx="134820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Vida Fin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65120" y="1447920"/>
            <a:ext cx="147600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Vida Infin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441972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48120" y="4419720"/>
            <a:ext cx="46479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23520" y="3962520"/>
            <a:ext cx="147456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iclos Baj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9880" y="3962520"/>
            <a:ext cx="141660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iclos Al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7240" y="1195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67480" y="51814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00160" y="5029200"/>
            <a:ext cx="51120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262480" y="5105520"/>
            <a:ext cx="51120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595600" y="304920"/>
            <a:ext cx="387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Diagrama de Good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668680" y="1252440"/>
            <a:ext cx="0" cy="2816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668680" y="4068720"/>
            <a:ext cx="4664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668680" y="4068720"/>
            <a:ext cx="0" cy="24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79760" y="5310360"/>
            <a:ext cx="17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579760" y="2825640"/>
            <a:ext cx="17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057400" y="1170000"/>
            <a:ext cx="4043520" cy="340200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668680" y="1749240"/>
            <a:ext cx="2727360" cy="1076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668680" y="1749240"/>
            <a:ext cx="2727360" cy="3560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755800" y="1749600"/>
            <a:ext cx="264024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668680" y="2411280"/>
            <a:ext cx="184788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96040" y="1749600"/>
            <a:ext cx="0" cy="23191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16560" y="2411280"/>
            <a:ext cx="0" cy="16574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08240" y="224640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11680" y="2081160"/>
            <a:ext cx="889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253040" y="191448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08560" y="208116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03680" y="1914480"/>
            <a:ext cx="889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00600" y="191448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635280" y="2328840"/>
            <a:ext cx="889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548160" y="2163600"/>
            <a:ext cx="8712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84640" y="2411280"/>
            <a:ext cx="8712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19320" y="2577960"/>
            <a:ext cx="8892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780080" y="2825640"/>
            <a:ext cx="8892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32520" y="274320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32520" y="224640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427640" y="3736800"/>
            <a:ext cx="8892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08560" y="381960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635280" y="4730760"/>
            <a:ext cx="889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371760" y="5062680"/>
            <a:ext cx="889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932200" y="514512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44720" y="547704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076640" y="489744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340160" y="448308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53040" y="3902040"/>
            <a:ext cx="87120" cy="842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16560" y="332280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04000" y="4068720"/>
            <a:ext cx="968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27320" y="838080"/>
            <a:ext cx="52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052720" y="141768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052720" y="199692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052720" y="249408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052720" y="497988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043600" y="390204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64120" y="390204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20026800">
            <a:off x="2671920" y="2466720"/>
            <a:ext cx="15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Esfuerzo Má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18365400">
            <a:off x="3047400" y="4037400"/>
            <a:ext cx="15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Esfuerzo Mí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19164600">
            <a:off x="2512800" y="3428640"/>
            <a:ext cx="178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Esfuerzo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rot="16246800">
            <a:off x="1260000" y="219348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Tr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16244400">
            <a:off x="1009440" y="511200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om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506760" y="947880"/>
            <a:ext cx="0" cy="2815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9480" y="3733920"/>
            <a:ext cx="7561440" cy="29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506760" y="3763800"/>
            <a:ext cx="0" cy="248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417840" y="5005440"/>
            <a:ext cx="176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417840" y="2521080"/>
            <a:ext cx="176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895480" y="865080"/>
            <a:ext cx="4043520" cy="340200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3506760" y="1444680"/>
            <a:ext cx="2727360" cy="107640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3506760" y="1444320"/>
            <a:ext cx="2727360" cy="356076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594240" y="1444680"/>
            <a:ext cx="263988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05320" y="1905120"/>
            <a:ext cx="220968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234120" y="1444680"/>
            <a:ext cx="0" cy="23191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15000" y="1905120"/>
            <a:ext cx="0" cy="18856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642080" y="3763800"/>
            <a:ext cx="968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065400" y="533520"/>
            <a:ext cx="5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24080" y="1143000"/>
            <a:ext cx="79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24080" y="1600200"/>
            <a:ext cx="79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48120" y="228600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890800" y="4675320"/>
            <a:ext cx="79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19920" y="373392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562720" y="373392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rot="18423000">
            <a:off x="3849840" y="33876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imes New Roman"/>
              </a:rPr>
              <a:t>Esfuerzo Mí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rot="19294800">
            <a:off x="3427920" y="2894760"/>
            <a:ext cx="13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imes New Roman"/>
              </a:rPr>
              <a:t>Esfuerzo Me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rot="20264400">
            <a:off x="3732840" y="2057040"/>
            <a:ext cx="11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ffffff"/>
                </a:solidFill>
                <a:latin typeface="Times New Roman"/>
              </a:rPr>
              <a:t>Esfuerzo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1400" spc="-1" strike="noStrike">
                <a:solidFill>
                  <a:srgbClr val="ffffff"/>
                </a:solidFill>
                <a:latin typeface="Times New Roman"/>
              </a:rPr>
              <a:t>Má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505320" y="1904760"/>
            <a:ext cx="152388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029200" y="19051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105520" y="19051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5105160" y="1905120"/>
            <a:ext cx="609480" cy="99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3505320" y="2895120"/>
            <a:ext cx="1600200" cy="2133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2286000" y="5029200"/>
            <a:ext cx="1219320" cy="1039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1905120" y="2514600"/>
            <a:ext cx="160020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38080" y="2057400"/>
            <a:ext cx="38862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724280" y="2057400"/>
            <a:ext cx="0" cy="16765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828800" y="2743200"/>
            <a:ext cx="289548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3429000"/>
            <a:ext cx="327672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066680" y="205740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0020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04640" y="2438280"/>
            <a:ext cx="65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600200" y="205740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073520" y="2438280"/>
            <a:ext cx="43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11960" y="3276720"/>
            <a:ext cx="63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í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0" y="20574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6000" y="27432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760760" y="213372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760760" y="281952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506120" y="3657600"/>
            <a:ext cx="49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2595240" y="304920"/>
            <a:ext cx="398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Diagrama de Soderbe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191120" y="1219320"/>
            <a:ext cx="0" cy="3733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600200" y="342900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114800" y="2057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91120" y="3429000"/>
            <a:ext cx="2590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600200" y="33526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781680" y="33526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781680" y="34290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9480" y="34290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238880" y="33526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143000" y="33526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914400" y="350532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447920" y="350532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629400" y="342900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86600" y="342900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741840" y="91440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733920" y="182880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191120" y="2057400"/>
            <a:ext cx="259056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1599840" y="2057400"/>
            <a:ext cx="259092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191120" y="2057400"/>
            <a:ext cx="3047760" cy="13716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1142640" y="2057400"/>
            <a:ext cx="3048120" cy="13716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171120" y="2133720"/>
            <a:ext cx="11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Goo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6248520" y="2514600"/>
            <a:ext cx="30456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486040" y="38862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Tr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599480" y="403848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om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486400" y="434340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1219320" y="449568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859160" y="3352680"/>
            <a:ext cx="49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253040" y="191448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48320" y="190512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1981080"/>
            <a:ext cx="8748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181480" y="190512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029200" y="228600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486400" y="2438280"/>
            <a:ext cx="8748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181480" y="236232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10080" y="213372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91320" y="251460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019920" y="281952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477120" y="2895480"/>
            <a:ext cx="8712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405320" y="2066760"/>
            <a:ext cx="8748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990720" y="2209680"/>
            <a:ext cx="8712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205740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905120" y="228600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514600" y="1981080"/>
            <a:ext cx="8748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133720" y="182880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1752480"/>
            <a:ext cx="8748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581280" y="144792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200400" y="144792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352680" y="1752480"/>
            <a:ext cx="8748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666880" y="144792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09880" y="1600200"/>
            <a:ext cx="8748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447920" y="2133720"/>
            <a:ext cx="87120" cy="82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2120" y="1523880"/>
            <a:ext cx="87120" cy="82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4191120" y="213372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600200" y="434340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114800" y="29718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191120" y="4343400"/>
            <a:ext cx="2590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600200" y="4267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81680" y="4267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81680" y="43434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9480" y="43434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238880" y="4267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43000" y="4267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914400" y="441972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447920" y="441972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629400" y="434340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086600" y="434340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665520" y="53352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733920" y="259092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191120" y="2971800"/>
            <a:ext cx="3047760" cy="13716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191120" y="1752480"/>
            <a:ext cx="2590560" cy="2590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1599840" y="1752480"/>
            <a:ext cx="2590920" cy="2590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859160" y="4267080"/>
            <a:ext cx="49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4187880" y="609120"/>
            <a:ext cx="3240" cy="3737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114800" y="1752480"/>
            <a:ext cx="152280" cy="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657600" y="152388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91120" y="2971800"/>
            <a:ext cx="2209680" cy="99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400800" y="3962520"/>
            <a:ext cx="38088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2971440" y="2971800"/>
            <a:ext cx="1219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1600200" y="2971800"/>
            <a:ext cx="137160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4191120" y="2742840"/>
            <a:ext cx="312408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400800" y="32004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7010280" y="28951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941160" y="2841480"/>
            <a:ext cx="362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486840" y="3124080"/>
            <a:ext cx="388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638680" y="3581280"/>
            <a:ext cx="0" cy="7621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4190760" y="3581280"/>
            <a:ext cx="144756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14920" y="3352680"/>
            <a:ext cx="40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17280" y="4267080"/>
            <a:ext cx="441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38080" y="34308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</a:rPr>
              <a:t>Ecuación General de Diseñ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14600" y="14446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 u="sng">
                <a:solidFill>
                  <a:srgbClr val="ffffff"/>
                </a:solidFill>
                <a:uFillTx/>
                <a:latin typeface="Times New Roman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1600200"/>
            <a:ext cx="43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97480" y="1550880"/>
            <a:ext cx="48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30440" y="1781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2590920"/>
            <a:ext cx="44193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eficiente de Seg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3352680"/>
            <a:ext cx="77724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eficiente de la “Ignoranci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ubre aspectos no cuantificables mediante mode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Factor de seguridad: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n = n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· n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Fu/Fp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S/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u: carga máxima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: Re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p: carga admisible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Esfuerzo adm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2593440" y="304920"/>
            <a:ext cx="33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Teorías no Line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685800" y="1143000"/>
            <a:ext cx="7086240" cy="3885840"/>
            <a:chOff x="685800" y="1143000"/>
            <a:chExt cx="7086240" cy="3885840"/>
          </a:xfrm>
        </p:grpSpPr>
        <p:sp>
          <p:nvSpPr>
            <p:cNvPr id="456" name=""/>
            <p:cNvSpPr/>
            <p:nvPr/>
          </p:nvSpPr>
          <p:spPr>
            <a:xfrm>
              <a:off x="1458720" y="1143000"/>
              <a:ext cx="0" cy="3885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329480" y="2330640"/>
              <a:ext cx="257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458720" y="4273560"/>
              <a:ext cx="4380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839560" y="4165560"/>
              <a:ext cx="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839560" y="4273560"/>
              <a:ext cx="1932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612480" y="4165560"/>
              <a:ext cx="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581440" y="4273560"/>
              <a:ext cx="13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i="1" lang="es-CL" sz="2000" spc="-1" strike="noStrike" baseline="-25000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354360" y="4273560"/>
              <a:ext cx="13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i="1" lang="es-CL" sz="2000" spc="-1" strike="noStrike" baseline="-25000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85800" y="1790640"/>
              <a:ext cx="1338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i="1" lang="es-CL" sz="2000" spc="-1" strike="noStrike" baseline="-25000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458720" y="2330640"/>
              <a:ext cx="5153760" cy="1942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458720" y="2330640"/>
              <a:ext cx="5153760" cy="1942920"/>
            </a:xfrm>
            <a:custGeom>
              <a:avLst/>
              <a:gdLst/>
              <a:ahLst/>
              <a:rect l="l" t="t" r="r" b="b"/>
              <a:pathLst>
                <a:path w="1920" h="864">
                  <a:moveTo>
                    <a:pt x="0" y="0"/>
                  </a:moveTo>
                  <a:cubicBezTo>
                    <a:pt x="92" y="12"/>
                    <a:pt x="184" y="24"/>
                    <a:pt x="288" y="48"/>
                  </a:cubicBezTo>
                  <a:cubicBezTo>
                    <a:pt x="392" y="72"/>
                    <a:pt x="504" y="104"/>
                    <a:pt x="624" y="144"/>
                  </a:cubicBezTo>
                  <a:cubicBezTo>
                    <a:pt x="744" y="184"/>
                    <a:pt x="880" y="232"/>
                    <a:pt x="1008" y="288"/>
                  </a:cubicBezTo>
                  <a:cubicBezTo>
                    <a:pt x="1136" y="344"/>
                    <a:pt x="1264" y="408"/>
                    <a:pt x="1392" y="480"/>
                  </a:cubicBezTo>
                  <a:cubicBezTo>
                    <a:pt x="1520" y="552"/>
                    <a:pt x="1688" y="656"/>
                    <a:pt x="1776" y="720"/>
                  </a:cubicBezTo>
                  <a:cubicBezTo>
                    <a:pt x="1864" y="784"/>
                    <a:pt x="1896" y="840"/>
                    <a:pt x="1920" y="864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58720" y="2294280"/>
              <a:ext cx="4380480" cy="1978920"/>
            </a:xfrm>
            <a:custGeom>
              <a:avLst/>
              <a:gdLst/>
              <a:ahLst/>
              <a:rect l="l" t="t" r="r" b="b"/>
              <a:pathLst>
                <a:path w="1632" h="880">
                  <a:moveTo>
                    <a:pt x="0" y="16"/>
                  </a:moveTo>
                  <a:cubicBezTo>
                    <a:pt x="116" y="8"/>
                    <a:pt x="232" y="0"/>
                    <a:pt x="384" y="16"/>
                  </a:cubicBezTo>
                  <a:cubicBezTo>
                    <a:pt x="536" y="32"/>
                    <a:pt x="744" y="24"/>
                    <a:pt x="912" y="112"/>
                  </a:cubicBezTo>
                  <a:cubicBezTo>
                    <a:pt x="1080" y="200"/>
                    <a:pt x="1272" y="416"/>
                    <a:pt x="1392" y="544"/>
                  </a:cubicBezTo>
                  <a:cubicBezTo>
                    <a:pt x="1512" y="672"/>
                    <a:pt x="1592" y="824"/>
                    <a:pt x="1632" y="880"/>
                  </a:cubicBezTo>
                </a:path>
              </a:pathLst>
            </a:custGeom>
            <a:noFill/>
            <a:ln w="93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58720" y="2330640"/>
              <a:ext cx="5239440" cy="1942920"/>
            </a:xfrm>
            <a:custGeom>
              <a:avLst/>
              <a:gdLst/>
              <a:ahLst/>
              <a:rect l="l" t="t" r="r" b="b"/>
              <a:pathLst>
                <a:path w="1952" h="864">
                  <a:moveTo>
                    <a:pt x="0" y="0"/>
                  </a:moveTo>
                  <a:cubicBezTo>
                    <a:pt x="168" y="16"/>
                    <a:pt x="336" y="32"/>
                    <a:pt x="480" y="48"/>
                  </a:cubicBezTo>
                  <a:cubicBezTo>
                    <a:pt x="624" y="64"/>
                    <a:pt x="728" y="72"/>
                    <a:pt x="864" y="96"/>
                  </a:cubicBezTo>
                  <a:cubicBezTo>
                    <a:pt x="1000" y="120"/>
                    <a:pt x="1152" y="136"/>
                    <a:pt x="1296" y="192"/>
                  </a:cubicBezTo>
                  <a:cubicBezTo>
                    <a:pt x="1440" y="248"/>
                    <a:pt x="1624" y="360"/>
                    <a:pt x="1728" y="432"/>
                  </a:cubicBezTo>
                  <a:cubicBezTo>
                    <a:pt x="1832" y="504"/>
                    <a:pt x="1888" y="552"/>
                    <a:pt x="1920" y="624"/>
                  </a:cubicBezTo>
                  <a:cubicBezTo>
                    <a:pt x="1952" y="696"/>
                    <a:pt x="1920" y="824"/>
                    <a:pt x="1920" y="864"/>
                  </a:cubicBezTo>
                </a:path>
              </a:pathLst>
            </a:custGeom>
            <a:noFill/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587960" y="2978280"/>
              <a:ext cx="98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ffffff"/>
                  </a:solidFill>
                  <a:latin typeface="Times New Roman"/>
                </a:rPr>
                <a:t>Goodm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878200" y="351792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ffffff"/>
                  </a:solidFill>
                  <a:latin typeface="Times New Roman"/>
                </a:rPr>
                <a:t>Bagc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134880" y="1683000"/>
              <a:ext cx="76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ffffff"/>
                  </a:solidFill>
                  <a:latin typeface="Times New Roman"/>
                </a:rPr>
                <a:t>Ger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326200" y="2114280"/>
              <a:ext cx="109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ffffff"/>
                  </a:solidFill>
                  <a:latin typeface="Times New Roman"/>
                </a:rPr>
                <a:t>Kececiogl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2231640" y="2761560"/>
              <a:ext cx="257400" cy="323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391200" y="2869920"/>
              <a:ext cx="1030320" cy="75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3520080" y="2114280"/>
              <a:ext cx="257400" cy="64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5581440" y="2546280"/>
              <a:ext cx="515520" cy="43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2133720" y="1905120"/>
            <a:ext cx="76176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905120" y="1905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1904760" y="1828800"/>
            <a:ext cx="759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198108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205740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2133360" y="1828800"/>
            <a:ext cx="759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220968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228600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361960" y="1828800"/>
            <a:ext cx="759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243828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251460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251460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2590560" y="1828800"/>
            <a:ext cx="759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266688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274320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2819160" y="1828800"/>
            <a:ext cx="759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289548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2971800" y="182880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3047760" y="1828800"/>
            <a:ext cx="759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rot="18759600">
            <a:off x="1866960" y="1333080"/>
            <a:ext cx="228600" cy="106668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1066680"/>
              <a:gd name="textAreaBottom" fmla="*/ 1055520 h 1066680"/>
            </a:gdLst>
            <a:ahLst/>
            <a:rect l="textAreaLeft" t="textAreaTop" r="textAreaRight" b="textAreaBottom"/>
            <a:pathLst>
              <a:path w="21600" h="100664">
                <a:moveTo>
                  <a:pt x="3600" y="0"/>
                </a:moveTo>
                <a:arcTo wR="3600" hR="3600" stAng="16200000" swAng="-5400000"/>
                <a:lnTo>
                  <a:pt x="0" y="97064"/>
                </a:lnTo>
                <a:arcTo wR="3600" hR="3600" stAng="10800000" swAng="-5400000"/>
                <a:lnTo>
                  <a:pt x="18000" y="1006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rot="16200000">
            <a:off x="799920" y="2018880"/>
            <a:ext cx="381240" cy="304920"/>
          </a:xfrm>
          <a:prstGeom prst="flowChartDelay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736800" y="380880"/>
            <a:ext cx="146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rot="2941200">
            <a:off x="1222920" y="1278720"/>
            <a:ext cx="228600" cy="111924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1119240"/>
              <a:gd name="textAreaBottom" fmla="*/ 1108080 h 1119240"/>
            </a:gdLst>
            <a:ahLst/>
            <a:rect l="textAreaLeft" t="textAreaTop" r="textAreaRight" b="textAreaBottom"/>
            <a:pathLst>
              <a:path w="21600" h="105623">
                <a:moveTo>
                  <a:pt x="3600" y="0"/>
                </a:moveTo>
                <a:arcTo wR="3600" hR="3600" stAng="16200000" swAng="-5400000"/>
                <a:lnTo>
                  <a:pt x="0" y="102023"/>
                </a:lnTo>
                <a:arcTo wR="3600" hR="3600" stAng="10800000" swAng="-5400000"/>
                <a:lnTo>
                  <a:pt x="18000" y="1056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28600" y="2362320"/>
            <a:ext cx="3048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914400" y="2057400"/>
            <a:ext cx="15228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600200" y="1447920"/>
            <a:ext cx="15228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2286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3045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3808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4572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5331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6094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6858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7617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8380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8380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9144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9903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10666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11430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12189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12952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13716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13716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14475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15238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002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16761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17524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18288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19047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19810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19810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20574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21333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22096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22860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23619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24382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25146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25905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26668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27432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28191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28954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29718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3047760" y="236232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312408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32004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3200400" y="23623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209680" y="205740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04920" y="2133720"/>
            <a:ext cx="3352680" cy="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2895480" y="21337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609480" y="2971440"/>
            <a:ext cx="533160" cy="990360"/>
            <a:chOff x="609480" y="2971440"/>
            <a:chExt cx="533160" cy="990360"/>
          </a:xfrm>
        </p:grpSpPr>
        <p:sp>
          <p:nvSpPr>
            <p:cNvPr id="551" name=""/>
            <p:cNvSpPr/>
            <p:nvPr/>
          </p:nvSpPr>
          <p:spPr>
            <a:xfrm>
              <a:off x="742320" y="2971800"/>
              <a:ext cx="267120" cy="141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09480" y="3113280"/>
              <a:ext cx="533160" cy="7070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42320" y="3820320"/>
              <a:ext cx="267120" cy="141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09480" y="3395880"/>
              <a:ext cx="533160" cy="141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742320" y="2971440"/>
              <a:ext cx="267120" cy="141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42320" y="2971800"/>
              <a:ext cx="267120" cy="141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2320" y="3819960"/>
              <a:ext cx="267120" cy="141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42320" y="3820320"/>
              <a:ext cx="267120" cy="141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 flipH="1">
            <a:off x="1143000" y="34290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057400" y="1905120"/>
            <a:ext cx="609480" cy="60948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4920" y="2666880"/>
            <a:ext cx="1600200" cy="160020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278160" y="1752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449360" y="3048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57200" y="449568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57200" y="5867280"/>
            <a:ext cx="3809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57200" y="4724280"/>
            <a:ext cx="838080" cy="1143000"/>
          </a:xfrm>
          <a:custGeom>
            <a:avLst/>
            <a:gdLst/>
            <a:ahLst/>
            <a:rect l="l" t="t" r="r" b="b"/>
            <a:pathLst>
              <a:path w="576" h="544">
                <a:moveTo>
                  <a:pt x="0" y="544"/>
                </a:moveTo>
                <a:cubicBezTo>
                  <a:pt x="32" y="532"/>
                  <a:pt x="64" y="520"/>
                  <a:pt x="96" y="448"/>
                </a:cubicBezTo>
                <a:cubicBezTo>
                  <a:pt x="128" y="376"/>
                  <a:pt x="160" y="184"/>
                  <a:pt x="192" y="112"/>
                </a:cubicBezTo>
                <a:cubicBezTo>
                  <a:pt x="224" y="40"/>
                  <a:pt x="256" y="24"/>
                  <a:pt x="288" y="16"/>
                </a:cubicBezTo>
                <a:cubicBezTo>
                  <a:pt x="320" y="8"/>
                  <a:pt x="352" y="0"/>
                  <a:pt x="384" y="64"/>
                </a:cubicBezTo>
                <a:cubicBezTo>
                  <a:pt x="416" y="128"/>
                  <a:pt x="448" y="320"/>
                  <a:pt x="480" y="400"/>
                </a:cubicBezTo>
                <a:cubicBezTo>
                  <a:pt x="512" y="480"/>
                  <a:pt x="560" y="520"/>
                  <a:pt x="576" y="54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676520" y="4724280"/>
            <a:ext cx="838080" cy="1143000"/>
          </a:xfrm>
          <a:custGeom>
            <a:avLst/>
            <a:gdLst/>
            <a:ahLst/>
            <a:rect l="l" t="t" r="r" b="b"/>
            <a:pathLst>
              <a:path w="576" h="544">
                <a:moveTo>
                  <a:pt x="0" y="544"/>
                </a:moveTo>
                <a:cubicBezTo>
                  <a:pt x="32" y="532"/>
                  <a:pt x="64" y="520"/>
                  <a:pt x="96" y="448"/>
                </a:cubicBezTo>
                <a:cubicBezTo>
                  <a:pt x="128" y="376"/>
                  <a:pt x="160" y="184"/>
                  <a:pt x="192" y="112"/>
                </a:cubicBezTo>
                <a:cubicBezTo>
                  <a:pt x="224" y="40"/>
                  <a:pt x="256" y="24"/>
                  <a:pt x="288" y="16"/>
                </a:cubicBezTo>
                <a:cubicBezTo>
                  <a:pt x="320" y="8"/>
                  <a:pt x="352" y="0"/>
                  <a:pt x="384" y="64"/>
                </a:cubicBezTo>
                <a:cubicBezTo>
                  <a:pt x="416" y="128"/>
                  <a:pt x="448" y="320"/>
                  <a:pt x="480" y="400"/>
                </a:cubicBezTo>
                <a:cubicBezTo>
                  <a:pt x="512" y="480"/>
                  <a:pt x="560" y="520"/>
                  <a:pt x="576" y="54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048120" y="4724280"/>
            <a:ext cx="838080" cy="1143000"/>
          </a:xfrm>
          <a:custGeom>
            <a:avLst/>
            <a:gdLst/>
            <a:ahLst/>
            <a:rect l="l" t="t" r="r" b="b"/>
            <a:pathLst>
              <a:path w="576" h="544">
                <a:moveTo>
                  <a:pt x="0" y="544"/>
                </a:moveTo>
                <a:cubicBezTo>
                  <a:pt x="32" y="532"/>
                  <a:pt x="64" y="520"/>
                  <a:pt x="96" y="448"/>
                </a:cubicBezTo>
                <a:cubicBezTo>
                  <a:pt x="128" y="376"/>
                  <a:pt x="160" y="184"/>
                  <a:pt x="192" y="112"/>
                </a:cubicBezTo>
                <a:cubicBezTo>
                  <a:pt x="224" y="40"/>
                  <a:pt x="256" y="24"/>
                  <a:pt x="288" y="16"/>
                </a:cubicBezTo>
                <a:cubicBezTo>
                  <a:pt x="320" y="8"/>
                  <a:pt x="352" y="0"/>
                  <a:pt x="384" y="64"/>
                </a:cubicBezTo>
                <a:cubicBezTo>
                  <a:pt x="416" y="128"/>
                  <a:pt x="448" y="320"/>
                  <a:pt x="480" y="400"/>
                </a:cubicBezTo>
                <a:cubicBezTo>
                  <a:pt x="512" y="480"/>
                  <a:pt x="560" y="520"/>
                  <a:pt x="576" y="54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7760" y="44197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600200" y="594360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419720" y="1192320"/>
            <a:ext cx="213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M </a:t>
            </a:r>
            <a:r>
              <a:rPr b="0" i="1" lang="es-CL" sz="2000" spc="-1" strike="noStrike" baseline="-25000">
                <a:solidFill>
                  <a:srgbClr val="ff9933"/>
                </a:solidFill>
                <a:latin typeface="Times New Roman"/>
              </a:rPr>
              <a:t>máx </a:t>
            </a: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= 480 N ·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rot="19177200">
            <a:off x="1641600" y="2553840"/>
            <a:ext cx="609480" cy="304920"/>
          </a:xfrm>
          <a:prstGeom prst="leftArrow">
            <a:avLst>
              <a:gd name="adj1" fmla="val 50000"/>
              <a:gd name="adj2" fmla="val 499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419720" y="1600200"/>
            <a:ext cx="44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Acero UNS G10350 Trat. Térmico y estirado a 650ºC, acabado to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343400" y="2438280"/>
            <a:ext cx="365760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Confiabilidad = 9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Factor Conc esfuerzo = 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n</a:t>
            </a:r>
            <a:r>
              <a:rPr b="0" i="1" lang="es-CL" sz="2000" spc="-1" strike="noStrike" baseline="-25000">
                <a:solidFill>
                  <a:srgbClr val="ff9933"/>
                </a:solidFill>
                <a:latin typeface="Times New Roman"/>
              </a:rPr>
              <a:t>ys </a:t>
            </a: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=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n</a:t>
            </a:r>
            <a:r>
              <a:rPr b="0" i="1" lang="es-CL" sz="2000" spc="-1" strike="noStrike" baseline="-25000">
                <a:solidFill>
                  <a:srgbClr val="ff9933"/>
                </a:solidFill>
                <a:latin typeface="Times New Roman"/>
              </a:rPr>
              <a:t>us</a:t>
            </a: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 = 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n</a:t>
            </a:r>
            <a:r>
              <a:rPr b="0" i="1" lang="es-CL" sz="2000" spc="-1" strike="noStrike" baseline="-25000">
                <a:solidFill>
                  <a:srgbClr val="ff9933"/>
                </a:solidFill>
                <a:latin typeface="Times New Roman"/>
              </a:rPr>
              <a:t>es</a:t>
            </a: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 = 1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n</a:t>
            </a:r>
            <a:r>
              <a:rPr b="0" i="1" lang="es-CL" sz="2000" spc="-1" strike="noStrike" baseline="-25000">
                <a:solidFill>
                  <a:srgbClr val="ff9933"/>
                </a:solidFill>
                <a:latin typeface="Times New Roman"/>
              </a:rPr>
              <a:t>1</a:t>
            </a: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9933"/>
                </a:solidFill>
                <a:latin typeface="Times New Roman"/>
              </a:rPr>
              <a:t>Sin considerar tor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495680" y="4952880"/>
            <a:ext cx="4648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427 M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627 M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495680" y="5867280"/>
            <a:ext cx="46483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(min)= 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/ n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s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427 / 1.3 =  328 M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(min)= 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/ n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s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627 / 1.1 = 570 M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990720" y="12952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Verificación por carga estát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89280" y="2535120"/>
            <a:ext cx="352080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(min) </a:t>
            </a:r>
            <a:r>
              <a:rPr b="0" i="1" lang="es-CL" sz="2000" spc="-1" strike="noStrike" u="sng">
                <a:solidFill>
                  <a:srgbClr val="ffffff"/>
                </a:solidFill>
                <a:uFillTx/>
                <a:latin typeface="Times New Roman"/>
              </a:rPr>
              <a:t>&gt;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(flexión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899960" y="2209680"/>
            <a:ext cx="904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 · n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105880" y="281952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I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134800" y="3452760"/>
            <a:ext cx="159804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M = 4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I / c = d 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/ 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1 =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809880" y="3505320"/>
            <a:ext cx="152640" cy="990360"/>
          </a:xfrm>
          <a:custGeom>
            <a:avLst/>
            <a:gdLst>
              <a:gd name="textAreaLeft" fmla="*/ 0 w 152640"/>
              <a:gd name="textAreaRight" fmla="*/ 55080 w 15264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114800" y="38098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031720" y="3733920"/>
            <a:ext cx="14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 </a:t>
            </a:r>
            <a:r>
              <a:rPr b="0" i="1" lang="es-CL" sz="2000" spc="-1" strike="noStrike" u="sng">
                <a:solidFill>
                  <a:srgbClr val="ffffff"/>
                </a:solidFill>
                <a:uFillTx/>
                <a:latin typeface="Times New Roman"/>
              </a:rPr>
              <a:t>&gt;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31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876920" y="274320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990720" y="7621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Verificación por Fatig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209680" y="1447920"/>
            <a:ext cx="4953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·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·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·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·S`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2057400"/>
            <a:ext cx="8077320" cy="31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Terminación superficial: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k </a:t>
            </a:r>
            <a:r>
              <a:rPr b="0" i="1" lang="es-CL" sz="18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0.7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Tamaño: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k </a:t>
            </a:r>
            <a:r>
              <a:rPr b="0" i="1" lang="es-CL" sz="1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1.189 · d 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-0.097</a:t>
            </a:r>
            <a:r>
              <a:rPr b="0" i="1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 0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onfiabilidad (95%):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k </a:t>
            </a:r>
            <a:r>
              <a:rPr b="0" i="1" lang="es-CL" sz="1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0.86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oncentración de  Esfuerzos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q = 0.84 (r = 3 mm; 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627 Mp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1+(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-1)=1+(1.6-1)=1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1 / 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f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0.6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Límite Indurancia: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`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0.55 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313.5 MPa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990720" y="495288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0.74·0.8·0.868·0.665·313.5 = 107.4 MP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143000" y="548640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(min) = 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/ n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es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107.4 / 1.8 = 59.7 MP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2009160" y="406440"/>
            <a:ext cx="156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610080" y="228600"/>
            <a:ext cx="217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 · (M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/2) · n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198680" y="6858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657600" y="68580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085480" y="1523880"/>
            <a:ext cx="156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688200" y="134604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 · (480/2) ·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274640" y="1803240"/>
            <a:ext cx="7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 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733920" y="180324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097680" y="153036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631200" y="13716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48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789960" y="1828800"/>
            <a:ext cx="4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 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705720" y="18288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456720" y="2260440"/>
            <a:ext cx="1695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990720" y="340344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990720" y="5613480"/>
            <a:ext cx="2590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581280" y="55371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581280" y="5613480"/>
            <a:ext cx="44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038480" y="55371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429000" y="561348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791320" y="591804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65120" y="180324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791320" y="5613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5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987480" y="1879200"/>
            <a:ext cx="3240" cy="3737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914400" y="3784680"/>
            <a:ext cx="1522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80880" y="347976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59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990720" y="3784680"/>
            <a:ext cx="5181480" cy="1828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990720" y="2565000"/>
            <a:ext cx="761760" cy="3048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447920" y="3936960"/>
            <a:ext cx="0" cy="16765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990720" y="3936960"/>
            <a:ext cx="4572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480" y="3659040"/>
            <a:ext cx="88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148400" y="5689440"/>
            <a:ext cx="869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752480" y="271764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447920" y="363204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676520" y="3098880"/>
            <a:ext cx="1082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i="1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192920" y="3098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497480" y="309888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724280" y="3022560"/>
            <a:ext cx="39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335920" y="30225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48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209200" y="3403440"/>
            <a:ext cx="12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54 · 10 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410080" y="347976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800600" y="30988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105520" y="309888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708600" y="3098880"/>
            <a:ext cx="173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44.9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2974680" y="38088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Fatiga en Tor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133720" y="1295280"/>
            <a:ext cx="586728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= 0.577 · 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se 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0.5 · 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 (Teoría esfuerzo cortante máxim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se 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0.577 · 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 (Teoría energía de distors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971800" y="274320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895480" y="35812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971800" y="495288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562720" y="48769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562720" y="49528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48769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10080" y="4952880"/>
            <a:ext cx="79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867280" y="4952880"/>
            <a:ext cx="79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514600" y="320040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971800" y="3581280"/>
            <a:ext cx="3048120" cy="13716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2968560" y="2438280"/>
            <a:ext cx="3240" cy="2517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971800" y="3581280"/>
            <a:ext cx="1447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419720" y="3581280"/>
            <a:ext cx="114300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954680" y="4648320"/>
            <a:ext cx="44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45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452760" y="3268800"/>
            <a:ext cx="5868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251160" y="3363840"/>
            <a:ext cx="57240" cy="334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048120" y="3300480"/>
            <a:ext cx="58680" cy="331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857760" y="3394080"/>
            <a:ext cx="5868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262400" y="3268800"/>
            <a:ext cx="5868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010040" y="3205080"/>
            <a:ext cx="5724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626000" y="3567240"/>
            <a:ext cx="5724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30640" y="3441600"/>
            <a:ext cx="5724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776840" y="3441600"/>
            <a:ext cx="5868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878360" y="3567240"/>
            <a:ext cx="5868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363920" y="3048120"/>
            <a:ext cx="58680" cy="3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3809880"/>
            <a:ext cx="58680" cy="334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554280" y="3332160"/>
            <a:ext cx="57240" cy="334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098880" y="3079800"/>
            <a:ext cx="57240" cy="331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971800" y="396252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724280" y="3962520"/>
            <a:ext cx="0" cy="9903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438280" y="36576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419720" y="48769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2975040" y="380880"/>
            <a:ext cx="33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Cargas combin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265480" y="1447920"/>
            <a:ext cx="4078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1m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1m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2m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2m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124080" y="149688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316960" y="2286000"/>
            <a:ext cx="38574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1a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1a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2a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2a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00400" y="2335320"/>
            <a:ext cx="3124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447920" y="914400"/>
            <a:ext cx="29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Esfuerzos Von Mis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598040" y="2971800"/>
            <a:ext cx="37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Estado de Esfuerzos Biax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133720" y="3657600"/>
            <a:ext cx="6248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xm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xm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ym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ym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+ 3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Times New Roman"/>
              </a:rPr>
              <a:t>xym</a:t>
            </a:r>
            <a:r>
              <a:rPr b="0" i="1" lang="es-C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209680" y="4495680"/>
            <a:ext cx="5943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xa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xa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ya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ya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+ 3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Times New Roman"/>
              </a:rPr>
              <a:t>xya</a:t>
            </a:r>
            <a:r>
              <a:rPr b="0" i="1" lang="es-C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124080" y="3733920"/>
            <a:ext cx="4724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200400" y="4572000"/>
            <a:ext cx="457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0"/>
            <a:ext cx="853416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CRITERIOS DE FALLA DE LOS MATERAILES</a:t>
            </a:r>
            <a:br>
              <a:rPr sz="2800"/>
            </a:b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(Carga estát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eoría Esfuerzo Normal Máxi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1523880"/>
            <a:ext cx="207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&gt;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&gt;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14360" y="2027160"/>
            <a:ext cx="6013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Fluencia: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=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yt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=-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y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14720" y="2666880"/>
            <a:ext cx="6023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Ruptura: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=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ut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 =-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u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3657600"/>
            <a:ext cx="6950160" cy="20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eoría Esfuerzo Cortante Máxi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 = 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sy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= 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s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sy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 = 0.5 · 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38088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eoría de la Energía de Distor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Esfuerzo triax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 = (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es-CL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es-CL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es-CL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Esfuerzo Biax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i="1" lang="es-CL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i="1" lang="es-CL" sz="32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i="1" lang="es-CL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eoría Coulomb-Mohr (Materiales Frági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1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1 -</a:t>
            </a:r>
            <a:r>
              <a:rPr b="0" i="1" lang="es-CL" sz="3200" spc="-1" strike="noStrike" u="sng" baseline="-25000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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Arial"/>
              </a:rPr>
              <a:t>3 =</a:t>
            </a:r>
            <a:r>
              <a:rPr b="0" i="1" lang="es-CL" sz="5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 baseline="-25000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CL" sz="3200" spc="-1" strike="noStrike" u="sng" baseline="-25000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CL" sz="3200" spc="-1" strike="noStrike" u="sng" baseline="-25000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ut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   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u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38080" y="34308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</a:rPr>
              <a:t>Concentración de Ten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1520" y="2575080"/>
            <a:ext cx="2946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5400" y="4495680"/>
            <a:ext cx="2946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35200" y="3306600"/>
            <a:ext cx="758880" cy="36540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80964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97776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14624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31436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48284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65096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81944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98756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15568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32416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49408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66220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3068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99880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16692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335400" y="22093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810360" y="4488480"/>
            <a:ext cx="2526120" cy="379440"/>
            <a:chOff x="810360" y="4488480"/>
            <a:chExt cx="2526120" cy="379440"/>
          </a:xfrm>
        </p:grpSpPr>
        <p:sp>
          <p:nvSpPr>
            <p:cNvPr id="77" name=""/>
            <p:cNvSpPr/>
            <p:nvPr/>
          </p:nvSpPr>
          <p:spPr>
            <a:xfrm>
              <a:off x="3335760" y="448848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167640" y="448956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999520" y="4490640"/>
              <a:ext cx="36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30680" y="449136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2560" y="449244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494440" y="4493160"/>
              <a:ext cx="36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25600" y="449424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57480" y="449532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989360" y="4496040"/>
              <a:ext cx="36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20520" y="449712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52400" y="449820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84280" y="4498920"/>
              <a:ext cx="36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15440" y="450000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7320" y="450072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78840" y="4501800"/>
              <a:ext cx="36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10360" y="4502880"/>
              <a:ext cx="720" cy="365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304920" y="3489480"/>
            <a:ext cx="412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735200" y="2849400"/>
            <a:ext cx="0" cy="6400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566720" y="2941560"/>
            <a:ext cx="0" cy="5479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398600" y="3032280"/>
            <a:ext cx="0" cy="4572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230480" y="31237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062000" y="3214440"/>
            <a:ext cx="0" cy="2746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893880" y="3306600"/>
            <a:ext cx="0" cy="182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725400" y="3306600"/>
            <a:ext cx="0" cy="182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57280" y="3306600"/>
            <a:ext cx="0" cy="182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88800" y="3306600"/>
            <a:ext cx="0" cy="182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494080" y="2849400"/>
            <a:ext cx="0" cy="6400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662200" y="2941560"/>
            <a:ext cx="0" cy="5479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830680" y="3032280"/>
            <a:ext cx="0" cy="4572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998800" y="3123720"/>
            <a:ext cx="0" cy="365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166920" y="3214440"/>
            <a:ext cx="0" cy="2746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840120" y="3306600"/>
            <a:ext cx="0" cy="182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672000" y="3306600"/>
            <a:ext cx="0" cy="182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503520" y="3306600"/>
            <a:ext cx="0" cy="182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335400" y="3306600"/>
            <a:ext cx="0" cy="182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13040" y="129528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43120" y="486108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68600" y="2849400"/>
            <a:ext cx="65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94080" y="2849400"/>
            <a:ext cx="2019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0960" y="2849400"/>
            <a:ext cx="0" cy="6400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35200" y="3489480"/>
            <a:ext cx="0" cy="549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94080" y="3489480"/>
            <a:ext cx="0" cy="63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35200" y="3946680"/>
            <a:ext cx="7588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20880" y="3951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2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89360" y="2849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2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71800" y="2941560"/>
            <a:ext cx="0" cy="365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071800" y="3671640"/>
            <a:ext cx="0" cy="18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6400" y="1828800"/>
            <a:ext cx="898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6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73640" y="190800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89000" y="1830240"/>
            <a:ext cx="5889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6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7280" y="190980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(1+2b/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64880" y="2971800"/>
            <a:ext cx="253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imes New Roman"/>
              </a:rPr>
              <a:t>Cuando a=b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3505320"/>
            <a:ext cx="968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6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9960" y="358308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564960" y="3505320"/>
            <a:ext cx="817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CL" sz="3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36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38080" y="34308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Arial"/>
              </a:rPr>
              <a:t>DISEÑO A FATIG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62840" y="1360440"/>
            <a:ext cx="620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Límite de Indurancia de los Mater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38080" y="1893960"/>
            <a:ext cx="41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Aceros y Hierro forja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79840" y="2427120"/>
            <a:ext cx="2276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`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= 0.5 · S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51760" y="2386080"/>
            <a:ext cx="2615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ut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800" spc="-1" strike="noStrike" u="sng">
                <a:solidFill>
                  <a:srgbClr val="ffffff"/>
                </a:solidFill>
                <a:uFillTx/>
                <a:latin typeface="Arial"/>
              </a:rPr>
              <a:t>&lt;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1400 M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54280" y="3605040"/>
            <a:ext cx="417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Aceros y Hierro fundi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03880" y="4408560"/>
            <a:ext cx="2474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`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= 0.45 · S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75080" y="4367160"/>
            <a:ext cx="2417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ut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800" spc="-1" strike="noStrike" u="sng">
                <a:solidFill>
                  <a:srgbClr val="ffffff"/>
                </a:solidFill>
                <a:uFillTx/>
                <a:latin typeface="Arial"/>
              </a:rPr>
              <a:t>&lt;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600 M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79840" y="2995560"/>
            <a:ext cx="2478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`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= 700 M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67960" y="2954160"/>
            <a:ext cx="2516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ut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&gt;1400 M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27560" y="4976640"/>
            <a:ext cx="2478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`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= 275 M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14960" y="4935600"/>
            <a:ext cx="231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Arial"/>
              </a:rPr>
              <a:t>ut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&gt;600 M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4120" y="533520"/>
            <a:ext cx="837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Límite de Indurancia de los Elementos de Máqu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1600200"/>
            <a:ext cx="4952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 = 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·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·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·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·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·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f 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· S`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48360" y="2971800"/>
            <a:ext cx="43959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: Terminación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: Tam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: 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: 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: Concentración de esfuerz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Arial"/>
              </a:rPr>
              <a:t>f 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: Efectos v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385280" y="533520"/>
            <a:ext cx="5895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Factor de Terminación Superficial </a:t>
            </a:r>
            <a:r>
              <a:rPr b="0" i="1" lang="es-CL" sz="2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1000" y="2133720"/>
            <a:ext cx="8428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Rangos de rugosidad (terminación superficial) por tipo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de proceso de manufactu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Factores experimentales en función de la rugosidad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y de la resistencia a la tracción del material para cad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tipo de proceso de manufactu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99320" y="533520"/>
            <a:ext cx="348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Factor de Tamaño </a:t>
            </a:r>
            <a:r>
              <a:rPr b="0" i="1" lang="es-CL" sz="2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95280" y="1828800"/>
            <a:ext cx="5958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Flexión y torsión secciones circular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Kb en función del diámetro 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2819520"/>
            <a:ext cx="691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Flexión y torsión secciones no circular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Sección rectangular (en función de a,b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Sección canal (en función de a,b,t,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Sección doble T (en función de a,b,t,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7076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8T15:08:28Z</dcterms:created>
  <dc:creator>ROBERTO CORVALAN PAIVA</dc:creator>
  <dc:description/>
  <dc:language>en-US</dc:language>
  <cp:lastModifiedBy>Roberto Corvalán Paiva</cp:lastModifiedBy>
  <dcterms:modified xsi:type="dcterms:W3CDTF">2002-08-13T11:40:55Z</dcterms:modified>
  <cp:revision>37</cp:revision>
  <dc:subject/>
  <dc:title>Sin título de diapositiva</dc:title>
</cp:coreProperties>
</file>