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B91-3B17-4F6C-BB77-CBFB787D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D34-FB8C-4466-89E7-4A01724C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74D-1CC1-4659-9BB1-20E82FED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982-4B47-4CE9-A821-2BE4BD97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180-1D1A-4B56-84ED-26A0F1C6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B49-9EE6-4E35-86E7-D061C2F8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945-A78F-46A3-8F90-D8AA40A5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837-CF87-4C99-9F86-A55EB048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B8F-3047-4CCB-9E32-0F3180A1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231-43FC-4BE5-88F0-8D4B70E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2E5-E40D-4D02-A96A-B47F093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9E1-5955-4C03-B71E-ADA42C67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694-0067-4C75-BBAE-C6EF46E0D08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240" y="281952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RANSMISION POR COR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rreas%20CapacidadPot" descr=""/>
          <p:cNvPicPr/>
          <p:nvPr/>
        </p:nvPicPr>
        <p:blipFill>
          <a:blip r:embed="rId1"/>
          <a:stretch/>
        </p:blipFill>
        <p:spPr>
          <a:xfrm>
            <a:off x="1371600" y="0"/>
            <a:ext cx="6413400" cy="82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rreas%20DiamPrimMin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390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rreas%20Dimensiones" descr=""/>
          <p:cNvPicPr/>
          <p:nvPr/>
        </p:nvPicPr>
        <p:blipFill>
          <a:blip r:embed="rId1"/>
          <a:stretch/>
        </p:blipFill>
        <p:spPr>
          <a:xfrm>
            <a:off x="1219320" y="0"/>
            <a:ext cx="6918120" cy="903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rreas%20DimenPoleas" descr=""/>
          <p:cNvPicPr/>
          <p:nvPr/>
        </p:nvPicPr>
        <p:blipFill>
          <a:blip r:embed="rId1"/>
          <a:stretch/>
        </p:blipFill>
        <p:spPr>
          <a:xfrm>
            <a:off x="1319040" y="536400"/>
            <a:ext cx="6504120" cy="57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rreas%20FacCorrArcContacto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1722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rreas%20FacCorrLongitu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41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rreas%20FacDiamMenor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08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7720" y="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 y Expres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668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69680" y="3808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9680" y="9144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914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1360" y="3429000"/>
            <a:ext cx="705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: relación de 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: longitud primitiva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ayor (accion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 : diámetro primitivo de la polea menor (motr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: distanci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: arco de contacto de correa en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: velocidad lineal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: velocidad angular de la po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24640" y="650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50680" y="38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0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914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520" y="1905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13600" y="160020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5720" y="2133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2760" y="19051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 = 180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40680" y="16765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505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22096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5200" y="28195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0314 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3240" y="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cedimiento de diseño y selección de trans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4840" y="1523880"/>
            <a:ext cx="58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Datos requeri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a 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o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accio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ipo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dicione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aproximada entre cen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3240" y="533520"/>
            <a:ext cx="729576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timación de un Factor de Servicio,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S ·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o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sección de la correa, en bas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elocidad angular de la 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relación de veloci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95840" y="49942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8840" y="472428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88840" y="5257800"/>
            <a:ext cx="122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rreas%20FacServ" descr=""/>
          <p:cNvPicPr/>
          <p:nvPr/>
        </p:nvPicPr>
        <p:blipFill>
          <a:blip r:embed="rId1"/>
          <a:stretch/>
        </p:blipFill>
        <p:spPr>
          <a:xfrm>
            <a:off x="838080" y="0"/>
            <a:ext cx="7410600" cy="965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2000" y="609480"/>
            <a:ext cx="71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diámetro de poleas en funció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spacio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20224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784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748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2860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0920" y="2743200"/>
            <a:ext cx="64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longitud primitiv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3280" y="403848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2 C + 1.57 (D+d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8360" y="373392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480" y="426708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8360" y="762120"/>
            <a:ext cx="765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lección de la longitud primitiva estándar y cálcu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a nueva 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3760" y="2666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2880" y="22860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- 1.57 (D+d)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6520" y="213372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D – d)</a:t>
            </a:r>
            <a:r>
              <a:rPr b="0" i="1" lang="es-ES_tradnl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915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37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8954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44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3429000"/>
            <a:ext cx="897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Diámetro de la polea menor,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la velocidad angular y cálculo del diámetr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61120" y="5257800"/>
            <a:ext cx="14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F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80" y="-228600"/>
            <a:ext cx="61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velocidad lineal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9160" y="914400"/>
            <a:ext cx="335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0.0314 · 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olea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00" y="1143000"/>
            <a:ext cx="8691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 la capacidad de potencia,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l arco de contacto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 función de (D-d)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2362320"/>
            <a:ext cx="9126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factor de corrección de la longitud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en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l tamaño y sección de la cor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9000" y="3200400"/>
            <a:ext cx="81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l factor de corrección longitud-arco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1240" y="4114800"/>
            <a:ext cx="159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·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42670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álculo de la capacidad corregida de la cor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8080" y="5181480"/>
            <a:ext cx="21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P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K ·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5334120"/>
            <a:ext cx="55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eterminación del número de cor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6880" y="6172200"/>
            <a:ext cx="255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=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iseñ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/ H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rreas%20SelecSecc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AN</cp:lastModifiedBy>
  <dcterms:modified xsi:type="dcterms:W3CDTF">2002-06-18T12:30:24Z</dcterms:modified>
  <cp:revision>176</cp:revision>
  <dc:subject/>
  <dc:title>Sin título de diapositiva</dc:title>
</cp:coreProperties>
</file>