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D84-7BEB-40C7-B01A-46718E3F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B55-7CED-4DB4-ACB7-9113489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017-4184-49D1-92ED-1E90826D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54B-C88A-44E0-9D03-1CB77286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43C-579F-40AD-A15E-FC96FCC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08B-6FE6-4771-9CB4-2884074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831-FC9B-442C-9542-6D110AD2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729-9757-4EB4-B7B6-3C39BA4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59D-F37B-4084-A7FA-FFDA6BF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BE1-4809-44C6-B995-4D68E31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974-9B34-42DD-9243-6B4D243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3E1-EBE8-4B18-970C-8328AF5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6F05-5C1A-4976-AD97-9AD90DE22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13:18:49Z</dcterms:created>
  <dc:creator>Roberto Corvalán Paiva</dc:creator>
  <dc:description/>
  <dc:language>en-US</dc:language>
  <cp:lastModifiedBy>Roberto Corvalán Paiva</cp:lastModifiedBy>
  <dcterms:modified xsi:type="dcterms:W3CDTF">2002-08-21T13:59:08Z</dcterms:modified>
  <cp:revision>4</cp:revision>
  <dc:subject/>
  <dc:title>Diapositiva 1</dc:title>
</cp:coreProperties>
</file>