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0CA2-E5E1-4F07-9D82-83173598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4C3-9124-4DD4-86BE-CB647192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BBA-4AA2-48E3-B8E6-A42C466F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F83-0EAF-4CBB-ABB0-24FA9586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F5CD-D4DD-4FCD-BE0D-E3022215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DE2-4F4B-4670-8E8F-37AA1096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08F1-0BFA-407A-94FC-851ABCB0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4C01-D334-45FD-B27B-7E14F352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9D01-8F33-4659-97AA-681D6BE8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1C0C-3F74-4941-AD44-6D772BEF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D64D-F8C7-4E77-BEFE-B3875F1F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17CF-5B75-417B-A6D3-44BEE15B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3198-3D17-4B32-8C54-BFC7F3312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7480" y="28195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O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28600" y="990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 =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21120" y="75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4800" y="13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19320" y="1289160"/>
            <a:ext cx="3045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77600" y="9907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0" y="7048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12952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0" y="1289160"/>
            <a:ext cx="91440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1066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4320" y="75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88000" y="13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62520" y="1289160"/>
            <a:ext cx="3045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20800" y="9907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29200" y="704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8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3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1289160"/>
            <a:ext cx="12193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- 0.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2133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91800" y="21337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00200" y="1847880"/>
            <a:ext cx="15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(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24382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00200" y="2432160"/>
            <a:ext cx="12193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71800" y="2133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30080" y="220968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38480" y="19242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0.8 ·134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38480" y="2508120"/>
            <a:ext cx="12193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864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2.7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312408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10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62320" y="31240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10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.764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-0.21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8.6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3880" y="398160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00200" y="4572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23880" y="4565520"/>
            <a:ext cx="5335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09680" y="4267080"/>
            <a:ext cx="1067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?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48320" y="413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428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48320" y="4718160"/>
            <a:ext cx="533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272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4.9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18720" y="10008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ortes Helicoi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962520" cy="2616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95680" y="685800"/>
            <a:ext cx="4114800" cy="2573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2360" y="4002120"/>
            <a:ext cx="1293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6040" y="3809880"/>
            <a:ext cx="5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128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4343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11120" y="4114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2360" y="3809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2360" y="441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6960" y="438948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2920" y="499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49230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5200" y="47242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7160" y="4389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6800" y="499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07320" y="4694400"/>
            <a:ext cx="8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4923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9960" y="4389480"/>
            <a:ext cx="7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5760" y="492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4846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2600" y="46483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0" y="5562720"/>
            <a:ext cx="6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640" y="5410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80" y="601992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9436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6720" y="5715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796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7760" y="601992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594360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4680" y="5745240"/>
            <a:ext cx="73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8040" y="57150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920" y="541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7880" y="5943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5943600"/>
            <a:ext cx="4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50400" y="5562720"/>
            <a:ext cx="988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= K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12040" y="5410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41480" y="601992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943600"/>
            <a:ext cx="614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7160" y="5486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680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59960" y="57150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5943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6600" y="6400800"/>
            <a:ext cx="62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Factor de multiplicación de esfuerzo c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7200" y="3200400"/>
            <a:ext cx="581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) corte por torsión;  b) corte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) resultante corte directo y to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) resultante corte directo torsión y curv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59400" y="457200"/>
            <a:ext cx="9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6440" y="3049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55880" y="9144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838080"/>
            <a:ext cx="61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9760" y="180828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8880" y="1600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2920" y="22161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4320" y="1905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6960" y="16002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1880" y="220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13372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2895480"/>
            <a:ext cx="88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7680" y="2660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27120" y="3276720"/>
            <a:ext cx="45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3193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304812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 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1400" y="4343400"/>
            <a:ext cx="62953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  : Factor de corrección de Wh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Factor de multiplicación de esfuerzo c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Efecto de curvatu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09040" y="228600"/>
            <a:ext cx="47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formación de resorte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447920"/>
            <a:ext cx="914400" cy="1447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20968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1447920"/>
            <a:ext cx="1447920" cy="144756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1143000"/>
            <a:ext cx="0" cy="25909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62120" y="990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676520" y="990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28600" y="1447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8600" y="2895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4479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657600" y="220968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819520" y="2209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819520" y="2743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2209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209680"/>
            <a:ext cx="9144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19920" y="22096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0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1800" y="762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213372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25720" y="21337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148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9960" y="111924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4360" y="1841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175896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30840" y="1530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12440" y="122544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66280" y="183528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1758960"/>
            <a:ext cx="4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2971800"/>
            <a:ext cx="703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5400" y="35053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3422520"/>
            <a:ext cx="5335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42609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3956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6F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38040" y="457200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48956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6858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i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25120" y="243828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sviación Angul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39400" y="35053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flex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373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30600" y="473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46483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7440" y="4419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4114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4648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3096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75520" y="464832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52960" y="533412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nstante del resor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5943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6172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28360" y="571500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6172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2880" y="228600"/>
            <a:ext cx="52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s de Fatiga en resorte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29200" y="838080"/>
            <a:ext cx="136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72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88400" y="11430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13716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53640" y="838080"/>
            <a:ext cx="139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2172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15000" y="1143000"/>
            <a:ext cx="89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13716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228600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50160" y="213372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22160" y="2743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2666880"/>
            <a:ext cx="6141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228600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5720" y="2133720"/>
            <a:ext cx="91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74840" y="2743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2666880"/>
            <a:ext cx="61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42200" y="350532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lla por 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26708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426708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 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742560" y="304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520" y="609480"/>
            <a:ext cx="4152240" cy="38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DAT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Resorte helicoidal de compre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Diámetro exterior: </a:t>
            </a:r>
            <a:r>
              <a:rPr b="0" i="1" lang="es-ES_tradnl" sz="2200" spc="-1" strike="noStrike">
                <a:solidFill>
                  <a:srgbClr val="ff9900"/>
                </a:solidFill>
                <a:latin typeface="Times New Roman"/>
              </a:rPr>
              <a:t>D</a:t>
            </a:r>
            <a:r>
              <a:rPr b="0" i="1" lang="es-ES_tradnl" sz="2200" spc="-1" strike="noStrike" baseline="-25000">
                <a:solidFill>
                  <a:srgbClr val="ff9900"/>
                </a:solidFill>
                <a:latin typeface="Times New Roman"/>
              </a:rPr>
              <a:t>e</a:t>
            </a:r>
            <a:r>
              <a:rPr b="0" i="1" lang="es-ES_tradnl" sz="2200" spc="-1" strike="noStrike">
                <a:solidFill>
                  <a:srgbClr val="ff9900"/>
                </a:solidFill>
                <a:latin typeface="Times New Roman"/>
              </a:rPr>
              <a:t>= 9/16 pul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ff9900"/>
                </a:solidFill>
                <a:latin typeface="Times New Roman"/>
              </a:rPr>
              <a:t>Diámetro alambre: </a:t>
            </a: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 d = 0.091 pul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Longitud libre: L = 3 1/8 pul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Número de espiras activas: 2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Precarga: Fi = 10 l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Carga máxima: Fmax = 50 l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Extremos esmeril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Vida finita : 50 · 10</a:t>
            </a:r>
            <a:r>
              <a:rPr b="0" i="1" lang="es-CL" sz="2200" spc="-1" strike="noStrike" baseline="30000">
                <a:solidFill>
                  <a:srgbClr val="ff9900"/>
                </a:solidFill>
                <a:latin typeface="Times New Roman"/>
              </a:rPr>
              <a:t>3</a:t>
            </a: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 cic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Confiabilidad : 99%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16002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18288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9400" y="20574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22860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9400" y="25146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27432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1295280"/>
            <a:ext cx="0" cy="21337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18288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24680" y="20574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24680" y="22860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25146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24680" y="27432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24680" y="29718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01000" y="1219320"/>
            <a:ext cx="1440" cy="24382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91520" y="762120"/>
            <a:ext cx="0" cy="396216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289548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77320" y="297180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3886200"/>
            <a:ext cx="14479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182880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01000" y="198108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1880" y="129528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381880" y="198072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36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42960" y="380988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17524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18288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05720" y="19810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20574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22096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22860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24382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25146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26668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27432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28954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16002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1600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238880" y="1600200"/>
            <a:ext cx="7621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705720" y="31240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705720" y="3048120"/>
            <a:ext cx="8380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4044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00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30960" y="464832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2200" y="44197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47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02200" y="48769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0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7280" y="46483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48769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762120"/>
            <a:ext cx="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01000" y="838080"/>
            <a:ext cx="0" cy="762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11430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88760" y="609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2920" y="464832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5.1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12680" y="5821200"/>
            <a:ext cx="73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16040" y="579132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920" y="5486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5880" y="601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019920"/>
            <a:ext cx="4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9400" y="574524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39920" y="57150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3800" y="541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7480" y="5943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.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48320" y="594360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59600" y="57150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0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329200" y="838080"/>
            <a:ext cx="136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972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88400" y="11430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8280" y="13716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68520" y="838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0 -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5012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8000" y="1143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1371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29560" y="2133720"/>
            <a:ext cx="146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72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90920" y="2438280"/>
            <a:ext cx="89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26668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8880" y="213372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0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5012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8000" y="243828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1520" y="11430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20 lb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560" y="2438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30 lb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380988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88400" y="365760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60040" y="42670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4191120"/>
            <a:ext cx="614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2720" y="396252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09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38960" y="3733920"/>
            <a:ext cx="190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 · 20 ·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47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17440" y="4343400"/>
            <a:ext cx="13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·0.09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4267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22920" y="396252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34.9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ps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25780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88400" y="510552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60040" y="57150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638680"/>
            <a:ext cx="61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92720" y="541008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09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38960" y="5181480"/>
            <a:ext cx="190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 · 30 ·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47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17440" y="5791320"/>
            <a:ext cx="13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·0.09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5715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22920" y="541008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52.4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ps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514600" y="2133720"/>
            <a:ext cx="88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4480" y="189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83920" y="2514600"/>
            <a:ext cx="45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243216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40640" y="21844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97480" y="1898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21160" y="2514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0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95680" y="243216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21480" y="60948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82880" y="374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6920" y="990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907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68320" y="679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20960" y="3747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5880" y="984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8120" y="907920"/>
            <a:ext cx="4712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3080" y="63324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63600" y="37476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 ·5.19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907920"/>
            <a:ext cx="1295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1520" y="685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4160" y="3808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6440" y="990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.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91320" y="91440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3600" y="99072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 ·5.19 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2600" y="68580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59600" y="220968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1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3429000"/>
            <a:ext cx="28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se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· 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· S´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09680" y="40384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52480" y="5181480"/>
            <a:ext cx="5181840" cy="579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0.814 ·0.843 · 45 = 30.9 kp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40384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1/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833760" y="457200"/>
            <a:ext cx="39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álculo a fatiga con vida fini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23880" y="1066680"/>
            <a:ext cx="312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logS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b logN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 =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8320" y="205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020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76520" y="2584440"/>
            <a:ext cx="30456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34800" y="22860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43200" y="200016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259092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58444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06600" y="22860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15000" y="2000160"/>
            <a:ext cx="15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(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67280" y="259092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584440"/>
            <a:ext cx="12193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3352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81640" y="38354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s-CL" sz="2800" spc="-1" strike="noStrike" baseline="30000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67240" y="3559320"/>
            <a:ext cx="107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es-CL" sz="3200" spc="-1" strike="noStrike" baseline="-25000">
                <a:solidFill>
                  <a:srgbClr val="ffff00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43200" y="3886200"/>
            <a:ext cx="30492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38680" y="3276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=  1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39625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=  0.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33920" y="3657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ab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342900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4495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71800" y="50007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0.091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0.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2160" y="4724280"/>
            <a:ext cx="107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50292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96760" y="472428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278 kp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5638680"/>
            <a:ext cx="560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su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0.6 ·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u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.6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·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278 = 167  kp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0666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10</a:t>
            </a:r>
            <a:r>
              <a:rPr b="0" i="1" lang="es-CL" sz="2800" spc="-1" strike="noStrike" baseline="30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N</a:t>
            </a:r>
            <a:r>
              <a:rPr b="0" i="1" lang="es-CL" sz="2800" spc="-1" strike="noStrike" baseline="30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24280" y="12952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2-09-11T15:43:51Z</dcterms:modified>
  <cp:revision>100</cp:revision>
  <dc:subject/>
  <dc:title>Sin título de diapositiva</dc:title>
</cp:coreProperties>
</file>