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A2842-F009-4B07-8D65-475D86709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8101D-258B-42C6-B50E-E6EB9D843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D278E-BB82-411E-92BD-8FD63132D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17532-DE96-4D6F-8B25-F0BE7829B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411E4-0152-46E1-BC0A-E138CE018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6E90F-1C1E-4FCC-9327-054FD727B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E783A-AA74-4904-8598-4B37CE0E1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72550-00F9-4200-9C59-0F5745061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1B99F-81A1-490A-B57A-6C7D425B0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81D11-6BB0-4093-B73B-D0B893F78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C4FF7-3703-45EC-BE52-7F6D96E9A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684D9-63A4-4AAD-9324-702C25CDE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4ED6A-1D8C-49BB-A650-085F54F75DD1}" type="slidenum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5280" y="2819520"/>
            <a:ext cx="501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00"/>
                </a:solidFill>
                <a:latin typeface="Arial"/>
              </a:rPr>
              <a:t>FRENOS Y EMBRAG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2157480" y="0"/>
            <a:ext cx="46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FRENOS DE CINTA O BAN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FRENOS%20CINTA" descr=""/>
          <p:cNvPicPr/>
          <p:nvPr/>
        </p:nvPicPr>
        <p:blipFill>
          <a:blip r:embed="rId1"/>
          <a:stretch/>
        </p:blipFill>
        <p:spPr>
          <a:xfrm>
            <a:off x="1600200" y="533520"/>
            <a:ext cx="5867280" cy="344628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1295280" y="411480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(P + dP) cos (</a:t>
            </a:r>
            <a:r>
              <a:rPr b="0" i="1" lang="es-ES_tradnl" sz="20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s-ES_tradnl" sz="20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i="1" lang="es-ES_tradnl" sz="2000" spc="-1" strike="noStrike">
                <a:solidFill>
                  <a:srgbClr val="ffffff"/>
                </a:solidFill>
                <a:latin typeface="Times New Roman"/>
              </a:rPr>
              <a:t>/2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)  - P cos (</a:t>
            </a:r>
            <a:r>
              <a:rPr b="0" i="1" lang="es-ES_tradnl" sz="20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s-ES_tradnl" sz="20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i="1" lang="es-ES_tradnl" sz="2000" spc="-1" strike="noStrike">
                <a:solidFill>
                  <a:srgbClr val="ffffff"/>
                </a:solidFill>
                <a:latin typeface="Times New Roman"/>
              </a:rPr>
              <a:t>/2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) – f dN 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276720" y="464832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dP – f dN 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447920" y="5410080"/>
            <a:ext cx="137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dP/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3040" y="5334120"/>
            <a:ext cx="33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Symbol"/>
                <a:ea typeface="Symbol"/>
              </a:rPr>
              <a:t>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373040" y="5562720"/>
            <a:ext cx="33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Symbol"/>
                <a:ea typeface="Symbol"/>
              </a:rPr>
              <a:t>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668680" y="5334120"/>
            <a:ext cx="33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Symbol"/>
                <a:ea typeface="Symbol"/>
              </a:rPr>
              <a:t>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668680" y="5562720"/>
            <a:ext cx="33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Symbol"/>
                <a:ea typeface="Symbol"/>
              </a:rPr>
              <a:t>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895480" y="54100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d </a:t>
            </a:r>
            <a:r>
              <a:rPr b="0" i="1" lang="es-ES_tradnl" sz="20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05520"/>
            <a:ext cx="457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1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447920" y="5715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1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5181480"/>
            <a:ext cx="37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819520" y="5715000"/>
            <a:ext cx="37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411800" y="5146560"/>
            <a:ext cx="455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427640" y="5562720"/>
            <a:ext cx="455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343400" y="563868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800600" y="5410080"/>
            <a:ext cx="762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410080" y="5257800"/>
            <a:ext cx="37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s-ES_tradnl" sz="18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172200" y="5334120"/>
            <a:ext cx="2057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T = (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– 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8063640" y="50706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079120" y="5486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8001000" y="556272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1843200" y="0"/>
            <a:ext cx="532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FRENOS Y EMBTAGUES DE DIS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8" name="FRENOS%20DISCO" descr=""/>
          <p:cNvPicPr/>
          <p:nvPr/>
        </p:nvPicPr>
        <p:blipFill>
          <a:blip r:embed="rId1"/>
          <a:stretch/>
        </p:blipFill>
        <p:spPr>
          <a:xfrm>
            <a:off x="304920" y="685800"/>
            <a:ext cx="4038480" cy="313848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5257800" y="914400"/>
            <a:ext cx="1447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 r = 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6598800" y="650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H="1">
            <a:off x="6630480" y="1066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465960" y="1143000"/>
            <a:ext cx="62064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724280" y="1981080"/>
            <a:ext cx="762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411880" y="1905120"/>
            <a:ext cx="33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Symbol"/>
                <a:ea typeface="Symbol"/>
              </a:rPr>
              <a:t>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11880" y="2133720"/>
            <a:ext cx="33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Symbol"/>
                <a:ea typeface="Symbol"/>
              </a:rPr>
              <a:t>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562720" y="17524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D/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562720" y="22860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d/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867280" y="19051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p r dr= (D-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8084160" y="1676520"/>
            <a:ext cx="851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H="1">
            <a:off x="8307000" y="2057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8141760" y="2133720"/>
            <a:ext cx="62100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419720" y="3124080"/>
            <a:ext cx="761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106960" y="3048120"/>
            <a:ext cx="33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Symbol"/>
                <a:ea typeface="Symbol"/>
              </a:rPr>
              <a:t>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106960" y="3276720"/>
            <a:ext cx="33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Symbol"/>
                <a:ea typeface="Symbol"/>
              </a:rPr>
              <a:t>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257800" y="28954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D/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257800" y="34290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d/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410080" y="312408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p f r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dr= (D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-d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8007120" y="2971800"/>
            <a:ext cx="937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f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flipH="1">
            <a:off x="8230680" y="3352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H="1">
            <a:off x="8066160" y="3429000"/>
            <a:ext cx="62064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572000" y="4038480"/>
            <a:ext cx="762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H="1">
            <a:off x="5183640" y="381636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F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5335200" y="4191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>
            <a:off x="5246640" y="4267080"/>
            <a:ext cx="62064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929920" y="3927600"/>
            <a:ext cx="111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(D + 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28600" y="4648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resión uniform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819520" y="4724280"/>
            <a:ext cx="761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H="1">
            <a:off x="3512520" y="4495680"/>
            <a:ext cx="817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H="1">
            <a:off x="3735000" y="4876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3569760" y="4952880"/>
            <a:ext cx="62100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418280" y="4689360"/>
            <a:ext cx="103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(D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-d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895480" y="5410080"/>
            <a:ext cx="762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3583440" y="518796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F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3735000" y="5562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H="1">
            <a:off x="3646440" y="5638680"/>
            <a:ext cx="62064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494960" y="5146560"/>
            <a:ext cx="83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-d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10800" y="5638680"/>
            <a:ext cx="83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-d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572000" y="563868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1854720" y="0"/>
            <a:ext cx="530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FRENOS Y EMBRAGUES CON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0" name="FRENOS%20CONICOS" descr=""/>
          <p:cNvPicPr/>
          <p:nvPr/>
        </p:nvPicPr>
        <p:blipFill>
          <a:blip r:embed="rId1"/>
          <a:stretch/>
        </p:blipFill>
        <p:spPr>
          <a:xfrm>
            <a:off x="304920" y="838080"/>
            <a:ext cx="4343400" cy="310212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/>
          <p:nvPr/>
        </p:nvSpPr>
        <p:spPr>
          <a:xfrm>
            <a:off x="5257800" y="914400"/>
            <a:ext cx="1447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 r = 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flipH="1">
            <a:off x="6598800" y="650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6630480" y="1066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6465960" y="1143000"/>
            <a:ext cx="62064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4120" y="1828800"/>
            <a:ext cx="761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21360" y="1752480"/>
            <a:ext cx="33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Symbol"/>
                <a:ea typeface="Symbol"/>
              </a:rPr>
              <a:t>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21360" y="1981080"/>
            <a:ext cx="33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Symbol"/>
                <a:ea typeface="Symbol"/>
              </a:rPr>
              <a:t>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248520" y="18288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 dA sen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800600" y="2971800"/>
            <a:ext cx="762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487840" y="2895480"/>
            <a:ext cx="33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Symbol"/>
                <a:ea typeface="Symbol"/>
              </a:rPr>
              <a:t>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487840" y="3124080"/>
            <a:ext cx="33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Symbol"/>
                <a:ea typeface="Symbol"/>
              </a:rPr>
              <a:t>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38680" y="274320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D/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638680" y="327672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d/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943600" y="289548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H="1">
            <a:off x="6402600" y="312408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2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402600" y="2819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477120" y="320040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flipH="1">
            <a:off x="6784920" y="2743200"/>
            <a:ext cx="10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r d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 flipH="1">
            <a:off x="6859080" y="3124080"/>
            <a:ext cx="85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sen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934320" y="3200400"/>
            <a:ext cx="838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7910280" y="2930400"/>
            <a:ext cx="85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sen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952880" y="3886200"/>
            <a:ext cx="762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 flipH="1">
            <a:off x="5564880" y="3657600"/>
            <a:ext cx="1063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flipH="1">
            <a:off x="5868360" y="4038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715000" y="4114800"/>
            <a:ext cx="838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691320" y="377496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(D-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33520" y="5105520"/>
            <a:ext cx="761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220760" y="5029200"/>
            <a:ext cx="33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Symbol"/>
                <a:ea typeface="Symbol"/>
              </a:rPr>
              <a:t>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220760" y="5257800"/>
            <a:ext cx="33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Symbol"/>
                <a:ea typeface="Symbol"/>
              </a:rPr>
              <a:t>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447920" y="51055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r f p dA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668680" y="5029200"/>
            <a:ext cx="33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Symbol"/>
                <a:ea typeface="Symbol"/>
              </a:rPr>
              <a:t>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668680" y="5257800"/>
            <a:ext cx="33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Symbol"/>
                <a:ea typeface="Symbol"/>
              </a:rPr>
              <a:t>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819520" y="48769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D/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819520" y="54100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d/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108240" y="5140440"/>
            <a:ext cx="914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r f 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flipH="1">
            <a:off x="3963600" y="533412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2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964320" y="5029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038480" y="541008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flipH="1">
            <a:off x="4346280" y="4952880"/>
            <a:ext cx="10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r d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 flipH="1">
            <a:off x="4420440" y="5334120"/>
            <a:ext cx="85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sen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495680" y="5410080"/>
            <a:ext cx="838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257800" y="5181480"/>
            <a:ext cx="762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 flipH="1">
            <a:off x="5794200" y="4952880"/>
            <a:ext cx="1292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f 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flipH="1">
            <a:off x="5868360" y="5334120"/>
            <a:ext cx="10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8 sen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943600" y="5410080"/>
            <a:ext cx="838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933240" y="5070600"/>
            <a:ext cx="123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(D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– d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380880" y="38088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resión uniform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124080" y="1295280"/>
            <a:ext cx="1447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 = 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438280" y="2514600"/>
            <a:ext cx="762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3050280" y="2286000"/>
            <a:ext cx="1063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3201480" y="2666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124080" y="2743200"/>
            <a:ext cx="533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824640" y="2514600"/>
            <a:ext cx="123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(D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– d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362320" y="4191120"/>
            <a:ext cx="761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 flipH="1">
            <a:off x="3124080" y="3962520"/>
            <a:ext cx="1292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f 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flipH="1">
            <a:off x="2972880" y="4343400"/>
            <a:ext cx="123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12 sen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124080" y="441972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190040" y="4079880"/>
            <a:ext cx="123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(D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– d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2287800" y="0"/>
            <a:ext cx="445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MATERIALES PARA FREN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0" name="FRENOS%20MAT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620120" cy="35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/>
          <p:nvPr/>
        </p:nvSpPr>
        <p:spPr>
          <a:xfrm>
            <a:off x="1936800" y="0"/>
            <a:ext cx="516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MATERIALES PARA EMBRAG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2" name="EMBRAGUES%20MAT" descr=""/>
          <p:cNvPicPr/>
          <p:nvPr/>
        </p:nvPicPr>
        <p:blipFill>
          <a:blip r:embed="rId1"/>
          <a:stretch/>
        </p:blipFill>
        <p:spPr>
          <a:xfrm>
            <a:off x="914400" y="990720"/>
            <a:ext cx="6781680" cy="47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174840" y="0"/>
            <a:ext cx="256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CLASIFICA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FRENOS%20CLSIF" descr=""/>
          <p:cNvPicPr/>
          <p:nvPr/>
        </p:nvPicPr>
        <p:blipFill>
          <a:blip r:embed="rId1"/>
          <a:stretch/>
        </p:blipFill>
        <p:spPr>
          <a:xfrm>
            <a:off x="1123920" y="1033560"/>
            <a:ext cx="7257960" cy="50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FRENOS%20CLASI" descr=""/>
          <p:cNvPicPr/>
          <p:nvPr/>
        </p:nvPicPr>
        <p:blipFill>
          <a:blip r:embed="rId1"/>
          <a:stretch/>
        </p:blipFill>
        <p:spPr>
          <a:xfrm>
            <a:off x="1676520" y="914400"/>
            <a:ext cx="5181480" cy="472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FRENOS%20CLAS" descr=""/>
          <p:cNvPicPr/>
          <p:nvPr/>
        </p:nvPicPr>
        <p:blipFill>
          <a:blip r:embed="rId1"/>
          <a:stretch/>
        </p:blipFill>
        <p:spPr>
          <a:xfrm>
            <a:off x="990720" y="1447920"/>
            <a:ext cx="7497720" cy="38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853720" y="0"/>
            <a:ext cx="322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ANALISIS ESTA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FRENOS%20ANALISIS%20EST" descr=""/>
          <p:cNvPicPr/>
          <p:nvPr/>
        </p:nvPicPr>
        <p:blipFill>
          <a:blip r:embed="rId1"/>
          <a:stretch/>
        </p:blipFill>
        <p:spPr>
          <a:xfrm>
            <a:off x="380880" y="762120"/>
            <a:ext cx="3276720" cy="32223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4630680" y="727200"/>
            <a:ext cx="318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Distribución de presió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808880" y="1447920"/>
            <a:ext cx="932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 = 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68760" y="2057400"/>
            <a:ext cx="256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Equilibrio estátic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732920" y="2666880"/>
            <a:ext cx="1396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N = 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·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506120" y="3346560"/>
            <a:ext cx="3770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 F ·b – N ·b+f ·N ·a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724280" y="4114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F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7280" y="3809880"/>
            <a:ext cx="1811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A (b – f 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326280" y="4419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410080" y="4343400"/>
            <a:ext cx="1828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419720" y="5105520"/>
            <a:ext cx="1295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9720" y="5791320"/>
            <a:ext cx="1295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y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019920" y="5257800"/>
            <a:ext cx="533160" cy="304920"/>
          </a:xfrm>
          <a:prstGeom prst="rightArrow">
            <a:avLst>
              <a:gd name="adj1" fmla="val 50000"/>
              <a:gd name="adj2" fmla="val 4371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019920" y="5867280"/>
            <a:ext cx="533160" cy="304920"/>
          </a:xfrm>
          <a:prstGeom prst="rightArrow">
            <a:avLst>
              <a:gd name="adj1" fmla="val 50000"/>
              <a:gd name="adj2" fmla="val 4371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934320" y="5181480"/>
            <a:ext cx="1600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 f 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934320" y="5791320"/>
            <a:ext cx="1904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y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  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A -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02760" y="4952880"/>
            <a:ext cx="388548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 : presión en cualquier pu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: presión máxi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f : coeficiente de fri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A : superficie conta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842760" y="0"/>
            <a:ext cx="760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FRENOS DE TAMBOR CON ZAPATAS INTERI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FRENOS%20ZAP%20INT" descr=""/>
          <p:cNvPicPr/>
          <p:nvPr/>
        </p:nvPicPr>
        <p:blipFill>
          <a:blip r:embed="rId1"/>
          <a:stretch/>
        </p:blipFill>
        <p:spPr>
          <a:xfrm>
            <a:off x="0" y="609480"/>
            <a:ext cx="4267080" cy="39229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248520" y="9144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564160" y="60948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486400" y="11365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sen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10080" y="114300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942240" y="615960"/>
            <a:ext cx="497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0" y="114300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sen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781680" y="114948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486400" y="2057400"/>
            <a:ext cx="1066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 = 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553080" y="1752480"/>
            <a:ext cx="1067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sen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629400" y="228600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sen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553080" y="229248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724280" y="32004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dN = p b r d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705720" y="2895480"/>
            <a:ext cx="2286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b r sen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d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238880" y="342900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sen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6781680" y="3429000"/>
            <a:ext cx="1828800" cy="6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505320" y="59436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T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62720" y="5638680"/>
            <a:ext cx="3276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f 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b r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(cos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- cos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400800" y="617220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sen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638680" y="6172200"/>
            <a:ext cx="2819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54864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F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447920" y="5257800"/>
            <a:ext cx="1676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- M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828800" y="57150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c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523880" y="5715000"/>
            <a:ext cx="12193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572000" y="4191120"/>
            <a:ext cx="99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f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411880" y="4038480"/>
            <a:ext cx="33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Symbol"/>
                <a:ea typeface="Symbol"/>
              </a:rPr>
              <a:t>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411880" y="4267080"/>
            <a:ext cx="33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Symbol"/>
                <a:ea typeface="Symbol"/>
              </a:rPr>
              <a:t>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4114800"/>
            <a:ext cx="2362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dN (r – a cos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572000" y="5105520"/>
            <a:ext cx="99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N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411880" y="4952880"/>
            <a:ext cx="33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Symbol"/>
                <a:ea typeface="Symbol"/>
              </a:rPr>
              <a:t>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411880" y="5181480"/>
            <a:ext cx="33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Symbol"/>
                <a:ea typeface="Symbol"/>
              </a:rPr>
              <a:t>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638680" y="502920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dN a sen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116240" y="5791320"/>
            <a:ext cx="33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Symbol"/>
                <a:ea typeface="Symbol"/>
              </a:rPr>
              <a:t>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114800" y="6019920"/>
            <a:ext cx="33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Symbol"/>
                <a:ea typeface="Symbol"/>
              </a:rPr>
              <a:t>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343400" y="58672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f r d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259600" y="5943600"/>
            <a:ext cx="38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533520" y="76212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Rotación horari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09480" y="1447920"/>
            <a:ext cx="914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x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447920" y="1143000"/>
            <a:ext cx="2286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b 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167652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sen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1447920" y="1676160"/>
            <a:ext cx="838080" cy="6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362320" y="1371600"/>
            <a:ext cx="1981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(A – f B) - F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181480" y="1371600"/>
            <a:ext cx="914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y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943600" y="1066680"/>
            <a:ext cx="2286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b 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019920" y="160020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sen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934320" y="1295280"/>
            <a:ext cx="1981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(B + f A) - F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019920" y="160020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33520" y="251460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Rotación anti-horari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9480" y="3200400"/>
            <a:ext cx="914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x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447920" y="2895480"/>
            <a:ext cx="2286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b 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47920" y="342900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sen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1447920" y="3429000"/>
            <a:ext cx="838080" cy="6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362320" y="3124080"/>
            <a:ext cx="1981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(A + f B) - F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81480" y="3124080"/>
            <a:ext cx="914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y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43600" y="2819520"/>
            <a:ext cx="2286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b 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19920" y="335268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sen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34320" y="3048120"/>
            <a:ext cx="1981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(B - f A) - F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019920" y="335268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5029200"/>
            <a:ext cx="761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144440" y="4876920"/>
            <a:ext cx="33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Symbol"/>
                <a:ea typeface="Symbol"/>
              </a:rPr>
              <a:t>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144440" y="5105520"/>
            <a:ext cx="33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Symbol"/>
                <a:ea typeface="Symbol"/>
              </a:rPr>
              <a:t>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447920" y="5029200"/>
            <a:ext cx="222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sen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cos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 d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219320" y="5257800"/>
            <a:ext cx="379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i="1" lang="es-ES_tradnl" sz="1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295280" y="4724280"/>
            <a:ext cx="379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i="1" lang="es-ES_tradnl" sz="1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33520" y="6095880"/>
            <a:ext cx="761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144440" y="5943600"/>
            <a:ext cx="33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Symbol"/>
                <a:ea typeface="Symbol"/>
              </a:rPr>
              <a:t>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144440" y="6172200"/>
            <a:ext cx="33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Symbol"/>
                <a:ea typeface="Symbol"/>
              </a:rPr>
              <a:t>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447920" y="6095880"/>
            <a:ext cx="222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sen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d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219320" y="6324480"/>
            <a:ext cx="379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i="1" lang="es-ES_tradnl" sz="1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295280" y="5791320"/>
            <a:ext cx="379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i="1" lang="es-ES_tradnl" sz="1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038480" y="5029200"/>
            <a:ext cx="2133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 (½ sen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943600" y="4876920"/>
            <a:ext cx="379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i="1" lang="es-ES_tradnl" sz="1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867280" y="5257800"/>
            <a:ext cx="379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i="1" lang="es-ES_tradnl" sz="1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6019920"/>
            <a:ext cx="3505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 (</a:t>
            </a:r>
            <a:r>
              <a:rPr b="0" i="1" lang="es-ES_tradnl" sz="18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/2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–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1/4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sen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553080" y="5867280"/>
            <a:ext cx="379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i="1" lang="es-ES_tradnl" sz="1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553080" y="6248520"/>
            <a:ext cx="379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i="1" lang="es-ES_tradnl" sz="1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633960" y="0"/>
            <a:ext cx="770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FRENOS DE TAMBOR CON ZAPATAS EXTERI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FRENOS%20ZAP%20EXT" descr=""/>
          <p:cNvPicPr/>
          <p:nvPr/>
        </p:nvPicPr>
        <p:blipFill>
          <a:blip r:embed="rId1"/>
          <a:stretch/>
        </p:blipFill>
        <p:spPr>
          <a:xfrm>
            <a:off x="0" y="685800"/>
            <a:ext cx="4359240" cy="408456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5334120" y="10666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F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095880" y="838080"/>
            <a:ext cx="1676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+ M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477120" y="12952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c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172200" y="1295280"/>
            <a:ext cx="12193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76920" y="45720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Rotación horari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952880" y="388620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Rotación anti-horari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410080" y="46483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F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172200" y="4419720"/>
            <a:ext cx="1676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- M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553080" y="48769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c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248520" y="4876920"/>
            <a:ext cx="12189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876920" y="2057400"/>
            <a:ext cx="914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x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715000" y="1752480"/>
            <a:ext cx="2286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b 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228600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sen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5715000" y="2286000"/>
            <a:ext cx="838080" cy="6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29400" y="1981080"/>
            <a:ext cx="1981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(A +f B) - F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952880" y="3124080"/>
            <a:ext cx="914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y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15000" y="2819520"/>
            <a:ext cx="2286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b 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791320" y="335268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sen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705720" y="3048120"/>
            <a:ext cx="1981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(fA - B) + F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791320" y="335268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80880" y="5638680"/>
            <a:ext cx="914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x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219320" y="5334120"/>
            <a:ext cx="2286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b 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219320" y="586728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sen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1219320" y="5867280"/>
            <a:ext cx="838080" cy="6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133720" y="5562720"/>
            <a:ext cx="1981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(A -f B) - F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724280" y="5638680"/>
            <a:ext cx="914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y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486400" y="5334120"/>
            <a:ext cx="2286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b 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562720" y="586728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sen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477120" y="5562720"/>
            <a:ext cx="1981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(-fA - B) + F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562720" y="586728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633960" y="0"/>
            <a:ext cx="770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FRENOS DE TAMBOR CON ZAPATAS EXTERI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SIMETR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FRENOS%20ZAP%20EXT%20SIMETR" descr=""/>
          <p:cNvPicPr/>
          <p:nvPr/>
        </p:nvPicPr>
        <p:blipFill>
          <a:blip r:embed="rId1"/>
          <a:stretch/>
        </p:blipFill>
        <p:spPr>
          <a:xfrm>
            <a:off x="0" y="914400"/>
            <a:ext cx="5410080" cy="3678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867280" y="1066680"/>
            <a:ext cx="2286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 = 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cos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715000" y="18288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dN = p b r d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514600"/>
            <a:ext cx="137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f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326280" y="2362320"/>
            <a:ext cx="33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Symbol"/>
                <a:ea typeface="Symbol"/>
              </a:rPr>
              <a:t>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326280" y="2590920"/>
            <a:ext cx="33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Symbol"/>
                <a:ea typeface="Symbol"/>
              </a:rPr>
              <a:t>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553080" y="2438280"/>
            <a:ext cx="2590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dN (a cos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- r)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80880" y="5638680"/>
            <a:ext cx="914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x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19320" y="5334120"/>
            <a:ext cx="2286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b 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447920" y="5867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1219320" y="5867280"/>
            <a:ext cx="838080" cy="6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133720" y="5562720"/>
            <a:ext cx="236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(2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+ sen 2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95680" y="5638680"/>
            <a:ext cx="914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y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257800" y="533412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b r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562720" y="5867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5334120" y="5867280"/>
            <a:ext cx="838080" cy="6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248520" y="5562720"/>
            <a:ext cx="236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(2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+ sen 2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867280" y="33526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T = a f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791320" y="4038480"/>
            <a:ext cx="1295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x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 -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91320" y="4724280"/>
            <a:ext cx="1523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y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 - f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0T14:27:20Z</dcterms:created>
  <dc:creator>ROBERTO CORVALAN PAIVA</dc:creator>
  <dc:description/>
  <dc:language>en-US</dc:language>
  <cp:lastModifiedBy>ROBERTO CORVALAN</cp:lastModifiedBy>
  <dcterms:modified xsi:type="dcterms:W3CDTF">2002-06-13T12:41:10Z</dcterms:modified>
  <cp:revision>192</cp:revision>
  <dc:subject/>
  <dc:title>Sin título de diapositiva</dc:title>
</cp:coreProperties>
</file>