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0DB6-91EF-48E0-8761-B794D5A86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1C74-1850-477C-8B57-548EE8FC7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6403-6EEF-49CB-921C-16037B601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7BC1-6866-4437-9C3E-5096F5903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2479-EC63-4019-B43C-005AAF0AA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DE81-2578-4FF0-A446-53A7B50ED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A262-D5DA-419B-BA18-435142EB0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EBB4-D780-4DA8-B92B-C73F03B05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8E3B-5BFA-451B-9ED6-99C2E8538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5682-A9F7-451C-8594-E611CC6B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5DDE-48CF-4A40-8972-F8DD399C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AEF8-A363-4EA5-BE8A-26F3845D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F0E96-5340-4BFA-822B-162A99C92DDD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5280" y="2819520"/>
            <a:ext cx="501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FRENOS Y EMBRAG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157480" y="0"/>
            <a:ext cx="46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FRENOS DE CINTA O BAN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FRENOS%20CINTA" descr=""/>
          <p:cNvPicPr/>
          <p:nvPr/>
        </p:nvPicPr>
        <p:blipFill>
          <a:blip r:embed="rId1"/>
          <a:stretch/>
        </p:blipFill>
        <p:spPr>
          <a:xfrm>
            <a:off x="1600200" y="533520"/>
            <a:ext cx="5867280" cy="34462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295280" y="41148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P + dP) cos (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/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  - P cos (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/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 – f dN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76720" y="46483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P – f dN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447920" y="541008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P/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3040" y="53341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3040" y="55627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68680" y="53341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668680" y="55627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895480" y="54100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055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447920" y="5715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5181480"/>
            <a:ext cx="3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19520" y="5715000"/>
            <a:ext cx="3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11800" y="514656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27640" y="556272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43400" y="56386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00600" y="54100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10080" y="5257800"/>
            <a:ext cx="3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172200" y="533412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 = (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–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063640" y="5070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079120" y="5486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001000" y="55627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843200" y="0"/>
            <a:ext cx="53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FRENOS Y EMBTAGUES DE DI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FRENOS%20DISCO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4038480" cy="31384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5257800" y="91440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r =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6598800" y="650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6630480" y="1066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465960" y="1143000"/>
            <a:ext cx="6206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724280" y="19810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411880" y="19051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11880" y="21337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562720" y="1752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562720" y="2286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867280" y="1905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p r dr= (D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8084160" y="1676520"/>
            <a:ext cx="851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8307000" y="205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8141760" y="2133720"/>
            <a:ext cx="6210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419720" y="312408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106960" y="30481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106960" y="32767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257800" y="2895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57800" y="3429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10080" y="31240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p f r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dr= (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-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8007120" y="2971800"/>
            <a:ext cx="93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823068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8066160" y="3429000"/>
            <a:ext cx="6206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0" y="40384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5183640" y="38163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53352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5246640" y="4267080"/>
            <a:ext cx="62064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929920" y="392760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D + 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8600" y="4648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resión unifor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19520" y="472428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3512520" y="4495680"/>
            <a:ext cx="81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373500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3569760" y="4952880"/>
            <a:ext cx="6210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418280" y="4689360"/>
            <a:ext cx="10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-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95480" y="54100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3583440" y="51879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3735000" y="5562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3646440" y="5638680"/>
            <a:ext cx="62064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4960" y="5146560"/>
            <a:ext cx="83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-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10800" y="5638680"/>
            <a:ext cx="83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-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0" y="56386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854720" y="0"/>
            <a:ext cx="530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FRENOS Y EMBRAGUES CO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FRENOS%20CONICOS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4343400" cy="31021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5257800" y="91440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r =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6598800" y="650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6630480" y="1066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6465960" y="1143000"/>
            <a:ext cx="6206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4120" y="182880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21360" y="175248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21360" y="198108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248520" y="18288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dA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297180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487840" y="289548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487840" y="312408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38680" y="27432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638680" y="32767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943600" y="28954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6402600" y="31240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40260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77120" y="32004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6784920" y="274320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r 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6859080" y="3124080"/>
            <a:ext cx="8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934320" y="32004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910280" y="2930400"/>
            <a:ext cx="8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952880" y="388620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5564880" y="3657600"/>
            <a:ext cx="106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5868360" y="4038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715000" y="41148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691320" y="377496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D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33520" y="510552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220760" y="502920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220760" y="525780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447920" y="5105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 f p dA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668680" y="502920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668680" y="525780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819520" y="48769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819520" y="5410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08240" y="514044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 f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3963600" y="53341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964320" y="502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038480" y="5410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4346280" y="495288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r 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4420440" y="5334120"/>
            <a:ext cx="8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495680" y="541008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257800" y="51814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5794200" y="4952880"/>
            <a:ext cx="129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5868360" y="5334120"/>
            <a:ext cx="10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8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943600" y="54100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933240" y="5070600"/>
            <a:ext cx="123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– 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380880" y="3808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resión unifor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124080" y="129528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=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438280" y="251460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3050280" y="2286000"/>
            <a:ext cx="106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201480" y="2666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124080" y="274320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824640" y="2514600"/>
            <a:ext cx="123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– 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362320" y="419112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3124080" y="3962520"/>
            <a:ext cx="129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2972880" y="4343400"/>
            <a:ext cx="12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12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24080" y="441972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190040" y="4079880"/>
            <a:ext cx="123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– 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2287800" y="0"/>
            <a:ext cx="445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MATERIALES PARA FR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FRENOS%20MAT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62012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936800" y="0"/>
            <a:ext cx="51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MATERIALES PARA EMBRAG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EMBRAGUES%20MAT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6781680" cy="47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174840" y="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CLASIFIC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FRENOS%20CLSIF" descr=""/>
          <p:cNvPicPr/>
          <p:nvPr/>
        </p:nvPicPr>
        <p:blipFill>
          <a:blip r:embed="rId1"/>
          <a:stretch/>
        </p:blipFill>
        <p:spPr>
          <a:xfrm>
            <a:off x="1123920" y="1033560"/>
            <a:ext cx="7257960" cy="50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FRENOS%20CLASI" descr=""/>
          <p:cNvPicPr/>
          <p:nvPr/>
        </p:nvPicPr>
        <p:blipFill>
          <a:blip r:embed="rId1"/>
          <a:stretch/>
        </p:blipFill>
        <p:spPr>
          <a:xfrm>
            <a:off x="1676520" y="914400"/>
            <a:ext cx="5181480" cy="47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FRENOS%20CLAS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49772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853720" y="0"/>
            <a:ext cx="32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ANALISIS ESTA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FRENOS%20ANALISIS%20EST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3276720" cy="3222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630680" y="727200"/>
            <a:ext cx="31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istribución de pres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08880" y="1447920"/>
            <a:ext cx="93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=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68760" y="205740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Equilibrio estáti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32920" y="2666880"/>
            <a:ext cx="1396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 =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·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06120" y="3346560"/>
            <a:ext cx="3770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F ·b – N ·b+f ·N ·a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724280" y="4114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7280" y="3809880"/>
            <a:ext cx="181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A (b – f 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26280" y="441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10080" y="434340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510552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9720" y="579132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19920" y="5257800"/>
            <a:ext cx="533160" cy="304920"/>
          </a:xfrm>
          <a:prstGeom prst="rightArrow">
            <a:avLst>
              <a:gd name="adj1" fmla="val 50000"/>
              <a:gd name="adj2" fmla="val 4371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19920" y="5867280"/>
            <a:ext cx="533160" cy="304920"/>
          </a:xfrm>
          <a:prstGeom prst="rightArrow">
            <a:avLst>
              <a:gd name="adj1" fmla="val 50000"/>
              <a:gd name="adj2" fmla="val 4371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934320" y="5181480"/>
            <a:ext cx="1600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f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34320" y="5791320"/>
            <a:ext cx="1904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A -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760" y="4952880"/>
            <a:ext cx="388548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: presión en cualquier pu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presión máx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: coeficiente de fri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A : superficie conta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842760" y="0"/>
            <a:ext cx="760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FRENOS DE TAMBOR CON ZAPATAS INTERI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FRENOS%20ZAP%20INT" descr=""/>
          <p:cNvPicPr/>
          <p:nvPr/>
        </p:nvPicPr>
        <p:blipFill>
          <a:blip r:embed="rId1"/>
          <a:stretch/>
        </p:blipFill>
        <p:spPr>
          <a:xfrm>
            <a:off x="0" y="609480"/>
            <a:ext cx="4267080" cy="3922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248520" y="9144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64160" y="6094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86400" y="1136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10080" y="11430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942240" y="615960"/>
            <a:ext cx="497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0" y="1143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81680" y="11494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205740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=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553080" y="1752480"/>
            <a:ext cx="106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629400" y="2286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553080" y="22924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24280" y="32004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N = p b r d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05720" y="289548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b r sen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238880" y="3429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6781680" y="3429000"/>
            <a:ext cx="182880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59436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62720" y="5638680"/>
            <a:ext cx="327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b r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(cos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- cos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400800" y="61722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638680" y="6172200"/>
            <a:ext cx="2819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5486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5257800"/>
            <a:ext cx="167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- 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5715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3880" y="57150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41911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11880" y="403848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11880" y="426708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4114800"/>
            <a:ext cx="2362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N (r – a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0" y="51055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11880" y="495288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1880" y="518148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638680" y="50292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N a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16240" y="57913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14800" y="601992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43400" y="5867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r d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59600" y="5943600"/>
            <a:ext cx="3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3520" y="762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otación horar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144792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114300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b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16765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1447920" y="1676160"/>
            <a:ext cx="83808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62320" y="137160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A – f B) - 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81480" y="137160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y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43600" y="106668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b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19920" y="16002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934320" y="129528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B + f A) - 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19920" y="16002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25146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otación anti-horar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320040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47920" y="289548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b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3429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447920" y="3429000"/>
            <a:ext cx="83808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62320" y="312408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A + f B) - 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81480" y="31240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y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43600" y="281952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b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19920" y="335268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34320" y="304812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B - f A) - 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19920" y="33526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502920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4440" y="48769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4440" y="51055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47920" y="5029200"/>
            <a:ext cx="22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d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19320" y="5257800"/>
            <a:ext cx="37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95280" y="4724280"/>
            <a:ext cx="37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609588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44440" y="594360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44440" y="617220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47920" y="6095880"/>
            <a:ext cx="22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19320" y="6324480"/>
            <a:ext cx="37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95280" y="5791320"/>
            <a:ext cx="37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038480" y="5029200"/>
            <a:ext cx="2133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(½ sen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943600" y="4876920"/>
            <a:ext cx="37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5257800"/>
            <a:ext cx="37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6019920"/>
            <a:ext cx="350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(</a:t>
            </a:r>
            <a:r>
              <a:rPr b="0" i="1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/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–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4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en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5867280"/>
            <a:ext cx="37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553080" y="6248520"/>
            <a:ext cx="37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33960" y="0"/>
            <a:ext cx="770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FRENOS DE TAMBOR CON ZAPATAS EXTERI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FRENOS%20ZAP%20EXT" descr=""/>
          <p:cNvPicPr/>
          <p:nvPr/>
        </p:nvPicPr>
        <p:blipFill>
          <a:blip r:embed="rId1"/>
          <a:stretch/>
        </p:blipFill>
        <p:spPr>
          <a:xfrm>
            <a:off x="0" y="685800"/>
            <a:ext cx="4359240" cy="40845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334120" y="10666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5880" y="83808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477120" y="1295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72200" y="12952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76920" y="4572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otación horar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3886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otación anti-horar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10080" y="4648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72200" y="441972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- 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4876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248520" y="4876920"/>
            <a:ext cx="1218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76920" y="205740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715000" y="175248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b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2286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2286000"/>
            <a:ext cx="83808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29400" y="198108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A +f B) - 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52880" y="31240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y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15000" y="281952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b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91320" y="335268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705720" y="304812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fA - B) + 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91320" y="33526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56386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533412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b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19320" y="586728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219320" y="5867280"/>
            <a:ext cx="83808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33720" y="556272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A -f B) - 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724280" y="56386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y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86400" y="533412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b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562720" y="586728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477120" y="556272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-fA - B) + 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62720" y="58672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33960" y="0"/>
            <a:ext cx="770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FRENOS DE TAMBOR CON ZAPATAS EXTERI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SIMETR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FRENOS%20ZAP%20EXT%20SIMETR" descr=""/>
          <p:cNvPicPr/>
          <p:nvPr/>
        </p:nvPicPr>
        <p:blipFill>
          <a:blip r:embed="rId1"/>
          <a:stretch/>
        </p:blipFill>
        <p:spPr>
          <a:xfrm>
            <a:off x="0" y="914400"/>
            <a:ext cx="5410080" cy="3678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867280" y="106668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=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715000" y="18288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N = p b r d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51460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26280" y="23623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26280" y="25909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553080" y="243828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N (a cos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- r)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56386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19320" y="533412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b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47920" y="5867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1219320" y="5867280"/>
            <a:ext cx="83808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133720" y="5562720"/>
            <a:ext cx="236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2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sen 2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95680" y="56386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257800" y="53341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b r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62720" y="5867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5334120" y="5867280"/>
            <a:ext cx="83808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248520" y="5562720"/>
            <a:ext cx="236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2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sen 2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867280" y="3352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 = a f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91320" y="403848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-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91320" y="4724280"/>
            <a:ext cx="152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- f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14:27:20Z</dcterms:created>
  <dc:creator>ROBERTO CORVALAN PAIVA</dc:creator>
  <dc:description/>
  <dc:language>en-US</dc:language>
  <cp:lastModifiedBy>ROBERTO CORVALAN</cp:lastModifiedBy>
  <dcterms:modified xsi:type="dcterms:W3CDTF">2002-06-13T12:41:10Z</dcterms:modified>
  <cp:revision>192</cp:revision>
  <dc:subject/>
  <dc:title>Sin título de diapositiva</dc:title>
</cp:coreProperties>
</file>