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3E2-BFC2-4747-96F7-4421EF45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D18-5BDA-4F5C-AC91-CD5A1C84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559-E7C0-42D2-B626-1CD7B7F4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BC7-C3FB-4CBF-A2EB-50740C0D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140-AF63-46ED-A20B-00D6690C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F43-7224-4B0B-A324-73FBB504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C29-20F9-4327-8229-169048B4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8DD-1C62-49CC-981F-84B1A3F4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74A-B677-463D-BB86-3179B946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52F-6DF4-4700-B94C-708FEA9B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D61-FF56-44A5-AA8D-2B0BA5E4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09B-BA5A-4886-ACCF-852A20B3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1A93-F9A0-4594-A458-5E267DE0BA2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%20Rectos%20Fact%20DistCarga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U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E%20HelicCrzados%20Sesgo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3930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4495680"/>
            <a:ext cx="245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680" y="556272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79744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7913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9760" y="4495680"/>
            <a:ext cx="3821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entre e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ángulo hélice engranaj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%20HelicParal%20Ralaciones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782040" cy="340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60" y="4267080"/>
            <a:ext cx="36918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la hé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6520" y="4267080"/>
            <a:ext cx="467172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virtual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79240" y="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68880" y="1143000"/>
            <a:ext cx="171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60960" y="220968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9520" y="19051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6240" y="2438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438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7640" y="35053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5480" y="32004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37339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733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8680" y="4343400"/>
            <a:ext cx="9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9760" y="4876920"/>
            <a:ext cx="89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4876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8520" y="57913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46760" y="6019920"/>
            <a:ext cx="9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9144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%20HelicParal%20Fuerzas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3774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4120" y="16002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6668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3429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41911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8520" y="54864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7760" y="525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6760" y="5715000"/>
            <a:ext cx="167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57150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9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1240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7760" y="28195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276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289548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3429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480" y="3886200"/>
            <a:ext cx="163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343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886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02440" y="4343400"/>
            <a:ext cx="103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343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920" y="5070600"/>
            <a:ext cx="87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05720" y="480060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334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0.95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3341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760" y="60958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Z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55000" y="6054840"/>
            <a:ext cx="205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6240" y="60199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8720" y="601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%20HelicParal%20Nomenc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E%20HelicParal%20FactorJ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%20HelicParal%20CH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3:49:35Z</dcterms:modified>
  <cp:revision>159</cp:revision>
  <dc:subject/>
  <dc:title>Sin título de diapositiva</dc:title>
</cp:coreProperties>
</file>