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F0E0-5398-4D1A-9FB7-518BB952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32DE-451D-444E-AFB4-54577567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C504-D86F-421C-88BF-7EDD52D8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ECB5-EBFA-4066-8AB8-CB4E2283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6D64-6C26-4D39-A125-E60FB520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D08A-C2D4-4154-AEA1-1E49BD32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0144-6635-406F-A2F9-8A1F9AD0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C788-603E-4136-98EE-C471CFAB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356A-C7E0-432A-ADD7-35E31A15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5DFD-9392-4AB0-B408-C6DD2A49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5CF-01E8-4C23-AF0F-A49A6A0E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93F-BFEE-44CE-8234-6AA39DD3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1233-2568-4259-B42D-3E14AE64B1AA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42920" y="2819520"/>
            <a:ext cx="381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TORNILLO SIN F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infin%20Fact%20Km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2924280"/>
          </a:xfrm>
          <a:prstGeom prst="rect">
            <a:avLst/>
          </a:prstGeom>
          <a:ln w="0">
            <a:noFill/>
          </a:ln>
        </p:spPr>
      </p:pic>
      <p:pic>
        <p:nvPicPr>
          <p:cNvPr id="126" name="Sinfin%20Fact%20Kv" descr=""/>
          <p:cNvPicPr/>
          <p:nvPr/>
        </p:nvPicPr>
        <p:blipFill>
          <a:blip r:embed="rId2"/>
          <a:stretch/>
        </p:blipFill>
        <p:spPr>
          <a:xfrm>
            <a:off x="1447920" y="3181320"/>
            <a:ext cx="61722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759480" y="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1066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838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12952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92440" y="1295280"/>
            <a:ext cx="159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6000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1066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838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12952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40480" y="12952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3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2514600"/>
            <a:ext cx="640080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  : potencia nominal de entrada,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arga transmitida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diámetro paso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idad tornillo,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relación de transmisión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/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uerza de f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velocidad de deslizamiento en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430440" y="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infin%20Relaciones" descr=""/>
          <p:cNvPicPr/>
          <p:nvPr/>
        </p:nvPicPr>
        <p:blipFill>
          <a:blip r:embed="rId1"/>
          <a:stretch/>
        </p:blipFill>
        <p:spPr>
          <a:xfrm>
            <a:off x="0" y="457200"/>
            <a:ext cx="5181480" cy="489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335640" y="114300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2286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2743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45120" y="2362320"/>
            <a:ext cx="110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9144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1371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77320" y="2286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2960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77320" y="2743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89840" y="3276720"/>
            <a:ext cx="141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20640" y="403236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388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62920" y="42670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42670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120" y="5305320"/>
            <a:ext cx="345276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diámetro paso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diámetro paso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º dientes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º entradas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50840" y="5305320"/>
            <a:ext cx="37238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circular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: distancia entre cen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: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6320" y="0"/>
            <a:ext cx="75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gulos de presión de avance y alturas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infin%20AngAvance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822960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04560" y="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Sinfin%20Fzas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5867280" cy="3465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395040" y="457200"/>
            <a:ext cx="27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15200" y="914400"/>
            <a:ext cx="19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5120" y="1371600"/>
            <a:ext cx="272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20240" y="2063880"/>
            <a:ext cx="225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39320" y="2590920"/>
            <a:ext cx="225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38240" y="3124080"/>
            <a:ext cx="224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56920" y="3886200"/>
            <a:ext cx="530424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 : fuerza resul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omponentes ortogonales 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tangencial en el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radial en el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axial en el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tangencial en l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radial en l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axial en l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5400" y="457200"/>
            <a:ext cx="90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siderando que el contacto se hace por deslizamiento y no rodad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51240" y="1676520"/>
            <a:ext cx="420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60600" y="2133720"/>
            <a:ext cx="19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50160" y="259092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16160" y="3575160"/>
            <a:ext cx="163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W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10800" y="32767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16360" y="380988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380988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15880" y="4876920"/>
            <a:ext cx="142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45680" y="4572000"/>
            <a:ext cx="289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44960" y="510552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5105520"/>
            <a:ext cx="2667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23720" y="1522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Rendimi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106668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94600" y="838080"/>
            <a:ext cx="22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sin fri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29528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94600" y="1295280"/>
            <a:ext cx="23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con fri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228600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8480" y="2050920"/>
            <a:ext cx="205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514600"/>
            <a:ext cx="2133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520" y="2514600"/>
            <a:ext cx="21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t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8280" y="35812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Veloc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4114800"/>
            <a:ext cx="60984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8006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38098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5181480"/>
            <a:ext cx="190476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42670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60958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5181480"/>
            <a:ext cx="1371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1814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57200" y="5181120"/>
            <a:ext cx="13716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724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257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638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43434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5257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4952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7440" y="54100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5486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86040" y="4648320"/>
            <a:ext cx="45514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idad rel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. en línea de paso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veloc. en línea de paso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Sinfin%20Rend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601956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61560" y="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914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6094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5400" y="1073160"/>
            <a:ext cx="102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1143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52120" y="1676520"/>
            <a:ext cx="181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1676520"/>
            <a:ext cx="32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0.8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2209680"/>
            <a:ext cx="6400800" cy="52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esfuerzo flex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arga transmitida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circular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aso circular 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ancho de cara co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 : factor de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corrección tamaño y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corrección relación de 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de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ancho efectivo de cara: menor valor entre ancho de cara rueda y 2/3 diámetro paso tor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infin%20Fact%20y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562720" cy="2257200"/>
          </a:xfrm>
          <a:prstGeom prst="rect">
            <a:avLst/>
          </a:prstGeom>
          <a:ln w="0">
            <a:noFill/>
          </a:ln>
        </p:spPr>
      </p:pic>
      <p:pic>
        <p:nvPicPr>
          <p:cNvPr id="124" name="Sinfin%20Fact%20ks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838188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10T15:59:35Z</dcterms:modified>
  <cp:revision>160</cp:revision>
  <dc:subject/>
  <dc:title>Sin título de diapositiva</dc:title>
</cp:coreProperties>
</file>