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389-6CEA-4075-8332-3A8C7A72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EDD-BC6A-4146-884D-1AF04052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DF1-D657-41E3-B8C8-BE54FD08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457-D43D-43BB-AFAC-7CDF0782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88F-0EAA-433F-B556-EA34C1FA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C72-A853-4019-9A84-0CA19260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541-268D-4589-9119-5D2C4470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22A-8387-4BD2-A566-1A7172CD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352-3D8D-4CD6-BE5F-EE7D0BB3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339-E56E-426B-956C-7A456ED5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101-EA88-47C0-946B-78C97866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3A2-D668-45EA-9E2E-806E1F7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B970-0440-432B-A2AE-3CF0D8FBE15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040" y="2819520"/>
            <a:ext cx="48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NGRANAJES 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62840" y="10008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sfuerzos sobre el 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sfDiente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800600" cy="2900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9000" y="419112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3997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8840" y="445464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I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58840" y="445464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680" y="426708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40384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6 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4956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419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7680" y="4191120"/>
            <a:ext cx="4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4419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600" y="525780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50292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548640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6280" y="6178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 x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6400800"/>
            <a:ext cx="761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440" y="61722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6600" y="6094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concentración de esfuerz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400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174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6080" y="152388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2891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17463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74636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26668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H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590920"/>
            <a:ext cx="75960" cy="685800"/>
          </a:xfrm>
          <a:custGeom>
            <a:avLst/>
            <a:gdLst>
              <a:gd name="textAreaLeft" fmla="*/ 22320 w 75960"/>
              <a:gd name="textAreaRight" fmla="*/ 7632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8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514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971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59092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259092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2760" y="243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6080" y="274320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733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H = 0.34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4267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 = 0.316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48769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 0.29 – 0.4583662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8680" y="594360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570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+ (b –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165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d/2) + b - 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6165720"/>
            <a:ext cx="175248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50480" y="5943600"/>
            <a:ext cx="195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radio fi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8040" y="6094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siderando factor dinám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5880" y="151776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1746360"/>
            <a:ext cx="7621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2040" y="354636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50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297180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304812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78 +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403848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00 +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105520"/>
            <a:ext cx="1371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666880"/>
            <a:ext cx="304560" cy="2743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acFormaLewis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4668840" cy="6019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24800" y="22860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forma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970360" y="22860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geométrico 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actGeometrico%20J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324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84120" y="1000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álculo a la Fati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99072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590920"/>
            <a:ext cx="5181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superfi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concentración de esfuer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efectos 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50040" y="609480"/>
            <a:ext cx="323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Superficie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FactorSuperficie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771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53280" y="609480"/>
            <a:ext cx="299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amaño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Factortamaño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248520" cy="253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47280" y="1752480"/>
            <a:ext cx="380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ara P &gt; 12 dientes/pu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674720" y="2324160"/>
          <a:ext cx="5641920" cy="290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324160"/>
                    <a:ext cx="5641920" cy="2900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748960" y="609480"/>
            <a:ext cx="36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fiabilidad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752200" y="609480"/>
            <a:ext cx="359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Temperatura;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720" y="3200400"/>
            <a:ext cx="65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d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22860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7360" y="304812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5.8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4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7360" y="4038480"/>
            <a:ext cx="29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 – 3.2 · 10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(T – 8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7360" y="2133720"/>
            <a:ext cx="15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4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450 ºC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550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840 ºF &lt; T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1020 º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23623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87240" y="10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360" y="3581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1760" y="137160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lelos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6200" y="106668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1400" y="2819520"/>
            <a:ext cx="36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ortan en el mism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4360" y="457200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perpendicula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99120" y="571500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cruzan en cualquier 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6200" y="160020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líndr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6920" y="220968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281952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6920" y="335268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esp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2520" y="411480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ornillo sin-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7242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960" y="51814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ónicos hip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5715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elicoid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447920"/>
            <a:ext cx="457200" cy="464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14300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36232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4191120"/>
            <a:ext cx="304560" cy="1218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5715000"/>
            <a:ext cx="304560" cy="380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609480"/>
            <a:ext cx="53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Factor de Concentración de Esfuerzos 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34600" y="2030400"/>
            <a:ext cx="58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 Concentración de Esfuerzos está considerada en 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actor geométric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8862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88620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156120" y="10008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Fatig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6640" y="15238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12891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752480"/>
            <a:ext cx="91440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11040" y="14479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4200" y="2590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9720" y="3581280"/>
            <a:ext cx="521892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eng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Límite fatiga superficial de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relación de du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L%20y%20CR%20E%20Rectos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1955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00080" y="0"/>
            <a:ext cx="683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duración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 y  Factor de confiabilidad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5280" y="3276720"/>
            <a:ext cx="4402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relación de dureza,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Engranajes rectos :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6840" y="4876920"/>
            <a:ext cx="3592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temperatura C</a:t>
            </a:r>
            <a:r>
              <a:rPr b="0" i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 :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&lt; 250 ºF   C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743200" y="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Times New Roman"/>
              </a:rPr>
              <a:t>Factor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1447920"/>
            <a:ext cx="281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200400"/>
            <a:ext cx="7162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: Factor de seguridad para el cálculo de engran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sobre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: Factor de distribu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    : Factor de seguridad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E%20Rectos%20Fact%20Sobrecarga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1532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E%20Rectos%20Fact%20DistCarga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3152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1640" y="100080"/>
            <a:ext cx="47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elección del tipo de Engra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elección%20Engranajes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84872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48080" y="1000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DefEngranajes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639040" cy="45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95280" y="29718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809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6880" y="32004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0920" y="40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d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efEngrane" descr=""/>
          <p:cNvPicPr/>
          <p:nvPr/>
        </p:nvPicPr>
        <p:blipFill>
          <a:blip r:embed="rId1"/>
          <a:stretch/>
        </p:blipFill>
        <p:spPr>
          <a:xfrm>
            <a:off x="609480" y="930240"/>
            <a:ext cx="78487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ccionDientes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705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345840" y="1000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omenclaturaEng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72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15600" y="10008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Relaciones Funda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920" y="8380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73440" y="64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110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3440" y="1101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3280" y="87948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960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11430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080" y="1724040"/>
            <a:ext cx="6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530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987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19875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8380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diamet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78920" y="87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ód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75896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cir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9240" y="17524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9600" y="175248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p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0120" y="335268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adio circunferencia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3276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r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3120" y="40384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istancia entre cen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5720" y="404496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 = b -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4800" y="26668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so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666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1960" y="46483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Arco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4648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+ 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9600" y="5410080"/>
            <a:ext cx="75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07160" y="5673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07160" y="52164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07160" y="5673600"/>
            <a:ext cx="38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42120" y="536904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Relación de cont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9360" y="601992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ongitud de la línea de acción de 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0199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m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p cos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70000" y="10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Análisis de Fuer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zas%20EngRectos%201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716120" cy="3276720"/>
          </a:xfrm>
          <a:prstGeom prst="rect">
            <a:avLst/>
          </a:prstGeom>
          <a:ln w="0">
            <a:noFill/>
          </a:ln>
        </p:spPr>
      </p:pic>
      <p:pic>
        <p:nvPicPr>
          <p:cNvPr id="112" name="Fzas%20EngRectos%202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21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13" name="Fzas%20EngRectos%203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28972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4197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arga transmit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 F 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0" y="495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502920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257800"/>
            <a:ext cx="381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0292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1400" y="5791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o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095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3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638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867280"/>
            <a:ext cx="685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· d ·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095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4:27:20Z</dcterms:created>
  <dc:creator>ROBERTO CORVALAN PAIVA</dc:creator>
  <dc:description/>
  <dc:language>en-US</dc:language>
  <cp:lastModifiedBy>Roberto Corvalán Paiva</cp:lastModifiedBy>
  <dcterms:modified xsi:type="dcterms:W3CDTF">2001-10-08T19:29:33Z</dcterms:modified>
  <cp:revision>152</cp:revision>
  <dc:subject/>
  <dc:title>Sin título de diapositiva</dc:title>
</cp:coreProperties>
</file>