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90F-C386-413A-B5C2-425F4D75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107-E0D4-4F5E-854C-B370E25B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18C-72F3-4F4D-9717-67C619EF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B33-0B69-403B-BBA3-9F2F1661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81C-6929-487A-B35D-F61110F3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C7B-6F09-4C49-B220-84A0D795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DE9-CA5F-42AD-BE4A-D7CCC006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533-8803-41F8-9675-9C33004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95F-DAD1-4733-80DD-396FBBAE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EA5-D24A-4EC0-9434-F9A4915E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6D1-C445-4530-91E5-B85D5A97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282-666A-4349-8E4D-6C671B0A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D274-8E8A-444E-9924-4A6AD0CA1F9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4320" y="2819520"/>
            <a:ext cx="50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832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6094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200" y="153036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295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75896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75896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9960" y="14540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520" y="152388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E%20HelicParal%20NomencResist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34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8680" y="2819520"/>
            <a:ext cx="60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les Cónicos Esp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%20Conicos%20Espirales%20Fzas" descr=""/>
          <p:cNvPicPr/>
          <p:nvPr/>
        </p:nvPicPr>
        <p:blipFill>
          <a:blip r:embed="rId1"/>
          <a:stretch/>
        </p:blipFill>
        <p:spPr>
          <a:xfrm>
            <a:off x="0" y="3808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6120" y="1447920"/>
            <a:ext cx="45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3000" y="247968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8560" y="2251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2320" y="263196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2800" y="270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6480" y="243828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1560" y="335268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8560" y="3124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72320" y="35053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6480" y="331164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14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5200" y="488304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120" y="465444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4520" y="5035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511164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9760" y="4842000"/>
            <a:ext cx="36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4120" y="575640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1120" y="552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4520" y="5908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5985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9040" y="571500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14480" y="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85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9810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%20HelicParal%20Nomenc" descr=""/>
          <p:cNvPicPr/>
          <p:nvPr/>
        </p:nvPicPr>
        <p:blipFill>
          <a:blip r:embed="rId1"/>
          <a:stretch/>
        </p:blipFill>
        <p:spPr>
          <a:xfrm>
            <a:off x="1828800" y="274464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%20Conicos%20Espirales%20J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6064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%20Conicos%20Espirales%20I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6220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93320" y="281952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ónico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%20Conicos%20Rectos%20Ralacione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397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53520" y="14065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7720" y="1143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8800" y="16765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5840" y="26668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6096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59880" y="2936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5400" y="389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576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038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76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%20Conicos%20Rectos%20PrpDientes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174636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5760" y="403848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%20Conicos%20Rectos%20Fzas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438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060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7556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5480" y="121932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289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654200"/>
            <a:ext cx="64008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diame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ancho de cara (flex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: factor ge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eficiente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: factor geométrico (durabilidad de superfic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eguridad de los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9907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762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2952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19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7280" y="7621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%20Conicos%20Rectos%20Fact%20J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4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9000" y="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eficiente Elástico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%20Conicos%20Rectos%20Cp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6532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%20Conicos%20Rectos%20I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21:40:58Z</dcterms:modified>
  <cp:revision>171</cp:revision>
  <dc:subject/>
  <dc:title>Sin título de diapositiva</dc:title>
</cp:coreProperties>
</file>