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BD4B-3E4D-4ABE-B560-C51FF572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C08-D182-446B-8629-4B8984DF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3AC-9D3A-48B9-B320-CCD35A61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A2C-B10B-41B4-9D85-FDF5A00F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C75-C5CC-4639-B820-43611CDF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735-7A8A-4B19-B786-B8005B9E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C13-DB83-4141-BA3B-14E41833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3C4-FF8D-4462-A76C-F7CF0851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3C2-4792-4518-B05A-DE718390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DA3-3549-41EC-AA47-BC33579A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496-BEC0-4A39-B0AC-2CC0CD4D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AC9-58B9-4480-9866-3312C93C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B9DE-1152-4045-97C2-E006C62B317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160" y="2819520"/>
            <a:ext cx="635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RESISTENCIA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PLICADA AL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20840" y="380880"/>
            <a:ext cx="42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Confiabilidad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64320" y="1219320"/>
            <a:ext cx="225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1 - 0.08 z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05092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27432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2819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26668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036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84400" y="2438280"/>
            <a:ext cx="75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19440" y="3759120"/>
            <a:ext cx="636552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media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media de los esfuer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desviación estándar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desviación estándar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676520" y="1523880"/>
          <a:ext cx="5638680" cy="290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638680" cy="2903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23000" y="380880"/>
            <a:ext cx="421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emperatura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2743200"/>
            <a:ext cx="8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60680" y="31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6760" y="2209680"/>
            <a:ext cx="589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T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840º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-5.8·10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(T-450)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450ºC &lt; T 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550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13372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07160" y="533520"/>
            <a:ext cx="665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Concentración de Esfuerzos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81520" y="13716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1160" y="1066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3200" y="1676520"/>
            <a:ext cx="47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1600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30720" y="2590920"/>
            <a:ext cx="80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0160" y="236232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ímite indurancia sin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289548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0160" y="289548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ímite indurancia sin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8520" y="396252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q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9520" y="3657600"/>
            <a:ext cx="8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9520" y="4191120"/>
            <a:ext cx="8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4191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5320" y="4952880"/>
            <a:ext cx="70995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q : sensibilidad al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factor teórico de concentración de esfuer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91280" y="30492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sfuerzos fluctu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8380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22096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59092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505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457200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51814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193760"/>
            <a:ext cx="2514600" cy="1359000"/>
          </a:xfrm>
          <a:custGeom>
            <a:avLst/>
            <a:gdLst/>
            <a:ahLst/>
            <a:rect l="l" t="t" r="r" b="b"/>
            <a:pathLst>
              <a:path w="1584" h="856">
                <a:moveTo>
                  <a:pt x="0" y="352"/>
                </a:moveTo>
                <a:cubicBezTo>
                  <a:pt x="48" y="304"/>
                  <a:pt x="96" y="256"/>
                  <a:pt x="144" y="208"/>
                </a:cubicBezTo>
                <a:cubicBezTo>
                  <a:pt x="192" y="160"/>
                  <a:pt x="240" y="96"/>
                  <a:pt x="288" y="64"/>
                </a:cubicBezTo>
                <a:cubicBezTo>
                  <a:pt x="336" y="32"/>
                  <a:pt x="392" y="0"/>
                  <a:pt x="432" y="16"/>
                </a:cubicBezTo>
                <a:cubicBezTo>
                  <a:pt x="472" y="32"/>
                  <a:pt x="504" y="112"/>
                  <a:pt x="528" y="160"/>
                </a:cubicBezTo>
                <a:cubicBezTo>
                  <a:pt x="552" y="208"/>
                  <a:pt x="560" y="256"/>
                  <a:pt x="576" y="304"/>
                </a:cubicBezTo>
                <a:cubicBezTo>
                  <a:pt x="592" y="352"/>
                  <a:pt x="608" y="408"/>
                  <a:pt x="624" y="448"/>
                </a:cubicBezTo>
                <a:cubicBezTo>
                  <a:pt x="640" y="488"/>
                  <a:pt x="656" y="504"/>
                  <a:pt x="672" y="544"/>
                </a:cubicBezTo>
                <a:cubicBezTo>
                  <a:pt x="688" y="584"/>
                  <a:pt x="688" y="640"/>
                  <a:pt x="720" y="688"/>
                </a:cubicBezTo>
                <a:cubicBezTo>
                  <a:pt x="752" y="736"/>
                  <a:pt x="816" y="808"/>
                  <a:pt x="864" y="832"/>
                </a:cubicBezTo>
                <a:cubicBezTo>
                  <a:pt x="912" y="856"/>
                  <a:pt x="968" y="840"/>
                  <a:pt x="1008" y="832"/>
                </a:cubicBezTo>
                <a:cubicBezTo>
                  <a:pt x="1048" y="824"/>
                  <a:pt x="1072" y="832"/>
                  <a:pt x="1104" y="784"/>
                </a:cubicBezTo>
                <a:cubicBezTo>
                  <a:pt x="1136" y="736"/>
                  <a:pt x="1160" y="608"/>
                  <a:pt x="1200" y="544"/>
                </a:cubicBezTo>
                <a:cubicBezTo>
                  <a:pt x="1240" y="480"/>
                  <a:pt x="1312" y="448"/>
                  <a:pt x="1344" y="400"/>
                </a:cubicBezTo>
                <a:cubicBezTo>
                  <a:pt x="1376" y="352"/>
                  <a:pt x="1368" y="304"/>
                  <a:pt x="1392" y="256"/>
                </a:cubicBezTo>
                <a:cubicBezTo>
                  <a:pt x="1416" y="208"/>
                  <a:pt x="1456" y="152"/>
                  <a:pt x="1488" y="112"/>
                </a:cubicBezTo>
                <a:cubicBezTo>
                  <a:pt x="1520" y="72"/>
                  <a:pt x="1552" y="44"/>
                  <a:pt x="1584" y="1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946240"/>
            <a:ext cx="2895480" cy="1206720"/>
          </a:xfrm>
          <a:custGeom>
            <a:avLst/>
            <a:gdLst/>
            <a:ahLst/>
            <a:rect l="l" t="t" r="r" b="b"/>
            <a:pathLst>
              <a:path w="1824" h="760">
                <a:moveTo>
                  <a:pt x="0" y="640"/>
                </a:moveTo>
                <a:cubicBezTo>
                  <a:pt x="44" y="560"/>
                  <a:pt x="88" y="480"/>
                  <a:pt x="144" y="400"/>
                </a:cubicBezTo>
                <a:cubicBezTo>
                  <a:pt x="200" y="320"/>
                  <a:pt x="272" y="200"/>
                  <a:pt x="336" y="160"/>
                </a:cubicBezTo>
                <a:cubicBezTo>
                  <a:pt x="400" y="120"/>
                  <a:pt x="464" y="96"/>
                  <a:pt x="528" y="160"/>
                </a:cubicBezTo>
                <a:cubicBezTo>
                  <a:pt x="592" y="224"/>
                  <a:pt x="680" y="464"/>
                  <a:pt x="720" y="544"/>
                </a:cubicBezTo>
                <a:cubicBezTo>
                  <a:pt x="760" y="624"/>
                  <a:pt x="736" y="608"/>
                  <a:pt x="768" y="640"/>
                </a:cubicBezTo>
                <a:cubicBezTo>
                  <a:pt x="800" y="672"/>
                  <a:pt x="872" y="720"/>
                  <a:pt x="912" y="736"/>
                </a:cubicBezTo>
                <a:cubicBezTo>
                  <a:pt x="952" y="752"/>
                  <a:pt x="968" y="760"/>
                  <a:pt x="1008" y="736"/>
                </a:cubicBezTo>
                <a:cubicBezTo>
                  <a:pt x="1048" y="712"/>
                  <a:pt x="1096" y="680"/>
                  <a:pt x="1152" y="592"/>
                </a:cubicBezTo>
                <a:cubicBezTo>
                  <a:pt x="1208" y="504"/>
                  <a:pt x="1296" y="296"/>
                  <a:pt x="1344" y="208"/>
                </a:cubicBezTo>
                <a:cubicBezTo>
                  <a:pt x="1392" y="120"/>
                  <a:pt x="1392" y="96"/>
                  <a:pt x="1440" y="64"/>
                </a:cubicBezTo>
                <a:cubicBezTo>
                  <a:pt x="1488" y="32"/>
                  <a:pt x="1584" y="0"/>
                  <a:pt x="1632" y="16"/>
                </a:cubicBezTo>
                <a:cubicBezTo>
                  <a:pt x="1680" y="32"/>
                  <a:pt x="1696" y="128"/>
                  <a:pt x="1728" y="160"/>
                </a:cubicBezTo>
                <a:cubicBezTo>
                  <a:pt x="1760" y="192"/>
                  <a:pt x="1816" y="200"/>
                  <a:pt x="1824" y="20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4673520"/>
            <a:ext cx="2895480" cy="1473120"/>
          </a:xfrm>
          <a:custGeom>
            <a:avLst/>
            <a:gdLst/>
            <a:ahLst/>
            <a:rect l="l" t="t" r="r" b="b"/>
            <a:pathLst>
              <a:path w="1824" h="928">
                <a:moveTo>
                  <a:pt x="0" y="512"/>
                </a:moveTo>
                <a:cubicBezTo>
                  <a:pt x="8" y="452"/>
                  <a:pt x="16" y="392"/>
                  <a:pt x="48" y="320"/>
                </a:cubicBezTo>
                <a:cubicBezTo>
                  <a:pt x="80" y="248"/>
                  <a:pt x="152" y="96"/>
                  <a:pt x="192" y="80"/>
                </a:cubicBezTo>
                <a:cubicBezTo>
                  <a:pt x="232" y="64"/>
                  <a:pt x="264" y="184"/>
                  <a:pt x="288" y="224"/>
                </a:cubicBezTo>
                <a:cubicBezTo>
                  <a:pt x="312" y="264"/>
                  <a:pt x="304" y="280"/>
                  <a:pt x="336" y="320"/>
                </a:cubicBezTo>
                <a:cubicBezTo>
                  <a:pt x="368" y="360"/>
                  <a:pt x="440" y="472"/>
                  <a:pt x="480" y="464"/>
                </a:cubicBezTo>
                <a:cubicBezTo>
                  <a:pt x="520" y="456"/>
                  <a:pt x="544" y="336"/>
                  <a:pt x="576" y="272"/>
                </a:cubicBezTo>
                <a:cubicBezTo>
                  <a:pt x="608" y="208"/>
                  <a:pt x="640" y="120"/>
                  <a:pt x="672" y="80"/>
                </a:cubicBezTo>
                <a:cubicBezTo>
                  <a:pt x="704" y="40"/>
                  <a:pt x="744" y="24"/>
                  <a:pt x="768" y="32"/>
                </a:cubicBezTo>
                <a:cubicBezTo>
                  <a:pt x="792" y="40"/>
                  <a:pt x="768" y="0"/>
                  <a:pt x="816" y="128"/>
                </a:cubicBezTo>
                <a:cubicBezTo>
                  <a:pt x="864" y="256"/>
                  <a:pt x="992" y="672"/>
                  <a:pt x="1056" y="800"/>
                </a:cubicBezTo>
                <a:cubicBezTo>
                  <a:pt x="1120" y="928"/>
                  <a:pt x="1160" y="904"/>
                  <a:pt x="1200" y="896"/>
                </a:cubicBezTo>
                <a:cubicBezTo>
                  <a:pt x="1240" y="888"/>
                  <a:pt x="1264" y="784"/>
                  <a:pt x="1296" y="752"/>
                </a:cubicBezTo>
                <a:cubicBezTo>
                  <a:pt x="1328" y="720"/>
                  <a:pt x="1368" y="696"/>
                  <a:pt x="1392" y="704"/>
                </a:cubicBezTo>
                <a:cubicBezTo>
                  <a:pt x="1416" y="712"/>
                  <a:pt x="1424" y="768"/>
                  <a:pt x="1440" y="800"/>
                </a:cubicBezTo>
                <a:cubicBezTo>
                  <a:pt x="1456" y="832"/>
                  <a:pt x="1456" y="880"/>
                  <a:pt x="1488" y="896"/>
                </a:cubicBezTo>
                <a:cubicBezTo>
                  <a:pt x="1520" y="912"/>
                  <a:pt x="1600" y="920"/>
                  <a:pt x="1632" y="896"/>
                </a:cubicBezTo>
                <a:cubicBezTo>
                  <a:pt x="1664" y="872"/>
                  <a:pt x="1648" y="880"/>
                  <a:pt x="1680" y="752"/>
                </a:cubicBezTo>
                <a:cubicBezTo>
                  <a:pt x="1712" y="624"/>
                  <a:pt x="1768" y="376"/>
                  <a:pt x="1824" y="1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121932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22096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5053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51055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9907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5909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46483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54880" y="1295280"/>
            <a:ext cx="73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1752480"/>
            <a:ext cx="76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1600200"/>
            <a:ext cx="83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15440" y="838080"/>
            <a:ext cx="49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85240" y="1143000"/>
            <a:ext cx="4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9907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990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1905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15238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990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523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990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9907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30481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251460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396252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975760" y="3049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S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1371600"/>
            <a:ext cx="6324480" cy="358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057400"/>
            <a:ext cx="15238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2438280"/>
            <a:ext cx="266724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41148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2438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276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2590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81480" y="3657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886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3962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4191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4191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182880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1828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7560" y="1447920"/>
            <a:ext cx="1348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da Fi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5120" y="1447920"/>
            <a:ext cx="1476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da Infi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44197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520" y="3962520"/>
            <a:ext cx="147456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iclos 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3962520"/>
            <a:ext cx="14166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iclos Al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240" y="1195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5181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00160" y="5029200"/>
            <a:ext cx="511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62480" y="5105520"/>
            <a:ext cx="511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95600" y="30492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de Good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8680" y="1252440"/>
            <a:ext cx="0" cy="281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8680" y="4068720"/>
            <a:ext cx="466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8680" y="4068720"/>
            <a:ext cx="0" cy="24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9760" y="5310360"/>
            <a:ext cx="1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79760" y="2825640"/>
            <a:ext cx="1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057400" y="1170000"/>
            <a:ext cx="4043520" cy="34020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668680" y="1749240"/>
            <a:ext cx="2727360" cy="107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668680" y="1749240"/>
            <a:ext cx="2727360" cy="3560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55800" y="1749600"/>
            <a:ext cx="26402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8680" y="2411280"/>
            <a:ext cx="1847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040" y="1749600"/>
            <a:ext cx="0" cy="2319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16560" y="2411280"/>
            <a:ext cx="0" cy="1657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08240" y="22464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11680" y="208116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5304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08560" y="208116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03680" y="191448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0060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35280" y="232884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48160" y="216360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4112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19320" y="257796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80080" y="282564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32520" y="27432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32520" y="22464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27640" y="373680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08560" y="38196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35280" y="473076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71760" y="506268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32200" y="51451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44720" y="547704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76640" y="489744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0160" y="448308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53040" y="3902040"/>
            <a:ext cx="87120" cy="84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16560" y="33228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04000" y="4068720"/>
            <a:ext cx="968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838080"/>
            <a:ext cx="5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2720" y="14176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2720" y="199692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2720" y="24940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52720" y="49798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43600" y="39020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64120" y="39020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20026800">
            <a:off x="2671920" y="246672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á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8365400">
            <a:off x="3047400" y="40374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9164600">
            <a:off x="2512800" y="342864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46800">
            <a:off x="1260000" y="21934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44400">
            <a:off x="1009440" y="51120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506760" y="947880"/>
            <a:ext cx="0" cy="2815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3733920"/>
            <a:ext cx="7561440" cy="2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6760" y="3763800"/>
            <a:ext cx="0" cy="24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17840" y="5005440"/>
            <a:ext cx="1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2521080"/>
            <a:ext cx="1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895480" y="865080"/>
            <a:ext cx="4043520" cy="34020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06760" y="1444680"/>
            <a:ext cx="2727360" cy="10764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506760" y="1444320"/>
            <a:ext cx="2727360" cy="35607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94240" y="1444680"/>
            <a:ext cx="2639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1905120"/>
            <a:ext cx="22096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34120" y="1444680"/>
            <a:ext cx="0" cy="2319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15000" y="1905120"/>
            <a:ext cx="0" cy="18856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42080" y="3763800"/>
            <a:ext cx="96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65400" y="533520"/>
            <a:ext cx="5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11430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16002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286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90800" y="467532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3733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3733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8423000">
            <a:off x="3849840" y="33876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 Mí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9294800">
            <a:off x="3427920" y="289476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 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20264400">
            <a:off x="3732840" y="2057040"/>
            <a:ext cx="11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Má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505320" y="1904760"/>
            <a:ext cx="152388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1905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1905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05160" y="1905120"/>
            <a:ext cx="60948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505320" y="2895120"/>
            <a:ext cx="160020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286000" y="5029200"/>
            <a:ext cx="1219320" cy="103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05120" y="251460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2057400"/>
            <a:ext cx="3886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2057400"/>
            <a:ext cx="0" cy="1676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2743200"/>
            <a:ext cx="28954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429000"/>
            <a:ext cx="3276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20574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4640" y="2438280"/>
            <a:ext cx="6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20574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73520" y="2438280"/>
            <a:ext cx="43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11960" y="32767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2057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60760" y="21337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60760" y="28195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06120" y="365760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595240" y="30492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de Soder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91120" y="121932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34290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205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34290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8168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34290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3888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35053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35053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3429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86600" y="3429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41840" y="91440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920" y="18288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1120" y="2057400"/>
            <a:ext cx="25905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1599840" y="2057400"/>
            <a:ext cx="259092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2057400"/>
            <a:ext cx="304776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142640" y="2057400"/>
            <a:ext cx="304812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1120" y="213372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oo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248520" y="2514600"/>
            <a:ext cx="3045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8604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99480" y="40384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219320" y="44956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859160" y="335268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5304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19051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19810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81480" y="19051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22860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86400" y="24382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23623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10080" y="21337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25146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28195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28954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05320" y="206676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22096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20574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22860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19810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18288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17524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040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17524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6688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16002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21337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15238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191120" y="213372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43434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14800" y="2971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43434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43434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43434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388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4419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4419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4343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86600" y="4343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65520" y="5335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2590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91120" y="2971800"/>
            <a:ext cx="304776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91120" y="1752480"/>
            <a:ext cx="259056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599840" y="1752480"/>
            <a:ext cx="259092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859160" y="426708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87880" y="609120"/>
            <a:ext cx="3240" cy="373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1752480"/>
            <a:ext cx="152280" cy="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57600" y="152388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2971800"/>
            <a:ext cx="220968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962520"/>
            <a:ext cx="3808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971440" y="29718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600200" y="2971800"/>
            <a:ext cx="13716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191120" y="2742840"/>
            <a:ext cx="31240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3200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01028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41160" y="2841480"/>
            <a:ext cx="362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86840" y="3124080"/>
            <a:ext cx="38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3581280"/>
            <a:ext cx="0" cy="762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190760" y="3581280"/>
            <a:ext cx="1447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14920" y="3352680"/>
            <a:ext cx="40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17280" y="4267080"/>
            <a:ext cx="44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Ecuación General de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14600" y="1444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1600200"/>
            <a:ext cx="4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7480" y="15508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30440" y="1781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590920"/>
            <a:ext cx="44193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eficiente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3526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eficiente de la “Ignora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bre aspectos no cuantificables mediant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actor de seguridad: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 =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·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Fu/F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S/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u: carga máxim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p: carga admisibl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fuerzo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593440" y="304920"/>
            <a:ext cx="33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Teorías no Lin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143000"/>
            <a:ext cx="7086240" cy="3885840"/>
            <a:chOff x="685800" y="1143000"/>
            <a:chExt cx="7086240" cy="3885840"/>
          </a:xfrm>
        </p:grpSpPr>
        <p:sp>
          <p:nvSpPr>
            <p:cNvPr id="456" name=""/>
            <p:cNvSpPr/>
            <p:nvPr/>
          </p:nvSpPr>
          <p:spPr>
            <a:xfrm>
              <a:off x="1458720" y="1143000"/>
              <a:ext cx="0" cy="388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29480" y="2330640"/>
              <a:ext cx="257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58720" y="4273560"/>
              <a:ext cx="438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39560" y="41655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39560" y="4273560"/>
              <a:ext cx="193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12480" y="41655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81440" y="4273560"/>
              <a:ext cx="13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54360" y="4273560"/>
              <a:ext cx="13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5800" y="1790640"/>
              <a:ext cx="1338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58720" y="2330640"/>
              <a:ext cx="5153760" cy="1942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58720" y="2330640"/>
              <a:ext cx="5153760" cy="1942920"/>
            </a:xfrm>
            <a:custGeom>
              <a:avLst/>
              <a:gdLst/>
              <a:ahLst/>
              <a:rect l="l" t="t" r="r" b="b"/>
              <a:pathLst>
                <a:path w="1920" h="864">
                  <a:moveTo>
                    <a:pt x="0" y="0"/>
                  </a:moveTo>
                  <a:cubicBezTo>
                    <a:pt x="92" y="12"/>
                    <a:pt x="184" y="24"/>
                    <a:pt x="288" y="48"/>
                  </a:cubicBezTo>
                  <a:cubicBezTo>
                    <a:pt x="392" y="72"/>
                    <a:pt x="504" y="104"/>
                    <a:pt x="624" y="144"/>
                  </a:cubicBezTo>
                  <a:cubicBezTo>
                    <a:pt x="744" y="184"/>
                    <a:pt x="880" y="232"/>
                    <a:pt x="1008" y="288"/>
                  </a:cubicBezTo>
                  <a:cubicBezTo>
                    <a:pt x="1136" y="344"/>
                    <a:pt x="1264" y="408"/>
                    <a:pt x="1392" y="480"/>
                  </a:cubicBezTo>
                  <a:cubicBezTo>
                    <a:pt x="1520" y="552"/>
                    <a:pt x="1688" y="656"/>
                    <a:pt x="1776" y="720"/>
                  </a:cubicBezTo>
                  <a:cubicBezTo>
                    <a:pt x="1864" y="784"/>
                    <a:pt x="1896" y="840"/>
                    <a:pt x="1920" y="86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58720" y="2294280"/>
              <a:ext cx="4380480" cy="1978920"/>
            </a:xfrm>
            <a:custGeom>
              <a:avLst/>
              <a:gdLst/>
              <a:ahLst/>
              <a:rect l="l" t="t" r="r" b="b"/>
              <a:pathLst>
                <a:path w="1632" h="880">
                  <a:moveTo>
                    <a:pt x="0" y="16"/>
                  </a:moveTo>
                  <a:cubicBezTo>
                    <a:pt x="116" y="8"/>
                    <a:pt x="232" y="0"/>
                    <a:pt x="384" y="16"/>
                  </a:cubicBezTo>
                  <a:cubicBezTo>
                    <a:pt x="536" y="32"/>
                    <a:pt x="744" y="24"/>
                    <a:pt x="912" y="112"/>
                  </a:cubicBezTo>
                  <a:cubicBezTo>
                    <a:pt x="1080" y="200"/>
                    <a:pt x="1272" y="416"/>
                    <a:pt x="1392" y="544"/>
                  </a:cubicBezTo>
                  <a:cubicBezTo>
                    <a:pt x="1512" y="672"/>
                    <a:pt x="1592" y="824"/>
                    <a:pt x="1632" y="880"/>
                  </a:cubicBezTo>
                </a:path>
              </a:pathLst>
            </a:custGeom>
            <a:noFill/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58720" y="2330640"/>
              <a:ext cx="5239440" cy="1942920"/>
            </a:xfrm>
            <a:custGeom>
              <a:avLst/>
              <a:gdLst/>
              <a:ahLst/>
              <a:rect l="l" t="t" r="r" b="b"/>
              <a:pathLst>
                <a:path w="1952" h="864">
                  <a:moveTo>
                    <a:pt x="0" y="0"/>
                  </a:moveTo>
                  <a:cubicBezTo>
                    <a:pt x="168" y="16"/>
                    <a:pt x="336" y="32"/>
                    <a:pt x="480" y="48"/>
                  </a:cubicBezTo>
                  <a:cubicBezTo>
                    <a:pt x="624" y="64"/>
                    <a:pt x="728" y="72"/>
                    <a:pt x="864" y="96"/>
                  </a:cubicBezTo>
                  <a:cubicBezTo>
                    <a:pt x="1000" y="120"/>
                    <a:pt x="1152" y="136"/>
                    <a:pt x="1296" y="192"/>
                  </a:cubicBezTo>
                  <a:cubicBezTo>
                    <a:pt x="1440" y="248"/>
                    <a:pt x="1624" y="360"/>
                    <a:pt x="1728" y="432"/>
                  </a:cubicBezTo>
                  <a:cubicBezTo>
                    <a:pt x="1832" y="504"/>
                    <a:pt x="1888" y="552"/>
                    <a:pt x="1920" y="624"/>
                  </a:cubicBezTo>
                  <a:cubicBezTo>
                    <a:pt x="1952" y="696"/>
                    <a:pt x="1920" y="824"/>
                    <a:pt x="1920" y="864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87960" y="2978280"/>
              <a:ext cx="98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Goodm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78200" y="351792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Bag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34880" y="16830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Ger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26200" y="211428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Kececiogl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231640" y="2761560"/>
              <a:ext cx="257400" cy="32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391200" y="2869920"/>
              <a:ext cx="1030320" cy="75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520080" y="2114280"/>
              <a:ext cx="25740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581440" y="2546280"/>
              <a:ext cx="5155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133720" y="1905120"/>
            <a:ext cx="7617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190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9047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9810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0574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1333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2096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2860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3619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4382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5146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5146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5905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6668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7432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8191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8954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9718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30477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8759600">
            <a:off x="1866960" y="1333080"/>
            <a:ext cx="228600" cy="106668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066680"/>
              <a:gd name="textAreaBottom" fmla="*/ 1055520 h 1066680"/>
            </a:gdLst>
            <a:ahLst/>
            <a:rect l="textAreaLeft" t="textAreaTop" r="textAreaRight" b="textAreaBottom"/>
            <a:pathLst>
              <a:path w="21600" h="100664">
                <a:moveTo>
                  <a:pt x="3600" y="0"/>
                </a:moveTo>
                <a:arcTo wR="3600" hR="3600" stAng="16200000" swAng="-5400000"/>
                <a:lnTo>
                  <a:pt x="0" y="97064"/>
                </a:lnTo>
                <a:arcTo wR="3600" hR="3600" stAng="10800000" swAng="-5400000"/>
                <a:lnTo>
                  <a:pt x="18000" y="100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799920" y="2018880"/>
            <a:ext cx="381240" cy="304920"/>
          </a:xfrm>
          <a:prstGeom prst="flowChartDelay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36800" y="3808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2941200">
            <a:off x="1222920" y="1278720"/>
            <a:ext cx="228600" cy="111924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119240"/>
              <a:gd name="textAreaBottom" fmla="*/ 1108080 h 1119240"/>
            </a:gdLst>
            <a:ahLst/>
            <a:rect l="textAreaLeft" t="textAreaTop" r="textAreaRight" b="textAreaBottom"/>
            <a:pathLst>
              <a:path w="21600" h="105623">
                <a:moveTo>
                  <a:pt x="3600" y="0"/>
                </a:moveTo>
                <a:arcTo wR="3600" hR="3600" stAng="16200000" swAng="-5400000"/>
                <a:lnTo>
                  <a:pt x="0" y="102023"/>
                </a:lnTo>
                <a:arcTo wR="3600" hR="3600" stAng="10800000" swAng="-5400000"/>
                <a:lnTo>
                  <a:pt x="18000" y="105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23623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14400" y="20574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00200" y="144792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228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04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80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57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3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09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85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61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838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838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914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9903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0666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1430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2189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2952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371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371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447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523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00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1676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752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828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904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981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981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057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21333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2096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2860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3619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4382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514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590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666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743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819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895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971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047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124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200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200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920" y="21337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895480" y="21337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609480" y="2971440"/>
            <a:ext cx="533160" cy="990360"/>
            <a:chOff x="609480" y="2971440"/>
            <a:chExt cx="533160" cy="990360"/>
          </a:xfrm>
        </p:grpSpPr>
        <p:sp>
          <p:nvSpPr>
            <p:cNvPr id="551" name=""/>
            <p:cNvSpPr/>
            <p:nvPr/>
          </p:nvSpPr>
          <p:spPr>
            <a:xfrm>
              <a:off x="742320" y="2971800"/>
              <a:ext cx="267120" cy="14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9480" y="3113280"/>
              <a:ext cx="533160" cy="7070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2320" y="3820320"/>
              <a:ext cx="267120" cy="14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480" y="3395880"/>
              <a:ext cx="533160" cy="141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42320" y="297144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2320" y="297180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2320" y="381996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2320" y="382032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H="1">
            <a:off x="1143000" y="3429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1905120"/>
            <a:ext cx="609480" cy="60948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2666880"/>
            <a:ext cx="1600200" cy="16002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816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4936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" y="44956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58672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7652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4812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7760" y="4419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00200" y="59436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1192320"/>
            <a:ext cx="21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M 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máx 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= 480 N ·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19177200">
            <a:off x="1641600" y="255384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1600200"/>
            <a:ext cx="44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Acero UNS G10350 Trat. Térmico y estirado a 650ºC, acabado 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43400" y="2438280"/>
            <a:ext cx="36576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Confiabilidad = 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Factor Conc esfuerzo = 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ys 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=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us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es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Sin considerar to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95680" y="4952880"/>
            <a:ext cx="4648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42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5680" y="5867280"/>
            <a:ext cx="4648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=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427 / 1.3 =  328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=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/ 1.1 = 570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990720" y="1295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erificación por carga está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89280" y="2535120"/>
            <a:ext cx="352080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flexión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99960" y="2209680"/>
            <a:ext cx="90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· 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05880" y="28195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34800" y="3452760"/>
            <a:ext cx="15980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= 4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/ c = d 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 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09880" y="3505320"/>
            <a:ext cx="152640" cy="99036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8098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031720" y="3733920"/>
            <a:ext cx="14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31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6920" y="27432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9072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erificación por Fati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09680" y="1447920"/>
            <a:ext cx="49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S`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2057400"/>
            <a:ext cx="807732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Terminación superficial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Tamaño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1.189 · d 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-0.097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nfiabilidad (95%)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8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ncentración de  Esfuerzo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q = 0.84 (r = 3 mm;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M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1+(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-1)=1+(1.6-1)=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1 /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0.6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Límite Indurancia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`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5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313.5 MPa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49528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74·0.8·0.868·0.665·313.5 = 107.4 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54864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(min) 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07.4 / 1.8 = 59.7 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009160" y="406440"/>
            <a:ext cx="15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10080" y="228600"/>
            <a:ext cx="217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(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/2) · 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98680" y="685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57600" y="685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85480" y="1523880"/>
            <a:ext cx="15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88200" y="134604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(480/2) ·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74640" y="1803240"/>
            <a:ext cx="7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33920" y="180324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7680" y="15303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1200" y="1371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9960" y="182880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705720" y="1828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56720" y="2260440"/>
            <a:ext cx="169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340344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561348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1280" y="5537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81280" y="561348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038480" y="5537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29000" y="561348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91320" y="591804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5120" y="180324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791320" y="5613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987480" y="1879200"/>
            <a:ext cx="3240" cy="373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378468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34797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59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90720" y="3784680"/>
            <a:ext cx="518148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990720" y="2565000"/>
            <a:ext cx="76176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3936960"/>
            <a:ext cx="0" cy="1676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990720" y="3936960"/>
            <a:ext cx="457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80" y="3659040"/>
            <a:ext cx="88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8400" y="568944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271764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47920" y="363204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3098880"/>
            <a:ext cx="1082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92920" y="309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97480" y="30988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24280" y="3022560"/>
            <a:ext cx="3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5920" y="3022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09200" y="340344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4 · 10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10080" y="34797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3098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30988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08600" y="309888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44.9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974680" y="3808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tiga en To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133720" y="1295280"/>
            <a:ext cx="58672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0.577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(Teoría esfuerzo cortante máxi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77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(Teoría energía de distors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971800" y="2743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71800" y="49528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627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62720" y="4952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4952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67280" y="4952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14600" y="3200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71800" y="3581280"/>
            <a:ext cx="304812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968560" y="2438280"/>
            <a:ext cx="3240" cy="251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71800" y="358128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19720" y="3581280"/>
            <a:ext cx="11430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4680" y="464832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45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52760" y="32688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51160" y="3363840"/>
            <a:ext cx="5724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48120" y="3300480"/>
            <a:ext cx="58680" cy="33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7760" y="339408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62400" y="32688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10040" y="320508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26000" y="356724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30640" y="344160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776840" y="34416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78360" y="356724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3920" y="304812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3809880"/>
            <a:ext cx="5868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54280" y="3332160"/>
            <a:ext cx="5724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98880" y="3079800"/>
            <a:ext cx="57240" cy="33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71800" y="39625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3962520"/>
            <a:ext cx="0" cy="990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8280" y="3657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19720" y="4876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975040" y="38088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Cargas combi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65480" y="1447920"/>
            <a:ext cx="4078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m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1496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316960" y="2286000"/>
            <a:ext cx="3857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a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a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233532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91440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fuerzos Von Mi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98040" y="29718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tado de Esfuerzos B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33720" y="3657600"/>
            <a:ext cx="624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m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3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xym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09680" y="4495680"/>
            <a:ext cx="5943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a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a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3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xya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733920"/>
            <a:ext cx="472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00400" y="45720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0"/>
            <a:ext cx="85341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RITERIOS DE FALLA DE LOS MATERAILES</a:t>
            </a:r>
            <a:br>
              <a:rPr sz="2800"/>
            </a:b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(Carga est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Esfuerzo Normal Máx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523880"/>
            <a:ext cx="207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4360" y="2027160"/>
            <a:ext cx="601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Fluencia: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yt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-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14720" y="2666880"/>
            <a:ext cx="602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Ruptura: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-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657600"/>
            <a:ext cx="695016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Esfuerzo Cortante Máx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0.5 ·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80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de la Energía de Disto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sfuerzo tr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sfuerzo B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Coulomb-Mohr (Materiales Frág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 -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 =</a:t>
            </a:r>
            <a:r>
              <a:rPr b="0" i="1" lang="es-CL" sz="5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 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Concentración de Ten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1520" y="2575080"/>
            <a:ext cx="2946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5400" y="4495680"/>
            <a:ext cx="2946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35200" y="3306600"/>
            <a:ext cx="758880" cy="3654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096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9777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462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3143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828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509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194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9875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556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241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940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622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306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9988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16692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3354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10360" y="4488480"/>
            <a:ext cx="2526120" cy="379440"/>
            <a:chOff x="810360" y="4488480"/>
            <a:chExt cx="2526120" cy="379440"/>
          </a:xfrm>
        </p:grpSpPr>
        <p:sp>
          <p:nvSpPr>
            <p:cNvPr id="77" name=""/>
            <p:cNvSpPr/>
            <p:nvPr/>
          </p:nvSpPr>
          <p:spPr>
            <a:xfrm>
              <a:off x="3335760" y="448848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67640" y="448956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99520" y="449064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30680" y="449136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2560" y="449244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94440" y="449316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5600" y="449424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57480" y="44953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9360" y="449604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0520" y="44971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52400" y="449820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84280" y="449892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15440" y="450000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7320" y="45007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78840" y="450180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360" y="450288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04920" y="3489480"/>
            <a:ext cx="412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35200" y="2849400"/>
            <a:ext cx="0" cy="6400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566720" y="2941560"/>
            <a:ext cx="0" cy="5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398600" y="303228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30480" y="31237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062000" y="3214440"/>
            <a:ext cx="0" cy="274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9388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254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728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88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494080" y="2849400"/>
            <a:ext cx="0" cy="6400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662200" y="2941560"/>
            <a:ext cx="0" cy="5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30680" y="303228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998800" y="31237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166920" y="3214440"/>
            <a:ext cx="0" cy="274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84012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6720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50352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354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3040" y="12952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43120" y="4861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8600" y="2849400"/>
            <a:ext cx="6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94080" y="2849400"/>
            <a:ext cx="2019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0960" y="2849400"/>
            <a:ext cx="0" cy="640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35200" y="3489480"/>
            <a:ext cx="0" cy="54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94080" y="348948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5200" y="3946680"/>
            <a:ext cx="758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0880" y="3951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9360" y="2849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71800" y="2941560"/>
            <a:ext cx="0" cy="365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071800" y="3671640"/>
            <a:ext cx="0" cy="18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1828800"/>
            <a:ext cx="89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3640" y="1908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89000" y="1830240"/>
            <a:ext cx="588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7280" y="19098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(1+2b/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4880" y="297180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Cuando a=b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505320"/>
            <a:ext cx="968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960" y="3583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4960" y="3505320"/>
            <a:ext cx="817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ISEÑO A FATI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62840" y="1360440"/>
            <a:ext cx="62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Límite de Indurancia de los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38080" y="1893960"/>
            <a:ext cx="41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Aceros y Hierro forj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2427120"/>
            <a:ext cx="22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0.5 · 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1760" y="2386080"/>
            <a:ext cx="261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14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60504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Aceros y Hierro fundi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03880" y="4408560"/>
            <a:ext cx="247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0.45 · 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75080" y="4367160"/>
            <a:ext cx="241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6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79840" y="2995560"/>
            <a:ext cx="247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7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67960" y="2954160"/>
            <a:ext cx="251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&gt;14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27560" y="4976640"/>
            <a:ext cx="247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275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14960" y="4935600"/>
            <a:ext cx="231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&gt;6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4120" y="533520"/>
            <a:ext cx="83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Límite de Indurancia de los Elementos de Má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60020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 S`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48360" y="2971800"/>
            <a:ext cx="4395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ermina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Concentración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Efectos 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85280" y="533520"/>
            <a:ext cx="58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erminación Superficial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1000" y="2133720"/>
            <a:ext cx="8428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Rangos de rugosidad (terminación superficial) por tip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de proceso de manufa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actores experimentales en función de la rugosida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y de la resistencia a la tracción del material para cad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tipo de proceso de manufa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99320" y="533520"/>
            <a:ext cx="348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amaño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828800"/>
            <a:ext cx="5958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lexión y torsión secciones circula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Kb en función del diámetro 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819520"/>
            <a:ext cx="691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lexión y torsión secciones no circula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rectangular (en función de a,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canal (en función de a,b,t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doble T (en función de a,b,t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707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15:08:28Z</dcterms:created>
  <dc:creator>ROBERTO CORVALAN PAIVA</dc:creator>
  <dc:description/>
  <dc:language>en-US</dc:language>
  <cp:lastModifiedBy>Roberto Corvalán Paiva</cp:lastModifiedBy>
  <dcterms:modified xsi:type="dcterms:W3CDTF">2002-08-13T11:40:55Z</dcterms:modified>
  <cp:revision>37</cp:revision>
  <dc:subject/>
  <dc:title>Sin título de diapositiva</dc:title>
</cp:coreProperties>
</file>