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DB1-53D6-4453-856F-53B3B76D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932F-8697-4E70-B0A9-ECEEA8F8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A731-44CC-426F-BD2B-FB921EDF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4B8E-671C-4C8D-84BB-9B0B3326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B280-1CFE-4CDB-B3E1-419FF8EC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40F-4898-49D7-BABE-DC906A7F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E5C-FE9B-4925-A38A-DD1312AD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86EF-8BB2-4473-A2D1-11908A5D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8D30-FD4E-46B1-AAA8-43527E01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9B9-BE4E-488C-951B-B371B403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0BA8-9860-46B1-81EB-1D4C2683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D9C-801E-4FA7-9910-8DA6158F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7AA8-611E-466A-ACCE-337E2CA0B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360" y="2819520"/>
            <a:ext cx="684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ODAMIENTOS, COJINET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SLIZAMIENTO Y LUBRIC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57400" y="228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rga Estática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1905120"/>
            <a:ext cx="350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X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Y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3048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pacidad de Carga Estática Neces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267080"/>
            <a:ext cx="3504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36200" y="5181480"/>
            <a:ext cx="40410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0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actor de seguridad est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95280" y="5335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ímite de veloc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553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4921200" cy="63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95280" y="5335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lección de roda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1600" y="176040"/>
            <a:ext cx="819936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32360" y="2819520"/>
            <a:ext cx="684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JINET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SLIZAMIENTO Y LUBRIC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743200" y="533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1600200"/>
            <a:ext cx="312408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905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19810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057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1337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22096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22860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23623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24382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25146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5909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6668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27432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28195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28954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9718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3048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31240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3200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32767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3200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31240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3048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29718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28954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28195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27432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26668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25909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5146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24382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23623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1905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19810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2057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21337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22096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22860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352680"/>
            <a:ext cx="373392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175248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9051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352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9051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666880"/>
            <a:ext cx="31240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2666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144792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2666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8480" y="28195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6000" y="2590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63600" y="236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3760" y="1143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" y="13716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3080" y="108756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987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7680" y="13716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1368360"/>
            <a:ext cx="2286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27000" y="108756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86600" y="987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87680" y="13716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2920" y="1368360"/>
            <a:ext cx="2286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46960" y="180180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Pa s) =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47600" y="25225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(reyn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05720" y="2408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 (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7880" y="279252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6.89 · 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81680" y="2789280"/>
            <a:ext cx="9907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68120" y="3381480"/>
            <a:ext cx="55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33256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080" y="340848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0.22 · t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3325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40320" y="3706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3703680"/>
            <a:ext cx="3812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332568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58120" y="4108320"/>
            <a:ext cx="2227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(m</a:t>
            </a:r>
            <a:r>
              <a:rPr b="0" lang="es-CL" sz="1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/s)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= 10</a:t>
            </a:r>
            <a:r>
              <a:rPr b="0" lang="es-CL" sz="1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Z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(c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40480" y="4718160"/>
            <a:ext cx="5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71816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0400" y="480060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0.22 · t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47181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16640" y="50990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095800"/>
            <a:ext cx="3808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2400" y="471816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57720" y="48290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CL" sz="1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40840" y="563256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3080" y="56386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5320" y="572148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0.22 · t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67480" y="56386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560" y="6019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6016680"/>
            <a:ext cx="3808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77320" y="5638680"/>
            <a:ext cx="75960" cy="685800"/>
          </a:xfrm>
          <a:custGeom>
            <a:avLst/>
            <a:gdLst>
              <a:gd name="textAreaLeft" fmla="*/ 0 w 75960"/>
              <a:gd name="textAreaRight" fmla="*/ 53280 w 7596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62280" y="57499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CL" sz="1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920" y="3927600"/>
            <a:ext cx="401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de corte en 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u/dy : gradiente de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        : Viscosidad absoluta en (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k        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: Viscosidad absoluta en (c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cinemática (m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ensidad (kg/m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        : Segundos Saybo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00400" y="380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Ley de Pet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3040" y="12654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21320" y="1295280"/>
            <a:ext cx="5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121608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7800" y="1600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1596960"/>
            <a:ext cx="2462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143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·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· r ·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·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2400" y="16002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1596960"/>
            <a:ext cx="160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8680" y="1401840"/>
            <a:ext cx="4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0" y="2235240"/>
            <a:ext cx="18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·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) 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2082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r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0800" y="254016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2536920"/>
            <a:ext cx="1295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6880" y="2158920"/>
            <a:ext cx="152640" cy="762120"/>
          </a:xfrm>
          <a:custGeom>
            <a:avLst/>
            <a:gdLst>
              <a:gd name="textAreaLeft" fmla="*/ 44640 w 152640"/>
              <a:gd name="textAreaRight" fmla="*/ 153000 w 15264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91120" y="2082960"/>
            <a:ext cx="152280" cy="838080"/>
          </a:xfrm>
          <a:custGeom>
            <a:avLst/>
            <a:gdLst>
              <a:gd name="textAreaLeft" fmla="*/ 0 w 152280"/>
              <a:gd name="textAreaRight" fmla="*/ 106920 w 15228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2680" y="2286000"/>
            <a:ext cx="16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2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r l) 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2057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54880" y="25146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2511360"/>
            <a:ext cx="160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7400" y="31510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f W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32004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r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f l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20200" y="317484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2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055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9240" y="342900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3425760"/>
            <a:ext cx="8380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63920" y="3809880"/>
            <a:ext cx="4707000" cy="30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de corte en 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U       : velocidad perifé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        : espesor de pel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: radio del 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     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elocidad del eje r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       : holgura ra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        : coeficiente de f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P      : carga por unidad de área proyec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743200" y="380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ubricación Hidrodiná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8480" y="1600200"/>
            <a:ext cx="3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1673280"/>
            <a:ext cx="1526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3760" y="1676520"/>
            <a:ext cx="3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1749600"/>
            <a:ext cx="15228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11320" y="12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126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8880" y="167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1722600"/>
            <a:ext cx="6858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1447920"/>
            <a:ext cx="76320" cy="635040"/>
          </a:xfrm>
          <a:custGeom>
            <a:avLst/>
            <a:gdLst>
              <a:gd name="textAreaLeft" fmla="*/ 22320 w 76320"/>
              <a:gd name="textAreaRight" fmla="*/ 76320 w 76320"/>
              <a:gd name="textAreaTop" fmla="*/ 26280 h 635040"/>
              <a:gd name="textAreaBottom" fmla="*/ 60876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14479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13716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137160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195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30080" y="3048120"/>
            <a:ext cx="3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3121200"/>
            <a:ext cx="15264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7640" y="2590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263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4840" y="3048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91120" y="3094200"/>
            <a:ext cx="6858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2819520"/>
            <a:ext cx="76320" cy="635040"/>
          </a:xfrm>
          <a:custGeom>
            <a:avLst/>
            <a:gdLst>
              <a:gd name="textAreaLeft" fmla="*/ 22320 w 76320"/>
              <a:gd name="textAreaRight" fmla="*/ 76320 w 76320"/>
              <a:gd name="textAreaTop" fmla="*/ 26280 h 635040"/>
              <a:gd name="textAreaBottom" fmla="*/ 60876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28195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3809880"/>
            <a:ext cx="579096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      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Número característico o de de Sommer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: radio del 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       : holgura ra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        : coeficiente de f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     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elocidad del eje r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P      : carga por unidad de área proyec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pesor mínimo de pelí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6868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752480" y="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sición del Espesor mínimo de pelí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15328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38120" y="2819520"/>
            <a:ext cx="32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OD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eficiente de f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447920" y="582480"/>
            <a:ext cx="716256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lujo de lubric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6095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522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80" y="28954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rc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968560"/>
            <a:ext cx="6858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esión máxima pelí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77240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09480" y="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teriales para cojinetes de desliz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22960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5345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50292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94240" y="10008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odamientos de Bo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8580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13160" y="1000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odamientos de Rod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4057560" cy="4724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85040" y="2895480"/>
            <a:ext cx="35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 cilín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: esféricos de empu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: cónicos de empu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: de agu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: cónicos ordi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: cónicos de contacto an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11400" y="100080"/>
            <a:ext cx="46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pacidad de carg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29528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1066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3960" y="1600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12193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121932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3440" y="990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251460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10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8360" y="2819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2819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24382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2438280"/>
            <a:ext cx="75960" cy="83844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1520" y="2133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9400" y="2819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60 ·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28195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18160" y="23623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42760" y="3484440"/>
            <a:ext cx="6435000" cy="28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: duración nominal en millones de revolu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0h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: duración nominal en horas de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capacidad de carga dinámica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carga dinámica equivalente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: exponente empírico (p=3 rodamientos de bola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=10/3 rodamientos de rodill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: velocidad constante de rotación,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21120" y="10008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raciones típ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5754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45400" y="10008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rga Dinámica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1905120"/>
            <a:ext cx="25146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X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Y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28320" y="3429000"/>
            <a:ext cx="445392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carga dinámica equivalente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factor ra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factor ax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carga radial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carga axial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8380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rgas Cons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345400" y="10008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rga Dinámica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8380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rgas Fluctu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3809880" cy="3743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4920" y="16002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s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1523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s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so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32160" y="1663560"/>
            <a:ext cx="6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1447920"/>
            <a:ext cx="434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...+ 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190512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5720" y="1995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14479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7920" y="1549440"/>
            <a:ext cx="5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9080" y="2441520"/>
            <a:ext cx="6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2209680"/>
            <a:ext cx="172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2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4880" y="2590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25909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8560" y="2411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7760" y="4572000"/>
            <a:ext cx="160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= f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(F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+ F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3-04-10T12:26:09Z</dcterms:modified>
  <cp:revision>151</cp:revision>
  <dc:subject/>
  <dc:title>Sin título de diapositiva</dc:title>
</cp:coreProperties>
</file>