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0C6-5781-474F-913E-9E5058AF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C6D-3FFE-4A00-8FCB-E3C6F9AB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1E1-BD92-430E-B240-E7DA5D50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F51-C5A8-4840-8BA5-C4BA38FC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B91-6CFE-4AD5-A96B-F5AEDB5A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E2B-6D82-4A76-A024-CE93775A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64CC-2F4A-45CD-8EAD-750E2F7A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510-87A8-4DFB-8134-F25B9EF5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BC2-16CD-4380-B042-9D2070C3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190-7FDC-4636-AA03-C71B67A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319-528D-4468-89BE-E62C7D07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32A-C178-44A7-9592-6EB5CBFF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DC13-F613-4D36-8187-4C03A772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99440" y="281952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1880" y="53352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requerido para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61360" y="3200400"/>
            <a:ext cx="167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0.2 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07320" y="2743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29600" y="990720"/>
            <a:ext cx="60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21320" y="1523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1523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7280" y="990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9880" y="152388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15238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1143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1143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86440" y="3124080"/>
            <a:ext cx="31888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0.2 ;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0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3276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9907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9907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36360" y="1289160"/>
            <a:ext cx="159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0.625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5000" y="1295280"/>
            <a:ext cx="113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991040" y="-190440"/>
            <a:ext cx="685800" cy="51814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2004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86600" y="3124080"/>
            <a:ext cx="141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= K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5880" y="4038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erza de pre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26640" y="48006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44640" y="44956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97760" y="51055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50292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9640" y="4876920"/>
            <a:ext cx="192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nP(1 -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0760" y="53352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de fatiga en pernos precarg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169560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68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52480" y="19810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64720" y="1398600"/>
            <a:ext cx="94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21320" y="174636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15177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19749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8440" y="198108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297180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896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8960" y="266688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4840" y="3041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2813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2702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91960" y="3276720"/>
            <a:ext cx="56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7600" y="327672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3276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7600" y="274320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1560" y="20574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9560" y="17524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02320" y="236232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228600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139760" y="419112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iterio de Falla (Goodman modificad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48006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76720" y="54039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84640" y="541008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5105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76440" y="5410080"/>
            <a:ext cx="42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05880" y="4800600"/>
            <a:ext cx="543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8720" y="518148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51240" y="53352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empaquetad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80880" y="1219320"/>
            <a:ext cx="5257800" cy="3047760"/>
            <a:chOff x="380880" y="1219320"/>
            <a:chExt cx="5257800" cy="3047760"/>
          </a:xfrm>
        </p:grpSpPr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388620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809880" y="1295280"/>
              <a:ext cx="1828800" cy="297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1219320"/>
              <a:ext cx="35816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200" y="3276720"/>
              <a:ext cx="358128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410080" y="1320840"/>
            <a:ext cx="19814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0080" y="2286000"/>
            <a:ext cx="1981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m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3581280"/>
            <a:ext cx="7238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 Area de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sión mínima de sellado en la empaqueta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actor de empaquetadura ( 2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: Presión bajo la cual se tiende a la separación d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itades de un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176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029200" y="609480"/>
            <a:ext cx="3581280" cy="29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6 hilos por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oble entrada (rosca d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iámtero mayor = 1 pul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0.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 = 1.25 pulg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00"/>
                </a:solidFill>
                <a:latin typeface="Times New Roman"/>
              </a:rPr>
              <a:t>F = 1500 lb por tor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1904760" cy="1652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0" y="4724280"/>
            <a:ext cx="21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95680" y="42670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4160" y="4495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4495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6960" y="5334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3341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n 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5880" y="426708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57913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d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449568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9167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52578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= 0.8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l = 0.333 pul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907280" y="16207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01000" y="13222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213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84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42920" y="1316160"/>
            <a:ext cx="15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65880" y="184932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849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05320" y="146844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468440"/>
            <a:ext cx="75960" cy="76212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3640" y="1627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77120" y="1265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93120" y="185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18558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2760" y="76212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contra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1640" y="3581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4440" y="335268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3060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19320" y="3879720"/>
            <a:ext cx="1676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74920" y="3303720"/>
            <a:ext cx="29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.33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0.08 ·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1120" y="383688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- 0.08 ·0.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8120" y="3505320"/>
            <a:ext cx="75960" cy="76176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50532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0" y="3581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4520" y="32004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92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8680" y="48769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T = 136 + 75 = 211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5268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29400" y="3782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78000" y="129528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  a favor de la carg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5008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4380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412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0968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86440" y="213372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09400" y="266688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2860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228924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31000" y="23922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24480" y="203040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40480" y="262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86400" y="2620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3040" y="403236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7280" y="365760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08 ·0.9167 - 0.3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96560" y="426708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9167 + 0.08 · 0.33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80988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38098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74000" y="3962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2680" y="263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5840" y="3733920"/>
            <a:ext cx="19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 0.916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0200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2609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4520" y="365760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00 ·0.08 ·1.25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92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29400" y="424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97240" y="5181480"/>
            <a:ext cx="45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= -24.4 + 75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50 lb · pul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0520" y="12952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iciencia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7280" y="188280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3080" y="158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5680" y="2209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72880" y="3330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54360" y="3032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500 · 0.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·2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0" y="472428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 = 37.7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487480" y="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238640" cy="28670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724360" y="404640"/>
            <a:ext cx="213552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0 – 36 k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= 5/8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’ = 18.4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30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= 12 M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l = 1.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79280" y="3716280"/>
                <a:ext cx="43927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π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d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508720" y="4149720"/>
                <a:ext cx="2735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2627280" y="0"/>
                <a:ext cx="3543480" cy="55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C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t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79640" y="5445000"/>
                <a:ext cx="47577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4859280" y="2637000"/>
            <a:ext cx="288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3880" y="1397160"/>
            <a:ext cx="3984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16360" y="549360"/>
                <a:ext cx="2519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1959120" y="1938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191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27640" y="19162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64000" y="19162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7672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40360" y="19162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8000" y="2492280"/>
            <a:ext cx="6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2728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2.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1964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8.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0360" y="24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0.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2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1.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9600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14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34936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191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348000" y="3284640"/>
                <a:ext cx="2664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340000" y="4005360"/>
                <a:ext cx="1584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148360" y="4005360"/>
                <a:ext cx="1834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rPr>
                        <m:lit/>
                        <m:nor/>
                      </m:rPr>
                      <m:t xml:space="preserve">kps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284720" y="4797360"/>
                <a:ext cx="3959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í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611280" y="5013360"/>
                <a:ext cx="2881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ki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3733560" cy="2398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51460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13372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36232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78360" y="1000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pos de Ro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6880" y="54072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merican 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Un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7760" y="54831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uad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41600" y="5562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rapezoi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Ac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463200" y="281952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M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105520" cy="5029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562720" y="2133720"/>
            <a:ext cx="358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) Carg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) Flexión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) Corte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) Falla por tracción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) Aplastamiento del rem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obre los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) Desgarre por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8800" y="30492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el remache por flexión (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3240" y="9144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685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960" y="12254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219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16600" y="101448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360" y="679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5000" y="1219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48320" y="1212840"/>
            <a:ext cx="609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1440" y="1676520"/>
            <a:ext cx="46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el remache (c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8160" y="239544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2560" y="212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9256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660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960" y="3200400"/>
            <a:ext cx="83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tracción en uno de los elementos de unión (d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8160" y="38862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6240" y="365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16240" y="426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418464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1520" y="480060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aplastamiento en el remache o elementos (e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96920" y="5554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5360" y="53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5360" y="593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7600" y="58532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45400" y="548640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t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136880" y="609480"/>
            <a:ext cx="52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as por desgarre de elementos (f y g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19810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09680" y="3276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3429000" y="17524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1752480"/>
            <a:ext cx="1219320" cy="25416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733920"/>
            <a:ext cx="1219320" cy="253800"/>
          </a:xfrm>
          <a:custGeom>
            <a:avLst/>
            <a:gdLst/>
            <a:ahLst/>
            <a:rect l="l" t="t" r="r" b="b"/>
            <a:pathLst>
              <a:path w="768" h="160">
                <a:moveTo>
                  <a:pt x="0" y="144"/>
                </a:moveTo>
                <a:cubicBezTo>
                  <a:pt x="28" y="144"/>
                  <a:pt x="56" y="144"/>
                  <a:pt x="96" y="144"/>
                </a:cubicBezTo>
                <a:cubicBezTo>
                  <a:pt x="136" y="144"/>
                  <a:pt x="200" y="160"/>
                  <a:pt x="240" y="144"/>
                </a:cubicBezTo>
                <a:cubicBezTo>
                  <a:pt x="280" y="128"/>
                  <a:pt x="296" y="64"/>
                  <a:pt x="336" y="48"/>
                </a:cubicBezTo>
                <a:cubicBezTo>
                  <a:pt x="376" y="32"/>
                  <a:pt x="432" y="48"/>
                  <a:pt x="480" y="48"/>
                </a:cubicBezTo>
                <a:cubicBezTo>
                  <a:pt x="528" y="48"/>
                  <a:pt x="576" y="56"/>
                  <a:pt x="624" y="48"/>
                </a:cubicBezTo>
                <a:cubicBezTo>
                  <a:pt x="672" y="40"/>
                  <a:pt x="744" y="8"/>
                  <a:pt x="76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28195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05320" y="3276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343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2819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3400" y="3962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728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57800" y="2743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&gt;1.5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666880"/>
            <a:ext cx="304920" cy="3049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41920" y="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NTROIDE DE GRUPOS DE PERNOS O REMACH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11430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00600" y="182880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6400" y="121932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6668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3124080"/>
            <a:ext cx="228600" cy="22860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685800"/>
            <a:ext cx="0" cy="3124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09680" y="380988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4640" y="22860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84640" y="762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99240" y="838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8880" y="1981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1836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2057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209680" y="2133720"/>
            <a:ext cx="2286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95680" y="2133720"/>
            <a:ext cx="0" cy="1676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06200" y="68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05120"/>
            <a:ext cx="3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448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680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28800" y="205740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962520"/>
            <a:ext cx="1522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14560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5008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1724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09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26880" y="4876920"/>
            <a:ext cx="105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513072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8520" y="5334120"/>
            <a:ext cx="8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9132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9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3277080" y="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06668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24080" y="1066680"/>
            <a:ext cx="1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23880" y="106668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1066680"/>
            <a:ext cx="1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3880" y="1523880"/>
            <a:ext cx="15242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066680"/>
            <a:ext cx="75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47920" y="1600200"/>
            <a:ext cx="45720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19520" y="13716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447920" y="251460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124080" y="251460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819520"/>
            <a:ext cx="457200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1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4267080"/>
            <a:ext cx="1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2502000"/>
            <a:ext cx="1676160" cy="10152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4495680"/>
            <a:ext cx="1676160" cy="101880"/>
          </a:xfrm>
          <a:custGeom>
            <a:avLst/>
            <a:gdLst/>
            <a:ahLst/>
            <a:rect l="l" t="t" r="r" b="b"/>
            <a:pathLst>
              <a:path w="1056" h="64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48"/>
                  <a:pt x="192" y="56"/>
                </a:cubicBezTo>
                <a:cubicBezTo>
                  <a:pt x="224" y="64"/>
                  <a:pt x="256" y="56"/>
                  <a:pt x="288" y="56"/>
                </a:cubicBezTo>
                <a:cubicBezTo>
                  <a:pt x="320" y="56"/>
                  <a:pt x="352" y="64"/>
                  <a:pt x="384" y="56"/>
                </a:cubicBezTo>
                <a:cubicBezTo>
                  <a:pt x="416" y="48"/>
                  <a:pt x="440" y="16"/>
                  <a:pt x="480" y="8"/>
                </a:cubicBezTo>
                <a:cubicBezTo>
                  <a:pt x="520" y="0"/>
                  <a:pt x="584" y="0"/>
                  <a:pt x="624" y="8"/>
                </a:cubicBezTo>
                <a:cubicBezTo>
                  <a:pt x="664" y="16"/>
                  <a:pt x="680" y="48"/>
                  <a:pt x="720" y="56"/>
                </a:cubicBezTo>
                <a:cubicBezTo>
                  <a:pt x="760" y="64"/>
                  <a:pt x="824" y="64"/>
                  <a:pt x="864" y="56"/>
                </a:cubicBezTo>
                <a:cubicBezTo>
                  <a:pt x="904" y="48"/>
                  <a:pt x="928" y="16"/>
                  <a:pt x="960" y="8"/>
                </a:cubicBezTo>
                <a:cubicBezTo>
                  <a:pt x="992" y="0"/>
                  <a:pt x="1024" y="4"/>
                  <a:pt x="1056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819520" y="2743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76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3886200"/>
            <a:ext cx="1440" cy="5335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04812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038480"/>
            <a:ext cx="76212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2320" y="304812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2320" y="4038480"/>
            <a:ext cx="761760" cy="180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9625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43200" y="297180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19920" y="198108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447920" y="60948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3124080" y="6094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762120"/>
            <a:ext cx="167616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09680" y="1981080"/>
            <a:ext cx="1800" cy="32004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3581280"/>
            <a:ext cx="5715000" cy="18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1600200"/>
            <a:ext cx="30492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1752480"/>
            <a:ext cx="30492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1219320"/>
            <a:ext cx="144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514600" y="1599840"/>
            <a:ext cx="144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295280"/>
            <a:ext cx="180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324480" y="1752120"/>
            <a:ext cx="18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95880" y="2819520"/>
            <a:ext cx="1143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4267080"/>
            <a:ext cx="106704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2819520"/>
            <a:ext cx="1440" cy="1447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3048120"/>
            <a:ext cx="60948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00400" y="4038480"/>
            <a:ext cx="60948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3048120"/>
            <a:ext cx="1800" cy="5331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81280" y="358128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676520" y="464832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819520" y="4572000"/>
            <a:ext cx="144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952880"/>
            <a:ext cx="53316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952880"/>
            <a:ext cx="609840" cy="1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019920" y="609480"/>
            <a:ext cx="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762120"/>
            <a:ext cx="2895840" cy="14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58840" y="457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862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5428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6376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16074000">
            <a:off x="3255840" y="360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rot="16074000">
            <a:off x="3255840" y="3145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16074000">
            <a:off x="599904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16074000">
            <a:off x="6246360" y="3127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074000">
            <a:off x="2188800" y="116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20640" y="20574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F=16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-2880" y="5257800"/>
            <a:ext cx="312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373400" y="61088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0592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7400" y="6324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1880" y="525780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209680" y="3047760"/>
            <a:ext cx="60984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16160" y="2971800"/>
            <a:ext cx="33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1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566424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619776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6360" y="6197760"/>
            <a:ext cx="13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··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63120" y="5892840"/>
            <a:ext cx="97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29560" y="5867280"/>
            <a:ext cx="319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F``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·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67832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3400" y="3048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20960" y="2971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3657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2209680"/>
            <a:ext cx="381024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5360" y="1905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4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24080" y="4572000"/>
            <a:ext cx="180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123720" y="49528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64832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 flipV="1">
            <a:off x="457200" y="914040"/>
            <a:ext cx="4495680" cy="441972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85800" y="1371600"/>
            <a:ext cx="3886200" cy="3886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97080" y="1676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905120"/>
            <a:ext cx="1800" cy="53316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1337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272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256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05320" y="4191120"/>
            <a:ext cx="152280" cy="152280"/>
          </a:xfrm>
          <a:prstGeom prst="flowChar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2720" y="3886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2096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3880" y="42670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3434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523880" y="1523520"/>
            <a:ext cx="68580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22096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895120" y="4267080"/>
            <a:ext cx="68580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4040" y="365724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523880" y="16765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4648320"/>
            <a:ext cx="91440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2590920"/>
            <a:ext cx="60984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3809880"/>
            <a:ext cx="76176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1295280"/>
            <a:ext cx="0" cy="838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5480" y="48006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91120" y="259092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14400" y="3429000"/>
            <a:ext cx="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523880" y="1828800"/>
            <a:ext cx="6858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581280" y="2209680"/>
            <a:ext cx="60984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895120" y="4267080"/>
            <a:ext cx="68580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914040" y="3962520"/>
            <a:ext cx="60948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90920" y="609480"/>
            <a:ext cx="0" cy="50292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4103000">
            <a:off x="2215080" y="300240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3920" y="2971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11480" y="36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4267080"/>
            <a:ext cx="61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24480" y="205740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80800" y="213372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90280" y="42670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2200" y="327672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86240" y="1143000"/>
            <a:ext cx="68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71520" y="22096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2200" y="4267080"/>
            <a:ext cx="67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`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960" y="380988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44160" y="1828800"/>
            <a:ext cx="4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24160" y="304812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904840" y="5257800"/>
            <a:ext cx="47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87320" y="33526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91520" y="2362320"/>
            <a:ext cx="41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81160" y="259092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57480" y="3429000"/>
            <a:ext cx="40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CL" sz="24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24800" y="130824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10240" y="990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61024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0880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38840" y="1219320"/>
            <a:ext cx="6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48320" y="99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00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46880" y="1523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753240" y="1219320"/>
            <a:ext cx="12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13760" y="380880"/>
            <a:ext cx="45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 cortante primaria por perno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2520" y="2209680"/>
            <a:ext cx="39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rgas cortantes secundar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12440" y="2819520"/>
            <a:ext cx="99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13520" y="2819520"/>
            <a:ext cx="102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180200" y="2819520"/>
            <a:ext cx="10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094600" y="2819520"/>
            <a:ext cx="104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3657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V ·R = 16 · 425 = 6800 N·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79132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7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96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172200" y="4267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1336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187240" y="4267080"/>
            <a:ext cx="6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5002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6272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9800" y="5486400"/>
            <a:ext cx="6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 ·r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6080" y="523080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``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477120" y="507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29400" y="5535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7000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 ·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73280" y="533088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93320" y="52815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17.7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1160" y="6095880"/>
            <a:ext cx="81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9588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1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00600" y="6095880"/>
            <a:ext cx="85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609588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3.8 k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6019920"/>
            <a:ext cx="2514600" cy="838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753920" y="14050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66868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68680" y="1752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9092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120" y="457200"/>
            <a:ext cx="55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máximo en pernos A y B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5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00320" y="1143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8412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1676520"/>
            <a:ext cx="121932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79680" y="259092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aplastamiento (en viga canal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01280" y="3386160"/>
            <a:ext cx="8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1604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1604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365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7360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5360" y="113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36200" y="17524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57600" y="16700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68880" y="14479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00320" y="312408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1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6920" y="3740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3657600"/>
            <a:ext cx="12193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5360" y="3117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97480" y="37339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68880" y="34290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94840" y="449568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rítico por flexión en la barra (sección que pasa por A y B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40" y="525780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724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6160" y="5568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5562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7840" y="51055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F ·(300+50) = 5600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85520" y="5715000"/>
            <a:ext cx="326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rr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- 2(I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gujeros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5029200"/>
            <a:ext cx="1522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1000" y="6248520"/>
            <a:ext cx="1522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01000" y="5562720"/>
            <a:ext cx="15228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00100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15328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229600" y="5029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29600" y="6629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7240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152920" y="5867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991720" y="5029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16074000">
            <a:off x="8608680" y="5641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5486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7696080" y="61718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238880" y="6400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609588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662840" y="6302520"/>
            <a:ext cx="56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I = (15 ·20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 - 2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(15 ·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)/12+ 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15 ·d)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512160" y="28195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V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219320" y="990720"/>
            <a:ext cx="1218960" cy="1143000"/>
          </a:xfrm>
          <a:prstGeom prst="donut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752480" y="1219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8800" y="1522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5238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76920" y="1143000"/>
            <a:ext cx="2361960" cy="2362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5000" y="762120"/>
            <a:ext cx="60948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990720"/>
            <a:ext cx="129564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419720" y="1295280"/>
            <a:ext cx="1295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4480" y="2286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380880"/>
            <a:ext cx="6094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95680" y="2286000"/>
            <a:ext cx="312444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19920" y="609480"/>
            <a:ext cx="0" cy="342900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105520" y="2286000"/>
            <a:ext cx="914400" cy="762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00600" y="91440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34320" y="5335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67280" y="0"/>
            <a:ext cx="4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257800" y="2362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4640" y="342900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de cor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396252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95280" y="4565520"/>
            <a:ext cx="4572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708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52480" y="4267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82360" y="46483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45360" y="3968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99160" y="5257800"/>
            <a:ext cx="69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cuación de diseño, esfuerzo normal de aplastamien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371600" y="57150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447920" y="6318360"/>
            <a:ext cx="45720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4972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051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834280" y="64008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·l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97640" y="57214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61560" y="100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rnillos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059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866560" y="1911240"/>
            <a:ext cx="2590920" cy="76212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45404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086600" y="1987560"/>
            <a:ext cx="9907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2924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86240" y="229212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26733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05424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8040" y="13017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21360" y="1835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40680" y="2597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1606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3684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4400" y="304812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866560" y="4807080"/>
            <a:ext cx="2590920" cy="761760"/>
          </a:xfrm>
          <a:prstGeom prst="rtTriangl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4988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86240" y="5181480"/>
            <a:ext cx="1066680" cy="6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172200" y="5181120"/>
            <a:ext cx="914400" cy="29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7086240" y="518760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556884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95008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8040" y="419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876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40680" y="549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5308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4400" y="59436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42200" y="809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9200" y="373392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0040" y="6095880"/>
            <a:ext cx="154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58200" y="1905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1905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75360" y="20574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7072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5562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7880" y="4952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760" y="60948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CUAD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2022480" y="2819520"/>
            <a:ext cx="54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ONES DE SOLDAD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094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9480" y="18288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5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5760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981080" y="457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5934800">
            <a:off x="1746000" y="31068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3708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81080" y="1219320"/>
            <a:ext cx="22860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1294920" y="2057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00200" y="2057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5313000">
            <a:off x="1980720" y="19810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48520" y="18288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77320" y="144792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48520" y="144792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67080" y="10666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670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1066680"/>
            <a:ext cx="88920" cy="38124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52" y="16"/>
                  <a:pt x="56" y="32"/>
                  <a:pt x="48" y="48"/>
                </a:cubicBezTo>
                <a:cubicBezTo>
                  <a:pt x="40" y="64"/>
                  <a:pt x="0" y="88"/>
                  <a:pt x="0" y="96"/>
                </a:cubicBezTo>
                <a:cubicBezTo>
                  <a:pt x="0" y="104"/>
                  <a:pt x="40" y="88"/>
                  <a:pt x="48" y="96"/>
                </a:cubicBezTo>
                <a:cubicBezTo>
                  <a:pt x="56" y="104"/>
                  <a:pt x="48" y="128"/>
                  <a:pt x="48" y="144"/>
                </a:cubicBezTo>
                <a:cubicBezTo>
                  <a:pt x="48" y="160"/>
                  <a:pt x="48" y="176"/>
                  <a:pt x="48" y="192"/>
                </a:cubicBezTo>
                <a:cubicBezTo>
                  <a:pt x="48" y="208"/>
                  <a:pt x="48" y="232"/>
                  <a:pt x="48" y="2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29400" y="106668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29400" y="1066680"/>
            <a:ext cx="457200" cy="381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5791320" y="1447920"/>
            <a:ext cx="457200" cy="3808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6095520" y="21337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477120" y="190512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934320" y="2133000"/>
            <a:ext cx="304560" cy="22860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5181840" cy="32576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6249960" y="335268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64360" y="3084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02800" y="365760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·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086600" y="3618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15000" cy="328464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351080" y="4448160"/>
            <a:ext cx="1966680" cy="2028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93800" y="3773520"/>
            <a:ext cx="0" cy="3084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8080" y="5508720"/>
            <a:ext cx="367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0600" y="5411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66840" y="358128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4544640"/>
            <a:ext cx="1128600" cy="177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206800" y="444816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05120" y="4545000"/>
            <a:ext cx="0" cy="106056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93800" y="444816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3962520"/>
            <a:ext cx="83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832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360" y="5410080"/>
            <a:ext cx="45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05120" y="4545000"/>
            <a:ext cx="1539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06800" y="550872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805120" y="5605560"/>
            <a:ext cx="0" cy="577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93800" y="5991120"/>
            <a:ext cx="5130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06800" y="5991120"/>
            <a:ext cx="5983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3920" y="5991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7160" y="6280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92480" y="637524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781280" y="589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694160" y="618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79480" y="628020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32200" y="4545000"/>
            <a:ext cx="0" cy="9637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34000" y="45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833280" y="4834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32200" y="4930920"/>
            <a:ext cx="34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3160" y="121932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h ·l ·cos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018120" y="5335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rea de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37000" y="25146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en x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08720" y="3124080"/>
            <a:ext cx="7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6436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64360" y="3429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162920" y="34290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468200" y="32004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155080" y="297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909920" y="34290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0.707 ·h ·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00100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279840" y="1905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·h ·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14880" y="4038480"/>
            <a:ext cx="90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908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24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43600" y="43434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4000" y="411480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388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62920" y="4419720"/>
            <a:ext cx="533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4000" y="4419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07000" y="4419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0592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307360" y="396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324480" y="3886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10280" y="3962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411480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763120" y="4114800"/>
            <a:ext cx="75960" cy="609480"/>
          </a:xfrm>
          <a:custGeom>
            <a:avLst/>
            <a:gdLst>
              <a:gd name="textAreaLeft" fmla="*/ 0 w 75960"/>
              <a:gd name="textAreaRight" fmla="*/ 5328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815328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7086600" y="411480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7348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83404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267160" y="5029200"/>
            <a:ext cx="1663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1.6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35760" y="4876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9080" y="5410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010280" y="5334120"/>
            <a:ext cx="389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81480" y="5959440"/>
            <a:ext cx="11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578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81480" y="6324480"/>
            <a:ext cx="5335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182560" y="6400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6019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2556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32448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6280" y="5867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5851440"/>
            <a:ext cx="73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5867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1500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81680" y="6019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172200" y="6019920"/>
            <a:ext cx="76320" cy="609480"/>
          </a:xfrm>
          <a:custGeom>
            <a:avLst/>
            <a:gdLst>
              <a:gd name="textAreaLeft" fmla="*/ 360 w 76320"/>
              <a:gd name="textAreaRight" fmla="*/ 5400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5104800" y="6019920"/>
            <a:ext cx="75960" cy="609480"/>
          </a:xfrm>
          <a:custGeom>
            <a:avLst/>
            <a:gdLst>
              <a:gd name="textAreaLeft" fmla="*/ -360 w 75960"/>
              <a:gd name="textAreaRight" fmla="*/ 529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24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2600" y="58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936120" y="60199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1.11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230680" y="6400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229600" y="640080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3104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1294200" y="304920"/>
            <a:ext cx="38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ex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120" y="2133720"/>
            <a:ext cx="259056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4920" y="1219320"/>
            <a:ext cx="457200" cy="289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-76320" y="2438280"/>
            <a:ext cx="48769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2120" y="1676520"/>
            <a:ext cx="30456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6680" y="1676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1523880" y="1675800"/>
            <a:ext cx="15264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523880" y="1523880"/>
            <a:ext cx="15264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2120" y="609480"/>
            <a:ext cx="0" cy="39625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67080" y="2057400"/>
            <a:ext cx="38124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72200" y="25909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72200" y="1905120"/>
            <a:ext cx="3808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26708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24280" y="20574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2428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52880" y="2057400"/>
            <a:ext cx="0" cy="6094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64832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7220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55308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15000" y="17524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29400" y="2666880"/>
            <a:ext cx="10666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29400" y="25909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0" y="19810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29400" y="19051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198108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91520" y="16002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91520" y="23623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15238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373760" y="36990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78880" y="121932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2680" y="38088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83080" y="22860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68520" y="1422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16200000">
            <a:off x="4577760" y="21398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34800">
            <a:off x="6965280" y="2637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867280" y="228600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00800" y="1295280"/>
            <a:ext cx="0" cy="190512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7680" y="990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6440" y="21337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34800">
            <a:off x="7041240" y="141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7391520" y="2666520"/>
            <a:ext cx="0" cy="381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7391520" y="198072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16200000">
            <a:off x="6508440" y="2027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9760" y="3048120"/>
            <a:ext cx="35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0" y="533412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6320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9520" y="571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38080" y="563868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5160" y="3505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884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3962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35053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 : fuerza de c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 : área total de garga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30640" y="46483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de flex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7852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81800" y="5181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 d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31440" y="57150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.707 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676520" y="56386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7440" y="54100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8272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.41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888000" y="5715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 d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657600" y="5638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02640" y="42670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unitario de inerc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29280" y="4732200"/>
            <a:ext cx="7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37320" y="4572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70752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0" y="5029200"/>
            <a:ext cx="3142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02280" y="548640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ento de inercia gargan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249960" y="595152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0.7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475760" y="5791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545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20120" y="6248520"/>
            <a:ext cx="31428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294200" y="30492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rsión en uniones sold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990720" y="838080"/>
            <a:ext cx="7339680" cy="4584240"/>
            <a:chOff x="990720" y="838080"/>
            <a:chExt cx="7339680" cy="4584240"/>
          </a:xfrm>
        </p:grpSpPr>
        <p:sp>
          <p:nvSpPr>
            <p:cNvPr id="1032" name=""/>
            <p:cNvSpPr/>
            <p:nvPr/>
          </p:nvSpPr>
          <p:spPr>
            <a:xfrm>
              <a:off x="1562040" y="1917720"/>
              <a:ext cx="5144400" cy="159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7080" y="855360"/>
              <a:ext cx="0" cy="106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367080" y="3511080"/>
              <a:ext cx="0" cy="127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0720" y="838080"/>
              <a:ext cx="2376360" cy="3965040"/>
            </a:xfrm>
            <a:custGeom>
              <a:avLst/>
              <a:gdLst/>
              <a:ahLst/>
              <a:rect l="l" t="t" r="r" b="b"/>
              <a:pathLst>
                <a:path w="1264" h="1792">
                  <a:moveTo>
                    <a:pt x="1264" y="8"/>
                  </a:moveTo>
                  <a:cubicBezTo>
                    <a:pt x="1216" y="4"/>
                    <a:pt x="1168" y="0"/>
                    <a:pt x="1120" y="8"/>
                  </a:cubicBezTo>
                  <a:cubicBezTo>
                    <a:pt x="1072" y="16"/>
                    <a:pt x="1008" y="32"/>
                    <a:pt x="976" y="56"/>
                  </a:cubicBezTo>
                  <a:cubicBezTo>
                    <a:pt x="944" y="80"/>
                    <a:pt x="952" y="136"/>
                    <a:pt x="928" y="152"/>
                  </a:cubicBezTo>
                  <a:cubicBezTo>
                    <a:pt x="904" y="168"/>
                    <a:pt x="864" y="152"/>
                    <a:pt x="832" y="152"/>
                  </a:cubicBezTo>
                  <a:cubicBezTo>
                    <a:pt x="800" y="152"/>
                    <a:pt x="776" y="152"/>
                    <a:pt x="736" y="152"/>
                  </a:cubicBezTo>
                  <a:cubicBezTo>
                    <a:pt x="696" y="152"/>
                    <a:pt x="648" y="168"/>
                    <a:pt x="592" y="152"/>
                  </a:cubicBezTo>
                  <a:cubicBezTo>
                    <a:pt x="536" y="136"/>
                    <a:pt x="464" y="64"/>
                    <a:pt x="400" y="56"/>
                  </a:cubicBezTo>
                  <a:cubicBezTo>
                    <a:pt x="336" y="48"/>
                    <a:pt x="256" y="56"/>
                    <a:pt x="208" y="104"/>
                  </a:cubicBezTo>
                  <a:cubicBezTo>
                    <a:pt x="160" y="152"/>
                    <a:pt x="136" y="264"/>
                    <a:pt x="112" y="344"/>
                  </a:cubicBezTo>
                  <a:cubicBezTo>
                    <a:pt x="88" y="424"/>
                    <a:pt x="72" y="520"/>
                    <a:pt x="64" y="584"/>
                  </a:cubicBezTo>
                  <a:cubicBezTo>
                    <a:pt x="56" y="648"/>
                    <a:pt x="56" y="680"/>
                    <a:pt x="64" y="728"/>
                  </a:cubicBezTo>
                  <a:cubicBezTo>
                    <a:pt x="72" y="776"/>
                    <a:pt x="112" y="824"/>
                    <a:pt x="112" y="872"/>
                  </a:cubicBezTo>
                  <a:cubicBezTo>
                    <a:pt x="112" y="920"/>
                    <a:pt x="72" y="976"/>
                    <a:pt x="64" y="1016"/>
                  </a:cubicBezTo>
                  <a:cubicBezTo>
                    <a:pt x="56" y="1056"/>
                    <a:pt x="72" y="1064"/>
                    <a:pt x="64" y="1112"/>
                  </a:cubicBezTo>
                  <a:cubicBezTo>
                    <a:pt x="56" y="1160"/>
                    <a:pt x="24" y="1248"/>
                    <a:pt x="16" y="1304"/>
                  </a:cubicBezTo>
                  <a:cubicBezTo>
                    <a:pt x="8" y="1360"/>
                    <a:pt x="0" y="1416"/>
                    <a:pt x="16" y="1448"/>
                  </a:cubicBezTo>
                  <a:cubicBezTo>
                    <a:pt x="32" y="1480"/>
                    <a:pt x="72" y="1464"/>
                    <a:pt x="112" y="1496"/>
                  </a:cubicBezTo>
                  <a:cubicBezTo>
                    <a:pt x="152" y="1528"/>
                    <a:pt x="216" y="1616"/>
                    <a:pt x="256" y="1640"/>
                  </a:cubicBezTo>
                  <a:cubicBezTo>
                    <a:pt x="296" y="1664"/>
                    <a:pt x="296" y="1640"/>
                    <a:pt x="352" y="1640"/>
                  </a:cubicBezTo>
                  <a:cubicBezTo>
                    <a:pt x="408" y="1640"/>
                    <a:pt x="528" y="1632"/>
                    <a:pt x="592" y="1640"/>
                  </a:cubicBezTo>
                  <a:cubicBezTo>
                    <a:pt x="656" y="1648"/>
                    <a:pt x="696" y="1672"/>
                    <a:pt x="736" y="1688"/>
                  </a:cubicBezTo>
                  <a:cubicBezTo>
                    <a:pt x="776" y="1704"/>
                    <a:pt x="792" y="1720"/>
                    <a:pt x="832" y="1736"/>
                  </a:cubicBezTo>
                  <a:cubicBezTo>
                    <a:pt x="872" y="1752"/>
                    <a:pt x="936" y="1776"/>
                    <a:pt x="976" y="1784"/>
                  </a:cubicBezTo>
                  <a:cubicBezTo>
                    <a:pt x="1016" y="1792"/>
                    <a:pt x="1032" y="1784"/>
                    <a:pt x="1072" y="1784"/>
                  </a:cubicBezTo>
                  <a:cubicBezTo>
                    <a:pt x="1112" y="1784"/>
                    <a:pt x="1184" y="1784"/>
                    <a:pt x="1216" y="17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62040" y="351108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06440" y="961920"/>
              <a:ext cx="0" cy="95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20240" y="2661480"/>
              <a:ext cx="7310160" cy="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64560" y="855360"/>
              <a:ext cx="0" cy="4566960"/>
            </a:xfrm>
            <a:prstGeom prst="line">
              <a:avLst/>
            </a:prstGeom>
            <a:ln w="9360">
              <a:solidFill>
                <a:srgbClr val="ff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67080" y="1811520"/>
              <a:ext cx="0" cy="531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367080" y="1811520"/>
              <a:ext cx="631440" cy="849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98880" y="2661480"/>
              <a:ext cx="0" cy="5306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67080" y="2342880"/>
              <a:ext cx="0" cy="1167840"/>
            </a:xfrm>
            <a:prstGeom prst="line">
              <a:avLst/>
            </a:prstGeom>
            <a:ln w="93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67080" y="1811520"/>
              <a:ext cx="631440" cy="1380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67080" y="2342880"/>
              <a:ext cx="631440" cy="84924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3840" y="2554920"/>
              <a:ext cx="35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44920" y="1811520"/>
              <a:ext cx="35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3480" y="2024280"/>
              <a:ext cx="63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06440" y="961920"/>
              <a:ext cx="5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08880" y="287352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5640" y="191772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08880" y="2024280"/>
              <a:ext cx="81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``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464560" y="1811160"/>
              <a:ext cx="90252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62040" y="1705320"/>
              <a:ext cx="1805040" cy="212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464560" y="1811160"/>
              <a:ext cx="0" cy="849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74200" y="1811520"/>
              <a:ext cx="18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46456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76720" y="1811520"/>
              <a:ext cx="18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367080" y="1705320"/>
              <a:ext cx="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03480" y="1280520"/>
              <a:ext cx="5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0`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963600" y="3886200"/>
            <a:ext cx="9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878360" y="3733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7836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0060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416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468920" y="37339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468920" y="4191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72880" y="4932360"/>
            <a:ext cx="486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 área de garganta de todas las soldad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 : 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 : momento polar de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300400" y="-46080"/>
            <a:ext cx="516708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" descr=""/>
          <p:cNvPicPr/>
          <p:nvPr/>
        </p:nvPicPr>
        <p:blipFill>
          <a:blip r:embed="rId1"/>
          <a:stretch/>
        </p:blipFill>
        <p:spPr>
          <a:xfrm>
            <a:off x="1676520" y="-22320"/>
            <a:ext cx="5427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296000" y="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2120" y="1523880"/>
            <a:ext cx="19047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94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1371600"/>
            <a:ext cx="15264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2120" y="274320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914400" y="28195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590920" y="342900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83808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28195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6176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9072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14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66688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62120" y="1219320"/>
            <a:ext cx="190476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819520" y="121932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52280" y="121932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962520" y="167652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812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52680" y="34290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05520" y="1523880"/>
            <a:ext cx="304560" cy="30492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76920" y="1371600"/>
            <a:ext cx="761760" cy="685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457164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38680" y="1676520"/>
            <a:ext cx="3049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43600" y="27432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4360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0" y="2743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505320" y="28195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438280" y="251460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981080" y="251460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2133000" y="251388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00800" y="1676520"/>
            <a:ext cx="0" cy="10666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008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5720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2743200"/>
            <a:ext cx="24156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743200"/>
            <a:ext cx="241200" cy="68580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144" y="0"/>
                </a:moveTo>
                <a:cubicBezTo>
                  <a:pt x="148" y="20"/>
                  <a:pt x="152" y="40"/>
                  <a:pt x="144" y="48"/>
                </a:cubicBezTo>
                <a:cubicBezTo>
                  <a:pt x="136" y="56"/>
                  <a:pt x="104" y="40"/>
                  <a:pt x="96" y="48"/>
                </a:cubicBezTo>
                <a:cubicBezTo>
                  <a:pt x="88" y="56"/>
                  <a:pt x="104" y="80"/>
                  <a:pt x="96" y="96"/>
                </a:cubicBezTo>
                <a:cubicBezTo>
                  <a:pt x="88" y="112"/>
                  <a:pt x="56" y="128"/>
                  <a:pt x="48" y="144"/>
                </a:cubicBezTo>
                <a:cubicBezTo>
                  <a:pt x="40" y="160"/>
                  <a:pt x="40" y="168"/>
                  <a:pt x="48" y="192"/>
                </a:cubicBezTo>
                <a:cubicBezTo>
                  <a:pt x="56" y="216"/>
                  <a:pt x="88" y="264"/>
                  <a:pt x="96" y="288"/>
                </a:cubicBezTo>
                <a:cubicBezTo>
                  <a:pt x="104" y="312"/>
                  <a:pt x="104" y="328"/>
                  <a:pt x="96" y="336"/>
                </a:cubicBezTo>
                <a:cubicBezTo>
                  <a:pt x="88" y="344"/>
                  <a:pt x="56" y="328"/>
                  <a:pt x="48" y="336"/>
                </a:cubicBezTo>
                <a:cubicBezTo>
                  <a:pt x="40" y="344"/>
                  <a:pt x="56" y="368"/>
                  <a:pt x="48" y="384"/>
                </a:cubicBezTo>
                <a:cubicBezTo>
                  <a:pt x="40" y="400"/>
                  <a:pt x="8" y="424"/>
                  <a:pt x="0" y="43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9880" y="167652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76920" y="1676520"/>
            <a:ext cx="75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1752480"/>
            <a:ext cx="152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1752480"/>
            <a:ext cx="228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105520" y="190512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1480" y="190512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562720" y="1676520"/>
            <a:ext cx="759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257800" y="609480"/>
            <a:ext cx="0" cy="2438640"/>
          </a:xfrm>
          <a:prstGeom prst="line">
            <a:avLst/>
          </a:prstGeom>
          <a:ln w="9360">
            <a:solidFill>
              <a:srgbClr val="ffff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732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525320" y="914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0040" y="914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210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54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300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4114800" y="3124080"/>
            <a:ext cx="4572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352680" y="37339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657600" y="3733200"/>
            <a:ext cx="152280" cy="15228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657600" y="3581280"/>
            <a:ext cx="152280" cy="152640"/>
          </a:xfrm>
          <a:prstGeom prst="rtTriangl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6200000">
            <a:off x="6018120" y="1984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30640" y="3505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735000" y="129528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5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60753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59240" y="5335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986760" y="426708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Ubicación del centroide del grupo de soldadur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2160" y="495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90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523880" y="5257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82160" y="53802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57400" y="5380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033880" y="498312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56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20800" y="518148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95680" y="5208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63320" y="54100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56+1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27432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915400" y="27432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915400" y="33526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543800" y="37339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00244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15200" y="27432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6200000">
            <a:off x="6989760" y="2917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162920" y="3429000"/>
            <a:ext cx="3045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107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14600" y="500544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2360" y="541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5386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34360" y="5181480"/>
            <a:ext cx="7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9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48520" y="52578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10.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523880" y="137160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238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895480" y="137160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895480" y="19810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523880" y="236232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982520" y="2057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295280" y="137160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142640" y="13716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142640" y="205740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16200000">
            <a:off x="893880" y="1470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09680" y="0"/>
            <a:ext cx="0" cy="31240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09480" y="1523880"/>
            <a:ext cx="35053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295280" y="2286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228600"/>
            <a:ext cx="17524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137160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00400" y="22860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3200400" y="15238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09880" y="228600"/>
            <a:ext cx="0" cy="12952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209680" y="2819520"/>
            <a:ext cx="68580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1676160" y="152388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363760" y="2514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287800" y="1676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8302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6360" y="22860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Times New Roman"/>
              </a:rPr>
              <a:t>25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7774800">
            <a:off x="1794960" y="112752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41520" y="622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rot="16200000">
            <a:off x="2788920" y="16315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6200000">
            <a:off x="2741760" y="536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75440" y="609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 = 25 ·110.4 N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50800" y="1270080"/>
            <a:ext cx="17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8b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6b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7480" y="14986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1644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05520" y="1746360"/>
            <a:ext cx="1676160" cy="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0" y="1523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1629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088400" y="1752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b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62920" y="1752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53720" y="2362320"/>
            <a:ext cx="35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8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6(56)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(190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201840" y="2590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592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629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6960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56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392960" y="2819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(56)+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2819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28195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60160" y="3429000"/>
            <a:ext cx="22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 = 1.6 · 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399840" y="3886200"/>
            <a:ext cx="53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A = 0.707 h(2b+d)=0.707 ·6 ·(2 ·56+1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657680" y="4495680"/>
            <a:ext cx="19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1280 m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419040" y="876240"/>
            <a:ext cx="1371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90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790640" y="87624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1066680"/>
            <a:ext cx="26668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066680" y="22860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14479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40" y="1447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95960" y="3973680"/>
            <a:ext cx="1625760" cy="14983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7086600" y="3965040"/>
            <a:ext cx="9360" cy="1506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095960" y="3973680"/>
            <a:ext cx="1625760" cy="14983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095960" y="5472000"/>
            <a:ext cx="843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95960" y="5472000"/>
            <a:ext cx="16257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661240" y="3660840"/>
            <a:ext cx="4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324480" y="380988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09160" y="547200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284240" y="54100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4440" y="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363400" y="990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25400" y="2491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cortante primar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38000" y="858960"/>
            <a:ext cx="83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268880" y="782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268880" y="1239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123984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72720" y="1011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028480" y="7826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05160" y="12398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05520" y="12398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869080" y="914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.5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4280" y="2133720"/>
            <a:ext cx="43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cortantes secundar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41800" y="274320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52240" y="266688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602000" y="3124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600200" y="312408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800" y="2895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388240" y="26668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438280" y="3124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438280" y="3124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040280" y="28195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7.1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373392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´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52240" y="365760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M r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200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00200" y="4114800"/>
            <a:ext cx="31752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81800" y="3886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387520" y="36576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760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·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3828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7.07 ·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38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040280" y="38098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7.8 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9800" y="47242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máxim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77960" y="5389560"/>
            <a:ext cx="61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MS LineDraw"/>
                <a:ea typeface="MS LineDraw"/>
              </a:rPr>
              <a:t>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37.1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+(19.5+17.8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235160" y="5465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543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73880" y="5334120"/>
            <a:ext cx="6501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24080" y="5486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35640" y="6019920"/>
            <a:ext cx="21405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= 52.6 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8400" y="228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subi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4800" y="1143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080" y="83808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040" y="1371600"/>
            <a:ext cx="20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4560" y="35812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 bajar la car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680" y="44197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320" y="411480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(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e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7840" y="11430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4840" y="83808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2360" y="1371600"/>
            <a:ext cx="196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9760" y="4114800"/>
            <a:ext cx="24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[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7280" y="4648320"/>
            <a:ext cx="20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 /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6483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2400" y="44197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7440" y="2438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91520" y="2139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26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720" y="2133720"/>
            <a:ext cx="160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6400" y="2666880"/>
            <a:ext cx="13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6668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2286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28600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6040" y="579132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0120" y="549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0080" y="602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6019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62760" y="5486400"/>
            <a:ext cx="150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-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85720" y="6019920"/>
            <a:ext cx="134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563868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7600" y="2286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utorreten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47760" y="1295280"/>
            <a:ext cx="14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1336680"/>
            <a:ext cx="144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tan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720" y="198108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0240" y="28954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23240" y="2597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272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685800"/>
            <a:ext cx="140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ajada </a:t>
            </a:r>
            <a:r>
              <a:rPr b="0" i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4880" y="2819520"/>
            <a:ext cx="79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2760" y="252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3048120"/>
            <a:ext cx="584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14680" y="2813040"/>
            <a:ext cx="193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T (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29718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6760" y="4473720"/>
            <a:ext cx="8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2560" y="41752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8006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8006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962520"/>
            <a:ext cx="281916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44197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7520" y="15228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SCA TRAPEZOIDAL O UNIF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354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181480" y="6094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343400" y="1066680"/>
            <a:ext cx="83808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4479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182880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205740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343400" y="2514600"/>
            <a:ext cx="838080" cy="38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276720"/>
            <a:ext cx="83808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20932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350532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2040" y="2441520"/>
            <a:ext cx="1218960" cy="21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9999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99999"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438280"/>
            <a:ext cx="330480" cy="1219320"/>
          </a:xfrm>
          <a:custGeom>
            <a:avLst/>
            <a:gdLst/>
            <a:ahLst/>
            <a:rect l="l" t="t" r="r" b="b"/>
            <a:pathLst>
              <a:path w="208" h="768">
                <a:moveTo>
                  <a:pt x="0" y="0"/>
                </a:moveTo>
                <a:cubicBezTo>
                  <a:pt x="32" y="20"/>
                  <a:pt x="64" y="40"/>
                  <a:pt x="96" y="96"/>
                </a:cubicBezTo>
                <a:cubicBezTo>
                  <a:pt x="128" y="152"/>
                  <a:pt x="176" y="264"/>
                  <a:pt x="192" y="336"/>
                </a:cubicBezTo>
                <a:cubicBezTo>
                  <a:pt x="208" y="408"/>
                  <a:pt x="200" y="456"/>
                  <a:pt x="192" y="528"/>
                </a:cubicBezTo>
                <a:cubicBezTo>
                  <a:pt x="184" y="600"/>
                  <a:pt x="152" y="728"/>
                  <a:pt x="144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9092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76212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48320" y="838080"/>
            <a:ext cx="4572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359000"/>
            <a:ext cx="228600" cy="88920"/>
          </a:xfrm>
          <a:custGeom>
            <a:avLst/>
            <a:gdLst/>
            <a:ahLst/>
            <a:rect l="l" t="t" r="r" b="b"/>
            <a:pathLst>
              <a:path w="144" h="56">
                <a:moveTo>
                  <a:pt x="0" y="8"/>
                </a:moveTo>
                <a:cubicBezTo>
                  <a:pt x="12" y="4"/>
                  <a:pt x="24" y="0"/>
                  <a:pt x="48" y="8"/>
                </a:cubicBezTo>
                <a:cubicBezTo>
                  <a:pt x="72" y="16"/>
                  <a:pt x="128" y="48"/>
                  <a:pt x="144" y="5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37160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1066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1371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23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8880" y="68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162080"/>
            <a:ext cx="129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&lt;&lt;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7480" y="4495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01200" y="41972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520" y="4730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7440" y="4191120"/>
            <a:ext cx="201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66080" y="4724280"/>
            <a:ext cx="191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47307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34340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4349880"/>
            <a:ext cx="75960" cy="761760"/>
          </a:xfrm>
          <a:custGeom>
            <a:avLst/>
            <a:gdLst>
              <a:gd name="textAreaLeft" fmla="*/ 0 w 75960"/>
              <a:gd name="textAreaRight" fmla="*/ 53280 w 7596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6600" y="457200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subir (o apre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8920" y="2889360"/>
            <a:ext cx="7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86800" y="245736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304812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6400" y="1981080"/>
            <a:ext cx="22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 en el collar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5600" y="44956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39080" y="41338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50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9760" y="58672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3840" y="556884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 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610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6095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99360" y="5562720"/>
            <a:ext cx="198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8720" y="6095880"/>
            <a:ext cx="20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se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6102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571500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5721480"/>
            <a:ext cx="76320" cy="76176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2840" y="59436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ra bajar (o solta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8240" y="58672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1720" y="5505480"/>
            <a:ext cx="10951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77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0958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7080" y="304920"/>
            <a:ext cx="41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SOBRE LA ROS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4080" y="1219320"/>
            <a:ext cx="51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l tor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560" y="19447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9920" y="16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72240" y="2286000"/>
            <a:ext cx="8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2096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7400" y="2971800"/>
            <a:ext cx="52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de corte en la rosca de la tuer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4120" y="377352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4840" y="3505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71400" y="4114800"/>
            <a:ext cx="77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0384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320" y="457200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 normal (de aplastamiento) en las ros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4120" y="5410080"/>
            <a:ext cx="7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4840" y="5141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0440" y="5715000"/>
            <a:ext cx="17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 (d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-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56386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" y="22860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IONES CON P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09880" cy="3282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817880" y="312408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3120" y="449568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2000" y="419112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45120" y="4800600"/>
            <a:ext cx="88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664240"/>
            <a:ext cx="227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8600" y="5410080"/>
            <a:ext cx="587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2080" y="60199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589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1440" y="563868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5359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12320" y="6018120"/>
            <a:ext cx="94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892840"/>
            <a:ext cx="914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73520" y="563868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0600" y="563868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67240" y="304920"/>
            <a:ext cx="466704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 : Carg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Porción de P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p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Fza. Resultante sobre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: Carga 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480" y="4565520"/>
            <a:ext cx="96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988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7360" y="480060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4724280"/>
            <a:ext cx="914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58560" y="4572000"/>
            <a:ext cx="92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72960" y="4273560"/>
            <a:ext cx="4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70440" y="480708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480708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8400" y="311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2080" y="281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02800" y="3352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1000" y="335268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00" y="0"/>
            <a:ext cx="507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FUERZOS EN UNIONES APER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4038480" cy="222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038480" cy="2934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54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60840" y="76032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529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3596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9316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9712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91360" y="755640"/>
            <a:ext cx="380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77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1680" y="760320"/>
            <a:ext cx="4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755640"/>
            <a:ext cx="4064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54920" y="22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58880" y="760320"/>
            <a:ext cx="48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53120" y="75564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74040" y="5335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36520" y="53352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+ ..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4840" y="18986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33960" y="1606680"/>
            <a:ext cx="10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+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592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172200" y="2127240"/>
            <a:ext cx="8380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1757520"/>
            <a:ext cx="76320" cy="750600"/>
          </a:xfrm>
          <a:custGeom>
            <a:avLst/>
            <a:gdLst>
              <a:gd name="textAreaLeft" fmla="*/ 0 w 76320"/>
              <a:gd name="textAreaRight" fmla="*/ 5364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1682640"/>
            <a:ext cx="152280" cy="90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784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86080" y="1606680"/>
            <a:ext cx="90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-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8760" y="21337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924680" y="2127240"/>
            <a:ext cx="83844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757520"/>
            <a:ext cx="76320" cy="750600"/>
          </a:xfrm>
          <a:custGeom>
            <a:avLst/>
            <a:gdLst>
              <a:gd name="textAreaLeft" fmla="*/ 22320 w 76320"/>
              <a:gd name="textAreaRight" fmla="*/ 76320 w 7632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63120" y="1757520"/>
            <a:ext cx="75960" cy="750600"/>
          </a:xfrm>
          <a:custGeom>
            <a:avLst/>
            <a:gdLst>
              <a:gd name="textAreaLeft" fmla="*/ 0 w 75960"/>
              <a:gd name="textAreaRight" fmla="*/ 53280 w 75960"/>
              <a:gd name="textAreaTop" fmla="*/ 30960 h 750600"/>
              <a:gd name="textAreaBottom" fmla="*/ 719640 h 75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0680" y="19051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1682640"/>
            <a:ext cx="76320" cy="90180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55120" y="2971800"/>
            <a:ext cx="157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1.5 ·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0520" y="121752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o de presión (Rotshe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8720" y="433692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41148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3440" y="4572000"/>
            <a:ext cx="7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572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9280" y="40323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3320" y="4572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91520" y="45655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41846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839080" y="41846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43434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2080" y="433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4108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67680" y="41083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30640" y="53341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51055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56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7680" y="53341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3915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55627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9280" y="5632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0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93320" y="61722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+ 2.5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391520" y="6165720"/>
            <a:ext cx="13716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5784840"/>
            <a:ext cx="76320" cy="762120"/>
          </a:xfrm>
          <a:custGeom>
            <a:avLst/>
            <a:gdLst>
              <a:gd name="textAreaLeft" fmla="*/ 22320 w 76320"/>
              <a:gd name="textAreaRight" fmla="*/ 7632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784840"/>
            <a:ext cx="76320" cy="762120"/>
          </a:xfrm>
          <a:custGeom>
            <a:avLst/>
            <a:gdLst>
              <a:gd name="textAreaLeft" fmla="*/ 0 w 76320"/>
              <a:gd name="textAreaRight" fmla="*/ 53640 w 7632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5943600"/>
            <a:ext cx="4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080" y="5937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5708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67680" y="5708520"/>
            <a:ext cx="76320" cy="914400"/>
          </a:xfrm>
          <a:custGeom>
            <a:avLst/>
            <a:gdLst>
              <a:gd name="textAreaLeft" fmla="*/ 0 w 76320"/>
              <a:gd name="textAreaRight" fmla="*/ 2736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2440" y="3041640"/>
            <a:ext cx="7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 dx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7520" y="328284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240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08T12:26:04Z</dcterms:modified>
  <cp:revision>81</cp:revision>
  <dc:subject/>
  <dc:title>Sin título de diapositiva</dc:title>
</cp:coreProperties>
</file>