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81B-47A2-4751-9073-88F48EAB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D8C-E3D7-4A28-82EA-8BB01A03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F28-E169-43CB-AC55-E59A4FF2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79D-E5B0-4FCB-A4C4-3A01C875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81C-3B36-4BB7-B7F9-9BBEEBA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64F-D0C1-4C0A-8AEF-C54FF90E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3B5-FF4D-4E11-90E3-7FB36C11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28C-7AEC-465E-8620-D94AC60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580-E0A1-4E59-A30F-2B639CC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35B-7EA6-4918-A013-B62DEF6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6D3-A5F6-430F-94F2-9FE088B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FC8-B276-4B3E-B3F7-0FD62D4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DCA7-DD47-495D-92BE-07386A65932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4320" y="2819520"/>
            <a:ext cx="50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O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832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6094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5200" y="153036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295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75896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75896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29960" y="145404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76520" y="152388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E%20HelicParal%20NomencResist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5534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8680" y="2819520"/>
            <a:ext cx="60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les Cónicos Esp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%20Conicos%20Espirales%20Fzas" descr=""/>
          <p:cNvPicPr/>
          <p:nvPr/>
        </p:nvPicPr>
        <p:blipFill>
          <a:blip r:embed="rId1"/>
          <a:stretch/>
        </p:blipFill>
        <p:spPr>
          <a:xfrm>
            <a:off x="0" y="3808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6120" y="1447920"/>
            <a:ext cx="453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3000" y="247968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28560" y="2251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2320" y="263196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22800" y="270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76480" y="243828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91560" y="335268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28560" y="312408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2320" y="350532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0" y="3581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6480" y="331164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14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Espiral derecha giro horario y espiral izquierda giro anti-hor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5200" y="4883040"/>
            <a:ext cx="80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1120" y="465444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84520" y="5035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5360" y="511164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89760" y="4842000"/>
            <a:ext cx="36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04120" y="575640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41120" y="5527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4520" y="59086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5985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9040" y="5715000"/>
            <a:ext cx="350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14480" y="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8520" y="762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33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066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990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810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752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2860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209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0400" y="175248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828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19810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%20HelicParal%20Nomenc" descr=""/>
          <p:cNvPicPr/>
          <p:nvPr/>
        </p:nvPicPr>
        <p:blipFill>
          <a:blip r:embed="rId1"/>
          <a:stretch/>
        </p:blipFill>
        <p:spPr>
          <a:xfrm>
            <a:off x="1828800" y="2744640"/>
            <a:ext cx="52578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%20Conicos%20Espirales%20J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6064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%20Conicos%20Espirales%20I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62200" y="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685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5177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9810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9810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0120" y="16765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0720" y="9907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E%20HelicParal%20NomencResist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93320" y="2819520"/>
            <a:ext cx="55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Cónico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440" y="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%20Conicos%20Rectos%20Ralaciones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267440" cy="397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53520" y="14065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67720" y="11430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8800" y="167652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5840" y="26668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6096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59880" y="29368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5400" y="389268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576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0384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76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%20Conicos%20Rectos%20PrpDientes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04560" y="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30600" y="83808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174636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5760" y="403848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%20Conicos%20Rectos%20Fzas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3888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6680" y="99072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06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24382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61560" y="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060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755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5480" y="121932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2891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1654200"/>
            <a:ext cx="640080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sfuerzo flex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carga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aso diame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. de veloc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ancho de cara (flex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: factor ge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coeficiente elá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 : factor geométrico (durabilidad de superfi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ángulo de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eguridad de los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9907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7621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2952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19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7280" y="76212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E%20Conicos%20Rectos%20Fact%20J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781680" cy="547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18520" y="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09000" y="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eficiente Elástico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E%20Conicos%20Rectos%20Cp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65320" y="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ctor Geométric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%20Conicos%20Rectos%20I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70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10T21:40:58Z</dcterms:modified>
  <cp:revision>171</cp:revision>
  <dc:subject/>
  <dc:title>Sin título de diapositiva</dc:title>
</cp:coreProperties>
</file>