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1EA-98FB-43C6-9592-5ED305BB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7BE-420A-41C4-915F-0B6E0A52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A30-697E-464F-85AE-380C5A64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BEF-DA6D-4AE1-9575-FF1874F1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109-649F-4579-8E58-1FA46A98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56C-386A-4FBC-AFE5-2EF7EB07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436-821B-411D-A97E-E70CC817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E74-F5F8-420D-AE05-10F73822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3C8-A97E-42FB-BA46-FBA985E9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159-D0AA-4B4C-9F0A-EBAF4E3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8A6-E188-4CFF-89F3-C30CC98A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5D1-D4B0-41E0-9D52-59DCAFB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3289-CA97-49D3-956E-C6C7FBFDC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, 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57400" y="228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Estát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905120"/>
            <a:ext cx="35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048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Estática Necesa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4267080"/>
            <a:ext cx="3504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36200" y="5181480"/>
            <a:ext cx="40410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0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actor de seguridad est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ímite de velo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92120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5335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ección de rod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00" y="176040"/>
            <a:ext cx="819936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32360" y="2819520"/>
            <a:ext cx="684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JINET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LIZAMIENTO Y LUBRIC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32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600200"/>
            <a:ext cx="312408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981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2096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4382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8954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312408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276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200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3124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8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9718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8954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28195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7432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6668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25909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5146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4382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3623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051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19810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0574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2133720"/>
            <a:ext cx="83808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2209680"/>
            <a:ext cx="8384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2286000"/>
            <a:ext cx="83808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352680"/>
            <a:ext cx="37339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75248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9051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666880"/>
            <a:ext cx="3124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44792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2666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8480" y="28195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000" y="25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3600" y="236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3760" y="1143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6720" y="13716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3080" y="1087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7680" y="1371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7000" y="10875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987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7680" y="13716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1368360"/>
            <a:ext cx="2286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46960" y="18018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a s) =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47600" y="25225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(reyn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05720" y="2408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7880" y="279252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6.89 · 10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2789280"/>
            <a:ext cx="9907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8120" y="3381480"/>
            <a:ext cx="55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3325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080" y="3408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3325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40320" y="3706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703680"/>
            <a:ext cx="381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32568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8120" y="4108320"/>
            <a:ext cx="2227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(m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/s)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= 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(c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40480" y="471816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71816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0400" y="480060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4718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6640" y="50990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09580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471816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7720" y="48290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40840" y="56325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5638680"/>
            <a:ext cx="76320" cy="60984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5320" y="57214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0.22 · t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5638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560" y="60199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6016680"/>
            <a:ext cx="3808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5638680"/>
            <a:ext cx="75960" cy="685800"/>
          </a:xfrm>
          <a:custGeom>
            <a:avLst/>
            <a:gdLst>
              <a:gd name="textAreaLeft" fmla="*/ 0 w 75960"/>
              <a:gd name="textAreaRight" fmla="*/ 5328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62280" y="5749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·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1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920" y="3927600"/>
            <a:ext cx="401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u/dy : gradiente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        : Viscosidad absoluta en (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k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Viscosidad absoluta en (c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Symbol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cinemática (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Densidad (kg/m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t        : Segundos Sayb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00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Ley de Pet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3040" y="1265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1320" y="12952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12160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7800" y="1600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1596960"/>
            <a:ext cx="2462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143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r ·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2400" y="1600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15969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8680" y="1401840"/>
            <a:ext cx="4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0" y="223524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·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2082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800" y="25401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536920"/>
            <a:ext cx="1295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158920"/>
            <a:ext cx="152640" cy="762120"/>
          </a:xfrm>
          <a:custGeom>
            <a:avLst/>
            <a:gdLst>
              <a:gd name="textAreaLeft" fmla="*/ 44640 w 152640"/>
              <a:gd name="textAreaRight" fmla="*/ 153000 w 15264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2082960"/>
            <a:ext cx="152280" cy="838080"/>
          </a:xfrm>
          <a:custGeom>
            <a:avLst/>
            <a:gdLst>
              <a:gd name="textAreaLeft" fmla="*/ 0 w 152280"/>
              <a:gd name="textAreaRight" fmla="*/ 106920 w 15228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22860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l)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057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l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4880" y="25146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511360"/>
            <a:ext cx="16002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7400" y="31510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f W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200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 r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f l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20200" y="317484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2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9240" y="342900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425760"/>
            <a:ext cx="8380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63920" y="3809880"/>
            <a:ext cx="470700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sfuerzo de corte en 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U       : velocidad perif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        : espesor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43200" y="380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ubricación Hidro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21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8480" y="160020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1673280"/>
            <a:ext cx="152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3760" y="16765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749600"/>
            <a:ext cx="15228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1320" y="12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126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8880" y="1676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7226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14479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14479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3716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13716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30080" y="3048120"/>
            <a:ext cx="3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3121200"/>
            <a:ext cx="15264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764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63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484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3094200"/>
            <a:ext cx="6858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819520"/>
            <a:ext cx="76320" cy="635040"/>
          </a:xfrm>
          <a:custGeom>
            <a:avLst/>
            <a:gdLst>
              <a:gd name="textAreaLeft" fmla="*/ 22320 w 76320"/>
              <a:gd name="textAreaRight" fmla="*/ 76320 w 76320"/>
              <a:gd name="textAreaTop" fmla="*/ 26280 h 635040"/>
              <a:gd name="textAreaBottom" fmla="*/ 60876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8195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809880"/>
            <a:ext cx="579096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 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Número característico o de de Sommer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radio del e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       : holgura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        : coeficiente de f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iscos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     :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velocidad del eje r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P      : carga por unidad de área proyec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686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ición del Espesor mínimo de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8120" y="2819520"/>
            <a:ext cx="32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D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ficiente de f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47920" y="582480"/>
            <a:ext cx="716256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lujo de lu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609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22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2895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rc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68560"/>
            <a:ext cx="6858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0968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ión máxima pelí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7724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teriales para cojinetes de desl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534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029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94240" y="10008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B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858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3160" y="1000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damientos de Rod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057560" cy="47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85040" y="2895480"/>
            <a:ext cx="35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 cilínd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: esfér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: cónicos de empu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: de agu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: cónicos ordi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: cónicos de contacto an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11400" y="10008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pacidad de carg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2952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066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3960" y="1600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1219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2193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3440" y="990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51460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83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8195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4382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24382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1520" y="21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9400" y="2819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60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28195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8160" y="23623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42760" y="3484440"/>
            <a:ext cx="643500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: duración nominal en millones de revol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10h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: duración nominal en horas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pacidad de carga dinámica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exponente empírico (p=3 rodamientos de bola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=10/3 rodamientos de rodil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: velocidad constante de rotación,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21120" y="1000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raciones típ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54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905120"/>
            <a:ext cx="25146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X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+ Y 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8320" y="3429000"/>
            <a:ext cx="445392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carga dinámica equivalente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ra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: factor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r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rad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carga axial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Cons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45400" y="1000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rga Dinámica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8380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rgas Fluctu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3809880" cy="37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1600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as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32160" y="166356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44792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+ ...+ F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19051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572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4479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7920" y="154944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9080" y="2441520"/>
            <a:ext cx="6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209680"/>
            <a:ext cx="172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+ 2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4880" y="259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25909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8560" y="241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7760" y="4572000"/>
            <a:ext cx="160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(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 + F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3-04-10T12:26:09Z</dcterms:modified>
  <cp:revision>151</cp:revision>
  <dc:subject/>
  <dc:title>Sin título de diapositiva</dc:title>
</cp:coreProperties>
</file>