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8F2-8DCD-4961-81FC-39E95742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B90-9C4E-419A-B61B-1B54471C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04D-D1DF-4DA9-A919-E84EF987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50B-2C97-4B43-A3DA-1C211F78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F7F-B6EA-40DE-85A9-84840368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5CE-9716-4D96-A931-04F9C589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84F-3739-4FC1-9B5D-66BCB540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ECD-77E3-472B-9DE8-2B2D8694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0AE-E2BD-4111-AB88-466DC054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95E-75E4-4598-9948-0428BC7E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DAD-7842-40F2-A5D9-FD07AAD0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D53-0BCE-4440-82CD-BF8A05CD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4AA9-BE89-4A7D-B70B-C6052366DF7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6040" y="2819520"/>
            <a:ext cx="48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62840" y="1000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 sobre el 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sfDiente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800600" cy="2900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9000" y="4191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58840" y="3997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8840" y="445464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58840" y="44546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5680" y="426708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40384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6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44956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7680" y="419112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419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419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9600" y="525780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5029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548640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6280" y="61786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x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6400800"/>
            <a:ext cx="761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440" y="61722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6600" y="60948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concentración de esfuerz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40080" y="151776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1746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174636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6080" y="15238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12891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17463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7463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26668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H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2590920"/>
            <a:ext cx="75960" cy="685800"/>
          </a:xfrm>
          <a:custGeom>
            <a:avLst/>
            <a:gdLst>
              <a:gd name="textAreaLeft" fmla="*/ 22320 w 75960"/>
              <a:gd name="textAreaRight" fmla="*/ 7632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5909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80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9718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59092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25909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2760" y="243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6080" y="27432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733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= 0.34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4267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0.316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4876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 = 0.29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8680" y="59436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57085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(b –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6165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/2) + b -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6165720"/>
            <a:ext cx="17524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50480" y="5943600"/>
            <a:ext cx="195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adio fi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8040" y="6094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factor dinám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5880" y="151776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17524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174636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2040" y="354636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2971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0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297180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30481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403848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114800"/>
            <a:ext cx="304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00 + 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510552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666880"/>
            <a:ext cx="304560" cy="2743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FacFormaLewis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668840" cy="6019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124800" y="22860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forma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970360" y="22860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geométrico 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FactGeometrico%20J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32484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84120" y="1000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álculo a la Fa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9907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590920"/>
            <a:ext cx="5181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superfi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concentración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fectos 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50040" y="609480"/>
            <a:ext cx="323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Superficie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FactorSuperficie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47712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753280" y="609480"/>
            <a:ext cx="299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Tamaño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Factortamaño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6248520" cy="2535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47280" y="1752480"/>
            <a:ext cx="380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para P &gt; 12 dientes/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674720" y="2324160"/>
          <a:ext cx="5641920" cy="29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2324160"/>
                    <a:ext cx="5641920" cy="2900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748960" y="609480"/>
            <a:ext cx="36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confiabilidad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52200" y="609480"/>
            <a:ext cx="359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Temperatura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720" y="32004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22860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7360" y="3048120"/>
            <a:ext cx="29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 – 5.8 · 1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T – 4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7360" y="4038480"/>
            <a:ext cx="29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 – 3.2 · 1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T – 8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7360" y="2133720"/>
            <a:ext cx="15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450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50 ºC &lt; 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550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40 ºF &lt; 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1020 º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23623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87240" y="1000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360" y="3581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1760" y="1371600"/>
            <a:ext cx="35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aralelos en el mism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6200" y="106668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líndricos 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1400" y="2819520"/>
            <a:ext cx="36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ortan en el mism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4360" y="457200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ruzan perpendicula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99120" y="571500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ruzan en cualquier áng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6200" y="1600200"/>
            <a:ext cx="29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líndrico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6920" y="220968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6920" y="281952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6920" y="335268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espi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2520" y="411480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ornillo sin-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724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960" y="518148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hip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5715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447920"/>
            <a:ext cx="457200" cy="4647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143000"/>
            <a:ext cx="304560" cy="838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236232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4191120"/>
            <a:ext cx="304560" cy="12189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5715000"/>
            <a:ext cx="304560" cy="380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35280" y="609480"/>
            <a:ext cx="53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Concentración de Esfuerzos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34600" y="2030400"/>
            <a:ext cx="58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 Concentración de Esfuerzos está considerada en 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actor geométric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38862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3886200"/>
            <a:ext cx="1067040" cy="53352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156120" y="10008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tig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06640" y="15238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7524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17524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11040" y="14479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14200" y="2590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9720" y="3581280"/>
            <a:ext cx="521892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Límite fatiga superficial del eng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Límite fatiga superficial del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relación de du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L%20y%20CR%20E%20Rectos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1955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00080" y="0"/>
            <a:ext cx="683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duración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 y  Factor de confiabilidad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5280" y="3276720"/>
            <a:ext cx="4402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relación de dureza,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granajes rectos :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6840" y="4876920"/>
            <a:ext cx="3592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temperatura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&lt; 250 ºF  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43200" y="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14479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3200400"/>
            <a:ext cx="716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seguridad para el cálculo de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  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E%20Rectos%20Fact%20Sobrecarga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1532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E%20Rectos%20Fact%20DistCarga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3152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051640" y="10008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elección del tipo de Engran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elección%20Engranajes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48080" y="100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DefEngranajes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639040" cy="45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2971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724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880" y="32004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Ad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092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d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efEngrane" descr=""/>
          <p:cNvPicPr/>
          <p:nvPr/>
        </p:nvPicPr>
        <p:blipFill>
          <a:blip r:embed="rId1"/>
          <a:stretch/>
        </p:blipFill>
        <p:spPr>
          <a:xfrm>
            <a:off x="609480" y="930240"/>
            <a:ext cx="78487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ccionDientes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7057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345840" y="1000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omencl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NomenclaturaEngr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72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15600" y="10008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es Funda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920" y="8380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73440" y="64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73440" y="110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73440" y="110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73280" y="87948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11430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080" y="172404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530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987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19875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8380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diamet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78920" y="8730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ód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75896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cir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9240" y="17524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9600" y="175248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p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0120" y="335268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adio circunferencia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3276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r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3120" y="403848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ancia entre cen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5720" y="404496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= b -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4800" y="2666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666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p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1960" y="46483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rco de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6483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 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9600" y="5410080"/>
            <a:ext cx="75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07160" y="5673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07160" y="5216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07160" y="567360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42120" y="536904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elación de 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9360" y="601992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ngitud de la línea de acción de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60199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70000" y="10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zas%20EngRectos%201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1716120" cy="3276720"/>
          </a:xfrm>
          <a:prstGeom prst="rect">
            <a:avLst/>
          </a:prstGeom>
          <a:ln w="0">
            <a:noFill/>
          </a:ln>
        </p:spPr>
      </p:pic>
      <p:pic>
        <p:nvPicPr>
          <p:cNvPr id="112" name="Fzas%20EngRectos%202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2148120" cy="3276720"/>
          </a:xfrm>
          <a:prstGeom prst="rect">
            <a:avLst/>
          </a:prstGeom>
          <a:ln w="0">
            <a:noFill/>
          </a:ln>
        </p:spPr>
      </p:pic>
      <p:pic>
        <p:nvPicPr>
          <p:cNvPr id="113" name="Fzas%20EngRectos%203" descr=""/>
          <p:cNvPicPr/>
          <p:nvPr/>
        </p:nvPicPr>
        <p:blipFill>
          <a:blip r:embed="rId3"/>
          <a:stretch/>
        </p:blipFill>
        <p:spPr>
          <a:xfrm>
            <a:off x="5715000" y="914400"/>
            <a:ext cx="2897280" cy="3200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44197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arga transmit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419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F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0" y="495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502920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2578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50292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1400" y="5791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586728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56386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095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586728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6095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 d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095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08T19:29:33Z</dcterms:modified>
  <cp:revision>152</cp:revision>
  <dc:subject/>
  <dc:title>Sin título de diapositiva</dc:title>
</cp:coreProperties>
</file>