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971-1EB6-41A1-9C78-CCA141B9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5D9-E6C7-4DC9-814D-ECD19ADB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B6F-8204-42F7-BE90-42CC2DE5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9A7-C86A-44C5-99F0-7EB919D0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E1B-032D-4F85-A8A5-C5FF770B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ACE-C35B-492A-B220-9E0637C0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3FB-A2E0-44D2-BE8D-BE9B5C07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021-1744-46F7-BC4C-283E123C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AC0-B988-4515-9842-4B604F8B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D52-F093-488C-89DD-E6639BF0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31E-3B54-4B3F-AF22-DEFCF0F1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A91-40AB-4171-BC4B-B3ED03A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EFDF-1BB9-49E8-AC21-B29C4FBF2D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Line 9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4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Text Box 6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 Box 3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 Box 8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Text Box 3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Text Box 6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7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Text Box 5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Group 4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Rectangle 6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7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8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Rectangle 9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0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1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Rectangle 12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3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4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Rectangle 15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6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7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Rectangle 18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9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0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Rectangle 21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22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23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Rectangle 24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25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6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Rectangle 27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8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9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Rectangle 30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1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2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Rectangle 33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4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35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Rectangle 36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37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8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Rectangle 39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0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Rectangle 41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43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50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43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5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Object 4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 Box 5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7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8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Group 9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Object 10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Text Box 11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2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13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Group 4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Rectangle 5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6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Group 7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Group 8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Rectangle 9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10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1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Rectangle 12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13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4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Rectangle 15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Rectangle 16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17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Rectangle 18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tangle 19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20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Rectangle 21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22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23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Rectangle 24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25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26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Rectangle 27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28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29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Rectangle 30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31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32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Rectangle 33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34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35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Rectangle 36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37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38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Rectangle 39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40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41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Rectangle 42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Rectangle 43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Rectangle 44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45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Text Box 4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7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Text Box 5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7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8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Object 3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Text Box 4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5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 Box 6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Object 7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Group 8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Text Box 9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10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11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Object 12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 Box 13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y tama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9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timo (Optimo Nivel de Pureza y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), se supone que los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</a:t>
            </a:r>
            <a:r>
              <a:rPr b="1" lang="es-ES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m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 de transferencia de masa el ancho de los peak (o 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)  se ve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lterado por las variables L y v.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4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8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Interna y adsorc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í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ú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escala se utilizaron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uena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Poca disper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en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S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 se utiliza una par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s geo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0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Line 7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Text Box 11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49108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72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6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 Box 37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Group 4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Group 5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Rectangle 6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7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Rectangle 9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10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1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Rectangle 12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13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4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Rectangle 15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6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17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Rectangle 18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19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0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Rectangle 21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22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3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Rectangle 24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5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6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Rectangle 27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28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29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Rectangle 30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1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32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Rectangle 33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34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35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Rectangle 36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37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38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Rectangle 39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40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Rectangle 41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2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3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Group 43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Object 44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Object 4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Text Box 45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46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47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8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1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2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Object 607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6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609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6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10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6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Object 7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Text Box 8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0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8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Text Box 4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5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Object 6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9-08-28T19:29:01Z</dcterms:modified>
  <cp:revision>16</cp:revision>
  <dc:subject/>
  <dc:title>Perfiles Cromatográficos</dc:title>
</cp:coreProperties>
</file>