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17.wmf" ContentType="image/x-wmf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3F95-633A-4F9C-95CF-B237B0C4B6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1DEE-DAC1-4333-8FE3-CEF76AA9755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938B-52A3-45E9-9699-DD0C14F478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07F4-65B7-4916-A7FF-94F6E485ED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9036-5CFE-447F-89D3-214C510CCB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F3DB-C63D-44EB-9102-B74FBF3AFD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E85-0404-4050-9FCB-A460709C97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145-6E59-4D76-8AEF-BF10E2ED68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18DA-CB61-4D86-A0B1-7502140BF0DE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000B-9816-4400-918D-EC723A2CBD1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8231-87E8-4C29-89DC-13E43A18B95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BCF-490F-410C-B411-B868AC25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571-F103-4BE5-BA1A-6F9746BD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52E-89D6-47DD-B18A-3367916B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CB5-9706-489F-B89E-3D179DEC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5EE-8104-4816-B7A1-AE5CEC72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5D3-E477-42EC-BFC0-94F8C8E5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35F-7AE1-41CF-A8C0-FE7796E8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7B4-B08A-4DAD-A8B7-C3CAEF9C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CF2-F096-4FA2-8F5C-DBAAA343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400-DC1A-46AB-A185-057F7C49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3AB-62D6-451F-9893-DDF503D6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F4F-1F38-4CA6-B3AC-0E205293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EB8E-BD45-4263-8A0C-4906969AFD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1"/>
          <p:cNvSpPr/>
          <p:nvPr/>
        </p:nvSpPr>
        <p:spPr>
          <a:xfrm>
            <a:off x="6654960" y="9367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2"/>
          <p:cNvSpPr/>
          <p:nvPr/>
        </p:nvSpPr>
        <p:spPr>
          <a:xfrm>
            <a:off x="6730560" y="484992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AFINIDAD (G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3"/>
          <p:cNvSpPr/>
          <p:nvPr/>
        </p:nvSpPr>
        <p:spPr>
          <a:xfrm>
            <a:off x="664668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6698880" y="227664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GEL 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6"/>
          <p:cNvSpPr/>
          <p:nvPr/>
        </p:nvSpPr>
        <p:spPr>
          <a:xfrm>
            <a:off x="6684840" y="3139920"/>
            <a:ext cx="158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"/>
          <p:cNvSpPr/>
          <p:nvPr/>
        </p:nvSpPr>
        <p:spPr>
          <a:xfrm>
            <a:off x="6746040" y="3932280"/>
            <a:ext cx="214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CAPA FINA o T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9"/>
          <p:cNvSpPr/>
          <p:nvPr/>
        </p:nvSpPr>
        <p:spPr>
          <a:xfrm>
            <a:off x="1116000" y="692280"/>
            <a:ext cx="86364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8"/>
          <p:cNvSpPr/>
          <p:nvPr/>
        </p:nvSpPr>
        <p:spPr>
          <a:xfrm>
            <a:off x="3276720" y="692280"/>
            <a:ext cx="172692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7"/>
          <p:cNvSpPr/>
          <p:nvPr/>
        </p:nvSpPr>
        <p:spPr>
          <a:xfrm>
            <a:off x="5003640" y="692280"/>
            <a:ext cx="1584360" cy="5761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5892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IPOS DE CROMAT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57440" y="12445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73640" y="4849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por 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57480" y="69228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197000" y="692280"/>
            <a:ext cx="63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st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13724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153800" y="3255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ó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385800" y="22766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026800" y="3255840"/>
            <a:ext cx="110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(¡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bsorción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340560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olu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27360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506760" y="3164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electrost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123880" y="9367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5126040" y="4849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5164200" y="136224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182920" y="18414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5109480" y="227664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Excl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5196600" y="313992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camb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187600" y="393228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2"/>
          <p:cNvSpPr/>
          <p:nvPr/>
        </p:nvSpPr>
        <p:spPr>
          <a:xfrm>
            <a:off x="2057040" y="13399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Repar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3447000" y="393228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Hidrofobi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4"/>
          <p:cNvSpPr/>
          <p:nvPr/>
        </p:nvSpPr>
        <p:spPr>
          <a:xfrm>
            <a:off x="3473640" y="5641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especí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008800" y="93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C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6"/>
          <p:cNvSpPr/>
          <p:nvPr/>
        </p:nvSpPr>
        <p:spPr>
          <a:xfrm>
            <a:off x="3348000" y="701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(propie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7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8"/>
          <p:cNvSpPr/>
          <p:nvPr/>
        </p:nvSpPr>
        <p:spPr>
          <a:xfrm>
            <a:off x="4976640" y="1790640"/>
            <a:ext cx="3988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9"/>
          <p:cNvSpPr/>
          <p:nvPr/>
        </p:nvSpPr>
        <p:spPr>
          <a:xfrm>
            <a:off x="3260880" y="2247840"/>
            <a:ext cx="5732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1"/>
          <p:cNvSpPr/>
          <p:nvPr/>
        </p:nvSpPr>
        <p:spPr>
          <a:xfrm>
            <a:off x="3270240" y="3879720"/>
            <a:ext cx="56944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2"/>
          <p:cNvSpPr/>
          <p:nvPr/>
        </p:nvSpPr>
        <p:spPr>
          <a:xfrm>
            <a:off x="3268800" y="4821120"/>
            <a:ext cx="5695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63"/>
          <p:cNvSpPr/>
          <p:nvPr/>
        </p:nvSpPr>
        <p:spPr>
          <a:xfrm>
            <a:off x="3249720" y="563724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4"/>
          <p:cNvSpPr/>
          <p:nvPr/>
        </p:nvSpPr>
        <p:spPr>
          <a:xfrm>
            <a:off x="1279440" y="2214720"/>
            <a:ext cx="786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5"/>
          <p:cNvSpPr/>
          <p:nvPr/>
        </p:nvSpPr>
        <p:spPr>
          <a:xfrm>
            <a:off x="179280" y="6453360"/>
            <a:ext cx="878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0"/>
          <p:cNvSpPr/>
          <p:nvPr/>
        </p:nvSpPr>
        <p:spPr>
          <a:xfrm>
            <a:off x="5127840" y="56419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1"/>
          <p:cNvSpPr/>
          <p:nvPr/>
        </p:nvSpPr>
        <p:spPr>
          <a:xfrm>
            <a:off x="6692400" y="573408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XIAPAT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02"/>
          <p:cNvSpPr/>
          <p:nvPr/>
        </p:nvSpPr>
        <p:spPr>
          <a:xfrm>
            <a:off x="6546960" y="1184400"/>
            <a:ext cx="1317600" cy="6379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3"/>
          <p:cNvSpPr/>
          <p:nvPr/>
        </p:nvSpPr>
        <p:spPr>
          <a:xfrm>
            <a:off x="6572160" y="2286000"/>
            <a:ext cx="2125800" cy="6382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04"/>
          <p:cNvSpPr/>
          <p:nvPr/>
        </p:nvSpPr>
        <p:spPr>
          <a:xfrm>
            <a:off x="6380280" y="3071880"/>
            <a:ext cx="2125440" cy="7444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05"/>
          <p:cNvSpPr/>
          <p:nvPr/>
        </p:nvSpPr>
        <p:spPr>
          <a:xfrm>
            <a:off x="6564240" y="3789360"/>
            <a:ext cx="256860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06"/>
          <p:cNvSpPr/>
          <p:nvPr/>
        </p:nvSpPr>
        <p:spPr>
          <a:xfrm>
            <a:off x="6567480" y="4749840"/>
            <a:ext cx="207972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3"/>
          <p:cNvSpPr/>
          <p:nvPr/>
        </p:nvSpPr>
        <p:spPr>
          <a:xfrm>
            <a:off x="1440360" y="18900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SUPERFICI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85"/>
          <p:cNvGrpSpPr/>
          <p:nvPr/>
        </p:nvGrpSpPr>
        <p:grpSpPr>
          <a:xfrm>
            <a:off x="3490920" y="1131840"/>
            <a:ext cx="1547640" cy="1968480"/>
            <a:chOff x="3490920" y="1131840"/>
            <a:chExt cx="1547640" cy="1968480"/>
          </a:xfrm>
        </p:grpSpPr>
        <p:sp>
          <p:nvSpPr>
            <p:cNvPr id="170" name="Rectangle 44"/>
            <p:cNvSpPr/>
            <p:nvPr/>
          </p:nvSpPr>
          <p:spPr>
            <a:xfrm>
              <a:off x="3490920" y="1131840"/>
              <a:ext cx="154764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45"/>
            <p:cNvSpPr/>
            <p:nvPr/>
          </p:nvSpPr>
          <p:spPr>
            <a:xfrm>
              <a:off x="3490920" y="2911320"/>
              <a:ext cx="154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46"/>
            <p:cNvSpPr/>
            <p:nvPr/>
          </p:nvSpPr>
          <p:spPr>
            <a:xfrm>
              <a:off x="4113360" y="28162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88"/>
          <p:cNvGrpSpPr/>
          <p:nvPr/>
        </p:nvGrpSpPr>
        <p:grpSpPr>
          <a:xfrm>
            <a:off x="6311880" y="895320"/>
            <a:ext cx="2300400" cy="2468520"/>
            <a:chOff x="6311880" y="895320"/>
            <a:chExt cx="2300400" cy="2468520"/>
          </a:xfrm>
        </p:grpSpPr>
        <p:sp>
          <p:nvSpPr>
            <p:cNvPr id="174" name="Rectangle 54"/>
            <p:cNvSpPr/>
            <p:nvPr/>
          </p:nvSpPr>
          <p:spPr>
            <a:xfrm>
              <a:off x="6684840" y="115740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61"/>
            <p:cNvSpPr/>
            <p:nvPr/>
          </p:nvSpPr>
          <p:spPr>
            <a:xfrm>
              <a:off x="6323040" y="289872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6"/>
            <p:cNvSpPr/>
            <p:nvPr/>
          </p:nvSpPr>
          <p:spPr>
            <a:xfrm>
              <a:off x="6626160" y="895320"/>
              <a:ext cx="1800" cy="2035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8"/>
            <p:cNvSpPr/>
            <p:nvPr/>
          </p:nvSpPr>
          <p:spPr>
            <a:xfrm>
              <a:off x="6691320" y="2900520"/>
              <a:ext cx="15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39"/>
            <p:cNvSpPr/>
            <p:nvPr/>
          </p:nvSpPr>
          <p:spPr>
            <a:xfrm>
              <a:off x="7313760" y="28036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55"/>
            <p:cNvSpPr/>
            <p:nvPr/>
          </p:nvSpPr>
          <p:spPr>
            <a:xfrm>
              <a:off x="6311880" y="901800"/>
              <a:ext cx="2289240" cy="2462040"/>
            </a:xfrm>
            <a:prstGeom prst="cube">
              <a:avLst>
                <a:gd name="adj" fmla="val 1352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79"/>
          <p:cNvGrpSpPr/>
          <p:nvPr/>
        </p:nvGrpSpPr>
        <p:grpSpPr>
          <a:xfrm>
            <a:off x="182880" y="736560"/>
            <a:ext cx="2171520" cy="2505240"/>
            <a:chOff x="182880" y="736560"/>
            <a:chExt cx="2171520" cy="2505240"/>
          </a:xfrm>
        </p:grpSpPr>
        <p:sp>
          <p:nvSpPr>
            <p:cNvPr id="181" name="Rectangle 8"/>
            <p:cNvSpPr/>
            <p:nvPr/>
          </p:nvSpPr>
          <p:spPr>
            <a:xfrm>
              <a:off x="604800" y="127332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4800" y="3052800"/>
              <a:ext cx="154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66"/>
            <p:cNvSpPr/>
            <p:nvPr/>
          </p:nvSpPr>
          <p:spPr>
            <a:xfrm>
              <a:off x="182880" y="736560"/>
              <a:ext cx="16804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ESTACIONA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8"/>
            <p:cNvSpPr/>
            <p:nvPr/>
          </p:nvSpPr>
          <p:spPr>
            <a:xfrm>
              <a:off x="1527120" y="1033560"/>
              <a:ext cx="827280" cy="787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77"/>
          <p:cNvGrpSpPr/>
          <p:nvPr/>
        </p:nvGrpSpPr>
        <p:grpSpPr>
          <a:xfrm>
            <a:off x="204480" y="2389320"/>
            <a:ext cx="1216440" cy="731880"/>
            <a:chOff x="204480" y="2389320"/>
            <a:chExt cx="1216440" cy="731880"/>
          </a:xfrm>
        </p:grpSpPr>
        <p:sp>
          <p:nvSpPr>
            <p:cNvPr id="186" name="Oval 10"/>
            <p:cNvSpPr/>
            <p:nvPr/>
          </p:nvSpPr>
          <p:spPr>
            <a:xfrm>
              <a:off x="1227240" y="2957400"/>
              <a:ext cx="193680" cy="1638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69"/>
            <p:cNvSpPr/>
            <p:nvPr/>
          </p:nvSpPr>
          <p:spPr>
            <a:xfrm>
              <a:off x="204480" y="2389320"/>
              <a:ext cx="1029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70"/>
            <p:cNvSpPr/>
            <p:nvPr/>
          </p:nvSpPr>
          <p:spPr>
            <a:xfrm>
              <a:off x="861840" y="2692440"/>
              <a:ext cx="32868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90"/>
          <p:cNvGrpSpPr/>
          <p:nvPr/>
        </p:nvGrpSpPr>
        <p:grpSpPr>
          <a:xfrm>
            <a:off x="501840" y="3701880"/>
            <a:ext cx="2742840" cy="2878200"/>
            <a:chOff x="501840" y="3701880"/>
            <a:chExt cx="2742840" cy="2878200"/>
          </a:xfrm>
        </p:grpSpPr>
        <p:sp>
          <p:nvSpPr>
            <p:cNvPr id="190" name="Rectangle 15"/>
            <p:cNvSpPr/>
            <p:nvPr/>
          </p:nvSpPr>
          <p:spPr>
            <a:xfrm>
              <a:off x="1373040" y="4132440"/>
              <a:ext cx="1871640" cy="24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1373040" y="6362640"/>
              <a:ext cx="1871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1876320" y="57801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18"/>
            <p:cNvSpPr/>
            <p:nvPr/>
          </p:nvSpPr>
          <p:spPr>
            <a:xfrm>
              <a:off x="1876320" y="46353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1371600" y="4348080"/>
              <a:ext cx="18716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01840" y="3701880"/>
              <a:ext cx="25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RENTE de avance del solv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936720" y="3973680"/>
              <a:ext cx="658800" cy="318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89"/>
          <p:cNvGrpSpPr/>
          <p:nvPr/>
        </p:nvGrpSpPr>
        <p:grpSpPr>
          <a:xfrm>
            <a:off x="6691320" y="1754280"/>
            <a:ext cx="2341440" cy="1149120"/>
            <a:chOff x="6691320" y="1754280"/>
            <a:chExt cx="2341440" cy="1149120"/>
          </a:xfrm>
        </p:grpSpPr>
        <p:grpSp>
          <p:nvGrpSpPr>
            <p:cNvPr id="198" name="Group 87"/>
            <p:cNvGrpSpPr/>
            <p:nvPr/>
          </p:nvGrpSpPr>
          <p:grpSpPr>
            <a:xfrm>
              <a:off x="6691320" y="1754280"/>
              <a:ext cx="1547640" cy="1149120"/>
              <a:chOff x="6691320" y="1754280"/>
              <a:chExt cx="1547640" cy="1149120"/>
            </a:xfrm>
          </p:grpSpPr>
          <p:sp>
            <p:nvSpPr>
              <p:cNvPr id="199" name="Rectangle 42"/>
              <p:cNvSpPr/>
              <p:nvPr/>
            </p:nvSpPr>
            <p:spPr>
              <a:xfrm>
                <a:off x="6691320" y="1754280"/>
                <a:ext cx="1547640" cy="1149120"/>
              </a:xfrm>
              <a:prstGeom prst="rect">
                <a:avLst/>
              </a:prstGeom>
              <a:solidFill>
                <a:srgbClr val="ccccff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43"/>
              <p:cNvSpPr/>
              <p:nvPr/>
            </p:nvSpPr>
            <p:spPr>
              <a:xfrm>
                <a:off x="7267680" y="2071800"/>
                <a:ext cx="290520" cy="657000"/>
              </a:xfrm>
              <a:prstGeom prst="upArrow">
                <a:avLst>
                  <a:gd name="adj1" fmla="val 50000"/>
                  <a:gd name="adj2" fmla="val 5653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72"/>
            <p:cNvSpPr/>
            <p:nvPr/>
          </p:nvSpPr>
          <p:spPr>
            <a:xfrm>
              <a:off x="7562880" y="2075040"/>
              <a:ext cx="14698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ropiciado por CAPILARI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84"/>
          <p:cNvGrpSpPr/>
          <p:nvPr/>
        </p:nvGrpSpPr>
        <p:grpSpPr>
          <a:xfrm>
            <a:off x="3117960" y="2906640"/>
            <a:ext cx="2476440" cy="1274760"/>
            <a:chOff x="3117960" y="2906640"/>
            <a:chExt cx="2476440" cy="1274760"/>
          </a:xfrm>
        </p:grpSpPr>
        <p:sp>
          <p:nvSpPr>
            <p:cNvPr id="203" name="Text Box 65"/>
            <p:cNvSpPr/>
            <p:nvPr/>
          </p:nvSpPr>
          <p:spPr>
            <a:xfrm>
              <a:off x="4095720" y="3448080"/>
              <a:ext cx="12412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ASE MÓV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a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7"/>
            <p:cNvSpPr/>
            <p:nvPr/>
          </p:nvSpPr>
          <p:spPr>
            <a:xfrm>
              <a:off x="5197320" y="3138480"/>
              <a:ext cx="397080" cy="298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47"/>
            <p:cNvSpPr/>
            <p:nvPr/>
          </p:nvSpPr>
          <p:spPr>
            <a:xfrm>
              <a:off x="3117960" y="290664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2212920" y="641520"/>
            <a:ext cx="3194280" cy="2717640"/>
            <a:chOff x="2212920" y="641520"/>
            <a:chExt cx="3194280" cy="2717640"/>
          </a:xfrm>
        </p:grpSpPr>
        <p:sp>
          <p:nvSpPr>
            <p:cNvPr id="207" name="AutoShape 73"/>
            <p:cNvSpPr/>
            <p:nvPr/>
          </p:nvSpPr>
          <p:spPr>
            <a:xfrm>
              <a:off x="2212920" y="1863720"/>
              <a:ext cx="889200" cy="719280"/>
            </a:xfrm>
            <a:prstGeom prst="rightArrow">
              <a:avLst>
                <a:gd name="adj1" fmla="val 62028"/>
                <a:gd name="adj2" fmla="val 309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83"/>
            <p:cNvGrpSpPr/>
            <p:nvPr/>
          </p:nvGrpSpPr>
          <p:grpSpPr>
            <a:xfrm>
              <a:off x="2434320" y="641520"/>
              <a:ext cx="2972880" cy="2717640"/>
              <a:chOff x="2434320" y="641520"/>
              <a:chExt cx="2972880" cy="2717640"/>
            </a:xfrm>
          </p:grpSpPr>
          <p:sp>
            <p:nvSpPr>
              <p:cNvPr id="209" name="Line 51"/>
              <p:cNvSpPr/>
              <p:nvPr/>
            </p:nvSpPr>
            <p:spPr>
              <a:xfrm>
                <a:off x="3432240" y="890640"/>
                <a:ext cx="1440" cy="2035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48"/>
              <p:cNvSpPr/>
              <p:nvPr/>
            </p:nvSpPr>
            <p:spPr>
              <a:xfrm>
                <a:off x="3117960" y="896760"/>
                <a:ext cx="2289240" cy="2462400"/>
              </a:xfrm>
              <a:prstGeom prst="cube">
                <a:avLst>
                  <a:gd name="adj" fmla="val 1352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74"/>
              <p:cNvSpPr/>
              <p:nvPr/>
            </p:nvSpPr>
            <p:spPr>
              <a:xfrm>
                <a:off x="2434320" y="641520"/>
                <a:ext cx="184968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ÁMA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ROMATOGRÁF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75"/>
              <p:cNvSpPr/>
              <p:nvPr/>
            </p:nvSpPr>
            <p:spPr>
              <a:xfrm>
                <a:off x="2600280" y="1320840"/>
                <a:ext cx="533520" cy="32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76"/>
          <p:cNvSpPr/>
          <p:nvPr/>
        </p:nvSpPr>
        <p:spPr>
          <a:xfrm>
            <a:off x="5479920" y="1816200"/>
            <a:ext cx="889200" cy="718920"/>
          </a:xfrm>
          <a:prstGeom prst="rightArrow">
            <a:avLst>
              <a:gd name="adj1" fmla="val 62028"/>
              <a:gd name="adj2" fmla="val 3092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93"/>
          <p:cNvGrpSpPr/>
          <p:nvPr/>
        </p:nvGrpSpPr>
        <p:grpSpPr>
          <a:xfrm>
            <a:off x="1201680" y="4278240"/>
            <a:ext cx="7745400" cy="2086200"/>
            <a:chOff x="1201680" y="4278240"/>
            <a:chExt cx="7745400" cy="2086200"/>
          </a:xfrm>
        </p:grpSpPr>
        <p:sp>
          <p:nvSpPr>
            <p:cNvPr id="215" name="Line 64"/>
            <p:cNvSpPr/>
            <p:nvPr/>
          </p:nvSpPr>
          <p:spPr>
            <a:xfrm>
              <a:off x="5186520" y="471168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92"/>
            <p:cNvGrpSpPr/>
            <p:nvPr/>
          </p:nvGrpSpPr>
          <p:grpSpPr>
            <a:xfrm>
              <a:off x="1201680" y="4278240"/>
              <a:ext cx="7745400" cy="2086200"/>
              <a:chOff x="1201680" y="4278240"/>
              <a:chExt cx="7745400" cy="2086200"/>
            </a:xfrm>
          </p:grpSpPr>
          <p:sp>
            <p:nvSpPr>
              <p:cNvPr id="217" name="Text Box 62"/>
              <p:cNvSpPr/>
              <p:nvPr/>
            </p:nvSpPr>
            <p:spPr>
              <a:xfrm>
                <a:off x="5057640" y="4278240"/>
                <a:ext cx="3273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la molécul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el fr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63"/>
              <p:cNvSpPr/>
              <p:nvPr/>
            </p:nvSpPr>
            <p:spPr>
              <a:xfrm>
                <a:off x="4792680" y="5464080"/>
                <a:ext cx="4154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 es característico para cada soluto para una composición dada de fase móvil y un determinado tipo de superfic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91"/>
              <p:cNvGrpSpPr/>
              <p:nvPr/>
            </p:nvGrpSpPr>
            <p:grpSpPr>
              <a:xfrm>
                <a:off x="1201680" y="4347720"/>
                <a:ext cx="504720" cy="2016720"/>
                <a:chOff x="1201680" y="4347720"/>
                <a:chExt cx="504720" cy="2016720"/>
              </a:xfrm>
            </p:grpSpPr>
            <p:sp>
              <p:nvSpPr>
                <p:cNvPr id="220" name="Line 24"/>
                <p:cNvSpPr/>
                <p:nvPr/>
              </p:nvSpPr>
              <p:spPr>
                <a:xfrm flipV="1">
                  <a:off x="1201680" y="4347720"/>
                  <a:ext cx="0" cy="20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25"/>
                <p:cNvSpPr/>
                <p:nvPr/>
              </p:nvSpPr>
              <p:spPr>
                <a:xfrm flipV="1">
                  <a:off x="1706400" y="4708440"/>
                  <a:ext cx="0" cy="165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26"/>
                <p:cNvSpPr/>
                <p:nvPr/>
              </p:nvSpPr>
              <p:spPr>
                <a:xfrm flipV="1">
                  <a:off x="1562040" y="585900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AutoShape 19"/>
          <p:cNvSpPr/>
          <p:nvPr/>
        </p:nvSpPr>
        <p:spPr>
          <a:xfrm>
            <a:off x="2163600" y="4492800"/>
            <a:ext cx="1990800" cy="510840"/>
          </a:xfrm>
          <a:prstGeom prst="leftArrow">
            <a:avLst>
              <a:gd name="adj1" fmla="val 60352"/>
              <a:gd name="adj2" fmla="val 914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2163600" y="5637240"/>
            <a:ext cx="1990800" cy="511200"/>
          </a:xfrm>
          <a:prstGeom prst="leftArrow">
            <a:avLst>
              <a:gd name="adj1" fmla="val 60352"/>
              <a:gd name="adj2" fmla="val 914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í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254160" y="2941560"/>
            <a:ext cx="57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50920" y="2314440"/>
            <a:ext cx="568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ESTACIONARIA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H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 absorbida en la celulo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0920" y="185724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celulosa de papel de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242800" y="2048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PA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4"/>
          <p:cNvGrpSpPr/>
          <p:nvPr/>
        </p:nvGrpSpPr>
        <p:grpSpPr>
          <a:xfrm>
            <a:off x="2087280" y="3787920"/>
            <a:ext cx="5312160" cy="1968840"/>
            <a:chOff x="2087280" y="3787920"/>
            <a:chExt cx="5312160" cy="1968840"/>
          </a:xfrm>
        </p:grpSpPr>
        <p:sp>
          <p:nvSpPr>
            <p:cNvPr id="230" name="Rectangle 33"/>
            <p:cNvSpPr/>
            <p:nvPr/>
          </p:nvSpPr>
          <p:spPr>
            <a:xfrm>
              <a:off x="224460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 flipH="1" flipV="1">
              <a:off x="222552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 flipV="1">
              <a:off x="2368440" y="4742640"/>
              <a:ext cx="7225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 flipH="1" flipV="1">
              <a:off x="2333520" y="4742640"/>
              <a:ext cx="75744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 flipV="1">
              <a:off x="2333520" y="457524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 rot="20586600">
              <a:off x="2314440" y="430956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 rot="670200">
              <a:off x="2301840" y="455076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 flipH="1" flipV="1">
              <a:off x="237024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2333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 flipH="1">
              <a:off x="226152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 flipV="1">
              <a:off x="2262240" y="493560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 rot="20586600">
              <a:off x="2243160" y="493020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 rot="670200">
              <a:off x="2301840" y="512712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 flipH="1">
              <a:off x="222552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2368440" y="4214880"/>
              <a:ext cx="72252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 flipH="1">
              <a:off x="2333520" y="421488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2333520" y="385452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 flipV="1" rot="1013400">
              <a:off x="226188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 flipV="1" rot="20929800">
              <a:off x="2257560" y="3856680"/>
              <a:ext cx="68076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244764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208728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230652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244764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230652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57"/>
            <p:cNvSpPr/>
            <p:nvPr/>
          </p:nvSpPr>
          <p:spPr>
            <a:xfrm>
              <a:off x="2593800" y="49593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58"/>
            <p:cNvSpPr/>
            <p:nvPr/>
          </p:nvSpPr>
          <p:spPr>
            <a:xfrm>
              <a:off x="3378240" y="4252680"/>
              <a:ext cx="360360" cy="649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59"/>
            <p:cNvSpPr/>
            <p:nvPr/>
          </p:nvSpPr>
          <p:spPr>
            <a:xfrm>
              <a:off x="3089880" y="42544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60"/>
            <p:cNvSpPr/>
            <p:nvPr/>
          </p:nvSpPr>
          <p:spPr>
            <a:xfrm>
              <a:off x="3053520" y="4468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61"/>
            <p:cNvSpPr/>
            <p:nvPr/>
          </p:nvSpPr>
          <p:spPr>
            <a:xfrm>
              <a:off x="3126600" y="4684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2"/>
            <p:cNvSpPr/>
            <p:nvPr/>
          </p:nvSpPr>
          <p:spPr>
            <a:xfrm flipV="1">
              <a:off x="3032280" y="4387680"/>
              <a:ext cx="21564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3"/>
            <p:cNvSpPr/>
            <p:nvPr/>
          </p:nvSpPr>
          <p:spPr>
            <a:xfrm flipV="1">
              <a:off x="2874960" y="4612680"/>
              <a:ext cx="285840" cy="129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64"/>
            <p:cNvSpPr/>
            <p:nvPr/>
          </p:nvSpPr>
          <p:spPr>
            <a:xfrm flipV="1">
              <a:off x="3071880" y="4828680"/>
              <a:ext cx="171360" cy="201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65"/>
            <p:cNvSpPr/>
            <p:nvPr/>
          </p:nvSpPr>
          <p:spPr>
            <a:xfrm>
              <a:off x="6967440" y="4435200"/>
              <a:ext cx="432000" cy="431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66"/>
            <p:cNvSpPr/>
            <p:nvPr/>
          </p:nvSpPr>
          <p:spPr>
            <a:xfrm>
              <a:off x="571824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 flipH="1" flipV="1">
              <a:off x="569916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 flipV="1">
              <a:off x="5842080" y="4742640"/>
              <a:ext cx="72216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 flipH="1" flipV="1">
              <a:off x="5806440" y="4742640"/>
              <a:ext cx="75708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 flipV="1">
              <a:off x="5807160" y="457524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 rot="20586600">
              <a:off x="5788080" y="430956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 rot="670200">
              <a:off x="5775480" y="455076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 flipH="1" flipV="1">
              <a:off x="584352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580716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 flipH="1">
              <a:off x="5735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 flipV="1">
              <a:off x="5735520" y="493560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 rot="20586600">
              <a:off x="5716440" y="493020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 rot="670200">
              <a:off x="5775480" y="512712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 flipH="1">
              <a:off x="569916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5842080" y="4214880"/>
              <a:ext cx="72216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 flipH="1">
              <a:off x="5806440" y="421488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5807160" y="385452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 flipV="1" rot="1013400">
              <a:off x="573516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 flipV="1" rot="20929800">
              <a:off x="5730840" y="3857400"/>
              <a:ext cx="68112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85"/>
            <p:cNvSpPr/>
            <p:nvPr/>
          </p:nvSpPr>
          <p:spPr>
            <a:xfrm>
              <a:off x="592128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86"/>
            <p:cNvSpPr/>
            <p:nvPr/>
          </p:nvSpPr>
          <p:spPr>
            <a:xfrm>
              <a:off x="556092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87"/>
            <p:cNvSpPr/>
            <p:nvPr/>
          </p:nvSpPr>
          <p:spPr>
            <a:xfrm>
              <a:off x="577980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88"/>
            <p:cNvSpPr/>
            <p:nvPr/>
          </p:nvSpPr>
          <p:spPr>
            <a:xfrm>
              <a:off x="592128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9"/>
            <p:cNvSpPr/>
            <p:nvPr/>
          </p:nvSpPr>
          <p:spPr>
            <a:xfrm>
              <a:off x="577980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9"/>
          <p:cNvGrpSpPr/>
          <p:nvPr/>
        </p:nvGrpSpPr>
        <p:grpSpPr>
          <a:xfrm>
            <a:off x="192240" y="622440"/>
            <a:ext cx="8405640" cy="3417840"/>
            <a:chOff x="192240" y="622440"/>
            <a:chExt cx="8405640" cy="3417840"/>
          </a:xfrm>
        </p:grpSpPr>
        <p:grpSp>
          <p:nvGrpSpPr>
            <p:cNvPr id="288" name="Group 98"/>
            <p:cNvGrpSpPr/>
            <p:nvPr/>
          </p:nvGrpSpPr>
          <p:grpSpPr>
            <a:xfrm>
              <a:off x="192240" y="622440"/>
              <a:ext cx="8405640" cy="3417840"/>
              <a:chOff x="192240" y="622440"/>
              <a:chExt cx="8405640" cy="3417840"/>
            </a:xfrm>
          </p:grpSpPr>
          <p:sp>
            <p:nvSpPr>
              <p:cNvPr id="289" name="Rectangle 2"/>
              <p:cNvSpPr/>
              <p:nvPr/>
            </p:nvSpPr>
            <p:spPr>
              <a:xfrm>
                <a:off x="192240" y="1081080"/>
                <a:ext cx="6081480" cy="4874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0" name="Picture 95" descr=""/>
              <p:cNvPicPr/>
              <p:nvPr/>
            </p:nvPicPr>
            <p:blipFill>
              <a:blip r:embed="rId1"/>
              <a:srcRect l="0" t="0" r="49648" b="0"/>
              <a:stretch/>
            </p:blipFill>
            <p:spPr>
              <a:xfrm>
                <a:off x="7489800" y="622440"/>
                <a:ext cx="1108080" cy="341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1" name="Text Box 4"/>
            <p:cNvSpPr/>
            <p:nvPr/>
          </p:nvSpPr>
          <p:spPr>
            <a:xfrm>
              <a:off x="365400" y="1162080"/>
              <a:ext cx="236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PROPIEDAD: Solu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91"/>
          <p:cNvSpPr/>
          <p:nvPr/>
        </p:nvSpPr>
        <p:spPr>
          <a:xfrm>
            <a:off x="1458720" y="574668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92"/>
          <p:cNvSpPr/>
          <p:nvPr/>
        </p:nvSpPr>
        <p:spPr>
          <a:xfrm>
            <a:off x="4958280" y="5746680"/>
            <a:ext cx="2838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ób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uelta en f. 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8"/>
          <p:cNvSpPr/>
          <p:nvPr/>
        </p:nvSpPr>
        <p:spPr>
          <a:xfrm>
            <a:off x="250920" y="360828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50920" y="188280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plancha de metal o vid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577160" y="20484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APA FINA (T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39"/>
          <p:cNvGrpSpPr/>
          <p:nvPr/>
        </p:nvGrpSpPr>
        <p:grpSpPr>
          <a:xfrm>
            <a:off x="1244520" y="4095720"/>
            <a:ext cx="4797360" cy="1418400"/>
            <a:chOff x="1244520" y="4095720"/>
            <a:chExt cx="4797360" cy="1418400"/>
          </a:xfrm>
        </p:grpSpPr>
        <p:sp>
          <p:nvSpPr>
            <p:cNvPr id="298" name="AutoShape 12"/>
            <p:cNvSpPr/>
            <p:nvPr/>
          </p:nvSpPr>
          <p:spPr>
            <a:xfrm>
              <a:off x="1258920" y="4095720"/>
              <a:ext cx="57636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1244520" y="4179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1244520" y="4397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1244520" y="5045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1244520" y="4829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244520" y="4613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2471760" y="4109760"/>
              <a:ext cx="360360" cy="6494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2183400" y="41115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2147040" y="4325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2220120" y="4541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2"/>
            <p:cNvSpPr/>
            <p:nvPr/>
          </p:nvSpPr>
          <p:spPr>
            <a:xfrm flipV="1">
              <a:off x="2125800" y="4244400"/>
              <a:ext cx="21564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V="1">
              <a:off x="2093760" y="4469760"/>
              <a:ext cx="21456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 flipV="1">
              <a:off x="2120760" y="4686120"/>
              <a:ext cx="21600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25"/>
            <p:cNvSpPr/>
            <p:nvPr/>
          </p:nvSpPr>
          <p:spPr>
            <a:xfrm>
              <a:off x="5610240" y="4478040"/>
              <a:ext cx="431640" cy="432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AutoShape 26"/>
            <p:cNvSpPr/>
            <p:nvPr/>
          </p:nvSpPr>
          <p:spPr>
            <a:xfrm>
              <a:off x="4457880" y="4105080"/>
              <a:ext cx="57600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7"/>
            <p:cNvSpPr/>
            <p:nvPr/>
          </p:nvSpPr>
          <p:spPr>
            <a:xfrm>
              <a:off x="4443480" y="418932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8"/>
            <p:cNvSpPr/>
            <p:nvPr/>
          </p:nvSpPr>
          <p:spPr>
            <a:xfrm>
              <a:off x="4443480" y="4406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9"/>
            <p:cNvSpPr/>
            <p:nvPr/>
          </p:nvSpPr>
          <p:spPr>
            <a:xfrm>
              <a:off x="4443480" y="5054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30"/>
            <p:cNvSpPr/>
            <p:nvPr/>
          </p:nvSpPr>
          <p:spPr>
            <a:xfrm>
              <a:off x="4443480" y="4838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31"/>
            <p:cNvSpPr/>
            <p:nvPr/>
          </p:nvSpPr>
          <p:spPr>
            <a:xfrm>
              <a:off x="4443480" y="4622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38"/>
          <p:cNvGrpSpPr/>
          <p:nvPr/>
        </p:nvGrpSpPr>
        <p:grpSpPr>
          <a:xfrm>
            <a:off x="250920" y="2328840"/>
            <a:ext cx="5997600" cy="1697040"/>
            <a:chOff x="250920" y="2328840"/>
            <a:chExt cx="5997600" cy="1697040"/>
          </a:xfrm>
        </p:grpSpPr>
        <p:sp>
          <p:nvSpPr>
            <p:cNvPr id="319" name="Text Box 9"/>
            <p:cNvSpPr/>
            <p:nvPr/>
          </p:nvSpPr>
          <p:spPr>
            <a:xfrm>
              <a:off x="250920" y="2328840"/>
              <a:ext cx="568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F. ESTACIONARIA </a:t>
              </a:r>
              <a:r>
                <a:rPr b="0" lang="es-E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(SÓLIDA) sólido pulverizado sobre plancha de metal o vidrio. El más usado es el gel de sílic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Picture 32" descr=""/>
            <p:cNvPicPr/>
            <p:nvPr/>
          </p:nvPicPr>
          <p:blipFill>
            <a:blip r:embed="rId1"/>
            <a:stretch/>
          </p:blipFill>
          <p:spPr>
            <a:xfrm>
              <a:off x="5105520" y="2882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Group 41"/>
          <p:cNvGrpSpPr/>
          <p:nvPr/>
        </p:nvGrpSpPr>
        <p:grpSpPr>
          <a:xfrm>
            <a:off x="192240" y="976320"/>
            <a:ext cx="8453160" cy="1998720"/>
            <a:chOff x="192240" y="976320"/>
            <a:chExt cx="8453160" cy="1998720"/>
          </a:xfrm>
        </p:grpSpPr>
        <p:grpSp>
          <p:nvGrpSpPr>
            <p:cNvPr id="322" name="Group 40"/>
            <p:cNvGrpSpPr/>
            <p:nvPr/>
          </p:nvGrpSpPr>
          <p:grpSpPr>
            <a:xfrm>
              <a:off x="192240" y="1101600"/>
              <a:ext cx="6081480" cy="482760"/>
              <a:chOff x="192240" y="1101600"/>
              <a:chExt cx="6081480" cy="482760"/>
            </a:xfrm>
          </p:grpSpPr>
          <p:sp>
            <p:nvSpPr>
              <p:cNvPr id="323" name="Rectangle 4"/>
              <p:cNvSpPr/>
              <p:nvPr/>
            </p:nvSpPr>
            <p:spPr>
              <a:xfrm>
                <a:off x="192240" y="1101600"/>
                <a:ext cx="6081480" cy="4827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6"/>
              <p:cNvSpPr/>
              <p:nvPr/>
            </p:nvSpPr>
            <p:spPr>
              <a:xfrm>
                <a:off x="406440" y="1162080"/>
                <a:ext cx="266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PIEDAD: Hidrofob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5" name="Picture 33" descr=""/>
            <p:cNvPicPr/>
            <p:nvPr/>
          </p:nvPicPr>
          <p:blipFill>
            <a:blip r:embed="rId2"/>
            <a:srcRect l="10851" t="0" r="10784" b="0"/>
            <a:stretch/>
          </p:blipFill>
          <p:spPr>
            <a:xfrm>
              <a:off x="6558120" y="976320"/>
              <a:ext cx="2087280" cy="19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Text Box 35"/>
          <p:cNvSpPr/>
          <p:nvPr/>
        </p:nvSpPr>
        <p:spPr>
          <a:xfrm>
            <a:off x="625320" y="570852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42"/>
          <p:cNvGrpSpPr/>
          <p:nvPr/>
        </p:nvGrpSpPr>
        <p:grpSpPr>
          <a:xfrm>
            <a:off x="4002840" y="3511440"/>
            <a:ext cx="4715640" cy="2777760"/>
            <a:chOff x="4002840" y="3511440"/>
            <a:chExt cx="4715640" cy="2777760"/>
          </a:xfrm>
        </p:grpSpPr>
        <p:graphicFrame>
          <p:nvGraphicFramePr>
            <p:cNvPr id="328" name="Object 34"/>
            <p:cNvGraphicFramePr/>
            <p:nvPr/>
          </p:nvGraphicFramePr>
          <p:xfrm>
            <a:off x="6521400" y="3511440"/>
            <a:ext cx="219708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9" name="Object 3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21400" y="3511440"/>
                      <a:ext cx="2197080" cy="18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Text Box 36"/>
            <p:cNvSpPr/>
            <p:nvPr/>
          </p:nvSpPr>
          <p:spPr>
            <a:xfrm>
              <a:off x="4002840" y="5708520"/>
              <a:ext cx="28386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Molec. Hidrofóbica </a:t>
              </a:r>
              <a:r>
                <a:rPr b="0" lang="es-E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RÁP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isuelta en f.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7"/>
          <p:cNvSpPr/>
          <p:nvPr/>
        </p:nvSpPr>
        <p:spPr>
          <a:xfrm>
            <a:off x="2198520" y="11592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OLUM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25"/>
          <p:cNvGraphicFramePr/>
          <p:nvPr/>
        </p:nvGraphicFramePr>
        <p:xfrm>
          <a:off x="1374840" y="2971800"/>
          <a:ext cx="9046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971800"/>
                    <a:ext cx="904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2"/>
          <p:cNvSpPr/>
          <p:nvPr/>
        </p:nvSpPr>
        <p:spPr>
          <a:xfrm>
            <a:off x="666720" y="178128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CHO CROMATOGRÁ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. estacion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6"/>
          <p:cNvSpPr/>
          <p:nvPr/>
        </p:nvSpPr>
        <p:spPr>
          <a:xfrm>
            <a:off x="274680" y="584280"/>
            <a:ext cx="1355760" cy="718920"/>
          </a:xfrm>
          <a:prstGeom prst="rightArrow">
            <a:avLst>
              <a:gd name="adj1" fmla="val 62028"/>
              <a:gd name="adj2" fmla="val 4714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EMPAQUE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80"/>
          <p:cNvSpPr/>
          <p:nvPr/>
        </p:nvSpPr>
        <p:spPr>
          <a:xfrm>
            <a:off x="1630440" y="52513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97"/>
          <p:cNvGrpSpPr/>
          <p:nvPr/>
        </p:nvGrpSpPr>
        <p:grpSpPr>
          <a:xfrm>
            <a:off x="-73080" y="2592360"/>
            <a:ext cx="1265400" cy="2963160"/>
            <a:chOff x="-73080" y="2592360"/>
            <a:chExt cx="1265400" cy="2963160"/>
          </a:xfrm>
        </p:grpSpPr>
        <p:graphicFrame>
          <p:nvGraphicFramePr>
            <p:cNvPr id="338" name="Object 24"/>
            <p:cNvGraphicFramePr/>
            <p:nvPr/>
          </p:nvGraphicFramePr>
          <p:xfrm>
            <a:off x="368280" y="2878200"/>
            <a:ext cx="784080" cy="261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8280" y="2878200"/>
                      <a:ext cx="78408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0" name="Text Box 30"/>
            <p:cNvSpPr/>
            <p:nvPr/>
          </p:nvSpPr>
          <p:spPr>
            <a:xfrm>
              <a:off x="46080" y="2592360"/>
              <a:ext cx="11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OLUM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-73080" y="509580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l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9"/>
            <p:cNvSpPr/>
            <p:nvPr/>
          </p:nvSpPr>
          <p:spPr>
            <a:xfrm>
              <a:off x="550800" y="5251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88"/>
            <p:cNvSpPr/>
            <p:nvPr/>
          </p:nvSpPr>
          <p:spPr>
            <a:xfrm>
              <a:off x="177840" y="2865600"/>
              <a:ext cx="523800" cy="755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Freeform 89"/>
          <p:cNvSpPr/>
          <p:nvPr/>
        </p:nvSpPr>
        <p:spPr>
          <a:xfrm>
            <a:off x="1754280" y="2281320"/>
            <a:ext cx="660240" cy="1658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98"/>
          <p:cNvGrpSpPr/>
          <p:nvPr/>
        </p:nvGrpSpPr>
        <p:grpSpPr>
          <a:xfrm>
            <a:off x="1703520" y="584280"/>
            <a:ext cx="2396880" cy="5170320"/>
            <a:chOff x="1703520" y="584280"/>
            <a:chExt cx="2396880" cy="5170320"/>
          </a:xfrm>
        </p:grpSpPr>
        <p:graphicFrame>
          <p:nvGraphicFramePr>
            <p:cNvPr id="346" name="Object 27"/>
            <p:cNvGraphicFramePr/>
            <p:nvPr/>
          </p:nvGraphicFramePr>
          <p:xfrm>
            <a:off x="2452680" y="2984400"/>
            <a:ext cx="906480" cy="277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2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2680" y="2984400"/>
                      <a:ext cx="906480" cy="27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35"/>
            <p:cNvSpPr/>
            <p:nvPr/>
          </p:nvSpPr>
          <p:spPr>
            <a:xfrm>
              <a:off x="2720880" y="2606760"/>
              <a:ext cx="13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AutoShape 77"/>
            <p:cNvSpPr/>
            <p:nvPr/>
          </p:nvSpPr>
          <p:spPr>
            <a:xfrm>
              <a:off x="1703520" y="584280"/>
              <a:ext cx="1224000" cy="718920"/>
            </a:xfrm>
            <a:prstGeom prst="rightArrow">
              <a:avLst>
                <a:gd name="adj1" fmla="val 65120"/>
                <a:gd name="adj2" fmla="val 426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APL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81"/>
            <p:cNvSpPr/>
            <p:nvPr/>
          </p:nvSpPr>
          <p:spPr>
            <a:xfrm>
              <a:off x="2695680" y="526104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90"/>
            <p:cNvSpPr/>
            <p:nvPr/>
          </p:nvSpPr>
          <p:spPr>
            <a:xfrm>
              <a:off x="2935440" y="2886120"/>
              <a:ext cx="450720" cy="744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AutoShape 92"/>
          <p:cNvSpPr/>
          <p:nvPr/>
        </p:nvSpPr>
        <p:spPr>
          <a:xfrm>
            <a:off x="990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93"/>
          <p:cNvSpPr/>
          <p:nvPr/>
        </p:nvSpPr>
        <p:spPr>
          <a:xfrm>
            <a:off x="2079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00"/>
          <p:cNvGrpSpPr/>
          <p:nvPr/>
        </p:nvGrpSpPr>
        <p:grpSpPr>
          <a:xfrm>
            <a:off x="2989440" y="549360"/>
            <a:ext cx="5851440" cy="5709960"/>
            <a:chOff x="2989440" y="549360"/>
            <a:chExt cx="5851440" cy="5709960"/>
          </a:xfrm>
        </p:grpSpPr>
        <p:grpSp>
          <p:nvGrpSpPr>
            <p:cNvPr id="355" name="Group 71"/>
            <p:cNvGrpSpPr/>
            <p:nvPr/>
          </p:nvGrpSpPr>
          <p:grpSpPr>
            <a:xfrm>
              <a:off x="4078440" y="1679400"/>
              <a:ext cx="1854000" cy="4075200"/>
              <a:chOff x="4078440" y="1679400"/>
              <a:chExt cx="1854000" cy="4075200"/>
            </a:xfrm>
          </p:grpSpPr>
          <p:graphicFrame>
            <p:nvGraphicFramePr>
              <p:cNvPr id="356" name="Object 57"/>
              <p:cNvGraphicFramePr/>
              <p:nvPr/>
            </p:nvGraphicFramePr>
            <p:xfrm>
              <a:off x="4078440" y="1679400"/>
              <a:ext cx="1854000" cy="1132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7" name="Object 5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78440" y="1679400"/>
                        <a:ext cx="1854000" cy="113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8" name="Object 61"/>
              <p:cNvGraphicFramePr/>
              <p:nvPr/>
            </p:nvGraphicFramePr>
            <p:xfrm>
              <a:off x="4684320" y="2728800"/>
              <a:ext cx="629280" cy="3025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59" name="Object 61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84320" y="2728800"/>
                        <a:ext cx="629280" cy="302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60" name="Text Box 49"/>
            <p:cNvSpPr/>
            <p:nvPr/>
          </p:nvSpPr>
          <p:spPr>
            <a:xfrm>
              <a:off x="3857760" y="134136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RESERVO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móv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Group 75"/>
            <p:cNvGrpSpPr/>
            <p:nvPr/>
          </p:nvGrpSpPr>
          <p:grpSpPr>
            <a:xfrm>
              <a:off x="5807160" y="1633680"/>
              <a:ext cx="2544840" cy="4625640"/>
              <a:chOff x="5807160" y="1633680"/>
              <a:chExt cx="2544840" cy="4625640"/>
            </a:xfrm>
          </p:grpSpPr>
          <p:graphicFrame>
            <p:nvGraphicFramePr>
              <p:cNvPr id="362" name="Object 70"/>
              <p:cNvGraphicFramePr/>
              <p:nvPr/>
            </p:nvGraphicFramePr>
            <p:xfrm>
              <a:off x="5807160" y="1633680"/>
              <a:ext cx="2544840" cy="1448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63" name="Object 7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07160" y="1633680"/>
                        <a:ext cx="2544840" cy="144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Object 72"/>
              <p:cNvGraphicFramePr/>
              <p:nvPr/>
            </p:nvGraphicFramePr>
            <p:xfrm>
              <a:off x="6090840" y="2706840"/>
              <a:ext cx="668880" cy="3415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65" name="Object 72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090840" y="2706840"/>
                        <a:ext cx="668880" cy="34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6" name="Object 73"/>
              <p:cNvGraphicFramePr/>
              <p:nvPr/>
            </p:nvGraphicFramePr>
            <p:xfrm>
              <a:off x="6751440" y="2877480"/>
              <a:ext cx="662040" cy="33818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67" name="Object 7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751440" y="2877480"/>
                        <a:ext cx="662040" cy="338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8" name="Object 74"/>
              <p:cNvGraphicFramePr/>
              <p:nvPr/>
            </p:nvGraphicFramePr>
            <p:xfrm>
              <a:off x="7403400" y="3048480"/>
              <a:ext cx="670320" cy="3051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69" name="Object 7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03400" y="3048480"/>
                        <a:ext cx="670320" cy="305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70" name="AutoShape 78"/>
            <p:cNvSpPr/>
            <p:nvPr/>
          </p:nvSpPr>
          <p:spPr>
            <a:xfrm>
              <a:off x="2989440" y="549360"/>
              <a:ext cx="5851440" cy="790560"/>
            </a:xfrm>
            <a:prstGeom prst="rightArrow">
              <a:avLst>
                <a:gd name="adj1" fmla="val 65065"/>
                <a:gd name="adj2" fmla="val 5246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ELUCIÓN Y RECOGIDA DE FRAC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91"/>
            <p:cNvSpPr/>
            <p:nvPr/>
          </p:nvSpPr>
          <p:spPr>
            <a:xfrm>
              <a:off x="3951360" y="1801800"/>
              <a:ext cx="865080" cy="660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AutoShape 94"/>
            <p:cNvSpPr/>
            <p:nvPr/>
          </p:nvSpPr>
          <p:spPr>
            <a:xfrm>
              <a:off x="3699000" y="4002120"/>
              <a:ext cx="1038240" cy="484200"/>
            </a:xfrm>
            <a:prstGeom prst="rightArrow">
              <a:avLst>
                <a:gd name="adj1" fmla="val 59343"/>
                <a:gd name="adj2" fmla="val 4411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AutoShape 95"/>
          <p:cNvSpPr/>
          <p:nvPr/>
        </p:nvSpPr>
        <p:spPr>
          <a:xfrm>
            <a:off x="5286240" y="4002120"/>
            <a:ext cx="922320" cy="484200"/>
          </a:xfrm>
          <a:prstGeom prst="rightArrow">
            <a:avLst>
              <a:gd name="adj1" fmla="val 54750"/>
              <a:gd name="adj2" fmla="val 5016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102"/>
          <p:cNvGrpSpPr/>
          <p:nvPr/>
        </p:nvGrpSpPr>
        <p:grpSpPr>
          <a:xfrm>
            <a:off x="4575240" y="5674680"/>
            <a:ext cx="3679920" cy="872280"/>
            <a:chOff x="4575240" y="5674680"/>
            <a:chExt cx="3679920" cy="872280"/>
          </a:xfrm>
        </p:grpSpPr>
        <p:sp>
          <p:nvSpPr>
            <p:cNvPr id="375" name="Text Box 82"/>
            <p:cNvSpPr/>
            <p:nvPr/>
          </p:nvSpPr>
          <p:spPr>
            <a:xfrm>
              <a:off x="4575240" y="6100920"/>
              <a:ext cx="21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Picture 87" descr=""/>
            <p:cNvPicPr/>
            <p:nvPr/>
          </p:nvPicPr>
          <p:blipFill>
            <a:blip r:embed="rId19"/>
            <a:srcRect l="58882" t="83336" r="4036" b="7064"/>
            <a:stretch/>
          </p:blipFill>
          <p:spPr>
            <a:xfrm>
              <a:off x="7031160" y="5899320"/>
              <a:ext cx="1224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AutoShape 96"/>
            <p:cNvSpPr/>
            <p:nvPr/>
          </p:nvSpPr>
          <p:spPr>
            <a:xfrm rot="8179800">
              <a:off x="6248520" y="5819040"/>
              <a:ext cx="612720" cy="484200"/>
            </a:xfrm>
            <a:prstGeom prst="rightArrow">
              <a:avLst>
                <a:gd name="adj1" fmla="val 59380"/>
                <a:gd name="adj2" fmla="val 4458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99"/>
          <p:cNvGrpSpPr/>
          <p:nvPr/>
        </p:nvGrpSpPr>
        <p:grpSpPr>
          <a:xfrm>
            <a:off x="3214800" y="3479760"/>
            <a:ext cx="1204920" cy="1657440"/>
            <a:chOff x="3214800" y="3479760"/>
            <a:chExt cx="1204920" cy="1657440"/>
          </a:xfrm>
        </p:grpSpPr>
        <p:sp>
          <p:nvSpPr>
            <p:cNvPr id="379" name="Text Box 55"/>
            <p:cNvSpPr/>
            <p:nvPr/>
          </p:nvSpPr>
          <p:spPr>
            <a:xfrm>
              <a:off x="3409920" y="3522600"/>
              <a:ext cx="100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grave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utoShape 58"/>
            <p:cNvSpPr/>
            <p:nvPr/>
          </p:nvSpPr>
          <p:spPr>
            <a:xfrm>
              <a:off x="3214800" y="3479760"/>
              <a:ext cx="215640" cy="1657440"/>
            </a:xfrm>
            <a:prstGeom prst="downArrow">
              <a:avLst>
                <a:gd name="adj1" fmla="val 50000"/>
                <a:gd name="adj2" fmla="val 19215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1"/>
          <p:cNvGrpSpPr/>
          <p:nvPr/>
        </p:nvGrpSpPr>
        <p:grpSpPr>
          <a:xfrm>
            <a:off x="6670800" y="3811680"/>
            <a:ext cx="2384280" cy="1366920"/>
            <a:chOff x="6670800" y="3811680"/>
            <a:chExt cx="2384280" cy="1366920"/>
          </a:xfrm>
        </p:grpSpPr>
        <p:sp>
          <p:nvSpPr>
            <p:cNvPr id="382" name="Line 84"/>
            <p:cNvSpPr/>
            <p:nvPr/>
          </p:nvSpPr>
          <p:spPr>
            <a:xfrm>
              <a:off x="6670800" y="3811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5"/>
            <p:cNvSpPr/>
            <p:nvPr/>
          </p:nvSpPr>
          <p:spPr>
            <a:xfrm>
              <a:off x="7338960" y="42433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6"/>
            <p:cNvSpPr/>
            <p:nvPr/>
          </p:nvSpPr>
          <p:spPr>
            <a:xfrm>
              <a:off x="7986600" y="4756320"/>
              <a:ext cx="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83"/>
            <p:cNvSpPr/>
            <p:nvPr/>
          </p:nvSpPr>
          <p:spPr>
            <a:xfrm>
              <a:off x="8045280" y="4818240"/>
              <a:ext cx="100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IFU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5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1357200" y="457200"/>
            <a:ext cx="6414840" cy="6043320"/>
            <a:chOff x="1357200" y="457200"/>
            <a:chExt cx="6414840" cy="6043320"/>
          </a:xfrm>
        </p:grpSpPr>
        <p:sp>
          <p:nvSpPr>
            <p:cNvPr id="394" name="Rectangle 3"/>
            <p:cNvSpPr/>
            <p:nvPr/>
          </p:nvSpPr>
          <p:spPr>
            <a:xfrm>
              <a:off x="1946880" y="457200"/>
              <a:ext cx="580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5" name="Object 4"/>
            <p:cNvGraphicFramePr/>
            <p:nvPr/>
          </p:nvGraphicFramePr>
          <p:xfrm>
            <a:off x="1357200" y="1321200"/>
            <a:ext cx="6414840" cy="517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321200"/>
                      <a:ext cx="6414840" cy="51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400" name="Object 5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Text Box 6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7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404" name="Object 8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6" name="Text Box 9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 de Tabla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400" y="1928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ie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.col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684360" y="1268280"/>
          <a:ext cx="78483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8483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533520" y="5589720"/>
            <a:ext cx="861048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,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1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9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420" name="Object 6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Line 7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2556000" y="1916280"/>
            <a:ext cx="3809880" cy="3498840"/>
            <a:chOff x="2556000" y="1916280"/>
            <a:chExt cx="3809880" cy="3498840"/>
          </a:xfrm>
        </p:grpSpPr>
        <p:graphicFrame>
          <p:nvGraphicFramePr>
            <p:cNvPr id="425" name="Object 5"/>
            <p:cNvGraphicFramePr/>
            <p:nvPr/>
          </p:nvGraphicFramePr>
          <p:xfrm>
            <a:off x="2556000" y="1916280"/>
            <a:ext cx="380988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0" y="1916280"/>
                      <a:ext cx="380988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7" name="Line 6"/>
            <p:cNvSpPr/>
            <p:nvPr/>
          </p:nvSpPr>
          <p:spPr>
            <a:xfrm flipV="1">
              <a:off x="3927240" y="2754360"/>
              <a:ext cx="53316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 flipH="1">
              <a:off x="4155840" y="4202280"/>
              <a:ext cx="68544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8"/>
          <p:cNvSpPr/>
          <p:nvPr/>
        </p:nvSpPr>
        <p:spPr>
          <a:xfrm>
            <a:off x="324000" y="333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847800" cy="2114280"/>
          </a:xfrm>
          <a:prstGeom prst="rect">
            <a:avLst/>
          </a:prstGeom>
          <a:ln w="0">
            <a:noFill/>
          </a:ln>
        </p:spPr>
      </p:pic>
      <p:sp>
        <p:nvSpPr>
          <p:cNvPr id="431" name="Line 10"/>
          <p:cNvSpPr/>
          <p:nvPr/>
        </p:nvSpPr>
        <p:spPr>
          <a:xfrm>
            <a:off x="4716360" y="2565360"/>
            <a:ext cx="1656000" cy="2872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924120" cy="2085840"/>
          </a:xfrm>
          <a:prstGeom prst="rect">
            <a:avLst/>
          </a:prstGeom>
          <a:ln w="0">
            <a:noFill/>
          </a:ln>
        </p:spPr>
      </p:pic>
      <p:sp>
        <p:nvSpPr>
          <p:cNvPr id="433" name="Line 12"/>
          <p:cNvSpPr/>
          <p:nvPr/>
        </p:nvSpPr>
        <p:spPr>
          <a:xfrm flipH="1">
            <a:off x="1402920" y="4508640"/>
            <a:ext cx="2521080" cy="151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95280" y="765000"/>
            <a:ext cx="828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443" name="Text Box 4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5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6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446" name="Object 7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7" name="Rectangle 8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 Box 9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5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Text Box 5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26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27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Object 1028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029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030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 Box 1031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Object 3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Object 4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6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croma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croma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13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4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Object 4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5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s-E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Text Box 5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509" name="Text Box 8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512" name="Text Box 11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515" name="Text Box 14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16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518" name="Rectangle 17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521" name="Picture 3" descr="Scan0019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Text Box 4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5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Text Box 6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Object 8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9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10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Text Box 7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9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Text Box 5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7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Text Box 4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304920" y="3886200"/>
            <a:ext cx="51814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7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yo: Concentración máxima en el per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la desviación estándar 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1/N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7"/>
              <p:cNvSpPr txBox="1"/>
              <p:nvPr/>
            </p:nvSpPr>
            <p:spPr>
              <a:xfrm>
                <a:off x="533520" y="4495680"/>
                <a:ext cx="3600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62" name="Group 8"/>
          <p:cNvGrpSpPr/>
          <p:nvPr/>
        </p:nvGrpSpPr>
        <p:grpSpPr>
          <a:xfrm>
            <a:off x="5638680" y="3649680"/>
            <a:ext cx="3505320" cy="2753640"/>
            <a:chOff x="5638680" y="3649680"/>
            <a:chExt cx="3505320" cy="2753640"/>
          </a:xfrm>
        </p:grpSpPr>
        <p:graphicFrame>
          <p:nvGraphicFramePr>
            <p:cNvPr id="563" name="Object 9"/>
            <p:cNvGraphicFramePr/>
            <p:nvPr/>
          </p:nvGraphicFramePr>
          <p:xfrm>
            <a:off x="5638680" y="3649680"/>
            <a:ext cx="3505320" cy="255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364968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Text Box 10"/>
            <p:cNvSpPr/>
            <p:nvPr/>
          </p:nvSpPr>
          <p:spPr>
            <a:xfrm>
              <a:off x="7772400" y="594360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4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9" name="Rectangle 5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6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Text Box 7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9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Rectangle 10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1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533520" y="457200"/>
            <a:ext cx="80769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5638680" y="2637000"/>
            <a:ext cx="3505320" cy="2753640"/>
            <a:chOff x="5638680" y="2637000"/>
            <a:chExt cx="3505320" cy="2753640"/>
          </a:xfrm>
        </p:grpSpPr>
        <p:graphicFrame>
          <p:nvGraphicFramePr>
            <p:cNvPr id="578" name="Object 4"/>
            <p:cNvGraphicFramePr/>
            <p:nvPr/>
          </p:nvGraphicFramePr>
          <p:xfrm>
            <a:off x="5638680" y="2637000"/>
            <a:ext cx="3505320" cy="255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263700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0" name="Text Box 5"/>
            <p:cNvSpPr/>
            <p:nvPr/>
          </p:nvSpPr>
          <p:spPr>
            <a:xfrm>
              <a:off x="7772400" y="493092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1" name="Object 4"/>
              <p:cNvSpPr txBox="1"/>
              <p:nvPr/>
            </p:nvSpPr>
            <p:spPr>
              <a:xfrm>
                <a:off x="893880" y="333360"/>
                <a:ext cx="55227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5"/>
              <p:cNvSpPr txBox="1"/>
              <p:nvPr/>
            </p:nvSpPr>
            <p:spPr>
              <a:xfrm>
                <a:off x="971640" y="2708280"/>
                <a:ext cx="5929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3"/>
              <p:cNvSpPr txBox="1"/>
              <p:nvPr/>
            </p:nvSpPr>
            <p:spPr>
              <a:xfrm>
                <a:off x="1116000" y="4437000"/>
                <a:ext cx="2479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4"/>
              <p:cNvSpPr txBox="1"/>
              <p:nvPr/>
            </p:nvSpPr>
            <p:spPr>
              <a:xfrm>
                <a:off x="5219640" y="4653000"/>
                <a:ext cx="1204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826920" y="476280"/>
                <a:ext cx="558504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7"/>
              <p:cNvSpPr txBox="1"/>
              <p:nvPr/>
            </p:nvSpPr>
            <p:spPr>
              <a:xfrm>
                <a:off x="971640" y="2133720"/>
                <a:ext cx="29401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7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7" name="Object 8"/>
          <p:cNvGraphicFramePr/>
          <p:nvPr/>
        </p:nvGraphicFramePr>
        <p:xfrm>
          <a:off x="2340000" y="3500280"/>
          <a:ext cx="4824360" cy="32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482436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620640"/>
          <a:ext cx="8569080" cy="4756320"/>
        </p:xfrm>
        <a:graphic>
          <a:graphicData uri="http://schemas.openxmlformats.org/drawingml/2006/table">
            <a:tbl>
              <a:tblPr/>
              <a:tblGrid>
                <a:gridCol w="1296720"/>
                <a:gridCol w="936720"/>
                <a:gridCol w="1063800"/>
                <a:gridCol w="1317600"/>
                <a:gridCol w="1611360"/>
                <a:gridCol w="1244520"/>
                <a:gridCol w="109836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romatografí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2"/>
          <p:cNvGrpSpPr/>
          <p:nvPr/>
        </p:nvGrpSpPr>
        <p:grpSpPr>
          <a:xfrm>
            <a:off x="4795920" y="3090960"/>
            <a:ext cx="1695240" cy="1168200"/>
            <a:chOff x="4795920" y="3090960"/>
            <a:chExt cx="1695240" cy="1168200"/>
          </a:xfrm>
        </p:grpSpPr>
        <p:grpSp>
          <p:nvGrpSpPr>
            <p:cNvPr id="59" name="Group 28"/>
            <p:cNvGrpSpPr/>
            <p:nvPr/>
          </p:nvGrpSpPr>
          <p:grpSpPr>
            <a:xfrm>
              <a:off x="4795920" y="3367080"/>
              <a:ext cx="1695240" cy="892080"/>
              <a:chOff x="4795920" y="3367080"/>
              <a:chExt cx="1695240" cy="892080"/>
            </a:xfrm>
          </p:grpSpPr>
          <p:sp>
            <p:nvSpPr>
              <p:cNvPr id="60" name="Rectangle 25"/>
              <p:cNvSpPr/>
              <p:nvPr/>
            </p:nvSpPr>
            <p:spPr>
              <a:xfrm>
                <a:off x="4795920" y="3367080"/>
                <a:ext cx="1695240" cy="89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22"/>
              <p:cNvSpPr/>
              <p:nvPr/>
            </p:nvSpPr>
            <p:spPr>
              <a:xfrm>
                <a:off x="4934880" y="3449520"/>
                <a:ext cx="1412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análisis 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purific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AutoShape 23"/>
            <p:cNvSpPr/>
            <p:nvPr/>
          </p:nvSpPr>
          <p:spPr>
            <a:xfrm>
              <a:off x="5556240" y="3090960"/>
              <a:ext cx="162000" cy="226800"/>
            </a:xfrm>
            <a:prstGeom prst="downArrow">
              <a:avLst>
                <a:gd name="adj1" fmla="val 50000"/>
                <a:gd name="adj2" fmla="val 3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36"/>
          <p:cNvGrpSpPr/>
          <p:nvPr/>
        </p:nvGrpSpPr>
        <p:grpSpPr>
          <a:xfrm>
            <a:off x="428760" y="453960"/>
            <a:ext cx="8450280" cy="4033800"/>
            <a:chOff x="428760" y="453960"/>
            <a:chExt cx="8450280" cy="4033800"/>
          </a:xfrm>
        </p:grpSpPr>
        <p:grpSp>
          <p:nvGrpSpPr>
            <p:cNvPr id="64" name="Group 31"/>
            <p:cNvGrpSpPr/>
            <p:nvPr/>
          </p:nvGrpSpPr>
          <p:grpSpPr>
            <a:xfrm>
              <a:off x="428760" y="1720800"/>
              <a:ext cx="6127560" cy="1405800"/>
              <a:chOff x="428760" y="1720800"/>
              <a:chExt cx="6127560" cy="1405800"/>
            </a:xfrm>
          </p:grpSpPr>
          <p:sp>
            <p:nvSpPr>
              <p:cNvPr id="65" name="Rectangle 15"/>
              <p:cNvSpPr/>
              <p:nvPr/>
            </p:nvSpPr>
            <p:spPr>
              <a:xfrm>
                <a:off x="428760" y="1720800"/>
                <a:ext cx="397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Separa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de biomoléculas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20"/>
              <p:cNvSpPr/>
              <p:nvPr/>
            </p:nvSpPr>
            <p:spPr>
              <a:xfrm>
                <a:off x="4925880" y="1795320"/>
                <a:ext cx="1630440" cy="13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teí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épt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minoác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líp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DN/ARN 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4"/>
              <p:cNvSpPr/>
              <p:nvPr/>
            </p:nvSpPr>
            <p:spPr>
              <a:xfrm>
                <a:off x="4102200" y="1854360"/>
                <a:ext cx="647640" cy="1537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34"/>
            <p:cNvGrpSpPr/>
            <p:nvPr/>
          </p:nvGrpSpPr>
          <p:grpSpPr>
            <a:xfrm>
              <a:off x="735480" y="453960"/>
              <a:ext cx="8143560" cy="4033800"/>
              <a:chOff x="735480" y="453960"/>
              <a:chExt cx="8143560" cy="4033800"/>
            </a:xfrm>
          </p:grpSpPr>
          <p:sp>
            <p:nvSpPr>
              <p:cNvPr id="69" name="Text Box 5"/>
              <p:cNvSpPr/>
              <p:nvPr/>
            </p:nvSpPr>
            <p:spPr>
              <a:xfrm>
                <a:off x="7273080" y="1882800"/>
                <a:ext cx="1425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Mikhail Tswe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19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Group 29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71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Rectangle 17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3" name="Picture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4" name="Group 35"/>
          <p:cNvGrpSpPr/>
          <p:nvPr/>
        </p:nvGrpSpPr>
        <p:grpSpPr>
          <a:xfrm>
            <a:off x="419040" y="3384720"/>
            <a:ext cx="8480520" cy="3025440"/>
            <a:chOff x="419040" y="3384720"/>
            <a:chExt cx="8480520" cy="3025440"/>
          </a:xfrm>
        </p:grpSpPr>
        <p:sp>
          <p:nvSpPr>
            <p:cNvPr id="75" name="Text Box 3"/>
            <p:cNvSpPr/>
            <p:nvPr/>
          </p:nvSpPr>
          <p:spPr>
            <a:xfrm>
              <a:off x="474840" y="4605480"/>
              <a:ext cx="8424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M    MÓVIL: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solvente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ESTACIONARIA: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ólid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    (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PORTE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33"/>
            <p:cNvGrpSpPr/>
            <p:nvPr/>
          </p:nvGrpSpPr>
          <p:grpSpPr>
            <a:xfrm>
              <a:off x="419040" y="3384720"/>
              <a:ext cx="4168800" cy="3025440"/>
              <a:chOff x="419040" y="3384720"/>
              <a:chExt cx="4168800" cy="3025440"/>
            </a:xfrm>
          </p:grpSpPr>
          <p:grpSp>
            <p:nvGrpSpPr>
              <p:cNvPr id="77" name="Group 21"/>
              <p:cNvGrpSpPr/>
              <p:nvPr/>
            </p:nvGrpSpPr>
            <p:grpSpPr>
              <a:xfrm>
                <a:off x="536400" y="4762440"/>
                <a:ext cx="2508120" cy="1647720"/>
                <a:chOff x="536400" y="4762440"/>
                <a:chExt cx="2508120" cy="1647720"/>
              </a:xfrm>
            </p:grpSpPr>
            <p:sp>
              <p:nvSpPr>
                <p:cNvPr id="78" name="Rectangle 6"/>
                <p:cNvSpPr/>
                <p:nvPr/>
              </p:nvSpPr>
              <p:spPr>
                <a:xfrm>
                  <a:off x="536400" y="4763520"/>
                  <a:ext cx="1173600" cy="156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7"/>
                <p:cNvSpPr/>
                <p:nvPr/>
              </p:nvSpPr>
              <p:spPr>
                <a:xfrm>
                  <a:off x="1707120" y="4762440"/>
                  <a:ext cx="1173600" cy="15642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Oval 8"/>
                <p:cNvSpPr/>
                <p:nvPr/>
              </p:nvSpPr>
              <p:spPr>
                <a:xfrm>
                  <a:off x="1511640" y="5021280"/>
                  <a:ext cx="390600" cy="34704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9"/>
                <p:cNvSpPr/>
                <p:nvPr/>
              </p:nvSpPr>
              <p:spPr>
                <a:xfrm>
                  <a:off x="1551960" y="5528160"/>
                  <a:ext cx="341640" cy="289440"/>
                </a:xfrm>
                <a:prstGeom prst="rect">
                  <a:avLst/>
                </a:prstGeom>
                <a:solidFill>
                  <a:srgbClr val="99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AutoShape 10"/>
                <p:cNvSpPr/>
                <p:nvPr/>
              </p:nvSpPr>
              <p:spPr>
                <a:xfrm>
                  <a:off x="1968840" y="510804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AutoShape 11"/>
                <p:cNvSpPr/>
                <p:nvPr/>
              </p:nvSpPr>
              <p:spPr>
                <a:xfrm flipH="1">
                  <a:off x="1111320" y="557892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12"/>
                <p:cNvSpPr/>
                <p:nvPr/>
              </p:nvSpPr>
              <p:spPr>
                <a:xfrm>
                  <a:off x="825840" y="6011640"/>
                  <a:ext cx="596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MÓV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13"/>
                <p:cNvSpPr/>
                <p:nvPr/>
              </p:nvSpPr>
              <p:spPr>
                <a:xfrm>
                  <a:off x="1537560" y="5983560"/>
                  <a:ext cx="150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ESTACION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0"/>
              <p:cNvSpPr/>
              <p:nvPr/>
            </p:nvSpPr>
            <p:spPr>
              <a:xfrm>
                <a:off x="419040" y="3384720"/>
                <a:ext cx="416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en función de su diferente distribución en dos FASES (¡siempre!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7"/>
          <p:cNvGrpSpPr/>
          <p:nvPr/>
        </p:nvGrpSpPr>
        <p:grpSpPr>
          <a:xfrm>
            <a:off x="428760" y="453960"/>
            <a:ext cx="8470800" cy="5954760"/>
            <a:chOff x="428760" y="453960"/>
            <a:chExt cx="8470800" cy="5954760"/>
          </a:xfrm>
        </p:grpSpPr>
        <p:sp>
          <p:nvSpPr>
            <p:cNvPr id="89" name="Rectangle 13"/>
            <p:cNvSpPr/>
            <p:nvPr/>
          </p:nvSpPr>
          <p:spPr>
            <a:xfrm>
              <a:off x="428760" y="1720800"/>
              <a:ext cx="6532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os componentes de una mezcla son disueltos en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móvi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que se desplaza a través de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estacionari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Cada molécula interacciona en distinta forma con la f. móvil y la f. estacionaria (según sus PROPIEDADES FÍSICAS) </a:t>
              </a:r>
              <a:r>
                <a:rPr b="0" lang="es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atraviesan la fase móvil a diferente veloc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36"/>
            <p:cNvGrpSpPr/>
            <p:nvPr/>
          </p:nvGrpSpPr>
          <p:grpSpPr>
            <a:xfrm>
              <a:off x="474840" y="453960"/>
              <a:ext cx="8424720" cy="5954760"/>
              <a:chOff x="474840" y="453960"/>
              <a:chExt cx="8424720" cy="5954760"/>
            </a:xfrm>
          </p:grpSpPr>
          <p:grpSp>
            <p:nvGrpSpPr>
              <p:cNvPr id="91" name="Group 34"/>
              <p:cNvGrpSpPr/>
              <p:nvPr/>
            </p:nvGrpSpPr>
            <p:grpSpPr>
              <a:xfrm>
                <a:off x="474840" y="4605480"/>
                <a:ext cx="8424720" cy="1803240"/>
                <a:chOff x="474840" y="4605480"/>
                <a:chExt cx="8424720" cy="1803240"/>
              </a:xfrm>
            </p:grpSpPr>
            <p:sp>
              <p:nvSpPr>
                <p:cNvPr id="92" name="Text Box 3"/>
                <p:cNvSpPr/>
                <p:nvPr/>
              </p:nvSpPr>
              <p:spPr>
                <a:xfrm>
                  <a:off x="474840" y="4605480"/>
                  <a:ext cx="842472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      . MÓVIL: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(solvente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a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. ESTACIONARIA: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sólid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(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OPORTE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" name="Group 4"/>
                <p:cNvGrpSpPr/>
                <p:nvPr/>
              </p:nvGrpSpPr>
              <p:grpSpPr>
                <a:xfrm>
                  <a:off x="536400" y="4762440"/>
                  <a:ext cx="2508120" cy="1646280"/>
                  <a:chOff x="536400" y="4762440"/>
                  <a:chExt cx="2508120" cy="1646280"/>
                </a:xfrm>
              </p:grpSpPr>
              <p:sp>
                <p:nvSpPr>
                  <p:cNvPr id="94" name="Rectangle 5"/>
                  <p:cNvSpPr/>
                  <p:nvPr/>
                </p:nvSpPr>
                <p:spPr>
                  <a:xfrm>
                    <a:off x="536400" y="4762440"/>
                    <a:ext cx="1173600" cy="156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Rectangle 6"/>
                  <p:cNvSpPr/>
                  <p:nvPr/>
                </p:nvSpPr>
                <p:spPr>
                  <a:xfrm>
                    <a:off x="1707120" y="4762440"/>
                    <a:ext cx="1173600" cy="15642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Oval 7"/>
                  <p:cNvSpPr/>
                  <p:nvPr/>
                </p:nvSpPr>
                <p:spPr>
                  <a:xfrm>
                    <a:off x="1511640" y="5020200"/>
                    <a:ext cx="390600" cy="347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Rectangle 8"/>
                  <p:cNvSpPr/>
                  <p:nvPr/>
                </p:nvSpPr>
                <p:spPr>
                  <a:xfrm>
                    <a:off x="1551960" y="5526720"/>
                    <a:ext cx="341640" cy="289440"/>
                  </a:xfrm>
                  <a:prstGeom prst="rect">
                    <a:avLst/>
                  </a:prstGeom>
                  <a:solidFill>
                    <a:srgbClr val="99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B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AutoShape 9"/>
                  <p:cNvSpPr/>
                  <p:nvPr/>
                </p:nvSpPr>
                <p:spPr>
                  <a:xfrm>
                    <a:off x="1968840" y="510696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AutoShape 10"/>
                  <p:cNvSpPr/>
                  <p:nvPr/>
                </p:nvSpPr>
                <p:spPr>
                  <a:xfrm flipH="1">
                    <a:off x="1111320" y="557748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Text Box 11"/>
                  <p:cNvSpPr/>
                  <p:nvPr/>
                </p:nvSpPr>
                <p:spPr>
                  <a:xfrm>
                    <a:off x="825840" y="6010200"/>
                    <a:ext cx="596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ÓVI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Text Box 12"/>
                  <p:cNvSpPr/>
                  <p:nvPr/>
                </p:nvSpPr>
                <p:spPr>
                  <a:xfrm>
                    <a:off x="1537560" y="5982120"/>
                    <a:ext cx="1506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ESTACIONARI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" name="Group 33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103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Text Box 15"/>
                <p:cNvSpPr/>
                <p:nvPr/>
              </p:nvSpPr>
              <p:spPr>
                <a:xfrm>
                  <a:off x="7273080" y="1882800"/>
                  <a:ext cx="1425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Mikhail Tswet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19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16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" name="Picture 2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7" name="Group 32"/>
          <p:cNvGrpSpPr/>
          <p:nvPr/>
        </p:nvGrpSpPr>
        <p:grpSpPr>
          <a:xfrm>
            <a:off x="1876320" y="3814920"/>
            <a:ext cx="2678040" cy="556920"/>
            <a:chOff x="1876320" y="3814920"/>
            <a:chExt cx="2678040" cy="556920"/>
          </a:xfrm>
        </p:grpSpPr>
        <p:sp>
          <p:nvSpPr>
            <p:cNvPr id="108" name="AutoShape 27"/>
            <p:cNvSpPr/>
            <p:nvPr/>
          </p:nvSpPr>
          <p:spPr>
            <a:xfrm rot="5400000">
              <a:off x="2021760" y="3697560"/>
              <a:ext cx="266400" cy="557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2603160" y="3814920"/>
              <a:ext cx="1951200" cy="556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2756160" y="390672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26960" y="136692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1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el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estado físico de la 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íquido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LÍQU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6960" y="4759200"/>
            <a:ext cx="848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3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la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etodologí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utilizada para el desarrollo de la cromatografía (relacionado con la fase estacio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ESTACIONARI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obre superficie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34600" y="83196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 CRITE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426960" y="2811600"/>
            <a:ext cx="8480520" cy="1694520"/>
            <a:chOff x="426960" y="2811600"/>
            <a:chExt cx="8480520" cy="1694520"/>
          </a:xfrm>
        </p:grpSpPr>
        <p:sp>
          <p:nvSpPr>
            <p:cNvPr id="116" name="Text Box 6"/>
            <p:cNvSpPr/>
            <p:nvPr/>
          </p:nvSpPr>
          <p:spPr>
            <a:xfrm>
              <a:off x="426960" y="2811600"/>
              <a:ext cx="84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2_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Según la </a:t>
              </a: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causa por la que se separan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los componentes de la muestra (relacionado con las propiedades físicas de las biomoléculas)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17"/>
            <p:cNvGrpSpPr/>
            <p:nvPr/>
          </p:nvGrpSpPr>
          <p:grpSpPr>
            <a:xfrm>
              <a:off x="1214280" y="3589200"/>
              <a:ext cx="6905880" cy="916920"/>
              <a:chOff x="1214280" y="3589200"/>
              <a:chExt cx="6905880" cy="916920"/>
            </a:xfrm>
          </p:grpSpPr>
          <p:sp>
            <p:nvSpPr>
              <p:cNvPr id="118" name="Text Box 12"/>
              <p:cNvSpPr/>
              <p:nvPr/>
            </p:nvSpPr>
            <p:spPr>
              <a:xfrm>
                <a:off x="1214280" y="3589200"/>
                <a:ext cx="226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Solubi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Tama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Carg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4"/>
              <p:cNvSpPr/>
              <p:nvPr/>
            </p:nvSpPr>
            <p:spPr>
              <a:xfrm>
                <a:off x="3681360" y="3589200"/>
                <a:ext cx="4438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Hidrofobic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por afinidad biológ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inespecíf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7T21:15:14Z</dcterms:modified>
  <cp:revision>127</cp:revision>
  <dc:subject/>
  <dc:title>Separación Sólido-Líquido</dc:title>
</cp:coreProperties>
</file>