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A6F-4D42-4B39-99E8-453A944B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0F6-B8C2-42FA-827C-FB86FA08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0A2-447F-4955-99E9-CC1986C2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B55-5F6B-43E2-9F1F-23047E9F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B43-3357-46DC-A7E0-2D53A098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FA2-7A46-4495-9B39-58ECEEDF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69F-58F5-4819-A6FF-07690D5A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443-79D8-4277-BDD6-68424C14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F1E-F7B6-437A-B134-427B9F55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53C-0EA9-4536-9EE8-49C6E569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833-060A-4308-946C-0D986C4D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A7B-83FA-4428-907D-E4607AA1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F8F5-A1FF-4056-B54F-0D2804BC76A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Tratamiento de desech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Trozo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14400" y="20574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Los trozos de membrana se pueden separar utilizado las operaciones de separación sólido-líquido ya mencionadas como son microfiltración, centrifugación o extracción líquido-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Organel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880" y="2057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ara cada organelo, ya se sea mitocondria, cloroplasto, núcleo, etc. existen procedimientos especí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ris and Angel (1989) “ Protein purification methods: a practical approach”, IRL Press, pp 97-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cesamiento de proteínas agregadas </a:t>
            </a:r>
            <a:br>
              <a:rPr sz="2800"/>
            </a:b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Inclusion bod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52280" y="1371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modificadas genéticamente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roteínas recombinante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uerpos inc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n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solu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ción beneficiosa: Agregaciones no son degradadas significativamente por proteasas, ya que los sitios sensible a la actividad de proteasas se encuentran inaccesi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5867280" y="2514600"/>
          <a:ext cx="25718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5718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380880"/>
            <a:ext cx="297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proteína  40  a 50 % del total de polipéptidos que forman estas agreg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es de de separar de otros desechos celulares y componentes solubles de la célula por medio de centrifugación mode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091040" y="228600"/>
          <a:ext cx="505296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1040" y="228600"/>
                    <a:ext cx="505296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57200" y="533520"/>
            <a:ext cx="83059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ost tratamiento (Renatu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los cuerpos in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tamiento con  Hidrocloruro de guanidina (GdmC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s proteínas contienen cisteína se debe agregar un agente reductor como D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proteína contiene enlaces disulfuro el DTT debe ser eliminado por medio de di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olding (Re-enrol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do de proteínas deben ser diluidas a una concentración muy bajas (5 - 20 mg/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icionar buffer fosfato con una solución de glutathione reducido y glutathione oxid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Concentració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73240" y="504720"/>
            <a:ext cx="4071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63720" y="1676520"/>
            <a:ext cx="2693880" cy="332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ompimien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38080" y="3352680"/>
            <a:ext cx="2979720" cy="453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Precipitación  Ácidos Nucleicos, 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495320" y="4437000"/>
            <a:ext cx="184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176000" y="5357880"/>
            <a:ext cx="1530360" cy="515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041360" y="642924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38080" y="2666880"/>
            <a:ext cx="3043440" cy="241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Separación Material Intracel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42080" y="0"/>
            <a:ext cx="294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351160" y="1008000"/>
            <a:ext cx="3038400" cy="3999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116240" y="4427640"/>
            <a:ext cx="2306880" cy="3636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3462480" y="6303960"/>
            <a:ext cx="2489040" cy="4874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2351160" y="1071720"/>
            <a:ext cx="321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1905120" y="304812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2259000" y="4727520"/>
            <a:ext cx="183528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1889280" y="1260360"/>
            <a:ext cx="0" cy="441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4572000" y="69372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6422760" y="4600440"/>
            <a:ext cx="1587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9"/>
          <p:cNvSpPr/>
          <p:nvPr/>
        </p:nvSpPr>
        <p:spPr>
          <a:xfrm flipH="1">
            <a:off x="3462480" y="693720"/>
            <a:ext cx="11253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5405400" y="1260360"/>
            <a:ext cx="2761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3462480" y="693720"/>
            <a:ext cx="0" cy="3888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5033880" y="316080"/>
            <a:ext cx="0" cy="377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893640" y="1676520"/>
            <a:ext cx="2031120" cy="8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095920" y="457200"/>
            <a:ext cx="135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1905120" y="2209680"/>
            <a:ext cx="15840" cy="43524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1889280" y="1260360"/>
            <a:ext cx="4460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2259000" y="4475160"/>
            <a:ext cx="0" cy="25236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7996320" y="693720"/>
            <a:ext cx="0" cy="39067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5681520" y="1260360"/>
            <a:ext cx="0" cy="31464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4941720" y="4791240"/>
            <a:ext cx="0" cy="566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941720" y="5862600"/>
            <a:ext cx="0" cy="4302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0" y="762120"/>
            <a:ext cx="190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Proteí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In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4651560" y="2773440"/>
            <a:ext cx="13654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685800" y="535788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838080" y="4114800"/>
            <a:ext cx="2979720" cy="3020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ratamiento de cuerpos incl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6"/>
          <p:cNvSpPr/>
          <p:nvPr/>
        </p:nvSpPr>
        <p:spPr>
          <a:xfrm>
            <a:off x="1905120" y="380988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7"/>
          <p:cNvSpPr/>
          <p:nvPr/>
        </p:nvSpPr>
        <p:spPr>
          <a:xfrm>
            <a:off x="6423120" y="5357880"/>
            <a:ext cx="2035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6053040" y="6240600"/>
            <a:ext cx="240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39"/>
          <p:cNvSpPr/>
          <p:nvPr/>
        </p:nvSpPr>
        <p:spPr>
          <a:xfrm>
            <a:off x="3780000" y="4005360"/>
            <a:ext cx="3311280" cy="108108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6"/>
          <p:cNvSpPr/>
          <p:nvPr/>
        </p:nvSpPr>
        <p:spPr>
          <a:xfrm>
            <a:off x="380880" y="380880"/>
            <a:ext cx="83059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última etapa en el proceso de recuperación de proteínas es la concentración del extracto, a esta altura del proceso el extracto contiene  una mezcla del producto deseado con otros compuestos celulares solubles. Se debe reducir la masa o volumen al máximo eliminando agua, para ellos se utilizan  a operaciones unitarias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ltrafilt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tra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ofi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8088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a sido una de las técnicas más utilizas para la concentración de proteí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fini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operación que permite la concentración de una solución mediante la adición de un 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“agente precipitan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533520" y="342900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fácil de esc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ede utilizarse en forma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pos senc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ispone de muchos agente precipitantes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0880" y="6858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aracter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 producir desnaturación del solu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en proveer una mayor estabilidad al solu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73240" y="504720"/>
            <a:ext cx="4071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63720" y="1676520"/>
            <a:ext cx="2693880" cy="332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ompimien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38080" y="3352680"/>
            <a:ext cx="2979720" cy="453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00"/>
                </a:solidFill>
                <a:latin typeface="Comic Sans MS"/>
              </a:rPr>
              <a:t>Precipitación  Ácidos Nucleicos, 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75000" y="4462560"/>
            <a:ext cx="139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cen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176000" y="5357880"/>
            <a:ext cx="1530360" cy="515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041360" y="642924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080" y="2666880"/>
            <a:ext cx="3043440" cy="241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Separación Material Intracel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142080" y="0"/>
            <a:ext cx="294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51160" y="1008000"/>
            <a:ext cx="3038400" cy="3999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4116240" y="4427640"/>
            <a:ext cx="2306880" cy="3636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62480" y="6303960"/>
            <a:ext cx="2489040" cy="4874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51160" y="1071720"/>
            <a:ext cx="321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1905120" y="304812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2259000" y="4727520"/>
            <a:ext cx="183528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1889280" y="1260360"/>
            <a:ext cx="0" cy="441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4572000" y="69372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8"/>
          <p:cNvSpPr/>
          <p:nvPr/>
        </p:nvSpPr>
        <p:spPr>
          <a:xfrm flipH="1">
            <a:off x="6422760" y="4600440"/>
            <a:ext cx="1587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3462480" y="693720"/>
            <a:ext cx="11253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5405400" y="1260360"/>
            <a:ext cx="2761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3462480" y="693720"/>
            <a:ext cx="0" cy="3888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5033880" y="316080"/>
            <a:ext cx="0" cy="377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6893640" y="1676520"/>
            <a:ext cx="2031120" cy="8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2095920" y="457200"/>
            <a:ext cx="135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1905120" y="2209680"/>
            <a:ext cx="15840" cy="43524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6"/>
          <p:cNvSpPr/>
          <p:nvPr/>
        </p:nvSpPr>
        <p:spPr>
          <a:xfrm>
            <a:off x="1889280" y="1260360"/>
            <a:ext cx="4460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2259000" y="4475160"/>
            <a:ext cx="0" cy="25236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7996320" y="693720"/>
            <a:ext cx="0" cy="39067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5681520" y="1260360"/>
            <a:ext cx="0" cy="31464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4941720" y="4791240"/>
            <a:ext cx="0" cy="566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4941720" y="5862600"/>
            <a:ext cx="0" cy="4302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0" y="762120"/>
            <a:ext cx="190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Proteí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In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3"/>
          <p:cNvSpPr/>
          <p:nvPr/>
        </p:nvSpPr>
        <p:spPr>
          <a:xfrm>
            <a:off x="4651560" y="2773440"/>
            <a:ext cx="13654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685800" y="535788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838080" y="4114800"/>
            <a:ext cx="2979720" cy="3020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0000"/>
                </a:solidFill>
                <a:latin typeface="Comic Sans MS"/>
              </a:rPr>
              <a:t>Tratamiento de cuerpos incl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6"/>
          <p:cNvSpPr/>
          <p:nvPr/>
        </p:nvSpPr>
        <p:spPr>
          <a:xfrm>
            <a:off x="1905120" y="380988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7"/>
          <p:cNvSpPr/>
          <p:nvPr/>
        </p:nvSpPr>
        <p:spPr>
          <a:xfrm>
            <a:off x="6423120" y="5357880"/>
            <a:ext cx="2035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6053040" y="6240600"/>
            <a:ext cx="240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9"/>
          <p:cNvSpPr/>
          <p:nvPr/>
        </p:nvSpPr>
        <p:spPr>
          <a:xfrm>
            <a:off x="250920" y="3213000"/>
            <a:ext cx="4103640" cy="1440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08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pos de precipitación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066680"/>
          <a:ext cx="8686800" cy="5307120"/>
        </p:xfrm>
        <a:graphic>
          <a:graphicData uri="http://schemas.openxmlformats.org/drawingml/2006/table">
            <a:tbl>
              <a:tblPr/>
              <a:tblGrid>
                <a:gridCol w="3962520"/>
                <a:gridCol w="4724280"/>
              </a:tblGrid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dament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te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minución de la solubi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cipitación no selectiva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)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ales : Sulfato de amonio , sulfato de sod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B) pH :  Trabajar en el pI de la proteí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) Solventes: Etanol, acet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) Polímeros no iónicos : PEG</a:t>
                      </a:r>
                      <a:r>
                        <a:rPr b="0" lang="es-E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) Polielectrolitos sintéticos y natu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cipitación selectiva por Afinidad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Formación de complejos por interacción de los sitios activos de las  proteínas con ligandos específicos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Desnaturación selec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ambio en la conformación de las proteínas</a:t>
                      </a:r>
                      <a:r>
                        <a:rPr b="0" lang="es-E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Temper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Solvente</a:t>
                      </a:r>
                      <a:r>
                        <a:rPr b="0" lang="es-E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80880" y="685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ructura de las prote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as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solubilidad depende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ones pol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ones hidrofóbicas entre las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erzas de repulsión electroestáticas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315108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6245280" y="3200400"/>
            <a:ext cx="28987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Comic Sans MS"/>
              </a:rPr>
              <a:t>Zonas hidrofóbicas</a:t>
            </a:r>
            <a:r>
              <a:rPr b="1" lang="es-ES_tradnl" sz="2000" spc="-1" strike="noStrike">
                <a:solidFill>
                  <a:srgbClr val="008000"/>
                </a:solidFill>
                <a:latin typeface="Comic Sans MS"/>
              </a:rPr>
              <a:t> (no po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H="1">
            <a:off x="6629040" y="3809880"/>
            <a:ext cx="609480" cy="8384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3276720" y="3733920"/>
            <a:ext cx="1676160" cy="4572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80880" y="3352680"/>
            <a:ext cx="2898720" cy="6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Comic Sans MS"/>
              </a:rPr>
              <a:t>Zonas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cargadas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33520" y="5334120"/>
            <a:ext cx="28987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Zon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cargadas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3"/>
          <p:cNvSpPr/>
          <p:nvPr/>
        </p:nvSpPr>
        <p:spPr>
          <a:xfrm flipV="1">
            <a:off x="3505320" y="5105160"/>
            <a:ext cx="1523880" cy="533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049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No Selectiva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826920" y="155736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apas en el proceso de precipitación no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12"/>
          <p:cNvGrpSpPr/>
          <p:nvPr/>
        </p:nvGrpSpPr>
        <p:grpSpPr>
          <a:xfrm>
            <a:off x="684360" y="2708280"/>
            <a:ext cx="7638840" cy="2987640"/>
            <a:chOff x="684360" y="2708280"/>
            <a:chExt cx="7638840" cy="2987640"/>
          </a:xfrm>
        </p:grpSpPr>
        <p:pic>
          <p:nvPicPr>
            <p:cNvPr id="177" name="Picture 8" descr=""/>
            <p:cNvPicPr/>
            <p:nvPr/>
          </p:nvPicPr>
          <p:blipFill>
            <a:blip r:embed="rId1"/>
            <a:stretch/>
          </p:blipFill>
          <p:spPr>
            <a:xfrm>
              <a:off x="684360" y="3355920"/>
              <a:ext cx="763884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Line 10"/>
            <p:cNvSpPr/>
            <p:nvPr/>
          </p:nvSpPr>
          <p:spPr>
            <a:xfrm>
              <a:off x="1260360" y="277992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1404720" y="2708280"/>
              <a:ext cx="32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Agente Precipit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80880" y="30492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No Selectiva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con 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o de las metodolo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utilizadas. Las sales que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se utilizan son el sulfato de amonio y el sulfato de so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4572000" y="2629080"/>
          <a:ext cx="457200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29080"/>
                    <a:ext cx="457200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5"/>
          <p:cNvSpPr/>
          <p:nvPr/>
        </p:nvSpPr>
        <p:spPr>
          <a:xfrm>
            <a:off x="457200" y="297180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Curvas de solubilidad presentan dos zo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solubiliz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o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lting-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de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 o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lting-ou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”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85800" y="60958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dos estos procesos se realizan a temperaturas inferiores a 5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3049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adi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sal elimina el agua que hidrat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, dejando las regiones hidrof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cas en libertad de interac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zonas hid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bicas tienden a interactuar entre 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lo cual resulta termod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amente favorable, dado que produce un aumento de la entro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12600" y="3429000"/>
            <a:ext cx="9131400" cy="3187800"/>
            <a:chOff x="12600" y="3429000"/>
            <a:chExt cx="9131400" cy="3187800"/>
          </a:xfrm>
        </p:grpSpPr>
        <p:graphicFrame>
          <p:nvGraphicFramePr>
            <p:cNvPr id="189" name="Object 4"/>
            <p:cNvGraphicFramePr/>
            <p:nvPr/>
          </p:nvGraphicFramePr>
          <p:xfrm>
            <a:off x="12600" y="3429000"/>
            <a:ext cx="9131400" cy="31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600" y="3429000"/>
                      <a:ext cx="9131400" cy="31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Text Box 5"/>
            <p:cNvSpPr/>
            <p:nvPr/>
          </p:nvSpPr>
          <p:spPr>
            <a:xfrm>
              <a:off x="5791320" y="5791320"/>
              <a:ext cx="312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0000"/>
                  </a:solidFill>
                  <a:latin typeface="Times New Roman"/>
                </a:rPr>
                <a:t>Termodinámicamente favo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89000" y="-28440"/>
            <a:ext cx="8764560" cy="69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0880" y="3049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 interactuar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forman grandes estructuras las que sedimen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que presentan mayor hidrofobicidad son las que precipitan con menos 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38080" y="2666880"/>
            <a:ext cx="769644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Ecuación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cuación de C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g Sp = A – m [ sal]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p : Concentración de Proteína en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sal] : Concentración de 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: Constante que depende del pH, T,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: Constante que depende del tipo de sal y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304920"/>
            <a:ext cx="8229600" cy="64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0 litros de un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que contiene 10 g/lt de BSA y 5 gr/lt de un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X se intentan separar por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con sulfato de amon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objetivo es recuperar el 90% de la BSA en el precipitado. Para ello se han determinado, con anterioridad, las solubilidades de cada una de est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n presencia de sulfato de amo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BSA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n S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BSA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21.6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–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7.65 [Sulfato de Amoni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rote</a:t>
            </a:r>
            <a:r>
              <a:rPr b="0" lang="es-ES_tradnl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a X 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n Sx = 20.0 </a:t>
            </a:r>
            <a:r>
              <a:rPr b="0" lang="es-ES_tradnl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–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7.00 [Sulfato de Amoni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(Solubilidad) se expresa en g/lt y [Sulfato de Amonio] en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umiendo que la solubilidad es independiente de la presencia de ot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, determine la pureza con respecto al BSA en el precipitad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80880" y="304920"/>
            <a:ext cx="8229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Isoel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é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tr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con carga se repelen, si se trabaja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erca del p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s presentan una carga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ma y no hay repul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y tienden a una at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5029200"/>
            <a:ext cx="777240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s 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idos m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 utiliz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osf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orh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lf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ú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1447920" y="2143080"/>
          <a:ext cx="52578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43080"/>
                    <a:ext cx="52578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304920"/>
            <a:ext cx="87631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) Precipitaci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solventes a baja temperatura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-5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º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milar al efecto de la sal, se desplaza el agua por los solv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cuaci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de dise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ñ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 em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co esta dado por la expre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g S = log So +  K/D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Constante Die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Solubilidad en agua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24000" y="49417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Selecci</a:t>
            </a: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n del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         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be ser 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iscible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reaccionar con las prote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as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Object 6"/>
          <p:cNvGraphicFramePr/>
          <p:nvPr/>
        </p:nvGraphicFramePr>
        <p:xfrm>
          <a:off x="5257800" y="2819520"/>
          <a:ext cx="38862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819520"/>
                    <a:ext cx="38862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Separación de desechos celulares</a:t>
            </a: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Clarificación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amaño de los desechos celulare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debris)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Viscosidad del extra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9520" y="472428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Esta etapa resulta ser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de las etapas más difíciles y costo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0880" y="30492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Pol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ro no 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 de Ogston (en base  a la termod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s 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s reducen la cantidad efectiva de agua disponible para la solva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04920" y="3352680"/>
            <a:ext cx="700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Ecuaci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n de dise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ñ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a solubilidad se puede expres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og S = X  - a C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: Concentraci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 de pol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: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80880" y="304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elec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del pol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 neu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luble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idar que no produzca aumentos en la viscosidad, viscosidad mod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cent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Baja pa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de alto peso molecular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Alta pa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de bajo peso mole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abiliz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( Inte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-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 trabajar a temperatura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 se puede separar por intercambio ionico (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Por qu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?)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905360" cy="4032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461880" y="378000"/>
            <a:ext cx="63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e) Precipitación por Polielectrol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4356000" y="537372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cation-polian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cation-proteín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anfolito-proteí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39640" y="981000"/>
            <a:ext cx="3168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olielectrolito modifica las caracteristicas superficiales, en forma reversible, de las proteína y hacen que éstan interactu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bien los polielectrolitos son caros se utilizan en pequeñas cantidades y se pueden recic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28"/>
          <p:cNvSpPr/>
          <p:nvPr/>
        </p:nvSpPr>
        <p:spPr>
          <a:xfrm>
            <a:off x="438840" y="0"/>
            <a:ext cx="641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2.- Precipitaci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Selec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9"/>
          <p:cNvSpPr/>
          <p:nvPr/>
        </p:nvSpPr>
        <p:spPr>
          <a:xfrm>
            <a:off x="380880" y="1066680"/>
            <a:ext cx="7010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 Selectiva por Afinidad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 selectiva de la proteína de interés, basándose en la capacidad que tiene la proteína para unirse a siti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finidad 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hib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ticuer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30"/>
          <p:cNvSpPr/>
          <p:nvPr/>
        </p:nvSpPr>
        <p:spPr>
          <a:xfrm>
            <a:off x="4934160" y="3110040"/>
            <a:ext cx="2923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-   Pseudoafinidad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olo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203640" y="404640"/>
            <a:ext cx="5290920" cy="6120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395280" y="62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Homo-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95280" y="27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Hetero-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2000160" y="-24120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395280" y="83664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pos de 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80880" y="304920"/>
            <a:ext cx="82296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3.-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Desnatur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selectiva</a:t>
            </a: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esnaturan los contaminantes por condiciones extremas de pH, 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ª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 solventes o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- Se despliega,  quedando mucha zonas expue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- Dichas zonas interac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.- Luego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contaminantes precipitan, mientras qu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e inte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se mantiene en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62120" y="1371600"/>
            <a:ext cx="7619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Teor</a:t>
            </a: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í</a:t>
            </a: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Hay prote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as que son estables a altas temperaturas, mientras que otras 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219320" y="533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n por Temperatura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2362320" y="2971800"/>
          <a:ext cx="434340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971800"/>
                    <a:ext cx="43434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304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a de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tiene la for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[P]: Conc. de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isu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 : Constante, f(tempera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     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lentamiento y luego enfr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 presencia de sulfato de amonio para estabilizar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 inhibir las proteasa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766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1447920" y="990720"/>
                <a:ext cx="40384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Δ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3049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in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é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tica de desnaturaliz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un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tiene una ene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de activ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400.000 J/mol. Cuando est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e mantiene a 5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 por un lapso de 10 minutos se desnatura en un 5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) Calcule la constante de la velocidad espec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ca de desnaturaliz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) Calcule la temperatura a la cual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 se desnatura el 10% en 10 min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 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90720" y="18288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entrifug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icro o Ultrafil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Extracción en dos fases acuosa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utilizando un sistema de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olietilenglicol (PEG) -dext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Adsorción en lechos expandido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Expanded bed adsorp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pH extr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m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regiones con igual carga que se repe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ompimiento de las fuerzas de at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que dan la conform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80880" y="30492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gentes o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cos alteran las caracte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icas superficiales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, lo cual produce su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y posterior inte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entre las zonas expue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n utilizar solvente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anol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orofor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mperaturas entre 20-3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, acelera el proceso y permite el ahorro de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ebe estudiar el efec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ros agente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8088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QUIPOS DE PRECIPI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trata esencialmente de reactores, que pueden operar en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)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) Continua Flujo Pi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) Continua Perfectamente Ag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14400" y="3200400"/>
          <a:ext cx="73152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00400"/>
                    <a:ext cx="73152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80880" y="3049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s principales en un proceso de precipit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alquiera de ellas puede ser la limi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zclado Inicial: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roteica se mezcla con el agente precipitante para eliminar las barreras de transferencia de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ucle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Al disminuir la solubilidad d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e inicia la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al formarse en el seno de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equ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ñ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o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recimiento Peri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o  o Crecimiento Limitado por difu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En esta fase los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 van creciendo conform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ifunde desde el seno de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hasta los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. La frecuencia de las colisiones e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limitada por la velocidad de difu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las m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y no por el mezclado. Se forman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primarias de 0.1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–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80880" y="3049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.- Crecimiento Orto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o (Influenciado por el flujo): El mezclado favorece el crecimiento del agregado for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dose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en el rango entre 1-100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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.- Flocul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Los agregados forman los grandes floculo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85800" y="29718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arámetros fundamentales a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elocidad de ag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Fuerza iónica</a:t>
            </a:r>
            <a:r>
              <a:rPr b="0" lang="es-E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tion of Proteins: Nonspecific and Specific.Ashok Kumar, Igor Yu. Galaev, and Bo Mattiasson en ISOLATIONAND PURIFICATIONOF PROTEINS edited by Rajni Hutti-Kaul Bo Mattiasson, MARCEL DEKKER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Tipos de dese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990720" y="22860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rote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rozo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Organelos celul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uerpos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71640" y="119700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77770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50920" y="-674640"/>
            <a:ext cx="8628120" cy="70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14400" y="205740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bajar a bajas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justar el pH quí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0880" y="20574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l DNA aumenta la viscosidad del extracto, por otra parte si el producto es de uso terapéutico e inyectable todos los ácidos nucleicos deben ser removi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s alternativ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recipitar el DNA formando agregados con macromoléculas policationicas, tales como sulfato de prota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Utilizar DNA-asa para reducir la viscosidad, pero se deber en cuenta que al agregar productos al extracto se dificultan las etapas siguientes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9-08-20T21:19:11Z</dcterms:modified>
  <cp:revision>115</cp:revision>
  <dc:subject/>
  <dc:title>Separación Sólido-Líquido</dc:title>
</cp:coreProperties>
</file>