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EF8-56A9-485B-A714-B8126E39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C68-7A02-4999-84DD-A5E2ADA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611-62E8-4EC0-B370-4641382E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6B6-781E-4018-949C-6034E233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E83-B0EA-411E-B299-AD25350A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9D5-71F0-4E12-852C-89D60A0D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0F1-5A2E-4509-BF3C-0BEEA832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75E-D23E-47A9-9658-EAE5C2FA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E34-68FB-4ACC-94B3-B7FDB371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6CE-6E12-4103-95B1-31E9D7E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C16-47B6-4839-92BC-86A03F4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BA4-A85A-4813-9B64-5DAF6248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F74-A6A9-413E-B9F5-A52CA5A945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Concentració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495320" y="4437000"/>
            <a:ext cx="184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39"/>
          <p:cNvSpPr/>
          <p:nvPr/>
        </p:nvSpPr>
        <p:spPr>
          <a:xfrm>
            <a:off x="3780000" y="4005360"/>
            <a:ext cx="3311280" cy="108108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6"/>
          <p:cNvSpPr/>
          <p:nvPr/>
        </p:nvSpPr>
        <p:spPr>
          <a:xfrm>
            <a:off x="380880" y="380880"/>
            <a:ext cx="830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centració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última etapa en el proceso de recuperación de proteínas es la concentración del extracto, a esta altura del proceso el extracto contiene  una mezcla del producto deseado con otros compuestos celulares solubles. Se debe reducir la masa o volumen al máximo eliminando agua, para ellos se utilizan  a operaciones unitaria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ltrafil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r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of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8088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 sido una de las técnicas más utilizas para la concentración de proteí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fini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operación que permite la concentración de una solución mediante la adición de un 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“agente precipit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3520" y="342900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fácil de esc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ede utilizarse en form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pos senci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ispone de muchos agente precipitante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0880" y="6858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racter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 producir desnaturación de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ben proveer una mayor estabilidad al soluto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73240" y="504720"/>
            <a:ext cx="40719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63720" y="1676520"/>
            <a:ext cx="2693880" cy="332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ompimiento Ce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38080" y="3352680"/>
            <a:ext cx="2979720" cy="45396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Comic Sans MS"/>
              </a:rPr>
              <a:t>Precipitación  Ácidos Nucleicos, Protea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75000" y="4462560"/>
            <a:ext cx="139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cen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176000" y="5357880"/>
            <a:ext cx="1530360" cy="51516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rificación A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041360" y="6429240"/>
            <a:ext cx="130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fi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38080" y="2666880"/>
            <a:ext cx="3043440" cy="2412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omic Sans MS"/>
              </a:rPr>
              <a:t>Separación Material Intracelu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142080" y="0"/>
            <a:ext cx="294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do de Fer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51160" y="1008000"/>
            <a:ext cx="3038400" cy="39996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4116240" y="4427640"/>
            <a:ext cx="2306880" cy="36360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62480" y="6303960"/>
            <a:ext cx="2489040" cy="487440"/>
          </a:xfrm>
          <a:prstGeom prst="rect">
            <a:avLst/>
          </a:prstGeom>
          <a:noFill/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51160" y="1071720"/>
            <a:ext cx="321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Separación de Célu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1905120" y="304812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259000" y="4727520"/>
            <a:ext cx="183528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1889280" y="1260360"/>
            <a:ext cx="0" cy="44136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4572000" y="693720"/>
            <a:ext cx="340848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8"/>
          <p:cNvSpPr/>
          <p:nvPr/>
        </p:nvSpPr>
        <p:spPr>
          <a:xfrm flipH="1">
            <a:off x="6422760" y="4600440"/>
            <a:ext cx="1587240" cy="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9"/>
          <p:cNvSpPr/>
          <p:nvPr/>
        </p:nvSpPr>
        <p:spPr>
          <a:xfrm flipH="1">
            <a:off x="3462480" y="693720"/>
            <a:ext cx="112536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5405400" y="1260360"/>
            <a:ext cx="27612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3462480" y="693720"/>
            <a:ext cx="0" cy="3888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033880" y="316080"/>
            <a:ext cx="0" cy="377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6893640" y="1676520"/>
            <a:ext cx="2031120" cy="8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n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inmoviliz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élulas reten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2095920" y="457200"/>
            <a:ext cx="135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Con Cél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1905120" y="2209680"/>
            <a:ext cx="15840" cy="435240"/>
          </a:xfrm>
          <a:prstGeom prst="line">
            <a:avLst/>
          </a:prstGeom>
          <a:ln w="76320">
            <a:solidFill>
              <a:srgbClr val="b50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1889280" y="1260360"/>
            <a:ext cx="446040" cy="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2259000" y="4475160"/>
            <a:ext cx="0" cy="25236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996320" y="693720"/>
            <a:ext cx="0" cy="3906720"/>
          </a:xfrm>
          <a:prstGeom prst="line">
            <a:avLst/>
          </a:prstGeom>
          <a:ln w="7632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5681520" y="1260360"/>
            <a:ext cx="0" cy="31464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4941720" y="4791240"/>
            <a:ext cx="0" cy="56664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4941720" y="5862600"/>
            <a:ext cx="0" cy="43020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2"/>
          <p:cNvSpPr/>
          <p:nvPr/>
        </p:nvSpPr>
        <p:spPr>
          <a:xfrm>
            <a:off x="0" y="762120"/>
            <a:ext cx="1905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Proteí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Comic Sans MS"/>
              </a:rPr>
              <a:t>In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"/>
          <p:cNvSpPr/>
          <p:nvPr/>
        </p:nvSpPr>
        <p:spPr>
          <a:xfrm>
            <a:off x="4651560" y="2773440"/>
            <a:ext cx="13654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obrenad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685800" y="5357880"/>
            <a:ext cx="181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838080" y="4114800"/>
            <a:ext cx="2979720" cy="302040"/>
          </a:xfrm>
          <a:prstGeom prst="rect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00"/>
                </a:solidFill>
                <a:latin typeface="Comic Sans MS"/>
              </a:rPr>
              <a:t>Tratamiento de cuerpos inclu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6"/>
          <p:cNvSpPr/>
          <p:nvPr/>
        </p:nvSpPr>
        <p:spPr>
          <a:xfrm>
            <a:off x="1905120" y="3809880"/>
            <a:ext cx="0" cy="314280"/>
          </a:xfrm>
          <a:prstGeom prst="line">
            <a:avLst/>
          </a:prstGeom>
          <a:ln w="76320">
            <a:solidFill>
              <a:srgbClr val="dc00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23120" y="5357880"/>
            <a:ext cx="203508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6053040" y="6240600"/>
            <a:ext cx="240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omic Sans MS"/>
              </a:rPr>
              <a:t>Per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Altos niveles de pur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Estabilidad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9"/>
          <p:cNvSpPr/>
          <p:nvPr/>
        </p:nvSpPr>
        <p:spPr>
          <a:xfrm>
            <a:off x="250920" y="3213000"/>
            <a:ext cx="4103640" cy="1440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pos de precipitación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1066680"/>
          <a:ext cx="8686800" cy="5307120"/>
        </p:xfrm>
        <a:graphic>
          <a:graphicData uri="http://schemas.openxmlformats.org/drawingml/2006/table">
            <a:tbl>
              <a:tblPr/>
              <a:tblGrid>
                <a:gridCol w="3962520"/>
                <a:gridCol w="472428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amen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te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minución de la solu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no selectiva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)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Sales : Sulfato de amonio , sulfato de sod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B) pH :  Trabajar en el pI de la proteí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) Solventes: Etanol, ac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) Polímeros no iónicos : PEG</a:t>
                      </a:r>
                      <a:r>
                        <a:rPr b="0" lang="es-E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) Polielectrolitos sintéticos y na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ecipitación selectiva por Afinidad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Formación de complejos por interacción de los sitios activos de las  proteínas con ligandos específicos</a:t>
                      </a:r>
                      <a:r>
                        <a:rPr b="0" lang="es-E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Desnaturación selec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ambio en la conformación de las proteínas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s-ES_tradnl" sz="2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Solvente</a:t>
                      </a:r>
                      <a:r>
                        <a:rPr b="0" lang="es-E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808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ructura de las prote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as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solubilidad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po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ciones hidrofóbicas entre las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erzas de repulsión electroestáticas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3151080" cy="2438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6245280" y="320040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00"/>
                </a:solidFill>
                <a:latin typeface="Comic Sans MS"/>
              </a:rPr>
              <a:t>Zonas hidrofóbicas</a:t>
            </a:r>
            <a:r>
              <a:rPr b="1" lang="es-ES_tradnl" sz="2000" spc="-1" strike="noStrike">
                <a:solidFill>
                  <a:srgbClr val="008000"/>
                </a:solidFill>
                <a:latin typeface="Comic Sans MS"/>
              </a:rPr>
              <a:t> (no pola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9"/>
          <p:cNvSpPr/>
          <p:nvPr/>
        </p:nvSpPr>
        <p:spPr>
          <a:xfrm flipH="1">
            <a:off x="6629040" y="3809880"/>
            <a:ext cx="609480" cy="8384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3276720" y="3733920"/>
            <a:ext cx="1676160" cy="45720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80880" y="3352680"/>
            <a:ext cx="2898720" cy="6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cargadas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33520" y="5334120"/>
            <a:ext cx="289872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Zonas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cargadas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505320" y="5105160"/>
            <a:ext cx="1523880" cy="533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049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826920" y="155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apas en el proceso de precipitación no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684360" y="2708280"/>
            <a:ext cx="7638840" cy="2987640"/>
            <a:chOff x="684360" y="2708280"/>
            <a:chExt cx="7638840" cy="2987640"/>
          </a:xfrm>
        </p:grpSpPr>
        <p:pic>
          <p:nvPicPr>
            <p:cNvPr id="177" name="Picture 8" descr=""/>
            <p:cNvPicPr/>
            <p:nvPr/>
          </p:nvPicPr>
          <p:blipFill>
            <a:blip r:embed="rId1"/>
            <a:stretch/>
          </p:blipFill>
          <p:spPr>
            <a:xfrm>
              <a:off x="684360" y="3355920"/>
              <a:ext cx="763884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Line 10"/>
            <p:cNvSpPr/>
            <p:nvPr/>
          </p:nvSpPr>
          <p:spPr>
            <a:xfrm>
              <a:off x="1260360" y="2779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1404720" y="2708280"/>
              <a:ext cx="32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Agente Precipi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0880" y="304920"/>
            <a:ext cx="8001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No Selectiva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con 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o de las metodolo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utilizadas. Las sales que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utilizan son el sulfato de amonio y el sulfato de so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4572000" y="2629080"/>
          <a:ext cx="457200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29080"/>
                    <a:ext cx="457200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5"/>
          <p:cNvSpPr/>
          <p:nvPr/>
        </p:nvSpPr>
        <p:spPr>
          <a:xfrm>
            <a:off x="457200" y="297180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urvas de solubilidad presentan dos zo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solubi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Zona de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  o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“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alting-ou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”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60958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dos estos procesos se realizan a temperaturas inferiores a 5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3049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adi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sal elimina el agua que hidrat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dejando las regiones hidrof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cas en libertad de interac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zonas hid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bicas tienden a interactuar entre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lo cual result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mente favorable, dado que produce un aumento de la entro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12600" y="3429000"/>
            <a:ext cx="9131400" cy="3187800"/>
            <a:chOff x="12600" y="3429000"/>
            <a:chExt cx="9131400" cy="318780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12600" y="3429000"/>
            <a:ext cx="9131400" cy="31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600" y="3429000"/>
                      <a:ext cx="9131400" cy="31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Text Box 5"/>
            <p:cNvSpPr/>
            <p:nvPr/>
          </p:nvSpPr>
          <p:spPr>
            <a:xfrm>
              <a:off x="5791320" y="5791320"/>
              <a:ext cx="312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0000"/>
                  </a:solidFill>
                  <a:latin typeface="Times New Roman"/>
                </a:rPr>
                <a:t>Termodinámicamente favo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89000" y="-28440"/>
            <a:ext cx="876456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80880" y="3049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 interactu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forman grandes estructuras las que sedi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que presentan mayor hidrofobicidad son las que precipitan con menos 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38080" y="2666880"/>
            <a:ext cx="769644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Ecuación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cuación de C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g Sp = A – m [ sal]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 : Concentración de Proteína en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sal] : Concentración de 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: Constante que depende del pH, T,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: Constante que depende del tipo de sal y de la prote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304920"/>
            <a:ext cx="8229600" cy="64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 litros de un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contiene 10 g/lt de BSA y 5 gr/lt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X se intentan separar por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con sulfato de amon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es recuperar el 90% de la BSA en el precipitado. Para ello se han determinado, con anterioridad, las solubilidades de cada una de est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n presencia de sulfato de amo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n S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BSA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21.6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7.65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te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 X 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n Sx = 20.0 </a:t>
            </a:r>
            <a:r>
              <a:rPr b="0" lang="es-ES_tradnl" sz="20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–</a:t>
            </a:r>
            <a:r>
              <a:rPr b="0" lang="es-ES_tradnl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.00 [Sulfato de Amonio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(Solubilidad) se expresa en g/lt y [Sulfato de Amonio] en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umiendo que la solubilidad es independiente de la presencia de ot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, determine la pureza con respecto al BSA en el precipitad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0880" y="304920"/>
            <a:ext cx="82296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b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Isoe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t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 carga se repelen, si se trabaja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erca del p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s presentan una carga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 y no hay repul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tienden a una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5029200"/>
            <a:ext cx="777240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dos m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 utilizad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os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orh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lf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ú</a:t>
            </a:r>
            <a:r>
              <a:rPr b="0" lang="es-ES_tradn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1447920" y="2143080"/>
          <a:ext cx="52578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43080"/>
                    <a:ext cx="52578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0880" y="304920"/>
            <a:ext cx="87631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 Precipitaci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s a baja temperatur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(-5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º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ilar al efecto de la sal, se desplaza el agua por los solv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ñ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em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ico esta dado por la expre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g S = log So +  K/D 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Constante Die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Solubilidad en agua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24000" y="49417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 del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         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ebe ser Seg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isci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reaccionar con las prote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s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6"/>
          <p:cNvGraphicFramePr/>
          <p:nvPr/>
        </p:nvGraphicFramePr>
        <p:xfrm>
          <a:off x="5257800" y="2819520"/>
          <a:ext cx="38862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819520"/>
                    <a:ext cx="3886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0880" y="304920"/>
            <a:ext cx="82296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)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ol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 no 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canis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delo de Ogston (en base  a la termod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s reducen la cantidad efectiva de agua disponible para la solva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04920" y="3352680"/>
            <a:ext cx="700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cu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de dise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ñ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a solubilidad se puede expre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log S = X  - a C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: Concentraci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de pol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elec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del pol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í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neu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oluble en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idar que no produzca aumentos en la viscosidad, visco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cent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Baj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alto peso molecular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Alta par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de bajo peso mole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abiliz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(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-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trabajar a temperatura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p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ro se puede separar por intercambio ionico (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Por qu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?)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905360" cy="403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461880" y="378000"/>
            <a:ext cx="63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e) Precipitación por Polielectrol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356000" y="537372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olian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cation-proteí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Polianfolito-proteí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39640" y="981000"/>
            <a:ext cx="3168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polielectrolito modifica las caracteristicas superficiales, en forma reversible, de las proteína y hacen que éstan interact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bien los polielectrolitos son caros se utilizan en pequeñas cantidades y se pueden recic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28"/>
          <p:cNvSpPr/>
          <p:nvPr/>
        </p:nvSpPr>
        <p:spPr>
          <a:xfrm>
            <a:off x="438840" y="0"/>
            <a:ext cx="64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2.- Precipitaci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9"/>
          <p:cNvSpPr/>
          <p:nvPr/>
        </p:nvSpPr>
        <p:spPr>
          <a:xfrm>
            <a:off x="380880" y="1066680"/>
            <a:ext cx="70106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por Afinidad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cipitación selectiva de la proteína de interés, basándose en la capacidad que tiene la proteína para unirse a siti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finidad 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hib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        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ticuer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30"/>
          <p:cNvSpPr/>
          <p:nvPr/>
        </p:nvSpPr>
        <p:spPr>
          <a:xfrm>
            <a:off x="4934160" y="3110040"/>
            <a:ext cx="2923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   Pseudoafinida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olo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203640" y="404640"/>
            <a:ext cx="5290920" cy="612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om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5280" y="27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imes New Roman"/>
              </a:rPr>
              <a:t>Hetero-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000160" y="-24120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395280" y="83664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ipos de 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0880" y="304920"/>
            <a:ext cx="8229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3.- Precipit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Desnaturaci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selectiva</a:t>
            </a:r>
            <a:r>
              <a:rPr b="1" lang="es-ES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snaturan los contaminantes por condiciones extremas de pH, 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ª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o solv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contami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Se despliega,  quedando mucha zonas exp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- Dichas zonas interac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- Luego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contaminantes precipitan, mientras qu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e in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 se mantiene en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13716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eor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í</a:t>
            </a:r>
            <a:r>
              <a:rPr b="0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Hay prote</a:t>
            </a:r>
            <a:r>
              <a:rPr b="0" lang="es-ES_tradnl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as que son estables a altas temperaturas, mientras que otras 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219320" y="533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n por Temperatura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2362320" y="2971800"/>
          <a:ext cx="43434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3434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80880" y="304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a de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 tiene la for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nde [P]: Conc. de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 : Constante, f(temperatu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y luego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presencia de sulfato de amonio para estabilizar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 e inhibir las proteas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576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1447920" y="990720"/>
                <a:ext cx="40384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den>
                            </m:f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3049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é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tica de desnaturaliz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un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tiene una ene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de activ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400.000 J/mol. Cuando est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mantiene a 5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 por un lapso de 10 minutos se desnatura en un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Calcule la constante de la velocidad espec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ca de desnaturaliz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alcule la temperatura a la cual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 se desnatura el 10% en 10 min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pH extr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regiones con igual carga que se rep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mpimiento de las fuerzas de at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que dan la conform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80880" y="304920"/>
            <a:ext cx="8229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snaturaci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 por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gentes org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icos alteran las caracter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icas superficiales de las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s, lo cual produce su desnatur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y posterior interac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entre las zonas expue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n utilizar solvente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nol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et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orofo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mperaturas entre 20-3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, acelera el proceso y permite el ahorro de s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ebe estudiar el efe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ros agente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0880" y="3049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QUIPOS DE PRECIPI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trata esencialmente de reactores, que pueden operar en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)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) Continua Flujo Pi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) Continua Perfectamente Ag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14400" y="3200400"/>
          <a:ext cx="73152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00400"/>
                    <a:ext cx="73152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049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s principales en un proceso de precipitaci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alquiera de ellas puede ser la limi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zclado Inicial: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roteica se mezcla con el agente precipitante para eliminar las barreras de transferencia de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ucle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Al disminuir la solubilidad d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se inicia la precipit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al formarse en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pequ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ñ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s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o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cimiento Peri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 o Crecimiento Limitado por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En esta fase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 van creciendo conforme la prote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a difunde desde el seno de la solu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hasta los 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ú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leos. La frecuencia de las colisiones es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limitada por la velocidad de difus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de las mol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y no por el mezclado. Se forman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primarias de 0.1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–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479840" y="606096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3049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.- Crecimiento Ortoc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é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co (Influenciado por el flujo): El mezclado favorece el crecimiento del agregado form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dose part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ulas en el rango entre 1-100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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5.- Floculac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ó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: Los agregados forman los grandes floculo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29718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arámetros fundamentales a consider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Velocidad de ag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Fuerza iónica</a:t>
            </a:r>
            <a:r>
              <a:rPr b="0" lang="es-E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cipitation of Proteins: Nonspecific and Specific.Ashok Kumar, Igor Yu. Galaev, and Bo Mattiasson en ISOLATIONAND PURIFICATIONOF PROTEINS edited by Rajni Hutti-Kaul Bo Mattiasson, MARCEL DEKKER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119700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77770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50920" y="-674640"/>
            <a:ext cx="8628120" cy="70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9-08-20T21:19:11Z</dcterms:modified>
  <cp:revision>115</cp:revision>
  <dc:subject/>
  <dc:title>Separación Sólido-Líquido</dc:title>
</cp:coreProperties>
</file>