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A9D-2EA0-4911-96D2-7A427307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FCA-892A-4961-8EEF-DF5687AF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8F6-E8DB-4631-ADB3-CE23AD75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6F5-4DA2-4257-AC4B-0F062CD1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243-1AA2-4857-8E04-249AEA55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C2B-F276-4332-9FF3-D13811D2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14B-785F-46F2-96C1-6AD53869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B36-FC73-4C8B-A735-1ACCFF7C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2E1-D310-48FF-B285-33E1BE4F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7D1-09E4-4770-AE00-1211A09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258-92E6-42DB-882A-12AB372F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E2F-998D-45E4-A9D0-27A31B42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FCC1-18A2-4A21-936D-E30A6D2940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oncentració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495320" y="4437000"/>
            <a:ext cx="184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39"/>
          <p:cNvSpPr/>
          <p:nvPr/>
        </p:nvSpPr>
        <p:spPr>
          <a:xfrm>
            <a:off x="3780000" y="4005360"/>
            <a:ext cx="3311280" cy="10810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380880" y="380880"/>
            <a:ext cx="8305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última etapa en el proceso de recuperación de proteínas es la concentración del extracto, a esta altura del proceso el extracto contiene  una mezcla del producto deseado con otros compuestos celulares solubles. Se debe reducir la masa o volumen al máximo eliminando agua, para ellos se utilizan  a operaciones unitaria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ltrafil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tr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ofi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80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 sido una de las técnicas más utilizas para la concentración de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fini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operación que permite la concentración de una solución mediante la adición de un 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“agente precipit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33520" y="342900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fácil de esc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ede utilizarse en form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pos senc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ispone de muchos agente precipitante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0880" y="6858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racter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 producir desnaturación de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en proveer una mayor estabilidad a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75000" y="4462560"/>
            <a:ext cx="139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9"/>
          <p:cNvSpPr/>
          <p:nvPr/>
        </p:nvSpPr>
        <p:spPr>
          <a:xfrm>
            <a:off x="250920" y="3213000"/>
            <a:ext cx="4103640" cy="1440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pos de precipitación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066680"/>
          <a:ext cx="8686800" cy="5307120"/>
        </p:xfrm>
        <a:graphic>
          <a:graphicData uri="http://schemas.openxmlformats.org/drawingml/2006/table">
            <a:tbl>
              <a:tblPr/>
              <a:tblGrid>
                <a:gridCol w="3962520"/>
                <a:gridCol w="472428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damen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t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minución de la solubi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no selectiva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)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ales : Sulfato de amonio , sulfato de sod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B) pH :  Trabajar en el pI de la proteí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) Solventes: Etanol, acet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) Polímeros no iónicos : PEG</a:t>
                      </a:r>
                      <a:r>
                        <a:rPr b="0" lang="es-E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) Polielectrolitos sintéticos y na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selectiva por Afinidad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ormación de complejos por interacción de los sitios activos de las  proteínas con ligandos específicos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Desnaturación selec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ambio en la conformación de las proteínas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Solvente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8088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ructura de las prote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as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solubilidad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pol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hidrofóbicas entr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erzas de repulsión electroestática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315108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245280" y="320040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Comic Sans MS"/>
              </a:rPr>
              <a:t>Zonas hidrofóbicas</a:t>
            </a:r>
            <a:r>
              <a:rPr b="1" lang="es-ES_tradnl" sz="2000" spc="-1" strike="noStrike">
                <a:solidFill>
                  <a:srgbClr val="008000"/>
                </a:solidFill>
                <a:latin typeface="Comic Sans MS"/>
              </a:rPr>
              <a:t> (no po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H="1">
            <a:off x="6629040" y="3809880"/>
            <a:ext cx="609480" cy="8384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276720" y="3733920"/>
            <a:ext cx="1676160" cy="4572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80880" y="3352680"/>
            <a:ext cx="289872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cargadas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33520" y="533412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cargadas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505320" y="5105160"/>
            <a:ext cx="1523880" cy="533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049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826920" y="1557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s en el proceso de precipitación no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684360" y="2708280"/>
            <a:ext cx="7638840" cy="2987640"/>
            <a:chOff x="684360" y="2708280"/>
            <a:chExt cx="7638840" cy="2987640"/>
          </a:xfrm>
        </p:grpSpPr>
        <p:pic>
          <p:nvPicPr>
            <p:cNvPr id="177" name="Picture 8" descr=""/>
            <p:cNvPicPr/>
            <p:nvPr/>
          </p:nvPicPr>
          <p:blipFill>
            <a:blip r:embed="rId1"/>
            <a:stretch/>
          </p:blipFill>
          <p:spPr>
            <a:xfrm>
              <a:off x="684360" y="3355920"/>
              <a:ext cx="763884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1260360" y="2779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1404720" y="2708280"/>
              <a:ext cx="32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gente Precipit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0880" y="3049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con 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o de las metodolo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utilizadas. Las sales que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utilizan son el sulfato de amonio y el sulfato de so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4572000" y="2629080"/>
          <a:ext cx="457200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29080"/>
                    <a:ext cx="45720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5"/>
          <p:cNvSpPr/>
          <p:nvPr/>
        </p:nvSpPr>
        <p:spPr>
          <a:xfrm>
            <a:off x="457200" y="297180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urvas de solubilidad presentan dos zo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solubi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de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ou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85800" y="60958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dos estos procesos se realizan a temperaturas inferiores a 5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3049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adi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sal elimina el agua que hidrat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dejando las regiones hidrof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cas en libertad de interac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zonas hid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bicas tienden a interactuar entre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lo cual result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mente favorable, dado que produce un aumento de la entro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12600" y="3429000"/>
            <a:ext cx="9131400" cy="3187800"/>
            <a:chOff x="12600" y="3429000"/>
            <a:chExt cx="9131400" cy="3187800"/>
          </a:xfrm>
        </p:grpSpPr>
        <p:graphicFrame>
          <p:nvGraphicFramePr>
            <p:cNvPr id="189" name="Object 4"/>
            <p:cNvGraphicFramePr/>
            <p:nvPr/>
          </p:nvGraphicFramePr>
          <p:xfrm>
            <a:off x="12600" y="3429000"/>
            <a:ext cx="9131400" cy="31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00" y="3429000"/>
                      <a:ext cx="9131400" cy="31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Text Box 5"/>
            <p:cNvSpPr/>
            <p:nvPr/>
          </p:nvSpPr>
          <p:spPr>
            <a:xfrm>
              <a:off x="5791320" y="579132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0000"/>
                  </a:solidFill>
                  <a:latin typeface="Times New Roman"/>
                </a:rPr>
                <a:t>Termodinámicamente favo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89000" y="-28440"/>
            <a:ext cx="876456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3049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 interactu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forman grandes estructuras las que sedimen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que presentan mayor hidrofobicidad son las que precipitan con menos 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38080" y="2666880"/>
            <a:ext cx="769644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Ecuación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cuación de C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g Sp = A – m [ sal]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 : Concentración de Proteína en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sal] : Concentración de 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: Constante que depende del pH, T,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: Constante que depende del tipo de sal y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304920"/>
            <a:ext cx="82296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0 litros de un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contiene 10 g/lt de BSA y 5 gr/lt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X se intentan separar por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con sulfato de amo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es recuperar el 90% de la BSA en el precipitado. Para ello se han determinado, con anterioridad, las solubilidades de cada una de est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n presencia de sulfato de am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n S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21.6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7.65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ote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a X 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n Sx = 20.0 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7.00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(Solubilidad) se expresa en g/lt y [Sulfato de Amonio] en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umiendo que la solubilidad es independiente de la presencia de ot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, determine la pureza con respecto al BSA en el precipitad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0880" y="30492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Isoe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t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 carga se repelen, si se trabaja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erca del p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s presentan una carga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 y no hay repul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tienden a una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5029200"/>
            <a:ext cx="777240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idos m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 utiliz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s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orh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l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ú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447920" y="2143080"/>
          <a:ext cx="52578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43080"/>
                    <a:ext cx="52578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304920"/>
            <a:ext cx="87631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 Precipitaci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s a baja temperatur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-5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º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ilar al efecto de la sal, se desplaza el agua por los solv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ñ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em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co esta dado por la expre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g S = log So +  K/D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Constante Die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Solubilidad en agua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24000" y="4941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 del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         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be ser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isci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reaccionar con las prote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s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6"/>
          <p:cNvGraphicFramePr/>
          <p:nvPr/>
        </p:nvGraphicFramePr>
        <p:xfrm>
          <a:off x="5257800" y="2819520"/>
          <a:ext cx="38862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819520"/>
                    <a:ext cx="3886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30492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o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 no 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de Ogston (en base  a l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s reducen la cantidad efectiva de agua disponible para la solva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04920" y="3352680"/>
            <a:ext cx="700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ñ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a solubilidad se puede expre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og S = X  - a C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: Concentraci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de pol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: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l pol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neu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lu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idar que no produzca aumentos en la viscosidad, visco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cent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Baj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alto peso molecular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Alt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bajo peso 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abiliz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(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-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trabajar a temperatura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se puede separar por intercambio ionico (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or qu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?)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905360" cy="4032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461880" y="378000"/>
            <a:ext cx="63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e) Precipitación por Polielectrol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356000" y="537372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olian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roteín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anfolito-proteí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39640" y="981000"/>
            <a:ext cx="3168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olielectrolito modifica las caracteristicas superficiales, en forma reversible, de las proteína y hacen que éstan interactu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bien los polielectrolitos son caros se utilizan en pequeñas cantidades y se pueden recic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28"/>
          <p:cNvSpPr/>
          <p:nvPr/>
        </p:nvSpPr>
        <p:spPr>
          <a:xfrm>
            <a:off x="438840" y="0"/>
            <a:ext cx="64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2.- 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9"/>
          <p:cNvSpPr/>
          <p:nvPr/>
        </p:nvSpPr>
        <p:spPr>
          <a:xfrm>
            <a:off x="380880" y="1066680"/>
            <a:ext cx="7010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por Afinidad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de la proteína de interés, basándose en la capacidad que tiene la proteína para unirse a siti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finidad 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hib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ti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30"/>
          <p:cNvSpPr/>
          <p:nvPr/>
        </p:nvSpPr>
        <p:spPr>
          <a:xfrm>
            <a:off x="4934160" y="3110040"/>
            <a:ext cx="2923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-   Pseudoafinida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lo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290920" cy="6120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9528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om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95280" y="27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eter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2000160" y="-24120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395280" y="836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pos de 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0880" y="304920"/>
            <a:ext cx="8229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3.-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Desnatur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snaturan los contaminantes por condiciones extremas de pH, 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ª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 solv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Se despliega,  quedando mucha zonas expue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- Dichas zonas interac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- Luego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taminantes precipitan, mientras qu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e in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mantiene en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1371600"/>
            <a:ext cx="7619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eor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í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ay prote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as que son estables a altas temperaturas, mientras que otras 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219320" y="533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por Temperatura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2362320" y="2971800"/>
          <a:ext cx="434340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3434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a de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tiene la for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[P]: Conc. de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: Constante, f(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lentamiento y luego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presencia de sulfato de amonio para estabiliz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 inhibir las proteas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76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1447920" y="990720"/>
                <a:ext cx="4038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Δ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3049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in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tica de desnaturaliz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tiene una ene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de activ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400.000 J/mol. Cuando est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mantiene a 5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 por un lapso de 10 minutos se desnatura en un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Calcule la constante de la velocidad espec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ca de desnatura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alcule la temperatura a la cual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 se desnatura el 10% en 10 mi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H extr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regiones con igual carga que se rep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mpimiento de las fuerzas de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dan la con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80880" y="3049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g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 alteran las carac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icas superficiales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lo cual produce su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posterior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entre las zonas expue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n utilizar solvente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nol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orofo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mperaturas entre 20-3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, acelera el proceso y permite el ahorro de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be estudiar el efe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ros agente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QUIPOS DE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trata esencialmente de reactores, que pueden operar en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ontinua Flujo Pi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) Continua Perfectamente Ag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14400" y="3200400"/>
          <a:ext cx="73152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00400"/>
                    <a:ext cx="73152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0880" y="3049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s principales en un proceso de 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alquiera de ellas puede ser la limi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zclado Inicial: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ica se mezcla con el agente precipitante para eliminar las barreras de transferencia d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cle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Al disminuir la solubilidad d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inicia la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l formarse en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equ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ñ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o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recimiento Peri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 o Crecimiento Limitado por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En esta fase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 van creciendo conform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funde desde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hasta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 La frecuencia de las colisione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imitada por la velocidad de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m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y no por el mezclado. Se forman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primarias de 0.1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–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304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- Crecimiento Orto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(Influenciado por el flujo): El mezclado favorece el crecimiento del agregado for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dose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en el rango entre 1-100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.- Flocul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Los agregados forman los grandes floculo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85800" y="29718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arámetros fundamentales a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elocidad de ag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Fuerza iónica</a:t>
            </a:r>
            <a:r>
              <a:rPr b="0" lang="es-E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tion of Proteins: Nonspecific and Specific.Ashok Kumar, Igor Yu. Galaev, and Bo Mattiasson en ISOLATIONAND PURIFICATIONOF PROTEINS edited by Rajni Hutti-Kaul Bo Mattiasson, MARCEL DEKKER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1640" y="11970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7777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0920" y="-674640"/>
            <a:ext cx="8628120" cy="70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0T21:19:11Z</dcterms:modified>
  <cp:revision>115</cp:revision>
  <dc:subject/>
  <dc:title>Separación Sólido-Líquido</dc:title>
</cp:coreProperties>
</file>