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0C6-E414-41FC-BC6D-83677FA5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CF2-4176-46D9-AC9A-BF0BBC02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814-BA8B-4EBE-BD93-769519D1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814-53EC-4CC3-A649-3FE0B026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E29-6E46-4198-93BF-DEE37D28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EE5-0D9F-4538-95BF-DBC5B709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ED7-590D-4351-8445-C94E6E20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E77-2CB6-418E-9439-E390D934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214-7DAB-48A3-84C0-6390FCF9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D8D-FEB5-474F-AF57-C40F8E9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AEE-A555-4237-A184-61E91E8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8C4-59EC-45DB-AA14-CA0EA6E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A058-E55F-4C72-BDFB-644A36F9F8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entrifuga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Group 5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Picture 6" descr="centrifuge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Picture 9" descr="micro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0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1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sedimentation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Line 4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4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12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Rectangle 4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3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5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Rectangle 16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7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Group 24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Object 20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Group 21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Object 22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Text Box 23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Oval 25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Rectangle 14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15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Text Box 16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Object 18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Text Box 19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e 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en los microcarrier para producir una vacuna.  Despu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s que l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han crecido, la agi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s detenida y los microcarrier comienzan a sedimentar.  El estanque tiene una raz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Object 9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Rectangle 10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4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5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Object 16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17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Group 17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Rectangle 18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20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22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7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iscontinua de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, que utiliza  botellas, es usada para colectar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luego de una fer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.  Durante la centrifug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la distancia entre la superficie del 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quido y el eje de ro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se pueden asumir como par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ulas esf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icas con un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separ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6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Object 21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16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7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8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19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8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9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0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Line 21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4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5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Oval 16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17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18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s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cosechadas h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dolas pasar a trav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 de 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de est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tiene 80 discos con u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gulo de 40°, el radio externo es 15,7 cm y el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4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5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0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Rectangle 17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Text Box 19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66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Oval 1067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68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069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070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escalamiento para el procesamiento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n material celular. En el experimento se procesaron 3.3 [lt/min]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c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velocidad de rotac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 para procesar 800 [lt/hr] de la mism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antes mencionada. Para ello se cuenta con las siguientes alternativas de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Rectangle 4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7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8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20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1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2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3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Group 24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Rectangle 25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26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Rectangle 27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28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29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Rectangle 30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Group 31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Rectangle 32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33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Group 34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Rectangle 35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Rectangle 37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38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Group 39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Rectangle 40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41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Rectangle 42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Rectangle 43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Group 44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Rectangle 45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6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7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Rectangle 48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49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0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Rectangle 51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2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3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Rectangle 54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5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su consumo energ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ico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Object 0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888920" y="457200"/>
            <a:ext cx="52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</cp:lastModifiedBy>
  <dcterms:modified xsi:type="dcterms:W3CDTF">2009-08-03T02:42:39Z</dcterms:modified>
  <cp:revision>23</cp:revision>
  <dc:subject/>
  <dc:title>Centrifugación    Operación unitaria utilizada para la separación: sólido-líquido    líquido-líquido</dc:title>
</cp:coreProperties>
</file>