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584-0049-4696-882F-4E651A3B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C69-B91A-4894-A846-418B3BB7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B50-0F03-4BA0-BE80-334D59AA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4A0-7BB7-4A2A-B028-202DD68E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50F-9E36-4F92-A245-B16F7365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023-8291-4E76-8F74-EF89D901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ADC-B82E-48A9-86E0-B365B23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6A5-ED48-450B-9C45-42787F53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A8D-C457-429F-9185-21B1DD9C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BD5-999A-4560-B334-19B8F2FD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68C-7EA9-4BE9-9BE3-90E4F65F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353-339A-456B-970F-A04A81E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161A-9195-468B-A3BE-46C7B1598A6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entrifuga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ógicos, especial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icos y recuperación de productos insolubles (cuerpos inclu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4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42" name="Group 5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43" name="Picture 6" descr="centrifuge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Text Box 7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46" name="Picture 9" descr="micro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0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1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s-E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s-E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sedimentation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151" name="Line 4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4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0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12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189" name="Rectangle 4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Text Box 13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15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05" name="Rectangle 16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7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7" name="Group 24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08" name="Object 20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9" name="Group 21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10" name="Object 22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1" name="Text Box 23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Oval 25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8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25" name="Rectangle 14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Object 15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Text Box 16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29" name="Object 18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Text Box 19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e 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en los microcarrier para producir una vacuna.  Despu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s que las c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ulas han crecido, la agi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s detenida y los microcarrier comienzan a sedimentar.  El estanque tiene una raz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39" name="Object 9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Rectangle 10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1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4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5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45" name="Object 16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Text Box 17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4" name="Group 17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285" name="Rectangle 18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20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1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22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7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n discontinua de C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Comic Sans MS"/>
                <a:ea typeface="Arial"/>
              </a:rPr>
              <a:t>é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, que utiliza  botellas, es usada para colectar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luego de una fer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.  Durante la centrifug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la distancia entre la superficie del 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quido y el eje de ro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levadura se pueden asumir como par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culas esf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icas con un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separ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6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0" name="Object 21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16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7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8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45" name="Object 19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8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9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20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Line 21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2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3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24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5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Oval 16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17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18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s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cosechadas h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dolas pasar a trav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 de un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ó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 de estas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tiene 80 discos con u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ngulo de 40°, el radio externo es 15,7 cm y el di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4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5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0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Rectangle 17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Text Box 19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26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85" name="Rectangle 1027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28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029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030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31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032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033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034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035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036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37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038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39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40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041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42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43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44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045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46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047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048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49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050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51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52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53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54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5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6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7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058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059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060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61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62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63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064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65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66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25" name="Oval 1067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068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069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070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etro de escalamiento para el procesamiento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con material celular. En el experimento se procesaron 3.3 [lt/min] de un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c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una velocidad de rotac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 para procesar 800 [lt/hr] de la misma suspensi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n antes mencionada. Para ello se cuenta con las siguientes alternativas de cent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463" name="Rectangle 4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5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4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5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6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7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8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9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20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21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22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3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Group 24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484" name="Rectangle 25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26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486" name="Rectangle 27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28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8" name="Group 29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489" name="Rectangle 30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Group 31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491" name="Rectangle 32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Rectangle 33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Group 34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494" name="Rectangle 35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496" name="Rectangle 37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38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Group 39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499" name="Rectangle 40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41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01" name="Rectangle 42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Rectangle 43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Group 44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04" name="Rectangle 45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6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7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07" name="Rectangle 48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49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0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10" name="Rectangle 51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2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3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13" name="Rectangle 54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5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í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su consumo energ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ico est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á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Object 0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1888920" y="457200"/>
            <a:ext cx="522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ó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26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Maria Elena Lienqueo</cp:lastModifiedBy>
  <dcterms:modified xsi:type="dcterms:W3CDTF">2009-08-03T02:42:39Z</dcterms:modified>
  <cp:revision>23</cp:revision>
  <dc:subject/>
  <dc:title>Centrifugación    Operación unitaria utilizada para la separación: sólido-líquido    líquido-líquido</dc:title>
</cp:coreProperties>
</file>