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5948-5086-4FE1-9882-EF54AFDE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D32-F394-4B49-9D59-A6D88C04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7BF-8A9F-4904-89BF-0DF67A80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7C8A-EE83-496D-825B-F9D6491F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655-A902-40B8-ADEF-4266DEA8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E20-113C-4130-9DFB-1D38372B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D108-1D50-46A9-8D0B-9CD9BA95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F59-CD3F-425F-876E-C7622BFD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D70-01B8-4EE5-BE58-953548F9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A63B-FC4F-45BE-B409-B6F5127B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271-D795-4705-A54E-514928D8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62B-4B6F-46A8-86A8-03AD6D51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5477-54E5-4BCF-89B0-818EB19D8AC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Separación y Procesos Biotecnológicos</a:t>
            </a:r>
            <a:br>
              <a:rPr sz="4400"/>
            </a:b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BT56A- IQ742</a:t>
            </a: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Primavera 20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66"/>
                </a:solidFill>
                <a:uFillTx/>
                <a:latin typeface="Times New Roman"/>
              </a:rPr>
              <a:t>Introdu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ha avanzado en los últimos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oferta de empresas en el área de ingeniería genética son generalmente reportados en las páginas financier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&gt; Esto implica un futuro promisorio para el área.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Image8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8"/>
          <p:cNvPicPr/>
          <p:nvPr/>
        </p:nvPicPr>
        <p:blipFill>
          <a:blip r:embed="rId1"/>
          <a:stretch/>
        </p:blipFill>
        <p:spPr>
          <a:xfrm>
            <a:off x="299880" y="914400"/>
            <a:ext cx="8544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380880" y="685800"/>
            <a:ext cx="8762760" cy="6632640"/>
            <a:chOff x="380880" y="685800"/>
            <a:chExt cx="8762760" cy="6632640"/>
          </a:xfrm>
        </p:grpSpPr>
        <p:sp>
          <p:nvSpPr>
            <p:cNvPr id="57" name="Rectangle 3"/>
            <p:cNvSpPr/>
            <p:nvPr/>
          </p:nvSpPr>
          <p:spPr>
            <a:xfrm>
              <a:off x="423720" y="1504080"/>
              <a:ext cx="11502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utr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574280" y="1504080"/>
              <a:ext cx="17715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5"/>
            <p:cNvSpPr/>
            <p:nvPr/>
          </p:nvSpPr>
          <p:spPr>
            <a:xfrm>
              <a:off x="3345840" y="1504080"/>
              <a:ext cx="16606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rina de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6"/>
            <p:cNvSpPr/>
            <p:nvPr/>
          </p:nvSpPr>
          <p:spPr>
            <a:xfrm>
              <a:off x="5006520" y="1504080"/>
              <a:ext cx="2307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>
              <a:off x="5237280" y="1504080"/>
              <a:ext cx="13284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2·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8"/>
            <p:cNvSpPr/>
            <p:nvPr/>
          </p:nvSpPr>
          <p:spPr>
            <a:xfrm>
              <a:off x="6566040" y="1504080"/>
              <a:ext cx="21034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9"/>
            <p:cNvSpPr/>
            <p:nvPr/>
          </p:nvSpPr>
          <p:spPr>
            <a:xfrm>
              <a:off x="423720" y="23342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Fu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>
              <a:off x="1574280" y="23342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1"/>
            <p:cNvSpPr/>
            <p:nvPr/>
          </p:nvSpPr>
          <p:spPr>
            <a:xfrm>
              <a:off x="3345840" y="23342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islado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2"/>
            <p:cNvSpPr/>
            <p:nvPr/>
          </p:nvSpPr>
          <p:spPr>
            <a:xfrm>
              <a:off x="5006520" y="23342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>
              <a:off x="5237280" y="23342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4"/>
            <p:cNvSpPr/>
            <p:nvPr/>
          </p:nvSpPr>
          <p:spPr>
            <a:xfrm>
              <a:off x="6566040" y="23342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5"/>
            <p:cNvSpPr/>
            <p:nvPr/>
          </p:nvSpPr>
          <p:spPr>
            <a:xfrm>
              <a:off x="423720" y="292932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6"/>
            <p:cNvSpPr/>
            <p:nvPr/>
          </p:nvSpPr>
          <p:spPr>
            <a:xfrm>
              <a:off x="1574280" y="292932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7"/>
            <p:cNvSpPr/>
            <p:nvPr/>
          </p:nvSpPr>
          <p:spPr>
            <a:xfrm>
              <a:off x="3345840" y="292932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 de 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8"/>
            <p:cNvSpPr/>
            <p:nvPr/>
          </p:nvSpPr>
          <p:spPr>
            <a:xfrm>
              <a:off x="5006520" y="292932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9"/>
            <p:cNvSpPr/>
            <p:nvPr/>
          </p:nvSpPr>
          <p:spPr>
            <a:xfrm>
              <a:off x="5237280" y="292932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20"/>
            <p:cNvSpPr/>
            <p:nvPr/>
          </p:nvSpPr>
          <p:spPr>
            <a:xfrm>
              <a:off x="6566040" y="292932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000 - 6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423720" y="374760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a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1574280" y="374760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23"/>
            <p:cNvSpPr/>
            <p:nvPr/>
          </p:nvSpPr>
          <p:spPr>
            <a:xfrm>
              <a:off x="3345840" y="374760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mil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24"/>
            <p:cNvSpPr/>
            <p:nvPr/>
          </p:nvSpPr>
          <p:spPr>
            <a:xfrm>
              <a:off x="5006520" y="374760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25"/>
            <p:cNvSpPr/>
            <p:nvPr/>
          </p:nvSpPr>
          <p:spPr>
            <a:xfrm>
              <a:off x="5237280" y="374760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6"/>
            <p:cNvSpPr/>
            <p:nvPr/>
          </p:nvSpPr>
          <p:spPr>
            <a:xfrm>
              <a:off x="6566040" y="374760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0-3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7"/>
            <p:cNvSpPr/>
            <p:nvPr/>
          </p:nvSpPr>
          <p:spPr>
            <a:xfrm>
              <a:off x="423720" y="43430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28"/>
            <p:cNvSpPr/>
            <p:nvPr/>
          </p:nvSpPr>
          <p:spPr>
            <a:xfrm>
              <a:off x="1574280" y="43430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ejido A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29"/>
            <p:cNvSpPr/>
            <p:nvPr/>
          </p:nvSpPr>
          <p:spPr>
            <a:xfrm>
              <a:off x="3345840" y="43430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0"/>
            <p:cNvSpPr/>
            <p:nvPr/>
          </p:nvSpPr>
          <p:spPr>
            <a:xfrm>
              <a:off x="5006520" y="43430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31"/>
            <p:cNvSpPr/>
            <p:nvPr/>
          </p:nvSpPr>
          <p:spPr>
            <a:xfrm>
              <a:off x="5237280" y="43430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2"/>
            <p:cNvSpPr/>
            <p:nvPr/>
          </p:nvSpPr>
          <p:spPr>
            <a:xfrm>
              <a:off x="6566040" y="43430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33"/>
            <p:cNvSpPr/>
            <p:nvPr/>
          </p:nvSpPr>
          <p:spPr>
            <a:xfrm>
              <a:off x="423720" y="4938120"/>
              <a:ext cx="11502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34"/>
            <p:cNvSpPr/>
            <p:nvPr/>
          </p:nvSpPr>
          <p:spPr>
            <a:xfrm>
              <a:off x="1574280" y="4938120"/>
              <a:ext cx="17715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z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35"/>
            <p:cNvSpPr/>
            <p:nvPr/>
          </p:nvSpPr>
          <p:spPr>
            <a:xfrm>
              <a:off x="3345840" y="4938120"/>
              <a:ext cx="16606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ormona de crecimiento hum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36"/>
            <p:cNvSpPr/>
            <p:nvPr/>
          </p:nvSpPr>
          <p:spPr>
            <a:xfrm>
              <a:off x="5006520" y="4938120"/>
              <a:ext cx="2307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37"/>
            <p:cNvSpPr/>
            <p:nvPr/>
          </p:nvSpPr>
          <p:spPr>
            <a:xfrm>
              <a:off x="5237280" y="4938120"/>
              <a:ext cx="1328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38"/>
            <p:cNvSpPr/>
            <p:nvPr/>
          </p:nvSpPr>
          <p:spPr>
            <a:xfrm>
              <a:off x="6566040" y="4938120"/>
              <a:ext cx="21034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39"/>
            <p:cNvSpPr/>
            <p:nvPr/>
          </p:nvSpPr>
          <p:spPr>
            <a:xfrm>
              <a:off x="423720" y="597960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40"/>
            <p:cNvSpPr/>
            <p:nvPr/>
          </p:nvSpPr>
          <p:spPr>
            <a:xfrm>
              <a:off x="1574280" y="597960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Bovi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41"/>
            <p:cNvSpPr/>
            <p:nvPr/>
          </p:nvSpPr>
          <p:spPr>
            <a:xfrm>
              <a:off x="3345840" y="597960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nticuerpos monocl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42"/>
            <p:cNvSpPr/>
            <p:nvPr/>
          </p:nvSpPr>
          <p:spPr>
            <a:xfrm>
              <a:off x="5006520" y="597960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43"/>
            <p:cNvSpPr/>
            <p:nvPr/>
          </p:nvSpPr>
          <p:spPr>
            <a:xfrm>
              <a:off x="5237280" y="597960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44"/>
            <p:cNvSpPr/>
            <p:nvPr/>
          </p:nvSpPr>
          <p:spPr>
            <a:xfrm>
              <a:off x="6566040" y="597960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·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Group 45"/>
            <p:cNvGrpSpPr/>
            <p:nvPr/>
          </p:nvGrpSpPr>
          <p:grpSpPr>
            <a:xfrm>
              <a:off x="380880" y="685800"/>
              <a:ext cx="1236240" cy="818280"/>
              <a:chOff x="380880" y="685800"/>
              <a:chExt cx="1236240" cy="818280"/>
            </a:xfrm>
          </p:grpSpPr>
          <p:sp>
            <p:nvSpPr>
              <p:cNvPr id="100" name="Rectangle 46"/>
              <p:cNvSpPr/>
              <p:nvPr/>
            </p:nvSpPr>
            <p:spPr>
              <a:xfrm>
                <a:off x="423720" y="685800"/>
                <a:ext cx="1150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atego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47"/>
              <p:cNvSpPr/>
              <p:nvPr/>
            </p:nvSpPr>
            <p:spPr>
              <a:xfrm>
                <a:off x="380880" y="685800"/>
                <a:ext cx="12362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48"/>
            <p:cNvGrpSpPr/>
            <p:nvPr/>
          </p:nvGrpSpPr>
          <p:grpSpPr>
            <a:xfrm>
              <a:off x="1617120" y="685800"/>
              <a:ext cx="1857600" cy="818280"/>
              <a:chOff x="1617120" y="685800"/>
              <a:chExt cx="1857600" cy="818280"/>
            </a:xfrm>
          </p:grpSpPr>
          <p:sp>
            <p:nvSpPr>
              <p:cNvPr id="103" name="Rectangle 49"/>
              <p:cNvSpPr/>
              <p:nvPr/>
            </p:nvSpPr>
            <p:spPr>
              <a:xfrm>
                <a:off x="1660320" y="685800"/>
                <a:ext cx="1771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Fuente de 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50"/>
              <p:cNvSpPr/>
              <p:nvPr/>
            </p:nvSpPr>
            <p:spPr>
              <a:xfrm>
                <a:off x="1617120" y="685800"/>
                <a:ext cx="18576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51"/>
            <p:cNvGrpSpPr/>
            <p:nvPr/>
          </p:nvGrpSpPr>
          <p:grpSpPr>
            <a:xfrm>
              <a:off x="3474720" y="685800"/>
              <a:ext cx="1747080" cy="818280"/>
              <a:chOff x="3474720" y="685800"/>
              <a:chExt cx="1747080" cy="818280"/>
            </a:xfrm>
          </p:grpSpPr>
          <p:sp>
            <p:nvSpPr>
              <p:cNvPr id="106" name="Rectangle 52"/>
              <p:cNvSpPr/>
              <p:nvPr/>
            </p:nvSpPr>
            <p:spPr>
              <a:xfrm>
                <a:off x="3517920" y="685800"/>
                <a:ext cx="16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53"/>
              <p:cNvSpPr/>
              <p:nvPr/>
            </p:nvSpPr>
            <p:spPr>
              <a:xfrm>
                <a:off x="3474720" y="685800"/>
                <a:ext cx="17470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Group 54"/>
            <p:cNvGrpSpPr/>
            <p:nvPr/>
          </p:nvGrpSpPr>
          <p:grpSpPr>
            <a:xfrm>
              <a:off x="5222160" y="685800"/>
              <a:ext cx="316440" cy="818280"/>
              <a:chOff x="5222160" y="685800"/>
              <a:chExt cx="316440" cy="818280"/>
            </a:xfrm>
          </p:grpSpPr>
          <p:sp>
            <p:nvSpPr>
              <p:cNvPr id="109" name="Rectangle 55"/>
              <p:cNvSpPr/>
              <p:nvPr/>
            </p:nvSpPr>
            <p:spPr>
              <a:xfrm>
                <a:off x="5265000" y="685800"/>
                <a:ext cx="230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56"/>
              <p:cNvSpPr/>
              <p:nvPr/>
            </p:nvSpPr>
            <p:spPr>
              <a:xfrm>
                <a:off x="5222160" y="685800"/>
                <a:ext cx="3164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57"/>
            <p:cNvGrpSpPr/>
            <p:nvPr/>
          </p:nvGrpSpPr>
          <p:grpSpPr>
            <a:xfrm>
              <a:off x="5538600" y="685800"/>
              <a:ext cx="1414800" cy="818280"/>
              <a:chOff x="5538600" y="685800"/>
              <a:chExt cx="1414800" cy="818280"/>
            </a:xfrm>
          </p:grpSpPr>
          <p:sp>
            <p:nvSpPr>
              <p:cNvPr id="112" name="Rectangle 58"/>
              <p:cNvSpPr/>
              <p:nvPr/>
            </p:nvSpPr>
            <p:spPr>
              <a:xfrm>
                <a:off x="5581800" y="685800"/>
                <a:ext cx="1328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ción                     Anual 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59"/>
              <p:cNvSpPr/>
              <p:nvPr/>
            </p:nvSpPr>
            <p:spPr>
              <a:xfrm>
                <a:off x="5538600" y="685800"/>
                <a:ext cx="14148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60"/>
            <p:cNvGrpSpPr/>
            <p:nvPr/>
          </p:nvGrpSpPr>
          <p:grpSpPr>
            <a:xfrm>
              <a:off x="6953760" y="685800"/>
              <a:ext cx="2189880" cy="818280"/>
              <a:chOff x="6953760" y="685800"/>
              <a:chExt cx="2189880" cy="818280"/>
            </a:xfrm>
          </p:grpSpPr>
          <p:sp>
            <p:nvSpPr>
              <p:cNvPr id="115" name="Rectangle 61"/>
              <p:cNvSpPr/>
              <p:nvPr/>
            </p:nvSpPr>
            <p:spPr>
              <a:xfrm>
                <a:off x="6996960" y="685800"/>
                <a:ext cx="21031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ecio  Aproximado (£/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62"/>
              <p:cNvSpPr/>
              <p:nvPr/>
            </p:nvSpPr>
            <p:spPr>
              <a:xfrm>
                <a:off x="6953760" y="685800"/>
                <a:ext cx="21898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63"/>
            <p:cNvGrpSpPr/>
            <p:nvPr/>
          </p:nvGrpSpPr>
          <p:grpSpPr>
            <a:xfrm>
              <a:off x="380880" y="6798240"/>
              <a:ext cx="1236240" cy="520200"/>
              <a:chOff x="380880" y="6798240"/>
              <a:chExt cx="1236240" cy="520200"/>
            </a:xfrm>
          </p:grpSpPr>
          <p:sp>
            <p:nvSpPr>
              <p:cNvPr id="118" name="Rectangle 64"/>
              <p:cNvSpPr/>
              <p:nvPr/>
            </p:nvSpPr>
            <p:spPr>
              <a:xfrm>
                <a:off x="423720" y="6798240"/>
                <a:ext cx="115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65"/>
              <p:cNvSpPr/>
              <p:nvPr/>
            </p:nvSpPr>
            <p:spPr>
              <a:xfrm>
                <a:off x="380880" y="6798240"/>
                <a:ext cx="12362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66"/>
            <p:cNvGrpSpPr/>
            <p:nvPr/>
          </p:nvGrpSpPr>
          <p:grpSpPr>
            <a:xfrm>
              <a:off x="1617120" y="6798240"/>
              <a:ext cx="1857600" cy="520200"/>
              <a:chOff x="1617120" y="6798240"/>
              <a:chExt cx="1857600" cy="520200"/>
            </a:xfrm>
          </p:grpSpPr>
          <p:sp>
            <p:nvSpPr>
              <p:cNvPr id="121" name="Rectangle 67"/>
              <p:cNvSpPr/>
              <p:nvPr/>
            </p:nvSpPr>
            <p:spPr>
              <a:xfrm>
                <a:off x="1660320" y="6798240"/>
                <a:ext cx="1771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68"/>
              <p:cNvSpPr/>
              <p:nvPr/>
            </p:nvSpPr>
            <p:spPr>
              <a:xfrm>
                <a:off x="1617120" y="6798240"/>
                <a:ext cx="18576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Group 69"/>
            <p:cNvGrpSpPr/>
            <p:nvPr/>
          </p:nvGrpSpPr>
          <p:grpSpPr>
            <a:xfrm>
              <a:off x="3474720" y="6798240"/>
              <a:ext cx="1747080" cy="520200"/>
              <a:chOff x="3474720" y="6798240"/>
              <a:chExt cx="1747080" cy="520200"/>
            </a:xfrm>
          </p:grpSpPr>
          <p:sp>
            <p:nvSpPr>
              <p:cNvPr id="124" name="Rectangle 70"/>
              <p:cNvSpPr/>
              <p:nvPr/>
            </p:nvSpPr>
            <p:spPr>
              <a:xfrm>
                <a:off x="3517920" y="6798240"/>
                <a:ext cx="1660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71"/>
              <p:cNvSpPr/>
              <p:nvPr/>
            </p:nvSpPr>
            <p:spPr>
              <a:xfrm>
                <a:off x="3474720" y="6798240"/>
                <a:ext cx="17470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72"/>
            <p:cNvGrpSpPr/>
            <p:nvPr/>
          </p:nvGrpSpPr>
          <p:grpSpPr>
            <a:xfrm>
              <a:off x="5222160" y="6798240"/>
              <a:ext cx="316440" cy="520200"/>
              <a:chOff x="5222160" y="6798240"/>
              <a:chExt cx="316440" cy="520200"/>
            </a:xfrm>
          </p:grpSpPr>
          <p:sp>
            <p:nvSpPr>
              <p:cNvPr id="127" name="Rectangle 73"/>
              <p:cNvSpPr/>
              <p:nvPr/>
            </p:nvSpPr>
            <p:spPr>
              <a:xfrm>
                <a:off x="5265000" y="6798240"/>
                <a:ext cx="230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74"/>
              <p:cNvSpPr/>
              <p:nvPr/>
            </p:nvSpPr>
            <p:spPr>
              <a:xfrm>
                <a:off x="5222160" y="6798240"/>
                <a:ext cx="3164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75"/>
            <p:cNvGrpSpPr/>
            <p:nvPr/>
          </p:nvGrpSpPr>
          <p:grpSpPr>
            <a:xfrm>
              <a:off x="5538600" y="6798240"/>
              <a:ext cx="1414800" cy="520200"/>
              <a:chOff x="5538600" y="6798240"/>
              <a:chExt cx="1414800" cy="520200"/>
            </a:xfrm>
          </p:grpSpPr>
          <p:sp>
            <p:nvSpPr>
              <p:cNvPr id="130" name="Rectangle 76"/>
              <p:cNvSpPr/>
              <p:nvPr/>
            </p:nvSpPr>
            <p:spPr>
              <a:xfrm>
                <a:off x="5581800" y="6798240"/>
                <a:ext cx="132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77"/>
              <p:cNvSpPr/>
              <p:nvPr/>
            </p:nvSpPr>
            <p:spPr>
              <a:xfrm>
                <a:off x="5538600" y="6798240"/>
                <a:ext cx="14148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78"/>
            <p:cNvGrpSpPr/>
            <p:nvPr/>
          </p:nvGrpSpPr>
          <p:grpSpPr>
            <a:xfrm>
              <a:off x="6953760" y="6798240"/>
              <a:ext cx="2189880" cy="520200"/>
              <a:chOff x="6953760" y="6798240"/>
              <a:chExt cx="2189880" cy="520200"/>
            </a:xfrm>
          </p:grpSpPr>
          <p:sp>
            <p:nvSpPr>
              <p:cNvPr id="133" name="Rectangle 79"/>
              <p:cNvSpPr/>
              <p:nvPr/>
            </p:nvSpPr>
            <p:spPr>
              <a:xfrm>
                <a:off x="6996960" y="6798240"/>
                <a:ext cx="2103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80"/>
              <p:cNvSpPr/>
              <p:nvPr/>
            </p:nvSpPr>
            <p:spPr>
              <a:xfrm>
                <a:off x="6953760" y="6798240"/>
                <a:ext cx="21898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Rectangle 81"/>
          <p:cNvSpPr/>
          <p:nvPr/>
        </p:nvSpPr>
        <p:spPr>
          <a:xfrm>
            <a:off x="-2286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roducción Mundial y Valores de Mercado de Productos Proteínicos Típicos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82"/>
          <p:cNvSpPr/>
          <p:nvPr/>
        </p:nvSpPr>
        <p:spPr>
          <a:xfrm>
            <a:off x="6629400" y="5867280"/>
            <a:ext cx="16765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2"/>
          <p:cNvGraphicFramePr/>
          <p:nvPr/>
        </p:nvGraphicFramePr>
        <p:xfrm>
          <a:off x="684360" y="333360"/>
          <a:ext cx="7659720" cy="62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65972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9144000" cy="6580080"/>
            <a:chOff x="0" y="0"/>
            <a:chExt cx="9144000" cy="6580080"/>
          </a:xfrm>
        </p:grpSpPr>
        <p:sp>
          <p:nvSpPr>
            <p:cNvPr id="140" name="Rectangle 3"/>
            <p:cNvSpPr/>
            <p:nvPr/>
          </p:nvSpPr>
          <p:spPr>
            <a:xfrm>
              <a:off x="0" y="0"/>
              <a:ext cx="91440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Principales Productos Biotecnológico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Object 4"/>
            <p:cNvGraphicFramePr/>
            <p:nvPr/>
          </p:nvGraphicFramePr>
          <p:xfrm>
            <a:off x="1533600" y="1282680"/>
            <a:ext cx="6541920" cy="529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33600" y="1282680"/>
                      <a:ext cx="6541920" cy="52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Text Box 5"/>
            <p:cNvSpPr/>
            <p:nvPr/>
          </p:nvSpPr>
          <p:spPr>
            <a:xfrm>
              <a:off x="2771640" y="949320"/>
              <a:ext cx="93528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0.25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Etan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"/>
            <p:cNvSpPr/>
            <p:nvPr/>
          </p:nvSpPr>
          <p:spPr>
            <a:xfrm>
              <a:off x="2700360" y="2935080"/>
              <a:ext cx="136692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Cuajo recomb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4211640" y="3655800"/>
              <a:ext cx="136692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2.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Insul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7164360" y="3367080"/>
              <a:ext cx="180036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.000.0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Factor de Coagu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Group 9"/>
            <p:cNvGrpSpPr/>
            <p:nvPr/>
          </p:nvGrpSpPr>
          <p:grpSpPr>
            <a:xfrm>
              <a:off x="6545160" y="1063440"/>
              <a:ext cx="1800000" cy="1459440"/>
              <a:chOff x="6545160" y="1063440"/>
              <a:chExt cx="1800000" cy="1459440"/>
            </a:xfrm>
          </p:grpSpPr>
          <p:pic>
            <p:nvPicPr>
              <p:cNvPr id="148" name="Picture 10" descr="images"/>
              <p:cNvPicPr/>
              <p:nvPr/>
            </p:nvPicPr>
            <p:blipFill>
              <a:blip r:embed="rId3"/>
              <a:stretch/>
            </p:blipFill>
            <p:spPr>
              <a:xfrm>
                <a:off x="6616440" y="1063440"/>
                <a:ext cx="13431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Text Box 11"/>
              <p:cNvSpPr/>
              <p:nvPr/>
            </p:nvSpPr>
            <p:spPr>
              <a:xfrm>
                <a:off x="6545160" y="2215800"/>
                <a:ext cx="180000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33cc"/>
                    </a:solidFill>
                    <a:latin typeface="Arial"/>
                  </a:rPr>
                  <a:t>$ 9.000/g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se refiere a cul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crob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élulas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producir productos útiles para los humanos y que generen ganancias a los invers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66"/>
                </a:solidFill>
                <a:uFillTx/>
                <a:latin typeface="Times New Roman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os primeros productos “biotecnológicos” se conocen desde 4000 a.C. cuando se producían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, queso y yogurt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definición de biotecnología proviene de aproximadamente 100 años atrás. Se orienta principalmente a productos orgánicos generados por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cetona (Industria de municiones I Guerra Mund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Ácido cítrico y glutám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bióticos</a:t>
            </a:r>
            <a:r>
              <a:rPr b="0" lang="es-CL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caparó toda la atención, resultando el producto más importante de la biotecnología, este metabolito secundario produjo grandes benefici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Times New Roman"/>
              </a:rPr>
              <a:t>Esquema general de la producción de productos bio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2478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6146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609480" y="1828800"/>
          <a:ext cx="7620120" cy="18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6201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1982880" y="4419720"/>
          <a:ext cx="6508800" cy="15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2880" y="4419720"/>
                    <a:ext cx="6508800" cy="15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Line 7"/>
          <p:cNvSpPr/>
          <p:nvPr/>
        </p:nvSpPr>
        <p:spPr>
          <a:xfrm flipH="1">
            <a:off x="1980720" y="35053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8"/>
          <p:cNvSpPr/>
          <p:nvPr/>
        </p:nvSpPr>
        <p:spPr>
          <a:xfrm flipV="1">
            <a:off x="1981080" y="350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1828800" y="1828800"/>
            <a:ext cx="6781680" cy="4419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124080" y="3886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Downstream processing (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T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U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IER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UXILI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ércoles 14:30-16:00 (Habrán excep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ercicios todas las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1: Miércoles 26 de agos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2: Miércoles  7 de Octu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3: Miércoles 11 de Noviembr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66"/>
                </a:solidFill>
                <a:uFillTx/>
                <a:latin typeface="Times New Roman"/>
              </a:rPr>
              <a:t>Características de la bio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separación de los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ductos biotecnológic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sulta relativamente </a:t>
            </a: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ás difíci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que las separaciones en la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geniería química convenciona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ya que las moléculas que se separar resultan ser extremadamente frágiles y de propiedades fisicoquímicas y bioquímicas muy similares entre 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ualquier empresa que trabaje en la producción de bioproductos,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iferentes, mientras que la empresa petroquímica sólo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228600" y="533520"/>
            <a:ext cx="8914320" cy="6892560"/>
            <a:chOff x="228600" y="533520"/>
            <a:chExt cx="8914320" cy="6892560"/>
          </a:xfrm>
        </p:grpSpPr>
        <p:sp>
          <p:nvSpPr>
            <p:cNvPr id="165" name="Rectangle 3"/>
            <p:cNvSpPr/>
            <p:nvPr/>
          </p:nvSpPr>
          <p:spPr>
            <a:xfrm>
              <a:off x="280440" y="152928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centración en el medio (g/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4"/>
            <p:cNvSpPr/>
            <p:nvPr/>
          </p:nvSpPr>
          <p:spPr>
            <a:xfrm>
              <a:off x="2485440" y="152928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0 - 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4233960" y="152928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5578920" y="152928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6789960" y="152928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0.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280440" y="236088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amin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2485440" y="236088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4233960" y="236088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>
              <a:off x="5578920" y="236088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6789960" y="236088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280440" y="2965680"/>
              <a:ext cx="220464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iempo de procesamiento  (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2485440" y="2965680"/>
              <a:ext cx="1748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2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5"/>
            <p:cNvSpPr/>
            <p:nvPr/>
          </p:nvSpPr>
          <p:spPr>
            <a:xfrm>
              <a:off x="4233960" y="2965680"/>
              <a:ext cx="13449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6"/>
            <p:cNvSpPr/>
            <p:nvPr/>
          </p:nvSpPr>
          <p:spPr>
            <a:xfrm>
              <a:off x="5578920" y="2965680"/>
              <a:ext cx="12106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 -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7"/>
            <p:cNvSpPr/>
            <p:nvPr/>
          </p:nvSpPr>
          <p:spPr>
            <a:xfrm>
              <a:off x="6789960" y="2965680"/>
              <a:ext cx="1883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8"/>
            <p:cNvSpPr/>
            <p:nvPr/>
          </p:nvSpPr>
          <p:spPr>
            <a:xfrm>
              <a:off x="280440" y="40244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u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9"/>
            <p:cNvSpPr/>
            <p:nvPr/>
          </p:nvSpPr>
          <p:spPr>
            <a:xfrm>
              <a:off x="2485440" y="40244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4233960" y="40244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5578920" y="40244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22"/>
            <p:cNvSpPr/>
            <p:nvPr/>
          </p:nvSpPr>
          <p:spPr>
            <a:xfrm>
              <a:off x="6789960" y="40244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uy 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23"/>
            <p:cNvSpPr/>
            <p:nvPr/>
          </p:nvSpPr>
          <p:spPr>
            <a:xfrm>
              <a:off x="280440" y="46292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ción/lote (k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24"/>
            <p:cNvSpPr/>
            <p:nvPr/>
          </p:nvSpPr>
          <p:spPr>
            <a:xfrm>
              <a:off x="2485440" y="46292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2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25"/>
            <p:cNvSpPr/>
            <p:nvPr/>
          </p:nvSpPr>
          <p:spPr>
            <a:xfrm>
              <a:off x="4233960" y="46292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8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26"/>
            <p:cNvSpPr/>
            <p:nvPr/>
          </p:nvSpPr>
          <p:spPr>
            <a:xfrm>
              <a:off x="5578920" y="46292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27"/>
            <p:cNvSpPr/>
            <p:nvPr/>
          </p:nvSpPr>
          <p:spPr>
            <a:xfrm>
              <a:off x="6789960" y="46292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3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28"/>
            <p:cNvSpPr/>
            <p:nvPr/>
          </p:nvSpPr>
          <p:spPr>
            <a:xfrm>
              <a:off x="280440" y="54608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SP por l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29"/>
            <p:cNvSpPr/>
            <p:nvPr/>
          </p:nvSpPr>
          <p:spPr>
            <a:xfrm>
              <a:off x="2485440" y="54608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30"/>
            <p:cNvSpPr/>
            <p:nvPr/>
          </p:nvSpPr>
          <p:spPr>
            <a:xfrm>
              <a:off x="4233960" y="54608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31"/>
            <p:cNvSpPr/>
            <p:nvPr/>
          </p:nvSpPr>
          <p:spPr>
            <a:xfrm>
              <a:off x="5578920" y="54608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32"/>
            <p:cNvSpPr/>
            <p:nvPr/>
          </p:nvSpPr>
          <p:spPr>
            <a:xfrm>
              <a:off x="6789960" y="54608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33"/>
            <p:cNvSpPr/>
            <p:nvPr/>
          </p:nvSpPr>
          <p:spPr>
            <a:xfrm>
              <a:off x="280440" y="60656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úmero de etapas 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34"/>
            <p:cNvSpPr/>
            <p:nvPr/>
          </p:nvSpPr>
          <p:spPr>
            <a:xfrm>
              <a:off x="2485440" y="60656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35"/>
            <p:cNvSpPr/>
            <p:nvPr/>
          </p:nvSpPr>
          <p:spPr>
            <a:xfrm>
              <a:off x="4233960" y="60656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36"/>
            <p:cNvSpPr/>
            <p:nvPr/>
          </p:nvSpPr>
          <p:spPr>
            <a:xfrm>
              <a:off x="5578920" y="60656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 -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37"/>
            <p:cNvSpPr/>
            <p:nvPr/>
          </p:nvSpPr>
          <p:spPr>
            <a:xfrm>
              <a:off x="6789960" y="60656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8 - 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Group 38"/>
            <p:cNvGrpSpPr/>
            <p:nvPr/>
          </p:nvGrpSpPr>
          <p:grpSpPr>
            <a:xfrm>
              <a:off x="228600" y="533520"/>
              <a:ext cx="2308320" cy="995760"/>
              <a:chOff x="228600" y="533520"/>
              <a:chExt cx="2308320" cy="995760"/>
            </a:xfrm>
          </p:grpSpPr>
          <p:sp>
            <p:nvSpPr>
              <p:cNvPr id="201" name="Rectangle 39"/>
              <p:cNvSpPr/>
              <p:nvPr/>
            </p:nvSpPr>
            <p:spPr>
              <a:xfrm>
                <a:off x="280440" y="533520"/>
                <a:ext cx="220428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40"/>
              <p:cNvSpPr/>
              <p:nvPr/>
            </p:nvSpPr>
            <p:spPr>
              <a:xfrm>
                <a:off x="228600" y="533520"/>
                <a:ext cx="23083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41"/>
            <p:cNvGrpSpPr/>
            <p:nvPr/>
          </p:nvGrpSpPr>
          <p:grpSpPr>
            <a:xfrm>
              <a:off x="2537280" y="533520"/>
              <a:ext cx="1852920" cy="995760"/>
              <a:chOff x="2537280" y="533520"/>
              <a:chExt cx="1852920" cy="995760"/>
            </a:xfrm>
          </p:grpSpPr>
          <p:sp>
            <p:nvSpPr>
              <p:cNvPr id="204" name="Rectangle 42"/>
              <p:cNvSpPr/>
              <p:nvPr/>
            </p:nvSpPr>
            <p:spPr>
              <a:xfrm>
                <a:off x="2589480" y="533520"/>
                <a:ext cx="17481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tos Quími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43"/>
              <p:cNvSpPr/>
              <p:nvPr/>
            </p:nvSpPr>
            <p:spPr>
              <a:xfrm>
                <a:off x="2537280" y="533520"/>
                <a:ext cx="18529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44"/>
            <p:cNvGrpSpPr/>
            <p:nvPr/>
          </p:nvGrpSpPr>
          <p:grpSpPr>
            <a:xfrm>
              <a:off x="4390920" y="533520"/>
              <a:ext cx="1449360" cy="995760"/>
              <a:chOff x="4390920" y="533520"/>
              <a:chExt cx="1449360" cy="99576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4442760" y="533520"/>
                <a:ext cx="13449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Antibiót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46"/>
              <p:cNvSpPr/>
              <p:nvPr/>
            </p:nvSpPr>
            <p:spPr>
              <a:xfrm>
                <a:off x="4390920" y="533520"/>
                <a:ext cx="1449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47"/>
            <p:cNvGrpSpPr/>
            <p:nvPr/>
          </p:nvGrpSpPr>
          <p:grpSpPr>
            <a:xfrm>
              <a:off x="5840640" y="533520"/>
              <a:ext cx="1314360" cy="995760"/>
              <a:chOff x="5840640" y="533520"/>
              <a:chExt cx="1314360" cy="995760"/>
            </a:xfrm>
          </p:grpSpPr>
          <p:sp>
            <p:nvSpPr>
              <p:cNvPr id="210" name="Rectangle 48"/>
              <p:cNvSpPr/>
              <p:nvPr/>
            </p:nvSpPr>
            <p:spPr>
              <a:xfrm>
                <a:off x="5892480" y="533520"/>
                <a:ext cx="121032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49"/>
              <p:cNvSpPr/>
              <p:nvPr/>
            </p:nvSpPr>
            <p:spPr>
              <a:xfrm>
                <a:off x="5840640" y="533520"/>
                <a:ext cx="1314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Group 50"/>
            <p:cNvGrpSpPr/>
            <p:nvPr/>
          </p:nvGrpSpPr>
          <p:grpSpPr>
            <a:xfrm>
              <a:off x="7155720" y="533520"/>
              <a:ext cx="1987200" cy="995760"/>
              <a:chOff x="7155720" y="533520"/>
              <a:chExt cx="1987200" cy="995760"/>
            </a:xfrm>
          </p:grpSpPr>
          <p:sp>
            <p:nvSpPr>
              <p:cNvPr id="213" name="Rectangle 51"/>
              <p:cNvSpPr/>
              <p:nvPr/>
            </p:nvSpPr>
            <p:spPr>
              <a:xfrm>
                <a:off x="7207920" y="533520"/>
                <a:ext cx="188280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s Terapeút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ectangle 52"/>
              <p:cNvSpPr/>
              <p:nvPr/>
            </p:nvSpPr>
            <p:spPr>
              <a:xfrm>
                <a:off x="7155720" y="533520"/>
                <a:ext cx="198720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53"/>
            <p:cNvGrpSpPr/>
            <p:nvPr/>
          </p:nvGrpSpPr>
          <p:grpSpPr>
            <a:xfrm>
              <a:off x="228600" y="6897600"/>
              <a:ext cx="2308320" cy="528480"/>
              <a:chOff x="228600" y="6897600"/>
              <a:chExt cx="2308320" cy="528480"/>
            </a:xfrm>
          </p:grpSpPr>
          <p:sp>
            <p:nvSpPr>
              <p:cNvPr id="216" name="Rectangle 54"/>
              <p:cNvSpPr/>
              <p:nvPr/>
            </p:nvSpPr>
            <p:spPr>
              <a:xfrm>
                <a:off x="280440" y="6897600"/>
                <a:ext cx="22042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55"/>
              <p:cNvSpPr/>
              <p:nvPr/>
            </p:nvSpPr>
            <p:spPr>
              <a:xfrm>
                <a:off x="228600" y="6897600"/>
                <a:ext cx="23083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Group 56"/>
            <p:cNvGrpSpPr/>
            <p:nvPr/>
          </p:nvGrpSpPr>
          <p:grpSpPr>
            <a:xfrm>
              <a:off x="2537280" y="6897600"/>
              <a:ext cx="1852920" cy="528480"/>
              <a:chOff x="2537280" y="6897600"/>
              <a:chExt cx="1852920" cy="528480"/>
            </a:xfrm>
          </p:grpSpPr>
          <p:sp>
            <p:nvSpPr>
              <p:cNvPr id="219" name="Rectangle 57"/>
              <p:cNvSpPr/>
              <p:nvPr/>
            </p:nvSpPr>
            <p:spPr>
              <a:xfrm>
                <a:off x="2589480" y="6897600"/>
                <a:ext cx="17481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Rectangle 58"/>
              <p:cNvSpPr/>
              <p:nvPr/>
            </p:nvSpPr>
            <p:spPr>
              <a:xfrm>
                <a:off x="2537280" y="6897600"/>
                <a:ext cx="18529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59"/>
            <p:cNvGrpSpPr/>
            <p:nvPr/>
          </p:nvGrpSpPr>
          <p:grpSpPr>
            <a:xfrm>
              <a:off x="4390920" y="6897600"/>
              <a:ext cx="1449360" cy="528480"/>
              <a:chOff x="4390920" y="6897600"/>
              <a:chExt cx="1449360" cy="528480"/>
            </a:xfrm>
          </p:grpSpPr>
          <p:sp>
            <p:nvSpPr>
              <p:cNvPr id="222" name="Rectangle 60"/>
              <p:cNvSpPr/>
              <p:nvPr/>
            </p:nvSpPr>
            <p:spPr>
              <a:xfrm>
                <a:off x="4442760" y="6897600"/>
                <a:ext cx="13449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61"/>
              <p:cNvSpPr/>
              <p:nvPr/>
            </p:nvSpPr>
            <p:spPr>
              <a:xfrm>
                <a:off x="4390920" y="6897600"/>
                <a:ext cx="1449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Group 62"/>
            <p:cNvGrpSpPr/>
            <p:nvPr/>
          </p:nvGrpSpPr>
          <p:grpSpPr>
            <a:xfrm>
              <a:off x="5840640" y="6897600"/>
              <a:ext cx="1314360" cy="528480"/>
              <a:chOff x="5840640" y="6897600"/>
              <a:chExt cx="1314360" cy="528480"/>
            </a:xfrm>
          </p:grpSpPr>
          <p:sp>
            <p:nvSpPr>
              <p:cNvPr id="225" name="Rectangle 63"/>
              <p:cNvSpPr/>
              <p:nvPr/>
            </p:nvSpPr>
            <p:spPr>
              <a:xfrm>
                <a:off x="5892480" y="6897600"/>
                <a:ext cx="121032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64"/>
              <p:cNvSpPr/>
              <p:nvPr/>
            </p:nvSpPr>
            <p:spPr>
              <a:xfrm>
                <a:off x="5840640" y="6897600"/>
                <a:ext cx="1314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65"/>
            <p:cNvGrpSpPr/>
            <p:nvPr/>
          </p:nvGrpSpPr>
          <p:grpSpPr>
            <a:xfrm>
              <a:off x="7155720" y="6897600"/>
              <a:ext cx="1987200" cy="528480"/>
              <a:chOff x="7155720" y="6897600"/>
              <a:chExt cx="1987200" cy="528480"/>
            </a:xfrm>
          </p:grpSpPr>
          <p:sp>
            <p:nvSpPr>
              <p:cNvPr id="228" name="Rectangle 66"/>
              <p:cNvSpPr/>
              <p:nvPr/>
            </p:nvSpPr>
            <p:spPr>
              <a:xfrm>
                <a:off x="7207920" y="6897600"/>
                <a:ext cx="18828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67"/>
              <p:cNvSpPr/>
              <p:nvPr/>
            </p:nvSpPr>
            <p:spPr>
              <a:xfrm>
                <a:off x="7155720" y="6897600"/>
                <a:ext cx="198720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Rectangle 68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arámetros típicos relacionados con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69"/>
          <p:cNvSpPr/>
          <p:nvPr/>
        </p:nvSpPr>
        <p:spPr>
          <a:xfrm>
            <a:off x="6934320" y="5867280"/>
            <a:ext cx="16761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228600" y="838080"/>
            <a:ext cx="8914680" cy="6194160"/>
            <a:chOff x="228600" y="838080"/>
            <a:chExt cx="8914680" cy="6194160"/>
          </a:xfrm>
        </p:grpSpPr>
        <p:sp>
          <p:nvSpPr>
            <p:cNvPr id="233" name="Rectangle 3"/>
            <p:cNvSpPr/>
            <p:nvPr/>
          </p:nvSpPr>
          <p:spPr>
            <a:xfrm>
              <a:off x="283320" y="123120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4"/>
            <p:cNvSpPr/>
            <p:nvPr/>
          </p:nvSpPr>
          <p:spPr>
            <a:xfrm>
              <a:off x="2930760" y="123120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900 +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5334120" y="123120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yor costo de separación para productos de bajo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6"/>
            <p:cNvSpPr/>
            <p:nvPr/>
          </p:nvSpPr>
          <p:spPr>
            <a:xfrm>
              <a:off x="283320" y="177192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teria 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2930760" y="177192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- 100 g/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8"/>
            <p:cNvSpPr/>
            <p:nvPr/>
          </p:nvSpPr>
          <p:spPr>
            <a:xfrm>
              <a:off x="5334120" y="177192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secho, reciclado 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283320" y="2312640"/>
              <a:ext cx="26470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2930760" y="2312640"/>
              <a:ext cx="24033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120 g/l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1"/>
            <p:cNvSpPr/>
            <p:nvPr/>
          </p:nvSpPr>
          <p:spPr>
            <a:xfrm>
              <a:off x="5334120" y="2312640"/>
              <a:ext cx="3534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2"/>
            <p:cNvSpPr/>
            <p:nvPr/>
          </p:nvSpPr>
          <p:spPr>
            <a:xfrm>
              <a:off x="283320" y="270612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es inorgán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3"/>
            <p:cNvSpPr/>
            <p:nvPr/>
          </p:nvSpPr>
          <p:spPr>
            <a:xfrm>
              <a:off x="2930760" y="270612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10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4"/>
            <p:cNvSpPr/>
            <p:nvPr/>
          </p:nvSpPr>
          <p:spPr>
            <a:xfrm>
              <a:off x="5334120" y="270612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as con 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5"/>
            <p:cNvSpPr/>
            <p:nvPr/>
          </p:nvSpPr>
          <p:spPr>
            <a:xfrm>
              <a:off x="283320" y="3246840"/>
              <a:ext cx="264708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s (no produc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6"/>
            <p:cNvSpPr/>
            <p:nvPr/>
          </p:nvSpPr>
          <p:spPr>
            <a:xfrm>
              <a:off x="2930760" y="3246840"/>
              <a:ext cx="24033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3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7"/>
            <p:cNvSpPr/>
            <p:nvPr/>
          </p:nvSpPr>
          <p:spPr>
            <a:xfrm>
              <a:off x="5334120" y="3246840"/>
              <a:ext cx="353484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con productos enzimáticos intracelul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283320" y="4082760"/>
              <a:ext cx="264708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cidos nucle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9"/>
            <p:cNvSpPr/>
            <p:nvPr/>
          </p:nvSpPr>
          <p:spPr>
            <a:xfrm>
              <a:off x="2930760" y="4082760"/>
              <a:ext cx="240336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6 g/l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0"/>
            <p:cNvSpPr/>
            <p:nvPr/>
          </p:nvSpPr>
          <p:spPr>
            <a:xfrm>
              <a:off x="5334120" y="4082760"/>
              <a:ext cx="353484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para proteínas intracelulares o productos enzimá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1"/>
            <p:cNvSpPr/>
            <p:nvPr/>
          </p:nvSpPr>
          <p:spPr>
            <a:xfrm>
              <a:off x="283320" y="491868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olisacár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2"/>
            <p:cNvSpPr/>
            <p:nvPr/>
          </p:nvSpPr>
          <p:spPr>
            <a:xfrm>
              <a:off x="2930760" y="491868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% +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23"/>
            <p:cNvSpPr/>
            <p:nvPr/>
          </p:nvSpPr>
          <p:spPr>
            <a:xfrm>
              <a:off x="5334120" y="491868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os con el medio, medios resid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24"/>
            <p:cNvSpPr/>
            <p:nvPr/>
          </p:nvSpPr>
          <p:spPr>
            <a:xfrm>
              <a:off x="283320" y="5459760"/>
              <a:ext cx="264708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s orgánicos (col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25"/>
            <p:cNvSpPr/>
            <p:nvPr/>
          </p:nvSpPr>
          <p:spPr>
            <a:xfrm>
              <a:off x="2930760" y="5459760"/>
              <a:ext cx="24033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en 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26"/>
            <p:cNvSpPr/>
            <p:nvPr/>
          </p:nvSpPr>
          <p:spPr>
            <a:xfrm>
              <a:off x="5334120" y="5459760"/>
              <a:ext cx="35348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 materias primas (por ejemplo,  melaza) y los microorganismos mis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27"/>
            <p:cNvSpPr/>
            <p:nvPr/>
          </p:nvSpPr>
          <p:spPr>
            <a:xfrm>
              <a:off x="283320" y="614808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ólidos orgán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28"/>
            <p:cNvSpPr/>
            <p:nvPr/>
          </p:nvSpPr>
          <p:spPr>
            <a:xfrm>
              <a:off x="2930760" y="614808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29"/>
            <p:cNvSpPr/>
            <p:nvPr/>
          </p:nvSpPr>
          <p:spPr>
            <a:xfrm>
              <a:off x="5334120" y="614808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30"/>
            <p:cNvSpPr/>
            <p:nvPr/>
          </p:nvSpPr>
          <p:spPr>
            <a:xfrm>
              <a:off x="283320" y="6688800"/>
              <a:ext cx="2647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31"/>
            <p:cNvSpPr/>
            <p:nvPr/>
          </p:nvSpPr>
          <p:spPr>
            <a:xfrm>
              <a:off x="2930760" y="6688800"/>
              <a:ext cx="24033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32"/>
            <p:cNvSpPr/>
            <p:nvPr/>
          </p:nvSpPr>
          <p:spPr>
            <a:xfrm>
              <a:off x="5334120" y="6688800"/>
              <a:ext cx="35348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Group 33"/>
            <p:cNvGrpSpPr/>
            <p:nvPr/>
          </p:nvGrpSpPr>
          <p:grpSpPr>
            <a:xfrm>
              <a:off x="228600" y="838080"/>
              <a:ext cx="2756520" cy="393120"/>
              <a:chOff x="228600" y="838080"/>
              <a:chExt cx="2756520" cy="393120"/>
            </a:xfrm>
          </p:grpSpPr>
          <p:sp>
            <p:nvSpPr>
              <p:cNvPr id="264" name="Rectangle 34"/>
              <p:cNvSpPr/>
              <p:nvPr/>
            </p:nvSpPr>
            <p:spPr>
              <a:xfrm>
                <a:off x="283320" y="838080"/>
                <a:ext cx="26470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pon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35"/>
              <p:cNvSpPr/>
              <p:nvPr/>
            </p:nvSpPr>
            <p:spPr>
              <a:xfrm>
                <a:off x="228600" y="838080"/>
                <a:ext cx="27565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36"/>
            <p:cNvGrpSpPr/>
            <p:nvPr/>
          </p:nvGrpSpPr>
          <p:grpSpPr>
            <a:xfrm>
              <a:off x="2985480" y="838080"/>
              <a:ext cx="2513160" cy="393120"/>
              <a:chOff x="2985480" y="838080"/>
              <a:chExt cx="2513160" cy="393120"/>
            </a:xfrm>
          </p:grpSpPr>
          <p:sp>
            <p:nvSpPr>
              <p:cNvPr id="267" name="Rectangle 37"/>
              <p:cNvSpPr/>
              <p:nvPr/>
            </p:nvSpPr>
            <p:spPr>
              <a:xfrm>
                <a:off x="3040560" y="838080"/>
                <a:ext cx="240300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ncentr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38"/>
              <p:cNvSpPr/>
              <p:nvPr/>
            </p:nvSpPr>
            <p:spPr>
              <a:xfrm>
                <a:off x="2985480" y="838080"/>
                <a:ext cx="251316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39"/>
            <p:cNvGrpSpPr/>
            <p:nvPr/>
          </p:nvGrpSpPr>
          <p:grpSpPr>
            <a:xfrm>
              <a:off x="5499360" y="838080"/>
              <a:ext cx="3643920" cy="393120"/>
              <a:chOff x="5499360" y="838080"/>
              <a:chExt cx="3643920" cy="393120"/>
            </a:xfrm>
          </p:grpSpPr>
          <p:sp>
            <p:nvSpPr>
              <p:cNvPr id="270" name="Rectangle 40"/>
              <p:cNvSpPr/>
              <p:nvPr/>
            </p:nvSpPr>
            <p:spPr>
              <a:xfrm>
                <a:off x="5554080" y="838080"/>
                <a:ext cx="35344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enta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41"/>
              <p:cNvSpPr/>
              <p:nvPr/>
            </p:nvSpPr>
            <p:spPr>
              <a:xfrm>
                <a:off x="5499360" y="838080"/>
                <a:ext cx="36439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Text Box 42"/>
          <p:cNvSpPr/>
          <p:nvPr/>
        </p:nvSpPr>
        <p:spPr>
          <a:xfrm>
            <a:off x="8380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mposición de una Corriente de Entrada a 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roductos Biotecnológico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Bio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Levadura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erpes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Retr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ulo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aso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Metabo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lcohole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Á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Proteí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468360" y="0"/>
            <a:ext cx="81532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Procesos de Producción de Bio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CL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¿ Qué se des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de una suspensión diluída se desea un productos biotecnológico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o rendimiento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= Pf/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f: Concentración Product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 : Concentración product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a Pureza</a:t>
            </a:r>
            <a:r>
              <a:rPr b="0" lang="es-CL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reza = Pf /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: Sumatoria de la concentración de todos los compuestos pres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</a:t>
            </a:r>
            <a:r>
              <a:rPr b="0" lang="es-C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ducto con propiedades fun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mpliendo las condiciones de: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o Razonable, dado que los costos de proceso son muy caros, siendo un porcentaje bastante significativo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28600" y="4572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iseño del Proceso de recuperación y pur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(Downstream  processing 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el diseño del DSP se debe conocer las respuestas a las siguientes pregun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precio del produc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nivel de produc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Dónde está el producto en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es son las propiedades fisicoquímicas y/o bioquímicas que diferencian al producto de sus contamin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el costo de las diferentes alternativas del DS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la eficiencia de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66"/>
                </a:solidFill>
                <a:uFillTx/>
                <a:latin typeface="Times New Roman"/>
              </a:rPr>
              <a:t>Proceso de producción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Separación de la biomasa del medio de cul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Secado y post-trat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Almacenamiento de la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Object 2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Rectangle 3"/>
          <p:cNvSpPr/>
          <p:nvPr/>
        </p:nvSpPr>
        <p:spPr>
          <a:xfrm>
            <a:off x="0" y="762120"/>
            <a:ext cx="61722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30492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ceso de producción de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ec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 infec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pera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ompimiento de las células (según vi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paración de los debri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rificación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macenamiento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ceso de producción de Metabol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paración del metabolito de la bioma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tamiento y purificación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macenamiento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uper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paración Sólido-Líqui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ntrifu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s de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icro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ltra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2"/>
          <p:cNvGraphicFramePr/>
          <p:nvPr/>
        </p:nvGraphicFramePr>
        <p:xfrm>
          <a:off x="0" y="814320"/>
          <a:ext cx="9144000" cy="52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4320"/>
                    <a:ext cx="91440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Text Box 3"/>
          <p:cNvSpPr/>
          <p:nvPr/>
        </p:nvSpPr>
        <p:spPr>
          <a:xfrm>
            <a:off x="13716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ción de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0" y="762120"/>
            <a:ext cx="57150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292" name="Rectangle 3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4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5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8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9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6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7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8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19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0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1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2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3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24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26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7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8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9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30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32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33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34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35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36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37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38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39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40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41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7970760" cy="62532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5148360" y="544500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3635280" y="393372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835280" y="5445000"/>
            <a:ext cx="172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4140360" y="623736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5364000" y="400536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 fácil es sepa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6659640" y="544500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t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5940360" y="6308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to se recu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539640" y="5877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 rápid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REGLAS HEURISTICAS PARA EL DISEÑO DE SISTEMAS DE SEPAR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55280" y="22050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la separación basándose en diferente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parar el compuesto más abundante pri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Usar etapas de purificación lo ant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procesos que exploten las diferencias en las propiedades fisicoquímicas en la forma más e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Hacer el trabajo más difícil al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mpimiento de Cél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étodos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Homogen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olinos de Bo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étodos No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ol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Álc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z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centr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 selectiv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ific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Cromatográ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sorción, Adsorción en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oría de Cromatografía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iltración por G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cambio 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acción Hidrof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ase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Afi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omatografía de lecho expan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Electroforé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soelectro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seño de Procesos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ltivo de Células Animales y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cesos Biotecn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ustria Biotecnológica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U_ 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Controles y Examen (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rcicios y Tareas (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o de Investigación (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re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25 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ost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15 Ne+0.10 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cope R.K "Protein Purification: Principles and Practice" 3er Edición, Spingerm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. Harris E.L. and Angal S. "Protein purification methods: A practical approach" 1ª Edición, IRL Press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. Belter P., Cussler E.L. and Hu Wei Shou "Bioseparations : Dowstream Processing for Biotechnology":, John Wiley and Sons , 198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Doran M." Bioprocess Engineering Principles", Academic Press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. Asenjo J.A. "Separation processes in Biotechnology", Marcel Dekker,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. Tejeda, R.M.Montesinos, R.Guzman "Bioseparaciones", Editorial Unison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. Ahuja S “Handbook of Bioseparations”, Academic Press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U 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EBEN TRAER E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Ing Quimica</cp:lastModifiedBy>
  <dcterms:modified xsi:type="dcterms:W3CDTF">2009-07-23T21:14:17Z</dcterms:modified>
  <cp:revision>29</cp:revision>
  <dc:subject/>
  <dc:title>Centrifugación    Operación unitaria utilizada para la separación: sólido-líquido    líquido-líquido </dc:title>
</cp:coreProperties>
</file>