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C72-9D47-4494-ABE5-6FE701E5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7D8-E499-4D62-8E75-A4680CFF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B3F-4A7D-4796-89FC-C7CA76D2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7AB-B899-4AFE-90B7-73C81B88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A5F-5CE8-4AF5-A329-7BF57FF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85E-1893-4B9D-87F6-E0E37B2D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84C-22F8-48B3-816F-2FF5649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3D3-9FA5-4FAC-90A7-F25FD830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DA2-C7F6-49F0-8F99-C4DB5EB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96D-1AFC-4C25-9A41-84C809A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C0A-17A6-4807-BC91-C7F4AD5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820-54CF-4EE5-BEE6-C20263B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D19E-AFAA-46DA-A582-EA9F04663B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mage8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8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Rectangle 3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0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8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9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1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33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4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6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38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39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1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3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4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s-E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5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Rectangle 46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7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48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Rectangle 49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50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51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Rectangle 52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53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54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Rectangle 55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56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7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Rectangle 58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59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60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Rectangle 61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62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3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Rectangle 64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65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66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Rectangle 67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68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69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Rectangle 70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71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2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Rectangle 73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4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5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Rectangle 76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77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78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Rectangle 79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80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Rectangle 81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82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Object 4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5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9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Picture 10" descr="images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11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7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1: Miércoles 26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2: Miércoles  7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TROL 3: Miércoles 11 de Noviembr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Rectangle 3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26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0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Rectangle 39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40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41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Rectangle 42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3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44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46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47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Rectangle 48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49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50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Rectangle 51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52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53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Rectangle 54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55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56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Rectangle 57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58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59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Rectangle 60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61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62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Rectangle 63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64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65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Rectangle 66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7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Rectangle 6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69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Rectangle 3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2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6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7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9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7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8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1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2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33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Rectangle 34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35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36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Rectangle 37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38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39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Rectangle 40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41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Text Box 42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Rectangle 3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Rectangle 3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6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6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8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9-07-23T21:14:17Z</dcterms:modified>
  <cp:revision>29</cp:revision>
  <dc:subject/>
  <dc:title>Centrifugación    Operación unitaria utilizada para la separación: sólido-líquido    líquido-líquido </dc:title>
</cp:coreProperties>
</file>