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4.wmf" ContentType="image/x-wmf"/>
  <Override PartName="/ppt/media/image3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978-6106-45F8-B64C-96C69D8A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1A2-4C6C-4AD4-A84E-006045D6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F4A-EFCE-4D84-9608-DDF62D7D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8BB-7617-42F1-AE78-ED8DFAA7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098-6D54-4E50-A512-3E3FAC90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5B7-3EE9-4079-9B11-053AF36A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52E-D2FD-43E5-8B18-59CB326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164-4794-4AE9-8A1D-E61415CC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569-6CF6-40F4-BAAB-D4CEF66B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AE1-E062-4EF2-9F57-6D74516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6F8-A7C9-4A87-A84C-5556312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7F6-2E80-4005-8593-15C7904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43A7-7144-46FC-B3C3-3EDEBEBC935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 PRELIMINAR DE DIAGRAMAS DE FLUJ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14200" y="-4375440"/>
            <a:ext cx="8501040" cy="167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es químicas y condicione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flujo de producción des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ureza deseada del producto y su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aterias primas y su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(es) de la reacción(es) química(s)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(es) de desactivación d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izador(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restricción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s de la planta y lugar de ub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físicas de todos los compo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ridad, toxicidad, e impacto ambiental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ateriales involuc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 de los subproductos, equipos y servici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2"/>
          <p:cNvGraphicFramePr/>
          <p:nvPr/>
        </p:nvGraphicFramePr>
        <p:xfrm>
          <a:off x="304920" y="609480"/>
          <a:ext cx="86104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6104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 partir de tolueno (Proceso HDA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457200" y="1143000"/>
          <a:ext cx="8393040" cy="54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930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380880" y="609480"/>
          <a:ext cx="842040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4204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ECISIONES A TOMAR DURANTE EL DISEÑO DEL DIAGRAMA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533520" y="114300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1- ¿Se debe purificar la corriente de alimentación antes de que entre en el proce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609480" y="139068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4"/>
          <p:cNvSpPr/>
          <p:nvPr/>
        </p:nvSpPr>
        <p:spPr>
          <a:xfrm>
            <a:off x="9144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Remover Especies ó Purificar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==&gt; Aumento de Costos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533520" y="1676520"/>
          <a:ext cx="8210520" cy="312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676520"/>
                    <a:ext cx="821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2- ¿Se debe remover o recircular un subproducto rever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990720" y="2209680"/>
          <a:ext cx="769608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696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4"/>
          <p:cNvSpPr/>
          <p:nvPr/>
        </p:nvSpPr>
        <p:spPr>
          <a:xfrm>
            <a:off x="1828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Decisión es 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3)-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debe usar un reciclo de gas con una corriente de pur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38080" y="1752480"/>
          <a:ext cx="7791480" cy="32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9148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4"/>
          <p:cNvSpPr/>
          <p:nvPr/>
        </p:nvSpPr>
        <p:spPr>
          <a:xfrm>
            <a:off x="533520" y="52578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separación de gases livianos requiere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de alta presión y refrig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4)-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deben recuperar o recircular algunos reactantes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838080" y="1752480"/>
          <a:ext cx="79250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92504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5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ntas corrientes efluentes deben hab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25"/>
          <p:cNvGraphicFramePr/>
          <p:nvPr/>
        </p:nvGraphicFramePr>
        <p:xfrm>
          <a:off x="685800" y="549360"/>
          <a:ext cx="876312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49360"/>
                    <a:ext cx="876312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35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ES_tradnl" sz="6000" spc="-1" strike="noStrike">
                <a:solidFill>
                  <a:srgbClr val="ff0000"/>
                </a:solidFill>
                <a:latin typeface="Times New Roman"/>
              </a:rPr>
              <a:t>¿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Encontrar el número de corrientes de productos para el proceso HD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457200" y="1523880"/>
          <a:ext cx="8381880" cy="23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3818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24"/>
          <p:cNvGrpSpPr/>
          <p:nvPr/>
        </p:nvGrpSpPr>
        <p:grpSpPr>
          <a:xfrm>
            <a:off x="1582560" y="3859920"/>
            <a:ext cx="6448680" cy="2731320"/>
            <a:chOff x="1582560" y="3859920"/>
            <a:chExt cx="6448680" cy="2731320"/>
          </a:xfrm>
        </p:grpSpPr>
        <p:sp>
          <p:nvSpPr>
            <p:cNvPr id="126" name="Rectangle 6"/>
            <p:cNvSpPr/>
            <p:nvPr/>
          </p:nvSpPr>
          <p:spPr>
            <a:xfrm>
              <a:off x="3355920" y="487512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1712880" y="52563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1712880" y="57024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5692680" y="53830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5440320" y="65912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 flipV="1">
              <a:off x="5440320" y="60829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 flipV="1">
              <a:off x="6324480" y="44305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3"/>
            <p:cNvSpPr/>
            <p:nvPr/>
          </p:nvSpPr>
          <p:spPr>
            <a:xfrm>
              <a:off x="5692680" y="493884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H="1">
              <a:off x="3733920" y="44308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3733920" y="443088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439596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1638360" y="47739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olu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1582560" y="57013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6705720" y="490104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5883120" y="604404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6324480" y="443088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2"/>
            <p:cNvSpPr/>
            <p:nvPr/>
          </p:nvSpPr>
          <p:spPr>
            <a:xfrm>
              <a:off x="6446520" y="38599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3581280" y="4947480"/>
              <a:ext cx="195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6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les son las variables de diseño, y qué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spectos económicos están asociados con él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57200" y="1066680"/>
          <a:ext cx="8305920" cy="25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05920" cy="25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4"/>
          <p:cNvGraphicFramePr/>
          <p:nvPr/>
        </p:nvGraphicFramePr>
        <p:xfrm>
          <a:off x="457200" y="3352680"/>
          <a:ext cx="8686800" cy="371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352680"/>
                    <a:ext cx="86868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cedimiento para Desarrollar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4"/>
          <p:cNvGraphicFramePr/>
          <p:nvPr/>
        </p:nvGraphicFramePr>
        <p:xfrm>
          <a:off x="457200" y="914400"/>
          <a:ext cx="8458200" cy="56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6116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Balances de masa en 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449280" y="4403880"/>
          <a:ext cx="8373960" cy="20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4403880"/>
                    <a:ext cx="837396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4"/>
          <p:cNvGrpSpPr/>
          <p:nvPr/>
        </p:nvGrpSpPr>
        <p:grpSpPr>
          <a:xfrm>
            <a:off x="501840" y="964440"/>
            <a:ext cx="8150400" cy="2731320"/>
            <a:chOff x="501840" y="964440"/>
            <a:chExt cx="8150400" cy="2731320"/>
          </a:xfrm>
        </p:grpSpPr>
        <p:sp>
          <p:nvSpPr>
            <p:cNvPr id="156" name="Rectangle 5"/>
            <p:cNvSpPr/>
            <p:nvPr/>
          </p:nvSpPr>
          <p:spPr>
            <a:xfrm>
              <a:off x="3048120" y="198108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1440000" y="2360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1440000" y="28065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5419800" y="24876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>
              <a:off x="5167440" y="36957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 flipV="1">
              <a:off x="5167440" y="318744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V="1">
              <a:off x="6051600" y="153468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2"/>
            <p:cNvSpPr/>
            <p:nvPr/>
          </p:nvSpPr>
          <p:spPr>
            <a:xfrm>
              <a:off x="5419800" y="204300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 flipH="1">
              <a:off x="3460320" y="15350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3460680" y="153504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4122720" y="989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501840" y="187884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812160" y="280584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6485760" y="195480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334120" y="30978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0"/>
            <p:cNvSpPr/>
            <p:nvPr/>
          </p:nvSpPr>
          <p:spPr>
            <a:xfrm>
              <a:off x="6051600" y="153504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1"/>
            <p:cNvSpPr/>
            <p:nvPr/>
          </p:nvSpPr>
          <p:spPr>
            <a:xfrm>
              <a:off x="5715720" y="96444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2"/>
            <p:cNvSpPr/>
            <p:nvPr/>
          </p:nvSpPr>
          <p:spPr>
            <a:xfrm>
              <a:off x="3308400" y="205200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23"/>
            <p:cNvSpPr/>
            <p:nvPr/>
          </p:nvSpPr>
          <p:spPr>
            <a:xfrm>
              <a:off x="6249600" y="25146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5"/>
          <p:cNvGraphicFramePr/>
          <p:nvPr/>
        </p:nvGraphicFramePr>
        <p:xfrm>
          <a:off x="533520" y="228600"/>
          <a:ext cx="8231040" cy="20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23104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533520" y="2666880"/>
          <a:ext cx="7997760" cy="22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666880"/>
                    <a:ext cx="799776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7"/>
          <p:cNvGraphicFramePr/>
          <p:nvPr/>
        </p:nvGraphicFramePr>
        <p:xfrm>
          <a:off x="685800" y="5181480"/>
          <a:ext cx="12728520" cy="1043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181480"/>
                    <a:ext cx="127285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24"/>
          <p:cNvGraphicFramePr/>
          <p:nvPr/>
        </p:nvGraphicFramePr>
        <p:xfrm>
          <a:off x="304920" y="304920"/>
          <a:ext cx="14358960" cy="79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43589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5"/>
          <p:cNvGraphicFramePr/>
          <p:nvPr/>
        </p:nvGraphicFramePr>
        <p:xfrm>
          <a:off x="233280" y="1150920"/>
          <a:ext cx="8483760" cy="362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4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1150920"/>
                    <a:ext cx="84837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26"/>
          <p:cNvGraphicFramePr/>
          <p:nvPr/>
        </p:nvGraphicFramePr>
        <p:xfrm>
          <a:off x="304920" y="5105520"/>
          <a:ext cx="8177040" cy="1276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105520"/>
                    <a:ext cx="81770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457200" y="4572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23"/>
          <p:cNvGrpSpPr/>
          <p:nvPr/>
        </p:nvGrpSpPr>
        <p:grpSpPr>
          <a:xfrm>
            <a:off x="1449000" y="3885120"/>
            <a:ext cx="6417000" cy="2706120"/>
            <a:chOff x="1449000" y="3885120"/>
            <a:chExt cx="6417000" cy="2706120"/>
          </a:xfrm>
        </p:grpSpPr>
        <p:sp>
          <p:nvSpPr>
            <p:cNvPr id="191" name="Text Box 14"/>
            <p:cNvSpPr/>
            <p:nvPr/>
          </p:nvSpPr>
          <p:spPr>
            <a:xfrm>
              <a:off x="414000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6527160" y="3885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1449000" y="4430160"/>
              <a:ext cx="6417000" cy="2161080"/>
              <a:chOff x="1449000" y="4430160"/>
              <a:chExt cx="6417000" cy="2161080"/>
            </a:xfrm>
          </p:grpSpPr>
          <p:sp>
            <p:nvSpPr>
              <p:cNvPr id="194" name="Rectangle 4"/>
              <p:cNvSpPr/>
              <p:nvPr/>
            </p:nvSpPr>
            <p:spPr>
              <a:xfrm>
                <a:off x="3065400" y="487656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"/>
              <p:cNvSpPr/>
              <p:nvPr/>
            </p:nvSpPr>
            <p:spPr>
              <a:xfrm>
                <a:off x="1457280" y="525600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6"/>
              <p:cNvSpPr/>
              <p:nvPr/>
            </p:nvSpPr>
            <p:spPr>
              <a:xfrm>
                <a:off x="1457280" y="57020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5437080" y="5383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8"/>
              <p:cNvSpPr/>
              <p:nvPr/>
            </p:nvSpPr>
            <p:spPr>
              <a:xfrm>
                <a:off x="5184720" y="65912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9"/>
              <p:cNvSpPr/>
              <p:nvPr/>
            </p:nvSpPr>
            <p:spPr>
              <a:xfrm flipV="1">
                <a:off x="5184720" y="608292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 flipV="1">
                <a:off x="6068880" y="443016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1"/>
              <p:cNvSpPr/>
              <p:nvPr/>
            </p:nvSpPr>
            <p:spPr>
              <a:xfrm>
                <a:off x="5437080" y="493848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2"/>
              <p:cNvSpPr/>
              <p:nvPr/>
            </p:nvSpPr>
            <p:spPr>
              <a:xfrm flipH="1">
                <a:off x="3478320" y="443052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3"/>
              <p:cNvSpPr/>
              <p:nvPr/>
            </p:nvSpPr>
            <p:spPr>
              <a:xfrm>
                <a:off x="3478320" y="443052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15"/>
              <p:cNvSpPr/>
              <p:nvPr/>
            </p:nvSpPr>
            <p:spPr>
              <a:xfrm>
                <a:off x="1449000" y="4799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16"/>
              <p:cNvSpPr/>
              <p:nvPr/>
            </p:nvSpPr>
            <p:spPr>
              <a:xfrm>
                <a:off x="1661400" y="5726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7"/>
              <p:cNvSpPr/>
              <p:nvPr/>
            </p:nvSpPr>
            <p:spPr>
              <a:xfrm>
                <a:off x="5351400" y="60184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>
                <a:off x="6068880" y="443052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20"/>
              <p:cNvSpPr/>
              <p:nvPr/>
            </p:nvSpPr>
            <p:spPr>
              <a:xfrm>
                <a:off x="3325680" y="494748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21"/>
              <p:cNvSpPr/>
              <p:nvPr/>
            </p:nvSpPr>
            <p:spPr>
              <a:xfrm>
                <a:off x="6598800" y="487656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457200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02360" y="-153000"/>
            <a:ext cx="610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Beneficio Económico Bru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04920" y="9180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el Proceso HDA se tiene:  B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{valor del benceno  +  valor del difenil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valor del combustible de la purg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 {valor del tolueno  - valor del gas consumido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 = {valor producto  +  valor subproducto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valor materia prima(s)}, [$/año]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No se consideran los costos de inversión ni los costos de servicios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 BE &lt; 0 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echar el diseño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)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una fuente de materias primas más baratas.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proces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1143000"/>
          <a:ext cx="88390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83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eneficio Bruto del Proceso HDA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n función de la conversión y de la fracción de hidrógeno en la corriente de pu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642960" y="1428840"/>
            <a:ext cx="757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ir una materia prima costosa u obtenerla al mínimo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onvertir un subproducto de desecho en un producto d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rear un material completamente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contrar un nuevo camino de reacción para fabricar un producto existente. Por ejemplo, producir un catalizador nuevo, ó desarrollar una alternativa de bioproces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3"/>
          <p:cNvGraphicFramePr/>
          <p:nvPr/>
        </p:nvGraphicFramePr>
        <p:xfrm>
          <a:off x="3048120" y="3227400"/>
          <a:ext cx="609588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227400"/>
                    <a:ext cx="60958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0" y="0"/>
          <a:ext cx="609588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095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26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6964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2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500040" y="164304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a nueva tecnología. Por ejemplo; membranas, biotecnología, sistemas expertos, robótica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 nuevo material de construcción en un equipo de proceso. Por ejemplo; polímeros, anticorrosivos o materiales que soporten altas Tª y P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un tratamiento de efluentes contaminantes a bajo cos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3"/>
          <p:cNvGraphicFramePr/>
          <p:nvPr/>
        </p:nvGraphicFramePr>
        <p:xfrm>
          <a:off x="685800" y="380880"/>
          <a:ext cx="7810560" cy="573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781056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56" name="Rectangle 14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59" name="Rectangle 15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AutoShape 18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proximación Jerárquica al Diseño Conceptu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5 CuadroTexto"/>
          <p:cNvSpPr/>
          <p:nvPr/>
        </p:nvSpPr>
        <p:spPr>
          <a:xfrm>
            <a:off x="357120" y="1143000"/>
            <a:ext cx="8143920" cy="63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 Proceso continuo vs. discontinuo vs. semi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entrada y salida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 Estructura de reciclo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- Estructura general del sistema de sepa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) Sistema de recuperación de g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b) Sistema de recuperación de líq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) Sistema de recuperación de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 de intercambio de calor (integración de energ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- Planificación y programación de 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CES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11480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ones de operación estacio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escala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equipo realiza una operación o función espe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del producto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 de producción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automat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95320" y="914040"/>
            <a:ext cx="43434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miento intermit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clo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queña escala de p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lantas flexibles, multiproducto y multipropós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quipos multifuncionales y multi-oper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des tiempos de procesamiento o resid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ones lentas, Flujos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que ensucian, incrustan o corroen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calidad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 de producción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cha mano de o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alto valor y c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dimientos de síntesis comp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diciones de control muy estric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029200" y="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CESO BATCH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( DISCONTINU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Entrada y Salida del Diagrama de flujo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609480" y="2132640"/>
            <a:ext cx="7924680" cy="3201480"/>
            <a:chOff x="609480" y="2132640"/>
            <a:chExt cx="7924680" cy="3201480"/>
          </a:xfrm>
        </p:grpSpPr>
        <p:sp>
          <p:nvSpPr>
            <p:cNvPr id="71" name="Rectangle 3"/>
            <p:cNvSpPr/>
            <p:nvPr/>
          </p:nvSpPr>
          <p:spPr>
            <a:xfrm>
              <a:off x="2895480" y="3276720"/>
              <a:ext cx="281952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4"/>
            <p:cNvSpPr/>
            <p:nvPr/>
          </p:nvSpPr>
          <p:spPr>
            <a:xfrm>
              <a:off x="914400" y="37339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914400" y="42674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571500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5410080" y="53341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8"/>
            <p:cNvSpPr/>
            <p:nvPr/>
          </p:nvSpPr>
          <p:spPr>
            <a:xfrm flipV="1">
              <a:off x="5410080" y="47242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V="1">
              <a:off x="6476760" y="27432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5715000" y="33530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H="1">
              <a:off x="3352680" y="274320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352680" y="2743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4267080" y="2132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4"/>
            <p:cNvSpPr/>
            <p:nvPr/>
          </p:nvSpPr>
          <p:spPr>
            <a:xfrm>
              <a:off x="609480" y="319932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840240" y="43423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7011720" y="33519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5943600" y="47235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ub-Produ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6476760" y="27432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9"/>
            <p:cNvSpPr/>
            <p:nvPr/>
          </p:nvSpPr>
          <p:spPr>
            <a:xfrm>
              <a:off x="6859440" y="2132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ur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3124080" y="3423600"/>
              <a:ext cx="2362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DU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21:09:43Z</dcterms:created>
  <dc:creator>Jesús Casas</dc:creator>
  <dc:description/>
  <dc:language>en-US</dc:language>
  <cp:lastModifiedBy>Ing Quimica</cp:lastModifiedBy>
  <dcterms:modified xsi:type="dcterms:W3CDTF">2009-08-14T15:31:13Z</dcterms:modified>
  <cp:revision>20</cp:revision>
  <dc:subject/>
  <dc:title>DISEÑO PRELIMINAR DE DIAGRAMAS DE FLUJOS </dc:title>
</cp:coreProperties>
</file>