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4.wmf" ContentType="image/x-wmf"/>
  <Override PartName="/ppt/media/image3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08A-172C-48E1-9944-5CC48727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B81-6A81-48A2-9155-B3092D0A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B79-AF9F-4627-BBC6-2A6C56DC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171-D171-4AE4-86B4-332F4E12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899-4A3A-424F-8472-DAB39EBB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72F-0733-4926-8204-17118386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FDC-D9EF-4E03-983E-B1DF7563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ACD-EEFB-47F6-9EA7-BF79FFA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0D8-9745-4A2D-9D88-7AE2553F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012-FF91-454B-B340-AFD588ED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79A-5B08-40EC-B587-464B8647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867-32B3-4A72-80AA-39FD6D2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467-2106-464F-8A58-65FC43B3642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 PRELIMINAR DE DIAGRAMAS DE FLUJ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14200" y="-4375440"/>
            <a:ext cx="8501040" cy="167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ciones químicas y condiciones de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lujo de producción des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ureza deseada del producto y su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materias primas y su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(es) de la reacción(es) química(s)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(es) de desactivación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izador(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restricción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s de la planta y lugar de ub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físicas de todos los compo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uridad, toxicidad, e impacto ambiental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ateriales involuc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 de los subproductos, equipos y servici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relimin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304920" y="609480"/>
          <a:ext cx="86104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6104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JEMPLO: Proceso para producir benceno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 partir de tolueno (Proceso HD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457200" y="1143000"/>
          <a:ext cx="8393040" cy="54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3930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380880" y="609480"/>
          <a:ext cx="842040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4204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ECISIONES A TOMAR DURANTE EL DISEÑO DEL DIAGRAMA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533520" y="114300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1- ¿Se debe purificar la corriente de alimentación antes de que entre en el proce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609480" y="1390680"/>
          <a:ext cx="800100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8001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4"/>
          <p:cNvSpPr/>
          <p:nvPr/>
        </p:nvSpPr>
        <p:spPr>
          <a:xfrm>
            <a:off x="91440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Remover Especies ó Purificar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==&gt; Aumento de Costos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533520" y="1676520"/>
          <a:ext cx="8210520" cy="312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76520"/>
                    <a:ext cx="821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2- ¿Se debe remover o recircular un subproducto rever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990720" y="2209680"/>
          <a:ext cx="76960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696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4"/>
          <p:cNvSpPr/>
          <p:nvPr/>
        </p:nvSpPr>
        <p:spPr>
          <a:xfrm>
            <a:off x="182880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Decisión es 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3)-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debe usar un reciclo de gas con una corriente de pur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38080" y="1752480"/>
          <a:ext cx="7791480" cy="32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9148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4"/>
          <p:cNvSpPr/>
          <p:nvPr/>
        </p:nvSpPr>
        <p:spPr>
          <a:xfrm>
            <a:off x="533520" y="52578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La separación de gases livianos requiere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Times New Roman"/>
              </a:rPr>
              <a:t> de alta presión y refrig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4)-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¿Se deben recuperar o recircular algunos reactantes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838080" y="1752480"/>
          <a:ext cx="79250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92504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5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ntas corrientes efluentes deben haber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25"/>
          <p:cNvGraphicFramePr/>
          <p:nvPr/>
        </p:nvGraphicFramePr>
        <p:xfrm>
          <a:off x="685800" y="549360"/>
          <a:ext cx="876312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49360"/>
                    <a:ext cx="876312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35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s-ES_tradnl" sz="6000" spc="-1" strike="noStrike">
                <a:solidFill>
                  <a:srgbClr val="ff0000"/>
                </a:solidFill>
                <a:latin typeface="Times New Roman"/>
              </a:rPr>
              <a:t>¿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jemplo: Encontrar el número de corrientes de productos para el proceso HD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457200" y="1523880"/>
          <a:ext cx="8381880" cy="235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38188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24"/>
          <p:cNvGrpSpPr/>
          <p:nvPr/>
        </p:nvGrpSpPr>
        <p:grpSpPr>
          <a:xfrm>
            <a:off x="1582560" y="3859920"/>
            <a:ext cx="6448680" cy="2731320"/>
            <a:chOff x="1582560" y="3859920"/>
            <a:chExt cx="6448680" cy="2731320"/>
          </a:xfrm>
        </p:grpSpPr>
        <p:sp>
          <p:nvSpPr>
            <p:cNvPr id="126" name="Rectangle 6"/>
            <p:cNvSpPr/>
            <p:nvPr/>
          </p:nvSpPr>
          <p:spPr>
            <a:xfrm>
              <a:off x="3355920" y="487512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1712880" y="52563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1712880" y="57024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5692680" y="538308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5440320" y="659124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 flipV="1">
              <a:off x="5440320" y="60829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 flipV="1">
              <a:off x="6324480" y="44305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3"/>
            <p:cNvSpPr/>
            <p:nvPr/>
          </p:nvSpPr>
          <p:spPr>
            <a:xfrm>
              <a:off x="5692680" y="493884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>
              <a:off x="3733920" y="44308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3733920" y="4430880"/>
              <a:ext cx="0" cy="4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439596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1638360" y="47739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olu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1582560" y="57013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6705720" y="490104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5883120" y="604404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6324480" y="443088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6446520" y="3859920"/>
              <a:ext cx="120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3581280" y="4947480"/>
              <a:ext cx="1959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6)-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¿Cuáles son las variables de diseño, y qué</a:t>
            </a: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aspectos económicos están asociados con él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57200" y="1066680"/>
          <a:ext cx="8305920" cy="25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05920" cy="25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457200" y="3352680"/>
          <a:ext cx="8686800" cy="371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352680"/>
                    <a:ext cx="86868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ocedimiento para Desarrollar Bal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4"/>
          <p:cNvGraphicFramePr/>
          <p:nvPr/>
        </p:nvGraphicFramePr>
        <p:xfrm>
          <a:off x="457200" y="914400"/>
          <a:ext cx="8458200" cy="56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6116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Balances de masa en el proceso H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449280" y="4403880"/>
          <a:ext cx="8373960" cy="20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4403880"/>
                    <a:ext cx="837396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4"/>
          <p:cNvGrpSpPr/>
          <p:nvPr/>
        </p:nvGrpSpPr>
        <p:grpSpPr>
          <a:xfrm>
            <a:off x="501840" y="964440"/>
            <a:ext cx="8150400" cy="2731320"/>
            <a:chOff x="501840" y="964440"/>
            <a:chExt cx="8150400" cy="2731320"/>
          </a:xfrm>
        </p:grpSpPr>
        <p:sp>
          <p:nvSpPr>
            <p:cNvPr id="156" name="Rectangle 5"/>
            <p:cNvSpPr/>
            <p:nvPr/>
          </p:nvSpPr>
          <p:spPr>
            <a:xfrm>
              <a:off x="3048120" y="1981080"/>
              <a:ext cx="2336760" cy="1208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1440000" y="236052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1440000" y="28065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5419800" y="248760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>
              <a:off x="5167440" y="3695760"/>
              <a:ext cx="164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 flipV="1">
              <a:off x="5167440" y="318744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V="1">
              <a:off x="6051600" y="153468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2"/>
            <p:cNvSpPr/>
            <p:nvPr/>
          </p:nvSpPr>
          <p:spPr>
            <a:xfrm>
              <a:off x="5419800" y="2043000"/>
              <a:ext cx="63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3"/>
            <p:cNvSpPr/>
            <p:nvPr/>
          </p:nvSpPr>
          <p:spPr>
            <a:xfrm flipH="1">
              <a:off x="3460320" y="15350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3460680" y="1535040"/>
              <a:ext cx="0" cy="44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4122720" y="989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501840" y="1878840"/>
              <a:ext cx="239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Tolueno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812160" y="2805840"/>
              <a:ext cx="220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6485760" y="1954800"/>
              <a:ext cx="216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265 mol/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334120" y="30978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4) 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, Difeni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>
              <a:off x="6051600" y="153504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1"/>
            <p:cNvSpPr/>
            <p:nvPr/>
          </p:nvSpPr>
          <p:spPr>
            <a:xfrm>
              <a:off x="5715720" y="964440"/>
              <a:ext cx="212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C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, H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2"/>
            <p:cNvSpPr/>
            <p:nvPr/>
          </p:nvSpPr>
          <p:spPr>
            <a:xfrm>
              <a:off x="3308400" y="2052000"/>
              <a:ext cx="1958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H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6249600" y="25146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3) Bence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5"/>
          <p:cNvGraphicFramePr/>
          <p:nvPr/>
        </p:nvGraphicFramePr>
        <p:xfrm>
          <a:off x="533520" y="228600"/>
          <a:ext cx="823104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823104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533520" y="2666880"/>
          <a:ext cx="7997760" cy="22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66880"/>
                    <a:ext cx="799776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7"/>
          <p:cNvGraphicFramePr/>
          <p:nvPr/>
        </p:nvGraphicFramePr>
        <p:xfrm>
          <a:off x="685800" y="5181480"/>
          <a:ext cx="12728520" cy="1043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181480"/>
                    <a:ext cx="1272852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4"/>
          <p:cNvGraphicFramePr/>
          <p:nvPr/>
        </p:nvGraphicFramePr>
        <p:xfrm>
          <a:off x="304920" y="304920"/>
          <a:ext cx="14358960" cy="79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43589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5"/>
          <p:cNvGraphicFramePr/>
          <p:nvPr/>
        </p:nvGraphicFramePr>
        <p:xfrm>
          <a:off x="233280" y="1150920"/>
          <a:ext cx="8483760" cy="362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4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1150920"/>
                    <a:ext cx="84837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26"/>
          <p:cNvGraphicFramePr/>
          <p:nvPr/>
        </p:nvGraphicFramePr>
        <p:xfrm>
          <a:off x="304920" y="5105520"/>
          <a:ext cx="8177040" cy="1276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105520"/>
                    <a:ext cx="81770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abla de Corr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457200" y="457200"/>
          <a:ext cx="86868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686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23"/>
          <p:cNvGrpSpPr/>
          <p:nvPr/>
        </p:nvGrpSpPr>
        <p:grpSpPr>
          <a:xfrm>
            <a:off x="1449000" y="3885120"/>
            <a:ext cx="6417000" cy="2706120"/>
            <a:chOff x="1449000" y="3885120"/>
            <a:chExt cx="6417000" cy="2706120"/>
          </a:xfrm>
        </p:grpSpPr>
        <p:sp>
          <p:nvSpPr>
            <p:cNvPr id="191" name="Text Box 14"/>
            <p:cNvSpPr/>
            <p:nvPr/>
          </p:nvSpPr>
          <p:spPr>
            <a:xfrm>
              <a:off x="4140000" y="388512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6527160" y="3885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1449000" y="4430160"/>
              <a:ext cx="6417000" cy="2161080"/>
              <a:chOff x="1449000" y="4430160"/>
              <a:chExt cx="6417000" cy="2161080"/>
            </a:xfrm>
          </p:grpSpPr>
          <p:sp>
            <p:nvSpPr>
              <p:cNvPr id="194" name="Rectangle 4"/>
              <p:cNvSpPr/>
              <p:nvPr/>
            </p:nvSpPr>
            <p:spPr>
              <a:xfrm>
                <a:off x="3065400" y="4876560"/>
                <a:ext cx="2336760" cy="120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"/>
              <p:cNvSpPr/>
              <p:nvPr/>
            </p:nvSpPr>
            <p:spPr>
              <a:xfrm>
                <a:off x="1457280" y="525600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6"/>
              <p:cNvSpPr/>
              <p:nvPr/>
            </p:nvSpPr>
            <p:spPr>
              <a:xfrm>
                <a:off x="1457280" y="57020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5437080" y="538308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8"/>
              <p:cNvSpPr/>
              <p:nvPr/>
            </p:nvSpPr>
            <p:spPr>
              <a:xfrm>
                <a:off x="5184720" y="6591240"/>
                <a:ext cx="164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9"/>
              <p:cNvSpPr/>
              <p:nvPr/>
            </p:nvSpPr>
            <p:spPr>
              <a:xfrm flipV="1">
                <a:off x="5184720" y="608292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 flipV="1">
                <a:off x="6068880" y="4430160"/>
                <a:ext cx="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1"/>
              <p:cNvSpPr/>
              <p:nvPr/>
            </p:nvSpPr>
            <p:spPr>
              <a:xfrm>
                <a:off x="5437080" y="4938480"/>
                <a:ext cx="63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2"/>
              <p:cNvSpPr/>
              <p:nvPr/>
            </p:nvSpPr>
            <p:spPr>
              <a:xfrm flipH="1">
                <a:off x="3478320" y="4430520"/>
                <a:ext cx="2590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3"/>
              <p:cNvSpPr/>
              <p:nvPr/>
            </p:nvSpPr>
            <p:spPr>
              <a:xfrm>
                <a:off x="3478320" y="4430520"/>
                <a:ext cx="0" cy="44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15"/>
              <p:cNvSpPr/>
              <p:nvPr/>
            </p:nvSpPr>
            <p:spPr>
              <a:xfrm>
                <a:off x="1449000" y="4799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6"/>
              <p:cNvSpPr/>
              <p:nvPr/>
            </p:nvSpPr>
            <p:spPr>
              <a:xfrm>
                <a:off x="1661400" y="57265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7"/>
              <p:cNvSpPr/>
              <p:nvPr/>
            </p:nvSpPr>
            <p:spPr>
              <a:xfrm>
                <a:off x="5351400" y="60184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4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>
                <a:off x="6068880" y="4430520"/>
                <a:ext cx="120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20"/>
              <p:cNvSpPr/>
              <p:nvPr/>
            </p:nvSpPr>
            <p:spPr>
              <a:xfrm>
                <a:off x="3325680" y="4947480"/>
                <a:ext cx="1959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PROCE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H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21"/>
              <p:cNvSpPr/>
              <p:nvPr/>
            </p:nvSpPr>
            <p:spPr>
              <a:xfrm>
                <a:off x="6598800" y="487656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457200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02360" y="-153000"/>
            <a:ext cx="610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Beneficio Económico Bru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04920" y="9180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a el Proceso HDA se tiene:  B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{valor del benceno  +  valor del difenil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valor del combustible de la purg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 {valor del tolueno  - valor del gas consumido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 = {valor producto  +  valor subproducto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valor materia prima(s)}, [$/año]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No se consideran los costos de inversión ni los costos de servicios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 BE &lt; 0 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char el diseño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)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una fuente de materias primas más baratas.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i)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uscar proces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1143000"/>
          <a:ext cx="88390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eneficio Bruto del Proceso HDA</a:t>
            </a:r>
            <a:br>
              <a:rPr sz="3200"/>
            </a:b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función de la conversión y de la fracción de hidrógeno en la corriente de pu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838080" y="304920"/>
          <a:ext cx="777240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7724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5943600" y="838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429000" y="16002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cc00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67280" y="2286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ff00"/>
                </a:solidFill>
                <a:latin typeface="Times New Roman"/>
              </a:rPr>
              <a:t>PH</a:t>
            </a: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 =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7"/>
          <p:cNvSpPr/>
          <p:nvPr/>
        </p:nvSpPr>
        <p:spPr>
          <a:xfrm flipV="1">
            <a:off x="4419720" y="1294920"/>
            <a:ext cx="990360" cy="3812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642960" y="1428840"/>
            <a:ext cx="757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ir una materia prima costosa u obtenerla al mínimo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onvertir un subproducto de desecho en un producto d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Crear un material completamente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Encontrar un nuevo camino de reacción para fabricar un producto existente. Por ejemplo, producir un catalizador nuevo, ó desarrollar una alternativa de bioproces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los Sistemas de Sepa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304920" y="1143000"/>
          <a:ext cx="8305560" cy="54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0556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3"/>
          <p:cNvGraphicFramePr/>
          <p:nvPr/>
        </p:nvGraphicFramePr>
        <p:xfrm>
          <a:off x="3048120" y="3227400"/>
          <a:ext cx="60958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227400"/>
                    <a:ext cx="60958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4"/>
          <p:cNvGraphicFramePr/>
          <p:nvPr/>
        </p:nvGraphicFramePr>
        <p:xfrm>
          <a:off x="0" y="0"/>
          <a:ext cx="609588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095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26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6964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2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Nuevas Ideas en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6212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500040" y="164304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a nueva tecnología. Por ejemplo; membranas, biotecnología, sistemas expertos, robótica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o utilizar un nuevo material de construcción en un equipo de proceso. Por ejemplo; polímeros, anticorrosivos o materiales que soporten altas Tª y P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- Desarrollar un tratamiento de efluentes contaminantes a bajo cos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3"/>
          <p:cNvGraphicFramePr/>
          <p:nvPr/>
        </p:nvGraphicFramePr>
        <p:xfrm>
          <a:off x="685800" y="380880"/>
          <a:ext cx="7810560" cy="573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781056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2895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SEÑO</a:t>
            </a:r>
            <a:br>
              <a:rPr sz="4400"/>
            </a:b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905120" y="2286000"/>
            <a:ext cx="1066680" cy="2743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/>
          <p:cNvSpPr/>
          <p:nvPr/>
        </p:nvSpPr>
        <p:spPr>
          <a:xfrm rot="10631400">
            <a:off x="6705360" y="2057040"/>
            <a:ext cx="1098360" cy="2590920"/>
          </a:xfrm>
          <a:custGeom>
            <a:avLst/>
            <a:gdLst>
              <a:gd name="textAreaLeft" fmla="*/ 146880 w 1098360"/>
              <a:gd name="textAreaRight" fmla="*/ 951480 w 1098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2895480" y="304920"/>
            <a:ext cx="4038840" cy="1143000"/>
            <a:chOff x="2895480" y="304920"/>
            <a:chExt cx="4038840" cy="1143000"/>
          </a:xfrm>
        </p:grpSpPr>
        <p:sp>
          <p:nvSpPr>
            <p:cNvPr id="56" name="Rectangle 14"/>
            <p:cNvSpPr/>
            <p:nvPr/>
          </p:nvSpPr>
          <p:spPr>
            <a:xfrm>
              <a:off x="2895480" y="304920"/>
              <a:ext cx="4038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SINTE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3429000" y="380880"/>
              <a:ext cx="3048120" cy="99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2743200" y="5486400"/>
            <a:ext cx="4038480" cy="1143000"/>
            <a:chOff x="2743200" y="5486400"/>
            <a:chExt cx="4038480" cy="1143000"/>
          </a:xfrm>
        </p:grpSpPr>
        <p:sp>
          <p:nvSpPr>
            <p:cNvPr id="59" name="Rectangle 15"/>
            <p:cNvSpPr/>
            <p:nvPr/>
          </p:nvSpPr>
          <p:spPr>
            <a:xfrm>
              <a:off x="2743200" y="5486400"/>
              <a:ext cx="4038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ff0000"/>
                  </a:solidFill>
                  <a:latin typeface="Times New Roman"/>
                </a:rPr>
                <a:t>ANALISI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3200400" y="5486400"/>
              <a:ext cx="3200400" cy="1066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18"/>
          <p:cNvSpPr/>
          <p:nvPr/>
        </p:nvSpPr>
        <p:spPr>
          <a:xfrm>
            <a:off x="4648320" y="14479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4495680" y="4572000"/>
            <a:ext cx="486000" cy="762120"/>
          </a:xfrm>
          <a:prstGeom prst="upArrow">
            <a:avLst>
              <a:gd name="adj1" fmla="val 50000"/>
              <a:gd name="adj2" fmla="val 392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proximación Jerárquica al Diseño Conceptu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357120" y="1143000"/>
            <a:ext cx="8143920" cy="63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Proceso continuo vs. discontinuo vs. semi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entrada y salida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 Estructura de reciclo del diagrama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- Estructura general del sistema de sepa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a) Sistema de recuperación de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b) Sistema de recuperación de líq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c) Sistema de recuperación de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 de intercambio de calor (integración de energ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- Planificación y programación de 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CESO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11480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es de operación estacio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escala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equipo realiza una operación o función espe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del producto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 de producción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automat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ca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95320" y="914040"/>
            <a:ext cx="43434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amiento intermit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iclo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queña escala de pro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lantas flexibles, multiproducto y multipropós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quipos multifuncionales y multi-oper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randes tiempos de procesamiento o resid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ciones lentas, Flujos peq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que ensucian, incrustan o corroen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calidad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 de producción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cha mano de o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tos de alto valor y c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cedimientos de síntesis comp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76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diciones de control muy estric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029200" y="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CESO BATCH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( DISCONTINU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structura de Entrada y Salida del Diagrama de flujo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609480" y="2132640"/>
            <a:ext cx="7924680" cy="3201480"/>
            <a:chOff x="609480" y="2132640"/>
            <a:chExt cx="7924680" cy="3201480"/>
          </a:xfrm>
        </p:grpSpPr>
        <p:sp>
          <p:nvSpPr>
            <p:cNvPr id="71" name="Rectangle 3"/>
            <p:cNvSpPr/>
            <p:nvPr/>
          </p:nvSpPr>
          <p:spPr>
            <a:xfrm>
              <a:off x="2895480" y="3276720"/>
              <a:ext cx="2819520" cy="144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"/>
            <p:cNvSpPr/>
            <p:nvPr/>
          </p:nvSpPr>
          <p:spPr>
            <a:xfrm>
              <a:off x="914400" y="37339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914400" y="42674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5715000" y="38862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5410080" y="53341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8"/>
            <p:cNvSpPr/>
            <p:nvPr/>
          </p:nvSpPr>
          <p:spPr>
            <a:xfrm flipV="1">
              <a:off x="5410080" y="4724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V="1">
              <a:off x="6476760" y="27432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5715000" y="33530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H="1">
              <a:off x="3352680" y="2743200"/>
              <a:ext cx="3124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352680" y="2743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4267080" y="2132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cic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609480" y="3199320"/>
              <a:ext cx="19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840240" y="43423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7011720" y="33519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5943600" y="47235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Sub-Produ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6476760" y="27432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9"/>
            <p:cNvSpPr/>
            <p:nvPr/>
          </p:nvSpPr>
          <p:spPr>
            <a:xfrm>
              <a:off x="6859440" y="2132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ur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3124080" y="3423600"/>
              <a:ext cx="2362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Times New Roman"/>
                </a:rPr>
                <a:t>PRODU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21:09:43Z</dcterms:created>
  <dc:creator>Jesús Casas</dc:creator>
  <dc:description/>
  <dc:language>en-US</dc:language>
  <cp:lastModifiedBy>Ing Quimica</cp:lastModifiedBy>
  <dcterms:modified xsi:type="dcterms:W3CDTF">2009-08-14T15:31:13Z</dcterms:modified>
  <cp:revision>20</cp:revision>
  <dc:subject/>
  <dc:title>DISEÑO PRELIMINAR DE DIAGRAMAS DE FLUJOS </dc:title>
</cp:coreProperties>
</file>