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1.png" ContentType="image/png"/>
  <Override PartName="/ppt/media/image7.png" ContentType="image/png"/>
  <Override PartName="/ppt/media/image13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6.jpeg" ContentType="image/jpeg"/>
  <Override PartName="/ppt/media/image8.png" ContentType="image/pn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0157-B42D-4BDB-A125-0E6BD9C39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6C56-C236-4BF0-89F7-A40CCB009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B619-CD59-49E5-8078-8DBBE4482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EB52-CD59-4813-8B1E-AB959849E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89DF-9225-42B4-9FB9-C41D05A98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5DC1-A107-4511-9E77-69C13A0B0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83BC-F295-48DA-9458-BE82DFE0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0410-4FEC-4C24-91FC-62A40E755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BE98-FA65-4DC3-BB58-C70C89899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EEA9-BA61-4419-A4A0-9B6F5B63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E9FA-05A3-4304-93C4-82B9BD6A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1089-0830-458B-AA79-5B96FB1E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2D2DD-B219-473B-8929-9DB93AB76A77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-304920" y="2209680"/>
            <a:ext cx="9144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Tipos de Diagra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Taller de Diseño de Proces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Convenciones para la identificación de equip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: compres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: intercambiadores de ca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: calentadores a ll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: bomb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: react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: colum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TK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 estanques de almacen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: estanque de proce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Numeración de los equip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101 A/B identifica un bom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-</a:t>
            </a: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01 A/B identifica que la bomba esta ubicada en el área Nº 1 de la pla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-1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A/B identifica que la bomba es la número 01 de las n existentes en la pla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-101 </a:t>
            </a: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A/B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identifica que hay dos bombas identicas, una de respaldo (backup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93640" y="25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cc"/>
                </a:solidFill>
                <a:latin typeface="Times New Roman"/>
              </a:rPr>
              <a:t>Información para las corrientes de fluj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20858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Número de la corr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Temperatura (º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Presión (b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Fracción de vap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Flujo total másico (kg/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Flujo molar total (kmol/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Flujo molar para cada componente (kmol/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5640" y="2174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racciones molares de los compon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racciones másicas de los compon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lujo volumét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piedades físicas (densidad, viscosidad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atos termodinámicos (calor específico, entalpía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mbre de la corr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926280" y="1546200"/>
            <a:ext cx="20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Como mín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4656600" y="1574640"/>
            <a:ext cx="33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chas veces, ademá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4520" y="151920"/>
            <a:ext cx="828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imes New Roman"/>
              </a:rPr>
              <a:t>Convenciones para la identificación de las corrientes en los diagram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3" descr="nomenclatura"/>
          <p:cNvPicPr/>
          <p:nvPr/>
        </p:nvPicPr>
        <p:blipFill>
          <a:blip r:embed="rId1"/>
          <a:stretch/>
        </p:blipFill>
        <p:spPr>
          <a:xfrm>
            <a:off x="2219400" y="1609560"/>
            <a:ext cx="390996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-793800" y="0"/>
            <a:ext cx="9367920" cy="69897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611280" y="2924280"/>
            <a:ext cx="72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Diagrama de Flujo Planta Tratamiento de R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724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cc"/>
                </a:solidFill>
                <a:latin typeface="Times New Roman"/>
              </a:rPr>
              <a:t>Diagramas P&amp;ID </a:t>
            </a:r>
            <a:r>
              <a:rPr b="1" lang="es-ES_tradnl" sz="4400" spc="-1" strike="noStrike" u="sng">
                <a:solidFill>
                  <a:srgbClr val="3333cc"/>
                </a:solidFill>
                <a:uFillTx/>
                <a:latin typeface="Times New Roman"/>
              </a:rPr>
              <a:t>Conven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96960" y="1981080"/>
          <a:ext cx="7761240" cy="4114800"/>
        </p:xfrm>
        <a:graphic>
          <a:graphicData uri="http://schemas.openxmlformats.org/drawingml/2006/table">
            <a:tbl>
              <a:tblPr/>
              <a:tblGrid>
                <a:gridCol w="2468520"/>
                <a:gridCol w="529272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quipos de proce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ostrar equipos de respaldo, unidades paralelas, detalles principales para cada u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ñerí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amaño (usar estándares), espesor de pared (schedule), material de construcción, aislación (tipo y espeso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nstrument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ndicadores, registradores, controladores y tipo, cañerías o alambres de los instrumen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ervici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ntradas y salidas de las corrientes (aire, vapor, etc.), salidas de las corrientes a las plantas de tratamiento de efluente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31880" y="14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cc"/>
                </a:solidFill>
                <a:latin typeface="Times New Roman"/>
              </a:rPr>
              <a:t>Convenciones para los Instrumentos en los P&amp;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3480" y="3132000"/>
            <a:ext cx="3810240" cy="35323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 análi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 quema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 conductiv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 volt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 flu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I </a:t>
            </a: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corr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J</a:t>
            </a: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 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 presión o vací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 tempera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W</a:t>
            </a: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 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 tiempo o progr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5640" y="3158640"/>
            <a:ext cx="3809880" cy="34974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 ala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 ele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 máxi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I 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indic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 estación de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 orifi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 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 re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1004760" y="1419120"/>
            <a:ext cx="7374240" cy="1289160"/>
          </a:xfrm>
          <a:prstGeom prst="rect">
            <a:avLst/>
          </a:prstGeom>
          <a:noFill/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6"/>
          <p:cNvSpPr/>
          <p:nvPr/>
        </p:nvSpPr>
        <p:spPr>
          <a:xfrm>
            <a:off x="1338120" y="1542960"/>
            <a:ext cx="297000" cy="262080"/>
          </a:xfrm>
          <a:prstGeom prst="ellipse">
            <a:avLst/>
          </a:prstGeom>
          <a:noFill/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1692000" y="1508040"/>
            <a:ext cx="24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Instrumento en la pla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8"/>
          <p:cNvSpPr/>
          <p:nvPr/>
        </p:nvSpPr>
        <p:spPr>
          <a:xfrm>
            <a:off x="1341360" y="1892160"/>
            <a:ext cx="297000" cy="295560"/>
          </a:xfrm>
          <a:prstGeom prst="ellipse">
            <a:avLst/>
          </a:prstGeom>
          <a:noFill/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9"/>
          <p:cNvSpPr/>
          <p:nvPr/>
        </p:nvSpPr>
        <p:spPr>
          <a:xfrm>
            <a:off x="1328760" y="2313000"/>
            <a:ext cx="297000" cy="262080"/>
          </a:xfrm>
          <a:prstGeom prst="ellipse">
            <a:avLst/>
          </a:prstGeom>
          <a:noFill/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1692000" y="1859040"/>
            <a:ext cx="308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Instrumento</a:t>
            </a: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 en el panel de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1649160" y="2247840"/>
            <a:ext cx="49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Instrumento en la cara posterior del panel de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12"/>
          <p:cNvSpPr/>
          <p:nvPr/>
        </p:nvSpPr>
        <p:spPr>
          <a:xfrm>
            <a:off x="1338120" y="2057400"/>
            <a:ext cx="298440" cy="0"/>
          </a:xfrm>
          <a:prstGeom prst="line">
            <a:avLst/>
          </a:prstGeom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13"/>
          <p:cNvSpPr/>
          <p:nvPr/>
        </p:nvSpPr>
        <p:spPr>
          <a:xfrm>
            <a:off x="1319040" y="2455920"/>
            <a:ext cx="309600" cy="0"/>
          </a:xfrm>
          <a:prstGeom prst="line">
            <a:avLst/>
          </a:prstGeom>
          <a:ln cap="rnd" w="9360">
            <a:solidFill>
              <a:srgbClr val="ccff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1279440" y="272736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PRIMERA LETRA 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5"/>
          <p:cNvSpPr/>
          <p:nvPr/>
        </p:nvSpPr>
        <p:spPr>
          <a:xfrm>
            <a:off x="5200200" y="2751120"/>
            <a:ext cx="27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SEGUNDA LETRA (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16"/>
          <p:cNvSpPr/>
          <p:nvPr/>
        </p:nvSpPr>
        <p:spPr>
          <a:xfrm>
            <a:off x="6732720" y="1635120"/>
            <a:ext cx="822240" cy="696960"/>
          </a:xfrm>
          <a:prstGeom prst="ellipse">
            <a:avLst/>
          </a:prstGeom>
          <a:noFill/>
          <a:ln w="381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7"/>
          <p:cNvSpPr/>
          <p:nvPr/>
        </p:nvSpPr>
        <p:spPr>
          <a:xfrm>
            <a:off x="6810480" y="1787400"/>
            <a:ext cx="73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XY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rcRect l="5881" t="12550" r="5881" b="12156"/>
          <a:stretch/>
        </p:blipFill>
        <p:spPr>
          <a:xfrm>
            <a:off x="0" y="0"/>
            <a:ext cx="882000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2320" y="0"/>
            <a:ext cx="777240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cc"/>
                </a:solidFill>
                <a:latin typeface="Times New Roman"/>
              </a:rPr>
              <a:t>Diagramas P&amp;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3" descr="pid"/>
          <p:cNvPicPr/>
          <p:nvPr/>
        </p:nvPicPr>
        <p:blipFill>
          <a:blip r:embed="rId1"/>
          <a:stretch/>
        </p:blipFill>
        <p:spPr>
          <a:xfrm>
            <a:off x="285840" y="712800"/>
            <a:ext cx="848520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73200" y="25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cc"/>
                </a:solidFill>
                <a:latin typeface="Times New Roman"/>
              </a:rPr>
              <a:t>Un intercambia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3" descr="pid1"/>
          <p:cNvPicPr/>
          <p:nvPr/>
        </p:nvPicPr>
        <p:blipFill>
          <a:blip r:embed="rId1"/>
          <a:stretch/>
        </p:blipFill>
        <p:spPr>
          <a:xfrm>
            <a:off x="1189080" y="1411200"/>
            <a:ext cx="575784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DIAGRAMAS DE ENTRADA (INPUT) Y SALIDA (OUTPUT)</a:t>
            </a:r>
            <a:br>
              <a:rPr sz="4000"/>
            </a:b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DIAGRAMA I-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 u="sng">
                <a:solidFill>
                  <a:srgbClr val="000000"/>
                </a:solidFill>
                <a:uFillTx/>
                <a:latin typeface="Times New Roman"/>
              </a:rPr>
              <a:t>Otros diagramas y  plan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lano Lay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lano Mecánico Pla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lano Mecánico Elev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lano Eléctr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lano Isométr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lano Lay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1"/>
          <a:srcRect l="3029" t="10342" r="3029" b="9507"/>
          <a:stretch/>
        </p:blipFill>
        <p:spPr>
          <a:xfrm>
            <a:off x="684360" y="1003320"/>
            <a:ext cx="748800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7924680" cy="46609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"/>
          <p:cNvSpPr/>
          <p:nvPr/>
        </p:nvSpPr>
        <p:spPr>
          <a:xfrm>
            <a:off x="457200" y="55627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Times New Roman"/>
              </a:rPr>
              <a:t>Esquema del Proceso LIX-SX-EW, Radomiro To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lano Mecánico Plan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rcRect l="12923" t="18783" r="12920" b="19025"/>
          <a:stretch/>
        </p:blipFill>
        <p:spPr>
          <a:xfrm>
            <a:off x="395280" y="784080"/>
            <a:ext cx="7777080" cy="60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lano Mecánico Elev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rcRect l="3029" t="10342" r="2019" b="10799"/>
          <a:stretch/>
        </p:blipFill>
        <p:spPr>
          <a:xfrm>
            <a:off x="611280" y="946080"/>
            <a:ext cx="7489800" cy="58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lano Eléctr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rcRect l="41053" t="9431" r="4296" b="11087"/>
          <a:stretch/>
        </p:blipFill>
        <p:spPr>
          <a:xfrm>
            <a:off x="539640" y="890640"/>
            <a:ext cx="756144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rcRect l="10103" t="15513" r="10103" b="15971"/>
          <a:stretch/>
        </p:blipFill>
        <p:spPr>
          <a:xfrm>
            <a:off x="755640" y="1009800"/>
            <a:ext cx="7488360" cy="58482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7"/>
          <p:cNvSpPr/>
          <p:nvPr/>
        </p:nvSpPr>
        <p:spPr>
          <a:xfrm>
            <a:off x="68436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lano Isométr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640" y="522936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DIAGRAMA GENERAL ENTRADA-SALIDA </a:t>
            </a:r>
            <a:br>
              <a:rPr sz="2400"/>
            </a:b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PROCESO HIDROMETALURGICO DEL COBR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Object 3"/>
          <p:cNvGraphicFramePr/>
          <p:nvPr/>
        </p:nvGraphicFramePr>
        <p:xfrm>
          <a:off x="395280" y="609480"/>
          <a:ext cx="7910640" cy="412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609480"/>
                    <a:ext cx="7910640" cy="41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DIAGRAMA GENERAL ENTRADA-SALIDA </a:t>
            </a:r>
            <a:br>
              <a:rPr sz="2400"/>
            </a:b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PROCESO DE PRODUCCION DE BIOMASA (LEVADURAS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Object 4"/>
          <p:cNvGraphicFramePr/>
          <p:nvPr/>
        </p:nvGraphicFramePr>
        <p:xfrm>
          <a:off x="684360" y="1989000"/>
          <a:ext cx="6875280" cy="375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6875280" cy="37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DIAGRAMAS DE BLO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79360" y="130644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3333cc"/>
                </a:solidFill>
                <a:uFillTx/>
                <a:latin typeface="Comic Sans MS"/>
              </a:rPr>
              <a:t>Conven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Comic Sans MS"/>
              </a:rPr>
              <a:t>Cada operación se representa por un blo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Comic Sans MS"/>
              </a:rPr>
              <a:t>Las corrientes de flujo principal se representan por líneas flechadas en la dirección del fluj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Comic Sans MS"/>
              </a:rPr>
              <a:t>Los flujos van desde la izquierda a la derecha del diagra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Comic Sans MS"/>
              </a:rPr>
              <a:t>Se incluye la información crítica para entender el proces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395280" y="5715000"/>
            <a:ext cx="87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Diagrama de Bloques de producción de Bioma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Object 5"/>
          <p:cNvGraphicFramePr/>
          <p:nvPr/>
        </p:nvGraphicFramePr>
        <p:xfrm>
          <a:off x="395280" y="549360"/>
          <a:ext cx="8497800" cy="49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549360"/>
                    <a:ext cx="849780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DIAGRAMAS DE FLUJ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3333cc"/>
                </a:solidFill>
                <a:uFillTx/>
                <a:latin typeface="Comic Sans MS"/>
              </a:rPr>
              <a:t>Conven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 representan TODOS los equipos de proceso junto son su descripción. Cada equipo tiene un número y un nomb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Todas las corrientes de proceso tienen un núm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 debe incluir una descripción de las condiciones (temperatura, presión), flujos y composición química, ya sea en el diagrama o una TABLA adjun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 deben representar TODAS las corrientes de servicios (vapor, aire, calefacción, etc.) que se alimentan a cada equipo de proce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 deben representar los loops de control básicos que aseguran la estabilidad de las condiciones del proceso durante la operación nor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/>
          <a:srcRect l="10203" t="16572" r="9185" b="17029"/>
          <a:stretch/>
        </p:blipFill>
        <p:spPr>
          <a:xfrm>
            <a:off x="250920" y="334800"/>
            <a:ext cx="8353440" cy="652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fdiagram"/>
          <p:cNvPicPr/>
          <p:nvPr/>
        </p:nvPicPr>
        <p:blipFill>
          <a:blip r:embed="rId1"/>
          <a:stretch/>
        </p:blipFill>
        <p:spPr>
          <a:xfrm>
            <a:off x="755640" y="0"/>
            <a:ext cx="7956720" cy="5373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0" y="4653000"/>
          <a:ext cx="5203800" cy="2438280"/>
        </p:xfrm>
        <a:graphic>
          <a:graphicData uri="http://schemas.openxmlformats.org/drawingml/2006/table">
            <a:tbl>
              <a:tblPr/>
              <a:tblGrid>
                <a:gridCol w="1403280"/>
                <a:gridCol w="720720"/>
                <a:gridCol w="719280"/>
                <a:gridCol w="628560"/>
                <a:gridCol w="866880"/>
                <a:gridCol w="865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rri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[kg/día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3 [kg/día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eratu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3T19:51:52Z</dcterms:created>
  <dc:creator>Miguel</dc:creator>
  <dc:description/>
  <dc:language>en-US</dc:language>
  <cp:lastModifiedBy>Ing Quimica</cp:lastModifiedBy>
  <cp:lastPrinted>2000-11-24T00:59:13Z</cp:lastPrinted>
  <dcterms:modified xsi:type="dcterms:W3CDTF">2009-08-14T15:29:24Z</dcterms:modified>
  <cp:revision>69</cp:revision>
  <dc:subject/>
  <dc:title>Principios y Metodología de Modelación</dc:title>
</cp:coreProperties>
</file>