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7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B81-6865-4D22-8938-73AB28C2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109-743E-458C-A8B4-4C29CB63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9BD-3540-49C9-B9EC-80B53074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4F1-5DA8-4E40-B6FE-0CB9FF05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51A-8D1D-483C-BF5C-9FEEAB25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E74-1B5F-4850-B0E9-4CD2C585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CA4-960F-4F16-83DD-598E77D2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006-3980-4B8D-AC5F-576523DB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4A0-A81B-4D80-80CB-D2C12665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279-2583-4B22-9013-080FA516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FD7-68E7-44C2-B12D-6E801036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545-C7D8-45FB-AFB3-9D6FD65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E617-3A50-4F57-88CE-46BD6E227FA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304920" y="22096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ipos de Diagra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onvenciones para la identificación de equip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mpr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intercambiadores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alentadores a l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bo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rea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lum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estanques de almac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estanque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Numeración de los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01 A/B identifica un bom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01 A/B identifica que la bomba esta ubicada en el área Nº 1 de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/B identifica que la bomba es la número 01 de las n existentes en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01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A/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dentifica que hay dos bombas identicas, una de respaldo (backu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ara las corriente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085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mperatura (º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ión (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racción de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total másico (kg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total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para cada componente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5640" y="2174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olare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ásic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lujo volu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iedades físicas (densidad, viscosidad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tos termodinámicos (calor específico, entalpí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26280" y="15462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656600" y="157464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chas veces, ademá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4520" y="15192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Convenciones para la identificación de las corrientes en los diagra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nomenclatura"/>
          <p:cNvPicPr/>
          <p:nvPr/>
        </p:nvPicPr>
        <p:blipFill>
          <a:blip r:embed="rId1"/>
          <a:stretch/>
        </p:blipFill>
        <p:spPr>
          <a:xfrm>
            <a:off x="2219400" y="1609560"/>
            <a:ext cx="39099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3800" y="0"/>
            <a:ext cx="9367920" cy="6989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11280" y="2924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iagrama de Flujo Planta Tratamiento de R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724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 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</a:rPr>
              <a:t>Conve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96960" y="1981080"/>
          <a:ext cx="7761240" cy="4114800"/>
        </p:xfrm>
        <a:graphic>
          <a:graphicData uri="http://schemas.openxmlformats.org/drawingml/2006/table">
            <a:tbl>
              <a:tblPr/>
              <a:tblGrid>
                <a:gridCol w="2468520"/>
                <a:gridCol w="52927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quipos de 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strar equipos de respaldo, unidades paralelas, detalles principales para cada 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ñerí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maño (usar estándares), espesor de pared (schedule), material de construcción, aislación (tipo y espes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strumen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dicadores, registradores, controladores y tipo, cañerías o alambres de los instru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adas y salidas de las corrientes (aire, vapor, etc.), salidas de las corrientes a las plantas de tratamiento de eflu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188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Convenciones para los Instrumentos en lo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3480" y="3132000"/>
            <a:ext cx="3810240" cy="3532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aná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quem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condu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volt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resión o vac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emper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iempo o 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5640" y="3158640"/>
            <a:ext cx="3809880" cy="3497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ala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d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stación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or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004760" y="1419120"/>
            <a:ext cx="7374240" cy="1289160"/>
          </a:xfrm>
          <a:prstGeom prst="rect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1338120" y="154296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692000" y="15080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1341360" y="1892160"/>
            <a:ext cx="297000" cy="29556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9"/>
          <p:cNvSpPr/>
          <p:nvPr/>
        </p:nvSpPr>
        <p:spPr>
          <a:xfrm>
            <a:off x="1328760" y="231300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692000" y="1859040"/>
            <a:ext cx="30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en el panel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649160" y="2247840"/>
            <a:ext cx="49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cara posterior del panel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1338120" y="2057400"/>
            <a:ext cx="298440" cy="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1319040" y="2455920"/>
            <a:ext cx="309600" cy="0"/>
          </a:xfrm>
          <a:prstGeom prst="line">
            <a:avLst/>
          </a:prstGeom>
          <a:ln cap="rnd" w="9360">
            <a:solidFill>
              <a:srgbClr val="cc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279440" y="272736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RIMERA LETRA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5200200" y="275112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SEGUNDA LETRA 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6732720" y="1635120"/>
            <a:ext cx="822240" cy="696960"/>
          </a:xfrm>
          <a:prstGeom prst="ellipse">
            <a:avLst/>
          </a:prstGeom>
          <a:noFill/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6810480" y="178740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X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0" y="0"/>
            <a:ext cx="8820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pid"/>
          <p:cNvPicPr/>
          <p:nvPr/>
        </p:nvPicPr>
        <p:blipFill>
          <a:blip r:embed="rId1"/>
          <a:stretch/>
        </p:blipFill>
        <p:spPr>
          <a:xfrm>
            <a:off x="285840" y="712800"/>
            <a:ext cx="8485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Un intercambi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pid1"/>
          <p:cNvPicPr/>
          <p:nvPr/>
        </p:nvPicPr>
        <p:blipFill>
          <a:blip r:embed="rId1"/>
          <a:stretch/>
        </p:blipFill>
        <p:spPr>
          <a:xfrm>
            <a:off x="1189080" y="1411200"/>
            <a:ext cx="5757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S DE ENTRADA (INPUT) Y SALIDA (OUTPUT)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 I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ros diagramas y  pl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rcRect l="3029" t="10342" r="3029" b="9507"/>
          <a:stretch/>
        </p:blipFill>
        <p:spPr>
          <a:xfrm>
            <a:off x="684360" y="1003320"/>
            <a:ext cx="7488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4660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57200" y="5562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Esquema del Proceso LIX-SX-EW, Radomiro 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rcRect l="12923" t="18783" r="12920" b="19025"/>
          <a:stretch/>
        </p:blipFill>
        <p:spPr>
          <a:xfrm>
            <a:off x="395280" y="784080"/>
            <a:ext cx="77770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rcRect l="3029" t="10342" r="2019" b="10799"/>
          <a:stretch/>
        </p:blipFill>
        <p:spPr>
          <a:xfrm>
            <a:off x="611280" y="946080"/>
            <a:ext cx="7489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41053" t="9431" r="4296" b="11087"/>
          <a:stretch/>
        </p:blipFill>
        <p:spPr>
          <a:xfrm>
            <a:off x="539640" y="890640"/>
            <a:ext cx="756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10103" t="15513" r="10103" b="15971"/>
          <a:stretch/>
        </p:blipFill>
        <p:spPr>
          <a:xfrm>
            <a:off x="755640" y="1009800"/>
            <a:ext cx="7488360" cy="5848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522936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HIDROMETALURGICO DEL COB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395280" y="609480"/>
          <a:ext cx="79106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480"/>
                    <a:ext cx="79106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DE PRODUCCION DE BIOMASA (LEVADURA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684360" y="1989000"/>
          <a:ext cx="687528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752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BL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9360" y="1306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ada operación se representa por un bl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as corrientes de flujo principal se representan por líneas flechadas en la dirección del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s flujos van desde la izquierda a la derecha del dia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Se incluye la información crítica para entender el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95280" y="571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iagrama de Bloques de 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5280" y="549360"/>
          <a:ext cx="84978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978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representan TODOS los equipos de proceso junto son su descripción. Cada equipo tiene un número y un n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as las corrientes de proceso tienen un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 incluir una descripción de las condiciones (temperatura, presión), flujos y composición química, ya sea en el diagrama o una TABLA adju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TODAS las corrientes de servicios (vapor, aire, calefacción, etc.) que se alimentan a cada equipo de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los loops de control básicos que aseguran la estabilidad de las condiciones del proceso durante la ope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250920" y="334800"/>
            <a:ext cx="835344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fdiagram"/>
          <p:cNvPicPr/>
          <p:nvPr/>
        </p:nvPicPr>
        <p:blipFill>
          <a:blip r:embed="rId1"/>
          <a:stretch/>
        </p:blipFill>
        <p:spPr>
          <a:xfrm>
            <a:off x="755640" y="0"/>
            <a:ext cx="795672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0" y="4653000"/>
          <a:ext cx="5203800" cy="2438280"/>
        </p:xfrm>
        <a:graphic>
          <a:graphicData uri="http://schemas.openxmlformats.org/drawingml/2006/table">
            <a:tbl>
              <a:tblPr/>
              <a:tblGrid>
                <a:gridCol w="1403280"/>
                <a:gridCol w="720720"/>
                <a:gridCol w="719280"/>
                <a:gridCol w="628560"/>
                <a:gridCol w="866880"/>
                <a:gridCol w="86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 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era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9-08-14T15:29:24Z</dcterms:modified>
  <cp:revision>69</cp:revision>
  <dc:subject/>
  <dc:title>Principios y Metodología de Modelación</dc:title>
</cp:coreProperties>
</file>