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C6B7-785D-4235-9624-3DF2AF92B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B05C-9BC6-4025-B9C3-CB6771A27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A0E4-793F-499A-B485-335599F62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D6AD-1E1F-4608-969A-E898077B6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AAA0-7685-4EBD-81B5-DFBDB9328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4DA2-F270-4F04-A131-8422352A0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95D3-B127-478B-B502-549BCD75B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5145-F21F-4878-8CA0-77036AE3F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5044-E0BF-4439-8A99-F7EE9BBF5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52B0-11AB-4EFB-8DB9-8D34FCB49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884A-D12B-460F-836E-DAB06D194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CB6D-2F0F-4272-BB48-B4379BD1B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003DC-D2A2-498E-9A8D-DA2F2DE968A5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EMARIO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UIA PARA LA PREPARACIÓN DE</a:t>
            </a:r>
            <a:br>
              <a:rPr sz="3200"/>
            </a:br>
            <a:r>
              <a:rPr b="1" lang="es-E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FORMES DE PROYECTOS 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 INGENIERÍ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571680" y="4071960"/>
            <a:ext cx="8001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Taller de Diseño de Proceso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Semestre Primavera 2009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1. Carta Conducto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Todo informe debe ir acompañada de una carta conductora, dirigida a quién corresponda, y con copias a los que correspon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ara llamar la atención debe incluirse varias frases claves que entreguen el resumen y sus conclus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eber estar siempre firmada en señal de que se reconoce la responsabilidad total de la no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3" descr="Image11"/>
          <p:cNvPicPr/>
          <p:nvPr/>
        </p:nvPicPr>
        <p:blipFill>
          <a:blip r:embed="rId1"/>
          <a:stretch/>
        </p:blipFill>
        <p:spPr>
          <a:xfrm>
            <a:off x="2057400" y="0"/>
            <a:ext cx="5000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4"/>
          <p:cNvGrpSpPr/>
          <p:nvPr/>
        </p:nvGrpSpPr>
        <p:grpSpPr>
          <a:xfrm>
            <a:off x="685800" y="685800"/>
            <a:ext cx="8457480" cy="1066680"/>
            <a:chOff x="685800" y="685800"/>
            <a:chExt cx="8457480" cy="1066680"/>
          </a:xfrm>
        </p:grpSpPr>
        <p:sp>
          <p:nvSpPr>
            <p:cNvPr id="65" name="Rectangle 2"/>
            <p:cNvSpPr/>
            <p:nvPr/>
          </p:nvSpPr>
          <p:spPr>
            <a:xfrm>
              <a:off x="685800" y="685800"/>
              <a:ext cx="415836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ffff00"/>
                  </a:solidFill>
                  <a:latin typeface="Arial"/>
                  <a:ea typeface="Times New Roman"/>
                </a:rPr>
                <a:t>Señor                                                                                                                                     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00"/>
                  </a:solidFill>
                  <a:latin typeface="Arial"/>
                  <a:ea typeface="Times New Roman"/>
                </a:rPr>
                <a:t> 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00"/>
                  </a:solidFill>
                  <a:latin typeface="Arial"/>
                  <a:ea typeface="Times New Roman"/>
                </a:rPr>
                <a:t> 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ffff00"/>
                  </a:solidFill>
                  <a:latin typeface="Arial"/>
                  <a:ea typeface="Times New Roman"/>
                </a:rPr>
                <a:t>Presente 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Rectangle 3"/>
            <p:cNvSpPr/>
            <p:nvPr/>
          </p:nvSpPr>
          <p:spPr>
            <a:xfrm>
              <a:off x="4844160" y="685800"/>
              <a:ext cx="429912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00"/>
                  </a:solidFill>
                  <a:latin typeface="Arial"/>
                  <a:ea typeface="Times New Roman"/>
                </a:rPr>
                <a:t>Santiago, ..............................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" name="Rectangle 5"/>
          <p:cNvSpPr/>
          <p:nvPr/>
        </p:nvSpPr>
        <p:spPr>
          <a:xfrm>
            <a:off x="0" y="1822320"/>
            <a:ext cx="914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1" lang="es-ES_tradnl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Junto con la presente se adjunta el ..............................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 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1" lang="es-ES_tradnl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Del estudio de mercado efectuado se obtiene ......................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 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 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1" lang="es-ES_tradnl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El desarrollo de la ingeniería ...................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 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1" lang="es-ES_tradnl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A partir de las cotizaciones se estima .........................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 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1" lang="es-ES_tradnl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En vista de todos estos antecedentes se recomienda .......................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Esperamos que el contenido de este informe le sea útil para la toma de decisiones, estamos prestos a recibir cualquier opinión y/o sugerencia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 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1" lang="es-ES_tradnl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Lo saludan atentament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 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 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Firmas</a:t>
            </a:r>
            <a:r>
              <a:rPr b="0" lang="es-ES_tradnl" sz="17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2.  La Carátula del Infor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Título completo y auto explicatorio del Infor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Nombres completos de los auto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Nombre de la empresa y direc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Viñeta que señale el Número del Informe, la historia de su elaboración, revisión y fechas, junto con las aprobaciones y destinos cuando correspon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Seguir los procedimientos establecidos en las empresas junto con las normas de calidad ISO 9000 o 14000 cuando exist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Image2"/>
          <p:cNvPicPr/>
          <p:nvPr/>
        </p:nvPicPr>
        <p:blipFill>
          <a:blip r:embed="rId1"/>
          <a:stretch/>
        </p:blipFill>
        <p:spPr>
          <a:xfrm>
            <a:off x="2666880" y="380880"/>
            <a:ext cx="3524400" cy="43624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Image11"/>
          <p:cNvPicPr/>
          <p:nvPr/>
        </p:nvPicPr>
        <p:blipFill>
          <a:blip r:embed="rId2"/>
          <a:stretch/>
        </p:blipFill>
        <p:spPr>
          <a:xfrm>
            <a:off x="1143000" y="4753080"/>
            <a:ext cx="7095960" cy="21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Image2"/>
          <p:cNvPicPr/>
          <p:nvPr/>
        </p:nvPicPr>
        <p:blipFill>
          <a:blip r:embed="rId1"/>
          <a:stretch/>
        </p:blipFill>
        <p:spPr>
          <a:xfrm>
            <a:off x="2971800" y="914400"/>
            <a:ext cx="3067200" cy="4695840"/>
          </a:xfrm>
          <a:prstGeom prst="rect">
            <a:avLst/>
          </a:prstGeom>
          <a:ln w="0">
            <a:noFill/>
          </a:ln>
        </p:spPr>
      </p:pic>
      <p:grpSp>
        <p:nvGrpSpPr>
          <p:cNvPr id="73" name="Group 5"/>
          <p:cNvGrpSpPr/>
          <p:nvPr/>
        </p:nvGrpSpPr>
        <p:grpSpPr>
          <a:xfrm>
            <a:off x="399960" y="-152280"/>
            <a:ext cx="8744040" cy="6553080"/>
            <a:chOff x="399960" y="-152280"/>
            <a:chExt cx="8744040" cy="6553080"/>
          </a:xfrm>
        </p:grpSpPr>
        <p:pic>
          <p:nvPicPr>
            <p:cNvPr id="74" name="Picture 3" descr="Image2"/>
            <p:cNvPicPr/>
            <p:nvPr/>
          </p:nvPicPr>
          <p:blipFill>
            <a:blip r:embed="rId2"/>
            <a:stretch/>
          </p:blipFill>
          <p:spPr>
            <a:xfrm>
              <a:off x="447840" y="5638680"/>
              <a:ext cx="869616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Picture 4" descr="Image3"/>
            <p:cNvPicPr/>
            <p:nvPr/>
          </p:nvPicPr>
          <p:blipFill>
            <a:blip r:embed="rId3"/>
            <a:stretch/>
          </p:blipFill>
          <p:spPr>
            <a:xfrm>
              <a:off x="399960" y="-152280"/>
              <a:ext cx="8744040" cy="1047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3. El Resumen Ejecutiv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s la parte crucial del Informe, preparado para responder las inquietudes de la alta gerenc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ntiene las conclusiones y las recomenda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Incluir detalles sólo en el caso de que estos sean significativos para la evaluación del riesgo y la toma de decis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be entregar una visión completa, de modo que los lectores puedan decidir si leen otras sec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3. El Resumen Ejecutiv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be permitir establecer qué se hizo, cómo se hizo y que se recomienda o concluy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No discuta procedimientos a menos que se hayan obtenidos resultados inespera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Incluya gráficos de alta cali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be empezarse en página aparte, y ser de la menor extensión posi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Los ingenieros jóvenes deben requerir ayuda para saber que tipo de información contendrá el Resumen Ejecutivo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4. Los Índices de Contenid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Sólo los informes largos requieren de incluir subsecciones, índices de Tablas y Figur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Las páginas del Informe deben estar siempre numeradas, de preferencia al centro o el costado izquierdo superior, y una viñeta descriptiva y el número del documento y revisión al pie de págin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La introducción debe estar en la página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5. Introduc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ebe ser un recordatorio y una guía para la lectura del informe comple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ebe incluir la definición del problema, los antecedentes previos, las limitantes claves que determinan la solución y el cómo el proyecto fue desarroll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Hasta donde sea posible, entregue información de como el proyecto impacta a la empresa o la organización que lo encargó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3"/>
          <p:cNvSpPr/>
          <p:nvPr/>
        </p:nvSpPr>
        <p:spPr>
          <a:xfrm>
            <a:off x="507240" y="260280"/>
            <a:ext cx="818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PROPUESTA DE PROYECTO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(DISEÑO CONCEPTUAL de un PROCESO INDUSTRIAL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611280" y="1484280"/>
            <a:ext cx="7920000" cy="27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Título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Introducció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Antecedentes Bibliográfico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Arial"/>
              </a:rPr>
              <a:t>Objetivos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Actividades a Realizar. (Basarse en el programa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1143000" y="4392720"/>
            <a:ext cx="764388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1-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Diseño de un Diagrama de Bloque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2-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Diseño de un Diagrama de Flujos Preliminar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3-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Diseño de un Sistema de Separació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4-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Diseño de Integración de Energía del Proceso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5-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Diseño Completo del Diagrama de Flujo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6. Resultados.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6212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En forma precisa e ilustrada entre otro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Diagramas de flujo completos, con identificación y viñetas claramente legibl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 algn="just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5" descr=""/>
          <p:cNvPicPr/>
          <p:nvPr/>
        </p:nvPicPr>
        <p:blipFill>
          <a:blip r:embed="rId1"/>
          <a:stretch/>
        </p:blipFill>
        <p:spPr>
          <a:xfrm>
            <a:off x="0" y="2521080"/>
            <a:ext cx="9039240" cy="43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6. Resultados.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6212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Times New Roman"/>
              </a:rPr>
              <a:t>Balances de masa y energía en forma de tablas asignadas a cada corriente, con indicación de temperatura, presión, fases y flujos totales molares y másicos para cada componente y la corriente total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"/>
          <p:cNvPicPr/>
          <p:nvPr/>
        </p:nvPicPr>
        <p:blipFill>
          <a:blip r:embed="rId1"/>
          <a:srcRect l="10203" t="16572" r="9185" b="17029"/>
          <a:stretch/>
        </p:blipFill>
        <p:spPr>
          <a:xfrm>
            <a:off x="152280" y="914400"/>
            <a:ext cx="8763120" cy="5638680"/>
          </a:xfrm>
          <a:prstGeom prst="rect">
            <a:avLst/>
          </a:prstGeom>
          <a:ln w="0">
            <a:noFill/>
          </a:ln>
        </p:spPr>
      </p:pic>
      <p:sp>
        <p:nvSpPr>
          <p:cNvPr id="90" name="Text Box 3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iagrama de Flujo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ara Informe Final se debe plotea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395280" y="18900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Entrada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7093080" y="18900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Salida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fdiagram"/>
          <p:cNvPicPr/>
          <p:nvPr/>
        </p:nvPicPr>
        <p:blipFill>
          <a:blip r:embed="rId1"/>
          <a:stretch/>
        </p:blipFill>
        <p:spPr>
          <a:xfrm>
            <a:off x="403200" y="0"/>
            <a:ext cx="8740800" cy="4303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4" name=""/>
          <p:cNvGraphicFramePr/>
          <p:nvPr/>
        </p:nvGraphicFramePr>
        <p:xfrm>
          <a:off x="458640" y="4292640"/>
          <a:ext cx="8226720" cy="2617920"/>
        </p:xfrm>
        <a:graphic>
          <a:graphicData uri="http://schemas.openxmlformats.org/drawingml/2006/table">
            <a:tbl>
              <a:tblPr/>
              <a:tblGrid>
                <a:gridCol w="1175040"/>
                <a:gridCol w="471240"/>
                <a:gridCol w="820800"/>
                <a:gridCol w="824040"/>
                <a:gridCol w="822240"/>
                <a:gridCol w="822240"/>
                <a:gridCol w="824040"/>
                <a:gridCol w="820800"/>
                <a:gridCol w="823680"/>
                <a:gridCol w="822600"/>
              </a:tblGrid>
              <a:tr h="572040">
                <a:tc>
                  <a:txBody>
                    <a:bodyPr lIns="84600" rIns="84600" tIns="42480" bIns="4248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Compuesto/Corrien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4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6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7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8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9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920"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P1[kg/día]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920"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P3 [kg/día]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920"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Flujo tot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920">
                <a:tc gridSpan="5"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Tª (BALANCE DE ENERGIA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5" name="Oval 69"/>
          <p:cNvSpPr/>
          <p:nvPr/>
        </p:nvSpPr>
        <p:spPr>
          <a:xfrm>
            <a:off x="4957920" y="3068640"/>
            <a:ext cx="4186080" cy="1211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66840" y="33624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Diagrama P&amp;I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3" descr=""/>
          <p:cNvPicPr/>
          <p:nvPr/>
        </p:nvPicPr>
        <p:blipFill>
          <a:blip r:embed="rId1"/>
          <a:srcRect l="5881" t="12550" r="5881" b="12156"/>
          <a:stretch/>
        </p:blipFill>
        <p:spPr>
          <a:xfrm>
            <a:off x="220680" y="1209600"/>
            <a:ext cx="8445600" cy="515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6. Resultados ...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finali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just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Times New Roman"/>
              </a:rPr>
              <a:t>No es sólo un listado de tablas y figur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Times New Roman"/>
              </a:rPr>
              <a:t>El texto debe servir de guía al lecto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 algn="just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Times New Roman"/>
              </a:rPr>
              <a:t>Los resultados se incluyen en figuras o tablas (que no aparezcan en forma duplicada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Times New Roman"/>
              </a:rPr>
              <a:t>Sea consistente con los formato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 algn="just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Times New Roman"/>
              </a:rPr>
              <a:t>Utilice con cuidado el color (las copias son hechas normalmente mediante fotocopia monocolor) y buena calidad de figura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 algn="just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Times New Roman"/>
              </a:rPr>
              <a:t>Utilice los Anexos para las memorias de cálculo y no entregue detalles innecesarios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7. Discus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ntregue más detalles sobre la forma en que obtuvo los resultados, incluyendo las razones del porqué de la selección de los procedimientos y el descarte de alternativ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Discuta los métodos específicos y las limitaciones de cualquier tipo (falta de datos, dificultades en los algoritmos, etc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8. Conclus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No incluya nunca nuevos result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Antes de escribirla, discuta seriamente los resultados con los co-autores (ayuda que uno de los miembros prepare previamente una pauta de discusió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Un resumen completo de las conclusiones debe aparecer en el Informe Ejecu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9. Recomendac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Las acciones a seguir a partir de los resultad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n forma separada, la necesidad de continuar los estudios, si procede, con el alcance de estos estudi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10. Referencias bibliográfic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Si se ponen antes de los Anexos, estos deben tener una bibliografía separa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No haga referencias a materiales que no ha utilizado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l software no se cita, a  menos que contenga datos utilizados en los cálcul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Utilice (nombre, año) en el texto, y Nombre, año, “titulo del artículo”, fuente o revista, paginas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3"/>
          <p:cNvSpPr/>
          <p:nvPr/>
        </p:nvSpPr>
        <p:spPr>
          <a:xfrm>
            <a:off x="507240" y="260280"/>
            <a:ext cx="818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PROPUESTA DE PROYECTO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(DISEÑO CONCEPTUAL de un PROCESO INDUSTRIAL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611280" y="1484280"/>
            <a:ext cx="7920000" cy="31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11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Arial"/>
              </a:rPr>
              <a:t>Título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11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Arial"/>
              </a:rPr>
              <a:t>Introducción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11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Arial"/>
              </a:rPr>
              <a:t>Antecedentes Bibliográficos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</a:rPr>
              <a:t>Objetivos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11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Arial"/>
              </a:rPr>
              <a:t>Actividades a Realizar. (Basarse en el programa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Costo del trabajo y Justificació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Plan de Trabajo (Carta Gantt)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11. Otras secc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n el caso de Informes extensos, incluir secciones separadas sobre seguridad industrial, estudios ambientales, los supuestos del estudio, evaluación del riesgo y los aspectos comerciales y de merca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12. Anex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Incluya todos los anexos necesarios con los detalles del cálculo, los programas computacionales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Los títulos auto explicativos deben ser incluidos en el Índice de los Contenid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Carta Gant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3" descr=""/>
          <p:cNvPicPr/>
          <p:nvPr/>
        </p:nvPicPr>
        <p:blipFill>
          <a:blip r:embed="rId1"/>
          <a:stretch/>
        </p:blipFill>
        <p:spPr>
          <a:xfrm>
            <a:off x="214200" y="1500120"/>
            <a:ext cx="8680680" cy="45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3" descr=""/>
          <p:cNvPicPr/>
          <p:nvPr/>
        </p:nvPicPr>
        <p:blipFill>
          <a:blip r:embed="rId1"/>
          <a:stretch/>
        </p:blipFill>
        <p:spPr>
          <a:xfrm>
            <a:off x="684360" y="90792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Informe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68"/>
          <p:cNvSpPr/>
          <p:nvPr/>
        </p:nvSpPr>
        <p:spPr>
          <a:xfrm>
            <a:off x="971640" y="1268280"/>
            <a:ext cx="71294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Introducción y objetivo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Antecedentes y Descripción del proceso diseñado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Resultado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Diagrama IO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Economía Potencia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Diagrama de Bloqu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Diagrama Flujo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Balances Masa y Energí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Discusiones y Conclusion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Referencia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Memorias de cálculo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Carta Gant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1"/>
          <a:stretch/>
        </p:blipFill>
        <p:spPr>
          <a:xfrm>
            <a:off x="214200" y="1500120"/>
            <a:ext cx="8680680" cy="45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3"/>
          <p:cNvSpPr/>
          <p:nvPr/>
        </p:nvSpPr>
        <p:spPr>
          <a:xfrm>
            <a:off x="507240" y="260280"/>
            <a:ext cx="818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PROPUESTA DE PROYECTO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(DISEÑO CONCEPTUAL de un PROCESO INDUSTRIAL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611280" y="1484280"/>
            <a:ext cx="7920000" cy="31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Arial"/>
              </a:rPr>
              <a:t>Título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Arial"/>
              </a:rPr>
              <a:t>Introducción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Arial"/>
              </a:rPr>
              <a:t>Antecedentes Bibliográficos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Arial"/>
              </a:rPr>
              <a:t>Objetivos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Arial"/>
              </a:rPr>
              <a:t>Actividades a Realizar. (Basarse en el programa)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Arial"/>
              </a:rPr>
              <a:t>Costo del trabajo y Justificación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Arial"/>
              </a:rPr>
              <a:t>Plan de Trabajo (Carta Gantt)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Bibliografía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3 CuadroTexto"/>
          <p:cNvSpPr/>
          <p:nvPr/>
        </p:nvSpPr>
        <p:spPr>
          <a:xfrm>
            <a:off x="1357200" y="500076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Viernes 14 de Agosto, presentan grupos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( 10 minutos por grupo) 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4 , 5 y 6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UIA PARA LA PREPARACIÓN DE</a:t>
            </a:r>
            <a:br>
              <a:rPr sz="4400"/>
            </a:br>
            <a:r>
              <a:rPr b="1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FORMES DE PROYECTOS </a:t>
            </a: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</a:t>
            </a:r>
            <a:r>
              <a:rPr b="1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 INGENIERÍA</a:t>
            </a:r>
            <a:br>
              <a:rPr sz="4400"/>
            </a:br>
            <a:br>
              <a:rPr sz="4400"/>
            </a:br>
            <a:r>
              <a:rPr b="1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FORME FINAL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INFORME TÉCNICO</a:t>
            </a:r>
            <a:br>
              <a:rPr sz="2800"/>
            </a:b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REPORTE DE ACTIVIDADAES DEL PROYECT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990720" y="1989000"/>
            <a:ext cx="81532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1- Página de Encabezamiento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2- Resumen Ejecutivo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3- Antecedentes (Introducción)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4- Objetivos y Alcances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5- Actividades. Planos y Descripción del Proceso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6- Discusión y Comentarios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7- Conclusiones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8- Bibliografía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9- Anexos. Memoria de Cálculo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ay muchas formas de hacer estos informes ésta es una de ella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762120" y="3352320"/>
            <a:ext cx="716256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comendaciones general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rtografí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dac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o usar lenguaje coloqu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00"/>
                </a:solidFill>
                <a:latin typeface="Times New Roman"/>
              </a:rPr>
              <a:t>Estructura de un Informe Técnico e Informes parciales (Tareas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52480" y="1828800"/>
            <a:ext cx="56390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arta conducto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arátu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Resumen Ejecu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Índice de los Contenid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Introducción al Infor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Los resultados del estud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Discusión de los Result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onclusiones del estud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Recomendaciones del estud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Referencias bibliográf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Otras sec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Anex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Plan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1T21:44:03Z</dcterms:created>
  <dc:creator>Ignacio Badilla</dc:creator>
  <dc:description/>
  <dc:language>en-US</dc:language>
  <cp:lastModifiedBy>Ing Quimica</cp:lastModifiedBy>
  <dcterms:modified xsi:type="dcterms:W3CDTF">2009-08-06T17:36:26Z</dcterms:modified>
  <cp:revision>72</cp:revision>
  <dc:subject/>
  <dc:title>El ingeniero, etica y sociedad</dc:title>
</cp:coreProperties>
</file>